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3B82-B360-434C-A450-B29AA43CA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4B6E-4335-44E5-AE29-579EC1B45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5AD3-D6B0-48B7-B801-8A11138E15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7E1C-F01F-4316-9F03-95FF658A6B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4FDD-B368-47E9-9C26-451A54D285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0A6D-BBDE-4C48-B963-C45405911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BFBB-DC1E-4242-8729-83C723CD2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BE93-91B2-4EDB-866C-55BBF200B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9D46-3288-4207-8362-BAA981438E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3B22-2E87-4B26-80A7-365A9F7306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2707-2FE0-46E0-8153-23128D4AE4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7B19-1135-41BA-BB0D-CAF1C450BC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F4E5-2ABE-40E0-9CC9-55DC9540D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CE4C-524A-4B46-B0C4-9CFA853F5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EC39-6D58-45BE-B952-9DE814F76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AD76-580E-47AF-AAE5-22CCB9E398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AA46-34E3-4ECE-9CC3-D4034583B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3D8D-1EA9-4714-AE15-6F798E7A8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6B39-D91E-445C-99CF-778C5B7DA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DB2F-4F7A-4213-89E4-ED6DF9F783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44C9-4C8A-4CC4-837C-99F48F826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5D76-5732-4C06-A29C-F7D4F5E7B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A11A-E93D-4AA0-B265-EAD31AFE7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0213-7AC2-49E1-9EF7-FEDBC6AFAD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0EB3-AB50-4702-AB47-3A9E0F163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02BE-D761-4EA1-8D93-1DAF89BEE2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6E52-5D77-41B7-9958-82D6E8F71F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5CE-2401-447C-B94E-B27F2588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359-2656-46FE-B8E6-FED55064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EA1-9AB3-4677-B911-D30F3FDA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41D-D01F-4813-96BA-32706B26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A72-B122-4625-951D-C66C9628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50B-B92B-4A29-BAE6-B1AE8698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FB1-F7DF-490C-BB4E-4A5A1B6C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9EC-BD34-4053-ABC0-57DCD438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B6D-BB01-4D6D-BF04-B337BCE1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AAE-2B59-492F-809E-1EC96C90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BC7-5A72-4D91-A750-90335219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A65-AFF1-4A09-B99D-D040F761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F5CE-317D-4A46-88D1-FA413A1AB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5840" y="128556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5760" y="1618920"/>
            <a:ext cx="85899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агает свою грязную ру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литературу и нау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уби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ку и литерату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оны рабов заглуш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ью да свистом бич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Плеханов (1)"/>
          <p:cNvPicPr/>
          <p:nvPr/>
        </p:nvPicPr>
        <p:blipFill>
          <a:blip r:embed="rId1"/>
          <a:stretch/>
        </p:blipFill>
        <p:spPr>
          <a:xfrm>
            <a:off x="6588000" y="1989000"/>
            <a:ext cx="1828800" cy="22291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Ленин (2)"/>
          <p:cNvPicPr/>
          <p:nvPr/>
        </p:nvPicPr>
        <p:blipFill>
          <a:blip r:embed="rId1"/>
          <a:stretch/>
        </p:blipFill>
        <p:spPr>
          <a:xfrm>
            <a:off x="539640" y="1798560"/>
            <a:ext cx="3321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Rectangle 5"/>
          <p:cNvSpPr/>
          <p:nvPr/>
        </p:nvSpPr>
        <p:spPr>
          <a:xfrm>
            <a:off x="4138560" y="2806560"/>
            <a:ext cx="4678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делать? Наболевшие вопросы нашего движ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2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 и эмпириокритицизм: Критические заметки об одной реакционн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иализм как высшая стадия капит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о и револю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 rot="10800000">
            <a:off x="250560" y="1690200"/>
            <a:ext cx="6297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социализм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арксизм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ым двигателем истор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борьба клас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буржуазных философ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гатель прогресса – солида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элементов об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вших «несовершенств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 или иного учрежд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учение – материалистич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идеалистич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– революционн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реформистск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обосновывает такти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летариата в соврем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стических страна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тактику буржуаз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Ленин (2)"/>
          <p:cNvPicPr/>
          <p:nvPr/>
        </p:nvPicPr>
        <p:blipFill>
          <a:blip r:embed="rId1"/>
          <a:stretch/>
        </p:blipFill>
        <p:spPr>
          <a:xfrm>
            <a:off x="6837480" y="1690560"/>
            <a:ext cx="1724040" cy="2195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160020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2056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24000" y="1654200"/>
            <a:ext cx="62974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чий класс сам по себе способ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сознани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он способен вести классовую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капитализ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лучшение 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403280" y="3309840"/>
            <a:ext cx="629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йти за эти рамки, начать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ничтожение самого капиталистического стро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мисс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огильщика капитализма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бочий класс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ри условии, что его деятельност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ять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м авангард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2482920" y="4965840"/>
            <a:ext cx="62974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у этого «авангарда»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ого 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Ленин (2)"/>
          <p:cNvPicPr/>
          <p:nvPr/>
        </p:nvPicPr>
        <p:blipFill>
          <a:blip r:embed="rId1"/>
          <a:stretch/>
        </p:blipFill>
        <p:spPr>
          <a:xfrm>
            <a:off x="7448400" y="1654200"/>
            <a:ext cx="1343160" cy="17096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293544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85580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76160" y="2463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31640" y="16192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о – необходимый инстит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ираемо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агонизма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лассового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511280" y="2878200"/>
            <a:ext cx="503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е государств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пар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ил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еспечивающи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итическое госп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кономически доминирующего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590920" y="4138560"/>
            <a:ext cx="50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ходе пролетарской револю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ржуазное государство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ма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мен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ктатур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летариат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форме власти Со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670200" y="53974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мере постро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ммунистического об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отмиранием класс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тмирать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Ленин (2)"/>
          <p:cNvPicPr/>
          <p:nvPr/>
        </p:nvPicPr>
        <p:blipFill>
          <a:blip r:embed="rId1"/>
          <a:stretch/>
        </p:blipFill>
        <p:spPr>
          <a:xfrm>
            <a:off x="7124760" y="1619280"/>
            <a:ext cx="1630440" cy="2074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748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Плеханов (1)"/>
          <p:cNvPicPr/>
          <p:nvPr/>
        </p:nvPicPr>
        <p:blipFill>
          <a:blip r:embed="rId1"/>
          <a:stretch/>
        </p:blipFill>
        <p:spPr>
          <a:xfrm>
            <a:off x="755640" y="1773360"/>
            <a:ext cx="272412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3057480" y="5576760"/>
            <a:ext cx="251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Ле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2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Ленин (3)"/>
          <p:cNvPicPr/>
          <p:nvPr/>
        </p:nvPicPr>
        <p:blipFill>
          <a:blip r:embed="rId2"/>
          <a:stretch/>
        </p:blipFill>
        <p:spPr>
          <a:xfrm>
            <a:off x="5651640" y="3309840"/>
            <a:ext cx="2724120" cy="305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7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61928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1928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0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Плеханов (1)"/>
          <p:cNvPicPr/>
          <p:nvPr/>
        </p:nvPicPr>
        <p:blipFill>
          <a:blip r:embed="rId1"/>
          <a:stretch/>
        </p:blipFill>
        <p:spPr>
          <a:xfrm>
            <a:off x="431640" y="1798560"/>
            <a:ext cx="38466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497480" y="3238560"/>
            <a:ext cx="4425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азвитии монистического взгляда на истор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89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оли личности в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aterialismus militans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4:58:11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7:01Z</dcterms:modified>
  <cp:revision>15</cp:revision>
  <dc:subject>История русской философии - Лекция 9</dc:subject>
  <dc:title>Русский марксизм</dc:title>
</cp:coreProperties>
</file>