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C5FB-8C57-4BC3-8296-8A43240BB6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1547-2A38-4919-B6D5-8F35C387A8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маркс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FEFF-2306-4F48-9A1E-6DBE5A6AA8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учное понимание любой области действительности, в том числе – и истории, может быть тольк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онистическ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 двух разновидностей монизм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атериализма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деализма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ый единственно научен, так как только он представляет историю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ъективный процесс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9DED-D8E0-4C9F-83BA-B8A053C86B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ль личности в истори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оны истории – законы человеческой деятельности, поэтому историческая необходимость реализуется не иначе,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через действия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ликие исторические деятели, как правило, понимают, что действуют не «от себя», а как бы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осёдлывают» объективный исторический процесс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именно это и делает их велики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«субъективного метода» в социологии (Михайловского)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онцепции «героев и толпы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A25A-05FE-4A4B-96B8-CE08BEB68D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Осмысленное западничество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удущее человечества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циализм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но в России конц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– начал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X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ка капитализм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динственная альтернатива «азиатчине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питализм плох, 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еспотизм ещё хуж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апитализм развивает в человеке зверя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еспотизм превращает человека во вьючную скотин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3938-417F-4812-89AF-2C01509D28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Осмысленное западничеств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BE81-80AF-457A-896C-A21480AC72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. Ленин (1870-19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C713-8E90-4642-B914-8E672C3BDB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Ленин (1870-19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лассовая борь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революционного аванга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е о государ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тийность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ческие корни иде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ория отражения и учение об объективной ист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бсолютная и относительная ист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Ядро диалектик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диалек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AF4A-CC7D-4A17-B0DB-A6D18D5914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Классовая борь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рия классовых обществ есть истори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лассовой борь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е значимые события истории –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ежде всего, конечно, политические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о отнюдь не только они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лжны пониматься как проявлени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орьбы классов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E3E0-99E8-457B-AC72-F67FBA2646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 Классовая борьб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6E48-4490-4EAF-9142-7D97AFFFCE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революционного авангар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8BC0-1C1C-4CD4-9DC3-69E0540FB3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Учение о государств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E3C1-0FF4-4C4D-89F1-61ECF70236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марксиз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В. Плеханов 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(1856-191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31A1-DE03-404D-9318-5DA33E989A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тийность философи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всегда служит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нтересам определённого класс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даже если сам философ этого не понимает и не хоче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сли философ выражает интересы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ередового класс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артийность не только не противоречит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аучной объективност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, но единственно может эту объективность обеспеч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никакая установка на объективность не помешает выразителю интересов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еакционного класс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катиться н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нтинаучные пози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3985-728F-4E31-995D-D1A6529A54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ые и гносеологические корни идеализма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ский идеализм неизменно стоит на защите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еакционных интересо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ыступая формой идеологии господствующего класса на том этапе развития общественно-экономической формации, когда её прогрессивный потенциал исчерп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деализм имеет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гносеологические корни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редставляя собой результат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бсолютизац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ействительных, но оторванных от целого и односторонне интерпретированных особенностей познавательного процесса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4C33-CF48-4C18-86E7-73D889C607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ория отражения и объективность истины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, материя первичны; познание есть лишь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тражен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бытия в созна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пособу существов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– в голове человека – знание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убъективно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о содержанию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н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бъективн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остольку, поскольку отражает объективную действитель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84FD-6F7A-4B7A-8BCB-C5953C1924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бсолютная и относительная исти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р в принципе познаваем, и в этом смысл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бсолютная истин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остиж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ко на любом конкретном этапе познания человеку доступна лиш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носительна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т.е. неполная, обусловленная и ограниченная его специфическими обстоятельствами)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стина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ритерием «истинности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такой частичной истины являетс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материальная» практика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онимаемая как процесс активной, социально организованной деятельности по преобразованию окружающего мира, прежде всего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оизводственной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еволюционн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184D-4FE3-44FF-8CBB-224292792C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Ядро диалект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 трёх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законов диалектики»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единства и борьбы противоположносте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ерехода количественных изменений в качественные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трицания отрицания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качестве её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ядра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ыделяется закон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динства и борьбы противоположностей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пределяющий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источник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развития 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характеризующий само развитие как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саморазвит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7793-E456-4403-9FC1-0E5C64F4B6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ы диалектик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оны диале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единства и борьбы противополож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ерехода количественных изменений в каче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отрицания отриц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нципы диале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объект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историз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конкрет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и диале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держание и фо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ность и я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обходимость и случайность и п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6EB5-1C4D-4134-9A6E-2487C9F7CF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0F85-6D53-4931-BF45-C2CC1BFB4A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Г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. Плеханов (1856-19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DD98-82D5-483A-85F6-DD3374E5F0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 Плеханов (1856-191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арактер и функции философии и место марксизма в её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и нау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сто марксизма в истории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части марксистской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е о мат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ль личности в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Осмысленное западничество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2A4C-D138-4046-9A80-96408C9039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арактер и функции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 нау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ли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опережает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науку, предлагая умозрительные решения проблем, которые пока не могут быть решены науко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ли резюмирует и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обобщает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решения, найденные наукой (наукам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зучает мир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цело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ауки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 час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ча философии – согласовать открытия разных наук и да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целостную картину мира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57B9-AC5A-4842-A243-8A717F2CB0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ункции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сто марксизма в истории философ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рксизм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сша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точка развития материал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м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вехами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развития материализм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о Марк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бы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Б. Спиноз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ранцузские материалисты эпохи Просвещения (Ж. О. Ламетри, К. А. Гельвеций, Д. Дидро,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. Гольбах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. Фейерб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рл Маркс распространил материализм на сферу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щественной жизни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11B7-5CB3-40CD-A235-880FD8EC3B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ункции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части марксистской философ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Душой» марксизма как философской системы является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диалект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метод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универсальная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теория развит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вумя основными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частям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философской системы марксизма являю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илософия природы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(материалистическое понимание природы),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(материалистическое понимание истории).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CDA3-6763-4E86-AF36-B5A2EAE86E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ние о матер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динственно сущее в мире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атериальная субстанция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сновными атрибутами которой явля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вижение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ышл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я существует вне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зависим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т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я – причин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щущен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ак исходных и основных источников зн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D4D3-A0D0-4F33-BE4B-F15C1D6F1A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нцип «всё течёт, всё изменяется» –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сновной закон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сего существующ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 этом мир не просто изменяется, но изменяется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закономерн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оступательно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коны движения мира суть законы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диалек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иалектика есть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«алгебра прогресса»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06BC-8E84-4837-A9D7-F3A128206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70A2-C7DE-4019-BFB6-A96315FA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CDA3-DA5F-41FE-AB0A-E3D2E9959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22FB-2EAE-4571-8D7C-477F3CC5B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F401-900F-4E34-B6E6-3FA2111B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0131-3B5C-4CFE-AD1B-01E1F4CC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439D-4753-4BF0-933F-CD99E4B4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442C-FBF5-4F58-87BC-BFE4BF25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AA8D-9E9B-47AD-91F0-1828A943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4B3B-93D5-442D-A996-964F156C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0845-5077-4E68-92F2-407CFC28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3B1A-9015-4C35-8DCA-1F4DA3C4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44AA-0C2B-41CB-98F4-295C69DB05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85840" y="1285560"/>
            <a:ext cx="82008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Русский марксиз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учное понимание любой области действительности, в том числе – и истории, может быть тольк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онистическ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 двух разновидностей монизм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атериализма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деализма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ый единственно научен, так как только он представляет историю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ъективный процесс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ль личности в истори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75760" y="1618920"/>
            <a:ext cx="858996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оны истории – законы человеческой деятельности, поэтому историческая необходимость реализуется не иначе,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через действия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ликие исторические деятели, как правило, понимают, что действуют не «от себя», а как бы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осёдлывают» объективный исторический процесс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именно это и делает их велики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«субъективного метода» в социологии (Михайловского)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онцепции «героев и толпы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Осмысленное западничество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98200"/>
            <a:ext cx="82296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удущее человечества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циализм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но в России конц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– начал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X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ка капитализм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динственная альтернатива «азиатчине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питализм плох, 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еспотизм ещё хуж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апитализм развивает в человеке зверя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еспотизм превращает человека во вьючную скотин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Осмысленное западничеств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 rot="10800000">
            <a:off x="431280" y="1869840"/>
            <a:ext cx="575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питализ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лагает свою грязную рук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литературу и наук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спотизм убив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ку и литератур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стоны рабов заглуш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естью да свистом бич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Плеханов (1)"/>
          <p:cNvPicPr/>
          <p:nvPr/>
        </p:nvPicPr>
        <p:blipFill>
          <a:blip r:embed="rId1"/>
          <a:stretch/>
        </p:blipFill>
        <p:spPr>
          <a:xfrm>
            <a:off x="6588000" y="1989000"/>
            <a:ext cx="1828800" cy="22291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. Ленин (1870-19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Ленин (2)"/>
          <p:cNvPicPr/>
          <p:nvPr/>
        </p:nvPicPr>
        <p:blipFill>
          <a:blip r:embed="rId1"/>
          <a:stretch/>
        </p:blipFill>
        <p:spPr>
          <a:xfrm>
            <a:off x="539640" y="1798560"/>
            <a:ext cx="332100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7" name="Rectangle 5"/>
          <p:cNvSpPr/>
          <p:nvPr/>
        </p:nvSpPr>
        <p:spPr>
          <a:xfrm>
            <a:off x="4138560" y="2806560"/>
            <a:ext cx="46785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то делать? Наболевшие вопросы нашего движе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2)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риализм и эмпириокритицизм: Критические заметки об одной реакционной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9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мпериализм как высшая стадия капитализм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5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осударство и революц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7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492912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Ленин (1870-19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лассовая борь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революционного аванга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е о государ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тийность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ческие корни иде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ория отражения и учение об объективной ист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бсолютная и относительная ист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Ядро диалектик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диалек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Классовая борь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рия классовых обществ есть истори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лассовой борь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е значимые события истории –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ежде всего, конечно, политические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о отнюдь не только они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лжны пониматься как проявлени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орьбы классов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Классовая борь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 rot="10800000">
            <a:off x="250560" y="1690200"/>
            <a:ext cx="629748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учению социализма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марксизма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ым двигателем истор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ется борьба класс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учению буржуазных философ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игатель прогресса – солида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х элементов обще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вших «несовершенство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го или иного учрежден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ое учение – материалистич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торое – идеалистичн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ое – революционно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торое – реформистско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ое обосновывает тактик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летариата в современ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питалистических странах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торое – тактику буржуази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Ленин (2)"/>
          <p:cNvPicPr/>
          <p:nvPr/>
        </p:nvPicPr>
        <p:blipFill>
          <a:blip r:embed="rId1"/>
          <a:stretch/>
        </p:blipFill>
        <p:spPr>
          <a:xfrm>
            <a:off x="6837480" y="1690560"/>
            <a:ext cx="1724040" cy="21956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2"/>
          <p:cNvSpPr/>
          <p:nvPr/>
        </p:nvSpPr>
        <p:spPr>
          <a:xfrm>
            <a:off x="1600200" y="4479840"/>
            <a:ext cx="880920" cy="1528920"/>
          </a:xfrm>
          <a:custGeom>
            <a:avLst/>
            <a:gdLst>
              <a:gd name="textAreaLeft" fmla="*/ 117720 w 880920"/>
              <a:gd name="textAreaRight" fmla="*/ 763200 w 880920"/>
              <a:gd name="textAreaTop" fmla="*/ 267480 h 1528920"/>
              <a:gd name="textAreaBottom" fmla="*/ 1108440 h 15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520560" y="2824200"/>
            <a:ext cx="881280" cy="1528560"/>
          </a:xfrm>
          <a:custGeom>
            <a:avLst/>
            <a:gdLst>
              <a:gd name="textAreaLeft" fmla="*/ 118080 w 881280"/>
              <a:gd name="textAreaRight" fmla="*/ 763200 w 881280"/>
              <a:gd name="textAreaTop" fmla="*/ 267480 h 1528560"/>
              <a:gd name="textAreaBottom" fmla="*/ 1108440 h 152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революционного авангар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324000" y="1654200"/>
            <a:ext cx="629748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бочий класс сам по себе способе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работать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ед-юнионистское сознание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он способен вести классовую борьб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рамках капитализм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 улучшение условий труда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1403280" y="3309840"/>
            <a:ext cx="629784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йти за эти рамки, начать борьб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 уничтожение самого капиталистического стро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выполнить сво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рическую мисс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огильщика капитализма»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рабочий класс 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при условии, что его деятельность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д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авлять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революционным авангардо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2482920" y="4965840"/>
            <a:ext cx="629748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у этого «авангарда» соста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волюционн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теллигенц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адеющ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учной теори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орического развития и классовой борь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Ленин (2)"/>
          <p:cNvPicPr/>
          <p:nvPr/>
        </p:nvPicPr>
        <p:blipFill>
          <a:blip r:embed="rId1"/>
          <a:stretch/>
        </p:blipFill>
        <p:spPr>
          <a:xfrm>
            <a:off x="7448400" y="1654200"/>
            <a:ext cx="1343160" cy="170964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/>
          <p:cNvSpPr/>
          <p:nvPr/>
        </p:nvSpPr>
        <p:spPr>
          <a:xfrm>
            <a:off x="2935440" y="49831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1855800" y="372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776160" y="246384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431640" y="1619280"/>
            <a:ext cx="503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ударство – необходимый институ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дираемо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циальны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нтагонизмам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лассового об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1511280" y="2878200"/>
            <a:ext cx="503892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якое государство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ппара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сил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беспечивающи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литическое господ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кономически доминирующего 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2590920" y="4138560"/>
            <a:ext cx="503856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ходе пролетарской револю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ржуазное государство должно бы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оман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замене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иктатур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летариат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форме власти Сов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3670200" y="5397480"/>
            <a:ext cx="503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мере постро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ммунистического обще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месте с отмиранием класс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д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отмирать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государ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ние о государ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Ленин (2)"/>
          <p:cNvPicPr/>
          <p:nvPr/>
        </p:nvPicPr>
        <p:blipFill>
          <a:blip r:embed="rId1"/>
          <a:stretch/>
        </p:blipFill>
        <p:spPr>
          <a:xfrm>
            <a:off x="7124760" y="1619280"/>
            <a:ext cx="1630440" cy="20746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ий марксиз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7480" y="1798200"/>
            <a:ext cx="3059280" cy="9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. Плеханов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56-19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Плеханов (1)"/>
          <p:cNvPicPr/>
          <p:nvPr/>
        </p:nvPicPr>
        <p:blipFill>
          <a:blip r:embed="rId1"/>
          <a:stretch/>
        </p:blipFill>
        <p:spPr>
          <a:xfrm>
            <a:off x="755640" y="1773360"/>
            <a:ext cx="2724120" cy="306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6" name="Rectangle 5"/>
          <p:cNvSpPr/>
          <p:nvPr/>
        </p:nvSpPr>
        <p:spPr>
          <a:xfrm>
            <a:off x="3057480" y="5576760"/>
            <a:ext cx="2519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. Лен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70-192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Ленин (3)"/>
          <p:cNvPicPr/>
          <p:nvPr/>
        </p:nvPicPr>
        <p:blipFill>
          <a:blip r:embed="rId2"/>
          <a:stretch/>
        </p:blipFill>
        <p:spPr>
          <a:xfrm>
            <a:off x="5651640" y="3309840"/>
            <a:ext cx="2724120" cy="3057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тийность философ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всегда служит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тересам определённого клас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даже если сам философ этого не понимает и не хоче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философ выражает интересы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ередового класса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артийность не только не противоречит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аучной объективнос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единственно может эту объективность обеспеч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никакая установка на объективность не помешает выразителю интересов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еакционного клас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катиться н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нтинаучные пози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ые и гносеологические корни идеализм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78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ский идеализм неизменно стоит на защит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еакционных интересов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ыступая формой идеологии господствующего класса на том этапе развития общественно-экономической формации, когда её прогрессивный потенциал исчерп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идеализм имеет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ческие корни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редставляя собой результат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бсолютизац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ействительных, но оторванных от целого и односторонне интерпретированных особенностей познавательного процесс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отражения и объективность истины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рода, материя первичны; познание есть лиш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ражен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бытия в созн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пособу существова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в голове человека – знани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о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 содержанию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ъективн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остольку, поскольку отражает объективную действитель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бсолютная и относительная исти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5760" y="1619280"/>
            <a:ext cx="82310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р в принципе познаваем, и в этом смысл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бсолютная истин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остиж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ко на любом конкретном этапе познания человеку доступна лиш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носительна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т.е. неполная, обусловленная и ограниченная его специфическими обстоятельствами)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стина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ритерием «истинности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такой частичной истины являетс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материальная» практика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онимаемая как процесс активной, социально организованной деятельности по преобразованию окружающего мира, прежде всего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оизводственной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еволюционн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Ядро диалект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 трёх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законов диалектики»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единства и борьбы противоположносте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ерехода количественных изменений в качественные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трицания отрицания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качестве её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ядра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ыделяется закон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динства и борьбы противоположностей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пределяющий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источник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развития 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характеризующий само развитие как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саморазвит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ы диалектик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1928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оны диале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единства и борьбы противополож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ерехода количественных изменений в каче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отрицания отриц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нципы диале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объект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историз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конкрет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и диале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держание и фо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ность и я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обходимость и случайность и п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nodeType="clickEffect" fill="hold">
                      <p:stCondLst>
                        <p:cond delay="0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. Плеханов (1856-191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Плеханов (1)"/>
          <p:cNvPicPr/>
          <p:nvPr/>
        </p:nvPicPr>
        <p:blipFill>
          <a:blip r:embed="rId1"/>
          <a:stretch/>
        </p:blipFill>
        <p:spPr>
          <a:xfrm>
            <a:off x="431640" y="1798560"/>
            <a:ext cx="3846600" cy="4316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1" name="Rectangle 5"/>
          <p:cNvSpPr/>
          <p:nvPr/>
        </p:nvSpPr>
        <p:spPr>
          <a:xfrm>
            <a:off x="4497480" y="3238560"/>
            <a:ext cx="44258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вопросу о развитии монистического взгляда на историю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публ. 1895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вопросу о роли личности в истор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8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Materialismus militans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8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92912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 Плеханов (1856-191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арактер и функции философии и место марксизма в её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и нау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сто марксизма в истории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части марксистской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е о мат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ль личности в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Осмысленное западничество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арактер и функции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 нау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ли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опережает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науку, предлагая умозрительные решения проблем, которые пока не могут быть решены науко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ли резюмирует и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обобщает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решения, найденные наукой (наукам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зучает мир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цело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ауки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 час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ча философии – согласовать открытия разных наук и да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целостную картину мира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ункции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сто марксизма в истории философ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рксизм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сша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точка развития материал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м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вехами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развития материализм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о Марк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бы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Б. Спиноз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ранцузские материалисты эпохи Просвещения (Ж. О. Ламетри, К. А. Гельвеций, Д. Дидро,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. Гольбах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. Фейерб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рл Маркс распространил материализм на сферу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щественной жизни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ункции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части марксистской философ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Душой» марксизма как философской системы является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диалект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метод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универсальная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теория развит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вумя основными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частям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философской системы марксизма являю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илософия природы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(материалистическое понимание природы),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(материалистическое понимание истории).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ние о матер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динственно сущее в мире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атериальная субстанция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сновными атрибутами которой явля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вижение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ышл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я существует вне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зависим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т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я – причин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щущен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ак исходных и основных источников зн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нцип «всё течёт, всё изменяется»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сновной закон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сего существующ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этом мир не просто изменяется, но изменяетс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закономерн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ступательно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оны движения мира суть законы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иалек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алектика е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алгебра прогресса»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14:58:11Z</dcterms:created>
  <dc:creator>Николай Бирюков / Nikolai Biryukov</dc:creator>
  <dc:description>Версия апреля 2007 г.</dc:description>
  <dc:language>en-US</dc:language>
  <cp:lastModifiedBy>LEGION</cp:lastModifiedBy>
  <dcterms:modified xsi:type="dcterms:W3CDTF">2014-11-11T10:17:01Z</dcterms:modified>
  <cp:revision>15</cp:revision>
  <dc:subject>История русской философии - Лекция 9</dc:subject>
  <dc:title>Русский марксизм</dc:title>
</cp:coreProperties>
</file>