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BB49-8F80-470C-BF47-BF2948F2A3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6D5-AD55-44B1-84D2-F7ED3D96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132-8294-4AD0-94CB-EAAE2959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23E-5DB7-4DA2-BC38-38486B4B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4AF-98EB-4CC2-869F-2881C0FE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6DEA-5457-4BD2-A22D-E8B90FD8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981-FDB6-4514-A654-078C001C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138-690E-41B9-BE2F-02151772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D9F-BA76-4E79-83A9-B2199149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E95-2F2D-453F-975C-9D0155F5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9E8-EA07-4C1E-8D39-EBA854D1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E70-EA84-4AB4-9945-4A685FFC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468-BCB9-46FE-A771-062A51FD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1117-91E0-42AE-9816-175AF8B06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3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ценка качества консульт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484360" y="5321160"/>
            <a:ext cx="4038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кт-Петербург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декаб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12"/>
          <p:cNvGraphicFramePr/>
          <p:nvPr/>
        </p:nvGraphicFramePr>
        <p:xfrm>
          <a:off x="3429000" y="2763720"/>
          <a:ext cx="226368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763720"/>
                    <a:ext cx="226368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– люди одержимые идеей, беззаветно преданные своему дел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категория клиентов, для которы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 сформулировать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высказаться самому, но не слушать, что скажет консульт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first visit"/>
          <p:cNvPicPr/>
          <p:nvPr/>
        </p:nvPicPr>
        <p:blipFill>
          <a:blip r:embed="rId1"/>
          <a:stretch/>
        </p:blipFill>
        <p:spPr>
          <a:xfrm>
            <a:off x="6372360" y="907920"/>
            <a:ext cx="236844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000" y="980640"/>
            <a:ext cx="2693880" cy="3024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сотрудник консультативной службы должен уметь выдержа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й между “клиент всегда прав” и “я расскажу тебе, как работать правильно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правило -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ытаться решить вопросы, которые не имеют отношения к предмету консультирования и консультан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hit"/>
          <p:cNvPicPr/>
          <p:nvPr/>
        </p:nvPicPr>
        <p:blipFill>
          <a:blip r:embed="rId1"/>
          <a:stretch/>
        </p:blipFill>
        <p:spPr>
          <a:xfrm>
            <a:off x="6335640" y="1413000"/>
            <a:ext cx="2808360" cy="2641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ние для участник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в малых групп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64785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argument"/>
          <p:cNvPicPr/>
          <p:nvPr/>
        </p:nvPicPr>
        <p:blipFill>
          <a:blip r:embed="rId1"/>
          <a:stretch/>
        </p:blipFill>
        <p:spPr>
          <a:xfrm>
            <a:off x="6948360" y="1052640"/>
            <a:ext cx="1994040" cy="26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список индика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6118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йте решения на большом ли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этот вид работы отводится - 20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 свой список для остальных участни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Copy of TEAM"/>
          <p:cNvPicPr/>
          <p:nvPr/>
        </p:nvPicPr>
        <p:blipFill>
          <a:blip r:embed="rId1"/>
          <a:stretch/>
        </p:blipFill>
        <p:spPr>
          <a:xfrm>
            <a:off x="6551640" y="213372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824400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4000"/>
            </a:br>
            <a:br>
              <a:rPr sz="40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" y="47242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620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7360" indent="-387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bd09506_"/>
          <p:cNvPicPr/>
          <p:nvPr/>
        </p:nvPicPr>
        <p:blipFill>
          <a:blip r:embed="rId1"/>
          <a:stretch/>
        </p:blipFill>
        <p:spPr>
          <a:xfrm>
            <a:off x="6815160" y="1628640"/>
            <a:ext cx="2220840" cy="2040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73422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гражд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КО (руководители и сотрудники организаци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ое (предмет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ческое (процесс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е консультации (очная встреча или по телефон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(почта, факсы, электронная поч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консультации, независимо от формы, должны быть зарегистриров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2" descr="ONWORK"/>
          <p:cNvPicPr/>
          <p:nvPr/>
        </p:nvPicPr>
        <p:blipFill>
          <a:blip r:embed="rId1"/>
          <a:stretch/>
        </p:blipFill>
        <p:spPr>
          <a:xfrm>
            <a:off x="7020000" y="549360"/>
            <a:ext cx="1944720" cy="20653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61912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консультаций позволя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ти некоторый статистический учет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количество обращающихся за консультационной помощ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ть наиболее востребованные темы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ет консультантам образцами уже данных ответов на схожие вопро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j0212051"/>
          <p:cNvPicPr/>
          <p:nvPr/>
        </p:nvPicPr>
        <p:blipFill>
          <a:blip r:embed="rId1"/>
          <a:stretch/>
        </p:blipFill>
        <p:spPr>
          <a:xfrm>
            <a:off x="7093080" y="1341360"/>
            <a:ext cx="1817640" cy="15350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64087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муникативные навы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opy of DRUG"/>
          <p:cNvPicPr/>
          <p:nvPr/>
        </p:nvPicPr>
        <p:blipFill>
          <a:blip r:embed="rId1"/>
          <a:stretch/>
        </p:blipFill>
        <p:spPr>
          <a:xfrm>
            <a:off x="6599160" y="2205000"/>
            <a:ext cx="2509920" cy="26528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е показатели консультир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кл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казанных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ционных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нтов, задействованных в процесс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handshake"/>
          <p:cNvPicPr/>
          <p:nvPr/>
        </p:nvPicPr>
        <p:blipFill>
          <a:blip r:embed="rId1"/>
          <a:stretch/>
        </p:blipFill>
        <p:spPr>
          <a:xfrm>
            <a:off x="6673680" y="2060640"/>
            <a:ext cx="2470320" cy="2881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йте свой предмет и область консульт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уйте в качестве консультан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вязывайте свое мн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 проблему, с которой столкнулся клиен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, чего он хочет, результат, к которому стреми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ните: «Юрист не решает проблему, юрист предлагает варианты решения проблем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егайте “технических” термин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орите на языке клиента, а не на Вашем собственно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говорите о внутренних проблемах Вашей организ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золотых прав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гото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увер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общитель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чайте именно на тот вопрос, который был задан именно данным Клиенто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ерите те варианты, которые актуальны именно для этого кли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bs00554_"/>
          <p:cNvPicPr/>
          <p:nvPr/>
        </p:nvPicPr>
        <p:blipFill>
          <a:blip r:embed="rId1"/>
          <a:stretch/>
        </p:blipFill>
        <p:spPr>
          <a:xfrm>
            <a:off x="6664320" y="1619280"/>
            <a:ext cx="2155680" cy="1881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7:42:36Z</dcterms:created>
  <dc:creator>Home</dc:creator>
  <dc:description/>
  <dc:language>en-US</dc:language>
  <cp:lastModifiedBy>LEGION</cp:lastModifiedBy>
  <dcterms:modified xsi:type="dcterms:W3CDTF">2016-01-04T08:08:36Z</dcterms:modified>
  <cp:revision>99</cp:revision>
  <dc:subject/>
  <dc:title>Оценка качества консультаций</dc:title>
</cp:coreProperties>
</file>