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16148-68FC-4A96-9C49-C9E7200694D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ствознание 6 клас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веева Светлана Геннадьевна – учитель истории и обществозн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У Лицей № 3 г.Зерноград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овской обл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ЗАЧЕМ НУЖНА ВСЕОБЩАЯ ДЕКЛАРАЦИЯ ПРАВ ЧЕЛОВЕ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ствознание 6 клас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веева Светлана Геннадьевна – учитель истории и обществозн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У Лицей № 3 г.Зерноград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товской обла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ЗАЧЕМ НУЖНА ВСЕОБЩАЯ ДЕКЛАРАЦИЯ ПРАВ ЧЕЛОВЕК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говорят факт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бы мы сократили все население планеты до размеров одной деревни, в которой проживает 100 человек, и применили бы к этой деревне все те соотношения, какие характерны для нашей планеты в настоящее время, то получилась бы следующая потрясающая картин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7 человек в деревне — азиаты, 21 — европейцы, 14 — из западного полушария, 8 — из Афр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2 человека было бы женского пола, 48 — мужског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0 по расовой принадлежности — цветные, 30 — представляли бы белую рас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0 — нехристианской веры, 30 — христиан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0 проживали бы в условиях, не соответствующих минимальным человеческим норма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0 были бы не способны чита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0 страдали бы от постоянного голо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был бы при смер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имел бы образование на уровне колледжа и выш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имел бы компьют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говорят факт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бы мы сократили все население планеты до размеров одной деревни, в которой проживает 100 человек, и применили бы к этой деревне все те соотношения, какие характерны для нашей планеты в настоящее время, то получилась бы следующая потрясающая картин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7 человек в деревне — азиаты, 21 — европейцы, 14 — из западного полушария, 8 — из Афри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2 человека было бы женского пола, 48 — мужского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0 по расовой принадлежности — цветные, 30 — представляли бы белую рас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0 — нехристианской веры, 30 — христиан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0 проживали бы в условиях, не соответствующих минимальным человеческим норма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0 были бы не способны чита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0 страдали бы от постоянного голод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был бы при смер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имел бы образование на уровне колледжа и выш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имел бы компьюте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и свободы человека ограничиваться во и свободы человека могут ограничиваться во им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и свободы человека могут ограничиваться во имя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а и свободы человека ограничиваться во и свободы человека могут ограничиваться во им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а и свободы человека могут ограничиваться во имя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и свободы человека ограничиваться во и свободы человека могут ограничиваться во им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и свободы человека могут ограничиваться во имя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ра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важения к правам других лю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ядка в обще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храны государственной безопас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оровья лю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ы принципов О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а и свободы человека ограничиваться во и свободы человека могут ограничиваться во им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а и свободы человека могут ограничиваться во имя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ра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ажения к правам других люд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ядка в обще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храны государственной безопас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доровья люд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ы принципов О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жи цепочку, показывающую связь прав и обязанностей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е право на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ывает меня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олжи цепочку, показывающую связь прав и обязанностей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е право на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язывает меня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ЧЕМ НУЖНА ВСЕОБЩАЯ ДЕКЛАРАЦИЯ ПРАВ ЧЕЛОВЕКА 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ЕМ НУЖНА ВСЕОБЩАЯ ДЕКЛАРАЦИЯ ПРАВ ЧЕЛОВЕКА 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Человек превратился в сверхчеловека... Но сверхчеловек, наделенный сверхчеловеческой силой, еще не поднялся до уровня сверхчеловеческого разума... Наша совесть должна пробудиться от сознания того, что чем больше мы превращаемся в сверхлюдей, тем бесчеловечнее мы становимс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ьберт  Швейц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Быть человеком — это чувствовать свою   ответственность».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Сент-Экзюпер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Человек превратился в сверхчеловека... Но сверхчеловек, наделенный сверхчеловеческой силой, еще не поднялся до уровня сверхчеловеческого разума... Наша совесть должна пробудиться от сознания того, что чем больше мы превращаемся в сверхлюдей, тем бесчеловечнее мы становимся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ьберт  Швейц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Быть человеком — это чувствовать свою   ответственность».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.Сент-Экзюпер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ЧЕМ НУЖНА ВСЕОБЩАЯ ДЕКЛАРАЦИЯ ПРАВ ЧЕЛОВЕКА 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ЕМ НУЖНА ВСЕОБЩАЯ ДЕКЛАРАЦИЯ ПРАВ ЧЕЛОВЕКА 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ть ли здесь противоречие?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кларация — это рекомендация; международный договор, не имеющий обязательной силы. Декларация не закон, она не является юридически обязательным для исполнения документом, не содержит в себе каких либо санкций за нарушения указанных прав и свобод. Это скорее заявление о добрых намерениях человечества, провозглашение «общих достижений всех народов и наций». Она содержит в себе самые общие нормы и правила, которые как бы предлагают, советуют нам всем соблюд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, тем не менее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ть ли здесь противоречие?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кларация — это рекомендация; международный договор, не имеющий обязательной силы. Декларация не закон, она не является юридически обязательным для исполнения документом, не содержит в себе каких либо санкций за нарушения указанных прав и свобод. Это скорее заявление о добрых намерениях человечества, провозглашение «общих достижений всех народов и наций». Она содержит в себе самые общие нормы и правила, которые как бы предлагают, советуют нам всем соблюда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, тем не менее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0 национальных конституций, выработанных после 1948 года, содержат в себе формулировки основных прав человека на основе положений Деклар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екабре 1993 года была принята Конституция Российской Федерации. Это самый главный, основной закон нашей страны. Уже во второй статье Конституции говорится: «Человек, его права и свободы являются высшей ценностью. Признание, соблюдение и защита прав и свобод человека и гражданина — обязанность государств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основании декларации построены два обязательных для участников ООН договора: Международный пакт о гражданских и политических правах и Международный пакт об экономических, социальных и культурных прав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Декларацию прав человека можно ссылаться при защите своих прав, её положения часто используются в международных судах при рассмотрении дел по фактам нарушения прав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0 национальных конституций, выработанных после 1948 года, содержат в себе формулировки основных прав человека на основе положений Деклар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декабре 1993 года была принята Конституция Российской Федерации. Это самый главный, основной закон нашей страны. Уже во второй статье Конституции говорится: «Человек, его права и свободы являются высшей ценностью. Признание, соблюдение и защита прав и свобод человека и гражданина — обязанность государств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основании декларации построены два обязательных для участников ООН договора: Международный пакт о гражданских и политических правах и Международный пакт об экономических, социальных и культурных прав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Декларацию прав человека можно ссылаться при защите своих прав, её положения часто используются в международных судах при рассмотрении дел по фактам нарушения прав чело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1950 году ООН было решено отмечать день принятия Декларации как День прав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993 г. участники всемирной конференции, представлявшие 171 страну, в которых проживает 99% всего населения мира, вновь подтвердили свою приверженность защите прав челове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10 декабря 2007 года по 10 декабря 2008 года проходила кампания по случаю 60-летия Всеобщей Декларации прав человека. Тема кампании «Человеческое достоинство и справедливость для всех нас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документу, не имеющему юридической силы,  придают такое огромное значение? Зачем нужна Всеобщая декларация прав человека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1950 году ООН было решено отмечать день принятия Декларации как День прав чело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993 г. участники всемирной конференции, представлявшие 171 страну, в которых проживает 99% всего населения мира, вновь подтвердили свою приверженность защите прав челове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10 декабря 2007 года по 10 декабря 2008 года проходила кампания по случаю 60-летия Всеобщей Декларации прав человека. Тема кампании «Человеческое достоинство и справедливость для всех нас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 документу, не имеющему юридической силы,  придают такое огромное значение? Зачем нужна Всеобщая декларация прав человека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говори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Всеобщая декларация прав челове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была принята Всеобщая декларация прав человека? Зачем она нужн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принципы Декларации сохраняют свою актуальность и в современных условия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декларация может помочь человечеств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сделать так, чтобы Декларация смогла нам всем помоч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связаны между собой права и обязанности челове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вы считаете, нужна ли человечеству Всеобщая декла­рация обязанносте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говори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Всеобщая декларация прав человек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гда была принята Всеобщая декларация прав человека? Зачем она нужн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 принципы Декларации сохраняют свою актуальность и в современных условиях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 декларация может помочь человечеств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сделать так, чтобы Декларация смогла нам всем помочь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связаны между собой права и обязанности человек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вы считаете, нужна ли человечеству Всеобщая декла­рация обязанностей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УК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[&lt; фр. bouclette колечко] — непериодиче­ское издание на одном печатном листе, сложенном параллельными сгибами, так, что его читают или рассматривают, раскрывая как ширму; в виде буклетов выпуска­ются путеводители, проспекты, рекламные и информационные листки, некоторые детские издания и т. 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К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[&lt; фр. bouclette колечко] — непериодиче­ское издание на одном печатном листе, сложенном параллельными сгибами, так, что его читают или рассматривают, раскрывая как ширму; в виде буклетов выпуска­ются путеводители, проспекты, рекламные и информационные листки, некоторые детские издания и т. 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6493-BA04-4544-A1CD-DC3EFA3FF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502B-C4F1-4328-B608-70861641D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4CA3C0-5191-439D-B50E-8C5BE6A14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1AD36E-B48C-445C-B5CE-3E526B6B0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0BF1FA-A8A3-4CA5-8145-DBD04C82B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D423B5-7C96-4856-8685-786B16878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F902C8-EB15-47CB-AAD7-F78F44F32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05E6CE-5F9C-465B-A961-B8D31016A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93B055-3B4E-4CE4-B042-AE9F8DE02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459236-FC13-4725-B296-31FD1CBCF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415CF9-8E4A-45BA-B3D1-1DAD9F75C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D026-93A3-42CA-890B-1422B771D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06E4-BF8D-4F70-9080-E8313F5CA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06856-49F7-4D75-981B-30448C730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94895-F733-49F7-97EE-CDB0DF4AE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FBC61-DF2A-453C-9F5E-2CE9382BF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4D594-84FE-4FCB-87B8-1FB48E870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C5C71-E8F8-47FC-A140-83B4EA5B2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E3A10-D56B-4670-AFCC-DA4008F1D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B92DB-FF45-4F6E-8E8F-008B918A9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A402-4FD1-4D9C-977A-884498C14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BF2D5-6FED-43F7-88D2-B00AA6086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5E8E1-5988-408B-828A-40C7554D8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3333F-5CEF-4B0F-BC5E-1D190AE10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99500-2D9E-4AED-B962-AB1146F97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99C1A-52D8-44E7-9566-59E58B901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43F78-16B6-4094-B15B-16362EBAC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DECE6-1F93-44AA-9BD3-701BFE886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773C2-A390-4A4D-803C-8FCD5BDA1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19FB2-056D-47A8-9F31-10EB94B30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DA76E-02E7-4E0D-981B-076F2452D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25A0-3B51-48FC-84BA-7505D6768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965F0-04E8-4B5C-80A4-D65ECAC80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5DFBB-FD5B-4C00-9433-04BDFAA6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DC712-B56D-4CAB-A9F8-837DE4C98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338F5-69A9-40BB-B14B-7E820E484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0F4E4-F7F7-4794-B0DB-883BB74C2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57B4D-779D-4351-9165-4A6573CA7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E922C-97C3-442F-B0B9-DA0B11559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998F7-F981-462A-809C-0CAD36D24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02E61-5D06-4C4E-A5C1-9167FE57D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60163-6A0A-419C-8AA6-B7CE18EA5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23BB-539A-438A-A723-65E7FBE7C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98163-C7EF-42C3-B824-66314D141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1060D-592D-4AD3-85C6-582CE362A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496861-ECA7-464B-B1D3-44F6154D2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8EF5B-8044-466F-80CB-41C23C26D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ECDB8-2AA0-43F4-8148-12497FDBD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A052F-8B70-4EDE-8DC6-58D0D032B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2A95C-7E5D-4640-A1AC-5DC985686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D715B-02C9-419B-9AA3-3B63EFF10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09406-6E7E-4CB6-AED8-07FB59E5F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9A7E86-CCB8-47C1-B9F2-F0F12B09D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9E53-E6E9-4384-A8BD-FC2B82801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1157C4-86F5-4C10-BA22-412B18B0A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AA6AF3-541A-4233-9307-784BC7047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20C0C8-F532-4792-916F-CA4AE5CED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A3738A-B853-420C-8091-901758AC8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39A623-36C8-4885-8FD8-73EA5AE4B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C258C8-8487-404E-9469-25768FBE7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F8141B-20EB-4B0A-A1F9-0B32FCE0D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5FBC9D-9EF6-4D05-BDA9-438F120A9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3AF66B-060C-459C-B910-9A302A6F6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1501C5-0BA6-4221-8007-674254895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C030-3652-44AC-B45E-2515CD448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2DAC5E-AAE4-4B94-8FB6-4CCAD703F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000023-3DB6-4812-BF20-C7F1455FE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98B0AC-8996-48AE-A15D-494920714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66208E-27FE-4AAD-8E80-504461B55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B3C407-33E3-4177-932B-D4D73B996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B9ECBC-79AF-4634-A3CE-28597EFF9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5EEC39-733A-46CE-B883-8AF8F8B51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6762EA-EF48-4806-8953-17CE6B6D3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767E35-8FF2-461E-B724-F44E6ED91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FB01B0-7823-4EB2-845B-E3C545FEB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906E-48CC-4313-B4BE-BD72A1CE6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275620-DCEB-4C8D-A69D-8054DBD08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F10CAD-2527-449D-9295-697E38DE7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C10636-0270-4250-BD59-FA706BCB8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AA44BC-95B1-4BE2-BB2C-DF1882419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40DD40-47AF-494E-8B97-63F02A491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CBA893-2FF3-4C27-A942-BE49A8886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1577D8-769E-4442-A045-21EB8B193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5EE8E7-0368-47EF-9CA0-66ED01279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AC0807-F2C7-4464-9C76-E94BAB4EB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98F55D-3B3F-410C-BB4E-4A698234C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4E19-7C31-407F-AFBE-C8BCB6DA7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5AB91F-3CCC-44C6-B8C0-7921653FA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18055F-2F5F-4A2F-9C31-4E83ADBB1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52FD7C-26A0-489F-AD9B-26CF6008C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EE42E2-438C-4A66-9A7B-B41882D1D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2A36C4-C9A5-4834-BB3D-25CA1EB68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7B21F1-79E6-4967-8179-0257F5E55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0956E9-2CFF-4A60-B666-791DACDDE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E98001-7673-4F75-9270-9C0F0E551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9284F4-A670-415D-952A-0AB9C5C9E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BA37BD-0139-4EC3-A37F-EEB436997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8BA6-69A7-418B-BABD-DCA5DC7F0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798CA5-EC65-43CB-9F62-6C12034F6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6EDD3D-86E7-492A-AC7F-EDD672D66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4C53B2-EB1A-4B30-9C89-16BC84B4A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1CEF38-D529-44FA-ACDD-C672BEFC8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02A584-9533-45D8-9C5A-71E5667E3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8CDB00-6136-430E-8C94-4DEEA24AD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AEFCAA-6A32-48F6-A630-9ACD4CDA3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9F23C8-D3C9-4ED7-9796-904D94441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20FEA9-08C1-4E91-B7DB-2DC6A8659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7E0EFA-7F22-4AD4-B22D-FD3C1098B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34035-F87B-4902-8C1D-624523280674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6839F-E16E-4118-AE56-55DEBEB341B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66044-A1B2-46E8-A0CF-0E44807AE745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9B6BA-848A-46C4-B1CE-9630A9A4BA3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0A51D-5BE1-496F-83B5-82A7B8AF59E1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38934-6881-470D-A31D-3B2F0D2EF29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E8648-A228-4C8D-95F8-0D643704E6A4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6CF4C-AD8D-4BE7-8B1A-CF1744EFE81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2D135-768F-452B-BD25-666269395264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8EEFC-9C06-4329-8E99-3E5A406810F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C6F34-2BA9-4AED-B1CF-5C02BB26FDBD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6EAF7-24C1-4841-8E34-8389556293D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75442-5202-4D40-87C4-D8FA483CF504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DED98-8218-4884-9F47-DF0C6CB3D27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CFD2B-0803-4CC2-A45C-D42EBE46E166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52A24-F0B0-4D4A-A47F-F20887320B8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AC1CB-A2DF-43C8-AAD6-09B6FBC7E395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92420-5F33-413B-8E17-6C79D4F1A67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25.xml"/><Relationship Id="rId1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Прямоугольник 1"/>
          <p:cNvSpPr/>
          <p:nvPr/>
        </p:nvSpPr>
        <p:spPr>
          <a:xfrm>
            <a:off x="1000080" y="2274840"/>
            <a:ext cx="6929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Franklin Gothic Medium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Franklin Gothic Medium"/>
              </a:rPr>
              <a:t>Обществознание 6 клас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Franklin Gothic Medium"/>
              </a:rPr>
              <a:t>  </a:t>
            </a:r>
            <a:r>
              <a:rPr b="1" lang="ru-RU" sz="3200" spc="-1" strike="noStrike">
                <a:solidFill>
                  <a:srgbClr val="0000ff"/>
                </a:solidFill>
                <a:latin typeface="Franklin Gothic Medium"/>
              </a:rPr>
              <a:t>Матвеева Светлана Геннадьевна – учитель истории и обществозн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Franklin Gothic Medium"/>
              </a:rPr>
              <a:t>   </a:t>
            </a:r>
            <a:r>
              <a:rPr b="1" lang="ru-RU" sz="3200" spc="-1" strike="noStrike">
                <a:solidFill>
                  <a:srgbClr val="0000ff"/>
                </a:solidFill>
                <a:latin typeface="Franklin Gothic Medium"/>
              </a:rPr>
              <a:t>МОУ Лицей № 3 г.Зерногра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Franklin Gothic Medium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Franklin Gothic Medium"/>
              </a:rPr>
              <a:t>Ростовской обла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Franklin Gothic Medium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"/>
          <p:cNvSpPr/>
          <p:nvPr/>
        </p:nvSpPr>
        <p:spPr>
          <a:xfrm>
            <a:off x="928800" y="571680"/>
            <a:ext cx="7286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Franklin Gothic Medium"/>
              </a:rPr>
              <a:t>«ЗАЧЕМ НУЖНА ВСЕОБЩАЯ ДЕКЛАРАЦИЯ ПРАВ ЧЕЛОВЕК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Місце для нижнього колонтитула 4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Заголовок 1" descr=""/>
          <p:cNvPicPr/>
          <p:nvPr/>
        </p:nvPicPr>
        <p:blipFill>
          <a:blip r:embed="rId1"/>
          <a:stretch/>
        </p:blipFill>
        <p:spPr>
          <a:xfrm>
            <a:off x="311040" y="0"/>
            <a:ext cx="8418600" cy="115236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 txBox="1"/>
          <p:nvPr/>
        </p:nvSpPr>
        <p:spPr>
          <a:xfrm>
            <a:off x="500040" y="114264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Если бы мы сократили все население планеты до размеров одной деревни, в которой проживает 100 человек, и применили бы к этой деревне все те соотношения, какие характерны для нашей планеты в настоящее время, то получилась бы следующая потрясающая картина: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57 человек в деревне — азиаты, 21 — европейцы, 14 — из западного полушария, 8 — из Африки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e3b30"/>
                </a:solidFill>
                <a:latin typeface="Franklin Gothic Book"/>
              </a:rPr>
              <a:t>52 </a:t>
            </a: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человека было бы женского пола, 48 — мужского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70 по расовой принадлежности — цветные, 30 — представляли бы белую расу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70 — нехристианской веры, 30 — христиане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80 проживали бы в условиях, не соответствующих минимальным человеческим нормам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70 были бы не способны читать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50 страдали бы от постоянного голода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1 был бы при смерти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1 имел бы образование на уровне колледжа и выше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1 имел бы компьютер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0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Скругленный прямоугольник 1"/>
          <p:cNvSpPr/>
          <p:nvPr/>
        </p:nvSpPr>
        <p:spPr>
          <a:xfrm>
            <a:off x="2786040" y="2643120"/>
            <a:ext cx="3214800" cy="1271520"/>
          </a:xfrm>
          <a:prstGeom prst="roundRect">
            <a:avLst>
              <a:gd name="adj" fmla="val 33264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Права и свободы человека ограничиваться во и свободы человека могут ограничиваться во им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Box 2"/>
          <p:cNvSpPr/>
          <p:nvPr/>
        </p:nvSpPr>
        <p:spPr>
          <a:xfrm>
            <a:off x="2643120" y="2786040"/>
            <a:ext cx="357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Права и свободы человека могут ограничиваться во им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Скругленный прямоугольник 8"/>
          <p:cNvSpPr/>
          <p:nvPr/>
        </p:nvSpPr>
        <p:spPr>
          <a:xfrm>
            <a:off x="214200" y="1714680"/>
            <a:ext cx="221472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Скругленный прямоугольник 9"/>
          <p:cNvSpPr/>
          <p:nvPr/>
        </p:nvSpPr>
        <p:spPr>
          <a:xfrm>
            <a:off x="3571920" y="857160"/>
            <a:ext cx="221436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Скругленный прямоугольник 10"/>
          <p:cNvSpPr/>
          <p:nvPr/>
        </p:nvSpPr>
        <p:spPr>
          <a:xfrm>
            <a:off x="6500880" y="1857240"/>
            <a:ext cx="221436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Скругленный прямоугольник 11"/>
          <p:cNvSpPr/>
          <p:nvPr/>
        </p:nvSpPr>
        <p:spPr>
          <a:xfrm>
            <a:off x="6500880" y="3714840"/>
            <a:ext cx="221436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Скругленный прямоугольник 12"/>
          <p:cNvSpPr/>
          <p:nvPr/>
        </p:nvSpPr>
        <p:spPr>
          <a:xfrm>
            <a:off x="3429000" y="5072040"/>
            <a:ext cx="221472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Скругленный прямоугольник 13"/>
          <p:cNvSpPr/>
          <p:nvPr/>
        </p:nvSpPr>
        <p:spPr>
          <a:xfrm>
            <a:off x="285840" y="3643200"/>
            <a:ext cx="221436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Місце для нижнього колонтитула 2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Скругленный прямоугольник 1"/>
          <p:cNvSpPr/>
          <p:nvPr/>
        </p:nvSpPr>
        <p:spPr>
          <a:xfrm>
            <a:off x="2786040" y="2643120"/>
            <a:ext cx="3214800" cy="1271520"/>
          </a:xfrm>
          <a:prstGeom prst="roundRect">
            <a:avLst>
              <a:gd name="adj" fmla="val 33264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Права и свободы человека ограничиваться во и свободы человека могут ограничиваться во им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Box 2"/>
          <p:cNvSpPr/>
          <p:nvPr/>
        </p:nvSpPr>
        <p:spPr>
          <a:xfrm>
            <a:off x="2643120" y="2786040"/>
            <a:ext cx="357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Права и свободы человека могут ограничиваться во им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Скругленный прямоугольник 8"/>
          <p:cNvSpPr/>
          <p:nvPr/>
        </p:nvSpPr>
        <p:spPr>
          <a:xfrm>
            <a:off x="142920" y="1571760"/>
            <a:ext cx="221436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Скругленный прямоугольник 9"/>
          <p:cNvSpPr/>
          <p:nvPr/>
        </p:nvSpPr>
        <p:spPr>
          <a:xfrm>
            <a:off x="3571920" y="857160"/>
            <a:ext cx="221436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Скругленный прямоугольник 10"/>
          <p:cNvSpPr/>
          <p:nvPr/>
        </p:nvSpPr>
        <p:spPr>
          <a:xfrm>
            <a:off x="6500880" y="1857240"/>
            <a:ext cx="221436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Скругленный прямоугольник 11"/>
          <p:cNvSpPr/>
          <p:nvPr/>
        </p:nvSpPr>
        <p:spPr>
          <a:xfrm>
            <a:off x="6500880" y="3714840"/>
            <a:ext cx="221436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Скругленный прямоугольник 12"/>
          <p:cNvSpPr/>
          <p:nvPr/>
        </p:nvSpPr>
        <p:spPr>
          <a:xfrm>
            <a:off x="3429000" y="5072040"/>
            <a:ext cx="221472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Скругленный прямоугольник 13"/>
          <p:cNvSpPr/>
          <p:nvPr/>
        </p:nvSpPr>
        <p:spPr>
          <a:xfrm>
            <a:off x="285840" y="3643200"/>
            <a:ext cx="221436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Box 14"/>
          <p:cNvSpPr/>
          <p:nvPr/>
        </p:nvSpPr>
        <p:spPr>
          <a:xfrm>
            <a:off x="4220640" y="1071720"/>
            <a:ext cx="98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ора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Box 15"/>
          <p:cNvSpPr/>
          <p:nvPr/>
        </p:nvSpPr>
        <p:spPr>
          <a:xfrm>
            <a:off x="6572160" y="2000160"/>
            <a:ext cx="242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важения к правам других люд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Box 16"/>
          <p:cNvSpPr/>
          <p:nvPr/>
        </p:nvSpPr>
        <p:spPr>
          <a:xfrm>
            <a:off x="6929280" y="3857760"/>
            <a:ext cx="157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рядка в общест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Box 17"/>
          <p:cNvSpPr/>
          <p:nvPr/>
        </p:nvSpPr>
        <p:spPr>
          <a:xfrm>
            <a:off x="0" y="157176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храны государственной безопас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Box 19"/>
          <p:cNvSpPr/>
          <p:nvPr/>
        </p:nvSpPr>
        <p:spPr>
          <a:xfrm>
            <a:off x="432360" y="3857760"/>
            <a:ext cx="185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доровья люд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20"/>
          <p:cNvSpPr/>
          <p:nvPr/>
        </p:nvSpPr>
        <p:spPr>
          <a:xfrm>
            <a:off x="3643200" y="5143680"/>
            <a:ext cx="18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ащиты принципов О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Місце для нижнього колонтитула 2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Заголовок 1" descr=""/>
          <p:cNvPicPr/>
          <p:nvPr/>
        </p:nvPicPr>
        <p:blipFill>
          <a:blip r:embed="rId1"/>
          <a:stretch/>
        </p:blipFill>
        <p:spPr>
          <a:xfrm>
            <a:off x="480960" y="401760"/>
            <a:ext cx="8663040" cy="167148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 txBox="1"/>
          <p:nvPr/>
        </p:nvSpPr>
        <p:spPr>
          <a:xfrm>
            <a:off x="213840" y="233208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Franklin Gothic Book"/>
              </a:rPr>
              <a:t>Мое право на…</a:t>
            </a:r>
            <a:endParaRPr b="0" lang="en-US" sz="8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Franklin Gothic Book"/>
              </a:rPr>
              <a:t> </a:t>
            </a:r>
            <a:r>
              <a:rPr b="1" lang="ru-RU" sz="8000" spc="-1" strike="noStrike">
                <a:solidFill>
                  <a:srgbClr val="ff0000"/>
                </a:solidFill>
                <a:latin typeface="Franklin Gothic Book"/>
              </a:rPr>
              <a:t>обязывает меня…</a:t>
            </a:r>
            <a:endParaRPr b="0" lang="en-US" sz="8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7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Заголовок 3" descr=""/>
          <p:cNvPicPr/>
          <p:nvPr/>
        </p:nvPicPr>
        <p:blipFill>
          <a:blip r:embed="rId1"/>
          <a:stretch/>
        </p:blipFill>
        <p:spPr>
          <a:xfrm>
            <a:off x="957240" y="1011240"/>
            <a:ext cx="8345520" cy="4756320"/>
          </a:xfrm>
          <a:prstGeom prst="rect">
            <a:avLst/>
          </a:prstGeom>
          <a:ln w="0">
            <a:noFill/>
          </a:ln>
        </p:spPr>
      </p:pic>
      <p:sp>
        <p:nvSpPr>
          <p:cNvPr id="459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 txBox="1"/>
          <p:nvPr/>
        </p:nvSpPr>
        <p:spPr>
          <a:xfrm>
            <a:off x="428400" y="214200"/>
            <a:ext cx="837252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Franklin Gothic Book"/>
              </a:rPr>
              <a:t>    </a:t>
            </a:r>
            <a:r>
              <a:rPr b="1" lang="ru-RU" sz="3000" spc="-1" strike="noStrike">
                <a:solidFill>
                  <a:srgbClr val="ff0000"/>
                </a:solidFill>
                <a:latin typeface="Franklin Gothic Book"/>
              </a:rPr>
              <a:t>«Человек превратился в сверхчеловека... Но сверхчеловек, наделенный сверхчеловеческой силой, еще не поднялся до уровня сверхчеловеческого разума... Наша совесть должна пробудиться от сознания того, что чем больше мы превращаемся в сверхлюдей, тем бесчеловечнее мы становимся»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Franklin Gothic Book"/>
              </a:rPr>
              <a:t>                                                     </a:t>
            </a:r>
            <a:r>
              <a:rPr b="1" lang="ru-RU" sz="3000" spc="-1" strike="noStrike">
                <a:solidFill>
                  <a:srgbClr val="ff0000"/>
                </a:solidFill>
                <a:latin typeface="Franklin Gothic Book"/>
              </a:rPr>
              <a:t>Альберт  Швейцер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Franklin Gothic Book"/>
              </a:rPr>
              <a:t>    </a:t>
            </a:r>
            <a:r>
              <a:rPr b="1" lang="ru-RU" sz="3000" spc="-1" strike="noStrike">
                <a:solidFill>
                  <a:srgbClr val="ff0000"/>
                </a:solidFill>
                <a:latin typeface="Franklin Gothic Book"/>
              </a:rPr>
              <a:t>«Быть человеком — это чувствовать свою   ответственность».                 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Franklin Gothic Book"/>
              </a:rPr>
              <a:t>                                                     </a:t>
            </a:r>
            <a:r>
              <a:rPr b="1" lang="ru-RU" sz="3000" spc="-1" strike="noStrike">
                <a:solidFill>
                  <a:srgbClr val="ff0000"/>
                </a:solidFill>
                <a:latin typeface="Franklin Gothic Book"/>
              </a:rPr>
              <a:t>А.Сент-Экзюпери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 algn="ctr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1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3" descr=""/>
          <p:cNvPicPr/>
          <p:nvPr/>
        </p:nvPicPr>
        <p:blipFill>
          <a:blip r:embed="rId1"/>
          <a:stretch/>
        </p:blipFill>
        <p:spPr>
          <a:xfrm>
            <a:off x="957240" y="1011240"/>
            <a:ext cx="8345520" cy="4756320"/>
          </a:xfrm>
          <a:prstGeom prst="rect">
            <a:avLst/>
          </a:prstGeom>
          <a:ln w="0">
            <a:noFill/>
          </a:ln>
        </p:spPr>
      </p:pic>
      <p:sp>
        <p:nvSpPr>
          <p:cNvPr id="410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1" descr=""/>
          <p:cNvPicPr/>
          <p:nvPr/>
        </p:nvPicPr>
        <p:blipFill>
          <a:blip r:embed="rId1"/>
          <a:stretch/>
        </p:blipFill>
        <p:spPr>
          <a:xfrm>
            <a:off x="109440" y="249120"/>
            <a:ext cx="8839440" cy="139716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304920" y="1554120"/>
            <a:ext cx="8339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3b30"/>
                </a:solidFill>
                <a:latin typeface="Franklin Gothic Book"/>
              </a:rPr>
              <a:t>Декларация — это рекомендация; международный договор, не имеющий обязательной силы. Декларация не закон, она не является юридически обязательным для исполнения документом, не содержит в себе каких либо санкций за нарушения указанных прав и свобод. Это скорее заявление о добрых намерениях человечества, провозглашение «общих достижений всех народов и наций». Она содержит в себе самые общие нормы и правила, которые как бы предлагают, советуют нам всем соблюдать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ru-RU" sz="2200" spc="-1" strike="noStrike">
                <a:solidFill>
                  <a:srgbClr val="4e3b30"/>
                </a:solidFill>
                <a:latin typeface="Franklin Gothic Book"/>
              </a:rPr>
              <a:t>Но, тем не менее…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3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914400" y="214200"/>
            <a:ext cx="8229600" cy="607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5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3b30"/>
                </a:solidFill>
                <a:latin typeface="Franklin Gothic Book"/>
              </a:rPr>
              <a:t>90 национальных конституций, выработанных после 1948 года, содержат в себе формулировки основных прав человека на основе положений Декларации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3b30"/>
                </a:solidFill>
                <a:latin typeface="Franklin Gothic Book"/>
              </a:rPr>
              <a:t>В декабре 1993 года была принята Конституция Российской Федерации. Это самый главный, основной закон нашей страны. Уже во второй статье Конституции говорится: «Человек, его права и свободы являются высшей ценностью. Признание, соблюдение и защита прав и свобод человека и гражданина — обязанность государства»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3b30"/>
                </a:solidFill>
                <a:latin typeface="Franklin Gothic Book"/>
              </a:rPr>
              <a:t>На основании декларации построены два обязательных для участников ООН договора: Международный пакт о гражданских и политических правах и Международный пакт об экономических, социальных и культурных правах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3b30"/>
                </a:solidFill>
                <a:latin typeface="Franklin Gothic Book"/>
              </a:rPr>
              <a:t>На Декларацию прав человека можно ссылаться при защите своих прав, её положения часто используются в международных судах при рассмотрении дел по фактам нарушения прав человека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5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914040" y="214200"/>
            <a:ext cx="8086680" cy="607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В1950 году ООН было решено отмечать день принятия Декларации как День прав человека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В 1993 г. участники всемирной конференции, представлявшие 171 страну, в которых проживает 99% всего населения мира, вновь подтвердили свою приверженность защите прав человека.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С10 декабря 2007 года по 10 декабря 2008 года проходила кампания по случаю 60-летия Всеобщей Декларации прав человека.</a:t>
            </a:r>
            <a:r>
              <a:rPr b="0" i="1" lang="ru-RU" sz="20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Тема кампании «Человеческое достоинство и справедливость для всех нас»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c00000"/>
                </a:solidFill>
                <a:latin typeface="Franklin Gothic Book"/>
              </a:rPr>
              <a:t>	</a:t>
            </a:r>
            <a:r>
              <a:rPr b="1" lang="ru-RU" sz="3300" spc="-1" strike="noStrike">
                <a:solidFill>
                  <a:srgbClr val="c00000"/>
                </a:solidFill>
                <a:latin typeface="Franklin Gothic Book"/>
              </a:rPr>
              <a:t>Почему документу, не имеющему юридической силы,  придают такое огромное значение? Зачем нужна Всеобщая декларация прав человека? </a:t>
            </a:r>
            <a:endParaRPr b="0" lang="en-US" sz="33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7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Заголовок 1" descr=""/>
          <p:cNvPicPr/>
          <p:nvPr/>
        </p:nvPicPr>
        <p:blipFill>
          <a:blip r:embed="rId1"/>
          <a:stretch/>
        </p:blipFill>
        <p:spPr>
          <a:xfrm>
            <a:off x="12600" y="208080"/>
            <a:ext cx="8979120" cy="134604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4e3b30"/>
                </a:solidFill>
                <a:latin typeface="Franklin Gothic Book"/>
              </a:rPr>
              <a:t>Что такое Всеобщая декларация прав человека?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4e3b30"/>
                </a:solidFill>
                <a:latin typeface="Franklin Gothic Book"/>
              </a:rPr>
              <a:t>Когда была принята Всеобщая декларация прав человека? Зачем она нужна?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4e3b30"/>
                </a:solidFill>
                <a:latin typeface="Franklin Gothic Book"/>
              </a:rPr>
              <a:t>Почему принципы Декларации сохраняют свою актуальность и в современных условиях?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4e3b30"/>
                </a:solidFill>
                <a:latin typeface="Franklin Gothic Book"/>
              </a:rPr>
              <a:t>Чем декларация может помочь человечеству?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4e3b30"/>
                </a:solidFill>
                <a:latin typeface="Franklin Gothic Book"/>
              </a:rPr>
              <a:t>Как сделать так, чтобы Декларация смогла нам всем помочь?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4e3b30"/>
                </a:solidFill>
                <a:latin typeface="Franklin Gothic Book"/>
              </a:rPr>
              <a:t>Как связаны между собой права и обязанности человека?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4e3b30"/>
                </a:solidFill>
                <a:latin typeface="Franklin Gothic Book"/>
              </a:rPr>
              <a:t>Как вы считаете, нужна ли человечеству Всеобщая декла­рация обязанностей?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0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Заголовок 1" descr=""/>
          <p:cNvPicPr/>
          <p:nvPr/>
        </p:nvPicPr>
        <p:blipFill>
          <a:blip r:embed="rId1"/>
          <a:stretch/>
        </p:blipFill>
        <p:spPr>
          <a:xfrm>
            <a:off x="311040" y="390600"/>
            <a:ext cx="8680680" cy="98748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[&lt; фр. 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bouclette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 колечко] — непериодиче­ское издание на одном печатном листе, сложенном параллельными сгибами, так, что его читают или рассматривают, раскрывая как ширму; в виде буклетов выпуска­ются путеводители, проспекты, рекламные и информационные листки, некоторые детские издания и т. п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3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2" descr=""/>
          <p:cNvPicPr/>
          <p:nvPr/>
        </p:nvPicPr>
        <p:blipFill>
          <a:blip r:embed="rId1"/>
          <a:srcRect l="9523" t="22461" r="9914" b="8204"/>
          <a:stretch/>
        </p:blipFill>
        <p:spPr>
          <a:xfrm>
            <a:off x="571680" y="714240"/>
            <a:ext cx="7858080" cy="5072040"/>
          </a:xfrm>
          <a:prstGeom prst="rect">
            <a:avLst/>
          </a:prstGeom>
          <a:ln w="0">
            <a:noFill/>
          </a:ln>
        </p:spPr>
      </p:pic>
      <p:sp>
        <p:nvSpPr>
          <p:cNvPr id="425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2" descr=""/>
          <p:cNvPicPr/>
          <p:nvPr/>
        </p:nvPicPr>
        <p:blipFill>
          <a:blip r:embed="rId1"/>
          <a:srcRect l="9523" t="22461" r="9910" b="7229"/>
          <a:stretch/>
        </p:blipFill>
        <p:spPr>
          <a:xfrm>
            <a:off x="714240" y="857160"/>
            <a:ext cx="7858440" cy="5143680"/>
          </a:xfrm>
          <a:prstGeom prst="rect">
            <a:avLst/>
          </a:prstGeom>
          <a:ln w="0">
            <a:noFill/>
          </a:ln>
        </p:spPr>
      </p:pic>
      <p:sp>
        <p:nvSpPr>
          <p:cNvPr id="427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07:49:47Z</dcterms:created>
  <dc:creator>HOUSE</dc:creator>
  <dc:description/>
  <dc:language>en-US</dc:language>
  <cp:lastModifiedBy>LEGION</cp:lastModifiedBy>
  <dcterms:modified xsi:type="dcterms:W3CDTF">2016-01-04T08:07:20Z</dcterms:modified>
  <cp:revision>35</cp:revision>
  <dc:subject/>
  <dc:title>«Зачем нужна всеобщая декларация прав человека»</dc:title>
</cp:coreProperties>
</file>