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A71F-CC0A-4815-9CB4-7FA5C01773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6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Светлана Геннадьевна – учитель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Лицей № 3 г.Зерногра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ЧЕМ НУЖНА ВСЕОБЩАЯ ДЕКЛАРАЦИЯ ПРАВ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знание 6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веева Светлана Геннадьевна – учитель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Лицей № 3 г.Зерногра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ов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ЧЕМ НУЖНА ВСЕОБЩАЯ ДЕКЛАРАЦИЯ ПРАВ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говорят фак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 человек в деревне — азиаты, 21 — европейцы, 14 — из западного полушария, 8 — из Афр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 человека было бы женского пола, 48 — муж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по расовой принадлежности — цветные, 30 — представляли бы белую ра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— нехристианской веры, 30 — христи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проживали бы в условиях, не соответствующих минимальным человеческим норм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были бы не способны чит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страдали бы от постоянного гол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был бы при смер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имел бы образование на уровне колледжа и вы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имел бы 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ят фак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7 человек в деревне — азиаты, 21 — европейцы, 14 — из западного полушария, 8 — из Аф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2 человека было бы женского пола, 48 — мужско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по расовой принадлежности — цветные, 30 — представляли бы белую ра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— нехристианской веры, 30 — христиа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проживали бы в условиях, не соответствующих минимальным человеческим нор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были бы не способны чит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страдали бы от постоянного гол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был бы при смер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имел бы образование на уровне колледжа и выш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имел бы компью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ения к правам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ы государственн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ы принципов О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ажения к правам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ы государствен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оровья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принципов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 цепочку, показывающую связь прав и обязанносте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е право н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ывает мен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 цепочку, показывающую связь прав и обязанносте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е право н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ывает мен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берт  Швейц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ыть человеком — это чувствовать свою   ответственность».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ент-Экзюп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ерт  Швейц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ыть человеком — это чувствовать свою   ответственность».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ент-Экзюп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здесь противоречие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тем не мене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ли здесь противоречие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тем не мене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1950 году ООН было решено отмечать день принятия Декларации как День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10 декабря 2007 года по 10 декабря 2008 года проходила кампания по случаю 60-летия Всеобщей Декларации прав человека. Тема кампании «Человеческое достоинство и справедливость для всех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1950 году ООН было решено отмечать день принятия Декларации как День прав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0 декабря 2007 года по 10 декабря 2008 года проходила кампания по случаю 60-летия Всеобщей Декларации прав человека. Тема кампании «Человеческое достоинство и справедливость для всех нас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вор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Всеобщая декларация прав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была принята Всеобщая декларация прав человека?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ринципы Декларации сохраняют свою актуальность и в современных услов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екларация может помочь челове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делать так, чтобы Декларация смогла нам всем помо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вязаны между собой права и обязанности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нужна ли человечеству Всеобщая декла­рация обязанност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овор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Всеобщая декларация прав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была принята Всеобщая декларация прав человека? Зачем она нуж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инципы Декларации сохраняют свою актуальность и в современных услови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декларация может помочь человечеств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делать так, чтобы Декларация смогла нам все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вязаны между собой права и обязаннос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нужна ли человечеству Всеобщая декла­рация обязанно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&lt; фр. bouclette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&lt; фр. bouclette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C7C-C1CE-465C-AA1D-D5F21811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9B1-860E-44FE-8D95-A3C05E2D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824C3-60AE-4AC1-A780-3AC9B5A2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C9E57-25EB-4942-9E96-64AD3495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20661-AFA4-41DA-AD29-751A3BE1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2D574-FE9A-46AE-8D57-C3AA52E7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497E8-D457-4DF5-A8BB-88A626FD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CE1DF-CFFB-4137-868A-B1BE8C73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3AED0-1D6F-458F-A6BC-9E7803A5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033B6-D065-48E9-9113-060CC992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B2537-D784-4CC3-BFCC-E263FEA6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018-35BF-4FD3-8364-CD7CAE24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DDA-DF49-498C-A073-43610F90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A41D-170A-4897-9AEA-0E74EC2D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F053-3EFC-4CAA-9BEA-2F6902EC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9711-FDF3-44E8-A903-8863AFC8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D10A-3B5E-480F-8714-59B7A9FF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EBCB-DC8B-4773-A0FC-0D8BB0DD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E868-3152-4346-98B2-C96AF28A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3EAB-7C5D-4A63-9A1C-F670A54C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78E-AED1-4958-A264-5A505179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3BEB-B13F-467F-9C4E-3CD7AFBE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BFD5-BCBD-43A3-93DE-10EB5DD7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687C-80B2-47D2-9350-697D0B99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7554-82DB-4167-8355-491624E9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E394-0634-4370-99D2-AF1CE1E1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180B6-CD01-423D-BB5D-0B69B817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6384A-F893-4759-9F17-D59B3276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7CFFC-650E-46BE-AB48-90FBD031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5E4FA-D536-41A3-8CE3-5C00B7B3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2AE7-2CB6-4269-9161-85BBF3C0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2CD-1B61-4E9D-B036-B738197C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E431-1B21-4E23-BA2F-B1CF17FF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393AD-88EF-45D3-BB5A-C28A26F9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1707-8717-415B-A41C-62CB761A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A2D8-5065-4ECF-815A-CA1A5BD8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8A934-549D-4064-A52B-A3F21041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F70FF-9088-43B4-AC60-4A3D0B73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E1DA9-DF7A-450C-AD35-117633F4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3D789-348D-48EF-A9BF-CE067E87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95B44-ED6E-421D-9216-4450B962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0F585-508F-44E8-98AF-6DC5C734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8F7-2B73-4CDF-9540-DA21919B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DCDD3-2162-468D-9DFB-25191199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C7B54-32DA-4DE9-8893-00744A21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E7DF5-11C1-4F44-A3E2-3643CB8E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E834A-A666-4E4E-9900-C2DEAEE1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3BFCA-84E8-4ADB-9E0E-68682325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DAC37-CAAF-46AA-849F-E21CAFA1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7EA5C-5A37-43CB-80CA-AC4FFAA6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AA85A-3C31-4610-BA60-D133C05A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4F9FE-3C6A-40DF-8986-99B0559F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E6A93-20E8-4BF7-B1D5-B59D0662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AFB-9AEA-4251-A95B-2E1E987D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020C9-3FC1-4DEF-BD85-8A581469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87A82-B413-430E-B584-48682593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2D2F4-FAD4-4E9F-9F7D-358A73ED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C28F4-E9DB-498F-89CC-939C1775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35C8E-3208-4A98-AA05-C2E103D6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899EB-21F3-4BDE-8354-D34C509C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FEAE8-7770-4E90-AEB3-3EF925E9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26CF4-647A-4F8F-A6A5-5D2447BB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A0014-1210-44A1-AB8D-9DDB5894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9FD49-20C4-4B0E-B142-5560813B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B5A-E192-4ADE-BB94-FFFB30AE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5F180-7607-42F8-821F-6E8DB3D9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437C4-F29F-4DA2-8465-492BD7D2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B8389-3B78-4EAA-8D70-AE08CDBA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5AAD1-C6EB-456C-AE0A-4DC5E748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5FCC3-61D2-4B67-8C5D-646358FF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A6DA6-A169-4C17-8A0E-A6A7C0F7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B8EE7-FC5F-40DD-90F8-E6FCD036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CCE00-A33E-410D-8571-DE8D77F3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70DDA-BAC3-4D3D-AC32-1CFC5DB6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F8BE8-080D-4DDB-A1A7-05A8FA82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90F-7049-4D1D-BC23-80C4A508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5C9FB-A317-43D5-9ECC-E83122E2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6C0FF-C2D7-4734-9E0C-2DB96730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47DEF-4A63-4C1E-878F-DDE449F3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C076B-2605-41D0-A91A-A61AE4E1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538AC-758B-4951-9B9C-1E0DD097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031E8-4453-4356-B52E-2E7EE647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2B9E9-9E30-4FC5-9B12-7B6FFA72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79C33-F634-4116-B6A9-7D5A24C8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00094-B7C2-41EB-8422-DD69CD33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BB822-B4D2-4658-876A-A14968B2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D8D-3BC4-4EFC-84B2-7A858E9A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78E9C-1863-4DA7-A869-40A05297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D723D-FCE7-4F59-86D1-5521E5D3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5A61D-FF53-4BB6-839D-CDE0038E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94442-FE2C-4F28-A11D-BB4F8E09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9E90B-614F-44E3-85BB-03C0418C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0AD10-EAED-456D-BC66-47BDBC52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71858-5451-4BF0-8D3F-0F535DDF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9498C-D2DF-40D9-B938-180E1735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C923E-A3C6-4856-B4D5-E513F922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4C40D-B7C4-48A4-9C0E-46DE2561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D6F-EF86-4E99-9B71-2B8313F0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775D5-01CA-47BC-AC54-6C597691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DAD13-6B0F-46CB-9C76-E8D400DB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699B4-B53E-4760-A0EB-F1E058A7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43CB2-E8A8-409D-AE62-B90B26ED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BEA94-CD65-4D54-BFFE-72F61489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A61E2-9213-47D5-AF7F-130C0AC8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E672A-C9B0-48F3-9CAC-87550965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9055D-759B-436B-8572-BD479B76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E97FB-A5C6-4926-A8ED-79552D8C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37B9D-78B3-46CE-A57D-02EDB9D0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9BD9-41EA-4083-BE57-A9D042F013F3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FF6C-9ECF-4802-B74B-2178CF0406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1530-A77C-4B5A-BAAB-2B6F8DE7B58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8B06-ADFE-4406-A740-B146FEFF62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096A-9299-441D-AE95-DFEF8CAE3041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519E-A705-45DD-ABCE-55FEF7CB8B1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D911-DD88-40FF-ADDE-3301913FAD8D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1E42-615A-44E8-B0B4-E7024ED92E3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EDB6-A1FA-49C8-9A69-96C7A1CC53E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7BB7-9B48-495B-862A-175B1DE037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443B-AABD-4C04-8EA7-883C5124B0FB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5AFC-9EB9-4030-9A30-9DB2F30572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203E-672C-48C4-AC19-4DB07B47A427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F42B-341B-4A72-8EC5-6428D43F8E6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820E-19F4-4D51-8C14-0E1271B4F93C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31C4-F78F-455A-8170-4B0B7461E76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CF9D-D3F5-4735-A433-66FB445C9A26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CB93-87BD-4173-8026-72C594978DE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1000080" y="2274840"/>
            <a:ext cx="692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Обществознание 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Матвеева Светлана Геннадьевна – учитель истории и обществ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МОУ Лицей № 3 г.Зерногр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Ростов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"/>
          <p:cNvSpPr/>
          <p:nvPr/>
        </p:nvSpPr>
        <p:spPr>
          <a:xfrm>
            <a:off x="928800" y="571680"/>
            <a:ext cx="72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«ЗАЧЕМ НУЖНА ВСЕОБЩАЯ ДЕКЛАРАЦИЯ ПРАВ ЧЕЛО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11040" y="0"/>
            <a:ext cx="8418600" cy="1152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0004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7 человек в деревне — азиаты, 21 — европейцы, 14 — из западного полушария, 8 — из Африк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52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человека было бы женского пола, 48 — мужского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по расовой принадлежности — цветные, 30 — представляли бы белую расу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— нехристианской веры, 30 — христиан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80 проживали бы в условиях, не соответствующих минимальным человеческим норма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были бы не способны читать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0 страдали бы от постоянного голод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был бы при смер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имел бы образование на уровне колледжа и выш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имел бы компьюте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Скругленный прямоугольник 1"/>
          <p:cNvSpPr/>
          <p:nvPr/>
        </p:nvSpPr>
        <p:spPr>
          <a:xfrm>
            <a:off x="2786040" y="2643120"/>
            <a:ext cx="3214800" cy="1271520"/>
          </a:xfrm>
          <a:prstGeom prst="roundRect">
            <a:avLst>
              <a:gd name="adj" fmla="val 33264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2643120" y="27860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8"/>
          <p:cNvSpPr/>
          <p:nvPr/>
        </p:nvSpPr>
        <p:spPr>
          <a:xfrm>
            <a:off x="214200" y="171468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9"/>
          <p:cNvSpPr/>
          <p:nvPr/>
        </p:nvSpPr>
        <p:spPr>
          <a:xfrm>
            <a:off x="3571920" y="8571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10"/>
          <p:cNvSpPr/>
          <p:nvPr/>
        </p:nvSpPr>
        <p:spPr>
          <a:xfrm>
            <a:off x="6500880" y="18572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11"/>
          <p:cNvSpPr/>
          <p:nvPr/>
        </p:nvSpPr>
        <p:spPr>
          <a:xfrm>
            <a:off x="6500880" y="37148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12"/>
          <p:cNvSpPr/>
          <p:nvPr/>
        </p:nvSpPr>
        <p:spPr>
          <a:xfrm>
            <a:off x="3429000" y="507204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13"/>
          <p:cNvSpPr/>
          <p:nvPr/>
        </p:nvSpPr>
        <p:spPr>
          <a:xfrm>
            <a:off x="285840" y="364320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Скругленный прямоугольник 1"/>
          <p:cNvSpPr/>
          <p:nvPr/>
        </p:nvSpPr>
        <p:spPr>
          <a:xfrm>
            <a:off x="2786040" y="2643120"/>
            <a:ext cx="3214800" cy="1271520"/>
          </a:xfrm>
          <a:prstGeom prst="roundRect">
            <a:avLst>
              <a:gd name="adj" fmla="val 33264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2643120" y="27860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8"/>
          <p:cNvSpPr/>
          <p:nvPr/>
        </p:nvSpPr>
        <p:spPr>
          <a:xfrm>
            <a:off x="142920" y="15717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9"/>
          <p:cNvSpPr/>
          <p:nvPr/>
        </p:nvSpPr>
        <p:spPr>
          <a:xfrm>
            <a:off x="3571920" y="8571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10"/>
          <p:cNvSpPr/>
          <p:nvPr/>
        </p:nvSpPr>
        <p:spPr>
          <a:xfrm>
            <a:off x="6500880" y="18572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ый прямоугольник 11"/>
          <p:cNvSpPr/>
          <p:nvPr/>
        </p:nvSpPr>
        <p:spPr>
          <a:xfrm>
            <a:off x="6500880" y="37148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12"/>
          <p:cNvSpPr/>
          <p:nvPr/>
        </p:nvSpPr>
        <p:spPr>
          <a:xfrm>
            <a:off x="3429000" y="507204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кругленный прямоугольник 13"/>
          <p:cNvSpPr/>
          <p:nvPr/>
        </p:nvSpPr>
        <p:spPr>
          <a:xfrm>
            <a:off x="285840" y="364320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4220640" y="10717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5"/>
          <p:cNvSpPr/>
          <p:nvPr/>
        </p:nvSpPr>
        <p:spPr>
          <a:xfrm>
            <a:off x="6572160" y="20001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важения к правам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6"/>
          <p:cNvSpPr/>
          <p:nvPr/>
        </p:nvSpPr>
        <p:spPr>
          <a:xfrm>
            <a:off x="6929280" y="3857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рядка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7"/>
          <p:cNvSpPr/>
          <p:nvPr/>
        </p:nvSpPr>
        <p:spPr>
          <a:xfrm>
            <a:off x="0" y="15717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храны государствен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9"/>
          <p:cNvSpPr/>
          <p:nvPr/>
        </p:nvSpPr>
        <p:spPr>
          <a:xfrm>
            <a:off x="432360" y="385776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оровья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0"/>
          <p:cNvSpPr/>
          <p:nvPr/>
        </p:nvSpPr>
        <p:spPr>
          <a:xfrm>
            <a:off x="3643200" y="514368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щиты принципов 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480960" y="401760"/>
            <a:ext cx="8663040" cy="16714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213840" y="2332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Мое право на…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обязывает меня…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3" descr=""/>
          <p:cNvPicPr/>
          <p:nvPr/>
        </p:nvPicPr>
        <p:blipFill>
          <a:blip r:embed="rId1"/>
          <a:stretch/>
        </p:blipFill>
        <p:spPr>
          <a:xfrm>
            <a:off x="957240" y="1011240"/>
            <a:ext cx="8345520" cy="4756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28400" y="214200"/>
            <a:ext cx="8372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Альберт  Швейцер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«Быть человеком — это чувствовать свою   ответственность».                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А.Сент-Экзюпери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ctr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3" descr=""/>
          <p:cNvPicPr/>
          <p:nvPr/>
        </p:nvPicPr>
        <p:blipFill>
          <a:blip r:embed="rId1"/>
          <a:stretch/>
        </p:blipFill>
        <p:spPr>
          <a:xfrm>
            <a:off x="957240" y="1011240"/>
            <a:ext cx="8345520" cy="4756320"/>
          </a:xfrm>
          <a:prstGeom prst="rect">
            <a:avLst/>
          </a:prstGeom>
          <a:ln w="0">
            <a:noFill/>
          </a:ln>
        </p:spPr>
      </p:pic>
      <p:sp>
        <p:nvSpPr>
          <p:cNvPr id="41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9440" y="249120"/>
            <a:ext cx="8839440" cy="13971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33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о, тем не менее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914400" y="21420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914040" y="214200"/>
            <a:ext cx="808668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1950 году ООН было решено отмечать день принятия Декларации как День прав челове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С10 декабря 2007 года по 10 декабря 2008 года проходила кампания по случаю 60-летия Всеобщей Декларации прав человека.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Тема кампании «Человеческое достоинство и справедливость для всех нас»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Franklin Gothic Book"/>
              </a:rPr>
              <a:t>	</a:t>
            </a:r>
            <a:r>
              <a:rPr b="1" lang="ru-RU" sz="3300" spc="-1" strike="noStrike">
                <a:solidFill>
                  <a:srgbClr val="c00000"/>
                </a:solidFill>
                <a:latin typeface="Franklin Gothic Book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2600" y="208080"/>
            <a:ext cx="8979120" cy="1346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Что такое Всеобщая декларация прав человек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огда была принята Всеобщая декларация прав человека? Зачем она нужн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Почему принципы Декларации сохраняют свою актуальность и в современных условиях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Чем декларация может помочь человечеству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сделать так, чтобы Декларация смогла нам всем помочь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связаны между собой права и обязанности человек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вы считаете, нужна ли человечеству Всеобщая декла­рация обязанностей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11040" y="390600"/>
            <a:ext cx="868068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[&lt; фр.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bouclette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rcRect l="9523" t="22461" r="9914" b="8204"/>
          <a:stretch/>
        </p:blipFill>
        <p:spPr>
          <a:xfrm>
            <a:off x="571680" y="714240"/>
            <a:ext cx="7858080" cy="507204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rcRect l="9523" t="22461" r="9910" b="7229"/>
          <a:stretch/>
        </p:blipFill>
        <p:spPr>
          <a:xfrm>
            <a:off x="714240" y="857160"/>
            <a:ext cx="78584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7:49:47Z</dcterms:created>
  <dc:creator>HOUSE</dc:creator>
  <dc:description/>
  <dc:language>en-US</dc:language>
  <cp:lastModifiedBy>LEGION</cp:lastModifiedBy>
  <dcterms:modified xsi:type="dcterms:W3CDTF">2016-01-04T08:07:20Z</dcterms:modified>
  <cp:revision>35</cp:revision>
  <dc:subject/>
  <dc:title>«Зачем нужна всеобщая декларация прав человека»</dc:title>
</cp:coreProperties>
</file>