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E087-4949-4492-9045-46153B73694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ознание 6 клас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веева Светлана Геннадьевна – учитель истории и обществозн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У Лицей № 3 г.Зерноград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товской обла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АЧЕМ НУЖНА ВСЕОБЩАЯ ДЕКЛАРАЦИЯ ПРАВ ЧЕЛОВЕКА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говорят факт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7 человек в деревне — азиаты, 21 — европейцы, 14 — из западного полушария, 8 — из Афр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2 человека было бы женского пола, 48 — мужско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по расовой принадлежности — цветные, 30 — представляли бы белую ра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— нехристианской веры, 30 — христиан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0 проживали бы в условиях, не соответствующих минимальным человеческим норма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0 были бы не способны чита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0 страдали бы от постоянного гол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был бы при смер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образование на уровне колледжа и выш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имел бы компьюте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а и свободы человека могут ограничиваться во им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а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ажения к правам других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ы государственной безопас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доровья люд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ы принципов О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олжи цепочку, показывающую связь прав и обязанностей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е право на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ывает мен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льберт  Швейц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ыть человеком — это чувствовать свою   ответственность».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.Сент-Экзюп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А ВСЕОБЩАЯ ДЕКЛАРАЦИЯ ПРАВ ЧЕЛОВЕКА 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ь ли здесь противоречие?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, тем не мене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1950 году ООН было решено отмечать день принятия Декларации как День прав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10 декабря 2007 года по 10 декабря 2008 года проходила кампания по случаю 60-летия Всеобщей Декларации прав человека. Тема кампании «Человеческое достоинство и справедливость для всех нас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говор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такое Всеобщая декларация прав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была принята Всеобщая декларация прав человека? Зачем она нужн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принципы Декларации сохраняют свою актуальность и в современных условия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декларация может помочь человечеств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делать так, чтобы Декларация смогла нам всем помочь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связаны между собой права и обязанности челове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вы считаете, нужна ли человечеству Всеобщая декла­рация обязанност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К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[&lt; фр. bouclette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81E5-CED5-4ACA-BB15-FA7498F06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6A32-0088-488A-AED4-674D0010D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31E73-7BAF-4A8E-B10D-B7B4E216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B996C7-4E58-4EA6-A656-ABABCBE7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7028D-A1A2-4302-BE1D-14C8598E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486BAE-BDD2-4775-BE4F-8E4D4AFB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B041C-9631-4219-990B-FB78748D6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73522-A1A5-440E-B745-E38B9818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C67602-2EB5-4EBB-9F38-A8059869F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9E7F4-7F42-461B-8170-639FA6C88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106597-B53C-488E-B78A-4F3B84DCB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282-9D1D-4B29-9455-F1BC3442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83EB-2988-4FCC-8898-08D5D401D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FC5B-6F30-428B-A749-8922AD525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F983-BFAA-4225-BE84-6E95BF752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A45C6-BDEA-4EB4-818F-C80D245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16B62-95F0-434F-A176-864742032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B632-22B1-4729-8FDE-508E61D0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3B68-C76B-4EF9-94D7-48B143F8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22EB-38A6-4B38-89F1-FCD75424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130F-590A-45AD-AF27-E0B89DF2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6D46D-1D81-47D7-B633-236429C54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826D-816E-45D0-BE99-0FA17F755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089D2-D270-4533-981A-1627452E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E9B7-E90A-4F3A-A24E-D3042E92D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55EC-E5B0-419B-8DE6-DCA46B58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DA496-3FD6-418E-AB91-C5DADFD16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E4BFE4-74F3-46A6-83BE-F7C369B9F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0F21-0940-4747-8586-9F49D913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377643-ABA5-4EAA-BC69-A682848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2F382-3CEC-4A31-9A00-54E0B1A9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E966E-13A5-4717-B943-78BC57CCE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7DF8D-FBD9-4CEA-BE30-6BB33586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EC9EB-3CA0-4717-93CE-79F4121B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31DD5A-0891-490C-9D19-E1CF9184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2C407-ADAF-4C54-AFDC-C44B8E6B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0F36C-BCA0-4623-BBB3-4710D04D5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9961C-ACB0-4E2F-B033-92E5AD811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FE683-650B-42A3-9FDB-143885C2B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62720-08F9-4C02-B988-30DCDABB8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50813-CB70-4F94-8C12-380A8364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82C32A-DF2C-4BEF-BA4D-4BC09F230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B3E3-8A2C-462B-99A7-19FFA00E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FFE724-B911-4604-BFA6-57E9C960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AEE59-9D99-48AC-B528-1EAF583B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533976-C466-422F-9EC7-AC09375E5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6D597-7C79-4547-839C-36E83BB6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873657-BD5D-488F-822E-44B19742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838A5-3411-4990-9225-C6547BADC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890F0E-7804-41F8-91CD-C845A209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ACB12-8128-47A3-99CE-3484606AC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E472C-46C2-47CD-99FC-B3F6E99F8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1FE46D-F352-4731-A0C5-254DBCB0A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CD1A4-5A5E-4A1F-90B8-8C389E164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6AD225-2B9C-45AF-B082-779CE6F1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D5481-19C5-42C8-B6A9-C17EBC5A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7FC79-8945-4584-BDF6-0BA0B0A0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7AD2C3-0E43-48C0-850B-3D873A86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BF693-9A09-42B0-AE78-B31897C2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4F2DB3-D867-4C5A-B49F-3C1CE67D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346B8-1857-41C5-887F-EC640A50F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BE58B5-9498-47EF-B572-577A6966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03A17-9F51-4228-B7AF-6C305B6F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7E6E0-7070-48EF-802E-F0117CE93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C770-B42F-4C89-B10D-A2A0BA13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FF6D8-BC69-427F-ABDC-0114F841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EFA9-7BF7-4A40-9284-75D76B2D6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6388-3A26-42B6-9777-AF27E5135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6F5F2-BBC6-46DA-BEE4-76882731C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19FED2-B2A6-4DE7-B62D-8340BCEA5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EB0FC-2FC3-4C25-B5D1-470D0E76D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4BAAD-839A-4B79-9429-839427C3C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47094C-9C33-4F79-BC5B-F3BABC9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6FEF5-D974-4FD0-8726-9915286B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357E1-CB35-4099-A03D-9480D3BCD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54A0-1B00-4DA8-9CCB-2F48498D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A93C6A-C7EE-4CB0-B2A0-885AEDCF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4F7B7-6DD5-4462-85AC-B4DC3E02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EE6263-8C70-41A0-BB66-991CFDC7F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9508F8-4D9D-42DE-B25F-823E639C8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0FB844-F59C-4B5E-9C18-3E6447E16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C9DEF-8874-4D16-889A-6EDAB3052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B1C26C-8F39-4B32-AEE5-4EBB87E8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7EBE2E-3FA4-4388-AABB-902662427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521D16-C534-4D03-9EB5-81EF2540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8C6B1D-9FAE-4E2D-AD7E-9468D4D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B0A2-0107-4A4C-B904-5C1CB8D1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783C6-8785-4366-A717-AD24138D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CB4F8A-48E3-4EA2-9740-C10A2C04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CF9BB-C308-4145-8182-3E4F17A1A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7E372-0CB3-4FE9-B6DD-F6982A4A1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73235-63F7-430C-9CE1-ECDD03F2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7D92B2-A9D8-4B7E-8F6A-0F334F2A4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065480-DCA5-479D-9936-A5C495280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00EA6A-94B2-4F55-9B1C-59297DB87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B5086-2542-47B4-A4AF-F3858F4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C9E22-DAFC-4F61-825A-19E19C245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9F34-5732-4F02-B4F2-4CDD9BF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74BA4-4460-40C2-B396-946F3E099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594A4B-99A0-4009-BF85-7AB09C52F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5876B-30AE-4723-8170-3E37AB90C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6FA0B9-7FC9-4390-BF1E-3A8FAE65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41464-4F12-47A4-B530-E5002DA5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BD9DE-A570-421F-B28E-4F8631E31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18077-76C7-48A2-A376-E5DD5D91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707A6C-488F-4535-8C2E-A20890715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520624-8A79-4766-92C0-23DA1938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B8FAFE-421A-4EAA-BD88-209F6EC1C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D004A-211E-46A5-818A-542E2B9FB4A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DB83-324C-465B-A20F-88C2C09FCFC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DBA3-823D-4A7E-A8A5-AF4206B28660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6F50A-5437-41BF-B82F-16300501435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4FF08-68B7-4A48-A668-5AEC4593E88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1D724-4A2A-401B-8B69-548DEB06A12F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A6F57-43B0-4DC4-B7F4-F343F53073B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66C34-2DDA-43CF-BF71-52FD733C418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7D444-C0CA-40D2-AEC2-D37A2C1770D3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69EA3-5F19-4D32-B6A6-4150FB7ACC6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FB920-2E89-4C8B-8ED1-77559A79E31E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A454-9604-4C65-B952-C3BB6DD105C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63A6-55E5-4EF4-891C-F15D1F0EDC57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1144-0612-4A8D-BA86-69C24ACD4D5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5375-076B-4331-8AE3-8567AA670BA9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8232-2F3C-4D92-82BE-29C77628B9A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5C33-CE88-48EF-BBEE-AEABEAD4750B}" type="datetime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1558-BE20-4101-876A-210481AD366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Прямоугольник 1"/>
          <p:cNvSpPr/>
          <p:nvPr/>
        </p:nvSpPr>
        <p:spPr>
          <a:xfrm>
            <a:off x="1000080" y="2274840"/>
            <a:ext cx="692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Обществознание 6 клас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атвеева Светлана Геннадьевна – учитель истории и обществоз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МОУ Лицей № 3 г.Зерноград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Ростовской обла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Franklin Gothic Medium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"/>
          <p:cNvSpPr/>
          <p:nvPr/>
        </p:nvSpPr>
        <p:spPr>
          <a:xfrm>
            <a:off x="928800" y="571680"/>
            <a:ext cx="7286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Franklin Gothic Medium"/>
              </a:rPr>
              <a:t>«ЗАЧЕМ НУЖНА ВСЕОБЩАЯ ДЕКЛАРАЦИЯ ПРАВ ЧЕЛО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Місце для нижнього колонтитула 4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Заголовок 1" descr=""/>
          <p:cNvPicPr/>
          <p:nvPr/>
        </p:nvPicPr>
        <p:blipFill>
          <a:blip r:embed="rId1"/>
          <a:stretch/>
        </p:blipFill>
        <p:spPr>
          <a:xfrm>
            <a:off x="311040" y="0"/>
            <a:ext cx="8418600" cy="115236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 txBox="1"/>
          <p:nvPr/>
        </p:nvSpPr>
        <p:spPr>
          <a:xfrm>
            <a:off x="500040" y="11426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Если бы мы сократили все население планеты до размеров одной деревни, в которой проживает 100 человек, и применили бы к этой деревне все те соотношения, какие характерны для нашей планеты в настоящее время, то получилась бы следующая потрясающая картина: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7 человек в деревне — азиаты, 21 — европейцы, 14 — из западного полушария, 8 — из Африк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4e3b30"/>
                </a:solidFill>
                <a:latin typeface="Franklin Gothic Book"/>
              </a:rPr>
              <a:t>52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человека было бы женского пола, 48 — мужского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по расовой принадлежности — цветные, 30 — представляли бы белую расу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— нехристианской веры, 30 — христиан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80 проживали бы в условиях, не соответствующих минимальным человеческим нормам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70 были бы не способны читать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50 страдали бы от постоянного голода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был бы при смерти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образование на уровне колледжа и выше;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1 имел бы компьютер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Скругленный прямоугольник 8"/>
          <p:cNvSpPr/>
          <p:nvPr/>
        </p:nvSpPr>
        <p:spPr>
          <a:xfrm>
            <a:off x="214200" y="171468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Скругленный прямоугольник 1"/>
          <p:cNvSpPr/>
          <p:nvPr/>
        </p:nvSpPr>
        <p:spPr>
          <a:xfrm>
            <a:off x="2786040" y="2643120"/>
            <a:ext cx="3214800" cy="1271520"/>
          </a:xfrm>
          <a:prstGeom prst="roundRect">
            <a:avLst>
              <a:gd name="adj" fmla="val 33264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ава и свободы человека ограничиваться во и свободы человека могут ограничиваться во им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Box 2"/>
          <p:cNvSpPr/>
          <p:nvPr/>
        </p:nvSpPr>
        <p:spPr>
          <a:xfrm>
            <a:off x="2643120" y="2786040"/>
            <a:ext cx="357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Calibri"/>
              </a:rPr>
              <a:t>Права и свободы человека могут ограничиваться во имя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Скругленный прямоугольник 8"/>
          <p:cNvSpPr/>
          <p:nvPr/>
        </p:nvSpPr>
        <p:spPr>
          <a:xfrm>
            <a:off x="142920" y="15717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Скругленный прямоугольник 9"/>
          <p:cNvSpPr/>
          <p:nvPr/>
        </p:nvSpPr>
        <p:spPr>
          <a:xfrm>
            <a:off x="3571920" y="85716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Скругленный прямоугольник 10"/>
          <p:cNvSpPr/>
          <p:nvPr/>
        </p:nvSpPr>
        <p:spPr>
          <a:xfrm>
            <a:off x="6500880" y="18572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Скругленный прямоугольник 11"/>
          <p:cNvSpPr/>
          <p:nvPr/>
        </p:nvSpPr>
        <p:spPr>
          <a:xfrm>
            <a:off x="6500880" y="371484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Скругленный прямоугольник 12"/>
          <p:cNvSpPr/>
          <p:nvPr/>
        </p:nvSpPr>
        <p:spPr>
          <a:xfrm>
            <a:off x="3429000" y="5072040"/>
            <a:ext cx="22147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Скругленный прямоугольник 13"/>
          <p:cNvSpPr/>
          <p:nvPr/>
        </p:nvSpPr>
        <p:spPr>
          <a:xfrm>
            <a:off x="285840" y="3643200"/>
            <a:ext cx="22143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4"/>
          <p:cNvSpPr/>
          <p:nvPr/>
        </p:nvSpPr>
        <p:spPr>
          <a:xfrm>
            <a:off x="4220640" y="1071720"/>
            <a:ext cx="98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Мор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5"/>
          <p:cNvSpPr/>
          <p:nvPr/>
        </p:nvSpPr>
        <p:spPr>
          <a:xfrm>
            <a:off x="6572160" y="200016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Уважения к правам других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6"/>
          <p:cNvSpPr/>
          <p:nvPr/>
        </p:nvSpPr>
        <p:spPr>
          <a:xfrm>
            <a:off x="6929280" y="385776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орядка в обще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7"/>
          <p:cNvSpPr/>
          <p:nvPr/>
        </p:nvSpPr>
        <p:spPr>
          <a:xfrm>
            <a:off x="0" y="157176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храны государственной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9"/>
          <p:cNvSpPr/>
          <p:nvPr/>
        </p:nvSpPr>
        <p:spPr>
          <a:xfrm>
            <a:off x="432360" y="3857760"/>
            <a:ext cx="185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доровья люд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20"/>
          <p:cNvSpPr/>
          <p:nvPr/>
        </p:nvSpPr>
        <p:spPr>
          <a:xfrm>
            <a:off x="3643200" y="5143680"/>
            <a:ext cx="18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Защиты принципов О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2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Заголовок 1" descr=""/>
          <p:cNvPicPr/>
          <p:nvPr/>
        </p:nvPicPr>
        <p:blipFill>
          <a:blip r:embed="rId1"/>
          <a:stretch/>
        </p:blipFill>
        <p:spPr>
          <a:xfrm>
            <a:off x="480960" y="401760"/>
            <a:ext cx="8663040" cy="16714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 txBox="1"/>
          <p:nvPr/>
        </p:nvSpPr>
        <p:spPr>
          <a:xfrm>
            <a:off x="213840" y="233208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Мое право на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 </a:t>
            </a:r>
            <a:r>
              <a:rPr b="1" lang="ru-RU" sz="8000" spc="-1" strike="noStrike">
                <a:solidFill>
                  <a:srgbClr val="ff0000"/>
                </a:solidFill>
                <a:latin typeface="Franklin Gothic Book"/>
              </a:rPr>
              <a:t>обязывает меня…</a:t>
            </a:r>
            <a:endParaRPr b="0" lang="en-US" sz="8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59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428400" y="214200"/>
            <a:ext cx="8372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Человек превратился в сверхчеловека... Но сверхчеловек, наделенный сверхчеловеческой силой, еще не поднялся до уровня сверхчеловеческого разума... Наша совесть должна пробудиться от сознания того, что чем больше мы превращаемся в сверхлюдей, тем бесчеловечнее мы становимся»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льберт  Швейцер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«Быть человеком — это чувствовать свою   ответственность».                 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                                                     </a:t>
            </a:r>
            <a:r>
              <a:rPr b="1" lang="ru-RU" sz="3000" spc="-1" strike="noStrike">
                <a:solidFill>
                  <a:srgbClr val="ff0000"/>
                </a:solidFill>
                <a:latin typeface="Franklin Gothic Book"/>
              </a:rPr>
              <a:t>А.Сент-Экзюпери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 algn="ctr"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1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3" descr=""/>
          <p:cNvPicPr/>
          <p:nvPr/>
        </p:nvPicPr>
        <p:blipFill>
          <a:blip r:embed="rId1"/>
          <a:stretch/>
        </p:blipFill>
        <p:spPr>
          <a:xfrm>
            <a:off x="957240" y="1011240"/>
            <a:ext cx="8345520" cy="4756320"/>
          </a:xfrm>
          <a:prstGeom prst="rect">
            <a:avLst/>
          </a:prstGeom>
          <a:ln w="0">
            <a:noFill/>
          </a:ln>
        </p:spPr>
      </p:pic>
      <p:sp>
        <p:nvSpPr>
          <p:cNvPr id="410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Заголовок 1" descr=""/>
          <p:cNvPicPr/>
          <p:nvPr/>
        </p:nvPicPr>
        <p:blipFill>
          <a:blip r:embed="rId1"/>
          <a:stretch/>
        </p:blipFill>
        <p:spPr>
          <a:xfrm>
            <a:off x="109440" y="249120"/>
            <a:ext cx="8839440" cy="139716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04920" y="1554120"/>
            <a:ext cx="83390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Декларация — это рекомендация; международный договор, не имеющий обязательной силы. Декларация не закон, она не является юридически обязательным для исполнения документом, не содержит в себе каких либо санкций за нарушения указанных прав и свобод. Это скорее заявление о добрых намерениях человечества, провозглашение «общих достижений всех народов и наций». Она содержит в себе самые общие нормы и правила, которые как бы предлагают, советуют нам всем соблюдать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о, тем не менее…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914400" y="214200"/>
            <a:ext cx="822960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90 национальных конституций, выработанных после 1948 года, содержат в себе формулировки основных прав человека на основе положений Декларации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В декабре 1993 года была принята Конституция Российской Федерации. Это самый главный, основной закон нашей страны. Уже во второй статье Конституции говорится: «Человек, его права и свободы являются высшей ценностью. Признание, соблюдение и защита прав и свобод человека и гражданина — обязанность государства»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основании декларации построены два обязательных для участников ООН договора: Международный пакт о гражданских и политических правах и Международный пакт об экономических, социальных и культурных правах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e3b30"/>
                </a:solidFill>
                <a:latin typeface="Franklin Gothic Book"/>
              </a:rPr>
              <a:t>На Декларацию прав человека можно ссылаться при защите своих прав, её положения часто используются в международных судах при рассмотрении дел по фактам нарушения прав человека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12120" indent="-312120"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914040" y="214200"/>
            <a:ext cx="8086680" cy="607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1950 году ООН было решено отмечать день принятия Декларации как День прав человека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В 1993 г. участники всемирной конференции, представлявшие 171 страну, в которых проживает 99% всего населения мира, вновь подтвердили свою приверженность защите прав человека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С10 декабря 2007 года по 10 декабря 2008 года проходила кампания по случаю 60-летия Всеобщей Декларации прав человека.</a:t>
            </a:r>
            <a:r>
              <a:rPr b="0" i="1" lang="ru-RU" sz="20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4e3b30"/>
                </a:solidFill>
                <a:latin typeface="Franklin Gothic Book"/>
              </a:rPr>
              <a:t>Тема кампании «Человеческое достоинство и справедливость для всех нас»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	</a:t>
            </a:r>
            <a:r>
              <a:rPr b="1" lang="ru-RU" sz="3300" spc="-1" strike="noStrike">
                <a:solidFill>
                  <a:srgbClr val="c00000"/>
                </a:solidFill>
                <a:latin typeface="Franklin Gothic Book"/>
              </a:rPr>
              <a:t>Почему документу, не имеющему юридической силы,  придают такое огромное значение? Зачем нужна Всеобщая декларация прав человека? </a:t>
            </a:r>
            <a:endParaRPr b="0" lang="en-US" sz="33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Заголовок 1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979120" cy="13460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то такое Всеобщая декларация прав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огда была принята Всеобщая декларация прав человека? Зачем она нужн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Почему принципы Декларации сохраняют свою актуальность и в современных условиях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Чем декларация может помочь человечеству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делать так, чтобы Декларация смогла нам всем помочь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связаны между собой права и обязанности человека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e3b30"/>
                </a:solidFill>
                <a:latin typeface="Franklin Gothic Book"/>
              </a:rPr>
              <a:t>Как вы считаете, нужна ли человечеству Всеобщая декла­рация обязанностей?</a:t>
            </a: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0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Заголовок 1" descr=""/>
          <p:cNvPicPr/>
          <p:nvPr/>
        </p:nvPicPr>
        <p:blipFill>
          <a:blip r:embed="rId1"/>
          <a:stretch/>
        </p:blipFill>
        <p:spPr>
          <a:xfrm>
            <a:off x="311040" y="390600"/>
            <a:ext cx="8680680" cy="9874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[&lt; фр. </a:t>
            </a:r>
            <a:r>
              <a:rPr b="1" lang="en-US" sz="3200" spc="-1" strike="noStrike">
                <a:solidFill>
                  <a:srgbClr val="4e3b30"/>
                </a:solidFill>
                <a:latin typeface="Franklin Gothic Book"/>
              </a:rPr>
              <a:t>bouclette</a:t>
            </a:r>
            <a:r>
              <a:rPr b="1" lang="ru-RU" sz="3200" spc="-1" strike="noStrike">
                <a:solidFill>
                  <a:srgbClr val="4e3b30"/>
                </a:solidFill>
                <a:latin typeface="Franklin Gothic Book"/>
              </a:rPr>
              <a:t> колечко] — непериодиче­ское издание на одном печатном листе, сложенном параллельными сгибами, так, что его читают или рассматривают, раскрывая как ширму; в виде буклетов выпуска­ются путеводители, проспекты, рекламные и информационные листки, некоторые детские издания и т. п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"/>
          <p:cNvPicPr/>
          <p:nvPr/>
        </p:nvPicPr>
        <p:blipFill>
          <a:blip r:embed="rId1"/>
          <a:srcRect l="9523" t="22461" r="9914" b="8204"/>
          <a:stretch/>
        </p:blipFill>
        <p:spPr>
          <a:xfrm>
            <a:off x="571680" y="714240"/>
            <a:ext cx="7858080" cy="5072040"/>
          </a:xfrm>
          <a:prstGeom prst="rect">
            <a:avLst/>
          </a:prstGeom>
          <a:ln w="0">
            <a:noFill/>
          </a:ln>
        </p:spPr>
      </p:pic>
      <p:sp>
        <p:nvSpPr>
          <p:cNvPr id="425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2" descr=""/>
          <p:cNvPicPr/>
          <p:nvPr/>
        </p:nvPicPr>
        <p:blipFill>
          <a:blip r:embed="rId1"/>
          <a:srcRect l="9523" t="22461" r="9910" b="7229"/>
          <a:stretch/>
        </p:blipFill>
        <p:spPr>
          <a:xfrm>
            <a:off x="714240" y="857160"/>
            <a:ext cx="7858440" cy="5143680"/>
          </a:xfrm>
          <a:prstGeom prst="rect">
            <a:avLst/>
          </a:prstGeom>
          <a:ln w="0">
            <a:noFill/>
          </a:ln>
        </p:spPr>
      </p:pic>
      <p:sp>
        <p:nvSpPr>
          <p:cNvPr id="427" name="Місце для нижнього колонтитула 1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38e27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7:49:47Z</dcterms:created>
  <dc:creator>HOUSE</dc:creator>
  <dc:description/>
  <dc:language>en-US</dc:language>
  <cp:lastModifiedBy>LEGION</cp:lastModifiedBy>
  <dcterms:modified xsi:type="dcterms:W3CDTF">2016-01-04T08:07:20Z</dcterms:modified>
  <cp:revision>35</cp:revision>
  <dc:subject/>
  <dc:title>«Зачем нужна всеобщая декларация прав человека»</dc:title>
</cp:coreProperties>
</file>