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F084-F338-4E39-B253-11C08BDAB10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 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ча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ое процессуальное 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ая ча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гражданского судо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ов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оч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делам публичн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ы гражданского судопроизвод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каз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ков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оч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об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нитель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делам публично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вых отнош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дии гражданского судо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буждение граждан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а в су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граждан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а к судебном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рательст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дел судами первой инста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дел судами второй инста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смотр дел в порядке надз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смотр дел по внов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вшимся обстоятельств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ьное 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рательство дела п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елляцио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ссацио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дии гражданского судопроизвод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буждение гражданск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ла в суд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готовка гражданск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ла к судебному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бирательств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отрение дел судами первой инстан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отрение дел судами второй инстан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смотр дел в порядке надзо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смотр дел по вновь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крывшимся обстоятельства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нительное производ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бирательство дела п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ществ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пелляцион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извод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ссацион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извод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гражданского процессуаль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ы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зако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я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з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ид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енума 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судеб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е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екс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 судеб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е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екс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екс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екс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екс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АП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 миров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х в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 судеб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тава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б исполнитель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лищ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екс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чники гражданского процессуального пр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дународн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говоры 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глаш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ебн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кт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закон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ституция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каз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ид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тано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енума В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 судебн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стеме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тано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и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О судебн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стеме РФ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голов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логов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удов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АП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О мировы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ьях в РФ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О судебны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ставах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Об исполнительн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изводстве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Жилищ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ы действия норм Граждан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стран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ругу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гражданс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ся времен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при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гражданск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яется на вс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риторию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е процессу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ы регулируют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, участвующих в дан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м действ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елы действия норм Гражданског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ого пр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 времен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пространств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кругу ли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йствие граждански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ых нор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пределяется времене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х примен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йствие граждански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ых нор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ространяется на вс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рриторию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ие процессу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ы регулируют отнош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иц, участвующих в данн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ом действ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ражданского процессуаль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е процессуальные принципы представляют собой нормативно установленные основополагающие начала, определяющие построение процесса, его природу и методы по осуществлению правосудия по гражданским дел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ы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гражданского процессуального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ие процессуальные принципы представляют собой нормативно установленные основополагающие начала, определяющие построение процесса, его природу и методы по осуществлению правосудия по гражданским дела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ов гражданского процессуаль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ормативному источник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тором закреплен принци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онные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евые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дела коллегиа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единоличн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дел на националь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ы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диспозитив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непосред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непрерыв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существление правосудия п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м делам только суд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зависимость судей и подчи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только зако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ласность судебного разбиратель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вноправие перед законом и суд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стязате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вноправие стор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лассификац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ов гражданского процессуального пр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нормативному источнику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котором закреплен принци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ституционные принцип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раслевые принцип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отрение дела коллегиаль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ли единолично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отрение дел на национальн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языке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диспозитивност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непосредственност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непрерывно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осуществление правосудия п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им делам только судом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независимость судей и подчин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х только закону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гласность судебного разбирательств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равноправие перед законом и судом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состязательность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равноправие сторо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осуществления правосудия только су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ая власть в Российской Федерации принадлежит только судам в лице судей. Судебная власть действует независимо от законодательной и исполнительной властей (ст. 118 Конституции РФ, ст. 1 Закона о статусе судей, ст. 5 ГПК Р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осуществления правосудия только суд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ебная власть в Российской Федерации принадлежит только судам в лице судей. Судебная власть действует независимо от законодательной и исполнительной властей (ст. 118 Конституции РФ, ст. 1 Закона о статусе судей, ст. 5 ГПК РФ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независимости судей и подчинение их только зако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и независимы и подчиняются только Конституции РФ и федеральному зак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то не вправе вмешиваться в судебную деятельность по решению конкретных дел, давать указание по решению конкретного судебного дела, пытаться оказать на судью дав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шательство в деятельность суда преследуется по зак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висимость судей установлена ст. 120 Конституции РФ, ст. 9, 10 Закона о статуе судей, ст. 8 ГПК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независимости судей и подчинение их только закон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ьи независимы и подчиняются только Конституции РФ и федеральному закон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икто не вправе вмешиваться в судебную деятельность по решению конкретных дел, давать указание по решению конкретного судебного дела, пытаться оказать на судью давле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мешательство в деятельность суда преследуется по закон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зависимость судей установлена ст. 120 Конституции РФ, ст. 9, 10 Закона о статуе судей, ст. 8 ГПК Р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сность судебного разбир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рательство дел во всех судах открытое. Все лица, присутствующие в открытом судебном заседании, имеют право в письменной форме, а также с помощью средств аудио-, видеозаписи фиксировать ход судебного разбиратель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съемка, видеозапись, трансляции судебного заседания по радио, телевидению допускаются с разрешения су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суда объявляются публич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рательство дела в зарытом судебном заседании допускается в случаях, предусмотренных зако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сность судебного разбирательства регламентируется ч. 1 ст. 123 Конституции РФ, ст. 9 Закона о судебной системе, ст. 10 ГПК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сность судебного разбир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бирательство дел во всех судах открытое. Все лица, присутствующие в открытом судебном заседании, имеют право в письменной форме, а также с помощью средств аудио-, видеозаписи фиксировать ход судебного разбирательств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тосъемка, видеозапись, трансляции судебного заседания по радио, телевидению допускаются с разрешения суд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шение суда объявляются публичн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бирательство дела в зарытом судебном заседании допускается в случаях, предусмотренных закон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сность судебного разбирательства регламентируется ч. 1 ст. 123 Конституции РФ, ст. 9 Закона о судебной системе, ст. 10 ГПК Р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равноправия перед законом и су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 осуществляется на началах равенства перед законом и судом всех граждан независимо от пола, расы, национальности, языка, происхождения, имущественного и должностного положения, места жительства, отношения к религии, убеждений и др. обстоя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оложение субъектов определяется только процессуальным зако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ется равная судебная защита всех лиц (ст. 19 Конституции РФ, ст. 7 Закона о статусе судей, ст. 6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равноправия перед законом и суд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судие осуществляется на началах равенства перед законом и судом всех граждан независимо от пола, расы, национальности, языка, происхождения, имущественного и должностного положения, места жительства, отношения к религии, убеждений и др. обстоятельст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ое положение субъектов определяется только процессуальным закон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ивается равная судебная защита всех лиц (ст. 19 Конституции РФ, ст. 7 Закона о статусе судей, ст. 6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 Гражданское процессуальное право: понятие, предмет, метод и систе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 Гражданское процессуальное право – совокупность правовых норм, регулирующих общественные отношения, возникающие в процессе рассмотрения и разрешения судом общей юрисдикции гражданских дел, семейных, трудовых и иных споров, подведомственных данному су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 Предметом гражданско-процессуального права являются общественные отношения, возникающие в ходе гражданского судопроизводства (процесс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й процесс – это совокупность процессуальных действий и возникающих в ходе этих действий процессуальных правоотношений, связанных с осуществлением правосудия по гражданским де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ты гражданского процес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юридическая урегулирован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следовательность совершения и содержание всех действий участников      процесса закреплены в ГПК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ниверсальность процессуальной формы рассмотрения и разрешения де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трогое соблюдение процессуальной фо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ма 1. Гражданское процессуальное право: понятие, предмет, метод и систем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1. Гражданское процессуальное право – совокупность правовых норм, регулирующих общественные отношения, возникающие в процессе рассмотрения и разрешения судом общей юрисдикции гражданских дел, семейных, трудовых и иных споров, подведомственных данному суд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2. Предметом гражданско-процессуального права являются общественные отношения, возникающие в ходе гражданского судопроизводства (процесса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ий процесс – это совокупность процессуальных действий и возникающих в ходе этих действий процессуальных правоотношений, связанных с осуществлением правосудия по гражданским дела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рты гражданского процесс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юридическая урегулированность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оследовательность совершения и содержание всех действий участников      процесса закреплены в ГПК РФ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универсальность процессуальной формы рассмотрения и разрешения дел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строгое соблюдение процессуальной форм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состяза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 осуществляется на основе состязательности (п. 3 ст. 123 Конституции РФ, ст. 12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сторона должна доказать те обстоятельства, на которые она ссылается (ч. 1 ст. 56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 может предложить сторонам представить дополнительные доказательства (ч. 1 ст. 57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роны вправе ссылаться на различные юридические факты, лежащие в основе их требований и возражений (ст. 131, 137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состязатель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судие осуществляется на основе состязательности (п. 3 ст. 123 Конституции РФ, ст. 12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ждая сторона должна доказать те обстоятельства, на которые она ссылается (ч. 1 ст. 56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 может предложить сторонам представить дополнительные доказательства (ч. 1 ст. 57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ороны вправе ссылаться на различные юридические факты, лежащие в основе их требований и возражений (ст. 131, 137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равноправия стор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предоставляет, а суд обеспечивает сторонам одинаковый объем процессуальных прав, направленных на защиту охраняемых законом прав и интересов (п. 3 ст. 123 Конституции РФ, ст. 12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яду с равными процессуальными правами стороны несут и равные процессуальные обязанности (ч. 2 ст. 35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равноправия сторо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 предоставляет, а суд обеспечивает сторонам одинаковый объем процессуальных прав, направленных на защиту охраняемых законом прав и интересов (п. 3 ст. 123 Конституции РФ, ст. 12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ряду с равными процессуальными правами стороны несут и равные процессуальные обязанности (ч. 2 ст. 35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рассмотрение дела коллегиально или единолич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дела в суде первой инстанции коллегиальное или единоличное (ч. 1 ст. 7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дела в апелляционной инстанции единолично (ч.3 ст. 7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дел в судах кассационной и надзорной инстанции осуществляется только коллегиально (ч. 4 ст. 7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рассмотрение дела коллегиально или единолич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отрение дела в суде первой инстанции коллегиальное или единоличное (ч. 1 ст. 7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отрение дела в апелляционной инстанции единолично (ч.3 ст. 7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отрение дел в судах кассационной и надзорной инстанции осуществляется только коллегиально (ч. 4 ст. 7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рассмотрение дел на национальном язы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 судопроизводство ведётся на русском языке – государственном языке РФ или на государственном языке  республики, входящей в состав РФ и на территории которой находится суд (ст. 9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м не владеющим языком, на котором ведётся судопроизводство, должны быть предоставлены переводчики за счёт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блюдение принципа национального языка судопроизводства служит основанием для отмены судебного решения или определения (ч. 2 п. 3 ст. 364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рассмотрение дел на национальном язы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ое судопроизводство ведётся на русском языке – государственном языке РФ или на государственном языке  республики, входящей в состав РФ и на территории которой находится суд (ст. 9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ицам не владеющим языком, на котором ведётся судопроизводство, должны быть предоставлены переводчики за счёт государст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соблюдение принципа национального языка судопроизводства служит основанием для отмены судебного решения или определения (ч. 2 п. 3 ст. 364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диспози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и процесса имеют возможность распоряжаться своими материальными правами и средствами их защ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 вправе обращаться в суд, изменять предмет, основание иска, оказываться от иска, признавать иск, подавать жалобу, отзывать её, заключать мировое соглашение и т.д. (ст. 46 Конституции РФ, ст. 9 ГК РФ, ч. 1 ст. 1 СК РФ, ст. 9, 3, 4, 35, 39, 42, 173, 320, 326, 428, 430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диспозитив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стники процесса имеют возможность распоряжаться своими материальными правами и средствами их защи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ица вправе обращаться в суд, изменять предмет, основание иска, оказываться от иска, признавать иск, подавать жалобу, отзывать её, заключать мировое соглашение и т.д. (ст. 46 Конституции РФ, ст. 9 ГК РФ, ч. 1 ст. 1 СК РФ, ст. 9, 3, 4, 35, 39, 42, 173, 320, 326, 428, 430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непосред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и, разрешающие дело, обязаны лично воспринимать собранные доказатель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по делу основывается на исследованных в судебном заседании доказательст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средственность восприятия материала по делу – гарантия установления судебной истины (ч. 2 ст. 146, ст. 157, 195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непосредствен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ьи, разрешающие дело, обязаны лично воспринимать собранные доказательст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шение по делу основывается на исследованных в судебном заседании доказательства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посредственность восприятия материала по делу – гарантия установления судебной истины (ч. 2 ст. 146, ст. 157, 195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непреры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седание проводиться непрерывно за исключением времени отды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окончания рассмотрения начатого дела или отложения его разбирательства суд не вправе рассматривать другие гражданские, уголовные или административные д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ерывность – гарантия правильно исследования и оценки доказательств (ст. 157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непрерыв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седание проводиться непрерывно за исключением времени отдых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 окончания рассмотрения начатого дела или отложения его разбирательства суд не вправе рассматривать другие гражданские, уголовные или административные де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прерывность – гарантия правильно исследования и оценки доказательств (ст. 157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е с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е сроки установлены статьями 107-112  и рядом других статей ГПК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процессуальных сроков способствует оперативному и своевременному рассмотрению гражданского дела в су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ые сро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ые сроки установлены статьями 107-112  и рядом других статей ГПК Р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ановление процессуальных сроков способствует оперативному и своевременному рассмотрению гражданского дела в суд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оцессуальных сро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и, установленные законом (обязательны для суда и для лиц, участвующих в деле, и не могут быть изменен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и, устанавливаемые судом (устанавливаются судом только для лиц, участвующих в процессе, и в случае необходимости могут быть изменены самим су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ы процессуальных сроков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и, установленные законом (обязательны для суда и для лиц, участвующих в деле, и не могут быть изменены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и, устанавливаемые судом (устанавливаются судом только для лиц, участвующих в процессе, и в случае необходимости могут быть изменены самим суд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и для с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гут быть установлены только зако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и рассмотрения дел в суде первой инстанции подразделяются на общие и сокращё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срок – до истечения двух месяцев со дня поступления заявления в суд, а мировым судьёй – до истечения месяца со дня принятия заявления к производству (ст.154 ГПК 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и для су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гут быть установлены только закон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и рассмотрения дел в суде первой инстанции подразделяются на общие и сокращённы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ий срок – до истечения двух месяцев со дня поступления заявления в суд, а мировым судьёй – до истечения месяца со дня принятия заявления к производству (ст.154 ГПК 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 Метод гражданского процессуального права – совокупность средств, приемов и способов, с помощью которых право воздействует на гражданско-процессуальные отноше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Метод гражданско-процессуального права - императивно-диспозитивный, с преобладанием императивных но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4. Система гражданского процессуального права подразделяется на Общую и Особенную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бщей части относятся нормы ГПК РФ, определяющие гражданское судопроизводство и его задачи; принципы; подсудность и подведомственность; правое положение участников гражданского процесса; доказательства и доказывание; судебные расходы и судебные штрафы, процессуальные сро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собенной части относятся нормы ГПК РФ, регулирующие различные стадии гражданск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5. Цель гражданского судопроизводства – защита нарушенных или оспариваемых прав, свобод, законных интересов субъек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6. Гражданское процессуальное право является составной частью системы всего права российского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3. Метод гражданского процессуального права – совокупность средств, приемов и способов, с помощью которых право воздействует на гражданско-процессуальные отношения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Метод гражданско-процессуального права - императивно-диспозитивный, с преобладанием императивных нор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4. Система гражданского процессуального права подразделяется на Общую и Особенную ча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 Общей части относятся нормы ГПК РФ, определяющие гражданское судопроизводство и его задачи; принципы; подсудность и подведомственность; правое положение участников гражданского процесса; доказательства и доказывание; судебные расходы и судебные штрафы, процессуальные сро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 Особенной части относятся нормы ГПК РФ, регулирующие различные стадии гражданского процесс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5. Цель гражданского судопроизводства – защита нарушенных или оспариваемых прав, свобод, законных интересов субъект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6. Гражданское процессуальное право является составной частью системы всего права российского государст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ённый с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екоторых категорий дел установлен сокращённый срок их рассмотр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кращённый ср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некоторых категорий дел установлен сокращённый срок их рассмотре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х на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евые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ладные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ко-теорет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о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государ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минали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ава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мин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государства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зарубежных стр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олитическ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авовых уч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стем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юридических нау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раслевые нау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кладные нау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рико-теоретическ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ституцион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ория государств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пр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иминалист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дминистративно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рия государ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права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иминолог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рия государства 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а зарубежных стр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ое 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еб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дици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ое 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Юридическ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сихолог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головное 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рия политически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правовых уч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в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тист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головно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ое 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логическое 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удовое 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гражданского судо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е рассмотрение и разрешение 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временное рассмотрение и разрешение 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прав, законных интересов су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репление законности и правопоря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 правонару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уважения к закону и су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дачи гражданского судопроизвод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ильное рассмотрение и разрешение де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воевременное рассмотрение и разрешение де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щита прав, законных интересов субъект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крепление законности и правопоряд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упреждение правонаруш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ирование уважения к закону и суд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ы действия норм граждан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ран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у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елы действия норм гражданск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ого пр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ремен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странств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угу ли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е правило действия гражданск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х норм в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 судопроизводство ведётся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ии с  федеральными закон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ующими во время рассмотр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разрешения гражданского дела, совер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ённых процессуальных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ее правило действия граждански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ых норм во времен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ое судопроизводство ведётся 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ответствии с  федеральными законами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йствующими во время рассмотр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разрешения гражданского дела, соверш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пределённых процессуальных действ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гражданско-правов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  в простран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сей территории Российс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ции действуют нор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го процессуаль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дательств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йствие гражданско-правовы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  в пространств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всей территории Российск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ции действуют норм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ого процессуальн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одательства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гражданско-правов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 по кругу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гражданско-процессуаль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 распространяется на все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ов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висимо от их национа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гражд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йствие гражданско-правовы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 по кругу ли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йствие гражданско-процессуальны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 распространяется на все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стников гражданского процесс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зависимо от их национальност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граждан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7D65-18FF-413B-9529-1F7D49EC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71F8-3B04-4E23-BFDF-17C03283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C084-7C43-40AA-B0D7-8A34297CD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F28A-71C1-494F-B64F-04F7C8677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DBF0-DBA3-4BD2-B1FB-1F39DC5BB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A2F1-6FC7-495E-A600-A8D48A1F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28A1-65B8-4B52-899D-45A42169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7714-8A18-4131-9B75-8D57E931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20D4-50C4-41F2-86B8-6EF8FDA5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DC63-5BA6-40A6-A804-D9049384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276D-3E6D-45A9-8C88-EAC839DF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FBB6-CF0E-40D3-A288-33816A84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F10A-BCF5-456C-881E-5B5D3D58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6A3A-AC7B-4C3D-ABA7-6583E58E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2ABC-495B-4D05-BFA5-DB878974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828B-73B5-45DA-A3E9-374F1975B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BF9E-87C3-4238-AE11-1294B1577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66BB6-D215-4282-8E29-4C03C253B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7313E-53CF-4072-9A25-1D67FE1E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D05E3-2344-497E-9528-9C37D23D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83C4A-AF03-46F9-B41C-ABEC1801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C912C-BB28-400A-A1D2-F77DF426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0EF8-2086-4F40-A5F1-FEF985F5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FA379-7BB7-4D1A-BFA1-BCEF18A8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75C21-8844-441F-B902-C24861B5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97367-E306-4E3B-98D7-AB735785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7295A-92B6-45EC-ADC6-44CE83BC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6BF0F-40AE-44AF-8997-4C97FBD4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FFC2A-1872-4D36-B9A6-92C7BC379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901C5-57E1-47B6-8A4F-047C0906D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777A0-1E10-4853-8D0F-DC19A23C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82C4D-7091-4F4C-973F-046F4FDC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80FB7-A8C8-465E-97ED-F3A3587F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B809-9D1C-43D6-AB36-03F7EB4B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3C27A-9CA2-4645-BF1C-4F76A73E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B2835-D559-4E3D-8BD9-BBB5AEA8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055EB-C974-429A-8120-ECA3F7E2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15EFA-14CC-4DB7-9261-E90A686F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7F1C3-D4FF-4ECD-B772-A4F22579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3C970-18D7-4482-BD08-A464D843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890A2-A70C-41E2-B069-B43A4ACC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AF7AE-0526-4A79-9CE3-2F0278E1F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EA710-77FA-4F85-BB8C-039E4D8E5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ACDF-D083-4A71-A891-39D54DCD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91B2-E4D2-455D-9040-A04DFECB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81DA-D95E-497D-88B0-A94235D1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A627-867F-48B1-8E4F-176BDBAD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0213-A5FD-42D3-8947-874936E2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890E-A412-42CD-AA2B-858F2B66CD1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7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2777d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BF05-0A50-4880-85D7-294A0D41A9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3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4B7B-5AE4-427E-A93F-576566DFEB9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2777d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26FC-DF04-4045-B01B-70421108F8BD}" type="slidenum"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Гражданское процессуальное право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щая ча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17040" y="191736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539640" y="404640"/>
            <a:ext cx="8136000" cy="1130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WordArt 5"/>
          <p:cNvSpPr txBox="1"/>
          <p:nvPr/>
        </p:nvSpPr>
        <p:spPr>
          <a:xfrm>
            <a:off x="755640" y="549360"/>
            <a:ext cx="7561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ды гражданского судопроизводст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8" name="Rectangle 9"/>
          <p:cNvSpPr/>
          <p:nvPr/>
        </p:nvSpPr>
        <p:spPr>
          <a:xfrm>
            <a:off x="468360" y="2565360"/>
            <a:ext cx="215892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10"/>
          <p:cNvSpPr/>
          <p:nvPr/>
        </p:nvSpPr>
        <p:spPr>
          <a:xfrm>
            <a:off x="3492360" y="3357720"/>
            <a:ext cx="208764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11"/>
          <p:cNvSpPr/>
          <p:nvPr/>
        </p:nvSpPr>
        <p:spPr>
          <a:xfrm>
            <a:off x="6588000" y="2565360"/>
            <a:ext cx="206532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12"/>
          <p:cNvSpPr/>
          <p:nvPr/>
        </p:nvSpPr>
        <p:spPr>
          <a:xfrm>
            <a:off x="468360" y="4653000"/>
            <a:ext cx="3672000" cy="1368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13"/>
          <p:cNvSpPr/>
          <p:nvPr/>
        </p:nvSpPr>
        <p:spPr>
          <a:xfrm>
            <a:off x="5148360" y="4724280"/>
            <a:ext cx="302400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14"/>
          <p:cNvSpPr/>
          <p:nvPr/>
        </p:nvSpPr>
        <p:spPr>
          <a:xfrm>
            <a:off x="3492360" y="2492280"/>
            <a:ext cx="206712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WordArt 17"/>
          <p:cNvSpPr txBox="1"/>
          <p:nvPr/>
        </p:nvSpPr>
        <p:spPr>
          <a:xfrm>
            <a:off x="611280" y="2852640"/>
            <a:ext cx="1873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казное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5" name="WordArt 18"/>
          <p:cNvSpPr txBox="1"/>
          <p:nvPr/>
        </p:nvSpPr>
        <p:spPr>
          <a:xfrm>
            <a:off x="3708360" y="2852640"/>
            <a:ext cx="16765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ковое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6" name="WordArt 19"/>
          <p:cNvSpPr txBox="1"/>
          <p:nvPr/>
        </p:nvSpPr>
        <p:spPr>
          <a:xfrm>
            <a:off x="3708360" y="3716280"/>
            <a:ext cx="165744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очное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7" name="WordArt 20"/>
          <p:cNvSpPr txBox="1"/>
          <p:nvPr/>
        </p:nvSpPr>
        <p:spPr>
          <a:xfrm>
            <a:off x="6732720" y="2924280"/>
            <a:ext cx="163512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обое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8" name="WordArt 21"/>
          <p:cNvSpPr txBox="1"/>
          <p:nvPr/>
        </p:nvSpPr>
        <p:spPr>
          <a:xfrm>
            <a:off x="5292720" y="5084640"/>
            <a:ext cx="2664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полнительное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9" name="WordArt 22"/>
          <p:cNvSpPr txBox="1"/>
          <p:nvPr/>
        </p:nvSpPr>
        <p:spPr>
          <a:xfrm>
            <a:off x="611280" y="4941720"/>
            <a:ext cx="3384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 делам публично-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авовых отношений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0" name="Line 23"/>
          <p:cNvSpPr/>
          <p:nvPr/>
        </p:nvSpPr>
        <p:spPr>
          <a:xfrm>
            <a:off x="4572000" y="1557360"/>
            <a:ext cx="0" cy="43164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Line 24"/>
          <p:cNvSpPr/>
          <p:nvPr/>
        </p:nvSpPr>
        <p:spPr>
          <a:xfrm>
            <a:off x="1476360" y="1989000"/>
            <a:ext cx="619128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Line 25"/>
          <p:cNvSpPr/>
          <p:nvPr/>
        </p:nvSpPr>
        <p:spPr>
          <a:xfrm>
            <a:off x="1476360" y="1989000"/>
            <a:ext cx="0" cy="57636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26"/>
          <p:cNvSpPr/>
          <p:nvPr/>
        </p:nvSpPr>
        <p:spPr>
          <a:xfrm>
            <a:off x="4572000" y="1989000"/>
            <a:ext cx="0" cy="432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27"/>
          <p:cNvSpPr/>
          <p:nvPr/>
        </p:nvSpPr>
        <p:spPr>
          <a:xfrm>
            <a:off x="7667640" y="1989000"/>
            <a:ext cx="0" cy="57636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28"/>
          <p:cNvSpPr/>
          <p:nvPr/>
        </p:nvSpPr>
        <p:spPr>
          <a:xfrm>
            <a:off x="6227640" y="1989000"/>
            <a:ext cx="0" cy="2664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29"/>
          <p:cNvSpPr/>
          <p:nvPr/>
        </p:nvSpPr>
        <p:spPr>
          <a:xfrm>
            <a:off x="3059280" y="1989000"/>
            <a:ext cx="0" cy="2664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971640" y="333360"/>
            <a:ext cx="6913440" cy="1008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WordArt 5"/>
          <p:cNvSpPr txBox="1"/>
          <p:nvPr/>
        </p:nvSpPr>
        <p:spPr>
          <a:xfrm>
            <a:off x="1619280" y="620640"/>
            <a:ext cx="5616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адии гражданского судопроизводств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6300720" y="1557360"/>
            <a:ext cx="2354400" cy="504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озбуждение гражданск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дела в суд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6300720" y="2276640"/>
            <a:ext cx="2354400" cy="792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дготовка гражданск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дела к судебному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азбирательств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826920" y="2708280"/>
            <a:ext cx="4824720" cy="504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826920" y="3645000"/>
            <a:ext cx="4824720" cy="576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10"/>
          <p:cNvSpPr/>
          <p:nvPr/>
        </p:nvSpPr>
        <p:spPr>
          <a:xfrm>
            <a:off x="826920" y="4581360"/>
            <a:ext cx="4824720" cy="5050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11"/>
          <p:cNvSpPr/>
          <p:nvPr/>
        </p:nvSpPr>
        <p:spPr>
          <a:xfrm>
            <a:off x="826920" y="5516640"/>
            <a:ext cx="4824720" cy="504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12"/>
          <p:cNvSpPr/>
          <p:nvPr/>
        </p:nvSpPr>
        <p:spPr>
          <a:xfrm>
            <a:off x="826920" y="1773360"/>
            <a:ext cx="4824720" cy="576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WordArt 13"/>
          <p:cNvSpPr txBox="1"/>
          <p:nvPr/>
        </p:nvSpPr>
        <p:spPr>
          <a:xfrm>
            <a:off x="900000" y="1916280"/>
            <a:ext cx="4535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смотрение дел судами первой инстан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0" name="WordArt 14"/>
          <p:cNvSpPr txBox="1"/>
          <p:nvPr/>
        </p:nvSpPr>
        <p:spPr>
          <a:xfrm>
            <a:off x="900000" y="2781360"/>
            <a:ext cx="4608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смотрение дел судами второй инстан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1" name="WordArt 15"/>
          <p:cNvSpPr txBox="1"/>
          <p:nvPr/>
        </p:nvSpPr>
        <p:spPr>
          <a:xfrm>
            <a:off x="1258920" y="3860640"/>
            <a:ext cx="3960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есмотр дел в порядке надзор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2" name="WordArt 17"/>
          <p:cNvSpPr txBox="1"/>
          <p:nvPr/>
        </p:nvSpPr>
        <p:spPr>
          <a:xfrm>
            <a:off x="1116000" y="4653000"/>
            <a:ext cx="4305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есмотр дел по вновь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крывшимся обстоятельствам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3" name="WordArt 18"/>
          <p:cNvSpPr txBox="1"/>
          <p:nvPr/>
        </p:nvSpPr>
        <p:spPr>
          <a:xfrm>
            <a:off x="1187280" y="5661000"/>
            <a:ext cx="3816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полнительное производ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4" name="Rectangle 19"/>
          <p:cNvSpPr/>
          <p:nvPr/>
        </p:nvSpPr>
        <p:spPr>
          <a:xfrm>
            <a:off x="6300720" y="3284640"/>
            <a:ext cx="2354400" cy="6490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азбирательство дела п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уществ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20"/>
          <p:cNvSpPr/>
          <p:nvPr/>
        </p:nvSpPr>
        <p:spPr>
          <a:xfrm>
            <a:off x="6300720" y="4221000"/>
            <a:ext cx="235440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пелляционно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оизводств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Line 21"/>
          <p:cNvSpPr/>
          <p:nvPr/>
        </p:nvSpPr>
        <p:spPr>
          <a:xfrm flipH="1">
            <a:off x="468360" y="836640"/>
            <a:ext cx="50328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22"/>
          <p:cNvSpPr/>
          <p:nvPr/>
        </p:nvSpPr>
        <p:spPr>
          <a:xfrm>
            <a:off x="468360" y="836640"/>
            <a:ext cx="0" cy="489744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25"/>
          <p:cNvSpPr/>
          <p:nvPr/>
        </p:nvSpPr>
        <p:spPr>
          <a:xfrm>
            <a:off x="6300720" y="5084640"/>
            <a:ext cx="2354400" cy="6494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ассационно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оизводств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Line 31"/>
          <p:cNvSpPr/>
          <p:nvPr/>
        </p:nvSpPr>
        <p:spPr>
          <a:xfrm flipV="1">
            <a:off x="5651640" y="1988640"/>
            <a:ext cx="0" cy="71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Line 32"/>
          <p:cNvSpPr/>
          <p:nvPr/>
        </p:nvSpPr>
        <p:spPr>
          <a:xfrm flipV="1">
            <a:off x="5651640" y="1844640"/>
            <a:ext cx="649080" cy="21600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33"/>
          <p:cNvSpPr/>
          <p:nvPr/>
        </p:nvSpPr>
        <p:spPr>
          <a:xfrm>
            <a:off x="5651640" y="2060640"/>
            <a:ext cx="649080" cy="57636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34"/>
          <p:cNvSpPr/>
          <p:nvPr/>
        </p:nvSpPr>
        <p:spPr>
          <a:xfrm>
            <a:off x="5651640" y="2060640"/>
            <a:ext cx="649080" cy="165564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36"/>
          <p:cNvSpPr/>
          <p:nvPr/>
        </p:nvSpPr>
        <p:spPr>
          <a:xfrm>
            <a:off x="5651640" y="2924280"/>
            <a:ext cx="649080" cy="158436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37"/>
          <p:cNvSpPr/>
          <p:nvPr/>
        </p:nvSpPr>
        <p:spPr>
          <a:xfrm>
            <a:off x="5651640" y="2924280"/>
            <a:ext cx="649080" cy="252072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39"/>
          <p:cNvSpPr/>
          <p:nvPr/>
        </p:nvSpPr>
        <p:spPr>
          <a:xfrm>
            <a:off x="468360" y="5734080"/>
            <a:ext cx="35856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40"/>
          <p:cNvSpPr/>
          <p:nvPr/>
        </p:nvSpPr>
        <p:spPr>
          <a:xfrm>
            <a:off x="468360" y="4797360"/>
            <a:ext cx="35856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41"/>
          <p:cNvSpPr/>
          <p:nvPr/>
        </p:nvSpPr>
        <p:spPr>
          <a:xfrm>
            <a:off x="468360" y="3933720"/>
            <a:ext cx="35856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42"/>
          <p:cNvSpPr/>
          <p:nvPr/>
        </p:nvSpPr>
        <p:spPr>
          <a:xfrm>
            <a:off x="468360" y="2924280"/>
            <a:ext cx="43164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Line 43"/>
          <p:cNvSpPr/>
          <p:nvPr/>
        </p:nvSpPr>
        <p:spPr>
          <a:xfrm>
            <a:off x="468360" y="2133720"/>
            <a:ext cx="35856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755640" y="404640"/>
            <a:ext cx="7488360" cy="863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WordArt 6"/>
          <p:cNvSpPr txBox="1"/>
          <p:nvPr/>
        </p:nvSpPr>
        <p:spPr>
          <a:xfrm>
            <a:off x="1116000" y="620640"/>
            <a:ext cx="684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77d58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сточники гражданского процессуального прав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77d58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468360" y="1773360"/>
            <a:ext cx="1942920" cy="8650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ждународ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говоры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глаш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2987640" y="1773360"/>
            <a:ext cx="1584360" cy="792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7093080" y="1773360"/>
            <a:ext cx="1582560" cy="792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деб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к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10"/>
          <p:cNvSpPr/>
          <p:nvPr/>
        </p:nvSpPr>
        <p:spPr>
          <a:xfrm>
            <a:off x="5076720" y="1773360"/>
            <a:ext cx="1656000" cy="792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зако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11"/>
          <p:cNvSpPr/>
          <p:nvPr/>
        </p:nvSpPr>
        <p:spPr>
          <a:xfrm>
            <a:off x="2916360" y="2781360"/>
            <a:ext cx="1726920" cy="504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нституция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12"/>
          <p:cNvSpPr/>
          <p:nvPr/>
        </p:nvSpPr>
        <p:spPr>
          <a:xfrm>
            <a:off x="5076720" y="2781360"/>
            <a:ext cx="165600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каз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езиден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3"/>
          <p:cNvSpPr/>
          <p:nvPr/>
        </p:nvSpPr>
        <p:spPr>
          <a:xfrm>
            <a:off x="7093080" y="2781360"/>
            <a:ext cx="158256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станов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ленума В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14"/>
          <p:cNvSpPr/>
          <p:nvPr/>
        </p:nvSpPr>
        <p:spPr>
          <a:xfrm>
            <a:off x="468360" y="2781360"/>
            <a:ext cx="194292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судебн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истеме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15"/>
          <p:cNvSpPr/>
          <p:nvPr/>
        </p:nvSpPr>
        <p:spPr>
          <a:xfrm>
            <a:off x="5076720" y="3573360"/>
            <a:ext cx="165600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станов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авитель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16"/>
          <p:cNvSpPr/>
          <p:nvPr/>
        </p:nvSpPr>
        <p:spPr>
          <a:xfrm>
            <a:off x="2916360" y="3573360"/>
            <a:ext cx="1726920" cy="863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ажданск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цессуаль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17"/>
          <p:cNvSpPr/>
          <p:nvPr/>
        </p:nvSpPr>
        <p:spPr>
          <a:xfrm>
            <a:off x="468360" y="3573360"/>
            <a:ext cx="1942920" cy="863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О судебн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истеме РФ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18"/>
          <p:cNvSpPr/>
          <p:nvPr/>
        </p:nvSpPr>
        <p:spPr>
          <a:xfrm>
            <a:off x="468360" y="4653000"/>
            <a:ext cx="1942920" cy="863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голов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цессуаль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19"/>
          <p:cNvSpPr/>
          <p:nvPr/>
        </p:nvSpPr>
        <p:spPr>
          <a:xfrm>
            <a:off x="2916360" y="4653000"/>
            <a:ext cx="1726920" cy="720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ажданск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20"/>
          <p:cNvSpPr/>
          <p:nvPr/>
        </p:nvSpPr>
        <p:spPr>
          <a:xfrm>
            <a:off x="5076720" y="4508640"/>
            <a:ext cx="1656000" cy="647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логов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21"/>
          <p:cNvSpPr/>
          <p:nvPr/>
        </p:nvSpPr>
        <p:spPr>
          <a:xfrm>
            <a:off x="7164360" y="4508640"/>
            <a:ext cx="1511280" cy="647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рудов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22"/>
          <p:cNvSpPr/>
          <p:nvPr/>
        </p:nvSpPr>
        <p:spPr>
          <a:xfrm>
            <a:off x="7093080" y="3573360"/>
            <a:ext cx="158256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АП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23"/>
          <p:cNvSpPr/>
          <p:nvPr/>
        </p:nvSpPr>
        <p:spPr>
          <a:xfrm>
            <a:off x="468360" y="5805360"/>
            <a:ext cx="1942920" cy="719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О мировы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удьях в РФ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24"/>
          <p:cNvSpPr/>
          <p:nvPr/>
        </p:nvSpPr>
        <p:spPr>
          <a:xfrm>
            <a:off x="2916360" y="5734080"/>
            <a:ext cx="1511280" cy="7905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О судебны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ставах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25"/>
          <p:cNvSpPr/>
          <p:nvPr/>
        </p:nvSpPr>
        <p:spPr>
          <a:xfrm>
            <a:off x="4716360" y="5734080"/>
            <a:ext cx="2160720" cy="7905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Об исполнительн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изводстве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26"/>
          <p:cNvSpPr/>
          <p:nvPr/>
        </p:nvSpPr>
        <p:spPr>
          <a:xfrm>
            <a:off x="7164360" y="5734080"/>
            <a:ext cx="1511280" cy="7905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Жилищ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Line 27"/>
          <p:cNvSpPr/>
          <p:nvPr/>
        </p:nvSpPr>
        <p:spPr>
          <a:xfrm>
            <a:off x="4500720" y="1268280"/>
            <a:ext cx="0" cy="289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Line 28"/>
          <p:cNvSpPr/>
          <p:nvPr/>
        </p:nvSpPr>
        <p:spPr>
          <a:xfrm>
            <a:off x="4500720" y="1557360"/>
            <a:ext cx="33112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Line 29"/>
          <p:cNvSpPr/>
          <p:nvPr/>
        </p:nvSpPr>
        <p:spPr>
          <a:xfrm flipH="1">
            <a:off x="1403280" y="1557360"/>
            <a:ext cx="309744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Line 30"/>
          <p:cNvSpPr/>
          <p:nvPr/>
        </p:nvSpPr>
        <p:spPr>
          <a:xfrm>
            <a:off x="1403280" y="1557360"/>
            <a:ext cx="0" cy="2160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Line 31"/>
          <p:cNvSpPr/>
          <p:nvPr/>
        </p:nvSpPr>
        <p:spPr>
          <a:xfrm>
            <a:off x="3780000" y="1557360"/>
            <a:ext cx="0" cy="2160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867280" y="1557360"/>
            <a:ext cx="0" cy="2160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7812000" y="1557360"/>
            <a:ext cx="0" cy="2160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2626920" y="213372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6732720" y="2133720"/>
            <a:ext cx="14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Line 39"/>
          <p:cNvSpPr/>
          <p:nvPr/>
        </p:nvSpPr>
        <p:spPr>
          <a:xfrm>
            <a:off x="7812000" y="2565360"/>
            <a:ext cx="0" cy="2160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Line 40"/>
          <p:cNvSpPr/>
          <p:nvPr/>
        </p:nvSpPr>
        <p:spPr>
          <a:xfrm>
            <a:off x="6877080" y="2133720"/>
            <a:ext cx="0" cy="172692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42"/>
          <p:cNvSpPr/>
          <p:nvPr/>
        </p:nvSpPr>
        <p:spPr>
          <a:xfrm flipH="1">
            <a:off x="6732360" y="3068640"/>
            <a:ext cx="144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2627280" y="2133720"/>
            <a:ext cx="0" cy="3959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Line 46"/>
          <p:cNvSpPr/>
          <p:nvPr/>
        </p:nvSpPr>
        <p:spPr>
          <a:xfrm>
            <a:off x="2627280" y="6093000"/>
            <a:ext cx="28908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Line 47"/>
          <p:cNvSpPr/>
          <p:nvPr/>
        </p:nvSpPr>
        <p:spPr>
          <a:xfrm flipH="1">
            <a:off x="2411280" y="6093000"/>
            <a:ext cx="21600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Line 48"/>
          <p:cNvSpPr/>
          <p:nvPr/>
        </p:nvSpPr>
        <p:spPr>
          <a:xfrm flipH="1">
            <a:off x="2411280" y="5084640"/>
            <a:ext cx="21600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Line 49"/>
          <p:cNvSpPr/>
          <p:nvPr/>
        </p:nvSpPr>
        <p:spPr>
          <a:xfrm>
            <a:off x="2627280" y="3068640"/>
            <a:ext cx="28908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Line 50"/>
          <p:cNvSpPr/>
          <p:nvPr/>
        </p:nvSpPr>
        <p:spPr>
          <a:xfrm flipH="1">
            <a:off x="2411280" y="3068640"/>
            <a:ext cx="21600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Line 51"/>
          <p:cNvSpPr/>
          <p:nvPr/>
        </p:nvSpPr>
        <p:spPr>
          <a:xfrm flipH="1">
            <a:off x="2411280" y="4005360"/>
            <a:ext cx="21600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Line 52"/>
          <p:cNvSpPr/>
          <p:nvPr/>
        </p:nvSpPr>
        <p:spPr>
          <a:xfrm>
            <a:off x="2627280" y="4005360"/>
            <a:ext cx="28908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Line 53"/>
          <p:cNvSpPr/>
          <p:nvPr/>
        </p:nvSpPr>
        <p:spPr>
          <a:xfrm flipV="1">
            <a:off x="5867280" y="5157360"/>
            <a:ext cx="0" cy="35892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54"/>
          <p:cNvSpPr/>
          <p:nvPr/>
        </p:nvSpPr>
        <p:spPr>
          <a:xfrm>
            <a:off x="5867280" y="5516640"/>
            <a:ext cx="0" cy="21744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Line 55"/>
          <p:cNvSpPr/>
          <p:nvPr/>
        </p:nvSpPr>
        <p:spPr>
          <a:xfrm flipV="1">
            <a:off x="7956720" y="5157360"/>
            <a:ext cx="0" cy="35892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Line 56"/>
          <p:cNvSpPr/>
          <p:nvPr/>
        </p:nvSpPr>
        <p:spPr>
          <a:xfrm>
            <a:off x="7956720" y="5516640"/>
            <a:ext cx="0" cy="21744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Line 57"/>
          <p:cNvSpPr/>
          <p:nvPr/>
        </p:nvSpPr>
        <p:spPr>
          <a:xfrm flipH="1">
            <a:off x="6732360" y="3860640"/>
            <a:ext cx="144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Line 58"/>
          <p:cNvSpPr/>
          <p:nvPr/>
        </p:nvSpPr>
        <p:spPr>
          <a:xfrm>
            <a:off x="4572000" y="213372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Line 59"/>
          <p:cNvSpPr/>
          <p:nvPr/>
        </p:nvSpPr>
        <p:spPr>
          <a:xfrm>
            <a:off x="4788000" y="2133720"/>
            <a:ext cx="0" cy="338292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Line 60"/>
          <p:cNvSpPr/>
          <p:nvPr/>
        </p:nvSpPr>
        <p:spPr>
          <a:xfrm>
            <a:off x="4788000" y="5516640"/>
            <a:ext cx="31687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Line 63"/>
          <p:cNvSpPr/>
          <p:nvPr/>
        </p:nvSpPr>
        <p:spPr>
          <a:xfrm flipV="1">
            <a:off x="7885080" y="4076640"/>
            <a:ext cx="0" cy="2160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Line 65"/>
          <p:cNvSpPr/>
          <p:nvPr/>
        </p:nvSpPr>
        <p:spPr>
          <a:xfrm flipH="1">
            <a:off x="4787640" y="4292640"/>
            <a:ext cx="30970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66"/>
          <p:cNvSpPr/>
          <p:nvPr/>
        </p:nvSpPr>
        <p:spPr>
          <a:xfrm>
            <a:off x="2627280" y="5013360"/>
            <a:ext cx="28908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0" name="Rectangle 4"/>
          <p:cNvSpPr/>
          <p:nvPr/>
        </p:nvSpPr>
        <p:spPr>
          <a:xfrm>
            <a:off x="1835280" y="404640"/>
            <a:ext cx="511308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елы действия норм Гражданск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цессуального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395280" y="2205000"/>
            <a:ext cx="237636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 време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6"/>
          <p:cNvSpPr/>
          <p:nvPr/>
        </p:nvSpPr>
        <p:spPr>
          <a:xfrm>
            <a:off x="3203640" y="2205000"/>
            <a:ext cx="237636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ространст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5940360" y="2205000"/>
            <a:ext cx="273528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кругу ли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8"/>
          <p:cNvSpPr/>
          <p:nvPr/>
        </p:nvSpPr>
        <p:spPr>
          <a:xfrm>
            <a:off x="468360" y="3716280"/>
            <a:ext cx="2232000" cy="2376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ействие граждански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оцессуальных нор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пределяется временем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х примен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9"/>
          <p:cNvSpPr/>
          <p:nvPr/>
        </p:nvSpPr>
        <p:spPr>
          <a:xfrm>
            <a:off x="3203640" y="3716280"/>
            <a:ext cx="2376360" cy="2376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ействие граждански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оцессуальных нор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аспространяется на вс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ерриторию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10"/>
          <p:cNvSpPr/>
          <p:nvPr/>
        </p:nvSpPr>
        <p:spPr>
          <a:xfrm>
            <a:off x="5940360" y="3716280"/>
            <a:ext cx="2735280" cy="2376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ражданские процессуаль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ормы регулируют отнош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лиц, участвующих в данн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оцессуальном действ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Line 14"/>
          <p:cNvSpPr/>
          <p:nvPr/>
        </p:nvSpPr>
        <p:spPr>
          <a:xfrm>
            <a:off x="4284720" y="1341360"/>
            <a:ext cx="0" cy="43200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Line 15"/>
          <p:cNvSpPr/>
          <p:nvPr/>
        </p:nvSpPr>
        <p:spPr>
          <a:xfrm>
            <a:off x="1476360" y="1773360"/>
            <a:ext cx="5904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Line 16"/>
          <p:cNvSpPr/>
          <p:nvPr/>
        </p:nvSpPr>
        <p:spPr>
          <a:xfrm>
            <a:off x="4284720" y="1773360"/>
            <a:ext cx="0" cy="43164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Line 17"/>
          <p:cNvSpPr/>
          <p:nvPr/>
        </p:nvSpPr>
        <p:spPr>
          <a:xfrm>
            <a:off x="7308720" y="177336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Line 18"/>
          <p:cNvSpPr/>
          <p:nvPr/>
        </p:nvSpPr>
        <p:spPr>
          <a:xfrm>
            <a:off x="7380360" y="1773360"/>
            <a:ext cx="0" cy="43164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Line 19"/>
          <p:cNvSpPr/>
          <p:nvPr/>
        </p:nvSpPr>
        <p:spPr>
          <a:xfrm>
            <a:off x="1476360" y="1773360"/>
            <a:ext cx="0" cy="43164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Line 20"/>
          <p:cNvSpPr/>
          <p:nvPr/>
        </p:nvSpPr>
        <p:spPr>
          <a:xfrm>
            <a:off x="1476360" y="3141720"/>
            <a:ext cx="0" cy="57456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Line 21"/>
          <p:cNvSpPr/>
          <p:nvPr/>
        </p:nvSpPr>
        <p:spPr>
          <a:xfrm>
            <a:off x="4284720" y="3141720"/>
            <a:ext cx="0" cy="57456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Line 22"/>
          <p:cNvSpPr/>
          <p:nvPr/>
        </p:nvSpPr>
        <p:spPr>
          <a:xfrm>
            <a:off x="7380360" y="3141720"/>
            <a:ext cx="0" cy="57456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инципы</a:t>
            </a:r>
            <a:br>
              <a:rPr sz="44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гражданского процессуального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ава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136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Гражданские процессуальные принципы представляют собой нормативно установленные основополагающие начала, определяющие построение процесса, его природу и методы по осуществлению правосудия по гражданским делам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468360" y="404640"/>
            <a:ext cx="820728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лассификац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инципов гражданского процессуального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2195640" y="1700280"/>
            <a:ext cx="518472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нормативному источник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отором закреплен принци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6"/>
          <p:cNvSpPr/>
          <p:nvPr/>
        </p:nvSpPr>
        <p:spPr>
          <a:xfrm>
            <a:off x="468360" y="3141720"/>
            <a:ext cx="3816360" cy="5745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ституционные принцип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5076720" y="3141720"/>
            <a:ext cx="3598920" cy="5745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раслевые принцип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9"/>
          <p:cNvSpPr/>
          <p:nvPr/>
        </p:nvSpPr>
        <p:spPr>
          <a:xfrm>
            <a:off x="4932360" y="4221000"/>
            <a:ext cx="3887640" cy="2303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33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ссмотрение дела коллегиаль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ли единоличн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ссмотрение дел на национальн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язык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нцип диспозитивн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нцип непосредственн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нцип непрерыв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10"/>
          <p:cNvSpPr/>
          <p:nvPr/>
        </p:nvSpPr>
        <p:spPr>
          <a:xfrm>
            <a:off x="250920" y="4221000"/>
            <a:ext cx="4176720" cy="2303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ществление правосудия п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жданским делам только суд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независимость судей и подчин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х только закон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гласность судебного разбирательств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равноправие перед законом и суд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состязательност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равноправие сторо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Line 11"/>
          <p:cNvSpPr/>
          <p:nvPr/>
        </p:nvSpPr>
        <p:spPr>
          <a:xfrm>
            <a:off x="4643280" y="1341360"/>
            <a:ext cx="0" cy="35892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Line 13"/>
          <p:cNvSpPr/>
          <p:nvPr/>
        </p:nvSpPr>
        <p:spPr>
          <a:xfrm>
            <a:off x="4643280" y="2637000"/>
            <a:ext cx="2016360" cy="50472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Line 14"/>
          <p:cNvSpPr/>
          <p:nvPr/>
        </p:nvSpPr>
        <p:spPr>
          <a:xfrm flipH="1">
            <a:off x="2411280" y="2637000"/>
            <a:ext cx="2232000" cy="50472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Line 15"/>
          <p:cNvSpPr/>
          <p:nvPr/>
        </p:nvSpPr>
        <p:spPr>
          <a:xfrm>
            <a:off x="2268360" y="3716280"/>
            <a:ext cx="0" cy="50472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Line 16"/>
          <p:cNvSpPr/>
          <p:nvPr/>
        </p:nvSpPr>
        <p:spPr>
          <a:xfrm>
            <a:off x="6877080" y="3716280"/>
            <a:ext cx="0" cy="50472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Принцип осуществления правосудия только судом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Судебная власть в Российской Федерации принадлежит только судам в лице судей. Судебная власть действует независимо от законодательной и исполнительной властей (ст. 118 Конституции РФ, ст. 1 Закона о статусе судей, ст. 5 ГПК РФ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Принцип независимости судей и подчинение их только закону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удьи независимы и подчиняются только Конституции РФ и федеральному закону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икто не вправе вмешиваться в судебную деятельность по решению конкретных дел, давать указание по решению конкретного судебного дела, пытаться оказать на судью давление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Вмешательство в деятельность суда преследуется по закону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езависимость судей установлена ст. 120 Конституции РФ, ст. 9, 10 Закона о статуе судей, ст. 8 ГПК РФ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Гласность судебного разбирательства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Разбирательство дел во всех судах открытое. Все лица, присутствующие в открытом судебном заседании, имеют право в письменной форме, а также с помощью средств аудио-, видеозаписи фиксировать ход судебного разбирательства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Фотосъемка, видеозапись, трансляции судебного заседания по радио, телевидению допускаются с разрешения суда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Решение суда объявляются публично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Разбирательство дела в зарытом судебном заседании допускается в случаях, предусмотренных законом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Гласность судебного разбирательства регламентируется ч. 1 ст. 123 Конституции РФ, ст. 9 Закона о судебной системе, ст. 10 ГПК РФ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Принцип равноправия перед законом и судом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авосудие осуществляется на началах равенства перед законом и судом всех граждан независимо от пола, расы, национальности, языка, происхождения, имущественного и должностного положения, места жительства, отношения к религии, убеждений и др. обстоятельств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оцессуальное положение субъектов определяется только процессуальным законом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Обеспечивается равная судебная защита всех лиц (ст. 19 Конституции РФ, ст. 7 Закона о статусе судей, ст. 6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ма 1. Гражданское процессуальное право: понятие, предмет, метод и система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1.1. Гражданское процессуальное право – совокупность правовых норм, регулирующих общественные отношения, возникающие в процессе рассмотрения и разрешения судом общей юрисдикции гражданских дел, семейных, трудовых и иных споров, подведомственных данному суду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1.2. Предметом гражданско-процессуального права являются общественные отношения, возникающие в ходе гражданского судопроизводства (процесса)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Гражданский процесс – это совокупность процессуальных действий и возникающих в ходе этих действий процессуальных правоотношений, связанных с осуществлением правосудия по гражданским делам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Черты гражданского процесса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- юридическая урегулированность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- последовательность совершения и содержание всех действий участников      процесса закреплены в ГПК РФ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- универсальность процессуальной формы рассмотрения и разрешения дел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- строгое соблюдение процессуальной формы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Принцип состязательности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авосудие осуществляется на основе состязательности (п. 3 ст. 123 Конституции РФ, ст. 12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Каждая сторона должна доказать те обстоятельства, на которые она ссылается (ч. 1 ст. 56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уд может предложить сторонам представить дополнительные доказательства (ч. 1 ст. 57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тороны вправе ссылаться на различные юридические факты, лежащие в основе их требований и возражений (ст. 131, 137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Принцип равноправия сторон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Закон предоставляет, а суд обеспечивает сторонам одинаковый объем процессуальных прав, направленных на защиту охраняемых законом прав и интересов (п. 3 ст. 123 Конституции РФ, ст. 12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аряду с равными процессуальными правами стороны несут и равные процессуальные обязанности (ч. 2 ст. 35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Принцип 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рассмотрение дела коллегиально или единолично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Рассмотрение дела в суде первой инстанции коллегиальное или единоличное (ч. 1 ст. 7 ГПК РФ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Рассмотрение дела в апелляционной инстанции единолично (ч.3 ст. 7 ГПК РФ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Рассмотрение дел в судах кассационной и надзорной инстанции осуществляется только коллегиально (ч. 4 ст. 7 ГПК РФ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Принцип 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рассмотрение дел на национальном языке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Гражданское судопроизводство ведётся на русском языке – государственном языке РФ или на государственном языке  республики, входящей в состав РФ и на территории которой находится суд (ст. 9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Лицам не владеющим языком, на котором ведётся судопроизводство, должны быть предоставлены переводчики за счёт государства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есоблюдение принципа национального языка судопроизводства служит основанием для отмены судебного решения или определения (ч. 2 п. 3 ст. 364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Принцип диспозитивности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Участники процесса имеют возможность распоряжаться своими материальными правами и средствами их защиты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Лица вправе обращаться в суд, изменять предмет, основание иска, оказываться от иска, признавать иск, подавать жалобу, отзывать её, заключать мировое соглашение и т.д. (ст. 46 Конституции РФ, ст. 9 ГК РФ, ч. 1 ст. 1 СК РФ, ст. 9, 3, 4, 35, 39, 42, 173, 320, 326, 428, 430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Принцип непосредственности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Судьи, разрешающие дело, обязаны лично воспринимать собранные доказательств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Решение по делу основывается на исследованных в судебном заседании доказательствах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Непосредственность восприятия материала по делу – гарантия установления судебной истины (ч. 2 ст. 146, ст. 157, 195 ГПК РФ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Принцип непрерывности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Заседание проводиться непрерывно за исключением времени отдых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До окончания рассмотрения начатого дела или отложения его разбирательства суд не вправе рассматривать другие гражданские, уголовные или административные дел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Непрерывность – гарантия правильно исследования и оценки доказательств (ст. 157 ГПК РФ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оцессуальные сроки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Процессуальные сроки установлены статьями 107-112  и рядом других статей ГПК РФ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Установление процессуальных сроков способствует оперативному и своевременному рассмотрению гражданского дела в суде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Виды процессуальных сроков: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роки, установленные законом (обязательны для суда и для лиц, участвующих в деле, и не могут быть изменены)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роки, устанавливаемые судом (устанавливаются судом только для лиц, участвующих в процессе, и в случае необходимости могут быть изменены самим судом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Сроки для суда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Могут быть установлены только законом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роки рассмотрения дел в суде первой инстанции подразделяются на 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общие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и 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сокращённые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Общий срок – до истечения двух месяцев со дня поступления заявления в суд, а мировым судьёй – до истечения месяца со дня принятия заявления к производству (ст.154 ГПК 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668e8"/>
                </a:solidFill>
                <a:latin typeface="Times New Roman"/>
              </a:rPr>
              <a:t>1.3. Метод гражданского процессуального права – совокупность средств, приемов и способов, с помощью которых право воздействует на гражданско-процессуальные отношения.</a:t>
            </a:r>
            <a:br>
              <a:rPr sz="1600"/>
            </a:br>
            <a:r>
              <a:rPr b="1" lang="ru-RU" sz="1600" spc="-1" strike="noStrike">
                <a:solidFill>
                  <a:srgbClr val="8668e8"/>
                </a:solidFill>
                <a:latin typeface="Times New Roman"/>
              </a:rPr>
              <a:t>       Метод гражданско-процессуального права - императивно-диспозитивный, с преобладанием императивных норм.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1.4. Система гражданского процессуального права подразделяется на </a:t>
            </a:r>
            <a:r>
              <a:rPr b="1" lang="ru-RU" sz="1600" spc="-1" strike="noStrike">
                <a:solidFill>
                  <a:srgbClr val="8668e8"/>
                </a:solidFill>
                <a:latin typeface="Times New Roman"/>
              </a:rPr>
              <a:t>Общую</a:t>
            </a: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 и </a:t>
            </a:r>
            <a:r>
              <a:rPr b="1" lang="ru-RU" sz="1600" spc="-1" strike="noStrike">
                <a:solidFill>
                  <a:srgbClr val="8668e8"/>
                </a:solidFill>
                <a:latin typeface="Times New Roman"/>
              </a:rPr>
              <a:t>Особенную </a:t>
            </a: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части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К </a:t>
            </a:r>
            <a:r>
              <a:rPr b="1" lang="ru-RU" sz="1600" spc="-1" strike="noStrike">
                <a:solidFill>
                  <a:srgbClr val="8668e8"/>
                </a:solidFill>
                <a:latin typeface="Times New Roman"/>
              </a:rPr>
              <a:t>Общей</a:t>
            </a: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 части относятся нормы ГПК РФ, определяющие гражданское судопроизводство и его задачи; принципы; подсудность и подведомственность; правое положение участников гражданского процесса; доказательства и доказывание; судебные расходы и судебные штрафы, процессуальные сроки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К </a:t>
            </a:r>
            <a:r>
              <a:rPr b="1" lang="ru-RU" sz="1600" spc="-1" strike="noStrike">
                <a:solidFill>
                  <a:srgbClr val="8668e8"/>
                </a:solidFill>
                <a:latin typeface="Times New Roman"/>
              </a:rPr>
              <a:t>Особенной</a:t>
            </a: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 части относятся нормы ГПК РФ, регулирующие различные стадии гражданского процесса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1.5. </a:t>
            </a:r>
            <a:r>
              <a:rPr b="1" lang="ru-RU" sz="1600" spc="-1" strike="noStrike">
                <a:solidFill>
                  <a:srgbClr val="8668e8"/>
                </a:solidFill>
                <a:latin typeface="Times New Roman"/>
              </a:rPr>
              <a:t>Цель гражданского судопроизводства – </a:t>
            </a: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защита нарушенных или оспариваемых прав, свобод, законных интересов субъектов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1.6. Гражданское процессуальное право является составной частью системы всего права российского государства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7560" y="429840"/>
            <a:ext cx="795816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Сокращённый срок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Для некоторых категорий дел установлен сокращённый срок их рассмотрения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4"/>
          <p:cNvSpPr/>
          <p:nvPr/>
        </p:nvSpPr>
        <p:spPr>
          <a:xfrm>
            <a:off x="3635280" y="260280"/>
            <a:ext cx="2210040" cy="6858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ff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истем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ю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идических нау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3635280" y="1341360"/>
            <a:ext cx="2232000" cy="647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cbd5d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Отраслевые нау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6516720" y="1341360"/>
            <a:ext cx="1942920" cy="647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cbd5d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Прикладные нау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8"/>
          <p:cNvSpPr/>
          <p:nvPr/>
        </p:nvSpPr>
        <p:spPr>
          <a:xfrm>
            <a:off x="468360" y="1341360"/>
            <a:ext cx="2519280" cy="649440"/>
          </a:xfrm>
          <a:prstGeom prst="flowChartProcess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cbd5d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Историко-теоретическ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нау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10"/>
          <p:cNvSpPr/>
          <p:nvPr/>
        </p:nvSpPr>
        <p:spPr>
          <a:xfrm>
            <a:off x="3635280" y="2205000"/>
            <a:ext cx="223200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ституцион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11"/>
          <p:cNvSpPr/>
          <p:nvPr/>
        </p:nvSpPr>
        <p:spPr>
          <a:xfrm>
            <a:off x="468360" y="2205000"/>
            <a:ext cx="251928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ория государ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пр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6516720" y="2205000"/>
            <a:ext cx="194292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иминалис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13"/>
          <p:cNvSpPr/>
          <p:nvPr/>
        </p:nvSpPr>
        <p:spPr>
          <a:xfrm>
            <a:off x="3635280" y="2997360"/>
            <a:ext cx="2232000" cy="576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дминистратив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14"/>
          <p:cNvSpPr/>
          <p:nvPr/>
        </p:nvSpPr>
        <p:spPr>
          <a:xfrm>
            <a:off x="468360" y="2997360"/>
            <a:ext cx="2519280" cy="576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ория государ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права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15"/>
          <p:cNvSpPr/>
          <p:nvPr/>
        </p:nvSpPr>
        <p:spPr>
          <a:xfrm>
            <a:off x="6516720" y="2997360"/>
            <a:ext cx="1942920" cy="576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имин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16"/>
          <p:cNvSpPr/>
          <p:nvPr/>
        </p:nvSpPr>
        <p:spPr>
          <a:xfrm>
            <a:off x="468360" y="3789360"/>
            <a:ext cx="251928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ория государства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а зарубежных стр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17"/>
          <p:cNvSpPr/>
          <p:nvPr/>
        </p:nvSpPr>
        <p:spPr>
          <a:xfrm>
            <a:off x="3635280" y="4581360"/>
            <a:ext cx="223200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жданск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цессуальное 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18"/>
          <p:cNvSpPr/>
          <p:nvPr/>
        </p:nvSpPr>
        <p:spPr>
          <a:xfrm>
            <a:off x="6516720" y="3789360"/>
            <a:ext cx="194292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деб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диц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19"/>
          <p:cNvSpPr/>
          <p:nvPr/>
        </p:nvSpPr>
        <p:spPr>
          <a:xfrm>
            <a:off x="3635280" y="3789360"/>
            <a:ext cx="223200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жданское 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20"/>
          <p:cNvSpPr/>
          <p:nvPr/>
        </p:nvSpPr>
        <p:spPr>
          <a:xfrm>
            <a:off x="6516720" y="4581360"/>
            <a:ext cx="194292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Юридическ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сих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21"/>
          <p:cNvSpPr/>
          <p:nvPr/>
        </p:nvSpPr>
        <p:spPr>
          <a:xfrm>
            <a:off x="3635280" y="5373720"/>
            <a:ext cx="223200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головное 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22"/>
          <p:cNvSpPr/>
          <p:nvPr/>
        </p:nvSpPr>
        <p:spPr>
          <a:xfrm>
            <a:off x="468360" y="4581360"/>
            <a:ext cx="244800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ория политическ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правовых уч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23"/>
          <p:cNvSpPr/>
          <p:nvPr/>
        </p:nvSpPr>
        <p:spPr>
          <a:xfrm>
            <a:off x="4716360" y="981000"/>
            <a:ext cx="0" cy="360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24"/>
          <p:cNvSpPr/>
          <p:nvPr/>
        </p:nvSpPr>
        <p:spPr>
          <a:xfrm>
            <a:off x="1619280" y="1125360"/>
            <a:ext cx="5905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25"/>
          <p:cNvSpPr/>
          <p:nvPr/>
        </p:nvSpPr>
        <p:spPr>
          <a:xfrm>
            <a:off x="1619280" y="1125360"/>
            <a:ext cx="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26"/>
          <p:cNvSpPr/>
          <p:nvPr/>
        </p:nvSpPr>
        <p:spPr>
          <a:xfrm>
            <a:off x="7524720" y="1125360"/>
            <a:ext cx="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27"/>
          <p:cNvSpPr/>
          <p:nvPr/>
        </p:nvSpPr>
        <p:spPr>
          <a:xfrm>
            <a:off x="6516720" y="5373720"/>
            <a:ext cx="194292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атис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29"/>
          <p:cNvSpPr/>
          <p:nvPr/>
        </p:nvSpPr>
        <p:spPr>
          <a:xfrm flipH="1">
            <a:off x="3419280" y="170028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30"/>
          <p:cNvSpPr/>
          <p:nvPr/>
        </p:nvSpPr>
        <p:spPr>
          <a:xfrm>
            <a:off x="3419640" y="1700280"/>
            <a:ext cx="0" cy="40338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31"/>
          <p:cNvSpPr/>
          <p:nvPr/>
        </p:nvSpPr>
        <p:spPr>
          <a:xfrm>
            <a:off x="3419640" y="573408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32"/>
          <p:cNvSpPr/>
          <p:nvPr/>
        </p:nvSpPr>
        <p:spPr>
          <a:xfrm>
            <a:off x="3419640" y="486900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33"/>
          <p:cNvSpPr/>
          <p:nvPr/>
        </p:nvSpPr>
        <p:spPr>
          <a:xfrm>
            <a:off x="3419640" y="407664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34"/>
          <p:cNvSpPr/>
          <p:nvPr/>
        </p:nvSpPr>
        <p:spPr>
          <a:xfrm>
            <a:off x="3419640" y="328464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35"/>
          <p:cNvSpPr/>
          <p:nvPr/>
        </p:nvSpPr>
        <p:spPr>
          <a:xfrm>
            <a:off x="3419640" y="242100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36"/>
          <p:cNvSpPr/>
          <p:nvPr/>
        </p:nvSpPr>
        <p:spPr>
          <a:xfrm flipH="1">
            <a:off x="250920" y="1628640"/>
            <a:ext cx="21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37"/>
          <p:cNvSpPr/>
          <p:nvPr/>
        </p:nvSpPr>
        <p:spPr>
          <a:xfrm>
            <a:off x="250920" y="1628640"/>
            <a:ext cx="0" cy="3313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38"/>
          <p:cNvSpPr/>
          <p:nvPr/>
        </p:nvSpPr>
        <p:spPr>
          <a:xfrm flipH="1">
            <a:off x="250560" y="4941720"/>
            <a:ext cx="73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39"/>
          <p:cNvSpPr/>
          <p:nvPr/>
        </p:nvSpPr>
        <p:spPr>
          <a:xfrm>
            <a:off x="250920" y="4941720"/>
            <a:ext cx="21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40"/>
          <p:cNvSpPr/>
          <p:nvPr/>
        </p:nvSpPr>
        <p:spPr>
          <a:xfrm>
            <a:off x="250920" y="4076640"/>
            <a:ext cx="21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41"/>
          <p:cNvSpPr/>
          <p:nvPr/>
        </p:nvSpPr>
        <p:spPr>
          <a:xfrm>
            <a:off x="250920" y="3284640"/>
            <a:ext cx="21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43"/>
          <p:cNvSpPr/>
          <p:nvPr/>
        </p:nvSpPr>
        <p:spPr>
          <a:xfrm>
            <a:off x="250920" y="2421000"/>
            <a:ext cx="21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44"/>
          <p:cNvSpPr/>
          <p:nvPr/>
        </p:nvSpPr>
        <p:spPr>
          <a:xfrm>
            <a:off x="8459640" y="170028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45"/>
          <p:cNvSpPr/>
          <p:nvPr/>
        </p:nvSpPr>
        <p:spPr>
          <a:xfrm>
            <a:off x="8675640" y="1700280"/>
            <a:ext cx="0" cy="3960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46"/>
          <p:cNvSpPr/>
          <p:nvPr/>
        </p:nvSpPr>
        <p:spPr>
          <a:xfrm flipH="1">
            <a:off x="8459640" y="566100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47"/>
          <p:cNvSpPr/>
          <p:nvPr/>
        </p:nvSpPr>
        <p:spPr>
          <a:xfrm>
            <a:off x="8459640" y="486900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Line 48"/>
          <p:cNvSpPr/>
          <p:nvPr/>
        </p:nvSpPr>
        <p:spPr>
          <a:xfrm>
            <a:off x="8459640" y="407664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Line 49"/>
          <p:cNvSpPr/>
          <p:nvPr/>
        </p:nvSpPr>
        <p:spPr>
          <a:xfrm>
            <a:off x="8459640" y="328464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Line 50"/>
          <p:cNvSpPr/>
          <p:nvPr/>
        </p:nvSpPr>
        <p:spPr>
          <a:xfrm>
            <a:off x="8459640" y="249228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51"/>
          <p:cNvSpPr/>
          <p:nvPr/>
        </p:nvSpPr>
        <p:spPr>
          <a:xfrm>
            <a:off x="468360" y="5373720"/>
            <a:ext cx="244800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голов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цессуальное 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52"/>
          <p:cNvSpPr/>
          <p:nvPr/>
        </p:nvSpPr>
        <p:spPr>
          <a:xfrm>
            <a:off x="3635280" y="6165720"/>
            <a:ext cx="223200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ологическое 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53"/>
          <p:cNvSpPr/>
          <p:nvPr/>
        </p:nvSpPr>
        <p:spPr>
          <a:xfrm>
            <a:off x="468360" y="6165720"/>
            <a:ext cx="244800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рудовое 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Line 54"/>
          <p:cNvSpPr/>
          <p:nvPr/>
        </p:nvSpPr>
        <p:spPr>
          <a:xfrm>
            <a:off x="3419640" y="5734080"/>
            <a:ext cx="0" cy="719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Line 55"/>
          <p:cNvSpPr/>
          <p:nvPr/>
        </p:nvSpPr>
        <p:spPr>
          <a:xfrm flipH="1">
            <a:off x="2916000" y="6453360"/>
            <a:ext cx="718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Rectangle 20"/>
          <p:cNvSpPr/>
          <p:nvPr/>
        </p:nvSpPr>
        <p:spPr>
          <a:xfrm>
            <a:off x="1403280" y="333360"/>
            <a:ext cx="6769080" cy="12747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Times New Roman"/>
              </a:rPr>
              <a:t>Задачи гражданского судопроизвод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21"/>
          <p:cNvSpPr/>
          <p:nvPr/>
        </p:nvSpPr>
        <p:spPr>
          <a:xfrm>
            <a:off x="971640" y="1916280"/>
            <a:ext cx="7777080" cy="64908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авильное рассмотрение и разрешение де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22"/>
          <p:cNvSpPr/>
          <p:nvPr/>
        </p:nvSpPr>
        <p:spPr>
          <a:xfrm>
            <a:off x="971640" y="2781360"/>
            <a:ext cx="7777080" cy="647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оевременное рассмотрение и разрешение де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23"/>
          <p:cNvSpPr/>
          <p:nvPr/>
        </p:nvSpPr>
        <p:spPr>
          <a:xfrm>
            <a:off x="971640" y="3645000"/>
            <a:ext cx="7777080" cy="647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щита прав, законных интересов субъек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24"/>
          <p:cNvSpPr/>
          <p:nvPr/>
        </p:nvSpPr>
        <p:spPr>
          <a:xfrm>
            <a:off x="971640" y="5300640"/>
            <a:ext cx="777708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крепление законности и правопоряд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25"/>
          <p:cNvSpPr/>
          <p:nvPr/>
        </p:nvSpPr>
        <p:spPr>
          <a:xfrm>
            <a:off x="971640" y="4508640"/>
            <a:ext cx="7777080" cy="576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упреждение правонаруш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26"/>
          <p:cNvSpPr/>
          <p:nvPr/>
        </p:nvSpPr>
        <p:spPr>
          <a:xfrm>
            <a:off x="971640" y="6093000"/>
            <a:ext cx="7777080" cy="576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ормирование уважения к закону и су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27"/>
          <p:cNvSpPr/>
          <p:nvPr/>
        </p:nvSpPr>
        <p:spPr>
          <a:xfrm>
            <a:off x="468360" y="836640"/>
            <a:ext cx="0" cy="547200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Line 28"/>
          <p:cNvSpPr/>
          <p:nvPr/>
        </p:nvSpPr>
        <p:spPr>
          <a:xfrm>
            <a:off x="468360" y="836640"/>
            <a:ext cx="93492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29"/>
          <p:cNvSpPr/>
          <p:nvPr/>
        </p:nvSpPr>
        <p:spPr>
          <a:xfrm>
            <a:off x="468360" y="2276640"/>
            <a:ext cx="50328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Line 30"/>
          <p:cNvSpPr/>
          <p:nvPr/>
        </p:nvSpPr>
        <p:spPr>
          <a:xfrm>
            <a:off x="468360" y="3068640"/>
            <a:ext cx="50328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31"/>
          <p:cNvSpPr/>
          <p:nvPr/>
        </p:nvSpPr>
        <p:spPr>
          <a:xfrm>
            <a:off x="468360" y="3933720"/>
            <a:ext cx="50328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Line 32"/>
          <p:cNvSpPr/>
          <p:nvPr/>
        </p:nvSpPr>
        <p:spPr>
          <a:xfrm>
            <a:off x="468360" y="4797360"/>
            <a:ext cx="50328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Line 33"/>
          <p:cNvSpPr/>
          <p:nvPr/>
        </p:nvSpPr>
        <p:spPr>
          <a:xfrm>
            <a:off x="468360" y="5589720"/>
            <a:ext cx="50328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34"/>
          <p:cNvSpPr/>
          <p:nvPr/>
        </p:nvSpPr>
        <p:spPr>
          <a:xfrm>
            <a:off x="468360" y="6308640"/>
            <a:ext cx="50328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900000" y="765000"/>
            <a:ext cx="7559640" cy="120204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еделы действия норм гражданск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цессуального пра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468360" y="3284640"/>
            <a:ext cx="2570040" cy="1296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рем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3564000" y="3284640"/>
            <a:ext cx="2232000" cy="1296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странств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9"/>
          <p:cNvSpPr/>
          <p:nvPr/>
        </p:nvSpPr>
        <p:spPr>
          <a:xfrm>
            <a:off x="6300720" y="3284640"/>
            <a:ext cx="2374920" cy="1296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угу ли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12"/>
          <p:cNvSpPr/>
          <p:nvPr/>
        </p:nvSpPr>
        <p:spPr>
          <a:xfrm>
            <a:off x="4500720" y="2492280"/>
            <a:ext cx="30240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13"/>
          <p:cNvSpPr/>
          <p:nvPr/>
        </p:nvSpPr>
        <p:spPr>
          <a:xfrm flipH="1">
            <a:off x="1835280" y="2492280"/>
            <a:ext cx="266544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14"/>
          <p:cNvSpPr/>
          <p:nvPr/>
        </p:nvSpPr>
        <p:spPr>
          <a:xfrm>
            <a:off x="1835280" y="2492280"/>
            <a:ext cx="0" cy="6494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15"/>
          <p:cNvSpPr/>
          <p:nvPr/>
        </p:nvSpPr>
        <p:spPr>
          <a:xfrm>
            <a:off x="7524720" y="2492280"/>
            <a:ext cx="0" cy="6494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17"/>
          <p:cNvSpPr/>
          <p:nvPr/>
        </p:nvSpPr>
        <p:spPr>
          <a:xfrm>
            <a:off x="4788000" y="2492280"/>
            <a:ext cx="0" cy="6494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Line 20"/>
          <p:cNvSpPr/>
          <p:nvPr/>
        </p:nvSpPr>
        <p:spPr>
          <a:xfrm flipV="1">
            <a:off x="4788000" y="1989000"/>
            <a:ext cx="0" cy="50328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Rectangle 24"/>
          <p:cNvSpPr/>
          <p:nvPr/>
        </p:nvSpPr>
        <p:spPr>
          <a:xfrm>
            <a:off x="468360" y="333360"/>
            <a:ext cx="8207280" cy="1655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Общее правило действия граждански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процессуальных норм во време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6"/>
          <p:cNvSpPr/>
          <p:nvPr/>
        </p:nvSpPr>
        <p:spPr>
          <a:xfrm>
            <a:off x="468360" y="2708280"/>
            <a:ext cx="8207280" cy="3384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Гражданское судопроизводство ведётся 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соответствии с  федеральными законам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действующими во время рассмотр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и разрешения гражданского дела, соверш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определённых процессуальных действ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28"/>
          <p:cNvSpPr/>
          <p:nvPr/>
        </p:nvSpPr>
        <p:spPr>
          <a:xfrm>
            <a:off x="4356000" y="1989000"/>
            <a:ext cx="0" cy="719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1042920" y="836640"/>
            <a:ext cx="6985080" cy="134604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Действие гражданско-правовы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норм  в пространств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611280" y="3141720"/>
            <a:ext cx="7705800" cy="2448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всей территории Российско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едерации действуют норм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ражданского процессуальног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конодательства Р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6"/>
          <p:cNvSpPr/>
          <p:nvPr/>
        </p:nvSpPr>
        <p:spPr>
          <a:xfrm>
            <a:off x="4284720" y="2205000"/>
            <a:ext cx="0" cy="79236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1332000" y="620640"/>
            <a:ext cx="6697440" cy="1584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Действие гражданско-правовы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норм по кругу ли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539640" y="2708280"/>
            <a:ext cx="8136000" cy="302580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йствие гражданско-процессуальны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орм распространяется на все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астников гражданского процес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зависимо от их националь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гражд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6"/>
          <p:cNvSpPr/>
          <p:nvPr/>
        </p:nvSpPr>
        <p:spPr>
          <a:xfrm>
            <a:off x="4572000" y="2205000"/>
            <a:ext cx="0" cy="50328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4T19:00:21Z</dcterms:created>
  <dc:creator>HOME</dc:creator>
  <dc:description/>
  <dc:language>en-US</dc:language>
  <cp:lastModifiedBy>LEGION</cp:lastModifiedBy>
  <dcterms:modified xsi:type="dcterms:W3CDTF">2016-01-04T08:07:08Z</dcterms:modified>
  <cp:revision>27</cp:revision>
  <dc:subject/>
  <dc:title>Гражданское процессуальное право</dc:title>
</cp:coreProperties>
</file>