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51155-A001-44D7-A0F9-F27DE9D7334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ч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ая част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ов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оч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делам публич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 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аз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ков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оч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делам публич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 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буждение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в су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готовка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а к судебн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в порядке надзо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мотр дел по внов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вшимся обстоятельств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ните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пелля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сса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ди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буждение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в суд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готовка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ла к судебном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перв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судами второй инстан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в порядке надзо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смотр дел по вновь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крывшимся обстоятельств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нительное 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пелля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сса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ждународны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оворы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гла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зако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аз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ид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енума В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судебн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но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е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ого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АП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мир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ях в РФ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 судеб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тав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Об исполните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ств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илищ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декс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чники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ется времен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приме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яется на вс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риторию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ы регулируют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, участвующих в дан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м действ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яется времене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примен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ространяется на всю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рриторию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ы регулируют отноше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, участвующих в дан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м действ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гражданского процессуального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тивному источник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тором закреплен принци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принц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коллегиа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единоличн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на националь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зы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осуществление правосудия 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м делам только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независимость судей и подчин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х только зако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остязатель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равноправие стор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лассификац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коллегиа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ли единолично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на национальн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зыке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осуществление правосудия 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м делам только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независимость судей и подчине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х только закону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гласность судебного разбирательства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перед законом и судом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остязатель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равноправие сторон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осуществления правосудия только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зависимости судей и подчинение их только закон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 независимы и подчиняются только Конституции РФ и федеральному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мешательство в деятельность суда преследуется по закон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суда объявляются публич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суда объявляются публично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перед законом и суд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оложение субъектов определяется только процессуальным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ты гражданского процесс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юридическая урегулиров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1. Гражданское процессуальное право: понятие, предмет, метод и 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ты гражданского процесс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юридическая урегулированность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универсальность процессуальной формы рассмотрения и разрешения дел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- строгое соблюдение процессуальной ф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состяза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состяза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вноправия стор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вноправия сторо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а коллегиально или единолич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а в апелляционной инстанции единолично (ч.3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рассмотрение дел на национальном язы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диспозити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диспозити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осред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осредствен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ьи, разрешающие дело, обязаны лично воспринимать собранные доказатель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шение по делу основывается на исследованных в судебном заседании доказательствах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цип непреры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 непрерыв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седание проводиться непрерывно за исключением времени отды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е сроки установлены статьями 107-112  и рядом других статей ГПК РФ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оцессуальных сро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процессуальных сроков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для с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для су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гут быть установлены только закон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роки рассмотрения дел в суде первой инстанции подразделяются на общие и сокращённы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4. Система гражданского процессуального права подразделяется на Общую и Особенную ча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бщей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обенной части относятся нормы ГПК РФ, регулирующие различные стадии гражданского проце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5. Цель гражданского судопроизводства – защита нарушенных или оспариваемых прав, свобод, законных интересов субъекто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кращённый с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кращённый ср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некоторых категорий дел установлен сокращённый срок их рассмотрени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их на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ев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ладные 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ко-теоретическ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у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о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я государ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ал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а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ми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государства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зарубежных стра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ридическ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политиче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правовых уч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т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оловно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логическ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овое 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стем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их нау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раслев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кладные 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ко-теоретически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у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титуцион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государств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ал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а Росс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имин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государства 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а зарубежных стра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дебн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дицин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ридическа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сихолог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тория политиче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правовых уч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тисти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головно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логическ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овое пра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упреждение правонару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чи гражданского судопроизвод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иль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воевременное рассмотрение и разрешение де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щита прав, законных интересов субъект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крепление законности и правопоряд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упреждение правонару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ормирование уважения к закону и суд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о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цессуальных норм во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бщее правило действия граждански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цессуальных норм во времен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е судопроизводство ведётся в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ответствии с  федеральными законами,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ующими во время рассмотр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разрешения гражданского дела, соверш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ределённых процессуальных действи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 в простран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всей территории Российск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ции действуют нор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ого процессу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одательства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 в пространств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всей территории Российск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едерации действуют норм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ражданского процессуа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конодательства Р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авов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по кругу ли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 распространяется на все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астников гражданского процес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зависимо от их национа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авов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по кругу лиц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гражданско-процессуальны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 распространяется на всех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астников гражданского процесс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зависимо от их национальн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граждан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2912-6084-49D3-88C7-DDC82653A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AD6F-2EA7-47F6-9A05-0A2053DC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5703-F3B6-40D4-912D-97AEE9FBB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17EE-B359-4ECB-B3C6-DA61C1C7A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4BD97-D6A7-48E2-8B58-2FD7A6231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10FB-BE8A-4B13-9092-E6412C8A1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5DDA1-E7C6-4739-B451-26CE372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DF0C-531F-4E03-A882-0E39AB71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F8FB6-4A7C-4874-BD74-05CC5A8C8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FE55-60F6-4DC6-9CCC-613B8D669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AFCB1-14D2-4BBB-AD02-0C87B50A6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335B-4A3C-4894-99CF-C53D15C3F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8AB0-01B2-4F5F-BCCA-6A11F619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6432A-FA5F-43FB-B705-7C4014D3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F7C3-2C9D-4B75-8FD7-90B44869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1D35-5087-41EF-AA4B-09701EB7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AD679-83ED-4CC7-AD8E-3540619AB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86A1C-0E6D-4993-AA51-CF8A8BD1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E511C-C0B6-4302-9219-17951E16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630A9-9F40-46E5-BBCE-DDA4EADB0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40FAF-EA5F-482F-9BD0-87DF7C23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68CF7-A8B4-458D-9231-37DF69FE5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F38E-827A-4FEA-A93D-8BC143EBD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5CD5A-3C32-4DD9-9A09-492047D3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13FAD-8A52-4509-9324-24958F402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DF038-95A2-416E-846A-84795D0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477FD-BF0E-431F-B7F6-751842DB9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AF55E-760C-4DE1-A296-E2C7AD3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E42A-D377-44A6-904B-5B18B37A4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C2912A-2230-4D4E-B61A-9F4326C8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9E10E-E382-492D-AC67-ED3529552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ADE08-3425-4C65-9D5F-EBF7B3754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D3B710-1F05-4942-A213-17A0E226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F65F-F6A2-4C87-9AAC-F953D7E24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6FE65-E264-4CA3-9A32-9C536FF1C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EBC21B-3AD5-4FCB-A006-977B3155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E1FB3-4514-4BE6-9068-0063D4D53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A5A3F-9712-4FA5-902B-2D10F668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8998C-EC4D-4613-92AC-FD6D803AE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61C27E-6174-4E86-8B12-5A74F882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A65FE-3662-48C6-B67F-492BFB997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42BAD-159D-46EC-A1D4-7A802D09C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A9170-8893-44E0-851E-235CB033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699C-3541-4EE1-9542-C750160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A8B-38B4-44A7-900B-6DBB9DFA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4C57-E29B-4FEC-A2D7-E5E2435E0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2BD6-A6C0-46DC-9904-9147A8837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C971-A7B4-45BB-8553-A369B4532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257AA-23D1-44B5-BE88-20723C880EF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77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C6D45-FD7F-4D02-907C-398833E4A62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3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A9C1-687B-4514-A44B-F2E741645B0E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Group 2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3" name="Freeform 3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Freeform 4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Freeform 5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6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Freeform 7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Freeform 8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9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Freeform 10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Freeform 11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Rectangle 12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Rectangle 13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Freeform 14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Freeform 15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Freeform 16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2777d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7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8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Freeform 19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20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3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2CE5-9CD8-4D91-ABD4-61281C149C9A}" type="slidenum">
              <a:rPr b="0" lang="ru-RU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0000"/>
                </a:solidFill>
                <a:latin typeface="Arial"/>
              </a:rPr>
              <a:t>Гражданское процессуальное право</a:t>
            </a:r>
            <a:endParaRPr b="0" lang="en-US" sz="6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Общая часть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17040" y="1917360"/>
            <a:ext cx="7929720" cy="42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6" name="Rectangle 4"/>
          <p:cNvSpPr/>
          <p:nvPr/>
        </p:nvSpPr>
        <p:spPr>
          <a:xfrm>
            <a:off x="539640" y="404640"/>
            <a:ext cx="8136000" cy="1130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WordArt 5"/>
          <p:cNvSpPr txBox="1"/>
          <p:nvPr/>
        </p:nvSpPr>
        <p:spPr>
          <a:xfrm>
            <a:off x="755640" y="549360"/>
            <a:ext cx="756144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иды гражданского судопроизводст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8" name="Rectangle 9"/>
          <p:cNvSpPr/>
          <p:nvPr/>
        </p:nvSpPr>
        <p:spPr>
          <a:xfrm>
            <a:off x="468360" y="2565360"/>
            <a:ext cx="21589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0"/>
          <p:cNvSpPr/>
          <p:nvPr/>
        </p:nvSpPr>
        <p:spPr>
          <a:xfrm>
            <a:off x="3492360" y="3357720"/>
            <a:ext cx="208764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1"/>
          <p:cNvSpPr/>
          <p:nvPr/>
        </p:nvSpPr>
        <p:spPr>
          <a:xfrm>
            <a:off x="6588000" y="2565360"/>
            <a:ext cx="20653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2"/>
          <p:cNvSpPr/>
          <p:nvPr/>
        </p:nvSpPr>
        <p:spPr>
          <a:xfrm>
            <a:off x="468360" y="4653000"/>
            <a:ext cx="367200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13"/>
          <p:cNvSpPr/>
          <p:nvPr/>
        </p:nvSpPr>
        <p:spPr>
          <a:xfrm>
            <a:off x="5148360" y="4724280"/>
            <a:ext cx="302400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14"/>
          <p:cNvSpPr/>
          <p:nvPr/>
        </p:nvSpPr>
        <p:spPr>
          <a:xfrm>
            <a:off x="3492360" y="2492280"/>
            <a:ext cx="20671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WordArt 17"/>
          <p:cNvSpPr txBox="1"/>
          <p:nvPr/>
        </p:nvSpPr>
        <p:spPr>
          <a:xfrm>
            <a:off x="611280" y="2852640"/>
            <a:ext cx="187308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иказ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5" name="WordArt 18"/>
          <p:cNvSpPr txBox="1"/>
          <p:nvPr/>
        </p:nvSpPr>
        <p:spPr>
          <a:xfrm>
            <a:off x="3708360" y="2852640"/>
            <a:ext cx="16765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ков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6" name="WordArt 19"/>
          <p:cNvSpPr txBox="1"/>
          <p:nvPr/>
        </p:nvSpPr>
        <p:spPr>
          <a:xfrm>
            <a:off x="3708360" y="3716280"/>
            <a:ext cx="165744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оч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7" name="WordArt 20"/>
          <p:cNvSpPr txBox="1"/>
          <p:nvPr/>
        </p:nvSpPr>
        <p:spPr>
          <a:xfrm>
            <a:off x="6732720" y="2924280"/>
            <a:ext cx="1635120" cy="21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соб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8" name="WordArt 21"/>
          <p:cNvSpPr txBox="1"/>
          <p:nvPr/>
        </p:nvSpPr>
        <p:spPr>
          <a:xfrm>
            <a:off x="5292720" y="5084640"/>
            <a:ext cx="266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сполнительное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WordArt 22"/>
          <p:cNvSpPr txBox="1"/>
          <p:nvPr/>
        </p:nvSpPr>
        <p:spPr>
          <a:xfrm>
            <a:off x="611280" y="4941720"/>
            <a:ext cx="338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о делам публично-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равовых отношений</a:t>
            </a:r>
            <a:endParaRPr b="0" lang="en-US" sz="1800" spc="1" strike="noStrike">
              <a:ln w="0">
                <a:noFill/>
              </a:ln>
              <a:solidFill>
                <a:srgbClr val="0066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00" name="Line 23"/>
          <p:cNvSpPr/>
          <p:nvPr/>
        </p:nvSpPr>
        <p:spPr>
          <a:xfrm>
            <a:off x="4572000" y="1557360"/>
            <a:ext cx="0" cy="43164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24"/>
          <p:cNvSpPr/>
          <p:nvPr/>
        </p:nvSpPr>
        <p:spPr>
          <a:xfrm>
            <a:off x="1476360" y="1989000"/>
            <a:ext cx="619128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Line 25"/>
          <p:cNvSpPr/>
          <p:nvPr/>
        </p:nvSpPr>
        <p:spPr>
          <a:xfrm>
            <a:off x="147636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26"/>
          <p:cNvSpPr/>
          <p:nvPr/>
        </p:nvSpPr>
        <p:spPr>
          <a:xfrm>
            <a:off x="4572000" y="1989000"/>
            <a:ext cx="0" cy="432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27"/>
          <p:cNvSpPr/>
          <p:nvPr/>
        </p:nvSpPr>
        <p:spPr>
          <a:xfrm>
            <a:off x="7667640" y="1989000"/>
            <a:ext cx="0" cy="57636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28"/>
          <p:cNvSpPr/>
          <p:nvPr/>
        </p:nvSpPr>
        <p:spPr>
          <a:xfrm>
            <a:off x="622764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Line 29"/>
          <p:cNvSpPr/>
          <p:nvPr/>
        </p:nvSpPr>
        <p:spPr>
          <a:xfrm>
            <a:off x="3059280" y="1989000"/>
            <a:ext cx="0" cy="266400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250920" y="1916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10" name="Rectangle 4"/>
          <p:cNvSpPr/>
          <p:nvPr/>
        </p:nvSpPr>
        <p:spPr>
          <a:xfrm>
            <a:off x="971640" y="333360"/>
            <a:ext cx="6913440" cy="1008000"/>
          </a:xfrm>
          <a:prstGeom prst="rect">
            <a:avLst/>
          </a:prstGeom>
          <a:solidFill>
            <a:srgbClr val="0066ff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WordArt 5"/>
          <p:cNvSpPr txBox="1"/>
          <p:nvPr/>
        </p:nvSpPr>
        <p:spPr>
          <a:xfrm>
            <a:off x="1619280" y="620640"/>
            <a:ext cx="5616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тадии гражданского судопроизводств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12" name="Rectangle 6"/>
          <p:cNvSpPr/>
          <p:nvPr/>
        </p:nvSpPr>
        <p:spPr>
          <a:xfrm>
            <a:off x="6300720" y="1557360"/>
            <a:ext cx="23544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возбуждение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в суд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7"/>
          <p:cNvSpPr/>
          <p:nvPr/>
        </p:nvSpPr>
        <p:spPr>
          <a:xfrm>
            <a:off x="6300720" y="2276640"/>
            <a:ext cx="23544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одготовка гражданског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дела к судебному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8"/>
          <p:cNvSpPr/>
          <p:nvPr/>
        </p:nvSpPr>
        <p:spPr>
          <a:xfrm>
            <a:off x="826920" y="270828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9"/>
          <p:cNvSpPr/>
          <p:nvPr/>
        </p:nvSpPr>
        <p:spPr>
          <a:xfrm>
            <a:off x="826920" y="364500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10"/>
          <p:cNvSpPr/>
          <p:nvPr/>
        </p:nvSpPr>
        <p:spPr>
          <a:xfrm>
            <a:off x="826920" y="4581360"/>
            <a:ext cx="482472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11"/>
          <p:cNvSpPr/>
          <p:nvPr/>
        </p:nvSpPr>
        <p:spPr>
          <a:xfrm>
            <a:off x="826920" y="5516640"/>
            <a:ext cx="4824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12"/>
          <p:cNvSpPr/>
          <p:nvPr/>
        </p:nvSpPr>
        <p:spPr>
          <a:xfrm>
            <a:off x="826920" y="1773360"/>
            <a:ext cx="48247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WordArt 13"/>
          <p:cNvSpPr txBox="1"/>
          <p:nvPr/>
        </p:nvSpPr>
        <p:spPr>
          <a:xfrm>
            <a:off x="900000" y="1916280"/>
            <a:ext cx="4535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перв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0" name="WordArt 14"/>
          <p:cNvSpPr txBox="1"/>
          <p:nvPr/>
        </p:nvSpPr>
        <p:spPr>
          <a:xfrm>
            <a:off x="900000" y="2781360"/>
            <a:ext cx="460872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ссмотрение дел судами второй инстанци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1" name="WordArt 15"/>
          <p:cNvSpPr txBox="1"/>
          <p:nvPr/>
        </p:nvSpPr>
        <p:spPr>
          <a:xfrm>
            <a:off x="1258920" y="3860640"/>
            <a:ext cx="39607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в порядке надзор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2" name="WordArt 17"/>
          <p:cNvSpPr txBox="1"/>
          <p:nvPr/>
        </p:nvSpPr>
        <p:spPr>
          <a:xfrm>
            <a:off x="1116000" y="4653000"/>
            <a:ext cx="430524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есмотр дел по вновь 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вшимся обстоятельства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3" name="WordArt 18"/>
          <p:cNvSpPr txBox="1"/>
          <p:nvPr/>
        </p:nvSpPr>
        <p:spPr>
          <a:xfrm>
            <a:off x="1187280" y="5661000"/>
            <a:ext cx="381636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сполнительное производство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Rectangle 19"/>
          <p:cNvSpPr/>
          <p:nvPr/>
        </p:nvSpPr>
        <p:spPr>
          <a:xfrm>
            <a:off x="6300720" y="3284640"/>
            <a:ext cx="23544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разбирательство дела по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существу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20"/>
          <p:cNvSpPr/>
          <p:nvPr/>
        </p:nvSpPr>
        <p:spPr>
          <a:xfrm>
            <a:off x="6300720" y="4221000"/>
            <a:ext cx="23544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апелля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Line 21"/>
          <p:cNvSpPr/>
          <p:nvPr/>
        </p:nvSpPr>
        <p:spPr>
          <a:xfrm flipH="1">
            <a:off x="468360" y="83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22"/>
          <p:cNvSpPr/>
          <p:nvPr/>
        </p:nvSpPr>
        <p:spPr>
          <a:xfrm>
            <a:off x="468360" y="836640"/>
            <a:ext cx="0" cy="489744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25"/>
          <p:cNvSpPr/>
          <p:nvPr/>
        </p:nvSpPr>
        <p:spPr>
          <a:xfrm>
            <a:off x="6300720" y="5084640"/>
            <a:ext cx="2354400" cy="649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кассационно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производство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Line 31"/>
          <p:cNvSpPr/>
          <p:nvPr/>
        </p:nvSpPr>
        <p:spPr>
          <a:xfrm flipV="1">
            <a:off x="5651640" y="1988640"/>
            <a:ext cx="0" cy="7164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Line 32"/>
          <p:cNvSpPr/>
          <p:nvPr/>
        </p:nvSpPr>
        <p:spPr>
          <a:xfrm flipV="1">
            <a:off x="5651640" y="1844640"/>
            <a:ext cx="649080" cy="21600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Line 33"/>
          <p:cNvSpPr/>
          <p:nvPr/>
        </p:nvSpPr>
        <p:spPr>
          <a:xfrm>
            <a:off x="5651640" y="2060640"/>
            <a:ext cx="649080" cy="576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Line 34"/>
          <p:cNvSpPr/>
          <p:nvPr/>
        </p:nvSpPr>
        <p:spPr>
          <a:xfrm>
            <a:off x="5651640" y="2060640"/>
            <a:ext cx="649080" cy="1655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Line 36"/>
          <p:cNvSpPr/>
          <p:nvPr/>
        </p:nvSpPr>
        <p:spPr>
          <a:xfrm>
            <a:off x="5651640" y="2924280"/>
            <a:ext cx="649080" cy="15843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Line 37"/>
          <p:cNvSpPr/>
          <p:nvPr/>
        </p:nvSpPr>
        <p:spPr>
          <a:xfrm>
            <a:off x="5651640" y="2924280"/>
            <a:ext cx="649080" cy="2520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Line 39"/>
          <p:cNvSpPr/>
          <p:nvPr/>
        </p:nvSpPr>
        <p:spPr>
          <a:xfrm>
            <a:off x="468360" y="573408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Line 40"/>
          <p:cNvSpPr/>
          <p:nvPr/>
        </p:nvSpPr>
        <p:spPr>
          <a:xfrm>
            <a:off x="468360" y="479736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Line 41"/>
          <p:cNvSpPr/>
          <p:nvPr/>
        </p:nvSpPr>
        <p:spPr>
          <a:xfrm>
            <a:off x="468360" y="39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Line 42"/>
          <p:cNvSpPr/>
          <p:nvPr/>
        </p:nvSpPr>
        <p:spPr>
          <a:xfrm>
            <a:off x="468360" y="2924280"/>
            <a:ext cx="43164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Line 43"/>
          <p:cNvSpPr/>
          <p:nvPr/>
        </p:nvSpPr>
        <p:spPr>
          <a:xfrm>
            <a:off x="468360" y="2133720"/>
            <a:ext cx="35856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3" name="Rectangle 4"/>
          <p:cNvSpPr/>
          <p:nvPr/>
        </p:nvSpPr>
        <p:spPr>
          <a:xfrm>
            <a:off x="755640" y="404640"/>
            <a:ext cx="748836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WordArt 6"/>
          <p:cNvSpPr txBox="1"/>
          <p:nvPr/>
        </p:nvSpPr>
        <p:spPr>
          <a:xfrm>
            <a:off x="1116000" y="620640"/>
            <a:ext cx="68407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77d58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сточники гражданского процессуального права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77d58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468360" y="1773360"/>
            <a:ext cx="1942920" cy="86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еждународны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говоры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глаш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8"/>
          <p:cNvSpPr/>
          <p:nvPr/>
        </p:nvSpPr>
        <p:spPr>
          <a:xfrm>
            <a:off x="2987640" y="1773360"/>
            <a:ext cx="15843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ко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9"/>
          <p:cNvSpPr/>
          <p:nvPr/>
        </p:nvSpPr>
        <p:spPr>
          <a:xfrm>
            <a:off x="7093080" y="1773360"/>
            <a:ext cx="158256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удеб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10"/>
          <p:cNvSpPr/>
          <p:nvPr/>
        </p:nvSpPr>
        <p:spPr>
          <a:xfrm>
            <a:off x="5076720" y="1773360"/>
            <a:ext cx="165600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дзаконны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к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11"/>
          <p:cNvSpPr/>
          <p:nvPr/>
        </p:nvSpPr>
        <p:spPr>
          <a:xfrm>
            <a:off x="2916360" y="2781360"/>
            <a:ext cx="17269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нституция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12"/>
          <p:cNvSpPr/>
          <p:nvPr/>
        </p:nvSpPr>
        <p:spPr>
          <a:xfrm>
            <a:off x="5076720" y="2781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казы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зидент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3"/>
          <p:cNvSpPr/>
          <p:nvPr/>
        </p:nvSpPr>
        <p:spPr>
          <a:xfrm>
            <a:off x="7093080" y="2781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ленума ВС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4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О судебной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15"/>
          <p:cNvSpPr/>
          <p:nvPr/>
        </p:nvSpPr>
        <p:spPr>
          <a:xfrm>
            <a:off x="5076720" y="3573360"/>
            <a:ext cx="1656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остановл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авительств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16"/>
          <p:cNvSpPr/>
          <p:nvPr/>
        </p:nvSpPr>
        <p:spPr>
          <a:xfrm>
            <a:off x="2916360" y="3573360"/>
            <a:ext cx="1726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468360" y="357336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истеме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468360" y="4653000"/>
            <a:ext cx="1942920" cy="86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Уголов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цессуаль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19"/>
          <p:cNvSpPr/>
          <p:nvPr/>
        </p:nvSpPr>
        <p:spPr>
          <a:xfrm>
            <a:off x="2916360" y="4653000"/>
            <a:ext cx="172692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раждански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20"/>
          <p:cNvSpPr/>
          <p:nvPr/>
        </p:nvSpPr>
        <p:spPr>
          <a:xfrm>
            <a:off x="5076720" y="4508640"/>
            <a:ext cx="1656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логов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21"/>
          <p:cNvSpPr/>
          <p:nvPr/>
        </p:nvSpPr>
        <p:spPr>
          <a:xfrm>
            <a:off x="7164360" y="4508640"/>
            <a:ext cx="15112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Трудово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22"/>
          <p:cNvSpPr/>
          <p:nvPr/>
        </p:nvSpPr>
        <p:spPr>
          <a:xfrm>
            <a:off x="7093080" y="3573360"/>
            <a:ext cx="15825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АП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23"/>
          <p:cNvSpPr/>
          <p:nvPr/>
        </p:nvSpPr>
        <p:spPr>
          <a:xfrm>
            <a:off x="468360" y="5805360"/>
            <a:ext cx="1942920" cy="71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мировы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удьях в РФ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24"/>
          <p:cNvSpPr/>
          <p:nvPr/>
        </p:nvSpPr>
        <p:spPr>
          <a:xfrm>
            <a:off x="2916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 судебны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иставах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25"/>
          <p:cNvSpPr/>
          <p:nvPr/>
        </p:nvSpPr>
        <p:spPr>
          <a:xfrm>
            <a:off x="4716360" y="5734080"/>
            <a:ext cx="216072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«Об исполнитель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изводстве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26"/>
          <p:cNvSpPr/>
          <p:nvPr/>
        </p:nvSpPr>
        <p:spPr>
          <a:xfrm>
            <a:off x="7164360" y="5734080"/>
            <a:ext cx="1511280" cy="790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Жилищный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одекс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Line 27"/>
          <p:cNvSpPr/>
          <p:nvPr/>
        </p:nvSpPr>
        <p:spPr>
          <a:xfrm>
            <a:off x="4500720" y="1268280"/>
            <a:ext cx="0" cy="2890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Line 28"/>
          <p:cNvSpPr/>
          <p:nvPr/>
        </p:nvSpPr>
        <p:spPr>
          <a:xfrm>
            <a:off x="4500720" y="1557360"/>
            <a:ext cx="33112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Line 29"/>
          <p:cNvSpPr/>
          <p:nvPr/>
        </p:nvSpPr>
        <p:spPr>
          <a:xfrm flipH="1">
            <a:off x="1403280" y="1557360"/>
            <a:ext cx="309744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Line 30"/>
          <p:cNvSpPr/>
          <p:nvPr/>
        </p:nvSpPr>
        <p:spPr>
          <a:xfrm>
            <a:off x="1403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Line 31"/>
          <p:cNvSpPr/>
          <p:nvPr/>
        </p:nvSpPr>
        <p:spPr>
          <a:xfrm>
            <a:off x="3780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86728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7812000" y="1557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2626920" y="2133720"/>
            <a:ext cx="360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6732720" y="2133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39"/>
          <p:cNvSpPr/>
          <p:nvPr/>
        </p:nvSpPr>
        <p:spPr>
          <a:xfrm>
            <a:off x="7812000" y="256536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40"/>
          <p:cNvSpPr/>
          <p:nvPr/>
        </p:nvSpPr>
        <p:spPr>
          <a:xfrm>
            <a:off x="6877080" y="2133720"/>
            <a:ext cx="0" cy="1726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42"/>
          <p:cNvSpPr/>
          <p:nvPr/>
        </p:nvSpPr>
        <p:spPr>
          <a:xfrm flipH="1">
            <a:off x="6732360" y="3068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2627280" y="2133720"/>
            <a:ext cx="0" cy="395928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46"/>
          <p:cNvSpPr/>
          <p:nvPr/>
        </p:nvSpPr>
        <p:spPr>
          <a:xfrm>
            <a:off x="2627280" y="609300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Line 47"/>
          <p:cNvSpPr/>
          <p:nvPr/>
        </p:nvSpPr>
        <p:spPr>
          <a:xfrm flipH="1">
            <a:off x="2411280" y="609300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Line 48"/>
          <p:cNvSpPr/>
          <p:nvPr/>
        </p:nvSpPr>
        <p:spPr>
          <a:xfrm flipH="1">
            <a:off x="2411280" y="5084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Line 49"/>
          <p:cNvSpPr/>
          <p:nvPr/>
        </p:nvSpPr>
        <p:spPr>
          <a:xfrm>
            <a:off x="2627280" y="306864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Line 50"/>
          <p:cNvSpPr/>
          <p:nvPr/>
        </p:nvSpPr>
        <p:spPr>
          <a:xfrm flipH="1">
            <a:off x="2411280" y="306864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Line 51"/>
          <p:cNvSpPr/>
          <p:nvPr/>
        </p:nvSpPr>
        <p:spPr>
          <a:xfrm flipH="1">
            <a:off x="2411280" y="4005360"/>
            <a:ext cx="21600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52"/>
          <p:cNvSpPr/>
          <p:nvPr/>
        </p:nvSpPr>
        <p:spPr>
          <a:xfrm>
            <a:off x="2627280" y="4005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3"/>
          <p:cNvSpPr/>
          <p:nvPr/>
        </p:nvSpPr>
        <p:spPr>
          <a:xfrm flipV="1">
            <a:off x="586728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4"/>
          <p:cNvSpPr/>
          <p:nvPr/>
        </p:nvSpPr>
        <p:spPr>
          <a:xfrm>
            <a:off x="586728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Line 55"/>
          <p:cNvSpPr/>
          <p:nvPr/>
        </p:nvSpPr>
        <p:spPr>
          <a:xfrm flipV="1">
            <a:off x="7956720" y="5157360"/>
            <a:ext cx="0" cy="35892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Line 56"/>
          <p:cNvSpPr/>
          <p:nvPr/>
        </p:nvSpPr>
        <p:spPr>
          <a:xfrm>
            <a:off x="7956720" y="5516640"/>
            <a:ext cx="0" cy="21744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Line 57"/>
          <p:cNvSpPr/>
          <p:nvPr/>
        </p:nvSpPr>
        <p:spPr>
          <a:xfrm flipH="1">
            <a:off x="6732360" y="386064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Line 58"/>
          <p:cNvSpPr/>
          <p:nvPr/>
        </p:nvSpPr>
        <p:spPr>
          <a:xfrm>
            <a:off x="4572000" y="213372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Line 59"/>
          <p:cNvSpPr/>
          <p:nvPr/>
        </p:nvSpPr>
        <p:spPr>
          <a:xfrm>
            <a:off x="4788000" y="2133720"/>
            <a:ext cx="0" cy="338292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Line 60"/>
          <p:cNvSpPr/>
          <p:nvPr/>
        </p:nvSpPr>
        <p:spPr>
          <a:xfrm>
            <a:off x="4788000" y="5516640"/>
            <a:ext cx="316872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Line 63"/>
          <p:cNvSpPr/>
          <p:nvPr/>
        </p:nvSpPr>
        <p:spPr>
          <a:xfrm flipV="1">
            <a:off x="7885080" y="4076640"/>
            <a:ext cx="0" cy="21600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Line 65"/>
          <p:cNvSpPr/>
          <p:nvPr/>
        </p:nvSpPr>
        <p:spPr>
          <a:xfrm flipH="1">
            <a:off x="4787640" y="4292640"/>
            <a:ext cx="3097080" cy="0"/>
          </a:xfrm>
          <a:prstGeom prst="line">
            <a:avLst/>
          </a:prstGeom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Line 66"/>
          <p:cNvSpPr/>
          <p:nvPr/>
        </p:nvSpPr>
        <p:spPr>
          <a:xfrm>
            <a:off x="2627280" y="5013360"/>
            <a:ext cx="289080" cy="0"/>
          </a:xfrm>
          <a:prstGeom prst="line">
            <a:avLst/>
          </a:prstGeom>
          <a:ln w="1260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1835280" y="404640"/>
            <a:ext cx="51130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еделы действия норм Гражданског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5"/>
          <p:cNvSpPr/>
          <p:nvPr/>
        </p:nvSpPr>
        <p:spPr>
          <a:xfrm>
            <a:off x="39528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о времен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6"/>
          <p:cNvSpPr/>
          <p:nvPr/>
        </p:nvSpPr>
        <p:spPr>
          <a:xfrm>
            <a:off x="3203640" y="2205000"/>
            <a:ext cx="237636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пространств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7"/>
          <p:cNvSpPr/>
          <p:nvPr/>
        </p:nvSpPr>
        <p:spPr>
          <a:xfrm>
            <a:off x="5940360" y="2205000"/>
            <a:ext cx="2735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кругу ли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Rectangle 8"/>
          <p:cNvSpPr/>
          <p:nvPr/>
        </p:nvSpPr>
        <p:spPr>
          <a:xfrm>
            <a:off x="468360" y="3716280"/>
            <a:ext cx="223200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определяется временем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их примен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Rectangle 9"/>
          <p:cNvSpPr/>
          <p:nvPr/>
        </p:nvSpPr>
        <p:spPr>
          <a:xfrm>
            <a:off x="3203640" y="3716280"/>
            <a:ext cx="237636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Действие гражданских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ых нор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спространяется на всю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территорию РФ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10"/>
          <p:cNvSpPr/>
          <p:nvPr/>
        </p:nvSpPr>
        <p:spPr>
          <a:xfrm>
            <a:off x="5940360" y="3716280"/>
            <a:ext cx="2735280" cy="237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07932" dir="189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ражданские процессуальны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нормы регулируют отнош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лиц, участвующих в данном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процессуальном действи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Line 14"/>
          <p:cNvSpPr/>
          <p:nvPr/>
        </p:nvSpPr>
        <p:spPr>
          <a:xfrm>
            <a:off x="4284720" y="1341360"/>
            <a:ext cx="0" cy="43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Line 15"/>
          <p:cNvSpPr/>
          <p:nvPr/>
        </p:nvSpPr>
        <p:spPr>
          <a:xfrm>
            <a:off x="1476360" y="1773360"/>
            <a:ext cx="590400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Line 16"/>
          <p:cNvSpPr/>
          <p:nvPr/>
        </p:nvSpPr>
        <p:spPr>
          <a:xfrm>
            <a:off x="428472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Line 17"/>
          <p:cNvSpPr/>
          <p:nvPr/>
        </p:nvSpPr>
        <p:spPr>
          <a:xfrm>
            <a:off x="7308720" y="1773360"/>
            <a:ext cx="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Line 18"/>
          <p:cNvSpPr/>
          <p:nvPr/>
        </p:nvSpPr>
        <p:spPr>
          <a:xfrm>
            <a:off x="7380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9"/>
          <p:cNvSpPr/>
          <p:nvPr/>
        </p:nvSpPr>
        <p:spPr>
          <a:xfrm>
            <a:off x="1476360" y="1773360"/>
            <a:ext cx="0" cy="43164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20"/>
          <p:cNvSpPr/>
          <p:nvPr/>
        </p:nvSpPr>
        <p:spPr>
          <a:xfrm>
            <a:off x="1476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Line 21"/>
          <p:cNvSpPr/>
          <p:nvPr/>
        </p:nvSpPr>
        <p:spPr>
          <a:xfrm>
            <a:off x="428472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22"/>
          <p:cNvSpPr/>
          <p:nvPr/>
        </p:nvSpPr>
        <p:spPr>
          <a:xfrm>
            <a:off x="7380360" y="3141720"/>
            <a:ext cx="0" cy="57456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нципы</a:t>
            </a:r>
            <a:br>
              <a:rPr sz="44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 гражданского процессуального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ра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224136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Гражданские процессуальные принципы представляют собой нормативно установленные основополагающие начала, определяющие построение процесса, его природу и методы по осуществлению правосудия по гражданским делам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468360" y="404640"/>
            <a:ext cx="820728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Классификац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принципов гражданского процессуального пра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5"/>
          <p:cNvSpPr/>
          <p:nvPr/>
        </p:nvSpPr>
        <p:spPr>
          <a:xfrm>
            <a:off x="2195640" y="1700280"/>
            <a:ext cx="5184720" cy="9144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 нормативному источнику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котором закреплен принци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Rectangle 6"/>
          <p:cNvSpPr/>
          <p:nvPr/>
        </p:nvSpPr>
        <p:spPr>
          <a:xfrm>
            <a:off x="468360" y="3141720"/>
            <a:ext cx="381636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нституционн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Rectangle 7"/>
          <p:cNvSpPr/>
          <p:nvPr/>
        </p:nvSpPr>
        <p:spPr>
          <a:xfrm>
            <a:off x="5076720" y="3141720"/>
            <a:ext cx="3598920" cy="5745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траслевые принцип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Rectangle 9"/>
          <p:cNvSpPr/>
          <p:nvPr/>
        </p:nvSpPr>
        <p:spPr>
          <a:xfrm>
            <a:off x="4932360" y="4221000"/>
            <a:ext cx="388764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а коллегиальн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ли единолично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ассмотрение дел на национально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языке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диспозитив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осредственност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SzPct val="6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инцип непрерывност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10"/>
          <p:cNvSpPr/>
          <p:nvPr/>
        </p:nvSpPr>
        <p:spPr>
          <a:xfrm>
            <a:off x="250920" y="4221000"/>
            <a:ext cx="4176720" cy="2303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ществление правосудия п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им делам только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независимость судей и подчин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х только закону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гласность судебного разбирательства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перед законом и судом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состязательность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- равноправие сторон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Line 11"/>
          <p:cNvSpPr/>
          <p:nvPr/>
        </p:nvSpPr>
        <p:spPr>
          <a:xfrm>
            <a:off x="4643280" y="1341360"/>
            <a:ext cx="0" cy="3589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Line 13"/>
          <p:cNvSpPr/>
          <p:nvPr/>
        </p:nvSpPr>
        <p:spPr>
          <a:xfrm>
            <a:off x="4643280" y="2637000"/>
            <a:ext cx="201636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Line 14"/>
          <p:cNvSpPr/>
          <p:nvPr/>
        </p:nvSpPr>
        <p:spPr>
          <a:xfrm flipH="1">
            <a:off x="2411280" y="2637000"/>
            <a:ext cx="223200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Line 15"/>
          <p:cNvSpPr/>
          <p:nvPr/>
        </p:nvSpPr>
        <p:spPr>
          <a:xfrm>
            <a:off x="226836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Line 16"/>
          <p:cNvSpPr/>
          <p:nvPr/>
        </p:nvSpPr>
        <p:spPr>
          <a:xfrm>
            <a:off x="6877080" y="3716280"/>
            <a:ext cx="0" cy="50472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осуществления правосудия только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ебная власть в Российской Федерации принадлежит только судам в лице судей. Судебная власть действует независимо от законодательной и исполнительной властей (ст. 118 Конституции РФ, ст. 1 Закона о статусе судей, ст. 5 ГПК РФ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66"/>
                </a:solidFill>
                <a:latin typeface="Times New Roman"/>
              </a:rPr>
              <a:t>Принцип независимости судей и подчинение их только закону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ьи независимы и подчиняются только Конституции РФ и федеральному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икто не вправе вмешиваться в судебную деятельность по решению конкретных дел, давать указание по решению конкретного судебного дела, пытаться оказать на судью давление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Вмешательство в деятельность суда преследуется по закону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зависимость судей установлена ст. 120 Конституции РФ, ст. 9, 10 Закона о статуе судей, ст. 8 ГПК РФ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 во всех судах открытое. Все лица, присутствующие в открытом судебном заседании, имеют право в письменной форме, а также с помощью средств аудио-, видеозаписи фиксировать ход судебного разбирательств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Фотосъемка, видеозапись, трансляции судебного заседания по радио, телевидению допускаются с разрешения суда. 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ешение суда объявляются публично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Разбирательство дела в зарытом судебном заседании допускается в случаях, предусмотренных законом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Times New Roman"/>
              </a:rPr>
              <a:t>Гласность судебного разбирательства регламентируется ч. 1 ст. 123 Конституции РФ, ст. 9 Закона о судебной системе, ст. 10 ГПК РФ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равноправия перед законом и судом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началах равенства перед законом и судом всех граждан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 и др. обстоятельств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оцессуальное положение субъектов определяется только процессуальным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еспечивается равная судебная защита всех лиц (ст. 19 Конституции РФ, ст. 7 Закона о статусе судей, ст. 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Тема 1. Гражданское процессуальное право: понятие, предмет, метод и система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1. Гражданское процессуальное право – совокупность правовых норм, регулирующих общественные отношения, возникающие в процессе рассмотрения и разрешения судом общей юрисдикции гражданских дел, семейных, трудовых и иных споров, подведомственных данному суду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1.2. Предметом гражданско-процессуального права являются общественные отношения, возникающие в ходе гражданского судопроизводства (процесса)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Гражданский процесс – это совокупность процессуальных действий и возникающих в ходе этих действий процессуальных правоотношений, связанных с осуществлением правосудия по гражданским делам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Черты гражданского процесса: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юридическая урегулированность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последовательность совершения и содержание всех действий участников      процесса закреплены в ГПК РФ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универсальность процессуальной формы рассмотрения и разрешения дел;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1600" spc="-1" strike="noStrike">
                <a:solidFill>
                  <a:srgbClr val="003366"/>
                </a:solidFill>
                <a:latin typeface="Times New Roman"/>
              </a:rPr>
              <a:t>- строгое соблюдение процессуальной формы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состязатель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Правосудие осуществляется на основе состязательности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Каждая сторона должна доказать те обстоятельства, на которые она ссылается (ч. 1 ст. 56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уд может предложить сторонам представить дополнительные доказательства (ч. 1 ст. 5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тороны вправе ссылаться на различные юридические факты, лежащие в основе их требований и возражений (ст. 131, 137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равноправия сторон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Закон предоставляет, а суд обеспечивает сторонам одинаковый объем процессуальных прав, направленных на защиту охраняемых законом прав и интересов (п. 3 ст. 123 Конституции РФ, ст. 12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аряду с равными процессуальными правами стороны несут и равные процессуальные обязанности (ч. 2 ст. 35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а коллегиально или единолично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суде первой инстанции коллегиальное или единоличное (ч. 1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а в апелляционной инстанции единолично (ч.3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ассмотрение дел в судах кассационной и надзорной инстанции осуществляется только коллегиально (ч. 4 ст. 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Принцип </a:t>
            </a:r>
            <a:r>
              <a:rPr b="1" lang="ru-RU" sz="4000" spc="-1" strike="noStrike">
                <a:solidFill>
                  <a:srgbClr val="003366"/>
                </a:solidFill>
                <a:latin typeface="Times New Roman"/>
              </a:rPr>
              <a:t>рассмотрение дел на национальном языке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Гражданское судопроизводство ведётся на русском языке – государственном языке РФ или на государственном языке  республики, входящей в состав РФ и на территории которой находится суд (ст. 9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м не владеющим языком, на котором ведётся судопроизводство, должны быть предоставлены переводчики за счёт государства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Несоблюдение принципа национального языка судопроизводства служит основанием для отмены судебного решения или определения (ч. 2 п. 3 ст. 364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диспозити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Участники процесса имеют возможность распоряжаться своими материальными правами и средствами их защиты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Лица вправе обращаться в суд, изменять предмет, основание иска, оказываться от иска, признавать иск, подавать жалобу, отзывать её, заключать мировое соглашение и т.д. (ст. 46 Конституции РФ, ст. 9 ГК РФ, ч. 1 ст. 1 СК РФ, ст. 9, 3, 4, 35, 39, 42, 173, 320, 326, 428, 430 ГПК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осредствен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Судьи, разрешающие дело, обязаны лично воспринимать собранные доказательств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Решение по делу основывается на исследованных в судебном заседании доказательствах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осредственность восприятия материала по делу – гарантия установления судебной истины (ч. 2 ст. 146, ст. 157, 195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66"/>
                </a:solidFill>
                <a:latin typeface="Times New Roman"/>
              </a:rPr>
              <a:t>Принцип непрерывност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Заседание проводиться непрерывно за исключением времени отдых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о окончания рассмотрения начатого дела или отложения его разбирательства суд не вправе рассматривать другие гражданские, уголовные или административные дела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Непрерывность – гарантия правильно исследования и оценки доказательств (ст. 157 ГПК РФ)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цессуальные сроки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Процессуальные сроки установлены статьями 107-112  и рядом других статей ГПК РФ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Установление процессуальных сроков способствует оперативному и своевременному рассмотрению гражданского дела в суде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Виды процессуальных сроков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овленные законом (обязательны для суда и для лиц, участвующих в деле, и не могут быть изменены);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, устанавливаемые судом (устанавливаются судом только для лиц, участвующих в процессе, и в случае необходимости могут быть изменены самим суд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роки для суда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Могут быть установлены только законом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Сроки рассмотрения дел в суде первой инстанции подразделяются на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общи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 и </a:t>
            </a:r>
            <a:r>
              <a:rPr b="1" i="1" lang="ru-RU" sz="2800" spc="-1" strike="noStrike">
                <a:solidFill>
                  <a:srgbClr val="003366"/>
                </a:solidFill>
                <a:latin typeface="Times New Roman"/>
              </a:rPr>
              <a:t>сокращённые</a:t>
            </a: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Times New Roman"/>
              </a:rPr>
              <a:t>Общий срок – до истечения двух месяцев со дня поступления заявления в суд, а мировым судьёй – до истечения месяца со дня принятия заявления к производству (ст.154 ГПК  РФ).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1.3. Метод гражданского процессуального права – совокупность средств, приемов и способов, с помощью которых право воздействует на гражданско-процессуальные отношения.</a:t>
            </a:r>
            <a:br>
              <a:rPr sz="1600"/>
            </a:b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       Метод гражданско-процессуального права - императивно-диспозитивный, с преобладанием императивных норм.</a:t>
            </a:r>
            <a:endParaRPr b="1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4. Система гражданского процессуального права подразделяется на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ую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и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ую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част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бще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определяющие гражданское судопроизводство и его задачи; принципы; подсудность и подведомственность; правое положение участников гражданского процесса; доказательства и доказывание; судебные расходы и судебные штрафы, процессуальные сроки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К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Особенной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 части относятся нормы ГПК РФ, регулирующие различные стадии гражданского процесс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5. </a:t>
            </a:r>
            <a:r>
              <a:rPr b="1" lang="ru-RU" sz="1600" spc="-1" strike="noStrike">
                <a:solidFill>
                  <a:srgbClr val="8668e8"/>
                </a:solidFill>
                <a:latin typeface="Times New Roman"/>
              </a:rPr>
              <a:t>Цель гражданского судопроизводства – </a:t>
            </a: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защита нарушенных или оспариваемых прав, свобод, законных интересов субъектов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8668e8"/>
                </a:solidFill>
                <a:latin typeface="Times New Roman"/>
              </a:rPr>
              <a:t>1.6. Гражданское процессуальное право является составной частью системы всего права российского государства.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47560" y="429840"/>
            <a:ext cx="795816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ff"/>
                </a:solidFill>
                <a:latin typeface="Times New Roman"/>
              </a:rPr>
              <a:t>Сокращённый срок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66"/>
                </a:solidFill>
                <a:latin typeface="Times New Roman"/>
              </a:rPr>
              <a:t>Для некоторых категорий дел установлен сокращённый срок их рассмотрения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4"/>
          <p:cNvSpPr/>
          <p:nvPr/>
        </p:nvSpPr>
        <p:spPr>
          <a:xfrm>
            <a:off x="3635280" y="260280"/>
            <a:ext cx="2210040" cy="685800"/>
          </a:xfrm>
          <a:prstGeom prst="rect">
            <a:avLst/>
          </a:prstGeom>
          <a:solidFill>
            <a:srgbClr val="00ccff"/>
          </a:solidFill>
          <a:ln w="38160">
            <a:solidFill>
              <a:srgbClr val="00ff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Систем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ю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ридических нау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6"/>
          <p:cNvSpPr/>
          <p:nvPr/>
        </p:nvSpPr>
        <p:spPr>
          <a:xfrm>
            <a:off x="3635280" y="1341360"/>
            <a:ext cx="223200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Отраслев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7"/>
          <p:cNvSpPr/>
          <p:nvPr/>
        </p:nvSpPr>
        <p:spPr>
          <a:xfrm>
            <a:off x="6516720" y="1341360"/>
            <a:ext cx="194292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Прикладные 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AutoShape 8"/>
          <p:cNvSpPr/>
          <p:nvPr/>
        </p:nvSpPr>
        <p:spPr>
          <a:xfrm>
            <a:off x="468360" y="1341360"/>
            <a:ext cx="2519280" cy="649440"/>
          </a:xfrm>
          <a:prstGeom prst="flowChartProcess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7819" dir="2700000" blurRad="0" rotWithShape="0">
              <a:srgbClr val="cbd5d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Историко-теоретическ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нау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10"/>
          <p:cNvSpPr/>
          <p:nvPr/>
        </p:nvSpPr>
        <p:spPr>
          <a:xfrm>
            <a:off x="3635280" y="220500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нституционн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11"/>
          <p:cNvSpPr/>
          <p:nvPr/>
        </p:nvSpPr>
        <p:spPr>
          <a:xfrm>
            <a:off x="468360" y="220500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ория государ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12"/>
          <p:cNvSpPr/>
          <p:nvPr/>
        </p:nvSpPr>
        <p:spPr>
          <a:xfrm>
            <a:off x="6516720" y="220500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ал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13"/>
          <p:cNvSpPr/>
          <p:nvPr/>
        </p:nvSpPr>
        <p:spPr>
          <a:xfrm>
            <a:off x="3635280" y="2997360"/>
            <a:ext cx="223200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дминистратив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14"/>
          <p:cNvSpPr/>
          <p:nvPr/>
        </p:nvSpPr>
        <p:spPr>
          <a:xfrm>
            <a:off x="468360" y="2997360"/>
            <a:ext cx="25192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а Ро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5"/>
          <p:cNvSpPr/>
          <p:nvPr/>
        </p:nvSpPr>
        <p:spPr>
          <a:xfrm>
            <a:off x="6516720" y="2997360"/>
            <a:ext cx="194292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рими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468360" y="3789360"/>
            <a:ext cx="25192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государства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а зарубежных стр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7"/>
          <p:cNvSpPr/>
          <p:nvPr/>
        </p:nvSpPr>
        <p:spPr>
          <a:xfrm>
            <a:off x="3635280" y="4581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8"/>
          <p:cNvSpPr/>
          <p:nvPr/>
        </p:nvSpPr>
        <p:spPr>
          <a:xfrm>
            <a:off x="6516720" y="3789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удебн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медиц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9"/>
          <p:cNvSpPr/>
          <p:nvPr/>
        </p:nvSpPr>
        <p:spPr>
          <a:xfrm>
            <a:off x="3635280" y="378936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Граждан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20"/>
          <p:cNvSpPr/>
          <p:nvPr/>
        </p:nvSpPr>
        <p:spPr>
          <a:xfrm>
            <a:off x="6516720" y="458136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Юридическ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сих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21"/>
          <p:cNvSpPr/>
          <p:nvPr/>
        </p:nvSpPr>
        <p:spPr>
          <a:xfrm>
            <a:off x="3635280" y="5373720"/>
            <a:ext cx="2232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22"/>
          <p:cNvSpPr/>
          <p:nvPr/>
        </p:nvSpPr>
        <p:spPr>
          <a:xfrm>
            <a:off x="468360" y="458136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стория политически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 правовых уче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23"/>
          <p:cNvSpPr/>
          <p:nvPr/>
        </p:nvSpPr>
        <p:spPr>
          <a:xfrm>
            <a:off x="4716360" y="981000"/>
            <a:ext cx="0" cy="36036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Line 24"/>
          <p:cNvSpPr/>
          <p:nvPr/>
        </p:nvSpPr>
        <p:spPr>
          <a:xfrm>
            <a:off x="1619280" y="1125360"/>
            <a:ext cx="5905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25"/>
          <p:cNvSpPr/>
          <p:nvPr/>
        </p:nvSpPr>
        <p:spPr>
          <a:xfrm>
            <a:off x="161928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26"/>
          <p:cNvSpPr/>
          <p:nvPr/>
        </p:nvSpPr>
        <p:spPr>
          <a:xfrm>
            <a:off x="7524720" y="1125360"/>
            <a:ext cx="0" cy="2160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27"/>
          <p:cNvSpPr/>
          <p:nvPr/>
        </p:nvSpPr>
        <p:spPr>
          <a:xfrm>
            <a:off x="6516720" y="5373720"/>
            <a:ext cx="19429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ав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статис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Line 29"/>
          <p:cNvSpPr/>
          <p:nvPr/>
        </p:nvSpPr>
        <p:spPr>
          <a:xfrm flipH="1">
            <a:off x="3419280" y="1700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Line 30"/>
          <p:cNvSpPr/>
          <p:nvPr/>
        </p:nvSpPr>
        <p:spPr>
          <a:xfrm>
            <a:off x="3419640" y="1700280"/>
            <a:ext cx="0" cy="403380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Line 31"/>
          <p:cNvSpPr/>
          <p:nvPr/>
        </p:nvSpPr>
        <p:spPr>
          <a:xfrm>
            <a:off x="3419640" y="57340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Line 32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33"/>
          <p:cNvSpPr/>
          <p:nvPr/>
        </p:nvSpPr>
        <p:spPr>
          <a:xfrm>
            <a:off x="3419640" y="4076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34"/>
          <p:cNvSpPr/>
          <p:nvPr/>
        </p:nvSpPr>
        <p:spPr>
          <a:xfrm>
            <a:off x="3419640" y="328464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35"/>
          <p:cNvSpPr/>
          <p:nvPr/>
        </p:nvSpPr>
        <p:spPr>
          <a:xfrm>
            <a:off x="3419640" y="2421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Line 36"/>
          <p:cNvSpPr/>
          <p:nvPr/>
        </p:nvSpPr>
        <p:spPr>
          <a:xfrm flipH="1">
            <a:off x="250920" y="1628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Line 37"/>
          <p:cNvSpPr/>
          <p:nvPr/>
        </p:nvSpPr>
        <p:spPr>
          <a:xfrm>
            <a:off x="250920" y="1628640"/>
            <a:ext cx="0" cy="33130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Line 38"/>
          <p:cNvSpPr/>
          <p:nvPr/>
        </p:nvSpPr>
        <p:spPr>
          <a:xfrm flipH="1">
            <a:off x="250560" y="4941720"/>
            <a:ext cx="7308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Line 39"/>
          <p:cNvSpPr/>
          <p:nvPr/>
        </p:nvSpPr>
        <p:spPr>
          <a:xfrm>
            <a:off x="250920" y="494172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Line 40"/>
          <p:cNvSpPr/>
          <p:nvPr/>
        </p:nvSpPr>
        <p:spPr>
          <a:xfrm>
            <a:off x="250920" y="4076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41"/>
          <p:cNvSpPr/>
          <p:nvPr/>
        </p:nvSpPr>
        <p:spPr>
          <a:xfrm>
            <a:off x="250920" y="328464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Line 43"/>
          <p:cNvSpPr/>
          <p:nvPr/>
        </p:nvSpPr>
        <p:spPr>
          <a:xfrm>
            <a:off x="250920" y="2421000"/>
            <a:ext cx="21744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Line 44"/>
          <p:cNvSpPr/>
          <p:nvPr/>
        </p:nvSpPr>
        <p:spPr>
          <a:xfrm>
            <a:off x="8459640" y="1700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Line 45"/>
          <p:cNvSpPr/>
          <p:nvPr/>
        </p:nvSpPr>
        <p:spPr>
          <a:xfrm>
            <a:off x="8675640" y="1700280"/>
            <a:ext cx="0" cy="396072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Line 46"/>
          <p:cNvSpPr/>
          <p:nvPr/>
        </p:nvSpPr>
        <p:spPr>
          <a:xfrm flipH="1">
            <a:off x="8459640" y="5661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Line 47"/>
          <p:cNvSpPr/>
          <p:nvPr/>
        </p:nvSpPr>
        <p:spPr>
          <a:xfrm>
            <a:off x="8459640" y="486900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Line 48"/>
          <p:cNvSpPr/>
          <p:nvPr/>
        </p:nvSpPr>
        <p:spPr>
          <a:xfrm>
            <a:off x="8459640" y="4076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Line 49"/>
          <p:cNvSpPr/>
          <p:nvPr/>
        </p:nvSpPr>
        <p:spPr>
          <a:xfrm>
            <a:off x="8459640" y="328464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Line 50"/>
          <p:cNvSpPr/>
          <p:nvPr/>
        </p:nvSpPr>
        <p:spPr>
          <a:xfrm>
            <a:off x="8459640" y="2492280"/>
            <a:ext cx="21600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51"/>
          <p:cNvSpPr/>
          <p:nvPr/>
        </p:nvSpPr>
        <p:spPr>
          <a:xfrm>
            <a:off x="468360" y="5373720"/>
            <a:ext cx="244800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голов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цессуальн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52"/>
          <p:cNvSpPr/>
          <p:nvPr/>
        </p:nvSpPr>
        <p:spPr>
          <a:xfrm>
            <a:off x="3635280" y="6165720"/>
            <a:ext cx="2232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Экологическ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53"/>
          <p:cNvSpPr/>
          <p:nvPr/>
        </p:nvSpPr>
        <p:spPr>
          <a:xfrm>
            <a:off x="468360" y="6165720"/>
            <a:ext cx="2448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  <a:effectLst>
            <a:outerShdw dist="153753" dir="2700000" blurRad="0" rotWithShape="0">
              <a:srgbClr val="cbd5d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рудовое пра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Line 54"/>
          <p:cNvSpPr/>
          <p:nvPr/>
        </p:nvSpPr>
        <p:spPr>
          <a:xfrm>
            <a:off x="3419640" y="573408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Line 55"/>
          <p:cNvSpPr/>
          <p:nvPr/>
        </p:nvSpPr>
        <p:spPr>
          <a:xfrm flipH="1">
            <a:off x="2916000" y="6453360"/>
            <a:ext cx="7189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8" name="Rectangle 20"/>
          <p:cNvSpPr/>
          <p:nvPr/>
        </p:nvSpPr>
        <p:spPr>
          <a:xfrm>
            <a:off x="1403280" y="333360"/>
            <a:ext cx="6769080" cy="1274760"/>
          </a:xfrm>
          <a:prstGeom prst="rect">
            <a:avLst/>
          </a:prstGeom>
          <a:solidFill>
            <a:srgbClr val="8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ff"/>
                </a:solidFill>
                <a:latin typeface="Times New Roman"/>
              </a:rPr>
              <a:t>Задачи гражданского судопроизвод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21"/>
          <p:cNvSpPr/>
          <p:nvPr/>
        </p:nvSpPr>
        <p:spPr>
          <a:xfrm>
            <a:off x="971640" y="1916280"/>
            <a:ext cx="777708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авиль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22"/>
          <p:cNvSpPr/>
          <p:nvPr/>
        </p:nvSpPr>
        <p:spPr>
          <a:xfrm>
            <a:off x="971640" y="278136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воевременное рассмотрение и разрешение де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23"/>
          <p:cNvSpPr/>
          <p:nvPr/>
        </p:nvSpPr>
        <p:spPr>
          <a:xfrm>
            <a:off x="971640" y="3645000"/>
            <a:ext cx="777708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ащита прав, законных интересов субъект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24"/>
          <p:cNvSpPr/>
          <p:nvPr/>
        </p:nvSpPr>
        <p:spPr>
          <a:xfrm>
            <a:off x="971640" y="5300640"/>
            <a:ext cx="777708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епление законности и правопоряд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25"/>
          <p:cNvSpPr/>
          <p:nvPr/>
        </p:nvSpPr>
        <p:spPr>
          <a:xfrm>
            <a:off x="971640" y="450864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едупреждение правонару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26"/>
          <p:cNvSpPr/>
          <p:nvPr/>
        </p:nvSpPr>
        <p:spPr>
          <a:xfrm>
            <a:off x="971640" y="6093000"/>
            <a:ext cx="7777080" cy="576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формирование уважения к закону и суд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27"/>
          <p:cNvSpPr/>
          <p:nvPr/>
        </p:nvSpPr>
        <p:spPr>
          <a:xfrm>
            <a:off x="468360" y="836640"/>
            <a:ext cx="0" cy="547200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28"/>
          <p:cNvSpPr/>
          <p:nvPr/>
        </p:nvSpPr>
        <p:spPr>
          <a:xfrm>
            <a:off x="468360" y="836640"/>
            <a:ext cx="934920" cy="0"/>
          </a:xfrm>
          <a:prstGeom prst="line">
            <a:avLst/>
          </a:prstGeom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29"/>
          <p:cNvSpPr/>
          <p:nvPr/>
        </p:nvSpPr>
        <p:spPr>
          <a:xfrm>
            <a:off x="468360" y="2276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Line 30"/>
          <p:cNvSpPr/>
          <p:nvPr/>
        </p:nvSpPr>
        <p:spPr>
          <a:xfrm>
            <a:off x="468360" y="306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Line 31"/>
          <p:cNvSpPr/>
          <p:nvPr/>
        </p:nvSpPr>
        <p:spPr>
          <a:xfrm>
            <a:off x="468360" y="3933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Line 32"/>
          <p:cNvSpPr/>
          <p:nvPr/>
        </p:nvSpPr>
        <p:spPr>
          <a:xfrm>
            <a:off x="468360" y="479736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Line 33"/>
          <p:cNvSpPr/>
          <p:nvPr/>
        </p:nvSpPr>
        <p:spPr>
          <a:xfrm>
            <a:off x="468360" y="558972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Line 34"/>
          <p:cNvSpPr/>
          <p:nvPr/>
        </p:nvSpPr>
        <p:spPr>
          <a:xfrm>
            <a:off x="468360" y="6308640"/>
            <a:ext cx="503280" cy="0"/>
          </a:xfrm>
          <a:prstGeom prst="line">
            <a:avLst/>
          </a:prstGeom>
          <a:ln w="190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900000" y="765000"/>
            <a:ext cx="7559640" cy="1202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еделы действия норм гражданского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процессуального пра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468360" y="3284640"/>
            <a:ext cx="257004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ремен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564000" y="3284640"/>
            <a:ext cx="223200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остранств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6300720" y="3284640"/>
            <a:ext cx="2374920" cy="1296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ругу ли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Line 12"/>
          <p:cNvSpPr/>
          <p:nvPr/>
        </p:nvSpPr>
        <p:spPr>
          <a:xfrm>
            <a:off x="4500720" y="2492280"/>
            <a:ext cx="302400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Line 13"/>
          <p:cNvSpPr/>
          <p:nvPr/>
        </p:nvSpPr>
        <p:spPr>
          <a:xfrm flipH="1">
            <a:off x="1835280" y="2492280"/>
            <a:ext cx="2665440" cy="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4"/>
          <p:cNvSpPr/>
          <p:nvPr/>
        </p:nvSpPr>
        <p:spPr>
          <a:xfrm>
            <a:off x="183528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5"/>
          <p:cNvSpPr/>
          <p:nvPr/>
        </p:nvSpPr>
        <p:spPr>
          <a:xfrm>
            <a:off x="752472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4788000" y="2492280"/>
            <a:ext cx="0" cy="64944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Line 20"/>
          <p:cNvSpPr/>
          <p:nvPr/>
        </p:nvSpPr>
        <p:spPr>
          <a:xfrm flipV="1">
            <a:off x="4788000" y="1989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8" name="Rectangle 24"/>
          <p:cNvSpPr/>
          <p:nvPr/>
        </p:nvSpPr>
        <p:spPr>
          <a:xfrm>
            <a:off x="468360" y="333360"/>
            <a:ext cx="8207280" cy="1655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Общее правило действия граждански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процессуальных норм во време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26"/>
          <p:cNvSpPr/>
          <p:nvPr/>
        </p:nvSpPr>
        <p:spPr>
          <a:xfrm>
            <a:off x="468360" y="2708280"/>
            <a:ext cx="8207280" cy="338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Гражданское судопроизводство ведётся в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соответствии с  федеральными законами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действующими во время рассмотр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и разрешения гражданского дела, совершения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ff"/>
                </a:solidFill>
                <a:latin typeface="Times New Roman"/>
              </a:rPr>
              <a:t>определённых процессуальных действ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8"/>
          <p:cNvSpPr/>
          <p:nvPr/>
        </p:nvSpPr>
        <p:spPr>
          <a:xfrm>
            <a:off x="4356000" y="1989000"/>
            <a:ext cx="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4" name="Rectangle 4"/>
          <p:cNvSpPr/>
          <p:nvPr/>
        </p:nvSpPr>
        <p:spPr>
          <a:xfrm>
            <a:off x="1042920" y="836640"/>
            <a:ext cx="6985080" cy="134604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 в пространств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5"/>
          <p:cNvSpPr/>
          <p:nvPr/>
        </p:nvSpPr>
        <p:spPr>
          <a:xfrm>
            <a:off x="611280" y="3141720"/>
            <a:ext cx="7705800" cy="2448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всей территории Российской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Федерации действуют нормы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ражданского процессуального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законодательства Р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Line 6"/>
          <p:cNvSpPr/>
          <p:nvPr/>
        </p:nvSpPr>
        <p:spPr>
          <a:xfrm>
            <a:off x="4284720" y="2205000"/>
            <a:ext cx="0" cy="79236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0" name="Rectangle 4"/>
          <p:cNvSpPr/>
          <p:nvPr/>
        </p:nvSpPr>
        <p:spPr>
          <a:xfrm>
            <a:off x="1332000" y="620640"/>
            <a:ext cx="6697440" cy="1584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Действие гражданско-правовых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Times New Roman"/>
              </a:rPr>
              <a:t>норм по кругу лиц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5"/>
          <p:cNvSpPr/>
          <p:nvPr/>
        </p:nvSpPr>
        <p:spPr>
          <a:xfrm>
            <a:off x="539640" y="2708280"/>
            <a:ext cx="8136000" cy="3025800"/>
          </a:xfrm>
          <a:prstGeom prst="rect">
            <a:avLst/>
          </a:prstGeom>
          <a:solidFill>
            <a:srgbClr val="a9bee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ействие гражданско-процессуальны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орм распространяется на всех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астников гражданского процес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зависимо от их национальнос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и граждан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Line 6"/>
          <p:cNvSpPr/>
          <p:nvPr/>
        </p:nvSpPr>
        <p:spPr>
          <a:xfrm>
            <a:off x="4572000" y="2205000"/>
            <a:ext cx="0" cy="503280"/>
          </a:xfrm>
          <a:prstGeom prst="line">
            <a:avLst/>
          </a:prstGeom>
          <a:ln w="28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4T19:00:21Z</dcterms:created>
  <dc:creator>HOME</dc:creator>
  <dc:description/>
  <dc:language>en-US</dc:language>
  <cp:lastModifiedBy>LEGION</cp:lastModifiedBy>
  <dcterms:modified xsi:type="dcterms:W3CDTF">2016-01-04T08:07:08Z</dcterms:modified>
  <cp:revision>27</cp:revision>
  <dc:subject/>
  <dc:title>Гражданское процессуальное право</dc:title>
</cp:coreProperties>
</file>