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405C-35FB-456A-867F-1D78C2F2A6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. Факторы влияющие на 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спроса. Факторы влияющие на спр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igr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ая эластичность спроса –показывает степень количественного изменения величины спроса под влиянием  изменения цены, дохода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носительное изменение объема спроса под влиянием изменения цены на 1 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–показывает степень количественного изменения величины спроса под влиянием  изменения цены, дохода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носительное изменение объема спроса под влиянием изменения цены на 1 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ценовой эластичности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 (E Pd &gt; 1): цена изменяется меньше, чем изменяется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 (E Pd &lt;1): цена изменяется больше, чем изменяется величин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ая эластичность спроса (E Pd =1): цена и величина спроса изменятся одинако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эластичный спрос (E Pd =∞): цена постоянна – величина спроса меняе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неэластичный спрос (E Pd =0): цена меняется – спрос постоян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ценовой эластичности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 спрос (E Pd &gt; 1): цена изменяется меньше, чем изменяется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 (E Pd &lt;1): цена изменяется больше, чем изменяется величина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 спроса (E Pd =1): цена и величина спроса изменятся одинако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но эластичный спрос (E Pd =∞): цена постоянна – величина спроса меняет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но неэластичный спрос (E Pd =0): цена меняется – спрос постоян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оварам с эластичным спросом обычно относя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роскоши (ковры, драгоценности, деликатес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, стоимость которых ощутима для семейного бюджета (мебель, телевизор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заменяемые товары (отдельные виды продуктов пита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с неэластичным спросом включ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первой необходимости (лекарства, обувь, электричество, телефон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заменяемые товары (электрические лампочки, бензин, клавиатура и т. 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варам с эластичным спросом обычно относя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роскоши (ковры, драгоценности, деликатес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, стоимость которых ощутима для семейного бюджета (мебель, телевизор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озаменяемые товары (отдельные виды продуктов пита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с неэластичным спросом включа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первой необходимости (лекарства, обувь, электричество, телефон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заменяемые товары (электрические лампочки, бензин, клавиатура и т. 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или неэластичный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ь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автомобили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ные отбивные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ск в Европе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ин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ин в одной из четырех аптек большого торгового центра___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ин, покупаемый через день после увеличения его цены на 20%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ин, покупаемый через год после увеличения его цены на 20%_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 или неэластичны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автомобили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ные отбивные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уск в Европе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улин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улин в одной из четырех аптек большого торгового центра___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нзин, покупаемый через день после увеличения его цены на 20%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нзин, покупаемый через год после увеличения его цены на 20%_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линейной функции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ксимум выруч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линейной функции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аксимум выруч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&gt;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&gt;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&lt;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&lt;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диничная эластичность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=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диничная эластичность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=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 – это зависимость между количеством товара, который покупатели хотят и могут купить, 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 – это зависимость между количеством товара, который покупатели хотят и могут купить, 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спроса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солютно 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 =&gt;∞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бсолютно 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 =&gt;∞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солютно 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=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бсолютно 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=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спроса от уровня цены называется шкал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величины спроса от уровня цены называется шкал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demand – "спрос") называется кривой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точек кривой отображает зависимость величины спроса от уровня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demand – "спрос") называется кривой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точек кривой отображает зависимость величины спроса от уровня ц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 объясняется действием эффектов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 – при росте цены на благо покупатель старается заменить его другим схожим благ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 – при росте цены реальный доход потребителя снижается, то есть на свой доход он уже может купить меньше бл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 объясняется действием эффектов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 – при росте цены на благо покупатель старается заменить его другим схожим благ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 – при росте цены реальный доход потребителя снижается, то есть на свой доход он уже может купить меньше бла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ый спрос зависит от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ой фактор: изменение цены ведет к изменению величины спроса, что графически изображается движением вдоль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ведут к изменению спроса, что графически изображается сдвигом кривой спроса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спрос зависит от факт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фактор: изменение цены ведет к изменению величины спроса, что графически изображается движением вдоль крив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 ведут к изменению спроса, что графически изображается сдвигом кривой спроса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1      Q         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1      Q         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ЗМЕНЕНИЯ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есите каждое изменение спроса из Части I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вкусов потреб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доходов потреб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числа потребителей на рын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цены товара-замен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цены дополняюще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ИЗМЕНЕН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ите каждое изменение спроса из Части I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вкусов потреб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доходов потреб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числа потребителей на рын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цены товара-замените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цены дополняющего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485-6231-40C5-B6F0-835125E4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A33F-54D1-4C2E-A847-5EFD2992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817-8A62-45E8-9A1D-17A715BE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0C54-9F84-45C3-8A24-CE302C02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3819-C380-4F79-A54C-ABABE65F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FB26-0AC4-47FE-82B6-A9BC878F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935A-1329-4B93-8500-DA5EFA80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715E-C0A2-40D3-B1D1-75290A8C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F459-28AF-4ED3-B35B-FF30A66C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007E-41B8-491B-AA1E-57F72F9F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D4F7-B5C4-4C89-944E-B1E50F90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C993-3802-4DE7-9D5C-DF6BC8E8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540B-ABB1-4986-A8B0-938772F9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FF09-AA9B-44E4-B003-42E2514F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B2D8-A806-47AC-B07B-94C16ECF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14CD-E673-4081-8BC0-84C85D06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F840-5F83-477D-A8FF-8CE11598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90D0A-A6CD-48CB-925F-01C879BA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0FC61-453C-40BE-B00A-0DC3C686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7DF9F-E410-4036-B176-FC87A5C7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7704E-3468-4200-ADB9-F120B08D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4FCAA-3E95-48AF-9067-96B21D19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617-05D3-4988-BB5C-49D07DE2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F33FE-9A78-4A58-8C4C-494F0DCF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86CB3-4382-431C-B004-F5BF7F77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29D79-1A1A-47DB-BD3D-23237459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0DEBC-E9C9-4B87-B945-058E0570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AE7BB-AC03-4A2E-8891-7A6E9494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C6103-A9B4-4BE3-B114-6D8C9E91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A44DC-D252-4AAF-B15B-BB82813E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3604F-916C-4544-958A-F03C69DE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71B43-2EAC-466C-A343-95E7F91B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D3F39-FB51-4584-A803-9768B8ED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5C8E-83BD-4F33-AD00-A76C8EEA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9EA63-CDB6-445A-865D-B1E66154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3AC91-0DDC-4D49-A191-D2A00BF6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2B249-D90B-4C10-9C6E-5715C044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0A0A0-EA43-41D9-9505-9A72FA2E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0DAEE-1432-4C5B-9B98-DB1E3E9C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367A7-80F2-4BAD-B751-B02ABA0A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8109B-47FD-4C03-9AC6-B679360A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53967-E5CD-4A43-B3B2-C481467D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DFFCC-ED05-4F2C-8B0D-24535B09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F6B-9248-43D1-86C6-3CE06EBE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448-D7AA-428D-85C9-8ED64ED0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595-3DE2-40AA-95D3-3008F901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4D8A-4875-42F3-ABC3-94DB2270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ED7-4ED7-4252-8C8D-14065B7D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76A8-EBD4-466D-8698-E786A16BA795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75A7-2C69-4750-A5F7-5C6A5E2791C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111E-EB4A-41FC-BDAC-17A67B8EC815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DC4A-4635-453C-A888-4EDEF93F20D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B51A-7670-4A0F-BA9D-80DD730F850E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8BBC-E7A7-466A-B095-5BF594D2F93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03B2-3447-4FE1-9A3D-B04CB64AB432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129D-3B89-4F16-A2C8-0CD62C3D7F3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719280" y="1073160"/>
            <a:ext cx="7364160" cy="370692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28440" y="400032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alibri"/>
              </a:rPr>
              <a:t>Ценовая эластичность спроса </a:t>
            </a:r>
            <a:r>
              <a:rPr b="0" lang="ru-RU" sz="3600" spc="-1" strike="noStrike">
                <a:solidFill>
                  <a:srgbClr val="3333cc"/>
                </a:solidFill>
                <a:latin typeface="Calibri"/>
              </a:rPr>
              <a:t>–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казывает степень количественного изменения величины спроса под влиянием  изменения цены, дохода. 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носительное изменение объема спроса под влиянием изменения цены на 1 %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)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2857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очечная эластично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714240" y="1285920"/>
                <a:ext cx="721836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1000080" y="3571920"/>
                <a:ext cx="4281480" cy="27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-эластичность  спроса  по  цене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ая  цена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ая  цен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ый  объем  спрос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ый  объем  спро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уговая эластичность спро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"/>
              <p:cNvSpPr txBox="1"/>
              <p:nvPr/>
            </p:nvSpPr>
            <p:spPr>
              <a:xfrm>
                <a:off x="714240" y="1357200"/>
                <a:ext cx="7358040" cy="24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1000080" y="3857760"/>
                <a:ext cx="4281480" cy="27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-эластичность  спроса  по  цене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ая  цена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ая  цен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ый  объем  спрос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ый  объем  спро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иды ценовой эластичности спрос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685800" y="1052640"/>
            <a:ext cx="817236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Эластичный спрос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&gt; 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изменяется меньше, чем изменяется величина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еэластичный спрос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&lt;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цена изменяется больше, чем изменяется величина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Единичная эластичность спрос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цена и величина спроса изменятся одинак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вершенно эластичный спрос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∞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постоянна – величина спроса меняет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вершенно неэластичный спрос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меняется – спрос постоян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53"/>
          <p:cNvSpPr/>
          <p:nvPr/>
        </p:nvSpPr>
        <p:spPr>
          <a:xfrm>
            <a:off x="571680" y="1166760"/>
            <a:ext cx="814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товарам с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эластичным спросом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ычно относя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меты роскоши (ковры, драгоценности, деликатесы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, стоимость которых ощутима для семейного бюджета (мебель, телевизор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гкозаменяемые товары (отдельные виды продуктов пит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 с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неэластичным спросом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ключа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меты первой необходимости (лекарства, обувь, электричество, телефон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уднозаменяемые товары (электрические лампочки, бензин, клавиатура и т. 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285840" y="173520"/>
            <a:ext cx="87152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Эластичный или неэластичный?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ль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вые автомобили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иные отбивные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пуск в Европе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 в одной из четырех аптек большого торгового центра__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нзин, покупаемый через день после увеличения его цены на 20%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нзин, покупаемый через год после увеличения его цены на 20%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Object 3"/>
          <p:cNvGraphicFramePr/>
          <p:nvPr/>
        </p:nvGraphicFramePr>
        <p:xfrm>
          <a:off x="214200" y="571680"/>
          <a:ext cx="864072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571680"/>
                    <a:ext cx="86407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Эластичность линейной функции спроса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и максимум выручки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Эластичный спрос (</a:t>
            </a: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8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8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&gt;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1)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1500120" y="2428920"/>
            <a:ext cx="5861160" cy="3429000"/>
          </a:xfrm>
          <a:prstGeom prst="rect">
            <a:avLst/>
          </a:prstGeom>
          <a:ln w="0">
            <a:noFill/>
          </a:ln>
        </p:spPr>
      </p:pic>
      <p:sp>
        <p:nvSpPr>
          <p:cNvPr id="306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эластичный спрос (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5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&lt;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1)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6586560" cy="3771720"/>
          </a:xfrm>
          <a:prstGeom prst="rect">
            <a:avLst/>
          </a:prstGeom>
          <a:ln w="0">
            <a:noFill/>
          </a:ln>
        </p:spPr>
      </p:pic>
      <p:sp>
        <p:nvSpPr>
          <p:cNvPr id="310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Единичная эластичность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=1)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684360" y="1714680"/>
            <a:ext cx="7594560" cy="4479840"/>
          </a:xfrm>
          <a:prstGeom prst="rect">
            <a:avLst/>
          </a:prstGeom>
          <a:ln w="0">
            <a:noFill/>
          </a:ln>
        </p:spPr>
      </p:pic>
      <p:sp>
        <p:nvSpPr>
          <p:cNvPr id="314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1000080" y="1071720"/>
            <a:ext cx="7215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ПРОС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–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то зависимость между количеством товара, который покупатели хотят и могут купить, и ценами на этот тов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1071720" y="3571920"/>
            <a:ext cx="70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еличина спрос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3920" y="428760"/>
            <a:ext cx="6961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Абсолютно эластичный спрос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=&gt;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∞)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1857240" y="2643120"/>
            <a:ext cx="5962680" cy="3353040"/>
          </a:xfrm>
          <a:prstGeom prst="rect">
            <a:avLst/>
          </a:prstGeom>
          <a:ln w="0">
            <a:noFill/>
          </a:ln>
        </p:spPr>
      </p:pic>
      <p:sp>
        <p:nvSpPr>
          <p:cNvPr id="318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064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Абсолютно неэластичный спрос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=0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071720" y="2143080"/>
            <a:ext cx="6364080" cy="3697200"/>
          </a:xfrm>
          <a:prstGeom prst="rect">
            <a:avLst/>
          </a:prstGeom>
          <a:ln w="0">
            <a:noFill/>
          </a:ln>
        </p:spPr>
      </p:pic>
      <p:sp>
        <p:nvSpPr>
          <p:cNvPr id="322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Зависимость величины спроса от уровня цены называется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шкалой спрос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14680" y="2286000"/>
          <a:ext cx="5405400" cy="2225520"/>
        </p:xfrm>
        <a:graphic>
          <a:graphicData uri="http://schemas.openxmlformats.org/drawingml/2006/table">
            <a:tbl>
              <a:tblPr/>
              <a:tblGrid>
                <a:gridCol w="2703240"/>
                <a:gridCol w="2702160"/>
              </a:tblGrid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ен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на спроса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</a:t>
            </a: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demand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 – "спрос") называется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кривой спрос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3" descr="C:\Program Files\Образовательные комплексы\Экономика, 9-11 кл. Практикум\edu_ep\data\res\res19507240-3846-493E-A055-48393A3F50E6"/>
          <p:cNvPicPr/>
          <p:nvPr/>
        </p:nvPicPr>
        <p:blipFill>
          <a:blip r:embed="rId1"/>
          <a:stretch/>
        </p:blipFill>
        <p:spPr>
          <a:xfrm>
            <a:off x="3643200" y="2214720"/>
            <a:ext cx="5048280" cy="34290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428760" y="2500200"/>
            <a:ext cx="2714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ждая из точек кривой отображает зависимость величины спроса от уровня ц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кон спро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457200" y="1600200"/>
            <a:ext cx="8472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aw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f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emand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) — величина спроса находится в обратной зависимости от цен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ыше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иже величина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ыше величина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иже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право 6"/>
          <p:cNvSpPr/>
          <p:nvPr/>
        </p:nvSpPr>
        <p:spPr>
          <a:xfrm rot="1528200">
            <a:off x="2936520" y="3648240"/>
            <a:ext cx="1087560" cy="285480"/>
          </a:xfrm>
          <a:prstGeom prst="rightArrow">
            <a:avLst>
              <a:gd name="adj1" fmla="val 50000"/>
              <a:gd name="adj2" fmla="val 50054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право 7"/>
          <p:cNvSpPr/>
          <p:nvPr/>
        </p:nvSpPr>
        <p:spPr>
          <a:xfrm rot="20366400">
            <a:off x="3008160" y="4862520"/>
            <a:ext cx="1087560" cy="285840"/>
          </a:xfrm>
          <a:prstGeom prst="rightArrow">
            <a:avLst>
              <a:gd name="adj1" fmla="val 50000"/>
              <a:gd name="adj2" fmla="val 49991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1760" y="692280"/>
            <a:ext cx="79311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Закон спроса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бъясняется действием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эффектов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: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42960" y="1071720"/>
            <a:ext cx="785808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onstantia"/>
              </a:rPr>
              <a:t>Эффект замещения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при росте цены на благо покупатель старается заменить его другим схожим благ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onstantia"/>
              </a:rPr>
              <a:t>Эффект дохода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при росте цены реальный доход потребителя снижается, то есть на свой доход он уже может купить меньше бла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50004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ыночный спрос зависит от фактор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Ценовой фактор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: изменение цены ведет к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изменению величины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, что графически изображается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вижением вдоль кривой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Неценовые факторы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едут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к изменению спроса,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что графически изображается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двигом кривой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428760" y="214200"/>
          <a:ext cx="8429400" cy="6291360"/>
        </p:xfrm>
        <a:graphic>
          <a:graphicData uri="http://schemas.openxmlformats.org/drawingml/2006/table">
            <a:tbl>
              <a:tblPr/>
              <a:tblGrid>
                <a:gridCol w="3786120"/>
                <a:gridCol w="46432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на спро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, есл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14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 цена данного това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 количество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доходы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цены товаров, связанных с данны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меняющих данны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полняющих данны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вкусы и предпочтения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жидаются изменения в доходах покупателей или в ценах товаров и услу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6" name="Группа 43"/>
          <p:cNvGrpSpPr/>
          <p:nvPr/>
        </p:nvGrpSpPr>
        <p:grpSpPr>
          <a:xfrm>
            <a:off x="5060880" y="3950640"/>
            <a:ext cx="2805480" cy="1967760"/>
            <a:chOff x="5060880" y="3950640"/>
            <a:chExt cx="2805480" cy="1967760"/>
          </a:xfrm>
        </p:grpSpPr>
        <p:grpSp>
          <p:nvGrpSpPr>
            <p:cNvPr id="227" name="Группа 43"/>
            <p:cNvGrpSpPr/>
            <p:nvPr/>
          </p:nvGrpSpPr>
          <p:grpSpPr>
            <a:xfrm>
              <a:off x="5060880" y="3950640"/>
              <a:ext cx="2805480" cy="1967760"/>
              <a:chOff x="5060880" y="3950640"/>
              <a:chExt cx="2805480" cy="1967760"/>
            </a:xfrm>
          </p:grpSpPr>
          <p:sp>
            <p:nvSpPr>
              <p:cNvPr id="228" name="Прямая соединительная линия 30"/>
              <p:cNvSpPr/>
              <p:nvPr/>
            </p:nvSpPr>
            <p:spPr>
              <a:xfrm>
                <a:off x="5610960" y="4044960"/>
                <a:ext cx="1870200" cy="163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Группа 46"/>
              <p:cNvGrpSpPr/>
              <p:nvPr/>
            </p:nvGrpSpPr>
            <p:grpSpPr>
              <a:xfrm>
                <a:off x="5060880" y="3950640"/>
                <a:ext cx="2805480" cy="1967760"/>
                <a:chOff x="5060880" y="3950640"/>
                <a:chExt cx="2805480" cy="1967760"/>
              </a:xfrm>
            </p:grpSpPr>
            <p:grpSp>
              <p:nvGrpSpPr>
                <p:cNvPr id="230" name="Группа 47"/>
                <p:cNvGrpSpPr/>
                <p:nvPr/>
              </p:nvGrpSpPr>
              <p:grpSpPr>
                <a:xfrm>
                  <a:off x="5060880" y="3950640"/>
                  <a:ext cx="2805480" cy="1967760"/>
                  <a:chOff x="5060880" y="3950640"/>
                  <a:chExt cx="2805480" cy="1967760"/>
                </a:xfrm>
              </p:grpSpPr>
              <p:cxnSp>
                <p:nvCxnSpPr>
                  <p:cNvPr id="231" name="Прямая со стрелкой 34"/>
                  <p:cNvCxnSpPr/>
                  <p:nvPr/>
                </p:nvCxnSpPr>
                <p:spPr>
                  <a:xfrm flipV="1">
                    <a:off x="5060880" y="3950640"/>
                    <a:ext cx="2160" cy="1967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232" name="Прямая со стрелкой 35"/>
                  <p:cNvCxnSpPr/>
                  <p:nvPr/>
                </p:nvCxnSpPr>
                <p:spPr>
                  <a:xfrm>
                    <a:off x="5060880" y="5916600"/>
                    <a:ext cx="2805840" cy="21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sp>
              <p:nvSpPr>
                <p:cNvPr id="233" name="Прямая соединительная линия 33"/>
                <p:cNvSpPr/>
                <p:nvPr/>
              </p:nvSpPr>
              <p:spPr>
                <a:xfrm flipV="1">
                  <a:off x="5071680" y="5071680"/>
                  <a:ext cx="2357640" cy="1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Прямая соединительная линия 29"/>
            <p:cNvSpPr/>
            <p:nvPr/>
          </p:nvSpPr>
          <p:spPr>
            <a:xfrm>
              <a:off x="6215040" y="5072040"/>
              <a:ext cx="17280" cy="846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25"/>
          <p:cNvSpPr/>
          <p:nvPr/>
        </p:nvSpPr>
        <p:spPr>
          <a:xfrm>
            <a:off x="4786200" y="3857760"/>
            <a:ext cx="1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1"/>
          <p:cNvSpPr/>
          <p:nvPr/>
        </p:nvSpPr>
        <p:spPr>
          <a:xfrm>
            <a:off x="7766640" y="59641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9"/>
          <p:cNvSpPr/>
          <p:nvPr/>
        </p:nvSpPr>
        <p:spPr>
          <a:xfrm>
            <a:off x="6215040" y="4000680"/>
            <a:ext cx="1785960" cy="1571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42"/>
          <p:cNvSpPr/>
          <p:nvPr/>
        </p:nvSpPr>
        <p:spPr>
          <a:xfrm>
            <a:off x="5072040" y="4143240"/>
            <a:ext cx="1785960" cy="15004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50"/>
          <p:cNvSpPr/>
          <p:nvPr/>
        </p:nvSpPr>
        <p:spPr>
          <a:xfrm>
            <a:off x="6786720" y="5072040"/>
            <a:ext cx="0" cy="85896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60"/>
          <p:cNvSpPr/>
          <p:nvPr/>
        </p:nvSpPr>
        <p:spPr>
          <a:xfrm flipH="1">
            <a:off x="7429680" y="5073480"/>
            <a:ext cx="1440" cy="85752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Прямая со стрелкой 62"/>
          <p:cNvCxnSpPr/>
          <p:nvPr/>
        </p:nvCxnSpPr>
        <p:spPr>
          <a:xfrm>
            <a:off x="6286320" y="4642920"/>
            <a:ext cx="64332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2" name="Прямая со стрелкой 64"/>
          <p:cNvCxnSpPr/>
          <p:nvPr/>
        </p:nvCxnSpPr>
        <p:spPr>
          <a:xfrm flipH="1" flipV="1">
            <a:off x="5571720" y="4571640"/>
            <a:ext cx="5724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3" name="TextBox 65"/>
          <p:cNvSpPr/>
          <p:nvPr/>
        </p:nvSpPr>
        <p:spPr>
          <a:xfrm>
            <a:off x="6286680" y="421488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6"/>
          <p:cNvSpPr/>
          <p:nvPr/>
        </p:nvSpPr>
        <p:spPr>
          <a:xfrm>
            <a:off x="5643720" y="407196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7"/>
          <p:cNvSpPr/>
          <p:nvPr/>
        </p:nvSpPr>
        <p:spPr>
          <a:xfrm>
            <a:off x="5342760" y="41432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8"/>
          <p:cNvSpPr/>
          <p:nvPr/>
        </p:nvSpPr>
        <p:spPr>
          <a:xfrm>
            <a:off x="5991120" y="40719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9"/>
          <p:cNvSpPr/>
          <p:nvPr/>
        </p:nvSpPr>
        <p:spPr>
          <a:xfrm>
            <a:off x="6557040" y="40719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0"/>
          <p:cNvSpPr/>
          <p:nvPr/>
        </p:nvSpPr>
        <p:spPr>
          <a:xfrm>
            <a:off x="4707000" y="4929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1"/>
          <p:cNvSpPr/>
          <p:nvPr/>
        </p:nvSpPr>
        <p:spPr>
          <a:xfrm>
            <a:off x="5993280" y="592920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1      Q         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Группа 72"/>
          <p:cNvGrpSpPr/>
          <p:nvPr/>
        </p:nvGrpSpPr>
        <p:grpSpPr>
          <a:xfrm>
            <a:off x="708480" y="3786120"/>
            <a:ext cx="3206160" cy="2826360"/>
            <a:chOff x="708480" y="3786120"/>
            <a:chExt cx="3206160" cy="2826360"/>
          </a:xfrm>
        </p:grpSpPr>
        <p:grpSp>
          <p:nvGrpSpPr>
            <p:cNvPr id="251" name="Группа 51"/>
            <p:cNvGrpSpPr/>
            <p:nvPr/>
          </p:nvGrpSpPr>
          <p:grpSpPr>
            <a:xfrm>
              <a:off x="708480" y="3786120"/>
              <a:ext cx="3206160" cy="2504880"/>
              <a:chOff x="708480" y="3786120"/>
              <a:chExt cx="3206160" cy="2504880"/>
            </a:xfrm>
          </p:grpSpPr>
          <p:sp>
            <p:nvSpPr>
              <p:cNvPr id="252" name="TextBox 78"/>
              <p:cNvSpPr/>
              <p:nvPr/>
            </p:nvSpPr>
            <p:spPr>
              <a:xfrm>
                <a:off x="708480" y="430812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Р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Box 79"/>
              <p:cNvSpPr/>
              <p:nvPr/>
            </p:nvSpPr>
            <p:spPr>
              <a:xfrm>
                <a:off x="708480" y="530532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Р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Группа 33"/>
              <p:cNvGrpSpPr/>
              <p:nvPr/>
            </p:nvGrpSpPr>
            <p:grpSpPr>
              <a:xfrm>
                <a:off x="885240" y="3786120"/>
                <a:ext cx="3029400" cy="2504880"/>
                <a:chOff x="885240" y="3786120"/>
                <a:chExt cx="3029400" cy="2504880"/>
              </a:xfrm>
            </p:grpSpPr>
            <p:grpSp>
              <p:nvGrpSpPr>
                <p:cNvPr id="255" name="Группа 32"/>
                <p:cNvGrpSpPr/>
                <p:nvPr/>
              </p:nvGrpSpPr>
              <p:grpSpPr>
                <a:xfrm>
                  <a:off x="885240" y="3786120"/>
                  <a:ext cx="2785680" cy="2090520"/>
                  <a:chOff x="885240" y="3786120"/>
                  <a:chExt cx="2785680" cy="2090520"/>
                </a:xfrm>
              </p:grpSpPr>
              <p:sp>
                <p:nvSpPr>
                  <p:cNvPr id="256" name="Прямая соединительная линия 83"/>
                  <p:cNvSpPr/>
                  <p:nvPr/>
                </p:nvSpPr>
                <p:spPr>
                  <a:xfrm>
                    <a:off x="1135080" y="5399640"/>
                    <a:ext cx="19386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7" name="Группа 31"/>
                  <p:cNvGrpSpPr/>
                  <p:nvPr/>
                </p:nvGrpSpPr>
                <p:grpSpPr>
                  <a:xfrm>
                    <a:off x="885240" y="3786120"/>
                    <a:ext cx="2785680" cy="2090520"/>
                    <a:chOff x="885240" y="3786120"/>
                    <a:chExt cx="2785680" cy="2090520"/>
                  </a:xfrm>
                </p:grpSpPr>
                <p:grpSp>
                  <p:nvGrpSpPr>
                    <p:cNvPr id="258" name="Группа 30"/>
                    <p:cNvGrpSpPr/>
                    <p:nvPr/>
                  </p:nvGrpSpPr>
                  <p:grpSpPr>
                    <a:xfrm>
                      <a:off x="1132920" y="3880800"/>
                      <a:ext cx="2538000" cy="1995840"/>
                      <a:chOff x="1132920" y="3880800"/>
                      <a:chExt cx="2538000" cy="1995840"/>
                    </a:xfrm>
                  </p:grpSpPr>
                  <p:grpSp>
                    <p:nvGrpSpPr>
                      <p:cNvPr id="259" name="Группа 29"/>
                      <p:cNvGrpSpPr/>
                      <p:nvPr/>
                    </p:nvGrpSpPr>
                    <p:grpSpPr>
                      <a:xfrm>
                        <a:off x="1132920" y="3880800"/>
                        <a:ext cx="2538000" cy="1995840"/>
                        <a:chOff x="1132920" y="3880800"/>
                        <a:chExt cx="2538000" cy="1995840"/>
                      </a:xfrm>
                    </p:grpSpPr>
                    <p:grpSp>
                      <p:nvGrpSpPr>
                        <p:cNvPr id="260" name="Группа 28"/>
                        <p:cNvGrpSpPr/>
                        <p:nvPr/>
                      </p:nvGrpSpPr>
                      <p:grpSpPr>
                        <a:xfrm>
                          <a:off x="1132920" y="3880800"/>
                          <a:ext cx="2538000" cy="1995840"/>
                          <a:chOff x="1132920" y="3880800"/>
                          <a:chExt cx="2538000" cy="1995840"/>
                        </a:xfrm>
                      </p:grpSpPr>
                      <p:sp>
                        <p:nvSpPr>
                          <p:cNvPr id="261" name="Прямая соединительная линия 9"/>
                          <p:cNvSpPr/>
                          <p:nvPr/>
                        </p:nvSpPr>
                        <p:spPr>
                          <a:xfrm>
                            <a:off x="1631160" y="3974760"/>
                            <a:ext cx="1690920" cy="16628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62" name="Группа 92"/>
                          <p:cNvGrpSpPr/>
                          <p:nvPr/>
                        </p:nvGrpSpPr>
                        <p:grpSpPr>
                          <a:xfrm>
                            <a:off x="1132920" y="3880800"/>
                            <a:ext cx="2538000" cy="1995840"/>
                            <a:chOff x="1132920" y="3880800"/>
                            <a:chExt cx="2538000" cy="1995840"/>
                          </a:xfrm>
                        </p:grpSpPr>
                        <p:grpSp>
                          <p:nvGrpSpPr>
                            <p:cNvPr id="263" name="Группа 7"/>
                            <p:cNvGrpSpPr/>
                            <p:nvPr/>
                          </p:nvGrpSpPr>
                          <p:grpSpPr>
                            <a:xfrm>
                              <a:off x="1132920" y="3880800"/>
                              <a:ext cx="2538000" cy="1995840"/>
                              <a:chOff x="1132920" y="3880800"/>
                              <a:chExt cx="2538000" cy="1995840"/>
                            </a:xfrm>
                          </p:grpSpPr>
                          <p:cxnSp>
                            <p:nvCxnSpPr>
                              <p:cNvPr id="264" name="Прямая со стрелкой 95"/>
                              <p:cNvCxnSpPr/>
                              <p:nvPr/>
                            </p:nvCxnSpPr>
                            <p:spPr>
                              <a:xfrm flipV="1">
                                <a:off x="1133280" y="3880800"/>
                                <a:ext cx="2160" cy="1995480"/>
                              </a:xfrm>
                              <a:prstGeom prst="straightConnector1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cxnSp>
                            <p:nvCxnSpPr>
                              <p:cNvPr id="265" name="Прямая со стрелкой 96"/>
                              <p:cNvCxnSpPr/>
                              <p:nvPr/>
                            </p:nvCxnSpPr>
                            <p:spPr>
                              <a:xfrm>
                                <a:off x="1132920" y="5874840"/>
                                <a:ext cx="2538360" cy="2160"/>
                              </a:xfrm>
                              <a:prstGeom prst="straightConnector1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</p:grpSp>
                        <p:sp>
                          <p:nvSpPr>
                            <p:cNvPr id="266" name="Прямая соединительная линия 94"/>
                            <p:cNvSpPr/>
                            <p:nvPr/>
                          </p:nvSpPr>
                          <p:spPr>
                            <a:xfrm>
                              <a:off x="1133280" y="4449600"/>
                              <a:ext cx="99540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prstDash val="lgDash"/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267" name="Прямая соединительная линия 13"/>
                        <p:cNvSpPr/>
                        <p:nvPr/>
                      </p:nvSpPr>
                      <p:spPr>
                        <a:xfrm>
                          <a:off x="2129040" y="4451400"/>
                          <a:ext cx="0" cy="142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lg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68" name="Прямая соединительная линия 88"/>
                      <p:cNvSpPr/>
                      <p:nvPr/>
                    </p:nvSpPr>
                    <p:spPr>
                      <a:xfrm>
                        <a:off x="3073680" y="5401080"/>
                        <a:ext cx="0" cy="474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9" name="TextBox 86"/>
                    <p:cNvSpPr/>
                    <p:nvPr/>
                  </p:nvSpPr>
                  <p:spPr>
                    <a:xfrm>
                      <a:off x="885240" y="3786120"/>
                      <a:ext cx="149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0" name="TextBox 82"/>
                <p:cNvSpPr/>
                <p:nvPr/>
              </p:nvSpPr>
              <p:spPr>
                <a:xfrm>
                  <a:off x="3564720" y="59227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nstantia"/>
                    </a:rPr>
                    <a:t>Q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TextBox 74"/>
            <p:cNvSpPr/>
            <p:nvPr/>
          </p:nvSpPr>
          <p:spPr>
            <a:xfrm>
              <a:off x="1929960" y="5969880"/>
              <a:ext cx="3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Q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75"/>
            <p:cNvSpPr/>
            <p:nvPr/>
          </p:nvSpPr>
          <p:spPr>
            <a:xfrm>
              <a:off x="2844720" y="596988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Q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76"/>
            <p:cNvSpPr/>
            <p:nvPr/>
          </p:nvSpPr>
          <p:spPr>
            <a:xfrm>
              <a:off x="2167920" y="4308120"/>
              <a:ext cx="34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77"/>
            <p:cNvSpPr/>
            <p:nvPr/>
          </p:nvSpPr>
          <p:spPr>
            <a:xfrm>
              <a:off x="3071160" y="525780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857160" y="317880"/>
            <a:ext cx="46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ИЗМЕНЕНИЯ СПРО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http://conteconomics.narod.ru/Urok4/f1_4.jpg"/>
          <p:cNvPicPr/>
          <p:nvPr/>
        </p:nvPicPr>
        <p:blipFill>
          <a:blip r:embed="rId1"/>
          <a:stretch/>
        </p:blipFill>
        <p:spPr>
          <a:xfrm>
            <a:off x="357120" y="64296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3357720" y="423360"/>
            <a:ext cx="528624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8"/>
          <p:cNvSpPr/>
          <p:nvPr/>
        </p:nvSpPr>
        <p:spPr>
          <a:xfrm>
            <a:off x="2000160" y="4143240"/>
            <a:ext cx="6715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Часть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несите каждое изменение спроса из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Части I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вкусов потреб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доходов потреб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числа потребителей на рынк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цены товара-замен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цены дополняющего тов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0:36:09Z</dcterms:created>
  <dc:creator>inna</dc:creator>
  <dc:description/>
  <dc:language>en-US</dc:language>
  <cp:lastModifiedBy>LEGION</cp:lastModifiedBy>
  <dcterms:modified xsi:type="dcterms:W3CDTF">2016-01-04T08:16:07Z</dcterms:modified>
  <cp:revision>41</cp:revision>
  <dc:subject/>
  <dc:title>Спрос. Величина спроса. Факторы влияющие на спрос</dc:title>
</cp:coreProperties>
</file>