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A469-36B9-4ACC-A08F-2D32C463CB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E5E-1FD7-4A42-AB83-BF068027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315-9643-48B6-8AD5-216674F0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F80-3AAD-4211-94D3-66DE1A56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E0C-E5FA-4781-A960-3345FA6D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EA8B-0855-4060-AA46-4065F79A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310E-6CF2-4692-A460-2FAB4DC8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767F-3C13-4C7F-8EF8-C4D6649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8B9D-00A5-4E31-A486-CB42EAEE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1310-0DC9-4F47-AEE3-01527D28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3CC9-8878-4F4F-A611-D8A7760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487C-D372-4605-9AB3-22E5AF5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2E3-08D5-4F74-B48A-091449C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A93B-BDA2-427C-99CC-7840632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44B3-6711-44DE-8359-E6467B36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82DB-E8EE-424E-A864-53BD82B6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C3E8-6634-4D3C-99C8-0109D8A0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EAFF-4FF2-4884-9972-8F681E7E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E7FE-A8C8-4B25-8DCD-4302FF3E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8B1B-FF83-4EAA-8B43-5E3A808F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B163-9AF5-474A-9F72-A59F58D9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8C71-5A88-44BD-BE2D-10C9F312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B3FE-FDD7-47AB-9063-201B6462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4A6-1F5B-4F10-8BC2-1B516A0B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8CAA-B9B4-455C-B386-5348C7D9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D7C46-C96C-45D4-A709-E2FB998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DF986-8F77-49F9-93D9-2439676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F799-99FB-4F2F-8AC7-DA81BE5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45C0F-BEB2-4D7F-A947-4CCDE174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A306-427A-4A38-8DDC-06F45409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586F-D2FD-4F92-B754-A89FBCC5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4F2D-3E8B-4E61-924C-BED115F8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5D4F-9108-4BD8-9A0F-6F1C55B9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9656-F572-42CD-A835-9C662C70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D55-0B29-4EF8-AFBE-36F88488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E806-59AF-4401-A408-BF300AFA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069FA-CDFF-43A6-BFCD-C7D6323A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A5DCE-4A5F-4359-A213-4AE59CC9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7BBC-F55E-42C4-BFEC-14AC38A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F25E8-2751-4D37-B56C-CC98B927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597F-4B3A-440E-A21C-5B402503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A902-3FBF-41FE-B928-FA82D58C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7112-7759-436A-9978-939160E0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8315-ABB2-4CD8-99D1-5B9D83DE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11B-4549-443B-9A70-114996C5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654-D618-4E79-BFD2-873C971C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F54-A0A6-4515-89C1-C8037B16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605-9F6A-4B4A-AD9A-7AD60A3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0E3-20A1-437C-A00D-8F4548C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0EF-C8B6-4A58-93F5-CE7EE1707CD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0814-1818-4D42-8BA2-9033D318658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71E2-5D35-438E-9B51-817CF347C76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1678-25A3-46C5-9A08-3D29259BBC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13F2-61F9-440A-A97F-7DA58C18073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768D-F73D-482C-A1C5-D96F9023BFF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3C41-5E15-4F08-900D-755D4E59234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789-3241-48B1-ACEA-7706B965664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19280" y="1073160"/>
            <a:ext cx="7364160" cy="370692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8440" y="40003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Ценовая эластичность спроса </a:t>
            </a:r>
            <a:r>
              <a:rPr b="0" lang="ru-RU" sz="3600" spc="-1" strike="noStrike">
                <a:solidFill>
                  <a:srgbClr val="3333cc"/>
                </a:solidFill>
                <a:latin typeface="Calibri"/>
              </a:rPr>
              <a:t>–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ывает степень количественного изменения величины спроса под влиянием  изменения цены, дохода. 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носительное изменение объема спроса под влиянием изменения цены на 1 %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857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чечная эластич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14240" y="1285920"/>
                <a:ext cx="72183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1000080" y="3571920"/>
                <a:ext cx="4281480" cy="27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говая эластичность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"/>
              <p:cNvSpPr txBox="1"/>
              <p:nvPr/>
            </p:nvSpPr>
            <p:spPr>
              <a:xfrm>
                <a:off x="714240" y="1357200"/>
                <a:ext cx="735804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000080" y="3857760"/>
                <a:ext cx="4281480" cy="27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ценовой эластичности спрос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85800" y="1052640"/>
            <a:ext cx="8172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ластичный спрос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 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изменяется меньше, чем изменяется величина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эластичный спро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lt;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зменяется больше, чем изменяется величи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диничная эластичность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 величина спроса изменятся одинак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постоянна – величина спроса меня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не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меняется – спрос постоя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53"/>
          <p:cNvSpPr/>
          <p:nvPr/>
        </p:nvSpPr>
        <p:spPr>
          <a:xfrm>
            <a:off x="571680" y="116676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товарам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чно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роскоши (ковры, драгоценности, деликате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ощутима для семейного бюджета (мебель, телевиз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гкозаменяемые товары (отдельные виды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первой необходимости (лекарства, обувь, электричество, телефон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уднозаменяемые товары (электрические лампочки, бензин, клавиатура и т. 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285840" y="173520"/>
            <a:ext cx="8715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астичный или неэластичный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е автомобили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иные отбивные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пуск в Европе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в одной из четырех аптек большого торгового центра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день после увеличения его цены на 20%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год после увеличения его цены на 20%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Object 3"/>
          <p:cNvGraphicFramePr/>
          <p:nvPr/>
        </p:nvGraphicFramePr>
        <p:xfrm>
          <a:off x="214200" y="571680"/>
          <a:ext cx="8640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1680"/>
                    <a:ext cx="864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Эластичность линейной функции спроса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и максимум выручки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Эластичный спрос (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8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8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1)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500120" y="2428920"/>
            <a:ext cx="586116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эластичный спрос 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5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&lt;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6586560" cy="3771720"/>
          </a:xfrm>
          <a:prstGeom prst="rect">
            <a:avLst/>
          </a:prstGeom>
          <a:ln w="0">
            <a:noFill/>
          </a:ln>
        </p:spPr>
      </p:pic>
      <p:sp>
        <p:nvSpPr>
          <p:cNvPr id="310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диничная эластичность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1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7594560" cy="4479840"/>
          </a:xfrm>
          <a:prstGeom prst="rect">
            <a:avLst/>
          </a:prstGeom>
          <a:ln w="0">
            <a:noFill/>
          </a:ln>
        </p:spPr>
      </p:pic>
      <p:sp>
        <p:nvSpPr>
          <p:cNvPr id="314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000080" y="1071720"/>
            <a:ext cx="7215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зависимость между количеством товара, который покупатели хотят и могут купить, и ценами на этот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71720" y="357192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961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=&gt;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∞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96268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4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не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0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6364080" cy="3697200"/>
          </a:xfrm>
          <a:prstGeom prst="rect">
            <a:avLst/>
          </a:prstGeom>
          <a:ln w="0">
            <a:noFill/>
          </a:ln>
        </p:spPr>
      </p:pic>
      <p:sp>
        <p:nvSpPr>
          <p:cNvPr id="322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висимость величины спроса от уровня цены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шкал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14680" y="2286000"/>
          <a:ext cx="5405400" cy="2225520"/>
        </p:xfrm>
        <a:graphic>
          <a:graphicData uri="http://schemas.openxmlformats.org/drawingml/2006/table">
            <a:tbl>
              <a:tblPr/>
              <a:tblGrid>
                <a:gridCol w="2703240"/>
                <a:gridCol w="2702160"/>
              </a:tblGrid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demand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 – "спрос")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рив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Program Files\Образовательные комплексы\Экономика, 9-11 кл. Практикум\edu_ep\data\res\res19507240-3846-493E-A055-48393A3F50E6"/>
          <p:cNvPicPr/>
          <p:nvPr/>
        </p:nvPicPr>
        <p:blipFill>
          <a:blip r:embed="rId1"/>
          <a:stretch/>
        </p:blipFill>
        <p:spPr>
          <a:xfrm>
            <a:off x="3643200" y="2214720"/>
            <a:ext cx="504828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8760" y="2500200"/>
            <a:ext cx="2714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ая из точек кривой отображает зависимость величины спроса от уровня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кон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1600200"/>
            <a:ext cx="8472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aw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f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6"/>
          <p:cNvSpPr/>
          <p:nvPr/>
        </p:nvSpPr>
        <p:spPr>
          <a:xfrm rot="1528200">
            <a:off x="2936520" y="3648240"/>
            <a:ext cx="1087560" cy="285480"/>
          </a:xfrm>
          <a:prstGeom prst="rightArrow">
            <a:avLst>
              <a:gd name="adj1" fmla="val 50000"/>
              <a:gd name="adj2" fmla="val 50054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7"/>
          <p:cNvSpPr/>
          <p:nvPr/>
        </p:nvSpPr>
        <p:spPr>
          <a:xfrm rot="20366400">
            <a:off x="3008160" y="4862520"/>
            <a:ext cx="1087560" cy="285840"/>
          </a:xfrm>
          <a:prstGeom prst="rightArrow">
            <a:avLst>
              <a:gd name="adj1" fmla="val 50000"/>
              <a:gd name="adj2" fmla="val 49991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1760" y="692280"/>
            <a:ext cx="793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ъясняется действием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эффектов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42960" y="1071720"/>
            <a:ext cx="78580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замеще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на благо покупатель старается заменить его другим схожим бла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доход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реальный доход потребителя снижается, то есть на свой доход он уже может купить меньше бла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0004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Ценовой фактор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: изменение цены ведет к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зменению величины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вижением вдоль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Неценовые фактор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ду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к изменению спроса,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двигом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214200"/>
          <a:ext cx="8429400" cy="6291360"/>
        </p:xfrm>
        <a:graphic>
          <a:graphicData uri="http://schemas.openxmlformats.org/drawingml/2006/table">
            <a:tbl>
              <a:tblPr/>
              <a:tblGrid>
                <a:gridCol w="3786120"/>
                <a:gridCol w="4643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1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количество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доходы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цены товаров, связанных с дан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еняющих данны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полняющих дан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вкусы и предпочтения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ются изменения в доходах покупателей или в ценах товаров и услу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43"/>
          <p:cNvGrpSpPr/>
          <p:nvPr/>
        </p:nvGrpSpPr>
        <p:grpSpPr>
          <a:xfrm>
            <a:off x="5060880" y="3950640"/>
            <a:ext cx="2805480" cy="1967760"/>
            <a:chOff x="5060880" y="3950640"/>
            <a:chExt cx="2805480" cy="1967760"/>
          </a:xfrm>
        </p:grpSpPr>
        <p:grpSp>
          <p:nvGrpSpPr>
            <p:cNvPr id="227" name="Группа 43"/>
            <p:cNvGrpSpPr/>
            <p:nvPr/>
          </p:nvGrpSpPr>
          <p:grpSpPr>
            <a:xfrm>
              <a:off x="5060880" y="3950640"/>
              <a:ext cx="2805480" cy="1967760"/>
              <a:chOff x="5060880" y="3950640"/>
              <a:chExt cx="2805480" cy="1967760"/>
            </a:xfrm>
          </p:grpSpPr>
          <p:sp>
            <p:nvSpPr>
              <p:cNvPr id="228" name="Прямая соединительная линия 30"/>
              <p:cNvSpPr/>
              <p:nvPr/>
            </p:nvSpPr>
            <p:spPr>
              <a:xfrm>
                <a:off x="5610960" y="4044960"/>
                <a:ext cx="1870200" cy="163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Группа 46"/>
              <p:cNvGrpSpPr/>
              <p:nvPr/>
            </p:nvGrpSpPr>
            <p:grpSpPr>
              <a:xfrm>
                <a:off x="5060880" y="3950640"/>
                <a:ext cx="2805480" cy="1967760"/>
                <a:chOff x="5060880" y="3950640"/>
                <a:chExt cx="2805480" cy="1967760"/>
              </a:xfrm>
            </p:grpSpPr>
            <p:grpSp>
              <p:nvGrpSpPr>
                <p:cNvPr id="230" name="Группа 47"/>
                <p:cNvGrpSpPr/>
                <p:nvPr/>
              </p:nvGrpSpPr>
              <p:grpSpPr>
                <a:xfrm>
                  <a:off x="5060880" y="3950640"/>
                  <a:ext cx="2805480" cy="1967760"/>
                  <a:chOff x="5060880" y="3950640"/>
                  <a:chExt cx="2805480" cy="1967760"/>
                </a:xfrm>
              </p:grpSpPr>
              <p:cxnSp>
                <p:nvCxnSpPr>
                  <p:cNvPr id="231" name="Прямая со стрелкой 34"/>
                  <p:cNvCxnSpPr/>
                  <p:nvPr/>
                </p:nvCxnSpPr>
                <p:spPr>
                  <a:xfrm flipV="1">
                    <a:off x="5060880" y="3950640"/>
                    <a:ext cx="2160" cy="19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32" name="Прямая со стрелкой 35"/>
                  <p:cNvCxnSpPr/>
                  <p:nvPr/>
                </p:nvCxnSpPr>
                <p:spPr>
                  <a:xfrm>
                    <a:off x="5060880" y="5916600"/>
                    <a:ext cx="280584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33" name="Прямая соединительная линия 33"/>
                <p:cNvSpPr/>
                <p:nvPr/>
              </p:nvSpPr>
              <p:spPr>
                <a:xfrm flipV="1">
                  <a:off x="5071680" y="5071680"/>
                  <a:ext cx="2357640" cy="1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Прямая соединительная линия 29"/>
            <p:cNvSpPr/>
            <p:nvPr/>
          </p:nvSpPr>
          <p:spPr>
            <a:xfrm>
              <a:off x="6215040" y="5072040"/>
              <a:ext cx="17280" cy="84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5"/>
          <p:cNvSpPr/>
          <p:nvPr/>
        </p:nvSpPr>
        <p:spPr>
          <a:xfrm>
            <a:off x="4786200" y="38577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1"/>
          <p:cNvSpPr/>
          <p:nvPr/>
        </p:nvSpPr>
        <p:spPr>
          <a:xfrm>
            <a:off x="7766640" y="5964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9"/>
          <p:cNvSpPr/>
          <p:nvPr/>
        </p:nvSpPr>
        <p:spPr>
          <a:xfrm>
            <a:off x="6215040" y="4000680"/>
            <a:ext cx="1785960" cy="1571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2"/>
          <p:cNvSpPr/>
          <p:nvPr/>
        </p:nvSpPr>
        <p:spPr>
          <a:xfrm>
            <a:off x="5072040" y="4143240"/>
            <a:ext cx="1785960" cy="1500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0"/>
          <p:cNvSpPr/>
          <p:nvPr/>
        </p:nvSpPr>
        <p:spPr>
          <a:xfrm>
            <a:off x="6786720" y="5072040"/>
            <a:ext cx="0" cy="8589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60"/>
          <p:cNvSpPr/>
          <p:nvPr/>
        </p:nvSpPr>
        <p:spPr>
          <a:xfrm flipH="1">
            <a:off x="7429680" y="5073480"/>
            <a:ext cx="1440" cy="8575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62"/>
          <p:cNvCxnSpPr/>
          <p:nvPr/>
        </p:nvCxnSpPr>
        <p:spPr>
          <a:xfrm>
            <a:off x="6286320" y="4642920"/>
            <a:ext cx="6433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64"/>
          <p:cNvCxnSpPr/>
          <p:nvPr/>
        </p:nvCxnSpPr>
        <p:spPr>
          <a:xfrm flipH="1" flipV="1">
            <a:off x="5571720" y="457164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TextBox 65"/>
          <p:cNvSpPr/>
          <p:nvPr/>
        </p:nvSpPr>
        <p:spPr>
          <a:xfrm>
            <a:off x="6286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5643720" y="40719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342760" y="41432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8"/>
          <p:cNvSpPr/>
          <p:nvPr/>
        </p:nvSpPr>
        <p:spPr>
          <a:xfrm>
            <a:off x="5991120" y="40719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9"/>
          <p:cNvSpPr/>
          <p:nvPr/>
        </p:nvSpPr>
        <p:spPr>
          <a:xfrm>
            <a:off x="6557040" y="40719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0"/>
          <p:cNvSpPr/>
          <p:nvPr/>
        </p:nvSpPr>
        <p:spPr>
          <a:xfrm>
            <a:off x="4707000" y="4929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1"/>
          <p:cNvSpPr/>
          <p:nvPr/>
        </p:nvSpPr>
        <p:spPr>
          <a:xfrm>
            <a:off x="5993280" y="5929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1      Q        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72"/>
          <p:cNvGrpSpPr/>
          <p:nvPr/>
        </p:nvGrpSpPr>
        <p:grpSpPr>
          <a:xfrm>
            <a:off x="708480" y="3786120"/>
            <a:ext cx="3206160" cy="2826360"/>
            <a:chOff x="708480" y="3786120"/>
            <a:chExt cx="3206160" cy="2826360"/>
          </a:xfrm>
        </p:grpSpPr>
        <p:grpSp>
          <p:nvGrpSpPr>
            <p:cNvPr id="251" name="Группа 51"/>
            <p:cNvGrpSpPr/>
            <p:nvPr/>
          </p:nvGrpSpPr>
          <p:grpSpPr>
            <a:xfrm>
              <a:off x="708480" y="3786120"/>
              <a:ext cx="3206160" cy="2504880"/>
              <a:chOff x="708480" y="3786120"/>
              <a:chExt cx="3206160" cy="2504880"/>
            </a:xfrm>
          </p:grpSpPr>
          <p:sp>
            <p:nvSpPr>
              <p:cNvPr id="252" name="TextBox 78"/>
              <p:cNvSpPr/>
              <p:nvPr/>
            </p:nvSpPr>
            <p:spPr>
              <a:xfrm>
                <a:off x="708480" y="43081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79"/>
              <p:cNvSpPr/>
              <p:nvPr/>
            </p:nvSpPr>
            <p:spPr>
              <a:xfrm>
                <a:off x="708480" y="53053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Группа 33"/>
              <p:cNvGrpSpPr/>
              <p:nvPr/>
            </p:nvGrpSpPr>
            <p:grpSpPr>
              <a:xfrm>
                <a:off x="885240" y="3786120"/>
                <a:ext cx="3029400" cy="2504880"/>
                <a:chOff x="885240" y="3786120"/>
                <a:chExt cx="3029400" cy="2504880"/>
              </a:xfrm>
            </p:grpSpPr>
            <p:grpSp>
              <p:nvGrpSpPr>
                <p:cNvPr id="255" name="Группа 32"/>
                <p:cNvGrpSpPr/>
                <p:nvPr/>
              </p:nvGrpSpPr>
              <p:grpSpPr>
                <a:xfrm>
                  <a:off x="885240" y="3786120"/>
                  <a:ext cx="2785680" cy="2090520"/>
                  <a:chOff x="885240" y="3786120"/>
                  <a:chExt cx="2785680" cy="2090520"/>
                </a:xfrm>
              </p:grpSpPr>
              <p:sp>
                <p:nvSpPr>
                  <p:cNvPr id="256" name="Прямая соединительная линия 83"/>
                  <p:cNvSpPr/>
                  <p:nvPr/>
                </p:nvSpPr>
                <p:spPr>
                  <a:xfrm>
                    <a:off x="1135080" y="5399640"/>
                    <a:ext cx="19386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Группа 31"/>
                  <p:cNvGrpSpPr/>
                  <p:nvPr/>
                </p:nvGrpSpPr>
                <p:grpSpPr>
                  <a:xfrm>
                    <a:off x="885240" y="3786120"/>
                    <a:ext cx="2785680" cy="2090520"/>
                    <a:chOff x="885240" y="3786120"/>
                    <a:chExt cx="2785680" cy="2090520"/>
                  </a:xfrm>
                </p:grpSpPr>
                <p:grpSp>
                  <p:nvGrpSpPr>
                    <p:cNvPr id="258" name="Группа 30"/>
                    <p:cNvGrpSpPr/>
                    <p:nvPr/>
                  </p:nvGrpSpPr>
                  <p:grpSpPr>
                    <a:xfrm>
                      <a:off x="1132920" y="3880800"/>
                      <a:ext cx="2538000" cy="1995840"/>
                      <a:chOff x="1132920" y="3880800"/>
                      <a:chExt cx="2538000" cy="1995840"/>
                    </a:xfrm>
                  </p:grpSpPr>
                  <p:grpSp>
                    <p:nvGrpSpPr>
                      <p:cNvPr id="259" name="Группа 29"/>
                      <p:cNvGrpSpPr/>
                      <p:nvPr/>
                    </p:nvGrpSpPr>
                    <p:grpSpPr>
                      <a:xfrm>
                        <a:off x="1132920" y="3880800"/>
                        <a:ext cx="2538000" cy="1995840"/>
                        <a:chOff x="1132920" y="3880800"/>
                        <a:chExt cx="2538000" cy="1995840"/>
                      </a:xfrm>
                    </p:grpSpPr>
                    <p:grpSp>
                      <p:nvGrpSpPr>
                        <p:cNvPr id="260" name="Группа 28"/>
                        <p:cNvGrpSpPr/>
                        <p:nvPr/>
                      </p:nvGrpSpPr>
                      <p:grpSpPr>
                        <a:xfrm>
                          <a:off x="1132920" y="3880800"/>
                          <a:ext cx="2538000" cy="1995840"/>
                          <a:chOff x="1132920" y="3880800"/>
                          <a:chExt cx="2538000" cy="1995840"/>
                        </a:xfrm>
                      </p:grpSpPr>
                      <p:sp>
                        <p:nvSpPr>
                          <p:cNvPr id="261" name="Прямая соединительная линия 9"/>
                          <p:cNvSpPr/>
                          <p:nvPr/>
                        </p:nvSpPr>
                        <p:spPr>
                          <a:xfrm>
                            <a:off x="1631160" y="3974760"/>
                            <a:ext cx="1690920" cy="16628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2" name="Группа 92"/>
                          <p:cNvGrpSpPr/>
                          <p:nvPr/>
                        </p:nvGrpSpPr>
                        <p:grpSpPr>
                          <a:xfrm>
                            <a:off x="1132920" y="3880800"/>
                            <a:ext cx="2538000" cy="1995840"/>
                            <a:chOff x="1132920" y="3880800"/>
                            <a:chExt cx="2538000" cy="1995840"/>
                          </a:xfrm>
                        </p:grpSpPr>
                        <p:grpSp>
                          <p:nvGrpSpPr>
                            <p:cNvPr id="263" name="Группа 7"/>
                            <p:cNvGrpSpPr/>
                            <p:nvPr/>
                          </p:nvGrpSpPr>
                          <p:grpSpPr>
                            <a:xfrm>
                              <a:off x="1132920" y="3880800"/>
                              <a:ext cx="2538000" cy="1995840"/>
                              <a:chOff x="1132920" y="3880800"/>
                              <a:chExt cx="2538000" cy="1995840"/>
                            </a:xfrm>
                          </p:grpSpPr>
                          <p:cxnSp>
                            <p:nvCxnSpPr>
                              <p:cNvPr id="264" name="Прямая со стрелкой 95"/>
                              <p:cNvCxnSpPr/>
                              <p:nvPr/>
                            </p:nvCxnSpPr>
                            <p:spPr>
                              <a:xfrm flipV="1">
                                <a:off x="1133280" y="3880800"/>
                                <a:ext cx="2160" cy="199548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265" name="Прямая со стрелкой 96"/>
                              <p:cNvCxnSpPr/>
                              <p:nvPr/>
                            </p:nvCxnSpPr>
                            <p:spPr>
                              <a:xfrm>
                                <a:off x="1132920" y="5874840"/>
                                <a:ext cx="2538360" cy="216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266" name="Прямая соединительная линия 94"/>
                            <p:cNvSpPr/>
                            <p:nvPr/>
                          </p:nvSpPr>
                          <p:spPr>
                            <a:xfrm>
                              <a:off x="1133280" y="4449600"/>
                              <a:ext cx="9954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prstDash val="lgDash"/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67" name="Прямая соединительная линия 13"/>
                        <p:cNvSpPr/>
                        <p:nvPr/>
                      </p:nvSpPr>
                      <p:spPr>
                        <a:xfrm>
                          <a:off x="2129040" y="4451400"/>
                          <a:ext cx="0" cy="142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8" name="Прямая соединительная линия 88"/>
                      <p:cNvSpPr/>
                      <p:nvPr/>
                    </p:nvSpPr>
                    <p:spPr>
                      <a:xfrm>
                        <a:off x="3073680" y="5401080"/>
                        <a:ext cx="0" cy="474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9" name="TextBox 86"/>
                    <p:cNvSpPr/>
                    <p:nvPr/>
                  </p:nvSpPr>
                  <p:spPr>
                    <a:xfrm>
                      <a:off x="885240" y="3786120"/>
                      <a:ext cx="149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0" name="TextBox 82"/>
                <p:cNvSpPr/>
                <p:nvPr/>
              </p:nvSpPr>
              <p:spPr>
                <a:xfrm>
                  <a:off x="3564720" y="59227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TextBox 74"/>
            <p:cNvSpPr/>
            <p:nvPr/>
          </p:nvSpPr>
          <p:spPr>
            <a:xfrm>
              <a:off x="1929960" y="5969880"/>
              <a:ext cx="3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5"/>
            <p:cNvSpPr/>
            <p:nvPr/>
          </p:nvSpPr>
          <p:spPr>
            <a:xfrm>
              <a:off x="2844720" y="596988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76"/>
            <p:cNvSpPr/>
            <p:nvPr/>
          </p:nvSpPr>
          <p:spPr>
            <a:xfrm>
              <a:off x="2167920" y="430812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7"/>
            <p:cNvSpPr/>
            <p:nvPr/>
          </p:nvSpPr>
          <p:spPr>
            <a:xfrm>
              <a:off x="3071160" y="52578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857160" y="31788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ЗМЕНЕНИЯ С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http://conteconomics.narod.ru/Urok4/f1_4.jpg"/>
          <p:cNvPicPr/>
          <p:nvPr/>
        </p:nvPicPr>
        <p:blipFill>
          <a:blip r:embed="rId1"/>
          <a:stretch/>
        </p:blipFill>
        <p:spPr>
          <a:xfrm>
            <a:off x="357120" y="64296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3357720" y="423360"/>
            <a:ext cx="52862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2000160" y="4143240"/>
            <a:ext cx="671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несите каждое изменение спроса из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и I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вкус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доход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числа потребителей на ры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товара-замен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дополняющего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6:09Z</dcterms:created>
  <dc:creator>inna</dc:creator>
  <dc:description/>
  <dc:language>en-US</dc:language>
  <cp:lastModifiedBy>LEGION</cp:lastModifiedBy>
  <dcterms:modified xsi:type="dcterms:W3CDTF">2016-01-04T08:16:07Z</dcterms:modified>
  <cp:revision>41</cp:revision>
  <dc:subject/>
  <dc:title>Спрос. Величина спроса. Факторы влияющие на спрос</dc:title>
</cp:coreProperties>
</file>