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C021-0C16-49EC-A228-732E002D24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. Факторы влияющие на 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спроса. Факторы влияющие на с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igr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ая эластичность спроса –показывает степень количественного изменения величины спроса под влиянием  изменения цены, дохода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носительное изменение объема спроса под влиянием изменения цены на 1 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–показывает степень количественного изменения величины спроса под влиянием  изменения цены, дохода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носительное изменение объема спроса под влиянием изменения цены на 1 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ценовой эластичности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 Pd &gt; 1): цена изменяется меньше, чем изменяется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 Pd &lt;1): цена изменяется больше, чем изменяется величин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 Pd =1): цена и величина спроса изменятся одинак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 Pd =∞): цена постоянна – величина спроса меняе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 Pd =0): цена меняется – спрос постоян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ценовой эластичности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 спрос (E Pd &gt; 1): цена изменяется меньше, чем изменяется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 (E Pd &lt;1): цена изменяется больше, чем изменяется величина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 спроса (E Pd =1): цена и величина спроса изменятся одинако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но эластичный спрос (E Pd =∞): цена постоянна – величина спроса меняе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но неэластичный спрос (E Pd =0): цена меняется – спрос постоян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оварам с эластичным спросом обычно относя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роскоши (ковры, драгоценности, деликатес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, стоимость которых ощутима для семейного бюджета (мебель, телевизор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заменяемые товары (отдельные виды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с неэластичным спросом включ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первой необходимости (лекарства, обувь, электричество, телефо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заменяемые товары (электрические лампочки, бензин, клавиатура и т. 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варам с эластичным спросом обычно относ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роскоши (ковры, драгоценности, деликатес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, стоимость которых ощутима для семейного бюджета (мебель, телевизор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заменяемые товары (отдельные виды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с неэластичным спросом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первой необходимости (лекарства, обувь, электричество, телефон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заменяемые товары (электрические лампочки, бензин, клавиатура и т. 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или неэластичный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автомобили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ные отбивные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ск в Европе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ин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ин в одной из четырех аптек большого торгового центра___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ин, покупаемый через день после увеличения его цены на 20%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ин, покупаемый через год после увеличения его цены на 20%_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 или неэластичны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автомобили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ные отбивные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уск в Европе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улин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улин в одной из четырех аптек большого торгового центра__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нзин, покупаемый через день после увеличения его цены на 20%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нзин, покупаемый через год после увеличения его цены на 20%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линейной функции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ксимум выруч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линейной функции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аксимум выруч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&gt;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&gt;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&lt;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&lt;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диничная эластичность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=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диничная эластичность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=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 – это зависимость между количеством товара, который покупатели хотят и могут купить, 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 – это зависимость между количеством товара, который покупатели хотят и могут купить, 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спроса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солютно 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 =&gt;∞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бсолютно 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 =&gt;∞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солютно 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=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бсолютно 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=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спроса от уровня цены называется шкал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величины спроса от уровня цены называется шкал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demand – "спрос") называется кривой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точек кривой отображает зависимость величины спроса от уровня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demand – "спрос") называется кривой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точек кривой отображает зависимость величины спроса от уровня ц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объясняется действием эффектов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 – при росте цены на благо покупатель старается заменить его другим схожим благ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 – при росте цены реальный доход потребителя снижается, то есть на свой доход он уже может купить меньше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 объясняется действием эффектов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 – при росте цены на благо покупатель старается заменить его другим схожим благ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 – при росте цены реальный доход потребителя снижается, то есть на свой доход он уже может купить меньше бл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спрос зависит от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ой фактор: изменение цены ведет к изменению величины спроса, что графически изображается движением вдоль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ведут к изменению спроса, что графически изображается сдвигом кривой спроса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спрос зависит от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фактор: изменение цены ведет к изменению величины спроса, что графически изображается движением вдоль крив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 ведут к изменению спроса, что графически изображается сдвигом кривой спроса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1      Q         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1      Q         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ЗМЕНЕНИЯ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есите каждое изменение спроса из Части I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вкусов потреб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доходов потреб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числа потребителей на рын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цены товара-замен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цены дополняюще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ИЗМЕНЕН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ите каждое изменение спроса из Части I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вкусов потреб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доходов потреб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числа потребителей на рын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цены товара-замените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цены дополняющего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0B8-7FA2-4AC5-89EB-429B6A5D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202-1AF3-4028-9B03-55EF8227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C41-227F-4627-BB91-3CBCCA77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F35-DCE9-49AD-BD60-02B9C72F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2E62-3E9B-41EA-9F74-F1A995E1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9B66-DAA7-42E2-A039-E530A210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BB21-C9BC-44F1-85FA-1FED6286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E2AD-9571-4A0C-9BC4-D0AE1885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5A71-5FEA-42F6-A402-F6768693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AA9C-9453-4923-A570-51AC28C6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C3DD-CCD5-41C2-830B-BD55C2B5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EE3-6515-4116-ADE8-597A7A99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BCEC-D5D0-4B94-9A62-F0C0B40D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5B6D-70CB-4D03-A7F5-30AC970C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288D-9616-4870-A87D-0A3E3A39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941B-E155-4ED4-8A79-80681B74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716E-EAB0-4E6D-9802-5705345F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BD44C-1183-4EA3-819C-D77ECD61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268B-162D-4A18-8B36-0D47BE47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3022A-AFE9-4984-A260-41B122A2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5B0D8-2D55-49A7-AC44-2E768EF3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110C7-393B-41D9-8153-D380A0ED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304-7194-402A-9B3F-91A4BFBB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79206-14B3-48AF-9B5C-B01A4408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AE47-735F-435D-A7E9-606C0C9D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12C33-244F-4FFC-B139-11CA8133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AF26-2901-4438-A291-2E17BAE8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3ED1-D4BF-4850-AC1F-AE7949A4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B2BB-6FD1-4E28-970E-AA4486D5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B2CF-F23E-4EA0-95A3-D71D6569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B4088-061F-4F4D-9E46-92F9E0F5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3E766-251E-450C-B4A3-E7CFBC33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AF9AB-44ED-44A0-ADCA-B5E354B7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90E-22D5-4F73-A764-8C559FB3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076D8-0AC3-4174-8AD3-8989F021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CAFBE-6D1B-46D6-8AE5-4E90F853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B8F7D-B18B-49B6-931E-2311655A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2978A-8BC1-44A4-B5CE-D2F46A99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EAD97-AB70-4BD3-A50E-E420FF11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F2EC5-1069-4C78-9F76-E4C7A494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F8CCD-8003-454E-8C4F-FFE957A3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FA2D2-CC52-4FB0-9D55-A2BD8A67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D337D-DA5B-4291-A1E3-0BA2385E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FF4-C155-4E60-8BAD-D32F09F0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02C-8027-4554-8E89-55B49C59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B65-F533-4694-B28C-5E2E21E3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89B-ECE1-4100-8A9F-48AC84D7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7B9-7CD3-4D9A-9B70-25DCA6AF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9B4B-FB12-40B4-86F1-11DCBF7E872C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ECE5-51D4-44C7-AE2E-A7E32488A06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96BF-4336-4C94-8C4B-6CD746454D13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0016-20BB-42CA-AC7E-1FBDE3CC3C2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874C-D716-40E6-833D-1CF3DFD6D364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4BEA-BB04-4664-99F1-D640F0A7C7D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C5D1-64F1-4B03-AA9D-EF5440A994D3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3604-59E6-42CC-9D72-626F1ED6418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19280" y="1073160"/>
            <a:ext cx="7364160" cy="370692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28440" y="400032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alibri"/>
              </a:rPr>
              <a:t>Ценовая эластичность спроса </a:t>
            </a:r>
            <a:r>
              <a:rPr b="0" lang="ru-RU" sz="3600" spc="-1" strike="noStrike">
                <a:solidFill>
                  <a:srgbClr val="3333cc"/>
                </a:solidFill>
                <a:latin typeface="Calibri"/>
              </a:rPr>
              <a:t>–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казывает степень количественного изменения величины спроса под влиянием  изменения цены, дохода. 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носительное изменение объема спроса под влиянием изменения цены на 1 %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2857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очечная эластич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714240" y="1285920"/>
                <a:ext cx="721836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1000080" y="3571920"/>
                <a:ext cx="4281480" cy="27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-эластичность  спроса  по  цене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ая  цена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ая  цен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ый  объем  спрос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ый  объем  спро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уговая эластичность спр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"/>
              <p:cNvSpPr txBox="1"/>
              <p:nvPr/>
            </p:nvSpPr>
            <p:spPr>
              <a:xfrm>
                <a:off x="714240" y="1357200"/>
                <a:ext cx="7358040" cy="24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1000080" y="3857760"/>
                <a:ext cx="4281480" cy="27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-эластичность  спроса  по  цене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ая  цена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ая  цен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ый  объем  спрос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ый  объем  спро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иды ценовой эластичности спрос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685800" y="1052640"/>
            <a:ext cx="817236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Эластичный спрос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gt; 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изменяется меньше, чем изменяется величина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еэластичный спрос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lt;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цена изменяется больше, чем изменяется величина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Единичная эластичность спрос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цена и величина спроса изменятся одинак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вершенно эластичный спрос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∞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постоянна – величина спроса меняе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вершенно неэластичный спрос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меняется – спрос постоян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53"/>
          <p:cNvSpPr/>
          <p:nvPr/>
        </p:nvSpPr>
        <p:spPr>
          <a:xfrm>
            <a:off x="571680" y="116676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товарам с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эластичным спросо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ычно относя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ы роскоши (ковры, драгоценности, деликатесы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, стоимость которых ощутима для семейного бюджета (мебель, телевизор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гкозаменяемые товары (отдельные виды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 с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неэластичным спросо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ключа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ы первой необходимости (лекарства, обувь, электричество, телефон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уднозаменяемые товары (электрические лампочки, бензин, клавиатура и т. 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285840" y="173520"/>
            <a:ext cx="87152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Эластичный или неэластичный?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ь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вые автомобили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иные отбивные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пуск в Европе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 в одной из четырех аптек большого торгового центра__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н, покупаемый через день после увеличения его цены на 20%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н, покупаемый через год после увеличения его цены на 20%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Object 3"/>
          <p:cNvGraphicFramePr/>
          <p:nvPr/>
        </p:nvGraphicFramePr>
        <p:xfrm>
          <a:off x="214200" y="571680"/>
          <a:ext cx="864072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71680"/>
                    <a:ext cx="8640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Эластичность линейной функции спроса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и максимум выручки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Эластичный спрос (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8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8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&gt;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1)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1500120" y="2428920"/>
            <a:ext cx="586116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эластичный спрос (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5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&lt;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1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6586560" cy="3771720"/>
          </a:xfrm>
          <a:prstGeom prst="rect">
            <a:avLst/>
          </a:prstGeom>
          <a:ln w="0">
            <a:noFill/>
          </a:ln>
        </p:spPr>
      </p:pic>
      <p:sp>
        <p:nvSpPr>
          <p:cNvPr id="310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Единичная эластичность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=1)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7594560" cy="4479840"/>
          </a:xfrm>
          <a:prstGeom prst="rect">
            <a:avLst/>
          </a:prstGeom>
          <a:ln w="0">
            <a:noFill/>
          </a:ln>
        </p:spPr>
      </p:pic>
      <p:sp>
        <p:nvSpPr>
          <p:cNvPr id="314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000080" y="1071720"/>
            <a:ext cx="7215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–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о зависимость между количеством товара, который покупатели хотят и могут купить, и ценами на этот т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1071720" y="3571920"/>
            <a:ext cx="70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еличина спрос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3920" y="428760"/>
            <a:ext cx="6961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Абсолютно эластичный спрос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=&gt;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∞)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1857240" y="2643120"/>
            <a:ext cx="5962680" cy="3353040"/>
          </a:xfrm>
          <a:prstGeom prst="rect">
            <a:avLst/>
          </a:prstGeom>
          <a:ln w="0">
            <a:noFill/>
          </a:ln>
        </p:spPr>
      </p:pic>
      <p:sp>
        <p:nvSpPr>
          <p:cNvPr id="318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064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Абсолютно неэластичный спрос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=0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6364080" cy="3697200"/>
          </a:xfrm>
          <a:prstGeom prst="rect">
            <a:avLst/>
          </a:prstGeom>
          <a:ln w="0">
            <a:noFill/>
          </a:ln>
        </p:spPr>
      </p:pic>
      <p:sp>
        <p:nvSpPr>
          <p:cNvPr id="322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Зависимость величины спроса от уровня цены называется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шкалой спрос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14680" y="2286000"/>
          <a:ext cx="5405400" cy="2225520"/>
        </p:xfrm>
        <a:graphic>
          <a:graphicData uri="http://schemas.openxmlformats.org/drawingml/2006/table">
            <a:tbl>
              <a:tblPr/>
              <a:tblGrid>
                <a:gridCol w="2703240"/>
                <a:gridCol w="2702160"/>
              </a:tblGrid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н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спроса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</a:t>
            </a: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demand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 – "спрос") называется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кривой спрос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3" descr="C:\Program Files\Образовательные комплексы\Экономика, 9-11 кл. Практикум\edu_ep\data\res\res19507240-3846-493E-A055-48393A3F50E6"/>
          <p:cNvPicPr/>
          <p:nvPr/>
        </p:nvPicPr>
        <p:blipFill>
          <a:blip r:embed="rId1"/>
          <a:stretch/>
        </p:blipFill>
        <p:spPr>
          <a:xfrm>
            <a:off x="3643200" y="2214720"/>
            <a:ext cx="5048280" cy="34290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28760" y="2500200"/>
            <a:ext cx="2714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ждая из точек кривой отображает зависимость величины спроса от уровня 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кон спр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57200" y="1600200"/>
            <a:ext cx="8472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aw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f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emand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) — величина спроса находится в обратной зависимости от цен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ше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иже величина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ше величина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иже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право 6"/>
          <p:cNvSpPr/>
          <p:nvPr/>
        </p:nvSpPr>
        <p:spPr>
          <a:xfrm rot="1528200">
            <a:off x="2936520" y="3648240"/>
            <a:ext cx="1087560" cy="285480"/>
          </a:xfrm>
          <a:prstGeom prst="rightArrow">
            <a:avLst>
              <a:gd name="adj1" fmla="val 50000"/>
              <a:gd name="adj2" fmla="val 50054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право 7"/>
          <p:cNvSpPr/>
          <p:nvPr/>
        </p:nvSpPr>
        <p:spPr>
          <a:xfrm rot="20366400">
            <a:off x="3008160" y="4862520"/>
            <a:ext cx="1087560" cy="285840"/>
          </a:xfrm>
          <a:prstGeom prst="rightArrow">
            <a:avLst>
              <a:gd name="adj1" fmla="val 50000"/>
              <a:gd name="adj2" fmla="val 49991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1760" y="692280"/>
            <a:ext cx="79311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Закон спроса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ъясняется действием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эффектов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: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42960" y="1071720"/>
            <a:ext cx="785808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onstantia"/>
              </a:rPr>
              <a:t>Эффект замещения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при росте цены на благо покупатель старается заменить его другим схожим благ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onstantia"/>
              </a:rPr>
              <a:t>Эффект доход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при росте цены реальный доход потребителя снижается, то есть на свой доход он уже может купить меньше бла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50004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ыночный спрос зависит от фактор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Ценовой фактор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: изменение цены ведет к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изменению величины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что графически изображается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вижением вдоль кривой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Неценовые факторы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едут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к изменению спроса,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то графически изображается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двигом кривой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28760" y="214200"/>
          <a:ext cx="8429400" cy="6291360"/>
        </p:xfrm>
        <a:graphic>
          <a:graphicData uri="http://schemas.openxmlformats.org/drawingml/2006/table">
            <a:tbl>
              <a:tblPr/>
              <a:tblGrid>
                <a:gridCol w="3786120"/>
                <a:gridCol w="46432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спр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, есл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14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 цена данного това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 количество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доходы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цены товаров, связанных с данны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меняющих данны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полняющих данны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вкусы и предпочтения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жидаются изменения в доходах покупателей или в ценах товаров и услу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6" name="Группа 43"/>
          <p:cNvGrpSpPr/>
          <p:nvPr/>
        </p:nvGrpSpPr>
        <p:grpSpPr>
          <a:xfrm>
            <a:off x="5060880" y="3950640"/>
            <a:ext cx="2805480" cy="1967760"/>
            <a:chOff x="5060880" y="3950640"/>
            <a:chExt cx="2805480" cy="1967760"/>
          </a:xfrm>
        </p:grpSpPr>
        <p:grpSp>
          <p:nvGrpSpPr>
            <p:cNvPr id="227" name="Группа 43"/>
            <p:cNvGrpSpPr/>
            <p:nvPr/>
          </p:nvGrpSpPr>
          <p:grpSpPr>
            <a:xfrm>
              <a:off x="5060880" y="3950640"/>
              <a:ext cx="2805480" cy="1967760"/>
              <a:chOff x="5060880" y="3950640"/>
              <a:chExt cx="2805480" cy="1967760"/>
            </a:xfrm>
          </p:grpSpPr>
          <p:sp>
            <p:nvSpPr>
              <p:cNvPr id="228" name="Прямая соединительная линия 30"/>
              <p:cNvSpPr/>
              <p:nvPr/>
            </p:nvSpPr>
            <p:spPr>
              <a:xfrm>
                <a:off x="5610960" y="4044960"/>
                <a:ext cx="1870200" cy="163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Группа 46"/>
              <p:cNvGrpSpPr/>
              <p:nvPr/>
            </p:nvGrpSpPr>
            <p:grpSpPr>
              <a:xfrm>
                <a:off x="5060880" y="3950640"/>
                <a:ext cx="2805480" cy="1967760"/>
                <a:chOff x="5060880" y="3950640"/>
                <a:chExt cx="2805480" cy="1967760"/>
              </a:xfrm>
            </p:grpSpPr>
            <p:grpSp>
              <p:nvGrpSpPr>
                <p:cNvPr id="230" name="Группа 47"/>
                <p:cNvGrpSpPr/>
                <p:nvPr/>
              </p:nvGrpSpPr>
              <p:grpSpPr>
                <a:xfrm>
                  <a:off x="5060880" y="3950640"/>
                  <a:ext cx="2805480" cy="1967760"/>
                  <a:chOff x="5060880" y="3950640"/>
                  <a:chExt cx="2805480" cy="1967760"/>
                </a:xfrm>
              </p:grpSpPr>
              <p:cxnSp>
                <p:nvCxnSpPr>
                  <p:cNvPr id="231" name="Прямая со стрелкой 34"/>
                  <p:cNvCxnSpPr/>
                  <p:nvPr/>
                </p:nvCxnSpPr>
                <p:spPr>
                  <a:xfrm flipV="1">
                    <a:off x="5060880" y="3950640"/>
                    <a:ext cx="2160" cy="1967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232" name="Прямая со стрелкой 35"/>
                  <p:cNvCxnSpPr/>
                  <p:nvPr/>
                </p:nvCxnSpPr>
                <p:spPr>
                  <a:xfrm>
                    <a:off x="5060880" y="5916600"/>
                    <a:ext cx="2805840" cy="2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233" name="Прямая соединительная линия 33"/>
                <p:cNvSpPr/>
                <p:nvPr/>
              </p:nvSpPr>
              <p:spPr>
                <a:xfrm flipV="1">
                  <a:off x="5071680" y="5071680"/>
                  <a:ext cx="2357640" cy="1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Прямая соединительная линия 29"/>
            <p:cNvSpPr/>
            <p:nvPr/>
          </p:nvSpPr>
          <p:spPr>
            <a:xfrm>
              <a:off x="6215040" y="5072040"/>
              <a:ext cx="17280" cy="846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5"/>
          <p:cNvSpPr/>
          <p:nvPr/>
        </p:nvSpPr>
        <p:spPr>
          <a:xfrm>
            <a:off x="4786200" y="3857760"/>
            <a:ext cx="1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1"/>
          <p:cNvSpPr/>
          <p:nvPr/>
        </p:nvSpPr>
        <p:spPr>
          <a:xfrm>
            <a:off x="7766640" y="59641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9"/>
          <p:cNvSpPr/>
          <p:nvPr/>
        </p:nvSpPr>
        <p:spPr>
          <a:xfrm>
            <a:off x="6215040" y="4000680"/>
            <a:ext cx="1785960" cy="1571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42"/>
          <p:cNvSpPr/>
          <p:nvPr/>
        </p:nvSpPr>
        <p:spPr>
          <a:xfrm>
            <a:off x="5072040" y="4143240"/>
            <a:ext cx="1785960" cy="15004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50"/>
          <p:cNvSpPr/>
          <p:nvPr/>
        </p:nvSpPr>
        <p:spPr>
          <a:xfrm>
            <a:off x="6786720" y="5072040"/>
            <a:ext cx="0" cy="85896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60"/>
          <p:cNvSpPr/>
          <p:nvPr/>
        </p:nvSpPr>
        <p:spPr>
          <a:xfrm flipH="1">
            <a:off x="7429680" y="5073480"/>
            <a:ext cx="1440" cy="85752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Прямая со стрелкой 62"/>
          <p:cNvCxnSpPr/>
          <p:nvPr/>
        </p:nvCxnSpPr>
        <p:spPr>
          <a:xfrm>
            <a:off x="6286320" y="4642920"/>
            <a:ext cx="64332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2" name="Прямая со стрелкой 64"/>
          <p:cNvCxnSpPr/>
          <p:nvPr/>
        </p:nvCxnSpPr>
        <p:spPr>
          <a:xfrm flipH="1" flipV="1">
            <a:off x="5571720" y="4571640"/>
            <a:ext cx="5724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3" name="TextBox 65"/>
          <p:cNvSpPr/>
          <p:nvPr/>
        </p:nvSpPr>
        <p:spPr>
          <a:xfrm>
            <a:off x="6286680" y="421488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6"/>
          <p:cNvSpPr/>
          <p:nvPr/>
        </p:nvSpPr>
        <p:spPr>
          <a:xfrm>
            <a:off x="5643720" y="407196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7"/>
          <p:cNvSpPr/>
          <p:nvPr/>
        </p:nvSpPr>
        <p:spPr>
          <a:xfrm>
            <a:off x="5342760" y="41432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8"/>
          <p:cNvSpPr/>
          <p:nvPr/>
        </p:nvSpPr>
        <p:spPr>
          <a:xfrm>
            <a:off x="5991120" y="40719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9"/>
          <p:cNvSpPr/>
          <p:nvPr/>
        </p:nvSpPr>
        <p:spPr>
          <a:xfrm>
            <a:off x="6557040" y="40719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0"/>
          <p:cNvSpPr/>
          <p:nvPr/>
        </p:nvSpPr>
        <p:spPr>
          <a:xfrm>
            <a:off x="4707000" y="4929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1"/>
          <p:cNvSpPr/>
          <p:nvPr/>
        </p:nvSpPr>
        <p:spPr>
          <a:xfrm>
            <a:off x="5993280" y="592920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1      Q        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72"/>
          <p:cNvGrpSpPr/>
          <p:nvPr/>
        </p:nvGrpSpPr>
        <p:grpSpPr>
          <a:xfrm>
            <a:off x="708480" y="3786120"/>
            <a:ext cx="3206160" cy="2826360"/>
            <a:chOff x="708480" y="3786120"/>
            <a:chExt cx="3206160" cy="2826360"/>
          </a:xfrm>
        </p:grpSpPr>
        <p:grpSp>
          <p:nvGrpSpPr>
            <p:cNvPr id="251" name="Группа 51"/>
            <p:cNvGrpSpPr/>
            <p:nvPr/>
          </p:nvGrpSpPr>
          <p:grpSpPr>
            <a:xfrm>
              <a:off x="708480" y="3786120"/>
              <a:ext cx="3206160" cy="2504880"/>
              <a:chOff x="708480" y="3786120"/>
              <a:chExt cx="3206160" cy="2504880"/>
            </a:xfrm>
          </p:grpSpPr>
          <p:sp>
            <p:nvSpPr>
              <p:cNvPr id="252" name="TextBox 78"/>
              <p:cNvSpPr/>
              <p:nvPr/>
            </p:nvSpPr>
            <p:spPr>
              <a:xfrm>
                <a:off x="708480" y="430812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79"/>
              <p:cNvSpPr/>
              <p:nvPr/>
            </p:nvSpPr>
            <p:spPr>
              <a:xfrm>
                <a:off x="708480" y="530532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Группа 33"/>
              <p:cNvGrpSpPr/>
              <p:nvPr/>
            </p:nvGrpSpPr>
            <p:grpSpPr>
              <a:xfrm>
                <a:off x="885240" y="3786120"/>
                <a:ext cx="3029400" cy="2504880"/>
                <a:chOff x="885240" y="3786120"/>
                <a:chExt cx="3029400" cy="2504880"/>
              </a:xfrm>
            </p:grpSpPr>
            <p:grpSp>
              <p:nvGrpSpPr>
                <p:cNvPr id="255" name="Группа 32"/>
                <p:cNvGrpSpPr/>
                <p:nvPr/>
              </p:nvGrpSpPr>
              <p:grpSpPr>
                <a:xfrm>
                  <a:off x="885240" y="3786120"/>
                  <a:ext cx="2785680" cy="2090520"/>
                  <a:chOff x="885240" y="3786120"/>
                  <a:chExt cx="2785680" cy="2090520"/>
                </a:xfrm>
              </p:grpSpPr>
              <p:sp>
                <p:nvSpPr>
                  <p:cNvPr id="256" name="Прямая соединительная линия 83"/>
                  <p:cNvSpPr/>
                  <p:nvPr/>
                </p:nvSpPr>
                <p:spPr>
                  <a:xfrm>
                    <a:off x="1135080" y="5399640"/>
                    <a:ext cx="19386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7" name="Группа 31"/>
                  <p:cNvGrpSpPr/>
                  <p:nvPr/>
                </p:nvGrpSpPr>
                <p:grpSpPr>
                  <a:xfrm>
                    <a:off x="885240" y="3786120"/>
                    <a:ext cx="2785680" cy="2090520"/>
                    <a:chOff x="885240" y="3786120"/>
                    <a:chExt cx="2785680" cy="2090520"/>
                  </a:xfrm>
                </p:grpSpPr>
                <p:grpSp>
                  <p:nvGrpSpPr>
                    <p:cNvPr id="258" name="Группа 30"/>
                    <p:cNvGrpSpPr/>
                    <p:nvPr/>
                  </p:nvGrpSpPr>
                  <p:grpSpPr>
                    <a:xfrm>
                      <a:off x="1132920" y="3880800"/>
                      <a:ext cx="2538000" cy="1995840"/>
                      <a:chOff x="1132920" y="3880800"/>
                      <a:chExt cx="2538000" cy="1995840"/>
                    </a:xfrm>
                  </p:grpSpPr>
                  <p:grpSp>
                    <p:nvGrpSpPr>
                      <p:cNvPr id="259" name="Группа 29"/>
                      <p:cNvGrpSpPr/>
                      <p:nvPr/>
                    </p:nvGrpSpPr>
                    <p:grpSpPr>
                      <a:xfrm>
                        <a:off x="1132920" y="3880800"/>
                        <a:ext cx="2538000" cy="1995840"/>
                        <a:chOff x="1132920" y="3880800"/>
                        <a:chExt cx="2538000" cy="1995840"/>
                      </a:xfrm>
                    </p:grpSpPr>
                    <p:grpSp>
                      <p:nvGrpSpPr>
                        <p:cNvPr id="260" name="Группа 28"/>
                        <p:cNvGrpSpPr/>
                        <p:nvPr/>
                      </p:nvGrpSpPr>
                      <p:grpSpPr>
                        <a:xfrm>
                          <a:off x="1132920" y="3880800"/>
                          <a:ext cx="2538000" cy="1995840"/>
                          <a:chOff x="1132920" y="3880800"/>
                          <a:chExt cx="2538000" cy="1995840"/>
                        </a:xfrm>
                      </p:grpSpPr>
                      <p:sp>
                        <p:nvSpPr>
                          <p:cNvPr id="261" name="Прямая соединительная линия 9"/>
                          <p:cNvSpPr/>
                          <p:nvPr/>
                        </p:nvSpPr>
                        <p:spPr>
                          <a:xfrm>
                            <a:off x="1631160" y="3974760"/>
                            <a:ext cx="1690920" cy="16628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62" name="Группа 92"/>
                          <p:cNvGrpSpPr/>
                          <p:nvPr/>
                        </p:nvGrpSpPr>
                        <p:grpSpPr>
                          <a:xfrm>
                            <a:off x="1132920" y="3880800"/>
                            <a:ext cx="2538000" cy="1995840"/>
                            <a:chOff x="1132920" y="3880800"/>
                            <a:chExt cx="2538000" cy="1995840"/>
                          </a:xfrm>
                        </p:grpSpPr>
                        <p:grpSp>
                          <p:nvGrpSpPr>
                            <p:cNvPr id="263" name="Группа 7"/>
                            <p:cNvGrpSpPr/>
                            <p:nvPr/>
                          </p:nvGrpSpPr>
                          <p:grpSpPr>
                            <a:xfrm>
                              <a:off x="1132920" y="3880800"/>
                              <a:ext cx="2538000" cy="1995840"/>
                              <a:chOff x="1132920" y="3880800"/>
                              <a:chExt cx="2538000" cy="1995840"/>
                            </a:xfrm>
                          </p:grpSpPr>
                          <p:cxnSp>
                            <p:nvCxnSpPr>
                              <p:cNvPr id="264" name="Прямая со стрелкой 95"/>
                              <p:cNvCxnSpPr/>
                              <p:nvPr/>
                            </p:nvCxnSpPr>
                            <p:spPr>
                              <a:xfrm flipV="1">
                                <a:off x="1133280" y="3880800"/>
                                <a:ext cx="2160" cy="1995480"/>
                              </a:xfrm>
                              <a:prstGeom prst="straightConnector1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cxnSp>
                            <p:nvCxnSpPr>
                              <p:cNvPr id="265" name="Прямая со стрелкой 96"/>
                              <p:cNvCxnSpPr/>
                              <p:nvPr/>
                            </p:nvCxnSpPr>
                            <p:spPr>
                              <a:xfrm>
                                <a:off x="1132920" y="5874840"/>
                                <a:ext cx="2538360" cy="2160"/>
                              </a:xfrm>
                              <a:prstGeom prst="straightConnector1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</p:grpSp>
                        <p:sp>
                          <p:nvSpPr>
                            <p:cNvPr id="266" name="Прямая соединительная линия 94"/>
                            <p:cNvSpPr/>
                            <p:nvPr/>
                          </p:nvSpPr>
                          <p:spPr>
                            <a:xfrm>
                              <a:off x="1133280" y="4449600"/>
                              <a:ext cx="99540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prstDash val="lgDash"/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267" name="Прямая соединительная линия 13"/>
                        <p:cNvSpPr/>
                        <p:nvPr/>
                      </p:nvSpPr>
                      <p:spPr>
                        <a:xfrm>
                          <a:off x="2129040" y="4451400"/>
                          <a:ext cx="0" cy="142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lg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68" name="Прямая соединительная линия 88"/>
                      <p:cNvSpPr/>
                      <p:nvPr/>
                    </p:nvSpPr>
                    <p:spPr>
                      <a:xfrm>
                        <a:off x="3073680" y="5401080"/>
                        <a:ext cx="0" cy="474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9" name="TextBox 86"/>
                    <p:cNvSpPr/>
                    <p:nvPr/>
                  </p:nvSpPr>
                  <p:spPr>
                    <a:xfrm>
                      <a:off x="885240" y="3786120"/>
                      <a:ext cx="149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0" name="TextBox 82"/>
                <p:cNvSpPr/>
                <p:nvPr/>
              </p:nvSpPr>
              <p:spPr>
                <a:xfrm>
                  <a:off x="3564720" y="59227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nstantia"/>
                    </a:rPr>
                    <a:t>Q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TextBox 74"/>
            <p:cNvSpPr/>
            <p:nvPr/>
          </p:nvSpPr>
          <p:spPr>
            <a:xfrm>
              <a:off x="1929960" y="5969880"/>
              <a:ext cx="3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Q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75"/>
            <p:cNvSpPr/>
            <p:nvPr/>
          </p:nvSpPr>
          <p:spPr>
            <a:xfrm>
              <a:off x="2844720" y="596988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Q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76"/>
            <p:cNvSpPr/>
            <p:nvPr/>
          </p:nvSpPr>
          <p:spPr>
            <a:xfrm>
              <a:off x="2167920" y="4308120"/>
              <a:ext cx="34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77"/>
            <p:cNvSpPr/>
            <p:nvPr/>
          </p:nvSpPr>
          <p:spPr>
            <a:xfrm>
              <a:off x="3071160" y="525780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857160" y="317880"/>
            <a:ext cx="46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ИЗМЕНЕНИЯ СПРО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http://conteconomics.narod.ru/Urok4/f1_4.jpg"/>
          <p:cNvPicPr/>
          <p:nvPr/>
        </p:nvPicPr>
        <p:blipFill>
          <a:blip r:embed="rId1"/>
          <a:stretch/>
        </p:blipFill>
        <p:spPr>
          <a:xfrm>
            <a:off x="357120" y="64296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3357720" y="423360"/>
            <a:ext cx="528624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"/>
          <p:cNvSpPr/>
          <p:nvPr/>
        </p:nvSpPr>
        <p:spPr>
          <a:xfrm>
            <a:off x="2000160" y="4143240"/>
            <a:ext cx="6715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асть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несите каждое изменение спроса из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асти I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вкусов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доходов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числа потребителей на рын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цены товара-замен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цены дополняющего тов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0:36:09Z</dcterms:created>
  <dc:creator>inna</dc:creator>
  <dc:description/>
  <dc:language>en-US</dc:language>
  <cp:lastModifiedBy>LEGION</cp:lastModifiedBy>
  <dcterms:modified xsi:type="dcterms:W3CDTF">2016-01-04T08:16:07Z</dcterms:modified>
  <cp:revision>41</cp:revision>
  <dc:subject/>
  <dc:title>Спрос. Величина спроса. Факторы влияющие на спрос</dc:title>
</cp:coreProperties>
</file>