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A801-39BB-47B4-81B9-598006163E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647-D78E-4269-AC12-C67B952C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334-59AA-4756-861E-E872157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BE7-B4D1-47BF-81A7-BFD57FA4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7BF-B8FE-4B2E-A0B6-40885938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42F8-5F96-478B-AFB9-799128CF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55D8-F052-4730-BCF1-4F6009EE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DE87-FCD9-4075-AEAE-4CC617F3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8F87-09D4-470A-9B3F-DA375767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78B7-1FAB-41AC-BCDF-E50B158E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E129-6C4F-4961-B518-AE6D6F70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4174-A9A8-47BB-8198-9078DCE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0C5-A35A-48EE-8710-BA399E80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3A0A-9892-4AA3-8C89-3BFCFF2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FE23-C520-479F-A0E6-8F2382D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7601-140B-4920-91EC-E3C8AF19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72DA-6B6B-40F7-8956-7F3461F2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5B94-6869-4AD9-AB0A-6D192CC7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2C56-3985-45CD-80C2-3866EE67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9339-6EF0-490C-AB4B-859E3DBF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87B2-6FC3-4C5E-A3B8-26271737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D3BB-FCC7-4FC8-80FF-2238B26F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8AE3-51D9-43FA-9FE2-EAC56A8F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D4C-57EB-415D-B6A7-6112CFDE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B854-2A45-42D4-8F80-1943CB74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AD4A-6568-4A00-A3FF-55D18CFC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7E37-508D-450D-9EBF-F52D5E1E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73B0-B479-4AB6-B37E-364C3C9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4CDE-2084-47B8-B2EE-29F1E067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1869-41F8-4127-8AC2-87F30B5A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9A38-75E1-4231-A5E2-79B11FF8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B480D-8EA6-43CA-9CA6-DF6EBE19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4E06A-7616-406E-904F-BE7FC735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D98C-B715-4FA4-9162-6D250C4A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5A9-5AB0-4600-84FD-FB191F32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0CF89-ABA2-4EF2-B900-84FF5D3A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0125-54EC-42DC-9D31-6C5A0189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F0406-1B6F-48A4-B7FC-189F6F14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4939-D16D-4E63-92E3-4A0D4D16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09FA-C0D2-4BD2-8EA6-B6E5908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CBE8-6725-4E93-9F95-1721F26E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60F4-BABA-40A0-8E2A-01835F56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4B78-2329-4374-87A6-D62B104B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5FA6-4A61-4776-AAC7-9F64D14B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78F9F-1C5A-42E4-BE48-73223315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A70-BC65-4E6C-857F-FB567FE3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976CF-7D37-4BE9-97FC-AF52C49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EE192-23A3-4961-B596-C358CFCF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02FD-D853-4E64-8566-C1ADEA9B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56364-5FA0-43C7-AEEF-25C4F38D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503C-DB16-40E0-80B3-427D848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7C9BD-5DBA-43BB-8263-A1962FF3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AF124-431D-4D1C-AB7F-A149CAF3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F5D3-F055-4978-81C6-3B59FA3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4B797-D6FF-457E-BD47-3EDF830E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2BD37-1D31-420B-A770-B356F5D1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8D3-10C2-404F-8120-6B44CE9F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C8CF-1DD6-4B9A-BC2C-0884A357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3F292-8F24-430A-898D-0D28819C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C294-8570-412F-A225-D62ED88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83E7C-0940-4C3B-9E87-22572957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7469A-9D43-4320-94FF-52F84169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065D1-9ACA-40A7-A43E-112477C1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944E7-3DB7-4EBC-A360-0F632F7B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5271-C3A6-4A16-A874-6642A9A6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F35CF-1CA0-4C9E-99DA-5CE7A73B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CBA61-627E-4F1C-A837-B17F2E70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FA3-1193-48EB-8741-69CFCBE2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F13BC-FC16-404F-A9C0-A197B812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A2B2-F6D3-4023-8597-656F250F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154B9-5296-406D-A1B7-4EB05CF7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6A8-E3E3-479D-AAD6-1D30A179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E28-EB87-4FEE-B897-E7F94D04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FA6F-7B97-4EE6-8451-FA0C22CF74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C626-B6AE-46E9-AEA6-5DCA06C35F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8D50-684C-4C6B-ACF9-FC98F14D17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FDD7-B82A-4271-B429-D7D1DF3005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14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32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36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9C97-F007-46C5-B490-92B7131CA2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527F-A545-4DDB-A586-03548AE58FC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Тема урока № 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Доходы. Виды доход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Издержки производств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Аренда помещений ( 20кв.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1 кв.м – 500 руб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20 х 50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10000 ру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Амортизация (износ) оборуд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2%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Стоимость оборудования 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50000 х 2%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f40639"/>
                </a:solidFill>
                <a:latin typeface="Arial"/>
              </a:rPr>
              <a:t>1000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Материальные затраты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 мастер  - 10 руб.(1 работа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2 мастер  - 3 руб. ( 1 работа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6 х 10 = 160 руб. (за 1 день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32 х 3 = 96 руб. (за 1 день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(160 + 96) х 25 =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Garamond"/>
              </a:rPr>
              <a:t>6400 руб. (за месяц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аловый доход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61200 – (10000 + 1000 + 640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43800 ру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з/плата                  прибы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H="1">
            <a:off x="1618920" y="3716280"/>
            <a:ext cx="20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708360" y="371628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68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6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Заработная пла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 мастер – 10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2 мастер – 8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спомогательный персонал – 6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0000 + 8000 + 6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2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тчисления в социальные фонды (30%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24000 х 30% =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7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43800 – (24000 + 72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12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(налог на прибыль 32 %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Материальное стимулирование   2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Социальные нужды    2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Развитие производства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Резервный фонд     1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2600 – 5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760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х 32%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2400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600 – 24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Verdana"/>
              </a:rPr>
              <a:t>  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ДОХОДЫ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Verdana"/>
              </a:rPr>
              <a:t>Общий доход (До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о = Ц х 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Где  Ц – цена единицы товара, руб.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редний доход (Дс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Дс=</a:t>
            </a: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едельный доход (Дпр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Приращивание общего дохода в рублях (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о) при увеличении объема продаж на единицу товара (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пр =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дохода,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               предпри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экономический практику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парикмахерской «Фантазия»  работает два мастера 25 дней в неделю по 8 ч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 выполняет работу за 30 мин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выполняет работу за 15 м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имость одной рабо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– 100 руб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– 40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8часов : 0,5 часа(30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16 работ  (за 1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8часов : 0,25 часа (15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32 работы (за 1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16 х 100 = 160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32 х 40 = 1280 (руб. за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600 + 1280 = 288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880 х 25 = 72000 руб. </a:t>
            </a:r>
            <a:r>
              <a:rPr b="1" i="1" lang="ru-RU" sz="3600" spc="-1" strike="noStrike">
                <a:solidFill>
                  <a:srgbClr val="f40639"/>
                </a:solidFill>
                <a:latin typeface="Garamond"/>
              </a:rPr>
              <a:t>(доход за месяц)</a:t>
            </a:r>
            <a:br>
              <a:rPr sz="36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НАЛОГ В БЮДЖЕТ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      ( 15%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72000 Х 15%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f40639"/>
                </a:solidFill>
                <a:latin typeface="Arial"/>
              </a:rPr>
              <a:t>10800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40:04Z</dcterms:created>
  <dc:creator>user</dc:creator>
  <dc:description/>
  <dc:language>en-US</dc:language>
  <cp:lastModifiedBy>LEGION</cp:lastModifiedBy>
  <dcterms:modified xsi:type="dcterms:W3CDTF">2016-01-04T08:16:49Z</dcterms:modified>
  <cp:revision>6</cp:revision>
  <dc:subject/>
  <dc:title>Тема урока № 10</dc:title>
</cp:coreProperties>
</file>