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E5F9-4016-4F72-A0C7-054686B1EDC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урока № 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. Виды доход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держки производств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енда помещений ( 20кв.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кв.м – 5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0 х 5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мортизация (износ) оборуд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2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борудования  500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0000 х 2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ьные затра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- 10 руб.(1 работа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 - 3 руб. ( 1 работа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 х 10 = 160 руб.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2 х 3 = 96 руб.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(160 + 96) х 25 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6400 руб. (за месяц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ловый дох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61200 – (10000 + 1000 + 64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/плата                  прибыл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8000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помогательный персонал – 6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000 + 8000 + 6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числения в социальные фонды (30%) –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0 х 30% =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3800 – (24000 + 7200)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алог на прибыль 32 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Материальное стимулирование   2000 руб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Социальные нужды    2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Развитие производства     50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4.Резервный фонд     1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2600 – 5000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х 32% =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400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600 – 2400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52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Ы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ий доход (До)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 = Ц х К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де  Ц – цена единицы товара, руб.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редний доход (Дс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с=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ельный доход (Дпр) -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ращивание общего дохода в рублях (^До) при увеличении объема продаж на единицу товара (^К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пр = ^Д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^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дохода, прибы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предприя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кономический практикум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парикмахерской «Фантазия»  работает два мастера 25 дней в неделю по 8 ча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 выполняет работу за 30 мин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выполняет работу за 15 м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оимость одной работ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 – 100 руб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 – 4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8часов : 0,5 часа(30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16 работ  (за 1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8часов : 0,25 часа (15мин.)=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32 работы (за 1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мастер: 16 х 100 = 160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мастер: 32 х 40 = 1280 (руб. за день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600 + 1280 = 2880 (руб. за ден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880 х 25 = 72000 руб. (доход за месяц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 В БЮДЖ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( 15%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72000 Х 15% =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0800 РУБ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C466-786B-44D9-A2B4-107A8A4D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370-396A-43DC-839D-EC8BD237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C5E-29CC-405F-AB5E-57343EE0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B0F-F1BB-437A-B14F-2EB41478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B866-4122-4F24-9C10-27667997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3B31-F1A7-4DBD-BE97-BB47E2DC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A494-9C03-4F55-A03E-4274BCB3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AA50-A84F-4BF3-A560-76AAF0EE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229C-67CB-41C4-8B3B-411CAFDF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70A9-DA78-46E0-BE33-4298AA29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2000-5FC6-472B-8853-A2F585CC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2EB-9790-47FD-BF85-C8F590D2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B3E1-B0D0-4237-A587-1C7D9DF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CCB8-2609-45B3-B441-79BF8F4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9708-508F-4D20-AF5F-FBCB710E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8A4-A2CE-474A-B2E7-B9C6F7C9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4134-3A88-46E5-AB50-49C88387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E3D9-D21A-45E5-9B0C-A8573127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6001-8957-4E83-ADBA-EAB51E0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D3732-E13B-4CF5-AF60-31E9757B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6AD6F-EF5A-4B2D-B5D9-A212CA14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FAE96-0D05-46F1-B6BD-F08FFF13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CF0-1179-4622-B65D-5233AAD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D17B-29B2-4966-8335-F8DBEAAD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8014D-B814-4E55-8C8F-74CCCE69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BBB1D-B599-4429-A18A-2B2222CA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4E55E-DA6F-4C54-9FAF-67CFDD1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133C-FFD7-45D7-A7D3-B45E5654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B270-5AA4-4946-AE71-C04AEC51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0634-6504-4E80-AD73-98C445DF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6EEB4-40F6-4F48-8DDE-9A581FD9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8E14-171F-437F-B91E-39E28911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F85AD-3A08-4A8B-A97B-FB18D508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5F0D-0C26-4010-B56E-FE760262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E333-BDA1-4CCD-8CEF-12EF3DEC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0581C-59B4-418F-A7CD-1685125D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F175-388C-4F88-9B10-2587106C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50E6-9CC8-45C0-B682-F7D63FBC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AABB-C942-456D-9DCE-5153335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F8799-00EB-424D-976E-E8E9A91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D69CA-94E5-429D-B331-4B1734E0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E7E66-EF11-4DF5-B81F-C71FACE3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A0157-7AA5-40C2-9873-CE013C92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A7211-6E1E-40D3-9992-25DC9B24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DE5-ABA3-445C-B1F1-F4C3FB6D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A84E-1A38-43E1-9571-CF81303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6CF7B-8C8A-46EB-8F7B-5EE2AAB1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E661E-6055-4004-8A66-E78480F3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41A4B-534F-4D15-AD45-4C30BD6A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5982E-C376-4A8B-89D3-D630D78B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5DE64-DF57-4DC0-987C-4EF5AAD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A4D2-EE5F-429A-92CA-0139A7B8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B5AE5-3E1B-4AB1-B161-CA8249D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EDF05-46E4-43C0-9B4E-9EF8FEC5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FB8D8-9681-4B18-9C73-6EDA51C2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306-0D4B-4ED3-BB31-9CA9B7FF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BB40E-6E7B-4FF0-ACD3-2CAF0F18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51D8-084D-4AC8-916F-2F3A9C57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1435-5EDA-46BB-B27B-E0C6CFC3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E1A2E-3830-4CF6-A546-E5233163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23A0F-AAC1-4305-9D12-3B75E2FE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FADCB-6EBE-41ED-92EF-F4759E2F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C524E-AEBC-47A6-9B3F-B3EB3B22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989E9-0039-49AA-A7EB-B0A9EFB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D466C-E4E3-4571-8959-0CB7DD61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0DCA5-697C-4242-83D6-E19FA1F3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1078-D6A3-4D9B-AEBF-8A50BD5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0FA31-765B-4E0F-8E61-1E41FF1D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EA7C6-B7DD-4429-B88A-055E74DA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F545-A908-472D-A94A-2B12F5DD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2E0A-C4BF-438F-9805-211653BF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910-D4C2-4C72-8FE8-345DE99B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DE22-5E2B-4264-A658-9456A32D36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4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5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5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7A19-56FD-4618-BAE1-D1D935B633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F12-43FA-4BC7-BD52-8278FBDFA6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7C9-9AB2-4BAD-97C5-08FC5A7A66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213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214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21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7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28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1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232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5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236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39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40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1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2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3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44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7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7000-EB61-4C58-A3D4-04931E9F15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DAD8-C466-440E-A6E6-5D39F0D98C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Verdana"/>
              </a:rPr>
              <a:t>Тема урока № 1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Доходы. Виды доход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Garamond"/>
              </a:rPr>
              <a:t>Издержки производства: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Аренда помещений ( 20кв.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1 кв.м – 500 руб.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003399"/>
                </a:solidFill>
                <a:latin typeface="Arial"/>
              </a:rPr>
              <a:t>20 х 50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Arial"/>
              </a:rPr>
              <a:t>10000 ру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Амортизация (износ) оборудован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aramond"/>
              </a:rPr>
              <a:t>                          2%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Стоимость оборудования  5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50000 х 2%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Arial"/>
              </a:rPr>
              <a:t>                          </a:t>
            </a:r>
            <a:r>
              <a:rPr b="1" i="1" lang="ru-RU" sz="3600" spc="-1" strike="noStrike">
                <a:solidFill>
                  <a:srgbClr val="f40639"/>
                </a:solidFill>
                <a:latin typeface="Arial"/>
              </a:rPr>
              <a:t>1000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Материальные затраты: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 мастер  - 10 руб.(1 работа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2 мастер  - 3 руб. ( 1 работа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16 х 10 = 160 руб. (за 1 день)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32 х 3 = 96 руб. (за 1 день)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(160 + 96) х 25 =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</a:t>
            </a:r>
            <a:r>
              <a:rPr b="1" i="1" lang="ru-RU" sz="4000" spc="-1" strike="noStrike">
                <a:solidFill>
                  <a:srgbClr val="f40639"/>
                </a:solidFill>
                <a:latin typeface="Garamond"/>
              </a:rPr>
              <a:t>6400 руб. (за месяц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Валовый доход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61200 – (10000 + 1000 + 6400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43800 ру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40639"/>
                </a:solidFill>
                <a:latin typeface="Arial"/>
              </a:rPr>
              <a:t>з/плата                  прибы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6"/>
          <p:cNvSpPr/>
          <p:nvPr/>
        </p:nvSpPr>
        <p:spPr>
          <a:xfrm flipH="1">
            <a:off x="1618920" y="3716280"/>
            <a:ext cx="2089080" cy="12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3708360" y="3716280"/>
            <a:ext cx="2664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768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76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8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0" dur="768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33"/>
                </a:solidFill>
                <a:latin typeface="Garamond"/>
              </a:rPr>
              <a:t>Заработная плата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 мастер – 10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2 мастер – 8000 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Вспомогательный персонал – 6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</a:t>
            </a: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10000 + 8000 + 6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24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отчисления в социальные фонды (30%)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24000 х 30% =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7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43800 – (24000 + 7200)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                          </a:t>
            </a:r>
            <a:r>
              <a:rPr b="1" i="1" lang="ru-RU" sz="2400" spc="-1" strike="noStrike">
                <a:solidFill>
                  <a:srgbClr val="f40639"/>
                </a:solidFill>
                <a:latin typeface="Arial"/>
              </a:rPr>
              <a:t>126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(налог на прибыль 32 %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.Материальное стимулирование   2000 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.Социальные нужды    2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Развитие производства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0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.Резервный фонд     1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2600 – 5000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760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х 32%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2400руб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7600 – 240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f40639"/>
                </a:solidFill>
                <a:latin typeface="Arial"/>
              </a:rPr>
              <a:t>5200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Verdana"/>
              </a:rPr>
              <a:t>                </a:t>
            </a:r>
            <a:r>
              <a:rPr b="1" i="1" lang="ru-RU" sz="4800" spc="-1" strike="noStrike">
                <a:solidFill>
                  <a:srgbClr val="cc0000"/>
                </a:solidFill>
                <a:latin typeface="Verdana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Verdana"/>
              </a:rPr>
              <a:t>Научиться распределять доходы, прибыль предприят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Verdana"/>
              </a:rPr>
              <a:t>ДОХОДЫ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Verdana"/>
              </a:rPr>
              <a:t>Важнейший экономический показатель работы предприятия (фирмы), выраженный в форме денежных поступлений от всех видов деятельности, за определенный период времени. Доходы подразделяются на общий, средний и предельный доходы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Verdana"/>
              </a:rPr>
              <a:t>Общий доход (До)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енежная сумма, полученная от  продажи определенного количества товара (оказание услуг, выполненных работ). Он определяется произведение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До = Ц х К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Где  Ц – цена единицы товара, руб.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        </a:t>
            </a:r>
            <a:r>
              <a:rPr b="1" i="1" lang="ru-RU" sz="2800" spc="-1" strike="noStrike">
                <a:solidFill>
                  <a:srgbClr val="006666"/>
                </a:solidFill>
                <a:latin typeface="Verdana"/>
              </a:rPr>
              <a:t>К – количество проданных единиц товара(продукции), ед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Средний доход (Дс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Показывает величину денежных средств, полученных за единицу проданной продукции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Дс=</a:t>
            </a: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i="1" lang="ru-RU" sz="36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6699"/>
                </a:solidFill>
                <a:uFillTx/>
                <a:latin typeface="Verdana"/>
              </a:rPr>
              <a:t>                    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редельный доход (Дпр) -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Приращивание общего дохода в рублях (</a:t>
            </a:r>
            <a:r>
              <a:rPr b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о) при увеличении объема продаж на единицу товара (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               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Дпр =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Д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^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Распределение дохода, прибыли</a:t>
            </a:r>
            <a:br>
              <a:rPr sz="42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               предприят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(экономический практику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В парикмахерской «Фантазия»  работает два мастера 25 дней в неделю по 8 час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 выполняет работу за 30 мин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выполняет работу за 15 ми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стоимость одной работ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1 мастер – 100 руб.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2 мастер – 40 ру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7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8часов : 0,5 часа(30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16 работ  (за 1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8часов : 0,25 часа (15мин.)=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          32 работы (за 1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 мастер: 16 х 100 = 160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 мастер: 32 х 40 = 1280 (руб. за день)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1600 + 1280 = 2880 (руб. за день)</a:t>
            </a:r>
            <a:br>
              <a:rPr sz="3600"/>
            </a:b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2880 х 25 = 72000 руб. </a:t>
            </a:r>
            <a:r>
              <a:rPr b="1" i="1" lang="ru-RU" sz="3600" spc="-1" strike="noStrike">
                <a:solidFill>
                  <a:srgbClr val="f40639"/>
                </a:solidFill>
                <a:latin typeface="Garamond"/>
              </a:rPr>
              <a:t>(доход за месяц)</a:t>
            </a:r>
            <a:br>
              <a:rPr sz="3600"/>
            </a:br>
            <a:r>
              <a:rPr b="1" i="1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68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6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68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НАЛОГ В БЮДЖЕТ</a:t>
            </a:r>
            <a:br>
              <a:rPr sz="4000"/>
            </a:b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                       ( 15%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00"/>
                </a:solidFill>
                <a:latin typeface="Arial"/>
              </a:rPr>
              <a:t>                </a:t>
            </a: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72000 Х 15%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               </a:t>
            </a:r>
            <a:r>
              <a:rPr b="1" i="1" lang="ru-RU" sz="4400" spc="-1" strike="noStrike">
                <a:solidFill>
                  <a:srgbClr val="f40639"/>
                </a:solidFill>
                <a:latin typeface="Arial"/>
              </a:rPr>
              <a:t>10800 РУБ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0:40:04Z</dcterms:created>
  <dc:creator>user</dc:creator>
  <dc:description/>
  <dc:language>en-US</dc:language>
  <cp:lastModifiedBy>LEGION</cp:lastModifiedBy>
  <dcterms:modified xsi:type="dcterms:W3CDTF">2016-01-04T08:16:49Z</dcterms:modified>
  <cp:revision>6</cp:revision>
  <dc:subject/>
  <dc:title>Тема урока № 10</dc:title>
</cp:coreProperties>
</file>