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988C-93C4-48CD-822B-7DFF1F8D97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D1A-BB35-4280-A9EF-33314F90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2FA-C838-49F9-AD01-0D3A9252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0BF-71CC-4068-8931-BFB95CDF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605-0CD7-4426-BD61-FD73FD75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CA5E-4609-4137-9C03-F13D9C03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5FF4-4C21-465C-8808-AAE50AB1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06EA-B417-499D-9B11-E341C4F1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B880-A4B0-422A-81FD-48A5F9F7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E645-BC7A-4EA5-8700-1A3F37F1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90A2-9BB0-455B-82E7-3C49BFC2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DD1B-1CA8-4768-8EEF-E22F2BBD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570-439A-4564-B36E-D975EEB6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3B40-A63B-4078-9004-4D9C8A6A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D2B3-DF39-4829-9B43-5866B2C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FD93-2676-41A7-8329-434A4BF2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BB3D-7F56-4AF5-AF21-4646E766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8E40-9BE2-48BB-ADBF-7D684510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DEB5F-90FC-4A8E-B918-6D22714D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8E5D-9D96-4790-9E05-B1F28E96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67E4-F663-440B-B7FE-74C026F2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CFBA-B072-4CCF-9F67-7D6CA038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E543-AE4C-4132-9F39-C384F344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DB5-55BA-4968-9B99-3A2893DD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E46A-0F5E-4104-85E4-D8A1AA59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1462E-A567-498B-A51D-E66F9549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3551-31D6-4DDF-893D-D595DB43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CE080-05F2-4318-84F2-B63AC657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9BDC-9795-4B50-BFFB-01CFE312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AED22-5794-45D6-A41D-DFE11FCD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FEBF5-6D96-4FB4-8CE2-798D4476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6D9F5-9EA6-4076-A227-5A9B5AC3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1E19D-192F-42AF-BFCF-17B95D28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9CC8-897D-4B91-9B42-F41E4D33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4A3-8094-4290-BE8B-CA55AD48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2B73F-9BC4-4681-A78C-DA73FBEF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3609-7CD4-40BB-9F5F-4D94AF5E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0CF4-8A8A-47D1-8661-9CB89E3B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A8B2-0890-4DAE-80A2-C0A30EA2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A5A9-9D36-46A6-B0AB-1386665D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E8C95-66AA-4F3D-AE5F-1DC6E5B9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EA14-76D0-4EE3-A4A0-A53F85E3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01481-70D4-4C8A-BE16-5DD5E797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407DF-606C-4FFD-AD74-1C506141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8F3B4-D3CD-41CF-B185-196205B6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2E2-8C1E-4F94-8273-EABE9631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8DA62-C48B-47AD-BB5C-F84EECD1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CF6E3-F182-4CD9-913E-AD30DE08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D8C5-E8A1-4899-A959-AD9B0477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20BB0-EE65-45A9-A13F-CDD13833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DF56E-C03E-43FC-9BA5-4016228B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0DB34-334E-4C8B-BD1F-941D3385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38B5B-C10D-4059-A70C-333E5B74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5A185-CD3B-4A53-9EEA-02EDFA1F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9696A-6190-42EC-91A8-8678FA37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3FE59-C36D-4A2F-A9DE-2D1A84AC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80C-B558-4A0D-9697-AD6972C1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AC0B1-FEB9-4F17-916E-D91395EA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C68D0-5210-4F23-9213-7D75B1E5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B45F6-7160-4E75-9209-9A4CE7A4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8D303-2876-4D39-9C23-563AD8D4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59BA0-ADBF-451D-BEEF-408AF38C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D38A1-692E-45E7-A5B0-42AB63DD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B3496-A13D-4D52-8E18-EF4FBD22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7DE50-2D23-4EC8-874A-97CCC65E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DB9B4-6333-4BD4-917F-8623F4E6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5E524-1AE2-4B14-8989-43BFE9FE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396-4F74-4A55-8885-7008C7BE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178F6-5A3F-468C-8561-594F8051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9BFF4-CE99-4285-A88A-E27C36FC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F6235-6614-4712-8A0E-FD350A5C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FA1-DBF8-4DC4-9948-1E8E67D5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406-7E15-4D10-A0DA-CCED73F8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750B-585D-4134-A63A-CCB38A0000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8AA1-CA92-40BA-A27F-BD347CB515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1D44-E681-4650-B4C1-B39E0224ED0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936E-E30A-4C2B-8E55-577D46A84F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13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214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32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5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36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4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27EB-0EF0-4991-B3B2-B79E5D3617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A992-3E71-4B9A-80DA-57FDD902BEA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Verdana"/>
              </a:rPr>
              <a:t>Тема урока № 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Доходы. Виды доход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aramond"/>
              </a:rPr>
              <a:t>Издержки производства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Аренда помещений ( 20кв.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1 кв.м – 500 руб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20 х 50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10000 ру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Амортизация (износ) оборудован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                         2%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Стоимость оборудования  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50000 х 2%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f40639"/>
                </a:solidFill>
                <a:latin typeface="Arial"/>
              </a:rPr>
              <a:t>1000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Материальные затраты: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 мастер  - 10 руб.(1 работа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2 мастер  - 3 руб. ( 1 работа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6 х 10 = 160 руб. (за 1 день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32 х 3 = 96 руб. (за 1 день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(160 + 96) х 25 =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Garamond"/>
              </a:rPr>
              <a:t>6400 руб. (за месяц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Валовый доход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61200 – (10000 + 1000 + 6400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43800 ру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з/плата                  прибы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 flipH="1">
            <a:off x="1618920" y="3716280"/>
            <a:ext cx="2089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708360" y="3716280"/>
            <a:ext cx="2664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68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68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Заработная плат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 мастер – 10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2 мастер – 8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спомогательный персонал – 6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0000 + 8000 + 6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24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тчисления в социальные фонды (30%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24000 х 30% =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7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43800 – (24000 + 72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126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(налог на прибыль 32 %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.Материальное стимулирование   200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.Социальные нужды    2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Развитие производства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.Резервный фонд     1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2600 – 5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760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х 32%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2400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7600 – 24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Verdana"/>
              </a:rPr>
              <a:t>                </a:t>
            </a:r>
            <a:r>
              <a:rPr b="1" i="1" lang="ru-RU" sz="4800" spc="-1" strike="noStrike">
                <a:solidFill>
                  <a:srgbClr val="cc0000"/>
                </a:solidFill>
                <a:latin typeface="Verdana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ДОХОДЫ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Verdana"/>
              </a:rPr>
              <a:t>Общий доход (До)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о = Ц х 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Где  Ц – цена единицы товара, руб.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Средний доход (Дс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Дс=</a:t>
            </a: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редельный доход (Дпр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Приращивание общего дохода в рублях (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о) при увеличении объема продаж на единицу товара (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пр =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                             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дохода,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               предприят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экономический практику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 парикмахерской «Фантазия»  работает два мастера 25 дней в неделю по 8 ч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 выполняет работу за 30 мин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выполняет работу за 15 м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оимость одной рабо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– 100 руб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– 40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8часов : 0,5 часа(30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16 работ  (за 1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8часов : 0,25 часа (15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32 работы (за 1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16 х 100 = 160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32 х 40 = 1280 (руб. за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600 + 1280 = 288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880 х 25 = 72000 руб. </a:t>
            </a:r>
            <a:r>
              <a:rPr b="1" i="1" lang="ru-RU" sz="3600" spc="-1" strike="noStrike">
                <a:solidFill>
                  <a:srgbClr val="f40639"/>
                </a:solidFill>
                <a:latin typeface="Garamond"/>
              </a:rPr>
              <a:t>(доход за месяц)</a:t>
            </a:r>
            <a:br>
              <a:rPr sz="36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НАЛОГ В БЮДЖЕТ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      ( 15%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72000 Х 15%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f40639"/>
                </a:solidFill>
                <a:latin typeface="Arial"/>
              </a:rPr>
              <a:t>10800 РУ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40:04Z</dcterms:created>
  <dc:creator>user</dc:creator>
  <dc:description/>
  <dc:language>en-US</dc:language>
  <cp:lastModifiedBy>LEGION</cp:lastModifiedBy>
  <dcterms:modified xsi:type="dcterms:W3CDTF">2016-01-04T08:16:49Z</dcterms:modified>
  <cp:revision>6</cp:revision>
  <dc:subject/>
  <dc:title>Тема урока № 10</dc:title>
</cp:coreProperties>
</file>