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а "Основы денежного механизма"   10 клас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к 2. Доходы и расходы семьи. Стоимость жизни. Сбережения. Креди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D452-68D9-40F9-9B14-FE41289281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и расходы семь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оимость жиз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аши доходы повысились н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ферты – доходы, которые не являются платой за произведенные товары или оказанные услуги и не связаны с владением собственностью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 (минимальный потребительский бюджет)– набор из наиболее представительных товаров и услуг, удовлетворяющих основные потребности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P*(1+i*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=502 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=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=1,4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=502*(1+19/100*1.4)=635,532M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мья Сидор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II.   Семейные расхо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язате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ль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ная корз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варпла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ун.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еж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но-бытов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бе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т.тех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уктура расходов семьи Сидоровых (в месяц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декс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ительских 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Т+Q2Т*P2T+…+QNТ * P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Q1Т*P1Б+Q2Т*P2Б+…+QNТ * PN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*10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=147,78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цены увеличились на 47,78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 Е Ш Е Н И Е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 был  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ПЦ  стал   -  112,5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был   -   100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   стал   -   108%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вет:  реальный доход уменьшился на 4%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верхнього колонтитула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Місце для нижнього колонтитула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омера слайда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величьте свои сре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CD9-77D3-426D-9AD4-860A87F7E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B28-7D29-42E4-B1D9-697A43A6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73D1-6A1E-4003-87F8-887CC363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ED92-A411-40FF-A92E-648D027E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41E9-EBCA-4605-9166-462E3156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377C-9B20-40FF-AAD3-E8768AA4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25DB-3C1F-4D1B-B243-48286C91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CFC9-55E9-4B90-898F-51162668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79A9-AE1C-4006-B60C-79D580C5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0DDC-A293-4DE8-84DD-CC00414D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1C49-DD59-4C28-A4B9-73C65198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7C4B-E502-4FE7-96B2-A78C661C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0CC0-4976-4546-AFA1-1D085ED6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8B38-9F06-4971-9461-AC3EF9D1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F661-7B8D-43DE-B7E3-A27BB39E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55AC-5E80-4FE7-BBF6-EE21CE5A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3BFA-FB8C-4117-803C-E3AE8F77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D292-090A-4A1A-868F-8334CAFD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1DC-5839-4C42-91C0-00A46F6B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3EB5-F5EB-403A-9EAA-4E03F86A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B37-C389-4FC2-B34F-B3F5DEE3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23D-12E9-41FD-938B-6BA3A753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2E36-0212-4E20-BCCF-C9032F3E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B4B-C4CE-4039-A3BB-D009F16A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D10E-2CFA-48B5-B5EA-8F952A7DF9E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A411A-9DBC-40D7-99AB-41B0857696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4747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2B5F-1973-46F2-9794-3BCDF57A1E7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AD22-0B08-4D60-A14F-62BBE95961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7000" y="1463760"/>
            <a:ext cx="7772400" cy="16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оходы и расходы семьи.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 Стоимость жизни.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-194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ши доходы повысились на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74880" y="1057320"/>
          <a:ext cx="7439040" cy="4279680"/>
        </p:xfrm>
        <a:graphic>
          <a:graphicData uri="http://schemas.openxmlformats.org/drawingml/2006/table">
            <a:tbl>
              <a:tblPr/>
              <a:tblGrid>
                <a:gridCol w="3809880"/>
                <a:gridCol w="3629160"/>
              </a:tblGrid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32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4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5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омохозяйство №</a:t>
                      </a: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5,</a:t>
                      </a: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00 MN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AutoShape 24">
            <a:hlinkClick r:id="" action="ppaction://hlinkshowjump?jump=endshow"/>
          </p:cNvPr>
          <p:cNvSpPr/>
          <p:nvPr/>
        </p:nvSpPr>
        <p:spPr>
          <a:xfrm>
            <a:off x="4370400" y="5770440"/>
            <a:ext cx="839880" cy="630360"/>
          </a:xfrm>
          <a:custGeom>
            <a:avLst/>
            <a:gdLst>
              <a:gd name="textAreaLeft" fmla="*/ 40680 w 839880"/>
              <a:gd name="textAreaRight" fmla="*/ 799200 w 839880"/>
              <a:gd name="textAreaTop" fmla="*/ 40680 h 630360"/>
              <a:gd name="textAreaBottom" fmla="*/ 589680 h 630360"/>
            </a:gdLst>
            <a:ahLst/>
            <a:rect l="textAreaLeft" t="textAreaTop" r="textAreaRight" b="textAreaBottom"/>
            <a:pathLst>
              <a:path w="28775" h="21600">
                <a:moveTo>
                  <a:pt x="0" y="0"/>
                </a:moveTo>
                <a:lnTo>
                  <a:pt x="28775" y="0"/>
                </a:lnTo>
                <a:lnTo>
                  <a:pt x="28775" y="21600"/>
                </a:lnTo>
                <a:lnTo>
                  <a:pt x="0" y="21600"/>
                </a:lnTo>
                <a:close/>
              </a:path>
              <a:path fill="lightenLess" w="28775" h="21600">
                <a:moveTo>
                  <a:pt x="0" y="0"/>
                </a:moveTo>
                <a:lnTo>
                  <a:pt x="28775" y="0"/>
                </a:lnTo>
                <a:lnTo>
                  <a:pt x="27375" y="1400"/>
                </a:lnTo>
                <a:lnTo>
                  <a:pt x="1400" y="1400"/>
                </a:lnTo>
                <a:close/>
              </a:path>
              <a:path fill="darken" w="28775" h="21600">
                <a:moveTo>
                  <a:pt x="28775" y="0"/>
                </a:moveTo>
                <a:lnTo>
                  <a:pt x="28775" y="21600"/>
                </a:lnTo>
                <a:lnTo>
                  <a:pt x="27375" y="20200"/>
                </a:lnTo>
                <a:lnTo>
                  <a:pt x="27375" y="1400"/>
                </a:lnTo>
                <a:close/>
              </a:path>
              <a:path fill="darkenLess" w="28775" h="21600">
                <a:moveTo>
                  <a:pt x="28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5" y="20200"/>
                </a:lnTo>
                <a:close/>
              </a:path>
              <a:path fill="lighten" w="28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5" h="21600">
                <a:moveTo>
                  <a:pt x="14388" y="3837"/>
                </a:moveTo>
                <a:lnTo>
                  <a:pt x="16964" y="6448"/>
                </a:ln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lnTo>
                  <a:pt x="21351" y="10800"/>
                </a:lnTo>
                <a:lnTo>
                  <a:pt x="19697" y="10800"/>
                </a:lnTo>
                <a:lnTo>
                  <a:pt x="19697" y="17989"/>
                </a:lnTo>
                <a:lnTo>
                  <a:pt x="9078" y="17989"/>
                </a:lnTo>
                <a:lnTo>
                  <a:pt x="9078" y="10800"/>
                </a:lnTo>
                <a:lnTo>
                  <a:pt x="7425" y="10800"/>
                </a:lnTo>
                <a:close/>
              </a:path>
              <a:path fill="darkenLess" w="28775" h="21600">
                <a:moveTo>
                  <a:pt x="16964" y="6448"/>
                </a:moveTo>
                <a:lnTo>
                  <a:pt x="16964" y="4707"/>
                </a:lnTo>
                <a:lnTo>
                  <a:pt x="18740" y="4707"/>
                </a:lnTo>
                <a:lnTo>
                  <a:pt x="18740" y="8224"/>
                </a:lnTo>
                <a:close/>
              </a:path>
              <a:path fill="darkenLess" w="28775" h="21600">
                <a:moveTo>
                  <a:pt x="13465" y="14299"/>
                </a:moveTo>
                <a:lnTo>
                  <a:pt x="15310" y="14299"/>
                </a:lnTo>
                <a:lnTo>
                  <a:pt x="15310" y="17989"/>
                </a:lnTo>
                <a:lnTo>
                  <a:pt x="19697" y="17989"/>
                </a:lnTo>
                <a:lnTo>
                  <a:pt x="19697" y="10800"/>
                </a:lnTo>
                <a:lnTo>
                  <a:pt x="9078" y="10800"/>
                </a:lnTo>
                <a:lnTo>
                  <a:pt x="9078" y="17989"/>
                </a:lnTo>
                <a:lnTo>
                  <a:pt x="13465" y="17989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2560" y="127584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рансферты 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ходы, которые не являются платой за произведенные товары или оказанные услуги и не связаны с владением собственностью.</a:t>
            </a: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6" name="AutoShape 3"/>
          <p:cNvSpPr/>
          <p:nvPr/>
        </p:nvSpPr>
        <p:spPr>
          <a:xfrm>
            <a:off x="579600" y="5349960"/>
            <a:ext cx="1157040" cy="776160"/>
          </a:xfrm>
          <a:custGeom>
            <a:avLst/>
            <a:gdLst>
              <a:gd name="textAreaLeft" fmla="*/ 50040 w 1157040"/>
              <a:gd name="textAreaRight" fmla="*/ 1107000 w 1157040"/>
              <a:gd name="textAreaTop" fmla="*/ 50040 h 776160"/>
              <a:gd name="textAreaBottom" fmla="*/ 726120 h 776160"/>
            </a:gdLst>
            <a:ahLst/>
            <a:rect l="textAreaLeft" t="textAreaTop" r="textAreaRight" b="textAreaBottom"/>
            <a:pathLst>
              <a:path w="32195" h="21600">
                <a:moveTo>
                  <a:pt x="0" y="0"/>
                </a:moveTo>
                <a:lnTo>
                  <a:pt x="32195" y="0"/>
                </a:lnTo>
                <a:lnTo>
                  <a:pt x="32195" y="21600"/>
                </a:lnTo>
                <a:lnTo>
                  <a:pt x="0" y="21600"/>
                </a:lnTo>
                <a:close/>
              </a:path>
              <a:path fill="lightenLess" w="32195" h="21600">
                <a:moveTo>
                  <a:pt x="0" y="0"/>
                </a:moveTo>
                <a:lnTo>
                  <a:pt x="32195" y="0"/>
                </a:lnTo>
                <a:lnTo>
                  <a:pt x="30795" y="1400"/>
                </a:lnTo>
                <a:lnTo>
                  <a:pt x="1400" y="1400"/>
                </a:lnTo>
                <a:close/>
              </a:path>
              <a:path fill="darken" w="32195" h="21600">
                <a:moveTo>
                  <a:pt x="32195" y="0"/>
                </a:moveTo>
                <a:lnTo>
                  <a:pt x="32195" y="21600"/>
                </a:lnTo>
                <a:lnTo>
                  <a:pt x="30795" y="20200"/>
                </a:lnTo>
                <a:lnTo>
                  <a:pt x="30795" y="1400"/>
                </a:lnTo>
                <a:close/>
              </a:path>
              <a:path fill="darkenLess" w="32195" h="21600">
                <a:moveTo>
                  <a:pt x="32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795" y="20200"/>
                </a:lnTo>
                <a:close/>
              </a:path>
              <a:path fill="lighten" w="32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195" h="21600">
                <a:moveTo>
                  <a:pt x="9091" y="7493"/>
                </a:moveTo>
                <a:lnTo>
                  <a:pt x="12598" y="7493"/>
                </a:lnTo>
                <a:lnTo>
                  <a:pt x="12598" y="12828"/>
                </a:lnTo>
                <a:cubicBezTo>
                  <a:pt x="12598" y="13751"/>
                  <a:pt x="13399" y="14482"/>
                  <a:pt x="14435" y="14482"/>
                </a:cubicBezTo>
                <a:lnTo>
                  <a:pt x="16097" y="14482"/>
                </a:lnTo>
                <a:cubicBezTo>
                  <a:pt x="17133" y="14482"/>
                  <a:pt x="17934" y="13751"/>
                  <a:pt x="17934" y="12828"/>
                </a:cubicBezTo>
                <a:lnTo>
                  <a:pt x="17934" y="7493"/>
                </a:lnTo>
                <a:lnTo>
                  <a:pt x="16097" y="7493"/>
                </a:lnTo>
                <a:lnTo>
                  <a:pt x="19605" y="3985"/>
                </a:lnTo>
                <a:lnTo>
                  <a:pt x="23278" y="7493"/>
                </a:lnTo>
                <a:lnTo>
                  <a:pt x="21441" y="7493"/>
                </a:lnTo>
                <a:lnTo>
                  <a:pt x="21441" y="12828"/>
                </a:lnTo>
                <a:cubicBezTo>
                  <a:pt x="21441" y="15596"/>
                  <a:pt x="18865" y="18155"/>
                  <a:pt x="16097" y="18155"/>
                </a:cubicBezTo>
                <a:lnTo>
                  <a:pt x="14435" y="18155"/>
                </a:lnTo>
                <a:cubicBezTo>
                  <a:pt x="11667" y="18155"/>
                  <a:pt x="9091" y="15596"/>
                  <a:pt x="909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PE01194_"/>
          <p:cNvPicPr/>
          <p:nvPr/>
        </p:nvPicPr>
        <p:blipFill>
          <a:blip r:embed="rId1"/>
          <a:stretch/>
        </p:blipFill>
        <p:spPr>
          <a:xfrm>
            <a:off x="5045040" y="3300480"/>
            <a:ext cx="3478320" cy="22352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5"/>
          <p:cNvSpPr/>
          <p:nvPr/>
        </p:nvSpPr>
        <p:spPr>
          <a:xfrm>
            <a:off x="579600" y="3056040"/>
            <a:ext cx="455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енс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типенд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на ребе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собие по безработице и т.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2560" y="1657080"/>
            <a:ext cx="8080560" cy="19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варная корзина (минимальный потребительский бюджет)–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набор из наиболее представительных товаров и услуг, удовлетворяющих основные потребности населения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previousslide"/>
          </p:cNvPr>
          <p:cNvSpPr/>
          <p:nvPr/>
        </p:nvSpPr>
        <p:spPr>
          <a:xfrm>
            <a:off x="1050840" y="5045040"/>
            <a:ext cx="1251000" cy="868320"/>
          </a:xfrm>
          <a:custGeom>
            <a:avLst/>
            <a:gdLst>
              <a:gd name="textAreaLeft" fmla="*/ 56160 w 1251000"/>
              <a:gd name="textAreaRight" fmla="*/ 1194840 w 1251000"/>
              <a:gd name="textAreaTop" fmla="*/ 56160 h 868320"/>
              <a:gd name="textAreaBottom" fmla="*/ 812160 h 868320"/>
            </a:gdLst>
            <a:ahLst/>
            <a:rect l="textAreaLeft" t="textAreaTop" r="textAreaRight" b="textAreaBottom"/>
            <a:pathLst>
              <a:path w="31115" h="21600">
                <a:moveTo>
                  <a:pt x="0" y="0"/>
                </a:moveTo>
                <a:lnTo>
                  <a:pt x="31115" y="0"/>
                </a:lnTo>
                <a:lnTo>
                  <a:pt x="31115" y="21600"/>
                </a:lnTo>
                <a:lnTo>
                  <a:pt x="0" y="21600"/>
                </a:lnTo>
                <a:close/>
              </a:path>
              <a:path fill="lightenLess" w="31115" h="21600">
                <a:moveTo>
                  <a:pt x="0" y="0"/>
                </a:moveTo>
                <a:lnTo>
                  <a:pt x="31115" y="0"/>
                </a:lnTo>
                <a:lnTo>
                  <a:pt x="29715" y="1400"/>
                </a:lnTo>
                <a:lnTo>
                  <a:pt x="1400" y="1400"/>
                </a:lnTo>
                <a:close/>
              </a:path>
              <a:path fill="darken" w="31115" h="21600">
                <a:moveTo>
                  <a:pt x="31115" y="0"/>
                </a:moveTo>
                <a:lnTo>
                  <a:pt x="31115" y="21600"/>
                </a:lnTo>
                <a:lnTo>
                  <a:pt x="29715" y="20200"/>
                </a:lnTo>
                <a:lnTo>
                  <a:pt x="29715" y="1400"/>
                </a:lnTo>
                <a:close/>
              </a:path>
              <a:path fill="darkenLess" w="31115" h="21600">
                <a:moveTo>
                  <a:pt x="31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15" y="20200"/>
                </a:lnTo>
                <a:close/>
              </a:path>
              <a:path fill="lighten" w="31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15" h="21600">
                <a:moveTo>
                  <a:pt x="8551" y="7493"/>
                </a:moveTo>
                <a:lnTo>
                  <a:pt x="12059" y="7493"/>
                </a:lnTo>
                <a:lnTo>
                  <a:pt x="12059" y="12828"/>
                </a:lnTo>
                <a:cubicBezTo>
                  <a:pt x="12059" y="13751"/>
                  <a:pt x="12860" y="14482"/>
                  <a:pt x="13895" y="14482"/>
                </a:cubicBezTo>
                <a:lnTo>
                  <a:pt x="15558" y="14482"/>
                </a:lnTo>
                <a:cubicBezTo>
                  <a:pt x="16593" y="14482"/>
                  <a:pt x="17394" y="13751"/>
                  <a:pt x="17394" y="12828"/>
                </a:cubicBezTo>
                <a:lnTo>
                  <a:pt x="17394" y="7493"/>
                </a:lnTo>
                <a:lnTo>
                  <a:pt x="15558" y="7493"/>
                </a:lnTo>
                <a:lnTo>
                  <a:pt x="19065" y="3985"/>
                </a:lnTo>
                <a:lnTo>
                  <a:pt x="22738" y="7493"/>
                </a:lnTo>
                <a:lnTo>
                  <a:pt x="20902" y="7493"/>
                </a:lnTo>
                <a:lnTo>
                  <a:pt x="20902" y="12828"/>
                </a:lnTo>
                <a:cubicBezTo>
                  <a:pt x="20902" y="15596"/>
                  <a:pt x="18326" y="18155"/>
                  <a:pt x="15558" y="18155"/>
                </a:cubicBezTo>
                <a:lnTo>
                  <a:pt x="13895" y="18155"/>
                </a:lnTo>
                <a:cubicBezTo>
                  <a:pt x="11128" y="18155"/>
                  <a:pt x="8551" y="15596"/>
                  <a:pt x="8551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33440" y="688680"/>
            <a:ext cx="6632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S=P*(1</a:t>
            </a:r>
            <a:r>
              <a:rPr b="1" i="1" lang="en-US" sz="8000" spc="-1" strike="noStrike">
                <a:solidFill>
                  <a:srgbClr val="ffcc66"/>
                </a:solidFill>
                <a:latin typeface="Times New Roman"/>
              </a:rPr>
              <a:t>+i*</a:t>
            </a:r>
            <a:r>
              <a:rPr b="1" lang="en-US" sz="8000" spc="-1" strike="noStrike">
                <a:solidFill>
                  <a:srgbClr val="ffcc66"/>
                </a:solidFill>
                <a:latin typeface="Times New Roman"/>
              </a:rPr>
              <a:t>n)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517680" y="5470560"/>
            <a:ext cx="761760" cy="777960"/>
          </a:xfrm>
          <a:custGeom>
            <a:avLst/>
            <a:gdLst>
              <a:gd name="textAreaLeft" fmla="*/ 49320 w 761760"/>
              <a:gd name="textAreaRight" fmla="*/ 712440 w 761760"/>
              <a:gd name="textAreaTop" fmla="*/ 49320 h 777960"/>
              <a:gd name="textAreaBottom" fmla="*/ 728640 h 777960"/>
            </a:gdLst>
            <a:ahLst/>
            <a:rect l="textAreaLeft" t="textAreaTop" r="textAreaRight" b="textAreaBottom"/>
            <a:pathLst>
              <a:path w="21600" h="22059">
                <a:moveTo>
                  <a:pt x="0" y="0"/>
                </a:moveTo>
                <a:lnTo>
                  <a:pt x="21600" y="0"/>
                </a:lnTo>
                <a:lnTo>
                  <a:pt x="21600" y="22059"/>
                </a:lnTo>
                <a:lnTo>
                  <a:pt x="0" y="22059"/>
                </a:lnTo>
                <a:close/>
              </a:path>
              <a:path fill="lightenLess" w="21600" h="220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059">
                <a:moveTo>
                  <a:pt x="21600" y="0"/>
                </a:moveTo>
                <a:lnTo>
                  <a:pt x="21600" y="22059"/>
                </a:lnTo>
                <a:lnTo>
                  <a:pt x="20200" y="20659"/>
                </a:lnTo>
                <a:lnTo>
                  <a:pt x="20200" y="1400"/>
                </a:lnTo>
                <a:close/>
              </a:path>
              <a:path fill="darkenLess" w="21600" h="22059">
                <a:moveTo>
                  <a:pt x="21600" y="22059"/>
                </a:moveTo>
                <a:lnTo>
                  <a:pt x="0" y="22059"/>
                </a:lnTo>
                <a:lnTo>
                  <a:pt x="1400" y="20659"/>
                </a:lnTo>
                <a:lnTo>
                  <a:pt x="20200" y="20659"/>
                </a:lnTo>
                <a:close/>
              </a:path>
              <a:path fill="lighten" w="21600" h="22059">
                <a:moveTo>
                  <a:pt x="0" y="220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659"/>
                </a:lnTo>
                <a:close/>
              </a:path>
              <a:path fill="darken" w="21600" h="22059">
                <a:moveTo>
                  <a:pt x="3794" y="7722"/>
                </a:moveTo>
                <a:lnTo>
                  <a:pt x="7301" y="7722"/>
                </a:lnTo>
                <a:lnTo>
                  <a:pt x="7301" y="13058"/>
                </a:lnTo>
                <a:cubicBezTo>
                  <a:pt x="7301" y="13980"/>
                  <a:pt x="8102" y="14711"/>
                  <a:pt x="9138" y="14711"/>
                </a:cubicBezTo>
                <a:lnTo>
                  <a:pt x="10800" y="14711"/>
                </a:lnTo>
                <a:cubicBezTo>
                  <a:pt x="11836" y="14711"/>
                  <a:pt x="12636" y="13980"/>
                  <a:pt x="12636" y="13058"/>
                </a:cubicBezTo>
                <a:lnTo>
                  <a:pt x="12636" y="7722"/>
                </a:lnTo>
                <a:lnTo>
                  <a:pt x="10800" y="7722"/>
                </a:lnTo>
                <a:lnTo>
                  <a:pt x="14308" y="4215"/>
                </a:lnTo>
                <a:lnTo>
                  <a:pt x="17981" y="7722"/>
                </a:lnTo>
                <a:lnTo>
                  <a:pt x="16144" y="7722"/>
                </a:lnTo>
                <a:lnTo>
                  <a:pt x="16144" y="13058"/>
                </a:lnTo>
                <a:cubicBezTo>
                  <a:pt x="16144" y="15825"/>
                  <a:pt x="13568" y="18384"/>
                  <a:pt x="10800" y="18384"/>
                </a:cubicBezTo>
                <a:lnTo>
                  <a:pt x="9138" y="18384"/>
                </a:lnTo>
                <a:cubicBezTo>
                  <a:pt x="6370" y="18384"/>
                  <a:pt x="3794" y="15825"/>
                  <a:pt x="3794" y="1305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057320" y="24717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600360" y="2171880"/>
            <a:ext cx="2871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=502 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9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=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,4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343160" y="4572000"/>
            <a:ext cx="721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=502*(1+19/100*1.4)=635,532M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PE02043_"/>
          <p:cNvPicPr/>
          <p:nvPr/>
        </p:nvPicPr>
        <p:blipFill>
          <a:blip r:embed="rId1"/>
          <a:stretch/>
        </p:blipFill>
        <p:spPr>
          <a:xfrm>
            <a:off x="4648320" y="3230640"/>
            <a:ext cx="1095120" cy="1600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PE01027_"/>
          <p:cNvPicPr/>
          <p:nvPr/>
        </p:nvPicPr>
        <p:blipFill>
          <a:blip r:embed="rId2"/>
          <a:stretch/>
        </p:blipFill>
        <p:spPr>
          <a:xfrm>
            <a:off x="5029200" y="1295280"/>
            <a:ext cx="865080" cy="1844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9" descr="PE02002_"/>
          <p:cNvPicPr/>
          <p:nvPr/>
        </p:nvPicPr>
        <p:blipFill>
          <a:blip r:embed="rId3"/>
          <a:stretch/>
        </p:blipFill>
        <p:spPr>
          <a:xfrm>
            <a:off x="2936880" y="1552680"/>
            <a:ext cx="1731960" cy="1735200"/>
          </a:xfrm>
          <a:prstGeom prst="rect">
            <a:avLst/>
          </a:prstGeom>
          <a:ln w="0">
            <a:noFill/>
          </a:ln>
        </p:spPr>
      </p:pic>
      <p:sp>
        <p:nvSpPr>
          <p:cNvPr id="99" name="WordArt 20"/>
          <p:cNvSpPr txBox="1"/>
          <p:nvPr/>
        </p:nvSpPr>
        <p:spPr>
          <a:xfrm>
            <a:off x="2362320" y="638280"/>
            <a:ext cx="4267080" cy="2514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емья Сидоров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pic>
        <p:nvPicPr>
          <p:cNvPr id="100" name="Picture 21" descr="BD07153_"/>
          <p:cNvPicPr/>
          <p:nvPr/>
        </p:nvPicPr>
        <p:blipFill>
          <a:blip r:embed="rId4"/>
          <a:stretch/>
        </p:blipFill>
        <p:spPr>
          <a:xfrm>
            <a:off x="3186000" y="3537000"/>
            <a:ext cx="12528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4"/>
          <p:cNvGrpSpPr/>
          <p:nvPr/>
        </p:nvGrpSpPr>
        <p:grpSpPr>
          <a:xfrm>
            <a:off x="289080" y="1868400"/>
            <a:ext cx="1600200" cy="916920"/>
            <a:chOff x="289080" y="1868400"/>
            <a:chExt cx="1600200" cy="916920"/>
          </a:xfrm>
        </p:grpSpPr>
        <p:sp>
          <p:nvSpPr>
            <p:cNvPr id="102" name="AutoShape 22"/>
            <p:cNvSpPr/>
            <p:nvPr/>
          </p:nvSpPr>
          <p:spPr>
            <a:xfrm>
              <a:off x="289080" y="186840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517680" y="186840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работ-ная плата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595440" y="3776760"/>
            <a:ext cx="1600200" cy="916920"/>
            <a:chOff x="595440" y="3776760"/>
            <a:chExt cx="1600200" cy="916920"/>
          </a:xfrm>
        </p:grpSpPr>
        <p:sp>
          <p:nvSpPr>
            <p:cNvPr id="105" name="AutoShape 26"/>
            <p:cNvSpPr/>
            <p:nvPr/>
          </p:nvSpPr>
          <p:spPr>
            <a:xfrm>
              <a:off x="595440" y="377676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27"/>
            <p:cNvSpPr/>
            <p:nvPr/>
          </p:nvSpPr>
          <p:spPr>
            <a:xfrm>
              <a:off x="744840" y="377676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от собст-венности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42"/>
          <p:cNvGrpSpPr/>
          <p:nvPr/>
        </p:nvGrpSpPr>
        <p:grpSpPr>
          <a:xfrm>
            <a:off x="1695600" y="5130720"/>
            <a:ext cx="1600200" cy="916920"/>
            <a:chOff x="1695600" y="5130720"/>
            <a:chExt cx="1600200" cy="916920"/>
          </a:xfrm>
        </p:grpSpPr>
        <p:sp>
          <p:nvSpPr>
            <p:cNvPr id="108" name="AutoShape 29"/>
            <p:cNvSpPr/>
            <p:nvPr/>
          </p:nvSpPr>
          <p:spPr>
            <a:xfrm>
              <a:off x="1695600" y="513072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30"/>
            <p:cNvSpPr/>
            <p:nvPr/>
          </p:nvSpPr>
          <p:spPr>
            <a:xfrm>
              <a:off x="1924200" y="5130720"/>
              <a:ext cx="12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оциаль-ные транс-ферты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" name="Group 40"/>
          <p:cNvGrpSpPr/>
          <p:nvPr/>
        </p:nvGrpSpPr>
        <p:grpSpPr>
          <a:xfrm>
            <a:off x="7135920" y="1862280"/>
            <a:ext cx="1600200" cy="932760"/>
            <a:chOff x="7135920" y="1862280"/>
            <a:chExt cx="1600200" cy="932760"/>
          </a:xfrm>
        </p:grpSpPr>
        <p:sp>
          <p:nvSpPr>
            <p:cNvPr id="111" name="AutoShape 32"/>
            <p:cNvSpPr/>
            <p:nvPr/>
          </p:nvSpPr>
          <p:spPr>
            <a:xfrm>
              <a:off x="7135920" y="18622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7317000" y="18781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ы от сбереже-ний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43"/>
          <p:cNvGrpSpPr/>
          <p:nvPr/>
        </p:nvGrpSpPr>
        <p:grpSpPr>
          <a:xfrm>
            <a:off x="6848640" y="3701880"/>
            <a:ext cx="1600200" cy="984600"/>
            <a:chOff x="6848640" y="3701880"/>
            <a:chExt cx="1600200" cy="984600"/>
          </a:xfrm>
        </p:grpSpPr>
        <p:sp>
          <p:nvSpPr>
            <p:cNvPr id="114" name="AutoShape 35"/>
            <p:cNvSpPr/>
            <p:nvPr/>
          </p:nvSpPr>
          <p:spPr>
            <a:xfrm>
              <a:off x="6848640" y="37720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36"/>
            <p:cNvSpPr/>
            <p:nvPr/>
          </p:nvSpPr>
          <p:spPr>
            <a:xfrm>
              <a:off x="6986520" y="3701880"/>
              <a:ext cx="1325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оход от предприма-тельской деятельности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37"/>
          <p:cNvGrpSpPr/>
          <p:nvPr/>
        </p:nvGrpSpPr>
        <p:grpSpPr>
          <a:xfrm>
            <a:off x="5516640" y="5141880"/>
            <a:ext cx="1600200" cy="916920"/>
            <a:chOff x="5516640" y="5141880"/>
            <a:chExt cx="1600200" cy="916920"/>
          </a:xfrm>
        </p:grpSpPr>
        <p:sp>
          <p:nvSpPr>
            <p:cNvPr id="117" name="AutoShape 38"/>
            <p:cNvSpPr/>
            <p:nvPr/>
          </p:nvSpPr>
          <p:spPr>
            <a:xfrm>
              <a:off x="5516640" y="5141880"/>
              <a:ext cx="1600200" cy="914400"/>
            </a:xfrm>
            <a:prstGeom prst="hexagon">
              <a:avLst>
                <a:gd name="adj" fmla="val 43750"/>
                <a:gd name="vf" fmla="val 115470"/>
              </a:avLst>
            </a:prstGeom>
            <a:solidFill>
              <a:srgbClr val="00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39"/>
            <p:cNvSpPr/>
            <p:nvPr/>
          </p:nvSpPr>
          <p:spPr>
            <a:xfrm>
              <a:off x="5745240" y="5141880"/>
              <a:ext cx="1066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Доход в виде благ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AutoShape 46"/>
          <p:cNvSpPr/>
          <p:nvPr/>
        </p:nvSpPr>
        <p:spPr>
          <a:xfrm>
            <a:off x="2400480" y="6114960"/>
            <a:ext cx="258480" cy="366840"/>
          </a:xfrm>
          <a:custGeom>
            <a:avLst/>
            <a:gdLst>
              <a:gd name="textAreaLeft" fmla="*/ 16560 w 258480"/>
              <a:gd name="textAreaRight" fmla="*/ 241920 w 258480"/>
              <a:gd name="textAreaTop" fmla="*/ 16560 h 366840"/>
              <a:gd name="textAreaBottom" fmla="*/ 350280 h 366840"/>
            </a:gdLst>
            <a:ahLst/>
            <a:rect l="textAreaLeft" t="textAreaTop" r="textAreaRight" b="textAreaBottom"/>
            <a:pathLst>
              <a:path w="21600" h="30643">
                <a:moveTo>
                  <a:pt x="0" y="0"/>
                </a:moveTo>
                <a:lnTo>
                  <a:pt x="21600" y="0"/>
                </a:lnTo>
                <a:lnTo>
                  <a:pt x="21600" y="30643"/>
                </a:lnTo>
                <a:lnTo>
                  <a:pt x="0" y="30643"/>
                </a:lnTo>
                <a:close/>
              </a:path>
              <a:path fill="lightenLess" w="21600" h="30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643">
                <a:moveTo>
                  <a:pt x="21600" y="0"/>
                </a:moveTo>
                <a:lnTo>
                  <a:pt x="21600" y="30643"/>
                </a:lnTo>
                <a:lnTo>
                  <a:pt x="20200" y="29243"/>
                </a:lnTo>
                <a:lnTo>
                  <a:pt x="20200" y="1400"/>
                </a:lnTo>
                <a:close/>
              </a:path>
              <a:path fill="darkenLess" w="21600" h="30643">
                <a:moveTo>
                  <a:pt x="21600" y="30643"/>
                </a:moveTo>
                <a:lnTo>
                  <a:pt x="0" y="30643"/>
                </a:lnTo>
                <a:lnTo>
                  <a:pt x="1400" y="29243"/>
                </a:lnTo>
                <a:lnTo>
                  <a:pt x="20200" y="29243"/>
                </a:lnTo>
                <a:close/>
              </a:path>
              <a:path fill="lighten" w="21600" h="30643">
                <a:moveTo>
                  <a:pt x="0" y="30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9243"/>
                </a:lnTo>
                <a:close/>
              </a:path>
              <a:path fill="darken" w="21600" h="30643">
                <a:moveTo>
                  <a:pt x="10800" y="8315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30643">
                <a:moveTo>
                  <a:pt x="10800" y="8689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30643">
                <a:moveTo>
                  <a:pt x="8224" y="12745"/>
                </a:moveTo>
                <a:lnTo>
                  <a:pt x="12088" y="12745"/>
                </a:lnTo>
                <a:lnTo>
                  <a:pt x="12088" y="19743"/>
                </a:lnTo>
                <a:lnTo>
                  <a:pt x="13376" y="19743"/>
                </a:lnTo>
                <a:lnTo>
                  <a:pt x="13376" y="20665"/>
                </a:lnTo>
                <a:lnTo>
                  <a:pt x="8224" y="20665"/>
                </a:lnTo>
                <a:lnTo>
                  <a:pt x="8224" y="19743"/>
                </a:lnTo>
                <a:lnTo>
                  <a:pt x="9512" y="19743"/>
                </a:lnTo>
                <a:lnTo>
                  <a:pt x="9512" y="13650"/>
                </a:lnTo>
                <a:lnTo>
                  <a:pt x="8224" y="1365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48"/>
          <p:cNvSpPr/>
          <p:nvPr/>
        </p:nvSpPr>
        <p:spPr>
          <a:xfrm flipH="1">
            <a:off x="2050560" y="2316240"/>
            <a:ext cx="762120" cy="14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49"/>
          <p:cNvSpPr/>
          <p:nvPr/>
        </p:nvSpPr>
        <p:spPr>
          <a:xfrm flipH="1">
            <a:off x="2355480" y="3260880"/>
            <a:ext cx="685800" cy="4586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0"/>
          <p:cNvSpPr/>
          <p:nvPr/>
        </p:nvSpPr>
        <p:spPr>
          <a:xfrm flipH="1">
            <a:off x="2599920" y="4570560"/>
            <a:ext cx="731880" cy="4903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1"/>
          <p:cNvSpPr/>
          <p:nvPr/>
        </p:nvSpPr>
        <p:spPr>
          <a:xfrm>
            <a:off x="5221440" y="4830840"/>
            <a:ext cx="382320" cy="42840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2"/>
          <p:cNvSpPr/>
          <p:nvPr/>
        </p:nvSpPr>
        <p:spPr>
          <a:xfrm>
            <a:off x="6135840" y="3200400"/>
            <a:ext cx="685800" cy="39672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3"/>
          <p:cNvSpPr/>
          <p:nvPr/>
        </p:nvSpPr>
        <p:spPr>
          <a:xfrm>
            <a:off x="6184800" y="2306520"/>
            <a:ext cx="852480" cy="15840"/>
          </a:xfrm>
          <a:prstGeom prst="line">
            <a:avLst/>
          </a:prstGeom>
          <a:ln w="57240">
            <a:solidFill>
              <a:srgbClr val="6600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I</a:t>
            </a: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.   Семейные расходы.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2144520" y="1660680"/>
            <a:ext cx="155412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191200" y="1681200"/>
            <a:ext cx="1569960" cy="1082520"/>
          </a:xfrm>
          <a:prstGeom prst="line">
            <a:avLst/>
          </a:prstGeom>
          <a:ln w="76320">
            <a:solidFill>
              <a:srgbClr val="00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733320" y="2908440"/>
            <a:ext cx="3295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обязате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5251320" y="3060720"/>
            <a:ext cx="3295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latin typeface="Arial"/>
              </a:rPr>
              <a:t>произвольн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33280" y="4197240"/>
            <a:ext cx="15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оварная корз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1727280" y="3692520"/>
            <a:ext cx="122040" cy="2179800"/>
          </a:xfrm>
          <a:custGeom>
            <a:avLst/>
            <a:gdLst>
              <a:gd name="textAreaLeft" fmla="*/ 78120 w 122040"/>
              <a:gd name="textAreaRight" fmla="*/ 122040 w 122040"/>
              <a:gd name="textAreaTop" fmla="*/ 56520 h 2179800"/>
              <a:gd name="textAreaBottom" fmla="*/ 2123280 h 217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49"/>
                </a:lnTo>
                <a:cubicBezTo>
                  <a:pt x="10800" y="10049"/>
                  <a:pt x="5400" y="10949"/>
                  <a:pt x="0" y="10949"/>
                </a:cubicBezTo>
                <a:cubicBezTo>
                  <a:pt x="5400" y="10949"/>
                  <a:pt x="10800" y="11849"/>
                  <a:pt x="10800" y="1274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16"/>
          <p:cNvSpPr txBox="1"/>
          <p:nvPr/>
        </p:nvSpPr>
        <p:spPr>
          <a:xfrm>
            <a:off x="1905120" y="3913200"/>
            <a:ext cx="303516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варпл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ммун. услуги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дежд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762120" y="5181480"/>
            <a:ext cx="288720" cy="32076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320760"/>
              <a:gd name="textAreaBottom" fmla="*/ 302040 h 320760"/>
            </a:gdLst>
            <a:ahLst/>
            <a:rect l="textAreaLeft" t="textAreaTop" r="textAreaRight" b="textAreaBottom"/>
            <a:pathLst>
              <a:path w="21600" h="23994">
                <a:moveTo>
                  <a:pt x="0" y="0"/>
                </a:moveTo>
                <a:lnTo>
                  <a:pt x="21600" y="0"/>
                </a:lnTo>
                <a:lnTo>
                  <a:pt x="21600" y="23994"/>
                </a:lnTo>
                <a:lnTo>
                  <a:pt x="0" y="23994"/>
                </a:lnTo>
                <a:close/>
              </a:path>
              <a:path fill="lightenLess" w="21600" h="239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94">
                <a:moveTo>
                  <a:pt x="21600" y="0"/>
                </a:moveTo>
                <a:lnTo>
                  <a:pt x="21600" y="23994"/>
                </a:lnTo>
                <a:lnTo>
                  <a:pt x="20200" y="22594"/>
                </a:lnTo>
                <a:lnTo>
                  <a:pt x="20200" y="1400"/>
                </a:lnTo>
                <a:close/>
              </a:path>
              <a:path fill="darkenLess" w="21600" h="23994">
                <a:moveTo>
                  <a:pt x="21600" y="23994"/>
                </a:moveTo>
                <a:lnTo>
                  <a:pt x="0" y="23994"/>
                </a:lnTo>
                <a:lnTo>
                  <a:pt x="1400" y="22594"/>
                </a:lnTo>
                <a:lnTo>
                  <a:pt x="20200" y="22594"/>
                </a:lnTo>
                <a:close/>
              </a:path>
              <a:path fill="lighten" w="21600" h="23994">
                <a:moveTo>
                  <a:pt x="0" y="239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94"/>
                </a:lnTo>
                <a:close/>
              </a:path>
              <a:path fill="darken" w="21600" h="23994">
                <a:moveTo>
                  <a:pt x="10800" y="499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3994">
                <a:moveTo>
                  <a:pt x="10800" y="536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3994">
                <a:moveTo>
                  <a:pt x="8224" y="9421"/>
                </a:moveTo>
                <a:lnTo>
                  <a:pt x="12088" y="9421"/>
                </a:lnTo>
                <a:lnTo>
                  <a:pt x="12088" y="16418"/>
                </a:lnTo>
                <a:lnTo>
                  <a:pt x="13376" y="16418"/>
                </a:lnTo>
                <a:lnTo>
                  <a:pt x="13376" y="17341"/>
                </a:lnTo>
                <a:lnTo>
                  <a:pt x="8224" y="17341"/>
                </a:lnTo>
                <a:lnTo>
                  <a:pt x="8224" y="16418"/>
                </a:lnTo>
                <a:lnTo>
                  <a:pt x="9512" y="16418"/>
                </a:lnTo>
                <a:lnTo>
                  <a:pt x="9512" y="10326"/>
                </a:lnTo>
                <a:lnTo>
                  <a:pt x="8224" y="1032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18"/>
          <p:cNvSpPr txBox="1"/>
          <p:nvPr/>
        </p:nvSpPr>
        <p:spPr>
          <a:xfrm>
            <a:off x="5634000" y="3876840"/>
            <a:ext cx="2909880" cy="18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ультурно-бытов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ыт.техн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21240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труктура расходов семьи Сидоровых (в месяц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7760" y="1682640"/>
          <a:ext cx="8520120" cy="4608720"/>
        </p:xfrm>
        <a:graphic>
          <a:graphicData uri="http://schemas.openxmlformats.org/drawingml/2006/table">
            <a:tbl>
              <a:tblPr/>
              <a:tblGrid>
                <a:gridCol w="1703160"/>
                <a:gridCol w="1704960"/>
                <a:gridCol w="1703520"/>
                <a:gridCol w="1704960"/>
                <a:gridCol w="1703520"/>
              </a:tblGrid>
              <a:tr h="4755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Статьи расход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 меся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уб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ит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деж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ммун. услу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ульт. бы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9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очие расход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,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129"/>
          <p:cNvSpPr/>
          <p:nvPr/>
        </p:nvSpPr>
        <p:spPr>
          <a:xfrm>
            <a:off x="7818480" y="6367320"/>
            <a:ext cx="471600" cy="411480"/>
          </a:xfrm>
          <a:custGeom>
            <a:avLst/>
            <a:gdLst>
              <a:gd name="textAreaLeft" fmla="*/ 26640 w 471600"/>
              <a:gd name="textAreaRight" fmla="*/ 444960 w 471600"/>
              <a:gd name="textAreaTop" fmla="*/ 26640 h 411480"/>
              <a:gd name="textAreaBottom" fmla="*/ 384840 h 411480"/>
            </a:gdLst>
            <a:ahLst/>
            <a:rect l="textAreaLeft" t="textAreaTop" r="textAreaRight" b="textAreaBottom"/>
            <a:pathLst>
              <a:path w="24753" h="21600">
                <a:moveTo>
                  <a:pt x="0" y="0"/>
                </a:moveTo>
                <a:lnTo>
                  <a:pt x="24753" y="0"/>
                </a:lnTo>
                <a:lnTo>
                  <a:pt x="24753" y="21600"/>
                </a:lnTo>
                <a:lnTo>
                  <a:pt x="0" y="21600"/>
                </a:lnTo>
                <a:close/>
              </a:path>
              <a:path fill="lightenLess" w="24753" h="21600">
                <a:moveTo>
                  <a:pt x="0" y="0"/>
                </a:moveTo>
                <a:lnTo>
                  <a:pt x="24753" y="0"/>
                </a:lnTo>
                <a:lnTo>
                  <a:pt x="23353" y="1400"/>
                </a:lnTo>
                <a:lnTo>
                  <a:pt x="1400" y="1400"/>
                </a:lnTo>
                <a:close/>
              </a:path>
              <a:path fill="darken" w="24753" h="21600">
                <a:moveTo>
                  <a:pt x="24753" y="0"/>
                </a:moveTo>
                <a:lnTo>
                  <a:pt x="24753" y="21600"/>
                </a:lnTo>
                <a:lnTo>
                  <a:pt x="23353" y="20200"/>
                </a:lnTo>
                <a:lnTo>
                  <a:pt x="23353" y="1400"/>
                </a:lnTo>
                <a:close/>
              </a:path>
              <a:path fill="darkenLess" w="24753" h="21600">
                <a:moveTo>
                  <a:pt x="2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53" y="20200"/>
                </a:lnTo>
                <a:close/>
              </a:path>
              <a:path fill="lighten" w="2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53" h="21600">
                <a:moveTo>
                  <a:pt x="5370" y="3794"/>
                </a:moveTo>
                <a:lnTo>
                  <a:pt x="19383" y="10800"/>
                </a:lnTo>
                <a:lnTo>
                  <a:pt x="5370" y="17806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247760" y="216000"/>
            <a:ext cx="6942240" cy="3821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309600" y="4336920"/>
            <a:ext cx="8454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 ростом дохода семьи структура расходов меняется: удельный вес расходов на питание снижается, доля расходов на одежду, отопление и жилище остается на прежнем уровне, а удельный вес расходов на удовлетворение культурных потребностей увеличивае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9200" y="3507840"/>
            <a:ext cx="41785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кон Энгел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AutoShape 78"/>
          <p:cNvSpPr/>
          <p:nvPr/>
        </p:nvSpPr>
        <p:spPr>
          <a:xfrm>
            <a:off x="8001000" y="6156360"/>
            <a:ext cx="655560" cy="457200"/>
          </a:xfrm>
          <a:custGeom>
            <a:avLst/>
            <a:gdLst>
              <a:gd name="textAreaLeft" fmla="*/ 29520 w 655560"/>
              <a:gd name="textAreaRight" fmla="*/ 626040 w 6555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964" h="21600">
                <a:moveTo>
                  <a:pt x="0" y="0"/>
                </a:moveTo>
                <a:lnTo>
                  <a:pt x="30964" y="0"/>
                </a:lnTo>
                <a:lnTo>
                  <a:pt x="30964" y="21600"/>
                </a:lnTo>
                <a:lnTo>
                  <a:pt x="0" y="21600"/>
                </a:lnTo>
                <a:close/>
              </a:path>
              <a:path fill="lightenLess" w="30964" h="21600">
                <a:moveTo>
                  <a:pt x="0" y="0"/>
                </a:moveTo>
                <a:lnTo>
                  <a:pt x="30964" y="0"/>
                </a:lnTo>
                <a:lnTo>
                  <a:pt x="29564" y="1400"/>
                </a:lnTo>
                <a:lnTo>
                  <a:pt x="1400" y="1400"/>
                </a:lnTo>
                <a:close/>
              </a:path>
              <a:path fill="darken" w="30964" h="21600">
                <a:moveTo>
                  <a:pt x="30964" y="0"/>
                </a:moveTo>
                <a:lnTo>
                  <a:pt x="30964" y="21600"/>
                </a:lnTo>
                <a:lnTo>
                  <a:pt x="29564" y="20200"/>
                </a:lnTo>
                <a:lnTo>
                  <a:pt x="29564" y="1400"/>
                </a:lnTo>
                <a:close/>
              </a:path>
              <a:path fill="darkenLess" w="30964" h="21600">
                <a:moveTo>
                  <a:pt x="30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64" y="20200"/>
                </a:lnTo>
                <a:close/>
              </a:path>
              <a:path fill="lighten" w="30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64" h="21600">
                <a:moveTo>
                  <a:pt x="8476" y="7493"/>
                </a:moveTo>
                <a:lnTo>
                  <a:pt x="11983" y="7493"/>
                </a:lnTo>
                <a:lnTo>
                  <a:pt x="11983" y="12828"/>
                </a:lnTo>
                <a:cubicBezTo>
                  <a:pt x="11983" y="13751"/>
                  <a:pt x="12784" y="14482"/>
                  <a:pt x="13820" y="14482"/>
                </a:cubicBezTo>
                <a:lnTo>
                  <a:pt x="15482" y="14482"/>
                </a:lnTo>
                <a:cubicBezTo>
                  <a:pt x="16518" y="14482"/>
                  <a:pt x="17318" y="13751"/>
                  <a:pt x="17318" y="12828"/>
                </a:cubicBezTo>
                <a:lnTo>
                  <a:pt x="17318" y="7493"/>
                </a:lnTo>
                <a:lnTo>
                  <a:pt x="15482" y="7493"/>
                </a:lnTo>
                <a:lnTo>
                  <a:pt x="18990" y="3985"/>
                </a:lnTo>
                <a:lnTo>
                  <a:pt x="22663" y="7493"/>
                </a:lnTo>
                <a:lnTo>
                  <a:pt x="20826" y="7493"/>
                </a:lnTo>
                <a:lnTo>
                  <a:pt x="20826" y="12828"/>
                </a:lnTo>
                <a:cubicBezTo>
                  <a:pt x="20826" y="15596"/>
                  <a:pt x="18250" y="18155"/>
                  <a:pt x="15482" y="18155"/>
                </a:cubicBezTo>
                <a:lnTo>
                  <a:pt x="13820" y="18155"/>
                </a:lnTo>
                <a:cubicBezTo>
                  <a:pt x="11052" y="18155"/>
                  <a:pt x="8476" y="15596"/>
                  <a:pt x="8476" y="12828"/>
                </a:cubicBez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41520"/>
            <a:ext cx="80805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ндекс </a:t>
            </a: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потребительских  цен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99880" y="2392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1322280" y="2606760"/>
            <a:ext cx="6934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289160" y="2203560"/>
            <a:ext cx="69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текуще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298520" y="2610000"/>
            <a:ext cx="691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имость базовой товарной корзины в базисном период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8215200" y="2451240"/>
            <a:ext cx="13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325440" y="32432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ПЦ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4"/>
          <p:cNvSpPr/>
          <p:nvPr/>
        </p:nvSpPr>
        <p:spPr>
          <a:xfrm>
            <a:off x="1417680" y="3517920"/>
            <a:ext cx="4300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2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7"/>
          <p:cNvSpPr/>
          <p:nvPr/>
        </p:nvSpPr>
        <p:spPr>
          <a:xfrm>
            <a:off x="1616040" y="3022560"/>
            <a:ext cx="4641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1612800" y="3606840"/>
            <a:ext cx="50468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…+Q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Т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r>
              <a:rPr b="1" lang="ru-RU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5951520" y="3368520"/>
            <a:ext cx="148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*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1" descr="PE01561_"/>
          <p:cNvPicPr/>
          <p:nvPr/>
        </p:nvPicPr>
        <p:blipFill>
          <a:blip r:embed="rId2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" dur="7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511600" y="96660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cc"/>
                </a:solidFill>
                <a:latin typeface="Arial"/>
              </a:rPr>
              <a:t>Задача. В стране А. потребляется только 4 вида товаров, указанных в таблице. Используя данные таблицы, рассчитайте ИПЦ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42920" y="355680"/>
          <a:ext cx="4922640" cy="3635280"/>
        </p:xfrm>
        <a:graphic>
          <a:graphicData uri="http://schemas.openxmlformats.org/drawingml/2006/table">
            <a:tbl>
              <a:tblPr/>
              <a:tblGrid>
                <a:gridCol w="1317600"/>
                <a:gridCol w="1074600"/>
                <a:gridCol w="808200"/>
                <a:gridCol w="884160"/>
                <a:gridCol w="83808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ва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1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треб-ление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на в 2-й пери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ле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ш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ет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кг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106"/>
          <p:cNvSpPr/>
          <p:nvPr/>
        </p:nvSpPr>
        <p:spPr>
          <a:xfrm>
            <a:off x="5389560" y="3170160"/>
            <a:ext cx="3110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08"/>
          <p:cNvSpPr/>
          <p:nvPr/>
        </p:nvSpPr>
        <p:spPr>
          <a:xfrm>
            <a:off x="3138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110"/>
          <p:cNvSpPr/>
          <p:nvPr/>
        </p:nvSpPr>
        <p:spPr>
          <a:xfrm>
            <a:off x="3200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12"/>
          <p:cNvSpPr/>
          <p:nvPr/>
        </p:nvSpPr>
        <p:spPr>
          <a:xfrm>
            <a:off x="270504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11" descr=""/>
          <p:cNvPicPr/>
          <p:nvPr/>
        </p:nvPicPr>
        <p:blipFill>
          <a:blip r:embed="rId1"/>
          <a:stretch/>
        </p:blipFill>
        <p:spPr>
          <a:xfrm>
            <a:off x="1060560" y="4232160"/>
            <a:ext cx="7680240" cy="938160"/>
          </a:xfrm>
          <a:prstGeom prst="rect">
            <a:avLst/>
          </a:prstGeom>
          <a:ln w="0">
            <a:noFill/>
          </a:ln>
        </p:spPr>
      </p:pic>
      <p:sp>
        <p:nvSpPr>
          <p:cNvPr id="168" name="WordArt 113"/>
          <p:cNvSpPr txBox="1"/>
          <p:nvPr/>
        </p:nvSpPr>
        <p:spPr>
          <a:xfrm>
            <a:off x="642960" y="5508720"/>
            <a:ext cx="26337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cc66"/>
                  </a:solidFill>
                  <a:prstDash val="dash"/>
                  <a:miter/>
                </a:ln>
                <a:solidFill>
                  <a:srgbClr val="ffff00"/>
                </a:solidFill>
                <a:latin typeface="Arial"/>
              </a:rPr>
              <a:t>ИПЦ=147,78%</a:t>
            </a:r>
            <a:endParaRPr b="0" i="1" lang="en-US" sz="1800" spc="1" strike="noStrike">
              <a:ln w="9360">
                <a:solidFill>
                  <a:srgbClr val="ffcc66"/>
                </a:solidFill>
                <a:prstDash val="dash"/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69" name="Text Box 114"/>
          <p:cNvSpPr/>
          <p:nvPr/>
        </p:nvSpPr>
        <p:spPr>
          <a:xfrm>
            <a:off x="4054320" y="545472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Ответ: цены увеличились на 47,78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7120" y="1186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дача.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Если цены на товары и услуги увеличились в среднем за год на 12,5%, а денежный доход увеличился на 8%, как изменился реальный доход?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27080" y="2386080"/>
            <a:ext cx="451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 Е Ш Е Н И Е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 был  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511200" y="342576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ПЦ  стал   -  112,5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6800" y="384336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был   -   100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7080" y="4363920"/>
            <a:ext cx="68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оминальный доход   стал   -   108%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760320" y="506268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альный доход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386244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tretch/>
        </p:blipFill>
        <p:spPr>
          <a:xfrm>
            <a:off x="3835440" y="4821120"/>
            <a:ext cx="4716360" cy="1068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430200" y="5897520"/>
            <a:ext cx="79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вет:  реальный доход уменьшился на 4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Group 16"/>
          <p:cNvGrpSpPr/>
          <p:nvPr/>
        </p:nvGrpSpPr>
        <p:grpSpPr>
          <a:xfrm>
            <a:off x="1079640" y="244440"/>
            <a:ext cx="6228720" cy="868680"/>
            <a:chOff x="1079640" y="244440"/>
            <a:chExt cx="6228720" cy="868680"/>
          </a:xfrm>
        </p:grpSpPr>
        <p:sp>
          <p:nvSpPr>
            <p:cNvPr id="181" name="Text Box 17"/>
            <p:cNvSpPr/>
            <p:nvPr/>
          </p:nvSpPr>
          <p:spPr>
            <a:xfrm>
              <a:off x="1079640" y="449280"/>
              <a:ext cx="26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еальный доход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590640" y="647640"/>
              <a:ext cx="2512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Text Box 19"/>
            <p:cNvSpPr/>
            <p:nvPr/>
          </p:nvSpPr>
          <p:spPr>
            <a:xfrm>
              <a:off x="3584520" y="244440"/>
              <a:ext cx="293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Номинальный доход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20"/>
            <p:cNvSpPr/>
            <p:nvPr/>
          </p:nvSpPr>
          <p:spPr>
            <a:xfrm>
              <a:off x="4479840" y="714240"/>
              <a:ext cx="115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ИПЦ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21"/>
            <p:cNvSpPr/>
            <p:nvPr/>
          </p:nvSpPr>
          <p:spPr>
            <a:xfrm>
              <a:off x="6195960" y="426960"/>
              <a:ext cx="111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*100%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3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86" nodeType="afterEffect" fill="hold" presetClass="entr" presetID="16" presetSubtype="2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87160" y="16488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Увеличьте свои средства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44440" y="1397160"/>
          <a:ext cx="8580600" cy="4705200"/>
        </p:xfrm>
        <a:graphic>
          <a:graphicData uri="http://schemas.openxmlformats.org/drawingml/2006/table">
            <a:tbl>
              <a:tblPr/>
              <a:tblGrid>
                <a:gridCol w="4291200"/>
                <a:gridCol w="4289400"/>
              </a:tblGrid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2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4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9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№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7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2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1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15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3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18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Домохозяйство  №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89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NT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ходилос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банке 1,5 го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 20% годовы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AutoShape 21"/>
          <p:cNvSpPr/>
          <p:nvPr/>
        </p:nvSpPr>
        <p:spPr>
          <a:xfrm>
            <a:off x="7696080" y="6248520"/>
            <a:ext cx="473040" cy="426960"/>
          </a:xfrm>
          <a:custGeom>
            <a:avLst/>
            <a:gdLst>
              <a:gd name="textAreaLeft" fmla="*/ 27360 w 473040"/>
              <a:gd name="textAreaRight" fmla="*/ 445680 w 473040"/>
              <a:gd name="textAreaTop" fmla="*/ 27360 h 426960"/>
              <a:gd name="textAreaBottom" fmla="*/ 399600 h 426960"/>
            </a:gdLst>
            <a:ahLst/>
            <a:rect l="textAreaLeft" t="textAreaTop" r="textAreaRight" b="textAreaBottom"/>
            <a:pathLst>
              <a:path w="23929" h="21600">
                <a:moveTo>
                  <a:pt x="0" y="0"/>
                </a:moveTo>
                <a:lnTo>
                  <a:pt x="23929" y="0"/>
                </a:lnTo>
                <a:lnTo>
                  <a:pt x="23929" y="21600"/>
                </a:lnTo>
                <a:lnTo>
                  <a:pt x="0" y="21600"/>
                </a:lnTo>
                <a:close/>
              </a:path>
              <a:path fill="lightenLess" w="23929" h="21600">
                <a:moveTo>
                  <a:pt x="0" y="0"/>
                </a:moveTo>
                <a:lnTo>
                  <a:pt x="23929" y="0"/>
                </a:lnTo>
                <a:lnTo>
                  <a:pt x="22529" y="1400"/>
                </a:lnTo>
                <a:lnTo>
                  <a:pt x="1400" y="1400"/>
                </a:lnTo>
                <a:close/>
              </a:path>
              <a:path fill="darken" w="23929" h="21600">
                <a:moveTo>
                  <a:pt x="23929" y="0"/>
                </a:moveTo>
                <a:lnTo>
                  <a:pt x="23929" y="21600"/>
                </a:lnTo>
                <a:lnTo>
                  <a:pt x="22529" y="20200"/>
                </a:lnTo>
                <a:lnTo>
                  <a:pt x="22529" y="1400"/>
                </a:lnTo>
                <a:close/>
              </a:path>
              <a:path fill="darkenLess" w="23929" h="21600">
                <a:moveTo>
                  <a:pt x="239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29" y="20200"/>
                </a:lnTo>
                <a:close/>
              </a:path>
              <a:path fill="lighten" w="239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29" h="21600">
                <a:moveTo>
                  <a:pt x="1196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929" h="21600">
                <a:moveTo>
                  <a:pt x="13070" y="14281"/>
                </a:moveTo>
                <a:lnTo>
                  <a:pt x="13070" y="12323"/>
                </a:lnTo>
                <a:cubicBezTo>
                  <a:pt x="13070" y="11496"/>
                  <a:pt x="13401" y="10800"/>
                  <a:pt x="14001" y="10800"/>
                </a:cubicBezTo>
                <a:cubicBezTo>
                  <a:pt x="15133" y="10800"/>
                  <a:pt x="16029" y="9434"/>
                  <a:pt x="16029" y="7849"/>
                </a:cubicBezTo>
                <a:cubicBezTo>
                  <a:pt x="16029" y="5534"/>
                  <a:pt x="14175" y="3794"/>
                  <a:pt x="11965" y="3794"/>
                </a:cubicBezTo>
                <a:cubicBezTo>
                  <a:pt x="9754" y="3794"/>
                  <a:pt x="8083" y="5534"/>
                  <a:pt x="8083" y="7849"/>
                </a:cubicBezTo>
                <a:lnTo>
                  <a:pt x="9937" y="7849"/>
                </a:lnTo>
                <a:cubicBezTo>
                  <a:pt x="9937" y="6709"/>
                  <a:pt x="10859" y="5821"/>
                  <a:pt x="11965" y="5821"/>
                </a:cubicBezTo>
                <a:cubicBezTo>
                  <a:pt x="13070" y="5821"/>
                  <a:pt x="14001" y="6709"/>
                  <a:pt x="14001" y="7849"/>
                </a:cubicBezTo>
                <a:cubicBezTo>
                  <a:pt x="14001" y="8589"/>
                  <a:pt x="13531" y="9320"/>
                  <a:pt x="13070" y="9320"/>
                </a:cubicBezTo>
                <a:cubicBezTo>
                  <a:pt x="11965" y="9320"/>
                  <a:pt x="10859" y="10800"/>
                  <a:pt x="10859" y="12323"/>
                </a:cubicBezTo>
                <a:lnTo>
                  <a:pt x="10859" y="14281"/>
                </a:lnTo>
                <a:close/>
              </a:path>
            </a:pathLst>
          </a:cu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08:17:04Z</dcterms:modified>
  <cp:revision>31</cp:revision>
  <dc:subject/>
  <dc:title>Доходы семь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3000000000001024140</vt:lpwstr>
  </property>
</Properties>
</file>