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2.wmf" ContentType="image/x-wmf"/>
  <Override PartName="/ppt/media/image3.wmf" ContentType="image/x-wmf"/>
  <Override PartName="/ppt/media/image7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8.png" ContentType="image/png"/>
  <Override PartName="/ppt/media/image5.gif" ContentType="image/gif"/>
  <Override PartName="/ppt/media/image10.gif" ContentType="image/gif"/>
  <Override PartName="/ppt/media/image14.wmf" ContentType="image/x-wmf"/>
  <Override PartName="/ppt/media/image6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02A9-CA97-4C7C-8DE4-2ECCCACA60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B23-6BDF-4315-A08A-47791677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041-2BAC-4196-9519-63F788F9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B17-0562-49B1-AC07-968ACE81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69E-E1F4-4FA8-82BC-6836D5F6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604A-7695-4F08-92AA-D52D1676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6F21-D34B-4BE7-B88C-8764B320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9600-F0A2-45E5-B148-62A5A81B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E1A1-0557-4714-AD81-B83A6F0B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F228-8F9A-45AE-AD27-E8E08FE8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076-C1D9-434D-9A9D-D1CDE229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8C68-56EC-4EDE-8ACC-BD4B33DB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686-E4E2-468B-AC88-CB0B98B0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E825-CA98-429C-9DCC-61EFE393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E08B-1138-4433-A256-0175C8B3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F996-8330-473B-8D4B-87354B9E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4FF5-8122-4FEB-B083-BC3363CB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101D-A72B-4492-8AF3-DD2F02F6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D1F-C763-426B-8D2A-77BAC1FD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6C9-43CB-41D3-BFB3-3139FE4E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332-40C5-497A-86D0-74A80336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A9A-3BC8-42F5-91E7-0007549F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FAF-3CA9-4AFD-BD65-980FF30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4A3-814E-43A4-A8F1-5ADFC7D5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CD2-51EC-497E-A923-292760AC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A7DD-27B5-4413-82DD-E440736A68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4B47-0ECF-4532-90E4-1BD6CE70314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28960" y="498240"/>
            <a:ext cx="5619600" cy="2323800"/>
          </a:xfrm>
          <a:prstGeom prst="rect">
            <a:avLst/>
          </a:prstGeom>
          <a:solidFill>
            <a:srgbClr val="f5eed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14680" y="5337000"/>
            <a:ext cx="710712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урс лекций по экономике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1 класс. Учитель Гришакина О.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icture 4" descr="7"/>
          <p:cNvPicPr/>
          <p:nvPr/>
        </p:nvPicPr>
        <p:blipFill>
          <a:blip r:embed="rId1"/>
          <a:stretch/>
        </p:blipFill>
        <p:spPr>
          <a:xfrm>
            <a:off x="4357800" y="2846520"/>
            <a:ext cx="2774880" cy="2603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71400" y="1643040"/>
            <a:ext cx="741996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ормальны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товары,  спрос на которые увеличивается при увеличении доходов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престиж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разновидность нормальных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товаров, с особо высокой ценой, которые люди покупают в основном чтобы продемонстрировать свою успешность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(например очень дорогие и не всегда удобные автомобил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низшей категории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спрос на которые снижается при  росте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8" name="Picture 4" descr="C:\Documents and Settings\Администратор\Мои документы\уроки ЭКОНОМИКИ\значки  и картины для презентаций\рисунки и анимашки для презентаций\1 (77).png"/>
          <p:cNvPicPr/>
          <p:nvPr/>
        </p:nvPicPr>
        <p:blipFill>
          <a:blip r:embed="rId1"/>
          <a:stretch/>
        </p:blipFill>
        <p:spPr>
          <a:xfrm>
            <a:off x="6929280" y="24289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Дуга 6"/>
          <p:cNvSpPr/>
          <p:nvPr/>
        </p:nvSpPr>
        <p:spPr>
          <a:xfrm rot="20043600">
            <a:off x="815760" y="5301720"/>
            <a:ext cx="6402240" cy="1941840"/>
          </a:xfrm>
          <a:custGeom>
            <a:avLst/>
            <a:gdLst/>
            <a:ahLst/>
            <a:rect l="l" t="t" r="r" b="b"/>
            <a:pathLst>
              <a:path stroke="0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  <a:lnTo>
                  <a:pt x="3201194" y="970757"/>
                </a:lnTo>
                <a:lnTo>
                  <a:pt x="2108342" y="58321"/>
                </a:lnTo>
                <a:close/>
              </a:path>
              <a:path fill="none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Дуга 7"/>
          <p:cNvSpPr/>
          <p:nvPr/>
        </p:nvSpPr>
        <p:spPr>
          <a:xfrm rot="3603000">
            <a:off x="1262880" y="1449720"/>
            <a:ext cx="2928960" cy="5267520"/>
          </a:xfrm>
          <a:custGeom>
            <a:avLst/>
            <a:gdLst/>
            <a:ahLst/>
            <a:rect l="l" t="t" r="r" b="b"/>
            <a:pathLst>
              <a:path stroke="0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  <a:lnTo>
                  <a:pt x="1464469" y="2633663"/>
                </a:lnTo>
                <a:lnTo>
                  <a:pt x="1464469" y="0"/>
                </a:lnTo>
                <a:close/>
              </a:path>
              <a:path fill="none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Дуга 8"/>
          <p:cNvSpPr/>
          <p:nvPr/>
        </p:nvSpPr>
        <p:spPr>
          <a:xfrm rot="14358000">
            <a:off x="4945680" y="-1562760"/>
            <a:ext cx="2489040" cy="9288360"/>
          </a:xfrm>
          <a:custGeom>
            <a:avLst/>
            <a:gdLst/>
            <a:ahLst/>
            <a:rect l="l" t="t" r="r" b="b"/>
            <a:pathLst>
              <a:path stroke="0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  <a:lnTo>
                  <a:pt x="1244600" y="4644232"/>
                </a:lnTo>
                <a:lnTo>
                  <a:pt x="1152536" y="12723"/>
                </a:lnTo>
                <a:close/>
              </a:path>
              <a:path fill="none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Хорда 9"/>
          <p:cNvSpPr/>
          <p:nvPr/>
        </p:nvSpPr>
        <p:spPr>
          <a:xfrm>
            <a:off x="2143080" y="5429160"/>
            <a:ext cx="714600" cy="71460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609757" y="609757"/>
                </a:moveTo>
                <a:cubicBezTo>
                  <a:pt x="495442" y="724072"/>
                  <a:pt x="318599" y="747353"/>
                  <a:pt x="178593" y="666521"/>
                </a:cubicBezTo>
                <a:cubicBezTo>
                  <a:pt x="38587" y="585688"/>
                  <a:pt x="-29672" y="420897"/>
                  <a:pt x="12170" y="264740"/>
                </a:cubicBezTo>
                <a:cubicBezTo>
                  <a:pt x="54012" y="108583"/>
                  <a:pt x="195522" y="-1"/>
                  <a:pt x="357187" y="-1"/>
                </a:cubicBezTo>
                <a:lnTo>
                  <a:pt x="609757" y="609757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928960" y="142884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Нормальные товары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4786200" y="3000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вары престижного спрос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929280" y="457200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3429000" y="58579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TextBox 15"/>
          <p:cNvSpPr/>
          <p:nvPr/>
        </p:nvSpPr>
        <p:spPr>
          <a:xfrm rot="16200000">
            <a:off x="1019880" y="298044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72" name="Picture 14" descr="C:\Documents and Settings\Администратор\Мои документы\уроки ЭКОНОМИКИ\значки  и картины для презентаций\рисунки и анимашки для презентаций\1 (33).gif"/>
          <p:cNvPicPr/>
          <p:nvPr/>
        </p:nvPicPr>
        <p:blipFill>
          <a:blip r:embed="rId1"/>
          <a:stretch/>
        </p:blipFill>
        <p:spPr>
          <a:xfrm>
            <a:off x="7215120" y="428760"/>
            <a:ext cx="127656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76345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Доходы покупателей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ычно увеличивают спрос, но возникают ситуации когда спрос может и снизиться есл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ется полезность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ются цены на дополняющие или заменяющие товар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ме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конкурентные блага, удовлетворяющие те же потребности              (например, разные прохладительные и алкогольные напитк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пол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вместе удовлетворяющие потребность (например теннисные корты, ракетки, мячи, форма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6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8001000" y="2571840"/>
            <a:ext cx="800280" cy="657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Ожидание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носительно динамики цен              в будуще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Численность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возраст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увеличение численности увеличивает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0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786800" y="2000160"/>
            <a:ext cx="799920" cy="657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0012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Привычки,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кусы, традиции и предпочтения населения – наименее предсказуемый фактор и очень изменчивы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мода – может увеличить и уменьшить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4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358040" y="4143240"/>
            <a:ext cx="800280" cy="657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3920" y="228600"/>
            <a:ext cx="7929720" cy="127152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Экономика в лицах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643880" cy="51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зучал  людские склонности, потребности и мотивы поведения в выборе товар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делил такие товаропокупающие силы как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довлетворение основных материальных потребностей для выжива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емонстративное расточительство для показа своего благосостоя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ремление получения от жизни максимального удовольств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нстинкт материнства, родительские чувст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аздное любопытство, инстинкт себялюб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8" name="Picture 4" descr="C:\Documents and Settings\Администратор\Мои документы\уроки ЭКОНОМИКИ\значки  и картины для презентаций\рисунки и анимашки для презентаций\1 (29).gif"/>
          <p:cNvPicPr/>
          <p:nvPr/>
        </p:nvPicPr>
        <p:blipFill>
          <a:blip r:embed="rId1"/>
          <a:stretch/>
        </p:blipFill>
        <p:spPr>
          <a:xfrm>
            <a:off x="7572240" y="3429000"/>
            <a:ext cx="1333800" cy="114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ндивидуаль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ого отдельного покупателя в основном формируется на его субъективной оценки полезности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ыночный спрос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овокуп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92" name="Picture 4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8001000" y="5000760"/>
            <a:ext cx="955800" cy="137304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Дуга 8"/>
          <p:cNvSpPr/>
          <p:nvPr/>
        </p:nvSpPr>
        <p:spPr>
          <a:xfrm rot="10374000">
            <a:off x="2239560" y="-3122640"/>
            <a:ext cx="4950000" cy="8820000"/>
          </a:xfrm>
          <a:custGeom>
            <a:avLst/>
            <a:gdLst/>
            <a:ahLst/>
            <a:rect l="l" t="t" r="r" b="b"/>
            <a:pathLst>
              <a:path stroke="0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  <a:lnTo>
                  <a:pt x="2474913" y="4410076"/>
                </a:lnTo>
                <a:lnTo>
                  <a:pt x="2387305" y="2764"/>
                </a:lnTo>
                <a:close/>
              </a:path>
              <a:path fill="none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2286000" y="14288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трана, где много бедных людей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5715000" y="3286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ана, где доходы более равномерн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4857840" y="58579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 rot="16200000">
            <a:off x="765360" y="2020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Дуга 13"/>
          <p:cNvSpPr/>
          <p:nvPr/>
        </p:nvSpPr>
        <p:spPr>
          <a:xfrm rot="9076200">
            <a:off x="3374280" y="574200"/>
            <a:ext cx="2894040" cy="4086360"/>
          </a:xfrm>
          <a:custGeom>
            <a:avLst/>
            <a:gdLst/>
            <a:ahLst/>
            <a:rect l="l" t="t" r="r" b="b"/>
            <a:pathLst>
              <a:path stroke="0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  <a:lnTo>
                  <a:pt x="1447007" y="2043113"/>
                </a:lnTo>
                <a:cubicBezTo>
                  <a:pt x="1447007" y="1362075"/>
                  <a:pt x="1447006" y="681038"/>
                  <a:pt x="1447006" y="0"/>
                </a:cubicBezTo>
                <a:close/>
              </a:path>
              <a:path fill="none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2071800" y="4572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8"/>
          <p:cNvSpPr/>
          <p:nvPr/>
        </p:nvSpPr>
        <p:spPr>
          <a:xfrm>
            <a:off x="2071800" y="5715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Кольцо 20"/>
          <p:cNvSpPr/>
          <p:nvPr/>
        </p:nvSpPr>
        <p:spPr>
          <a:xfrm>
            <a:off x="3571920" y="3429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Кольцо 21"/>
          <p:cNvSpPr/>
          <p:nvPr/>
        </p:nvSpPr>
        <p:spPr>
          <a:xfrm>
            <a:off x="3214800" y="4572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214308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2148480" y="52862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5429160" y="4857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Прямоугольник 25"/>
          <p:cNvSpPr/>
          <p:nvPr/>
        </p:nvSpPr>
        <p:spPr>
          <a:xfrm>
            <a:off x="3949200" y="300024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Прямая со стрелкой 27"/>
          <p:cNvCxnSpPr/>
          <p:nvPr/>
        </p:nvCxnSpPr>
        <p:spPr>
          <a:xfrm flipH="1">
            <a:off x="4928400" y="3357720"/>
            <a:ext cx="429480" cy="42912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312" name="Прямая со стрелкой 28"/>
          <p:cNvCxnSpPr/>
          <p:nvPr/>
        </p:nvCxnSpPr>
        <p:spPr>
          <a:xfrm flipH="1" flipV="1">
            <a:off x="4571280" y="5071680"/>
            <a:ext cx="786600" cy="216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sp>
        <p:nvSpPr>
          <p:cNvPr id="31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571760" y="642960"/>
            <a:ext cx="734832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вокупный спрос уменьшается       при общем росте уровня цен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15" name="Picture 3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7858080" y="1857240"/>
            <a:ext cx="955800" cy="13734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500120" y="1428480"/>
            <a:ext cx="749160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90-х годах в России был катастрофически высок уровень инфляци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принять 1990г - цены за 1, то 1992 г – цены выросли в 68 раз,  2000 г – в 12181 ра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спрос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42680" y="1213920"/>
            <a:ext cx="7348680" cy="50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жду желаемыми товарами, «мечтами»             и реальными  возможностями есть грань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тежеспособный спрос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5" name="Picture 4" descr="C:\Documents and Settings\Администратор\Мои документы\уроки ЭКОНОМИКИ\значки  и картины для презентаций\рисунки и анимашки для презентаций\1 (6).wmf"/>
          <p:cNvPicPr/>
          <p:nvPr/>
        </p:nvPicPr>
        <p:blipFill>
          <a:blip r:embed="rId1"/>
          <a:stretch/>
        </p:blipFill>
        <p:spPr>
          <a:xfrm>
            <a:off x="7286760" y="214200"/>
            <a:ext cx="1657080" cy="10717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99760" y="1523520"/>
            <a:ext cx="735804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071800" y="3500280"/>
            <a:ext cx="371448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2080440" y="300024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числа покупок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2214720" y="357192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 цены 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6072120" y="3357720"/>
            <a:ext cx="42876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11"/>
          <p:cNvSpPr/>
          <p:nvPr/>
        </p:nvSpPr>
        <p:spPr>
          <a:xfrm>
            <a:off x="6072120" y="3643200"/>
            <a:ext cx="428760" cy="180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6715080" y="3000240"/>
            <a:ext cx="19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эффициент  ценовой эластичност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3214800" y="4071960"/>
            <a:ext cx="4000320" cy="52056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5"/>
          <p:cNvSpPr/>
          <p:nvPr/>
        </p:nvSpPr>
        <p:spPr>
          <a:xfrm flipH="1">
            <a:off x="1926720" y="3143160"/>
            <a:ext cx="180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0" name="Прямая соединительная линия 16"/>
          <p:cNvSpPr/>
          <p:nvPr/>
        </p:nvSpPr>
        <p:spPr>
          <a:xfrm flipH="1">
            <a:off x="1928880" y="3643200"/>
            <a:ext cx="1440" cy="35748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 flipH="1">
            <a:off x="5857920" y="307188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 flipH="1">
            <a:off x="5857920" y="357192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1357200" y="485784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ыделяют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товары эластич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 коэфф. больше единицы , например: предметы роскоши и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вары не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, с коэфф. меньше единицы, например: предметы первой необходим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85840"/>
            <a:ext cx="750096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определенный товар для увеличения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ак например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на товары неэластичного спроса,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ожно увеличить выручку (их все равно надо покупать, например - зубную пасту)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товары 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– можно потерять выручку (потому что в них нет особой и постоянной необходимост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36" name="Picture 4" descr="C:\Documents and Settings\Администратор\Мои документы\уроки ЭКОНОМИКИ\значки  и картины для презентаций\рисунки и анимашки для презентаций\1 (62).gif"/>
          <p:cNvPicPr/>
          <p:nvPr/>
        </p:nvPicPr>
        <p:blipFill>
          <a:blip r:embed="rId1"/>
          <a:stretch/>
        </p:blipFill>
        <p:spPr>
          <a:xfrm>
            <a:off x="7929720" y="5715000"/>
            <a:ext cx="895320" cy="7714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4312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00120" y="1142640"/>
            <a:ext cx="749160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) наличие товаров-заменителей (чем их больше, тем хуже основному товару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эффект дохода»: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0" name="Picture 4" descr="C:\Documents and Settings\Администратор\Мои документы\уроки ЭКОНОМИКИ\значки  и картины для презентаций\рисунки и анимашки для презентаций\1 (8).wmf"/>
          <p:cNvPicPr/>
          <p:nvPr/>
        </p:nvPicPr>
        <p:blipFill>
          <a:blip r:embed="rId1"/>
          <a:stretch/>
        </p:blipFill>
        <p:spPr>
          <a:xfrm>
            <a:off x="7597800" y="214200"/>
            <a:ext cx="1235160" cy="107172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28480" y="142848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 хотя эти акцизы повышают цены, объемы покупок не падают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то резко возрастают  доходы                   в казну государств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4" name="Picture 4" descr="C:\Documents and Settings\Администратор\Мои документы\уроки ЭКОНОМИКИ\значки  и картины для презентаций\рисунки и анимашки для презентаций\1 (15).wmf"/>
          <p:cNvPicPr/>
          <p:nvPr/>
        </p:nvPicPr>
        <p:blipFill>
          <a:blip r:embed="rId1"/>
          <a:stretch/>
        </p:blipFill>
        <p:spPr>
          <a:xfrm>
            <a:off x="5891040" y="5538960"/>
            <a:ext cx="3252960" cy="1319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2"/>
          <a:stretch/>
        </p:blipFill>
        <p:spPr>
          <a:xfrm>
            <a:off x="5500800" y="5581800"/>
            <a:ext cx="1542960" cy="127620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57400" y="228240"/>
            <a:ext cx="5133960" cy="114300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опросы для проверк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обсуждения те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 чем отличие величины спроса от величины потребност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 чем гласит 1-й закон экономик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Могут ли продукты питания относиться к категории престижных товаров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фирмы во всем мире ищут  рынки товаров, которые являются новинкам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Целесообразен ли акциз на сливочное масло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4960" y="428760"/>
            <a:ext cx="7348680" cy="115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85960" y="2071800"/>
          <a:ext cx="7000920" cy="4572000"/>
        </p:xfrm>
        <a:graphic>
          <a:graphicData uri="http://schemas.openxmlformats.org/drawingml/2006/table">
            <a:tbl>
              <a:tblPr/>
              <a:tblGrid>
                <a:gridCol w="3579840"/>
                <a:gridCol w="3421080"/>
              </a:tblGrid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велосипеда  в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ые покупки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6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3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4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4"/>
          <p:cNvSpPr/>
          <p:nvPr/>
        </p:nvSpPr>
        <p:spPr>
          <a:xfrm>
            <a:off x="4500720" y="3429000"/>
            <a:ext cx="1857240" cy="2014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6"/>
          <p:cNvSpPr/>
          <p:nvPr/>
        </p:nvSpPr>
        <p:spPr>
          <a:xfrm>
            <a:off x="2000160" y="3429000"/>
            <a:ext cx="6357960" cy="1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9"/>
          <p:cNvSpPr/>
          <p:nvPr/>
        </p:nvSpPr>
        <p:spPr>
          <a:xfrm>
            <a:off x="2071800" y="4429080"/>
            <a:ext cx="635796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Двойная стрелка вверх/вниз 11"/>
          <p:cNvSpPr/>
          <p:nvPr/>
        </p:nvSpPr>
        <p:spPr>
          <a:xfrm>
            <a:off x="4143240" y="3429000"/>
            <a:ext cx="142920" cy="1000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Picture 42" descr="C:\Documents and Settings\Администратор\Мои документы\уроки ЭКОНОМИКИ\значки  и картины для презентаций\рисунки и анимашки для презентаций\1 (34).gif"/>
          <p:cNvPicPr/>
          <p:nvPr/>
        </p:nvPicPr>
        <p:blipFill>
          <a:blip r:embed="rId1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643880" cy="134316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00120" y="1643040"/>
            <a:ext cx="749160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реагирует на уменьшение цены с различной эластичностью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ластичность спроса –масштаб изменения величины спроса в % при изменении цены на 1%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7" name="Picture 4" descr="C:\Documents and Settings\Администратор\Мои документы\уроки ЭКОНОМИКИ\значки  и картины для презентаций\рисунки и анимашки для презентаций\1 (41).gif"/>
          <p:cNvPicPr/>
          <p:nvPr/>
        </p:nvPicPr>
        <p:blipFill>
          <a:blip r:embed="rId1"/>
          <a:stretch/>
        </p:blipFill>
        <p:spPr>
          <a:xfrm>
            <a:off x="8072280" y="1000080"/>
            <a:ext cx="87660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"/>
          <p:cNvSpPr/>
          <p:nvPr/>
        </p:nvSpPr>
        <p:spPr>
          <a:xfrm>
            <a:off x="3643200" y="2786040"/>
            <a:ext cx="135756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"/>
          <p:cNvSpPr/>
          <p:nvPr/>
        </p:nvSpPr>
        <p:spPr>
          <a:xfrm>
            <a:off x="5643720" y="2786040"/>
            <a:ext cx="135720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5286240" y="264312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5286240" y="292896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9"/>
          <p:cNvSpPr/>
          <p:nvPr/>
        </p:nvSpPr>
        <p:spPr>
          <a:xfrm>
            <a:off x="3143160" y="264312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>
            <a:off x="3143160" y="2928960"/>
            <a:ext cx="35712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2071800" y="200016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44330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4075920" y="2643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364716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5718960" y="1571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65048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5933160" y="2714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1571760" y="4000680"/>
            <a:ext cx="757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Е – эластичность спроса,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величина спроса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 цена (2 – новая, 1- прежняя)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4075200" y="214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47178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67896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Прямоугольник 24"/>
          <p:cNvSpPr/>
          <p:nvPr/>
        </p:nvSpPr>
        <p:spPr>
          <a:xfrm>
            <a:off x="457524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Прямоугольник 25"/>
          <p:cNvSpPr/>
          <p:nvPr/>
        </p:nvSpPr>
        <p:spPr>
          <a:xfrm>
            <a:off x="628992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Прямоугольник 26"/>
          <p:cNvSpPr/>
          <p:nvPr/>
        </p:nvSpPr>
        <p:spPr>
          <a:xfrm>
            <a:off x="5932080" y="2143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28"/>
          <p:cNvSpPr/>
          <p:nvPr/>
        </p:nvSpPr>
        <p:spPr>
          <a:xfrm>
            <a:off x="4143240" y="2143080"/>
            <a:ext cx="35748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29"/>
          <p:cNvSpPr/>
          <p:nvPr/>
        </p:nvSpPr>
        <p:spPr>
          <a:xfrm>
            <a:off x="6215040" y="214308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18360"/>
            <a:ext cx="7500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0120" y="856800"/>
            <a:ext cx="749160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спрос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быстрее, чем цена – спрос 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н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медленнее, чем цена,  то спрос не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228600"/>
            <a:ext cx="8143920" cy="84312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792972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показывает объем товара, который покупатели готовы купить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за определенный период  (месяц, год)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ной цене на него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прос - зависимость величины спроса на данном рынке от цен на определенный период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спроса (1-ый закон экономики)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 обычно ведет                  к уменьшение спроса на них,  а снижение –                 к увеличени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предложения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обычно ведет к росту величины предложения, а снижение цен – к уменьшению предложе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00120" y="1357200"/>
            <a:ext cx="7491600" cy="48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ручка от продаж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– денежная сумма, получаемая при продаже и равная произведению числа проданных товаров          на цену по которой их купил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4" name="Picture 4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1"/>
          <a:stretch/>
        </p:blipFill>
        <p:spPr>
          <a:xfrm>
            <a:off x="7786800" y="2500200"/>
            <a:ext cx="1357200" cy="11224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7:17:40Z</dcterms:created>
  <dc:creator>XTreme</dc:creator>
  <dc:description/>
  <dc:language>en-US</dc:language>
  <cp:lastModifiedBy>LEGION</cp:lastModifiedBy>
  <dcterms:modified xsi:type="dcterms:W3CDTF">2016-01-04T08:17:15Z</dcterms:modified>
  <cp:revision>49</cp:revision>
  <dc:subject/>
  <dc:title>Закон спроса и поведение покуп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