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7B85-4DA8-44C3-9511-DDA306996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C6A-1205-455B-9CCD-544B9E3C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00BB-CFBB-41C6-9CAF-C6B44988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ADB9F-3CE6-4B80-AD9E-9F4DC9DF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BC230-C3C2-4F45-A306-01944EF3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80273-919C-451C-BFCB-A1441B48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0E335-A3CE-471A-B9A1-E998BACD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DDCC9-0A3B-4CEE-BE22-6A303C97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BEDFD-5B19-4F08-9283-D8A8064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451D0-6572-4462-AFF3-171787B0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43070-7655-43AC-9601-235B0529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FD490-363A-4FCB-882C-CC87664A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C48AB-8FFD-4E9B-898D-E59C9619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AAE-6DAF-4F24-A9E8-236D0DA8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D98D8-0AEB-4388-A428-71766B04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D7FCA-A5EB-4508-96C5-2338ED3F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86B37-95EA-4F13-9E40-24DC68BA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0E70A-5338-49D8-8ED2-15B62294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FFADC-A67B-4334-BE51-0F43F96E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DA51E-30BD-4C62-8667-C0FCFB05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67EC3-8AEE-4F2B-9E0F-C8E52BD8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B4F5D-4043-44FE-8CF9-6DD556D3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DC1DF-6745-402F-8315-9103727E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2C199-0C98-4815-9FA5-9A01B629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857-52CA-4C42-ADAC-A8A4F484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3B0B7-FC30-486C-A69C-44A6CA8D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D721-2F98-45BC-A1E4-8C91A1E0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6E94-F9B6-4689-BCBE-7CE163BE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884B-30F8-4621-985E-2F636E05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40D4-DD73-4855-B81D-3441BB3B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6C39-A3C5-46EA-8095-DC7002C5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82AB-B67F-4236-8361-3ACA662B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8F6E-7BE3-4340-A166-A0B9133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BD90-F637-43FF-9105-735445B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F7D4-08AC-45CB-B6BD-D1A7AC7F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2B38-3FD3-4885-88D6-1040B472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F80F-B2DB-4BB6-8D8D-578E823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1B5F-0A7B-483E-B201-AD401710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A626-7F46-4838-B64E-A5001671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1EAA-9C8B-43F0-B7B2-1EDCC19C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C1199-3D4A-4C0D-A205-33AE0B3D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9F4E-FED0-451C-B569-D3F23F40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D5C0-2784-4B48-9300-A6B781DE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3ECB-0969-40F4-A85E-AFA89676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D7A-7EE2-46CA-ACA7-D69BBE23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D270-FB33-47F0-A173-D1321B4B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3FA1-4FE1-4B6A-B0CC-54C294E7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7982-C28F-4322-9A4C-CAE543C4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B3C4-B679-4351-BE05-903BF4D4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B09D-DCD4-431B-B70C-071C5F69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BF18-5BB1-47C0-AD15-D4E1CC90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C8B9-E1AF-4E7F-BA9A-22664028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9499-58AE-4FB8-9355-66EBD2A5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B6EDD-B32B-46E8-AB5C-B1B3F902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9F6D-F892-433F-A419-0651AA85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931-EB07-4D6B-818E-1C2750BE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C3C48-5021-4015-A6AC-1ED3FEE4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FC42E-3C42-4BC2-982D-2FDE7996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C8DCC-40B9-46A1-BC37-9318F1A2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6F7C9-7DF9-44FB-9659-E99DD62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48B1-2661-4D5E-BAF4-924A2E33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A8661-A784-4A09-92BA-AE1B8239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4BBB7-F940-4A72-A4F6-37F282C0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E64C1-BF05-4CEA-8FBD-6F62A089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BD6C8-F763-45D4-978E-5FA15114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B005E-7D12-4411-AE8E-6B5C5AF4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A55-C886-4250-9D6A-4A6A08BD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7C995-374D-48FF-97CA-CA8034A9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EB29-F640-4DA3-8A5E-BAFCDB70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F3E4B-D661-49E0-92B5-4E0A251A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83B47-D206-49CE-8032-D5DCCDF0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B37A1-5412-4885-9230-01932B1C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A6F6-4746-47EE-A818-6AF03CDB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37FB-1611-480F-999C-576B2C95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93D6A-9F43-4450-BD09-FC7CFCE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D89A-37AC-4292-A8F7-9BA7CFD0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478C1-63A4-4DEA-B81F-BDA26E6A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286-8576-4C72-9424-7131EADA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B9058-C04D-413D-BA80-FDDEC7FF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4D53-F6AF-4D44-B56F-8A729C75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BFDF-6D35-42EE-9F17-6CABCACB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E33F-9E20-47FF-B189-F4E27217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43515-A43B-45A5-9D24-69A26981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D3222-40F6-45B9-A329-A6E2274E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F86F-AC00-489C-98C3-200EC96B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B45D3-55EE-4DB9-92A0-EED3FEA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EC2AB-62E0-478D-92CC-2B546731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198C4-E801-4C58-9803-70ED7F5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895-5DCB-49DA-BD22-55FA0AF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52430-AB6F-485B-A0AE-B6D224DB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AEA5-C502-45D2-8E22-3794993E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35D17-F7DD-411B-8C06-39F3FF5F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FEB6B-6CB7-4DA1-9FE7-33E9E223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050B7-FA7C-4EDA-BEC8-75A22A56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6ECCD-BC52-4DF3-B888-31961444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A0BDF-D3B8-47C6-9B58-0CE7811B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B18D8-5704-41C1-86BA-F189BF83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1363D-9D33-4ABC-8CF2-A6F2E483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3F76-E7BC-4409-A147-C0D6EE6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976-FC71-476A-91D6-702FE9E7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03F7A-4BF1-423F-9E55-FA8FFAD8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E13E-5C39-42F3-8D57-5BEBCAA8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6C829-EA60-47CD-A958-C7983D5B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4EA7B-78B6-4188-B2AA-1BDA81AD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F7276-E390-4C71-84E4-28E4B2F2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0DCB83-7FA0-41CC-95E8-53C6D380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621056-4681-460E-9B38-08BB1D61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AE25B9-0C8D-456E-9C97-80AE25A4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C3F2AE-4E37-46E2-B843-E9271F7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192351-5390-45CE-B07A-BA064624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78C-DFFD-4A62-8FDF-C3A6221D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DE46F6-B527-495F-961C-BD29F703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80F42F-1EBE-41BD-BB1D-AB3A33A8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23D2FE-F816-428C-99D7-5792ECA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720978-E427-4F4C-8BBD-53DBF086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B934DB-B1EC-4BD7-9BD9-632E757F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85786B-5A5E-4F85-950C-FF092B23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3F18A9-78CA-4629-A062-2EA8E622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DB1D1-D3A1-4854-911D-BB424F9C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30787-7154-42A0-B316-5A3C8A9B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F2E97-E71C-4030-90E3-67C6B0DC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87A5-1060-42C5-8EB8-DC7C02FDB2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BDC8-6FBD-4FBE-87FC-2041FA6E7C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2F9B-A132-4EB4-B53B-DBC49AD7F7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B909-30C1-40DC-AD82-BE1D26EC38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6413-E713-49AF-B6CA-A3F7420F1F7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6966-50CF-44B2-80BB-2C3479AD6C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52BF-C5A9-429A-8E35-A8BAE5A96A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0FAA-178E-4FBE-8CDF-274B083966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2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A47E-C7C5-4DFE-8B83-9B351888AE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5061-E946-4D84-8F50-D38A9B6280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019960"/>
            <a:ext cx="7632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362320" y="5301360"/>
            <a:ext cx="6400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WordArt 4"/>
          <p:cNvSpPr txBox="1"/>
          <p:nvPr/>
        </p:nvSpPr>
        <p:spPr>
          <a:xfrm rot="21318000">
            <a:off x="793440" y="618840"/>
            <a:ext cx="717552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ужны ли  школьни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2987640" y="4581360"/>
            <a:ext cx="5977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630520" cy="342900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8% родителей Великобритании выдаю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тям карманные деньги строго по план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6,5 лет - в среднем 1,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7-летнему  подростку  - 1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10 лет – дети начинают подрабаты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5" name="Picture 7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2361960"/>
            <a:ext cx="835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Германии законодательно реш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прос о количестве карманных денег в неделю: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 6 лет- 50 цен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лет  -1,5-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0лет - 10-1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3 лет –  20 евро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5 лет –   25-30 ев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упательная способность дете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реднем 7,5 млрд евро в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0" name="Picture 5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124000" y="404640"/>
            <a:ext cx="5513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рманные деньги- это не наг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а хорошие оценки и хорошее пове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 плата за помощь по д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лавная  их 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– научить ребенка тратить деньги, делая различные покупки и не неся ответственности за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0" descr=""/>
          <p:cNvPicPr/>
          <p:nvPr/>
        </p:nvPicPr>
        <p:blipFill>
          <a:blip r:embed="rId1"/>
          <a:stretch/>
        </p:blipFill>
        <p:spPr>
          <a:xfrm>
            <a:off x="5364000" y="4896000"/>
            <a:ext cx="1656000" cy="1773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вать деньги можно, есл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даваемая сумма разу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в своих действиях последоват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ую сумму давать ребенк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431720" cy="20829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539640" y="1116720"/>
            <a:ext cx="13187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Лучше руководствоваться принцип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возраст, тем чаще выда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большие суммы, например 1 раз в нед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шеклассникам целесообраз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авать  карманные деньг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раз в меся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8" descr=""/>
          <p:cNvPicPr/>
          <p:nvPr/>
        </p:nvPicPr>
        <p:blipFill>
          <a:blip r:embed="rId1"/>
          <a:stretch/>
        </p:blipFill>
        <p:spPr>
          <a:xfrm>
            <a:off x="3492360" y="506736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ерегулярность получения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рманных денег, отс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ко оговоренной суммы, на кото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ебенок может рассчитывать,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 тому, что практика карманных дене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казывается совершенно бесполез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экономического воспитания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39640" y="2817000"/>
            <a:ext cx="131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3492360" y="515772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ожно давать карманные деньги ребенку с шести-сем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умма должна быть разумной и увеличиваться с возра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Ребенку нужно позволить тратить свои деньги по собственному выб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 ребенка должны быть обязанности по дому, которые он выполняет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9" name="Picture 11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92040" cy="9698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68436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о главное, необходимо помнить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ньги, выдаваемые ребенку, это средств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. Харрис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Britannic Bold"/>
              </a:rPr>
              <a:t>«  Корыстное материалистическое общество постоянно нас обучает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причем  учит нас  не мышлению, а потреб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У детей, которым была дана  ответ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68000" y="1258920"/>
            <a:ext cx="643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WordArt 11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рманные   деньг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то сумма, выделяемая детям    на их собственные нуж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3"/>
          <a:stretch/>
        </p:blipFill>
        <p:spPr>
          <a:xfrm>
            <a:off x="0" y="1916280"/>
            <a:ext cx="2340000" cy="302544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берта Кийосаки  «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Богатый ребенок, умный ребенок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Britannic Bold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Выдержки из книги мо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прочитать на на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школьном сай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Britannic Bold"/>
              </a:rPr>
              <a:t>school3.unc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уем прочит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301920" cy="2438640"/>
          </a:xfrm>
          <a:prstGeom prst="rect">
            <a:avLst/>
          </a:prstGeom>
          <a:ln w="0">
            <a:noFill/>
          </a:ln>
        </p:spPr>
      </p:pic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1979640" y="476280"/>
            <a:ext cx="561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ЗАЧЕМ РЕБЕНКУ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КАРМАННЫЕ  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   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ВСЕ  ЗА  И  ПРОТИВ</a:t>
            </a:r>
            <a:br>
              <a:rPr sz="3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706400" cy="1893600"/>
          </a:xfrm>
          <a:prstGeom prst="rect">
            <a:avLst/>
          </a:prstGeom>
          <a:ln w="0">
            <a:noFill/>
          </a:ln>
        </p:spPr>
      </p:pic>
      <p:sp>
        <p:nvSpPr>
          <p:cNvPr id="47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209320" y="1413000"/>
            <a:ext cx="677556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ока ребенок мал, все необходимое ему должны покупать взрос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бенок не сможет сделать правиль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ньги могут  «испортят»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н может их тратить на ненужные ве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сли ему давать деньги регулярно он станет капризным, балованным, не способны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держивать свои жел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SM_S-4_03-1"/>
          <p:cNvPicPr/>
          <p:nvPr/>
        </p:nvPicPr>
        <p:blipFill>
          <a:blip r:embed="rId1"/>
          <a:stretch/>
        </p:blipFill>
        <p:spPr>
          <a:xfrm>
            <a:off x="179280" y="4724280"/>
            <a:ext cx="2808360" cy="18846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56000" y="189000"/>
            <a:ext cx="6183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деньги не нужн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Давать детям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 карманные   деньги   надо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Хотя бы для того, чтобы он смог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удовлетворить свои потребности, которые взрослые не всегда могут предусмотре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Только когда дети получают деньги, они учатся  их копить, тратить, рассчитыв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Давать или не давать детям    карманные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Каждому родителю придется искать золотую середину в этой дилемме</a:t>
            </a:r>
            <a:r>
              <a:rPr b="1" lang="ru-RU" sz="3800" spc="-1" strike="noStrike">
                <a:solidFill>
                  <a:srgbClr val="ff3300"/>
                </a:solidFill>
                <a:latin typeface="comic"/>
              </a:rPr>
              <a:t>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2124000" y="189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лько карманных денег имеют дети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. Нужны ли тебе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    85 %              НЕТ – 15 % ( 1-5 к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. Как часто тебе дают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 - 1 чел.  ( но очень хочется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-38%               ( от  10 до 15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неделю – 25 %   ( от 100 до 6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в месяц – 8 %     ( от 200 до 10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аздникам, в день рожденья – 19 % (до 2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– 9 % ( от 100 до 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49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4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4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69636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226836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м нужны деньги детям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3. Хватает ли тебе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72 %     НЕТ- 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4.На что ты тратишь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еду, проезд – 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ичные нужд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телефон, канцтовары, диски, сладости, игрушки, косметик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ираю, коплю – 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ки родным, друзьям – 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3"/>
          <a:stretch/>
        </p:blipFill>
        <p:spPr>
          <a:xfrm>
            <a:off x="7093080" y="1125360"/>
            <a:ext cx="2050920" cy="165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бъясняют ли тебе  родители как правильно тратить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 – 65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-  3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Если тебя наказывают, то лишают ли тебя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70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Дают ли родители тебе деньги за хорошие оценк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1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59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Отчитываешь ли ты родителям о трат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67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38:44Z</dcterms:created>
  <dc:creator>USER</dc:creator>
  <dc:description/>
  <dc:language>en-US</dc:language>
  <cp:lastModifiedBy>LEGION</cp:lastModifiedBy>
  <dcterms:modified xsi:type="dcterms:W3CDTF">2016-01-04T11:45:49Z</dcterms:modified>
  <cp:revision>176</cp:revision>
  <dc:subject/>
  <dc:title>Слайд 1</dc:title>
</cp:coreProperties>
</file>