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3505-FF76-4A70-AEAF-6A89485EC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076-F2CB-4B65-A9CE-510DC9B5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8D6-FAE2-4EE3-9B8A-08D7A4D6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57D30-9FBC-495A-885C-8C7B8D95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A868B-E9FA-4CAE-98A8-BAB6044C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C2756-262B-406D-A124-69386597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93C68-9DCE-46F9-B17A-D1A64CB1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EFF17-4FA6-4316-85BC-C103FB86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04E6D-4536-43B6-B473-8099A45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E40B6-5E0A-4206-886B-97B40B1E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07253-B090-4214-AE8F-6CE623C1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21565-990D-4AAD-BE36-F22769B1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9A78E-C973-4714-BD46-BDE9659C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67E-4B4E-4433-B0EA-34B71472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111AC-F71A-4640-85EA-CE300A61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B0864-55DD-44FE-B69B-F61E6A64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77DB1-7F0E-4668-8358-606000D6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0B559-56AA-4FDF-8287-94D19871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C689B-1862-4A63-BEA5-0E6FFCDD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556FE-E638-4E04-A413-EB9575B2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C22EA-9826-4AFC-9339-CBD9457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C20A7-F307-4C05-B2AC-CDA216FB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46A7F-17FF-4A98-A1EA-C3D23A36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AEA27-475B-444E-9F71-E22DFDD8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B01-3BC7-48E7-ADDD-1A77DF56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CFF15-76E6-47F8-BE7F-36F744A9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DBFF-B18A-4604-8B06-1A3FCFD3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5B33-1269-4868-9584-CFE0F56E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146A-2980-4139-B1A3-8DBFF89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C972-D9D4-4668-BAF8-D97A28BE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43E2-6B15-4EF7-9F68-CAA6265E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4337-84BD-4E4B-AF99-15275F40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5F51-9511-482B-95C0-C0260436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E91-DA84-4043-9FD8-99EC9AAF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2878-72AB-4A67-B4EE-3B97D794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FF53-C2B0-4A3C-A133-486C54D8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8715-F52E-4884-BDC2-0B5283C1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42D3-0E1D-4B56-BCC9-495E560F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96B4-5669-4535-923E-6AF54F84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5B69B-EBAB-4A1F-BEE6-DB0F6A14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7F69-BEDC-42E2-962B-B1AC29B9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3709-48E4-4E0B-B32E-36FB0613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4C3F-4D3A-4EC5-8A90-67E1BA98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9350-A5F4-409F-912A-E1742232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992-8431-437C-815F-F4D3EE64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443B-A0BC-41B9-9A8E-619CF5F2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D341-C4D6-4DDA-ABCE-B7E99793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9806-9D3F-43B9-BA04-928B2DC9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EB03-56B3-4317-BE67-A81CBEF0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961F-E22E-4123-B048-F04F8762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D811-C009-4D4E-BA86-DE0D4C6B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8628-0043-45DB-9E06-A07CB1E6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126F-69FB-4514-B9E5-FCD976D0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3A87-EB54-45B9-89BE-1CCF0BCC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49CC-80B3-4915-868F-6EF04D4A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749-10E3-4DE3-B61F-25CD396E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B5F2-F034-45E0-88BD-F53BCBA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A1D9A-0277-4BD6-A053-E343D410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CF67-8422-4A3A-8356-0FC65852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0C98-96D0-40E0-872E-BB01181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A2F9-7116-4505-960C-2735CAD8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A2219-52D8-4F59-B45E-7B2E09CA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16676-A5BD-45FE-B326-C33A597A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E17E-C348-4330-997A-43824A52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C73C4-6CAE-4A28-B4E7-0B972A80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B6C92-7CB0-45D7-AEFE-FA09CF41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811-9D63-49D3-8096-E23554AB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9E404-385E-4817-8547-1C6D4DC4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2D712-C6F6-4549-8C49-2B517CEF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10C9-C5BC-4417-BDAA-529BFFF0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FE2C-1142-48D8-951A-6360E0F0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7CA95-7291-4D45-ADA0-EF0C982E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9DCDD-7B04-47AA-A820-10BA605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ED6B6-9711-417F-B451-89384520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51F76-EDD8-4E65-84DF-2F0C87F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C79A1-A9DE-40BB-B5D2-198D456B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C484D-D95C-4CAE-BADA-2B5B2C44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256-FA02-496F-9612-99E20003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AE86B-EA2E-4A31-AB2B-609F8FC9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88840-F373-421D-9EF3-77FEF0D4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D348E-36BB-4040-B5E8-262CE4BD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A3DA1-E282-4069-A57E-05CB96AD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8C0A-E48B-4265-978C-C76DA3A8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D4DA2-DB7F-4F11-85FC-43728804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02A68-F5D6-4EF8-AE0C-54376C2D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DFCB7-0AE2-44EB-B36C-76FB8291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730C6-2BE9-4B63-97B0-EFB4903F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617E3-57C6-4362-8F6C-CA709165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AA7-9746-4210-BCA8-FF2F6469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EF34A-6B9E-4D40-8FA6-10730B6A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1325C-74E6-46AB-AF18-AC7C24BB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77250-6DCF-4604-8205-45762942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BEF81-7CC7-4AD0-8150-C5A4BC6C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D6197-4398-4AA5-838B-F59F9DB1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004D9-F1E8-4EBF-B17C-64914EF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5B618-ED5C-4174-B33B-06515CDF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9BC7D-8556-4ADF-987C-D6A832E6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53480-B096-42DE-8B09-E6CD23E9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17984-71CC-4FE7-8C76-40DA0859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A49-4BC7-4A56-940A-B71E257E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141B0-65F1-4E21-9FD7-BFEC8BCB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7B7D2-A1BB-4587-9E72-6CC58BE0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CB714-64E3-48C8-9D39-B0FFCE46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EF133-C77A-4D03-8A4B-D8A587C9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6E2DA-1F02-40A8-9D34-7BBFD2D2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43C4C8-6216-4BC3-A511-282F8FFA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4A4F50-2860-46C0-BE90-85BE83CE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BFF4D4-3FE5-49ED-9ED2-0403BE41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596499-6328-42E9-9D9F-54C13653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2992A5-8CCD-48AF-9214-7A865952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730-8E7F-497F-BBBF-63657055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670AC9-1854-44D0-8E40-6A0D7BFA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797C12-F431-4463-9DE4-E8F7F4D5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35EEA2-E243-413E-9E85-EDFDD5C6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AC91EC-A821-4EE3-99F3-8C6983A4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F113BA-14C7-450A-9C74-3959B30C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4C75F3-C550-43E3-AF86-74CDA000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1D9736-C569-4EF9-B228-076231AE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91604-D558-40BA-B399-85EA9C0C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5ACAB-4239-4BAC-BD00-A084E898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3880E-E6F1-4ED0-B02E-311DC835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FCE8-2814-495F-8C01-078015CD98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A4E7-538D-447B-9639-60FE41EAC4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1E84-E896-4751-96F8-D9E9D9130F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A724-0535-4927-B348-C7E1B42CEF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16C1-A1D6-4303-8CE9-1D636A8F7C2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EFCE-E05B-4B12-B918-78987C109A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9E08-7F6F-4A06-93B8-3D1D88DA08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7308-F348-4E75-8FCD-C3AE6A9FEE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2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64CF-E92C-487C-A57E-088D98194F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6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9B97-135B-45AE-AFA9-C377ECE01CF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019960"/>
            <a:ext cx="76327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362320" y="5301360"/>
            <a:ext cx="64008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WordArt 4"/>
          <p:cNvSpPr txBox="1"/>
          <p:nvPr/>
        </p:nvSpPr>
        <p:spPr>
          <a:xfrm rot="21318000">
            <a:off x="793440" y="618840"/>
            <a:ext cx="717552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ужны ли  школьни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WordArt 5"/>
          <p:cNvSpPr txBox="1"/>
          <p:nvPr/>
        </p:nvSpPr>
        <p:spPr>
          <a:xfrm>
            <a:off x="2987640" y="4581360"/>
            <a:ext cx="5977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630520" cy="342900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88% родителей Великобритании выдаю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тям карманные деньги строго по план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6,5 лет - в среднем 1,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7-летнему  подростку  - 1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10 лет – дети начинают подрабатыв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5" name="Picture 7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2361960"/>
            <a:ext cx="835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Германии законодательно реш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опрос о количестве карманных денег в неделю: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 6 лет- 50 цен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7лет  -1,5-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0лет - 10-1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3 лет –  20 евро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5 лет –   25-30 ев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купательная способность дете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реднем 7,5 млрд евро в г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0" name="Picture 5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2124000" y="404640"/>
            <a:ext cx="5513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рманные деньги- это не наг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за хорошие оценки и хорошее повед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 плата за помощь по д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лавная  их 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– научить ребенка тратить деньги, делая различные покупки и не неся ответственности за свой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0" descr=""/>
          <p:cNvPicPr/>
          <p:nvPr/>
        </p:nvPicPr>
        <p:blipFill>
          <a:blip r:embed="rId1"/>
          <a:stretch/>
        </p:blipFill>
        <p:spPr>
          <a:xfrm>
            <a:off x="5364000" y="4896000"/>
            <a:ext cx="1656000" cy="1773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авать деньги можно, есл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выдаваемая сумма разум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в своих действиях последоват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5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ую сумму давать ребенку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431720" cy="20829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539640" y="1116720"/>
            <a:ext cx="131875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Лучше руководствоваться принцип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меньше возраст, тем чаще выда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большие суммы, например 1 раз в нед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шеклассникам целесообраз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давать  карманные деньг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раз в меся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8" descr=""/>
          <p:cNvPicPr/>
          <p:nvPr/>
        </p:nvPicPr>
        <p:blipFill>
          <a:blip r:embed="rId1"/>
          <a:stretch/>
        </p:blipFill>
        <p:spPr>
          <a:xfrm>
            <a:off x="3492360" y="506736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ерегулярность получения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рманных денег, отсу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четко оговоренной суммы, на кото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ебенок может рассчитывать,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 тому, что практика карманных дене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казывается совершенно бесполез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ля экономического воспитания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539640" y="2817000"/>
            <a:ext cx="131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3492360" y="515772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ожно давать карманные деньги ребенку с шести-семи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умма должна быть разумной и увеличиваться с возра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Ребенку нужно позволить тратить свои деньги по собственному выб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 ребенка должны быть обязанности по дому, которые он выполняет бес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6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9" name="Picture 11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92040" cy="9698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7"/>
          <p:cNvSpPr/>
          <p:nvPr/>
        </p:nvSpPr>
        <p:spPr>
          <a:xfrm>
            <a:off x="684360" y="177336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о главное, необходимо помнить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еньги, выдаваемые ребенку, это средство обуч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. Харрисо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Britannic Bold"/>
              </a:rPr>
              <a:t>«  Корыстное материалистическое общество постоянно нас обучает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причем  учит нас  не мышлению, а потреб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У детей, которым была дана  ответ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68000" y="1258920"/>
            <a:ext cx="643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WordArt 11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арманные   деньг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то сумма, выделяемая детям    на их собственные нуж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6" descr=""/>
          <p:cNvPicPr/>
          <p:nvPr/>
        </p:nvPicPr>
        <p:blipFill>
          <a:blip r:embed="rId3"/>
          <a:stretch/>
        </p:blipFill>
        <p:spPr>
          <a:xfrm>
            <a:off x="0" y="1916280"/>
            <a:ext cx="2340000" cy="302544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берта Кийосаки  «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Богатый ребенок, умный ребенок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Britannic Bold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Выдержки из книги мо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прочитать на на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школьном сай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Britannic Bold"/>
              </a:rPr>
              <a:t>school3.uncn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уем прочит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301920" cy="2438640"/>
          </a:xfrm>
          <a:prstGeom prst="rect">
            <a:avLst/>
          </a:prstGeom>
          <a:ln w="0">
            <a:noFill/>
          </a:ln>
        </p:spPr>
      </p:pic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4"/>
          <p:cNvSpPr txBox="1"/>
          <p:nvPr/>
        </p:nvSpPr>
        <p:spPr>
          <a:xfrm>
            <a:off x="1979640" y="476280"/>
            <a:ext cx="561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ЗАЧЕМ РЕБЕНКУ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КАРМАННЫЕ  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   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ВСЕ  ЗА  И  ПРОТИВ</a:t>
            </a:r>
            <a:br>
              <a:rPr sz="3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706400" cy="1893600"/>
          </a:xfrm>
          <a:prstGeom prst="rect">
            <a:avLst/>
          </a:prstGeom>
          <a:ln w="0">
            <a:noFill/>
          </a:ln>
        </p:spPr>
      </p:pic>
      <p:sp>
        <p:nvSpPr>
          <p:cNvPr id="47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209320" y="1413000"/>
            <a:ext cx="677556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ока ребенок мал, все необходимое ему должны покупать взрос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бенок не сможет сделать правиль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ньги могут  «испортят»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н может их тратить на ненужные ве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сли ему давать деньги регулярно он станет капризным, балованным, не способным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держивать свои жел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SM_S-4_03-1"/>
          <p:cNvPicPr/>
          <p:nvPr/>
        </p:nvPicPr>
        <p:blipFill>
          <a:blip r:embed="rId1"/>
          <a:stretch/>
        </p:blipFill>
        <p:spPr>
          <a:xfrm>
            <a:off x="179280" y="4724280"/>
            <a:ext cx="2808360" cy="18846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6"/>
          <p:cNvSpPr txBox="1"/>
          <p:nvPr/>
        </p:nvSpPr>
        <p:spPr>
          <a:xfrm>
            <a:off x="2556000" y="189000"/>
            <a:ext cx="6183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деньги не нужн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Давать детям</a:t>
            </a:r>
            <a:br>
              <a:rPr sz="45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 карманные   деньги   надо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Хотя бы для того, чтобы он смог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удовлетворить свои потребности, которые взрослые не всегда могут предусмотре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Только когда дети получают деньги, они учатся  их копить, тратить, рассчитыв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Давать или не давать детям    карманные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Каждому родителю придется искать золотую середину в этой дилемме</a:t>
            </a:r>
            <a:r>
              <a:rPr b="1" lang="ru-RU" sz="3800" spc="-1" strike="noStrike">
                <a:solidFill>
                  <a:srgbClr val="ff3300"/>
                </a:solidFill>
                <a:latin typeface="comic"/>
              </a:rPr>
              <a:t>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2124000" y="18900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лько карманных денег имеют дети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745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. Нужны ли тебе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    85 %              НЕТ – 15 % ( 1-5 к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2. Как часто тебе дают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 - 1 чел.  ( но очень хочется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-38%               ( от  10 до 15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неделю – 25 %   ( от 100 до 6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в месяц – 8 %     ( от 200 до 10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аздникам, в день рожденья – 19 % (до 2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– 9 % ( от 100 до 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49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4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4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69636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2268360" y="18900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чем нужны деньги детям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3. Хватает ли тебе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72 %     НЕТ-  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4.На что ты тратишь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еду, проезд – 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ичные нужд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телефон, канцтовары, диски, сладости, игрушки, косметику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ираю, коплю – 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рки родным, друзьям – 9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3"/>
          <a:stretch/>
        </p:blipFill>
        <p:spPr>
          <a:xfrm>
            <a:off x="7093080" y="1125360"/>
            <a:ext cx="2050920" cy="1656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4"/>
          <a:stretch/>
        </p:blipFill>
        <p:spPr>
          <a:xfrm>
            <a:off x="324000" y="4581360"/>
            <a:ext cx="1584000" cy="158436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WordArt 3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Объясняют ли тебе  родители как правильно тратить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 – 65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-  32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Если тебя наказывают, то лишают ли тебя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70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Дают ли родители тебе деньги за хорошие оценк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1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59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Отчитываешь ли ты родителям о трат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67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1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38:44Z</dcterms:created>
  <dc:creator>USER</dc:creator>
  <dc:description/>
  <dc:language>en-US</dc:language>
  <cp:lastModifiedBy>LEGION</cp:lastModifiedBy>
  <dcterms:modified xsi:type="dcterms:W3CDTF">2016-01-04T11:45:49Z</dcterms:modified>
  <cp:revision>176</cp:revision>
  <dc:subject/>
  <dc:title>Слайд 1</dc:title>
</cp:coreProperties>
</file>