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7BFD-63E5-45A9-8CE0-DC95AABDE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25E-9D79-464A-8B93-490A8CB4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7B8-0DC8-43CF-908B-27641ABA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79C-A005-49EC-AC23-76E9F032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ECB-2CF3-4C7C-8B66-D6252344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73F0-57BD-4710-8E0B-FF0DAA69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C3A1-4899-438F-B37E-2D2EC165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29DA-80FC-4BDD-BB60-CED4329E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9FA1-5281-424D-8BEB-0C32075C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7E62-33C3-4A65-8233-1E1BDDD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B6DB-0CEF-48A6-9B2C-522C9DC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62E0-8267-4471-AF64-4F25A51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A3E-BAA8-4C34-A226-58B3B140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2146-D948-474D-BB57-EC189E9F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61F0-DD3E-4ECB-B1AD-9B6046CE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A16A-23F1-4191-92A1-99520BC6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3039-2F20-4F4F-8D1C-2F7DF5B4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CD4-D2CD-4CA2-8A3D-527578D4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E18-6943-473A-85F4-D2D7869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750-F828-4148-8A91-94A34163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511-057B-4383-B91A-8E4A19DA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2BA-5F73-4F40-B205-22E297A8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E9F-5D59-46ED-B238-DF24C2F1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8A7-2EB1-4DE1-8D42-3ADE923F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583-67E1-477A-A972-1B041CAC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A2E-608C-4DBC-A76D-B593667C00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E8E-E61A-45BB-A1E6-0F9911B8666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596520"/>
            <a:ext cx="6956280" cy="18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кладная эконом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2636640"/>
            <a:ext cx="61470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икроэконом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анкт-Петербургский парадокс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: индивиды оценивают игру не по ее ожидаемой стоимости, а по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2268360" y="1268280"/>
                <a:ext cx="4664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3 Гипотеза ожидаемой полез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2233440" y="1916280"/>
                <a:ext cx="46213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1282680" y="2997360"/>
                <a:ext cx="65912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2781360" y="5856120"/>
                <a:ext cx="3593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1557360"/>
            <a:ext cx="914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Риск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: понятие, характеризующее изменчивость исходов в ситуации неопределен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Не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, наоборот, выберут игру с бол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90972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не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>
            <a:off x="1403280" y="299736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2700360" y="2276280"/>
            <a:ext cx="2232000" cy="143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851280" y="2708280"/>
            <a:ext cx="0" cy="360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3448080" y="2997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3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3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4932360" y="2276640"/>
            <a:ext cx="0" cy="40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Oval 4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3376440" y="2924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3780000" y="292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43"/>
          <p:cNvSpPr/>
          <p:nvPr/>
        </p:nvSpPr>
        <p:spPr>
          <a:xfrm flipH="1">
            <a:off x="1403280" y="2708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360360" y="23954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179280" y="282744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71280" y="350028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2"/>
              <p:cNvSpPr txBox="1"/>
              <p:nvPr/>
            </p:nvSpPr>
            <p:spPr>
              <a:xfrm>
                <a:off x="5361120" y="6272280"/>
                <a:ext cx="137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4340160" y="5805360"/>
                <a:ext cx="1168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08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267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6"/>
              <p:cNvSpPr txBox="1"/>
              <p:nvPr/>
            </p:nvSpPr>
            <p:spPr>
              <a:xfrm>
                <a:off x="2179800" y="5805360"/>
                <a:ext cx="116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57"/>
              <p:cNvSpPr txBox="1"/>
              <p:nvPr/>
            </p:nvSpPr>
            <p:spPr>
              <a:xfrm>
                <a:off x="981000" y="6272280"/>
                <a:ext cx="135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1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2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ля несклонного к риску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328760" y="1773360"/>
                <a:ext cx="6432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042920" y="3522600"/>
                <a:ext cx="7061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3"/>
              <p:cNvSpPr txBox="1"/>
              <p:nvPr/>
            </p:nvSpPr>
            <p:spPr>
              <a:xfrm>
                <a:off x="2073240" y="5415120"/>
                <a:ext cx="49482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 flipH="1">
            <a:off x="1403280" y="49068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37236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rc 8"/>
          <p:cNvSpPr/>
          <p:nvPr/>
        </p:nvSpPr>
        <p:spPr>
          <a:xfrm rot="5400000">
            <a:off x="1682280" y="684000"/>
            <a:ext cx="4465440" cy="505620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5056200"/>
              <a:gd name="textAreaBottom" fmla="*/ 5056200 h 5056200"/>
            </a:gdLst>
            <a:ahLst/>
            <a:rect l="textAreaLeft" t="textAreaTop" r="textAreaRight" b="textAreaBottom"/>
            <a:pathLst>
              <a:path fill="none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</a:path>
              <a:path stroke="0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  <a:lnTo>
                  <a:pt x="0" y="21054"/>
                </a:lnTo>
                <a:lnTo>
                  <a:pt x="4827" y="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403280" y="42210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771640" y="4220640"/>
            <a:ext cx="216072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38512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1692360" y="2924280"/>
            <a:ext cx="4319640" cy="25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 flipH="1">
            <a:off x="1403280" y="4724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1692360" y="5445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277164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493236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6012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3780000" y="4840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Oval 21"/>
          <p:cNvSpPr/>
          <p:nvPr/>
        </p:nvSpPr>
        <p:spPr>
          <a:xfrm>
            <a:off x="3780000" y="4653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3780000" y="4149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7"/>
              <p:cNvSpPr txBox="1"/>
              <p:nvPr/>
            </p:nvSpPr>
            <p:spPr>
              <a:xfrm>
                <a:off x="552132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8"/>
              <p:cNvSpPr txBox="1"/>
              <p:nvPr/>
            </p:nvSpPr>
            <p:spPr>
              <a:xfrm>
                <a:off x="449424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1"/>
              <p:cNvSpPr txBox="1"/>
              <p:nvPr/>
            </p:nvSpPr>
            <p:spPr>
              <a:xfrm>
                <a:off x="235116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2"/>
              <p:cNvSpPr txBox="1"/>
              <p:nvPr/>
            </p:nvSpPr>
            <p:spPr>
              <a:xfrm>
                <a:off x="119844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3"/>
              <p:cNvSpPr txBox="1"/>
              <p:nvPr/>
            </p:nvSpPr>
            <p:spPr>
              <a:xfrm>
                <a:off x="4502160" y="4759200"/>
                <a:ext cx="4533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4"/>
              <p:cNvSpPr txBox="1"/>
              <p:nvPr/>
            </p:nvSpPr>
            <p:spPr>
              <a:xfrm>
                <a:off x="495360" y="4843440"/>
                <a:ext cx="88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5"/>
              <p:cNvSpPr txBox="1"/>
              <p:nvPr/>
            </p:nvSpPr>
            <p:spPr>
              <a:xfrm>
                <a:off x="82440" y="3789360"/>
                <a:ext cx="1320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6"/>
              <p:cNvSpPr txBox="1"/>
              <p:nvPr/>
            </p:nvSpPr>
            <p:spPr>
              <a:xfrm>
                <a:off x="250920" y="4292640"/>
                <a:ext cx="115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4"/>
          <p:cNvSpPr/>
          <p:nvPr/>
        </p:nvSpPr>
        <p:spPr>
          <a:xfrm>
            <a:off x="2195640" y="5300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32"/>
          <p:cNvSpPr/>
          <p:nvPr/>
        </p:nvSpPr>
        <p:spPr>
          <a:xfrm flipV="1">
            <a:off x="2195640" y="2349360"/>
            <a:ext cx="5329080" cy="395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52472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38836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692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03280" y="83772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нейтраль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19564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219384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195640" y="45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4643280" y="4508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356400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04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Oval 20"/>
          <p:cNvSpPr/>
          <p:nvPr/>
        </p:nvSpPr>
        <p:spPr>
          <a:xfrm>
            <a:off x="3490920" y="5229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4572000" y="4437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3"/>
              <p:cNvSpPr txBox="1"/>
              <p:nvPr/>
            </p:nvSpPr>
            <p:spPr>
              <a:xfrm>
                <a:off x="6168960" y="6272280"/>
                <a:ext cx="12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5"/>
              <p:cNvSpPr txBox="1"/>
              <p:nvPr/>
            </p:nvSpPr>
            <p:spPr>
              <a:xfrm>
                <a:off x="4424400" y="6316560"/>
                <a:ext cx="507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3022560" y="6308640"/>
                <a:ext cx="1117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4073400" y="4759200"/>
                <a:ext cx="4962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9"/>
              <p:cNvSpPr txBox="1"/>
              <p:nvPr/>
            </p:nvSpPr>
            <p:spPr>
              <a:xfrm>
                <a:off x="536400" y="5040360"/>
                <a:ext cx="1587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1"/>
              <p:cNvSpPr txBox="1"/>
              <p:nvPr/>
            </p:nvSpPr>
            <p:spPr>
              <a:xfrm>
                <a:off x="1120680" y="4292640"/>
                <a:ext cx="100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Line 33"/>
          <p:cNvSpPr/>
          <p:nvPr/>
        </p:nvSpPr>
        <p:spPr>
          <a:xfrm>
            <a:off x="2195640" y="285264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6732720" y="2800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5"/>
              <p:cNvSpPr txBox="1"/>
              <p:nvPr/>
            </p:nvSpPr>
            <p:spPr>
              <a:xfrm>
                <a:off x="385920" y="2492280"/>
                <a:ext cx="1752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5 Премия за риск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03280" y="76464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ремия за рис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85128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Line 1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62728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216000" y="350028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553248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9"/>
              <p:cNvSpPr txBox="1"/>
              <p:nvPr/>
            </p:nvSpPr>
            <p:spPr>
              <a:xfrm>
                <a:off x="2484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114624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кладные аспекты теории потребительского выбора и спро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2f0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ория производства, издержек и выбора максимизирующей прибыль фир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ночные структуры несовершенной конкурен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хороше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плохо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2.1 Вероятностные состояния как обусловленные блага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985680" y="4594320"/>
                <a:ext cx="7174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6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50920" y="1557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 Кривые безразлич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971640" y="1844640"/>
            <a:ext cx="0" cy="4464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rc 13"/>
          <p:cNvSpPr/>
          <p:nvPr/>
        </p:nvSpPr>
        <p:spPr>
          <a:xfrm rot="11032200">
            <a:off x="2064960" y="1847520"/>
            <a:ext cx="4932360" cy="34416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fill="none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</a:path>
              <a:path stroke="0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  <a:lnTo>
                  <a:pt x="0" y="20245"/>
                </a:lnTo>
                <a:lnTo>
                  <a:pt x="7529" y="0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076720" y="508464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1908000" y="2924280"/>
            <a:ext cx="2664000" cy="2665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rc 37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8"/>
              <p:cNvSpPr txBox="1"/>
              <p:nvPr/>
            </p:nvSpPr>
            <p:spPr>
              <a:xfrm>
                <a:off x="2604960" y="479736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Line 39"/>
          <p:cNvSpPr/>
          <p:nvPr/>
        </p:nvSpPr>
        <p:spPr>
          <a:xfrm flipV="1">
            <a:off x="3132000" y="42926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0"/>
              <p:cNvSpPr txBox="1"/>
              <p:nvPr/>
            </p:nvSpPr>
            <p:spPr>
              <a:xfrm>
                <a:off x="197964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2768760" y="4076640"/>
                <a:ext cx="36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3276720" y="5479920"/>
                <a:ext cx="24541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630072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971640" y="3357720"/>
            <a:ext cx="1439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rc 30"/>
          <p:cNvSpPr/>
          <p:nvPr/>
        </p:nvSpPr>
        <p:spPr>
          <a:xfrm flipV="1" rot="16596600">
            <a:off x="6809040" y="3938040"/>
            <a:ext cx="1368360" cy="15004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0480"/>
              <a:gd name="textAreaBottom" fmla="*/ 1501200 h 150048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rc 33"/>
          <p:cNvSpPr/>
          <p:nvPr/>
        </p:nvSpPr>
        <p:spPr>
          <a:xfrm flipV="1" rot="5911200">
            <a:off x="2944440" y="29851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rc 35"/>
          <p:cNvSpPr/>
          <p:nvPr/>
        </p:nvSpPr>
        <p:spPr>
          <a:xfrm flipV="1" rot="16392000">
            <a:off x="7166880" y="3359520"/>
            <a:ext cx="1368360" cy="150552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5520"/>
              <a:gd name="textAreaBottom" fmla="*/ 1506240 h 150552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Карты кривых безразличия для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Text Box 43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Text Box 44"/>
          <p:cNvSpPr/>
          <p:nvPr/>
        </p:nvSpPr>
        <p:spPr>
          <a:xfrm>
            <a:off x="838836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Text Box 46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47"/>
          <p:cNvSpPr/>
          <p:nvPr/>
        </p:nvSpPr>
        <p:spPr>
          <a:xfrm>
            <a:off x="1187280" y="285264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48"/>
          <p:cNvSpPr/>
          <p:nvPr/>
        </p:nvSpPr>
        <p:spPr>
          <a:xfrm>
            <a:off x="1403280" y="242100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2556000" y="4508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Text Box 50"/>
          <p:cNvSpPr/>
          <p:nvPr/>
        </p:nvSpPr>
        <p:spPr>
          <a:xfrm>
            <a:off x="277164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2340000" y="5013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2"/>
              <p:cNvSpPr txBox="1"/>
              <p:nvPr/>
            </p:nvSpPr>
            <p:spPr>
              <a:xfrm>
                <a:off x="693720" y="5052960"/>
                <a:ext cx="1574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rc 53"/>
          <p:cNvSpPr/>
          <p:nvPr/>
        </p:nvSpPr>
        <p:spPr>
          <a:xfrm flipV="1" rot="5911200">
            <a:off x="3160440" y="24739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Arc 54"/>
          <p:cNvSpPr/>
          <p:nvPr/>
        </p:nvSpPr>
        <p:spPr>
          <a:xfrm flipV="1" rot="5911200">
            <a:off x="3376440" y="1897560"/>
            <a:ext cx="3665520" cy="183060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830600"/>
              <a:gd name="textAreaBottom" fmla="*/ 1830600 h 183060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5365800" y="5589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56"/>
          <p:cNvSpPr/>
          <p:nvPr/>
        </p:nvSpPr>
        <p:spPr>
          <a:xfrm>
            <a:off x="55800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7"/>
          <p:cNvSpPr/>
          <p:nvPr/>
        </p:nvSpPr>
        <p:spPr>
          <a:xfrm>
            <a:off x="5796000" y="4437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Arc 58"/>
          <p:cNvSpPr/>
          <p:nvPr/>
        </p:nvSpPr>
        <p:spPr>
          <a:xfrm flipV="1" rot="16392000">
            <a:off x="7382880" y="2783520"/>
            <a:ext cx="1368360" cy="1505160"/>
          </a:xfrm>
          <a:custGeom>
            <a:avLst/>
            <a:gdLst>
              <a:gd name="textAreaLeft" fmla="*/ 0 w 1368360"/>
              <a:gd name="textAreaRight" fmla="*/ 1368720 w 1368360"/>
              <a:gd name="textAreaTop" fmla="*/ -360 h 1505160"/>
              <a:gd name="textAreaBottom" fmla="*/ 1505160 h 150516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Text Box 59"/>
          <p:cNvSpPr/>
          <p:nvPr/>
        </p:nvSpPr>
        <p:spPr>
          <a:xfrm>
            <a:off x="637236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Text Box 60"/>
          <p:cNvSpPr/>
          <p:nvPr/>
        </p:nvSpPr>
        <p:spPr>
          <a:xfrm>
            <a:off x="6661080" y="314172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Text Box 61"/>
          <p:cNvSpPr/>
          <p:nvPr/>
        </p:nvSpPr>
        <p:spPr>
          <a:xfrm>
            <a:off x="6948360" y="256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усть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сходный уровень богатства индив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ую стоимость, равную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ндивиду могут принести все комбинаци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ru-RU" sz="28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удовлетворяющие условию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2647800" y="3500280"/>
                <a:ext cx="3851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6"/>
              <p:cNvSpPr txBox="1"/>
              <p:nvPr/>
            </p:nvSpPr>
            <p:spPr>
              <a:xfrm>
                <a:off x="3011400" y="4776840"/>
                <a:ext cx="3081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8 Бюджетные ограничен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9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Arc 12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3639960" y="530064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Arc 16"/>
          <p:cNvSpPr/>
          <p:nvPr/>
        </p:nvSpPr>
        <p:spPr>
          <a:xfrm rot="16518000">
            <a:off x="4428720" y="566208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971640" y="342900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2268360" y="3429000"/>
            <a:ext cx="0" cy="28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1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3"/>
          <p:cNvSpPr/>
          <p:nvPr/>
        </p:nvSpPr>
        <p:spPr>
          <a:xfrm flipH="1">
            <a:off x="971640" y="501336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3924360" y="501336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2195640" y="299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385272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493236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334800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1763640" y="62946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5003640" y="2565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устойчив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35"/>
          <p:cNvSpPr/>
          <p:nvPr/>
        </p:nvSpPr>
        <p:spPr>
          <a:xfrm flipH="1" flipV="1">
            <a:off x="4571640" y="2781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179280" y="32846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Text Box 37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Text Box 38"/>
          <p:cNvSpPr/>
          <p:nvPr/>
        </p:nvSpPr>
        <p:spPr>
          <a:xfrm>
            <a:off x="179280" y="479736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Text Box 39"/>
          <p:cNvSpPr/>
          <p:nvPr/>
        </p:nvSpPr>
        <p:spPr>
          <a:xfrm>
            <a:off x="277344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Text Box 40"/>
          <p:cNvSpPr/>
          <p:nvPr/>
        </p:nvSpPr>
        <p:spPr>
          <a:xfrm>
            <a:off x="3203640" y="4916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Text Box 41"/>
          <p:cNvSpPr/>
          <p:nvPr/>
        </p:nvSpPr>
        <p:spPr>
          <a:xfrm>
            <a:off x="5506920" y="51991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ожидаемой стоим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42"/>
          <p:cNvSpPr/>
          <p:nvPr/>
        </p:nvSpPr>
        <p:spPr>
          <a:xfrm flipH="1">
            <a:off x="4932000" y="5661000"/>
            <a:ext cx="64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43"/>
          <p:cNvSpPr/>
          <p:nvPr/>
        </p:nvSpPr>
        <p:spPr>
          <a:xfrm>
            <a:off x="971640" y="1700280"/>
            <a:ext cx="4968720" cy="4608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Text Box 44"/>
          <p:cNvSpPr/>
          <p:nvPr/>
        </p:nvSpPr>
        <p:spPr>
          <a:xfrm>
            <a:off x="5867280" y="5877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1042920" y="148428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059280" y="32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4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6300720" y="630864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971640" y="3357720"/>
            <a:ext cx="172872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Arc 9"/>
          <p:cNvSpPr/>
          <p:nvPr/>
        </p:nvSpPr>
        <p:spPr>
          <a:xfrm flipV="1" rot="16993200">
            <a:off x="6666480" y="4586400"/>
            <a:ext cx="1368360" cy="149976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99760"/>
              <a:gd name="textAreaBottom" fmla="*/ 1500480 h 149976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Arc 10"/>
          <p:cNvSpPr/>
          <p:nvPr/>
        </p:nvSpPr>
        <p:spPr>
          <a:xfrm flipV="1" rot="5911200">
            <a:off x="3293640" y="228816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Arc 11"/>
          <p:cNvSpPr/>
          <p:nvPr/>
        </p:nvSpPr>
        <p:spPr>
          <a:xfrm flipV="1" rot="16392000">
            <a:off x="6793920" y="4110120"/>
            <a:ext cx="1517760" cy="1866600"/>
          </a:xfrm>
          <a:custGeom>
            <a:avLst/>
            <a:gdLst>
              <a:gd name="textAreaLeft" fmla="*/ 0 w 1517760"/>
              <a:gd name="textAreaRight" fmla="*/ 1518120 w 1517760"/>
              <a:gd name="textAreaTop" fmla="*/ -360 h 1866600"/>
              <a:gd name="textAreaBottom" fmla="*/ 1866600 h 1866600"/>
            </a:gdLst>
            <a:ahLst/>
            <a:rect l="textAreaLeft" t="textAreaTop" r="textAreaRight" b="textAreaBottom"/>
            <a:pathLst>
              <a:path fill="none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</a:path>
              <a:path stroke="0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  <a:lnTo>
                  <a:pt x="2350" y="21600"/>
                </a:lnTo>
                <a:lnTo>
                  <a:pt x="0" y="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9 Оптимальный выбор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53128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629080" y="54928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30360" y="5479920"/>
                <a:ext cx="520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2" name="Text Box 28"/>
          <p:cNvSpPr/>
          <p:nvPr/>
        </p:nvSpPr>
        <p:spPr>
          <a:xfrm>
            <a:off x="5726160" y="5157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5724360" y="4797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485928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Arc 31"/>
          <p:cNvSpPr/>
          <p:nvPr/>
        </p:nvSpPr>
        <p:spPr>
          <a:xfrm flipV="1" rot="16392000">
            <a:off x="6541560" y="3887640"/>
            <a:ext cx="2222640" cy="2429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2429280"/>
              <a:gd name="textAreaBottom" fmla="*/ 2429280 h 2429280"/>
            </a:gdLst>
            <a:ahLst/>
            <a:rect l="textAreaLeft" t="textAreaTop" r="textAreaRight" b="textAreaBottom"/>
            <a:pathLst>
              <a:path fill="none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</a:path>
              <a:path stroke="0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  <a:lnTo>
                  <a:pt x="46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Text Box 32"/>
          <p:cNvSpPr/>
          <p:nvPr/>
        </p:nvSpPr>
        <p:spPr>
          <a:xfrm>
            <a:off x="6372360" y="4292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Text Box 33"/>
          <p:cNvSpPr/>
          <p:nvPr/>
        </p:nvSpPr>
        <p:spPr>
          <a:xfrm>
            <a:off x="630072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Text Box 34"/>
          <p:cNvSpPr/>
          <p:nvPr/>
        </p:nvSpPr>
        <p:spPr>
          <a:xfrm>
            <a:off x="630252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Arc 35"/>
          <p:cNvSpPr/>
          <p:nvPr/>
        </p:nvSpPr>
        <p:spPr>
          <a:xfrm rot="2215800">
            <a:off x="10800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611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341964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Arc 38"/>
          <p:cNvSpPr/>
          <p:nvPr/>
        </p:nvSpPr>
        <p:spPr>
          <a:xfrm rot="2215800">
            <a:off x="2903400" y="553572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9"/>
              <p:cNvSpPr txBox="1"/>
              <p:nvPr/>
            </p:nvSpPr>
            <p:spPr>
              <a:xfrm>
                <a:off x="441180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40"/>
          <p:cNvSpPr/>
          <p:nvPr/>
        </p:nvSpPr>
        <p:spPr>
          <a:xfrm>
            <a:off x="3419640" y="3068640"/>
            <a:ext cx="2304720" cy="2519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Arc 41"/>
          <p:cNvSpPr/>
          <p:nvPr/>
        </p:nvSpPr>
        <p:spPr>
          <a:xfrm flipV="1" rot="5911200">
            <a:off x="3254400" y="2571480"/>
            <a:ext cx="3665520" cy="194796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947960"/>
              <a:gd name="textAreaBottom" fmla="*/ 1947960 h 1947960"/>
            </a:gdLst>
            <a:ahLst/>
            <a:rect l="textAreaLeft" t="textAreaTop" r="textAreaRight" b="textAreaBottom"/>
            <a:pathLst>
              <a:path fill="none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</a:path>
              <a:path stroke="0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292720" y="5419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43"/>
          <p:cNvSpPr/>
          <p:nvPr/>
        </p:nvSpPr>
        <p:spPr>
          <a:xfrm flipV="1">
            <a:off x="6299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Arc 44"/>
          <p:cNvSpPr/>
          <p:nvPr/>
        </p:nvSpPr>
        <p:spPr>
          <a:xfrm rot="2215800">
            <a:off x="5721480" y="5570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5"/>
              <p:cNvSpPr txBox="1"/>
              <p:nvPr/>
            </p:nvSpPr>
            <p:spPr>
              <a:xfrm>
                <a:off x="714708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Line 46"/>
          <p:cNvSpPr/>
          <p:nvPr/>
        </p:nvSpPr>
        <p:spPr>
          <a:xfrm>
            <a:off x="6299280" y="3141720"/>
            <a:ext cx="2520720" cy="3166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Text Box 47"/>
          <p:cNvSpPr/>
          <p:nvPr/>
        </p:nvSpPr>
        <p:spPr>
          <a:xfrm>
            <a:off x="8101080" y="5734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Text Box 48"/>
          <p:cNvSpPr/>
          <p:nvPr/>
        </p:nvSpPr>
        <p:spPr>
          <a:xfrm>
            <a:off x="7453440" y="4987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8750160" y="592452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48"/>
          <p:cNvSpPr/>
          <p:nvPr/>
        </p:nvSpPr>
        <p:spPr>
          <a:xfrm flipH="1">
            <a:off x="971280" y="494172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1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 Выбор не склонного к риску индивида в условиях справедливой и несправедливой игры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Line 22"/>
          <p:cNvSpPr/>
          <p:nvPr/>
        </p:nvSpPr>
        <p:spPr>
          <a:xfrm>
            <a:off x="4211640" y="4941720"/>
            <a:ext cx="0" cy="1366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Text Box 24"/>
          <p:cNvSpPr/>
          <p:nvPr/>
        </p:nvSpPr>
        <p:spPr>
          <a:xfrm>
            <a:off x="414036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3780000" y="62946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179280" y="46530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971640" y="3645000"/>
            <a:ext cx="6696000" cy="26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0"/>
          <p:cNvSpPr/>
          <p:nvPr/>
        </p:nvSpPr>
        <p:spPr>
          <a:xfrm>
            <a:off x="7236000" y="57340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41"/>
          <p:cNvSpPr/>
          <p:nvPr/>
        </p:nvSpPr>
        <p:spPr>
          <a:xfrm>
            <a:off x="900000" y="3213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971280" y="420228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Arc 47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реш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в которой индивид сталкивается с необходимостью выб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случ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движение из которой по исходящим ветвям обусловлено случайным процесс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онечный узел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точка дерева решений, представляющая конечный исход, связываемый с данной ветвью дерева реш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1979640" y="198900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Line 6"/>
          <p:cNvSpPr/>
          <p:nvPr/>
        </p:nvSpPr>
        <p:spPr>
          <a:xfrm flipV="1">
            <a:off x="1403280" y="2276280"/>
            <a:ext cx="647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Line 7"/>
          <p:cNvSpPr/>
          <p:nvPr/>
        </p:nvSpPr>
        <p:spPr>
          <a:xfrm flipV="1">
            <a:off x="2195640" y="1052280"/>
            <a:ext cx="50472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2268360" y="220500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2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и максимизация полезност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255600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2411280" y="1341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70036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060720" y="2467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3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0" name="Text Box 24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6012000" y="83664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6300720" y="17002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f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4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6084720" y="3789360"/>
            <a:ext cx="289080" cy="223200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6372360" y="462744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g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39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1763640" y="234936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5"/>
          <p:cNvSpPr/>
          <p:nvPr/>
        </p:nvSpPr>
        <p:spPr>
          <a:xfrm flipV="1">
            <a:off x="1403280" y="2637000"/>
            <a:ext cx="432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6"/>
          <p:cNvSpPr/>
          <p:nvPr/>
        </p:nvSpPr>
        <p:spPr>
          <a:xfrm flipV="1">
            <a:off x="1979640" y="1699920"/>
            <a:ext cx="36036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050920" y="2565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с последовательным принятием решений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Text Box 15"/>
          <p:cNvSpPr/>
          <p:nvPr/>
        </p:nvSpPr>
        <p:spPr>
          <a:xfrm>
            <a:off x="241128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2124000" y="18194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2843280" y="523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2843280" y="2827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7" name="Text Box 22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2124000" y="1268280"/>
            <a:ext cx="4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Line 29"/>
          <p:cNvSpPr/>
          <p:nvPr/>
        </p:nvSpPr>
        <p:spPr>
          <a:xfrm flipV="1">
            <a:off x="2557440" y="764640"/>
            <a:ext cx="358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2556000" y="1557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3348000" y="17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0" y="103320"/>
            <a:ext cx="914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Ценность полной информ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разность между ожидаемыми ценностями выбора при наличии и отсутствии полной информ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7640" y="227808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аблица 2.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Ожидаемая прибы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8000" y="3116160"/>
          <a:ext cx="8924760" cy="2835360"/>
        </p:xfrm>
        <a:graphic>
          <a:graphicData uri="http://schemas.openxmlformats.org/drawingml/2006/table">
            <a:tbl>
              <a:tblPr/>
              <a:tblGrid>
                <a:gridCol w="1942920"/>
                <a:gridCol w="2327400"/>
                <a:gridCol w="2327400"/>
                <a:gridCol w="23270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жидаемая прибыл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012000" y="1484280"/>
                <a:ext cx="163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AutoShape 4"/>
          <p:cNvSpPr/>
          <p:nvPr/>
        </p:nvSpPr>
        <p:spPr>
          <a:xfrm>
            <a:off x="539640" y="981000"/>
            <a:ext cx="5184720" cy="1513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не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4427640" y="3205080"/>
                <a:ext cx="4518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395280" y="2708280"/>
            <a:ext cx="3887640" cy="216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611280" y="5011560"/>
            <a:ext cx="3673440" cy="1081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5"/>
              <p:cNvSpPr txBox="1"/>
              <p:nvPr/>
            </p:nvSpPr>
            <p:spPr>
              <a:xfrm>
                <a:off x="4500720" y="5275440"/>
                <a:ext cx="4263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Уклонение от уплаты налог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не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 при совместном несении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814400" y="3360600"/>
                <a:ext cx="5521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453960" y="4967280"/>
                <a:ext cx="833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словие эффективности совместного несения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1371600" y="4508640"/>
                <a:ext cx="6405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932040" y="2133720"/>
                <a:ext cx="75466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3 Оптимальное объединение рисков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3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Line 19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21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22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108000" y="3716280"/>
            <a:ext cx="104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2232000" y="629460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Arc 48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Arc 49"/>
          <p:cNvSpPr/>
          <p:nvPr/>
        </p:nvSpPr>
        <p:spPr>
          <a:xfrm flipV="1" rot="7012200">
            <a:off x="1906920" y="475560"/>
            <a:ext cx="4969080" cy="4104000"/>
          </a:xfrm>
          <a:custGeom>
            <a:avLst/>
            <a:gdLst>
              <a:gd name="textAreaLeft" fmla="*/ 0 w 4969080"/>
              <a:gd name="textAreaRight" fmla="*/ 4969440 w 4969080"/>
              <a:gd name="textAreaTop" fmla="*/ 360 h 4104000"/>
              <a:gd name="textAreaBottom" fmla="*/ 4104720 h 410400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8360" y="522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5219640" y="4941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Эквивалент увереннос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ксимальная сумма, которую индивид готов заплатить за полное страховое покрытие в размере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2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8"/>
              <p:cNvSpPr txBox="1"/>
              <p:nvPr/>
            </p:nvSpPr>
            <p:spPr>
              <a:xfrm>
                <a:off x="995400" y="2928960"/>
                <a:ext cx="7161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9"/>
              <p:cNvSpPr txBox="1"/>
              <p:nvPr/>
            </p:nvSpPr>
            <p:spPr>
              <a:xfrm>
                <a:off x="3138480" y="5376960"/>
                <a:ext cx="2825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4 Спрос индивида на страхование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Arc 10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Line 16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108000" y="3716280"/>
            <a:ext cx="1042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Text Box 21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1979640" y="62946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)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Arc 26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Arc 27"/>
          <p:cNvSpPr/>
          <p:nvPr/>
        </p:nvSpPr>
        <p:spPr>
          <a:xfrm flipV="1" rot="6333000">
            <a:off x="1252440" y="-36360"/>
            <a:ext cx="5472000" cy="4751640"/>
          </a:xfrm>
          <a:custGeom>
            <a:avLst/>
            <a:gdLst>
              <a:gd name="textAreaLeft" fmla="*/ 0 w 5472000"/>
              <a:gd name="textAreaRight" fmla="*/ 5472360 w 5472000"/>
              <a:gd name="textAreaTop" fmla="*/ 0 h 4751640"/>
              <a:gd name="textAreaBottom" fmla="*/ 4751640 h 475164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55818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2700360" y="4581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2266920" y="57895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Если возможно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n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исходов какого-либо события, сумма вероятностей реализации этих исходов равна 1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стоимость (математическое ожидание)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16440" y="2832120"/>
                <a:ext cx="1282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882720" y="5040360"/>
                <a:ext cx="73911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исперсия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тандартное отклонение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Чему равны ожидаемая стоимость, дисперсия и стандартное отклонение, если существует только два возможных исхода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100, 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200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; и их вероятности, соответственно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4 и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6?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930400" y="1557360"/>
                <a:ext cx="32259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3635280" y="317988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442764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105408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Ожидаемая стоимость и дисперс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400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2400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539640" y="2744640"/>
            <a:ext cx="3745080" cy="3421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268" h="2155">
                <a:moveTo>
                  <a:pt x="0" y="2155"/>
                </a:moveTo>
                <a:cubicBezTo>
                  <a:pt x="366" y="1924"/>
                  <a:pt x="733" y="1693"/>
                  <a:pt x="952" y="1338"/>
                </a:cubicBezTo>
                <a:cubicBezTo>
                  <a:pt x="1171" y="983"/>
                  <a:pt x="1179" y="46"/>
                  <a:pt x="1315" y="23"/>
                </a:cubicBezTo>
                <a:cubicBezTo>
                  <a:pt x="1451" y="0"/>
                  <a:pt x="1610" y="877"/>
                  <a:pt x="1769" y="1202"/>
                </a:cubicBezTo>
                <a:cubicBezTo>
                  <a:pt x="1928" y="1527"/>
                  <a:pt x="2185" y="1845"/>
                  <a:pt x="2268" y="1973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29"/>
          <p:cNvSpPr/>
          <p:nvPr/>
        </p:nvSpPr>
        <p:spPr>
          <a:xfrm flipV="1">
            <a:off x="169236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47636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485928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486108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747280" y="629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86108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5"/>
          <p:cNvSpPr/>
          <p:nvPr/>
        </p:nvSpPr>
        <p:spPr>
          <a:xfrm flipV="1">
            <a:off x="766764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7451640" y="629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4932360" y="2324160"/>
            <a:ext cx="3743280" cy="376884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3768840"/>
              <a:gd name="textAreaBottom" fmla="*/ 3769200 h 3768840"/>
            </a:gdLst>
            <a:ahLst/>
            <a:rect l="textAreaLeft" t="textAreaTop" r="textAreaRight" b="textAreaBottom"/>
            <a:pathLst>
              <a:path w="2358" h="2374">
                <a:moveTo>
                  <a:pt x="0" y="2374"/>
                </a:moveTo>
                <a:cubicBezTo>
                  <a:pt x="174" y="2283"/>
                  <a:pt x="348" y="2192"/>
                  <a:pt x="499" y="1875"/>
                </a:cubicBezTo>
                <a:cubicBezTo>
                  <a:pt x="650" y="1558"/>
                  <a:pt x="763" y="741"/>
                  <a:pt x="907" y="469"/>
                </a:cubicBezTo>
                <a:cubicBezTo>
                  <a:pt x="1051" y="197"/>
                  <a:pt x="1187" y="0"/>
                  <a:pt x="1361" y="242"/>
                </a:cubicBezTo>
                <a:cubicBezTo>
                  <a:pt x="1535" y="484"/>
                  <a:pt x="1784" y="1566"/>
                  <a:pt x="1950" y="1921"/>
                </a:cubicBezTo>
                <a:cubicBezTo>
                  <a:pt x="2116" y="2276"/>
                  <a:pt x="2237" y="2325"/>
                  <a:pt x="2358" y="2374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1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Актуарно справедливые игры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3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077840" y="3679920"/>
                <a:ext cx="6832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833400" y="4713120"/>
                <a:ext cx="7251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8:58:50Z</dcterms:created>
  <dc:creator>Grisha</dc:creator>
  <dc:description/>
  <dc:language>en-US</dc:language>
  <cp:lastModifiedBy>LEGION</cp:lastModifiedBy>
  <dcterms:modified xsi:type="dcterms:W3CDTF">2016-01-04T08:17:41Z</dcterms:modified>
  <cp:revision>22</cp:revision>
  <dc:subject/>
  <dc:title>Прикладная экономика</dc:title>
</cp:coreProperties>
</file>