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8A4C-3DF1-44DC-A5C5-497A7061DC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ушина Е.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к по обществознанию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8 класс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читель истории и обществозн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епушина Е.Ю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рераспределение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равенств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врожд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й объ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ая успешность 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ить деньги в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 в чул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владельц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чи за гор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земельного уча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Моск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в насл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или трехколе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осипед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ешать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ке или вы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у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три года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 неравенства 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ичин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равен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ход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ценнос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е врожден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пособност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ый объе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Фактор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азная успешность и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поль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ложить деньги в акци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хран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а в чулке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ыть владельце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ачи за город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ли земельного участк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центре Москвы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лучить в наследство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м или трехколесный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елосипед7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меть решать задач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физике или выучить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аблицу умнож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За три года?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Рейтинг профессий по результатам общественного мне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цильный коэффи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сты считают оптималь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от 5 до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олько децильный коэффици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 1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ане появляются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циальных беспоряд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ецильный коэффициен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экономисты считают оптимальным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оотношение от 5 до 7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к только децильный коэффициент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игает 10,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стране появляются услов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ля социальных беспорядков.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чередь безработных за тарелкой суп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рабь награбленно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Грабь награбленное!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детны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сио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и, потеря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миль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чему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удент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ногодетные семь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енсионер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динокие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атер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емьи, потерявши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ормильц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езработны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нвалиды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плат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платит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Кто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принимае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ешения?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инамика средней зарплаты по России в долларах и в рублях в 1996—2006 годах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ст М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Рост МРОТ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71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Стоимость потребительской корзины: данные за 3 года</a:t>
            </a:r>
            <a:br>
              <a:rPr sz="1200"/>
            </a:b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(продукты ,весь набор товаров и услуг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житочный минимум (Иркутская область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4 710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ризнаки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лищны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медицинского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орогого автомоб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ним окружа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Главные признаки богатства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Качество жилищных услови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овести отпуск за границей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Уровень медицинского обслужи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Большая уверенность в завтрашнем дне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аличие дорогого автомобиля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озможность иметь интересную работу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тношение к ним окружающи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иллионеры России 200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OCR A Extended"/>
              </a:rPr>
              <a:t>Миллионеры России 2008 г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В июне 2010 года среднемесячная начисленная заработная плата составляла 21597 руб.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о данным на март 2010 года, средняя начисленная заработная плата в России составляла 20383 руб/мес, в том числе в: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обрабатывающих производствах            1829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машин и оборудования     19057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нефтепродуктов                 4522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пищевых продуктов и табака    1698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текстильном и швейном производстве   10074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производстве кожи, изделий из кожи и производство обуви                                                              1061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химическом производстве                          21956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металлургическом производстве              23258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                  39742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топливно-энергетических полезных 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ископаемых                                                      47559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OCR A Extended"/>
              </a:rPr>
              <a:t>добыче полезных ископаемых (кроме топливно-энергетических)                                        25361 руб/мес;</a:t>
            </a: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149-E6AC-4339-8D22-D2E2F3F9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C39-11B8-4163-ADC0-8C2476FF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31F-F54E-4341-A871-3895F3B6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2C0-D0FF-446F-AEF9-A112A039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5DD-76BF-4F9E-BCF2-444BCAFF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E2D5-DFC4-4D65-8440-95C29FEB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5319-CB2B-48D8-8155-93BF162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107E-F649-4EDF-8926-D2C178E6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3276-43E9-444B-8E2C-6B0D56AA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CC3B-F79A-4E11-91CE-1A5A60F7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6998-757D-4874-AC60-7210ACB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2C9-3EDC-4103-ADBC-3EF66B17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EB32-650D-4A6A-8B2F-7F03187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70FE-C849-4308-8506-0641DAAA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AA4F-CD2D-4B47-BB85-8986DAC6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C1BA-B10A-4FD8-95CC-05B41279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ABE-2DAA-4418-94FA-8D927E4E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732-B219-4DB0-B364-76ACDB51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190-8A67-4395-97B2-2BD7FB31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81C-3963-460F-985E-E02E9711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D61-7028-43AF-AE6D-86368E43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B48-399C-40B4-A45A-E56DFC9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5BD-D198-4755-A5EC-BC736EA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4CA-7D91-4B15-AD49-AD0867F4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F156-3F12-428B-9BBC-7B57ABCE030F}" type="slidenum">
              <a:rPr b="0" lang="ru-RU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8569-5E6B-42C4-818E-7234AFD3764C}" type="slidenum">
              <a:rPr b="0" lang="ru-RU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4471920" cy="1862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рок по обществознанию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8 класс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учитель истории и обществозн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OCR A Extended"/>
              </a:rPr>
              <a:t>Степушина Е.Ю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OCR A Extended"/>
              </a:rPr>
              <a:t>Перераспределение доходов</a:t>
            </a: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08000" y="765000"/>
          <a:ext cx="9036000" cy="5680080"/>
        </p:xfrm>
        <a:graphic>
          <a:graphicData uri="http://schemas.openxmlformats.org/drawingml/2006/table">
            <a:tbl>
              <a:tblPr/>
              <a:tblGrid>
                <a:gridCol w="1079280"/>
                <a:gridCol w="1729080"/>
                <a:gridCol w="1368360"/>
                <a:gridCol w="1727280"/>
                <a:gridCol w="1512720"/>
                <a:gridCol w="1619280"/>
              </a:tblGrid>
              <a:tr h="19220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едушевые доходы населе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ий размер назначенных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редняя номинальная начисленная зарплата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депутатов Госдум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Зарплата федерал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ых министро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023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364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 55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8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0674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9 94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2 72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0 727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0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2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  <a:tr h="16232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90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3 01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2 791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15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0 00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3cd74"/>
                    </a:solidFill>
                  </a:tcPr>
                </a:tc>
              </a:tr>
            </a:tbl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925040" cy="1311120"/>
          </a:xfrm>
          <a:prstGeom prst="rect">
            <a:avLst/>
          </a:prstGeom>
          <a:solidFill>
            <a:srgbClr val="fff9cf"/>
          </a:solidFill>
          <a:ln w="9360">
            <a:solidFill>
              <a:srgbClr val="f8fd1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Причины </a:t>
            </a: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неравенства</a:t>
            </a:r>
            <a:r>
              <a:rPr b="1" lang="ru-RU" sz="3200" spc="-1" strike="noStrike">
                <a:solidFill>
                  <a:srgbClr val="333399"/>
                </a:solidFill>
                <a:latin typeface="OCR A Extended"/>
              </a:rPr>
              <a:t> доходов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059280" y="2565360"/>
            <a:ext cx="2952720" cy="1943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Причины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неравенства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62139e"/>
                </a:solidFill>
                <a:latin typeface="Sylfaen"/>
              </a:rPr>
              <a:t>доходов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468360" y="1557360"/>
            <a:ext cx="2592360" cy="165744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ценнос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468360" y="4221000"/>
            <a:ext cx="3024000" cy="1727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е врожден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пособност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508720" y="4221000"/>
            <a:ext cx="2881080" cy="17290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ый объе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Факторов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роизводств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5867280" y="1700280"/>
            <a:ext cx="2881440" cy="1800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Разная успешность их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спользова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56360" y="3068640"/>
            <a:ext cx="2987640" cy="1008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ложить деньги в акци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хран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а в чулке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651640" y="5661000"/>
            <a:ext cx="3492360" cy="119700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ыть владельцем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ачи за городом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ли земельного участк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 центре Москвы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3213000"/>
            <a:ext cx="2843280" cy="93672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лучить в наследство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Дом или трехколесный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велосипед7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11280" y="5705640"/>
            <a:ext cx="3386160" cy="1152360"/>
          </a:xfrm>
          <a:prstGeom prst="rect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Уметь решать задач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о физике или выучить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таблицу умножен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За три года?</a:t>
            </a:r>
            <a:r>
              <a:rPr b="0" lang="ru-RU" sz="1800" spc="-1" strike="noStrike">
                <a:solidFill>
                  <a:srgbClr val="cc9900"/>
                </a:solidFill>
                <a:latin typeface="OCR A Extended"/>
              </a:rPr>
              <a:t>?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9797"/>
                </a:solidFill>
                <a:latin typeface="Sylfaen"/>
              </a:rPr>
              <a:t>Рейтинг профессий по результатам общественного мнения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836640"/>
          <a:ext cx="8675640" cy="6089760"/>
        </p:xfrm>
        <a:graphic>
          <a:graphicData uri="http://schemas.openxmlformats.org/drawingml/2006/table">
            <a:tbl>
              <a:tblPr/>
              <a:tblGrid>
                <a:gridCol w="4319640"/>
                <a:gridCol w="4356000"/>
              </a:tblGrid>
              <a:tr h="1088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.Банкир                            39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.Преступный авторитет 28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.Звезда эстрады               22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Депутат                           21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.Министр                        15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.Юрист                             14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.Губернатор                     13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.Предприниматель        13, 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.Политик                         11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0.Проститутка                   9,1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1.Фотомодель                   8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.Имиджмейкер              3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.Врач                               3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4.Священник                     2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5.Артист                             2,0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6.Журналист                     1,7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.Фермер                            1,3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8.Милиционер                  1,2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9.Сотрудник спецслужб 1,2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.Нищий                            1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.Учитель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.Ученый                           0,8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3.Писатель                         0,6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4.Спортсмен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.Квалифицированный рабочий                                0,5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6.Офицер армии               0,1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067600" cy="2205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 в России(соотношение 10% богатых к 10% бедных)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708280"/>
          <a:ext cx="7924680" cy="3529080"/>
        </p:xfrm>
        <a:graphic>
          <a:graphicData uri="http://schemas.openxmlformats.org/drawingml/2006/table">
            <a:tbl>
              <a:tblPr/>
              <a:tblGrid>
                <a:gridCol w="1133280"/>
                <a:gridCol w="1130400"/>
                <a:gridCol w="1133280"/>
                <a:gridCol w="1130400"/>
                <a:gridCol w="1133640"/>
                <a:gridCol w="1130040"/>
                <a:gridCol w="113364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998</a:t>
                      </a: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5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3,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5,2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16,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16,7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24680" cy="1052640"/>
          </a:xfrm>
          <a:prstGeom prst="rect">
            <a:avLst/>
          </a:prstGeom>
          <a:solidFill>
            <a:srgbClr val="b5eb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3130"/>
                </a:solidFill>
                <a:latin typeface="OCR A Extended"/>
              </a:rPr>
              <a:t>Децильный коэффициент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700280"/>
          <a:ext cx="8964720" cy="244944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5440"/>
                <a:gridCol w="1494000"/>
                <a:gridCol w="1493640"/>
                <a:gridCol w="1494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74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5-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39" name="Oval 26"/>
          <p:cNvSpPr/>
          <p:nvPr/>
        </p:nvSpPr>
        <p:spPr>
          <a:xfrm>
            <a:off x="1258920" y="3284640"/>
            <a:ext cx="7273800" cy="287964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экономисты считают оптимальным 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3130"/>
                </a:solidFill>
                <a:latin typeface="OCR A Extended"/>
              </a:rPr>
              <a:t>соотношение от 5 до 7.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1835280" y="4869000"/>
            <a:ext cx="6192720" cy="1800000"/>
          </a:xfrm>
          <a:prstGeom prst="ellipse">
            <a:avLst/>
          </a:prstGeom>
          <a:solidFill>
            <a:srgbClr val="f8fd1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Как только децильный коэффициент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остигает 10,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в стране появляются условия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a313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 </a:t>
            </a: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для социальных беспорядков</a:t>
            </a:r>
            <a:r>
              <a:rPr b="0" lang="ru-RU" sz="1800" spc="-1" strike="noStrike">
                <a:solidFill>
                  <a:srgbClr val="0a3130"/>
                </a:solidFill>
                <a:latin typeface="OCR A Extended"/>
              </a:rPr>
              <a:t>.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47" name="Picture 4" descr="%5bIS9NI_3-1%5d_%5bPF_04-r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343400" y="0"/>
            <a:ext cx="3733920" cy="2297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fff9c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Очередь безработных за тарелкой супа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Рисунок5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308640"/>
          </a:xfrm>
          <a:prstGeom prst="rect">
            <a:avLst/>
          </a:prstGeom>
          <a:ln w="76320">
            <a:solidFill>
              <a:srgbClr val="fff9cf"/>
            </a:solidFill>
            <a:miter/>
          </a:ln>
        </p:spPr>
      </p:pic>
      <p:sp>
        <p:nvSpPr>
          <p:cNvPr id="151" name="Rectangle 3"/>
          <p:cNvSpPr/>
          <p:nvPr/>
        </p:nvSpPr>
        <p:spPr>
          <a:xfrm>
            <a:off x="1908000" y="765000"/>
            <a:ext cx="3024360" cy="122400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OCR A Extended"/>
              </a:rPr>
              <a:t>Грабь награбленное</a:t>
            </a:r>
            <a:r>
              <a:rPr b="0" lang="ru-RU" sz="2400" spc="-1" strike="noStrike">
                <a:solidFill>
                  <a:srgbClr val="333399"/>
                </a:solidFill>
                <a:latin typeface="Baskerville Old Face"/>
              </a:rPr>
              <a:t>!</a:t>
            </a:r>
            <a:endParaRPr b="0" lang="en-US" sz="24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4"/>
          <p:cNvSpPr/>
          <p:nvPr/>
        </p:nvSpPr>
        <p:spPr>
          <a:xfrm>
            <a:off x="2987640" y="2205000"/>
            <a:ext cx="3384720" cy="25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139e"/>
                </a:solidFill>
                <a:latin typeface="OCR A Extended"/>
              </a:rPr>
              <a:t>Почему?</a:t>
            </a:r>
            <a:endParaRPr b="0" lang="en-US" sz="32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258920" y="1413000"/>
            <a:ext cx="2521080" cy="7189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тудент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95280" y="3213000"/>
            <a:ext cx="230364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ногодетные семь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684360" y="4869000"/>
            <a:ext cx="2519280" cy="86364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Пенсионер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508720" y="1341360"/>
            <a:ext cx="309708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Одинокие 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матери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588000" y="2997360"/>
            <a:ext cx="2556000" cy="936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Семьи, потерявши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кормильца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300720" y="4581360"/>
            <a:ext cx="2448000" cy="93672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Безработные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780000" y="5300640"/>
            <a:ext cx="2160360" cy="792360"/>
          </a:xfrm>
          <a:prstGeom prst="ellipse">
            <a:avLst/>
          </a:prstGeom>
          <a:solidFill>
            <a:srgbClr val="e3cd74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139e"/>
                </a:solidFill>
                <a:latin typeface="OCR A Extended"/>
              </a:rPr>
              <a:t>Инвалиды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556000" y="2060640"/>
            <a:ext cx="12952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627280" y="3789360"/>
            <a:ext cx="8650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843280" y="4220640"/>
            <a:ext cx="865080" cy="863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4716360" y="4365720"/>
            <a:ext cx="0" cy="1224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5" name="Line 16"/>
          <p:cNvSpPr/>
          <p:nvPr/>
        </p:nvSpPr>
        <p:spPr>
          <a:xfrm flipH="1" flipV="1">
            <a:off x="5508720" y="4365360"/>
            <a:ext cx="1511280" cy="43164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6011640" y="3645000"/>
            <a:ext cx="93636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5363640" y="1916280"/>
            <a:ext cx="1008360" cy="79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M4502"/>
          <p:cNvPicPr/>
          <p:nvPr/>
        </p:nvPicPr>
        <p:blipFill>
          <a:blip r:embed="rId1"/>
          <a:stretch/>
        </p:blipFill>
        <p:spPr>
          <a:xfrm>
            <a:off x="971640" y="2708280"/>
            <a:ext cx="3614760" cy="3529080"/>
          </a:xfrm>
          <a:prstGeom prst="rect">
            <a:avLst/>
          </a:prstGeom>
          <a:ln w="0">
            <a:noFill/>
          </a:ln>
        </p:spPr>
      </p:pic>
      <p:sp>
        <p:nvSpPr>
          <p:cNvPr id="170" name="Oval 8"/>
          <p:cNvSpPr/>
          <p:nvPr/>
        </p:nvSpPr>
        <p:spPr>
          <a:xfrm>
            <a:off x="1042920" y="1341360"/>
            <a:ext cx="3240000" cy="1224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OCR A Extended"/>
              </a:rPr>
              <a:t>Кто платит?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6084720" y="1773360"/>
            <a:ext cx="2087640" cy="100800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6012000" y="3213000"/>
            <a:ext cx="2087280" cy="93672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6084720" y="4581360"/>
            <a:ext cx="2232360" cy="1008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40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996600"/>
              </a:solidFill>
              <a:latin typeface="OCR A Extended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LOADS_"/>
          <p:cNvPicPr/>
          <p:nvPr/>
        </p:nvPicPr>
        <p:blipFill>
          <a:blip r:embed="rId1"/>
          <a:stretch/>
        </p:blipFill>
        <p:spPr>
          <a:xfrm>
            <a:off x="4427640" y="2565360"/>
            <a:ext cx="4105080" cy="38880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55640" y="1557360"/>
            <a:ext cx="3457440" cy="237636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Кто 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принимает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OCR A Extended"/>
              </a:rPr>
              <a:t>решения</a:t>
            </a:r>
            <a:r>
              <a:rPr b="0" lang="ru-RU" sz="3600" spc="-1" strike="noStrike">
                <a:solidFill>
                  <a:srgbClr val="000000"/>
                </a:solidFill>
                <a:latin typeface="OCR A Extended"/>
              </a:rPr>
              <a:t>?</a:t>
            </a:r>
            <a:endParaRPr b="0" lang="en-US" sz="36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4007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askerville Old Face"/>
              </a:rPr>
              <a:t>Динамика средней зарплаты по России в долларах и в рублях в 1996—2006 годах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356000" y="3232080"/>
            <a:ext cx="5648400" cy="36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-252360" y="0"/>
            <a:ext cx="5183280" cy="3098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-468360" y="3284640"/>
            <a:ext cx="4896000" cy="308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4896000" cy="2755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9"/>
          <p:cNvSpPr/>
          <p:nvPr/>
        </p:nvSpPr>
        <p:spPr>
          <a:xfrm>
            <a:off x="4859280" y="333360"/>
            <a:ext cx="4032360" cy="360360"/>
          </a:xfrm>
          <a:prstGeom prst="rect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3130"/>
                </a:solidFill>
                <a:latin typeface="OCR A Extended"/>
              </a:rPr>
              <a:t>Рост МРОТ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44280"/>
          <a:ext cx="9144000" cy="6971040"/>
        </p:xfrm>
        <a:graphic>
          <a:graphicData uri="http://schemas.openxmlformats.org/drawingml/2006/table">
            <a:tbl>
              <a:tblPr/>
              <a:tblGrid>
                <a:gridCol w="3787920"/>
                <a:gridCol w="1722240"/>
                <a:gridCol w="1882800"/>
                <a:gridCol w="175104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Все населени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наш класс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ые %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  <a:tr h="9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Трудом праведным не наживешь палат каменных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едность - не порок, а несчасть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 - вода, пришла и ушла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Чем беднее, тем щедрее, чем богаче, тем скупее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чи едят калачи, да не спят ни днем, ни в ночи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гатством ума не купишь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 в деньгах счастье</a:t>
                      </a:r>
                      <a:r>
                        <a:rPr b="1" lang="ru-RU" sz="2400" spc="-1" strike="noStrike">
                          <a:solidFill>
                            <a:srgbClr val="219797"/>
                          </a:solidFill>
                          <a:latin typeface="Sylfaen"/>
                        </a:rPr>
                        <a:t> 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6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7,7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48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6,0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66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5,3 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5,7</a:t>
                      </a:r>
                      <a:r>
                        <a:rPr b="1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4,9</a:t>
                      </a:r>
                      <a:r>
                        <a:rPr b="0" lang="ru-RU" sz="3200" spc="-1" strike="noStrike">
                          <a:solidFill>
                            <a:srgbClr val="cc9900"/>
                          </a:solidFill>
                          <a:latin typeface="Sylfae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(72)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44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7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4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30,0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1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4,2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7,0 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0,5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3,9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3300"/>
                          </a:solidFill>
                          <a:uFillTx/>
                          <a:latin typeface="Sylfaen"/>
                        </a:rPr>
                        <a:t>83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8,6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82,8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5,9</a:t>
                      </a:r>
                      <a:r>
                        <a:rPr b="0" lang="ru-RU" sz="32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	</a:t>
                      </a:r>
                      <a:endParaRPr b="0" lang="en-US" sz="32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f8fd1f"/>
                    </a:solidFill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36360" y="0"/>
          <a:ext cx="8501040" cy="6546960"/>
        </p:xfrm>
        <a:graphic>
          <a:graphicData uri="http://schemas.openxmlformats.org/drawingml/2006/table">
            <a:tbl>
              <a:tblPr/>
              <a:tblGrid>
                <a:gridCol w="5113080"/>
                <a:gridCol w="1943280"/>
                <a:gridCol w="14446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Причины бедности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Наш  класс         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Европа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  <a:tr h="78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Длительная безработица           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выплаты з/п, задержка пенс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Семейные неурядицы, несчасть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Болезнь, инвалидность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Алкоголизм, наркоман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изкий уровень жизни их родителе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роживание в бедном регионе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тсутствие поддержки со сторон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достаток государственных пособий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Лень, неприспособленность к жизни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Sylfaen"/>
                        </a:rPr>
                        <a:t>1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аличие большого числа иждивенцев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Плохое образование, низкая квалификация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Они мигранты, беженцы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Нежелание менять привычный образ жизни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Им просто не везет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Baskerville Old Face"/>
                        </a:rPr>
                        <a:t>15</a:t>
                      </a: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OCR A Extende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OCR A Extended"/>
                        </a:rPr>
                        <a:t>             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4,0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-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26,7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3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57,1(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2,7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8,6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4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1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9,7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4,8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17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6,4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4,5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1,2(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46,8(1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5,0(6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36,8(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35,0(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5(9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3(12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0,1(10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Sylfaen"/>
                        </a:rPr>
                        <a:t>37,1(3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22,6(7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7,2(13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9999"/>
                          </a:solidFill>
                          <a:uFillTx/>
                          <a:latin typeface="Sylfaen"/>
                        </a:rPr>
                        <a:t>22,5(8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5,5(15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219797"/>
                          </a:solidFill>
                          <a:uFillTx/>
                          <a:latin typeface="Sylfaen"/>
                        </a:rPr>
                        <a:t>19,3(11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ylfaen"/>
                        </a:rPr>
                        <a:t>13,7 (14)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ed410"/>
                    </a:solidFill>
                  </a:tcPr>
                </a:tc>
              </a:tr>
            </a:tbl>
          </a:graphicData>
        </a:graphic>
      </p:graphicFrame>
      <p:sp>
        <p:nvSpPr>
          <p:cNvPr id="99" name="Line 25"/>
          <p:cNvSpPr/>
          <p:nvPr/>
        </p:nvSpPr>
        <p:spPr>
          <a:xfrm>
            <a:off x="3203640" y="404640"/>
            <a:ext cx="1224000" cy="432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3276720" y="404640"/>
            <a:ext cx="1439640" cy="38880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3348000" y="476280"/>
            <a:ext cx="1511280" cy="583236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4032360" cy="59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25040" cy="2158920"/>
          </a:xfrm>
          <a:prstGeom prst="rect">
            <a:avLst/>
          </a:prstGeom>
          <a:solidFill>
            <a:srgbClr val="f8fd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Стоимость потребительской корзины: данные за </a:t>
            </a:r>
            <a:r>
              <a:rPr b="1" lang="ru-RU" sz="3600" spc="-1" strike="noStrike">
                <a:solidFill>
                  <a:srgbClr val="0a3130"/>
                </a:solidFill>
                <a:latin typeface="Baskerville Old Face"/>
              </a:rPr>
              <a:t>3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 года</a:t>
            </a:r>
            <a:br>
              <a:rPr sz="3600"/>
            </a:b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(продукты</a:t>
            </a:r>
            <a:r>
              <a:rPr b="1" lang="ru-RU" sz="3600" spc="-1" strike="noStrike">
                <a:solidFill>
                  <a:srgbClr val="0a313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a3130"/>
                </a:solidFill>
                <a:latin typeface="OCR A Extended"/>
              </a:rPr>
              <a:t>,</a:t>
            </a:r>
            <a:r>
              <a:rPr b="1" lang="ru-RU" sz="3600" spc="-1" strike="noStrike">
                <a:solidFill>
                  <a:srgbClr val="62139e"/>
                </a:solidFill>
                <a:latin typeface="OCR A Extended"/>
              </a:rPr>
              <a:t>весь набор товаров и услуг)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08280"/>
          <a:ext cx="7924680" cy="29876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2139e"/>
                          </a:solidFill>
                          <a:latin typeface="Baskerville Old Fac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246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1801,95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421,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16,42 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334,12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31,01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292,01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2192,72</a:t>
                      </a: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8014,17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</a:tbl>
          </a:graphicData>
        </a:graphic>
      </p:graphicFrame>
      <p:sp>
        <p:nvSpPr>
          <p:cNvPr id="108" name="Oval 29"/>
          <p:cNvSpPr/>
          <p:nvPr/>
        </p:nvSpPr>
        <p:spPr>
          <a:xfrm>
            <a:off x="1763640" y="5373720"/>
            <a:ext cx="6408720" cy="1484280"/>
          </a:xfrm>
          <a:prstGeom prst="ellipse">
            <a:avLst/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3130"/>
                </a:solidFill>
                <a:latin typeface="Baskerville Old Face"/>
              </a:rPr>
              <a:t>Прожиточный минимум (Иркутская область)</a:t>
            </a:r>
            <a:endParaRPr b="0" lang="en-US" sz="2000" spc="-1" strike="noStrike">
              <a:solidFill>
                <a:srgbClr val="cc9900"/>
              </a:solidFill>
              <a:latin typeface="OCR A Extend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3130"/>
                </a:solidFill>
                <a:latin typeface="Baskerville Old Face"/>
              </a:rPr>
              <a:t>4 710 руб.</a:t>
            </a:r>
            <a:endParaRPr b="0" lang="en-US" sz="2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66120" cy="71928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OCR A Extended"/>
              </a:rPr>
              <a:t>Главные признаки богатства</a:t>
            </a:r>
            <a:endParaRPr b="0" lang="en-US" sz="36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Качество жилищных услови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овести отпуск за границей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Доступность приобретения дорогой мебели и бытовой техники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Уровень медицинского обслужи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для детей добиться в жизни намного большего, чем большинство их сверстников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и получения хорошего образовани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Большая уверенность в завтрашнем дн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и проведения досуга (посещение дорогостоящих дискотек, ресторанов и т.д.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Возможность приобретения недвижимости за рубежом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Наличие дорогого автомобиля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Возможность иметь интересную работу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OCR A Extended"/>
              </a:rPr>
              <a:t>Отношение к ним окружающих</a:t>
            </a: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OCR A Extend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OCR A Extended"/>
              </a:rPr>
              <a:t>Незащищенность от физического насилия и посягательств на их собственность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8607600"/>
        </p:xfrm>
        <a:graphic>
          <a:graphicData uri="http://schemas.openxmlformats.org/drawingml/2006/table">
            <a:tbl>
              <a:tblPr/>
              <a:tblGrid>
                <a:gridCol w="225360"/>
                <a:gridCol w="1913040"/>
                <a:gridCol w="1401840"/>
                <a:gridCol w="1326960"/>
                <a:gridCol w="4276800"/>
              </a:tblGrid>
              <a:tr h="11746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Имя</a:t>
                      </a:r>
                      <a:r>
                        <a:rPr b="1" lang="ru-RU" sz="24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$ млрд. </a:t>
                      </a:r>
                      <a:endParaRPr b="0" lang="en-US" sz="20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Оценка, млрд .руб .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a3130"/>
                          </a:solidFill>
                          <a:latin typeface="Baskerville Old Face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b5ebe5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5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Прохо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4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14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Друг моделей. Узник Куршевеля. Сноб. Одним словом, Global Russian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8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Роман Абрамович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3,9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408,4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Поклонник красоты модельера Дарьи Жуковой и акционер Evraz Group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5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Лис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7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6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елец заводов (НЛМК), газет («Газета»), пароходов (UCL Holding)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555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50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агит Алекпер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6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3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Начинал буровиком, теперь владеет пятой частью «Лукойла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167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6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улейман Керимов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7,5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220,3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Член Совета федерации, разбогатевший на инвестициях в акции </a:t>
                      </a: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1620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4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Михаил Фридман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6,1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Совладелец «Альфа-групп», не уживающийся с западными партнерами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 </a:t>
                      </a:r>
                      <a:endParaRPr b="0" lang="en-US" sz="2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  <a:tr h="102348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1961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Владимир Потанин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5,00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Baskerville Old Face"/>
                        </a:rPr>
                        <a:t>146,9</a:t>
                      </a:r>
                      <a:endParaRPr b="0" lang="en-US" sz="2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Baskerville Old Face"/>
                        </a:rPr>
                        <a:t>Лицо тандема 2П (Потанин – Прохоров). Теперь работает только на себя </a:t>
                      </a:r>
                      <a:endParaRPr b="0" lang="en-US" sz="1400" spc="-1" strike="noStrike">
                        <a:solidFill>
                          <a:srgbClr val="cc9900"/>
                        </a:solidFill>
                        <a:latin typeface="OCR A Extended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solidFill>
                      <a:srgbClr val="e9e3b7"/>
                    </a:solidFill>
                  </a:tcPr>
                </a:tc>
              </a:tr>
            </a:tbl>
          </a:graphicData>
        </a:graphic>
      </p:graphicFrame>
      <p:sp>
        <p:nvSpPr>
          <p:cNvPr id="114" name="Oval 203"/>
          <p:cNvSpPr/>
          <p:nvPr/>
        </p:nvSpPr>
        <p:spPr>
          <a:xfrm>
            <a:off x="1835280" y="2205000"/>
            <a:ext cx="5472000" cy="1295280"/>
          </a:xfrm>
          <a:prstGeom prst="ellipse">
            <a:avLst/>
          </a:prstGeom>
          <a:solidFill>
            <a:srgbClr val="fff9c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OCR A Extended"/>
              </a:rPr>
              <a:t>Миллионеры России 2008 г.</a:t>
            </a:r>
            <a:endParaRPr b="0" lang="en-US" sz="1800" spc="-1" strike="noStrike">
              <a:solidFill>
                <a:srgbClr val="cc9900"/>
              </a:solidFill>
              <a:latin typeface="OCR A Extende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48640" cy="6858000"/>
          </a:xfrm>
          <a:prstGeom prst="rect">
            <a:avLst/>
          </a:prstGeom>
          <a:solidFill>
            <a:srgbClr val="fff9c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В июне 2010 года среднемесячная начисленная заработная плата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1597 руб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о данным на март 2010 года, средняя начисленная заработная плата в России составляла </a:t>
            </a:r>
            <a:r>
              <a:rPr b="1" lang="ru-RU" sz="2400" spc="-1" strike="noStrike">
                <a:solidFill>
                  <a:srgbClr val="ff3300"/>
                </a:solidFill>
                <a:latin typeface="Baskerville Old Face"/>
              </a:rPr>
              <a:t>20383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, в том числе в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обрабатывающих производствах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829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машин и оборудования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9057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нефтепродуктов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5228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пищевых продуктов и табака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698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текстильном и швейном производстве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074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производстве кожи, изделий из кожи и производство обуви        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10616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химическом производстве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1956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металлургическом производстве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3258 руб/мес</a:t>
            </a: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39742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топливно-энергетических полезных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ископаемых              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47559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askerville Old Face"/>
              </a:rPr>
              <a:t>добыче полезных ископаемых (кроме топливно-энергетических)                                        </a:t>
            </a:r>
            <a:r>
              <a:rPr b="1" lang="ru-RU" sz="2400" spc="-1" strike="noStrike">
                <a:solidFill>
                  <a:srgbClr val="0a3130"/>
                </a:solidFill>
                <a:latin typeface="Baskerville Old Face"/>
              </a:rPr>
              <a:t>25361 руб/мес;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cc99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cc9900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02:56Z</dcterms:created>
  <dc:creator>Лена</dc:creator>
  <dc:description/>
  <cp:keywords/>
  <dc:language>en-US</dc:language>
  <cp:lastModifiedBy>LEGION</cp:lastModifiedBy>
  <dcterms:modified xsi:type="dcterms:W3CDTF">2016-01-04T08:17:50Z</dcterms:modified>
  <cp:revision>22</cp:revision>
  <dc:subject/>
  <dc:title>Перераспределение до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