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8.jpeg" ContentType="image/jpeg"/>
  <Override PartName="/ppt/media/image15.png" ContentType="image/png"/>
  <Override PartName="/ppt/media/image5.jpeg" ContentType="image/jpeg"/>
  <Override PartName="/ppt/media/image1.png" ContentType="image/png"/>
  <Override PartName="/ppt/media/image3.png" ContentType="image/png"/>
  <Override PartName="/ppt/media/image9.wmf" ContentType="image/x-wmf"/>
  <Override PartName="/ppt/media/image14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0.wmf" ContentType="image/x-wmf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F3E1A-99E0-4188-9A4A-B58EAFB6F36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по обществозна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истории и общество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ушина Е.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распределение до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Урок по обществознанию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8 класс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учитель истории и обществознания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Степушина Е.Ю.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ерераспределение доходов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неравенства до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аве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ая ц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ые врожденн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ый объ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ая успешность 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ожить деньги в а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хран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 в чулк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ть владельц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чи за город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земельного учас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центре Москв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ить в насле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 или трехколесн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осипед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ть решать зада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физике или выуч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блицу умн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три года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ричины неравенства доходов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ричины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неравенства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доходов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Разная ценность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Факторов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роизводства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Разные врожденный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способности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Разный объем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Факторов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роизводства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Разная успешность их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использования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Вложить деньги в акции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или хранить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дома в чулке?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Быть владельцем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дачи за городом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Или земельного участка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в центре Москвы?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олучить в наследство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Дом или трехколесный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велосипед7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Уметь решать задачи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о физике или выучить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таблицу умножения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За три года??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йтинг профессий по результатам общественного м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Рейтинг профессий по результатам общественного мнения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цильный коэффициент в России(соотношение 10% богатых к 10% бедны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Децильный коэффициент в России(соотношение 10% богатых к 10% бедных)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цильный коэффици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сты считают оптимальны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ношение от 5 до 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только децильный коэффициен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игает 10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тране появляются усло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социальных беспоряд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Децильный коэффициент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экономисты считают оптимальным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соотношение от 5 до 7.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Как только децильный коэффициент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достигает 10,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в стране появляются условия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для социальных беспорядков.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чередь безработных за тарелкой су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Очередь безработных за тарелкой супа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Грабь награбленно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Грабь награбленное!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уд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детные семь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нсион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ок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ьи, потерявш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миль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работ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али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очему?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Студенты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Многодетные семьи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енсионеры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Одинокие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матери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Семьи, потерявшие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кормильца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Безработные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Инвалиды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то плати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Кто платит?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?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?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?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т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иним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еш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Кто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принимает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решения?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намика средней зарплаты по России в долларах и в рублях в 1996—2006 год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Динамика средней зарплаты по России в долларах и в рублях в 1996—2006 годах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ост МР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Рост МРОТ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потребительской корзины: данные за 3 год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родукты ,весь набор товаров и услу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житочный минимум (Иркутская област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71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Стоимость потребительской корзины: данные за 3 года</a:t>
            </a:r>
            <a:br>
              <a:rPr sz="1200"/>
            </a:b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(продукты ,весь набор товаров и услуг)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рожиточный минимум (Иркутская область)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4 710 руб.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е признаки богат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жилищных усло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провести отпуск за границ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упность приобретения дорогой мебели и бытовой тех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медицинского обслуж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для детей добиться в жизни намного большего, чем большинство их сверст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и получения хороше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ая уверенность в завтрашнем д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и проведения досуга (посещение дорогостоящих дискотек, ресторанов и т.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приобретения недвижимости за рубеж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дорогого автомоби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иметь интересную рабо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е к ним окружающи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защищенность от физического насилия и посягательств на их собствен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Главные признаки богатства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Качество жилищных условий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Возможность провести отпуск за границей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Доступность приобретения дорогой мебели и бытовой техники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Уровень медицинского обслуживания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Возможность для детей добиться в жизни намного большего, чем большинство их сверстников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Возможности получения хорошего образования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Большая уверенность в завтрашнем дне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Возможности проведения досуга (посещение дорогостоящих дискотек, ресторанов и т.д.)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Возможность приобретения недвижимости за рубежом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Наличие дорогого автомобиля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Возможность иметь интересную работу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Отношение к ним окружающих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Незащищенность от физического насилия и посягательств на их собственность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иллионеры России 2008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Миллионеры России 2008 г.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юне 2010 года среднемесячная начисленная заработная плата составляла 21597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данным на март 2010 года, средняя начисленная заработная плата в России составляла 20383 руб/мес, в том числе 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батывающих производствах            18297 руб/ме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е машин и оборудования     19057 руб/ме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е нефтепродуктов                 45228 руб/ме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е пищевых продуктов и табака    16982 руб/ме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стильном и швейном производстве   10074 руб/ме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е кожи, изделий из кожи и производство обуви                                                              10616 руб/ме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ом производстве                          21956 руб/ме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ллургическом производстве              23258 руб/ме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ыче полезных ископаемых                   39742 руб/ме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ыче топливно-энергетических полез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опаемых                                                      47559 руб/ме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ыче полезных ископаемых (кроме топливно-энергетических)                                        25361 руб/ме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В июне 2010 года среднемесячная начисленная заработная плата составляла 21597 руб.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о данным на март 2010 года, средняя начисленная заработная плата в России составляла 20383 руб/мес, в том числе в: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обрабатывающих производствах            18297 руб/мес;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роизводстве машин и оборудования     19057 руб/мес;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роизводстве нефтепродуктов                 45228 руб/мес;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роизводстве пищевых продуктов и табака    16982 руб/мес;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текстильном и швейном производстве   10074 руб/мес;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роизводстве кожи, изделий из кожи и производство обуви                                                              10616 руб/мес;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химическом производстве                          21956 руб/мес;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металлургическом производстве              23258 руб/мес;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добыче полезных ископаемых                   39742 руб/мес;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добыче топливно-энергетических полезных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ископаемых                                                      47559 руб/мес;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добыче полезных ископаемых (кроме топливно-энергетических)                                        25361 руб/мес;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8B6C-346F-48D6-AC6D-D7F6F5494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C45F-51E8-4B66-A1E5-A56C8941E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78A8-C57B-422E-8DDE-801E6FFFA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264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92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264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92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8E1C-5726-47B8-9944-D08B82B05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D0312-B61A-45DE-8710-58FA82DA8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25FB2-B2AB-4B00-9FBC-15467541A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78567-000B-45B6-905F-2D7380DBE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48E3D-73FB-4031-A631-F0598B8EF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68455-9B79-41E9-9932-7A0ED96C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160" y="867960"/>
            <a:ext cx="792468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263B9-7CB2-492B-BFC5-EDF227A71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2E720-7C6F-49EB-8076-732CC6C3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43DE-314B-441F-9EDC-05329105A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F4291-CEA0-43FB-AFA6-5BCC465E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538B7-4CD9-4731-94AD-C66E0656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D7B01-EB35-4219-BC20-5248F2663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767CC-7FA5-4387-9231-26C987E56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264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92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1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264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92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A690D-02CA-48FE-AAB9-5E69BDDAE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F443-CBF3-4449-8959-BBB14D671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AA8C-A46D-4257-8412-3F449F10C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EDDF-15F9-4EDA-BFBC-6738BF68B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867960"/>
            <a:ext cx="792468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EA81-172F-4FBD-A359-83A2E4610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B87E-A428-4908-9DAE-285B0FCF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C7ED-8089-48EF-8B25-2B494FC4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BC94-E10C-44C6-B9BC-404E0760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66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14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9c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84F8D-B72C-4867-87B4-7723355FA343}" type="slidenum">
              <a:rPr b="0" lang="ru-RU" sz="1000" spc="-1" strike="noStrike">
                <a:solidFill>
                  <a:srgbClr val="fff9c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cc99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c99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C1A04-77A6-4C63-AEBB-BCBF6BEDE447}" type="slidenum">
              <a:rPr b="0" lang="ru-RU" sz="10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3352320"/>
            <a:ext cx="4471920" cy="1862280"/>
          </a:xfrm>
          <a:prstGeom prst="rect">
            <a:avLst/>
          </a:prstGeom>
          <a:solidFill>
            <a:srgbClr val="fff9cf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OCR A Extended"/>
              </a:rPr>
              <a:t>Урок по обществознанию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OCR A Extended"/>
              </a:rPr>
              <a:t>8 класс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OCR A Extended"/>
              </a:rPr>
              <a:t>учитель истории и обществознания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OCR A Extended"/>
              </a:rPr>
              <a:t>Степушина Е.Ю.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56840" y="380880"/>
            <a:ext cx="6248520" cy="2438640"/>
          </a:xfrm>
          <a:prstGeom prst="rect">
            <a:avLst/>
          </a:prstGeom>
          <a:solidFill>
            <a:srgbClr val="fff9c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OCR A Extended"/>
              </a:rPr>
              <a:t>Перераспределение доходов</a:t>
            </a:r>
            <a:endParaRPr b="0" lang="en-US" sz="44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236232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108000" y="765000"/>
          <a:ext cx="9036000" cy="5680080"/>
        </p:xfrm>
        <a:graphic>
          <a:graphicData uri="http://schemas.openxmlformats.org/drawingml/2006/table">
            <a:tbl>
              <a:tblPr/>
              <a:tblGrid>
                <a:gridCol w="1079280"/>
                <a:gridCol w="1729080"/>
                <a:gridCol w="1368360"/>
                <a:gridCol w="1727280"/>
                <a:gridCol w="1512720"/>
                <a:gridCol w="1619280"/>
              </a:tblGrid>
              <a:tr h="192204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Год</a:t>
                      </a:r>
                      <a:endParaRPr b="0" lang="en-US" sz="1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Среднедушевые доходы населения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Средний размер назначенных пенсий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Средняя номинальная начисленная зарплата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Зарплата депутатов Госдумы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Зарплата федераль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ных министров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</a:tr>
              <a:tr h="106740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2005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8 023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2 364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8 555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3300"/>
                          </a:solidFill>
                          <a:latin typeface="Baskerville Old Face"/>
                        </a:rPr>
                        <a:t>85 000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3cd74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3300"/>
                          </a:solidFill>
                          <a:latin typeface="Baskerville Old Face"/>
                        </a:rPr>
                        <a:t>100 000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3cd74"/>
                    </a:solidFill>
                  </a:tcPr>
                </a:tc>
              </a:tr>
              <a:tr h="106740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2006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9 947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2 726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10 727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3300"/>
                          </a:solidFill>
                          <a:latin typeface="Baskerville Old Face"/>
                        </a:rPr>
                        <a:t>100 000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3cd74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3300"/>
                          </a:solidFill>
                          <a:latin typeface="Baskerville Old Face"/>
                        </a:rPr>
                        <a:t>120 000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3cd74"/>
                    </a:solidFill>
                  </a:tcPr>
                </a:tc>
              </a:tr>
              <a:tr h="162324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2007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12 901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3 015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12 791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3300"/>
                          </a:solidFill>
                          <a:latin typeface="Baskerville Old Face"/>
                        </a:rPr>
                        <a:t>115 000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e3cd74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3300"/>
                          </a:solidFill>
                          <a:latin typeface="Baskerville Old Face"/>
                        </a:rPr>
                        <a:t>140 000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e3cd74"/>
                    </a:solidFill>
                  </a:tcPr>
                </a:tc>
              </a:tr>
            </a:tbl>
          </a:graphicData>
        </a:graphic>
      </p:graphicFrame>
      <p:sp>
        <p:nvSpPr>
          <p:cNvPr id="119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925040" cy="1311120"/>
          </a:xfrm>
          <a:prstGeom prst="rect">
            <a:avLst/>
          </a:prstGeom>
          <a:solidFill>
            <a:srgbClr val="fff9cf"/>
          </a:solidFill>
          <a:ln w="9360">
            <a:solidFill>
              <a:srgbClr val="f8fd1f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OCR A Extended"/>
              </a:rPr>
              <a:t>Причины </a:t>
            </a:r>
            <a:r>
              <a:rPr b="1" lang="ru-RU" sz="3200" spc="-1" strike="noStrike">
                <a:solidFill>
                  <a:srgbClr val="62139e"/>
                </a:solidFill>
                <a:latin typeface="OCR A Extended"/>
              </a:rPr>
              <a:t>неравенства</a:t>
            </a:r>
            <a:r>
              <a:rPr b="1" lang="ru-RU" sz="3200" spc="-1" strike="noStrike">
                <a:solidFill>
                  <a:srgbClr val="333399"/>
                </a:solidFill>
                <a:latin typeface="OCR A Extended"/>
              </a:rPr>
              <a:t> доходов</a:t>
            </a:r>
            <a:endParaRPr b="0" lang="en-US" sz="32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21" name="Oval 3"/>
          <p:cNvSpPr/>
          <p:nvPr/>
        </p:nvSpPr>
        <p:spPr>
          <a:xfrm>
            <a:off x="3059280" y="2565360"/>
            <a:ext cx="2952720" cy="1943280"/>
          </a:xfrm>
          <a:prstGeom prst="ellipse">
            <a:avLst/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2139e"/>
                </a:solidFill>
                <a:latin typeface="Sylfaen"/>
              </a:rPr>
              <a:t>Причины</a:t>
            </a:r>
            <a:endParaRPr b="0" lang="en-US" sz="24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2139e"/>
                </a:solidFill>
                <a:latin typeface="Sylfaen"/>
              </a:rPr>
              <a:t> </a:t>
            </a:r>
            <a:r>
              <a:rPr b="1" lang="ru-RU" sz="2400" spc="-1" strike="noStrike">
                <a:solidFill>
                  <a:srgbClr val="62139e"/>
                </a:solidFill>
                <a:latin typeface="Sylfaen"/>
              </a:rPr>
              <a:t>неравенства</a:t>
            </a:r>
            <a:endParaRPr b="0" lang="en-US" sz="24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2139e"/>
                </a:solidFill>
                <a:latin typeface="Sylfaen"/>
              </a:rPr>
              <a:t> </a:t>
            </a:r>
            <a:r>
              <a:rPr b="1" lang="ru-RU" sz="2400" spc="-1" strike="noStrike">
                <a:solidFill>
                  <a:srgbClr val="62139e"/>
                </a:solidFill>
                <a:latin typeface="Sylfaen"/>
              </a:rPr>
              <a:t>доходов</a:t>
            </a:r>
            <a:endParaRPr b="0" lang="en-US" sz="24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22" name="Oval 4"/>
          <p:cNvSpPr/>
          <p:nvPr/>
        </p:nvSpPr>
        <p:spPr>
          <a:xfrm>
            <a:off x="468360" y="1557360"/>
            <a:ext cx="2592360" cy="1657440"/>
          </a:xfrm>
          <a:prstGeom prst="ellipse">
            <a:avLst/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Разная ценность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Факторов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 </a:t>
            </a: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производства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23" name="Oval 5"/>
          <p:cNvSpPr/>
          <p:nvPr/>
        </p:nvSpPr>
        <p:spPr>
          <a:xfrm>
            <a:off x="468360" y="4221000"/>
            <a:ext cx="3024000" cy="1727280"/>
          </a:xfrm>
          <a:prstGeom prst="ellipse">
            <a:avLst/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Разные врожденный 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способности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24" name="Oval 6"/>
          <p:cNvSpPr/>
          <p:nvPr/>
        </p:nvSpPr>
        <p:spPr>
          <a:xfrm>
            <a:off x="5508720" y="4221000"/>
            <a:ext cx="2881080" cy="1729080"/>
          </a:xfrm>
          <a:prstGeom prst="ellipse">
            <a:avLst/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Разный объем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Факторов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производства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25" name="Oval 7"/>
          <p:cNvSpPr/>
          <p:nvPr/>
        </p:nvSpPr>
        <p:spPr>
          <a:xfrm>
            <a:off x="5867280" y="1700280"/>
            <a:ext cx="2881440" cy="1800000"/>
          </a:xfrm>
          <a:prstGeom prst="ellipse">
            <a:avLst/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Разная успешность их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использования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6156360" y="3068640"/>
            <a:ext cx="2987640" cy="1008000"/>
          </a:xfrm>
          <a:prstGeom prst="rect">
            <a:avLst/>
          </a:prstGeom>
          <a:solidFill>
            <a:srgbClr val="f8fd1f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Вложить деньги в акции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или хранить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 </a:t>
            </a: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дома в чулке?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5651640" y="5661000"/>
            <a:ext cx="3492360" cy="1197000"/>
          </a:xfrm>
          <a:prstGeom prst="rect">
            <a:avLst/>
          </a:prstGeom>
          <a:solidFill>
            <a:srgbClr val="f8fd1f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Быть владельцем 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дачи за городом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Или земельного участка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 </a:t>
            </a: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в центре Москвы</a:t>
            </a:r>
            <a:r>
              <a:rPr b="0" lang="ru-RU" sz="1800" spc="-1" strike="noStrike">
                <a:solidFill>
                  <a:srgbClr val="cc9900"/>
                </a:solidFill>
                <a:latin typeface="OCR A Extended"/>
              </a:rPr>
              <a:t>?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0" y="3213000"/>
            <a:ext cx="2843280" cy="936720"/>
          </a:xfrm>
          <a:prstGeom prst="rect">
            <a:avLst/>
          </a:prstGeom>
          <a:solidFill>
            <a:srgbClr val="f8fd1f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Получить в наследство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Дом или трехколесный 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велосипед7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611280" y="5705640"/>
            <a:ext cx="3386160" cy="1152360"/>
          </a:xfrm>
          <a:prstGeom prst="rect">
            <a:avLst/>
          </a:prstGeom>
          <a:solidFill>
            <a:srgbClr val="f8fd1f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Уметь решать задачи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 </a:t>
            </a: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по физике или выучить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 </a:t>
            </a: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таблицу умножения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За три года?</a:t>
            </a:r>
            <a:r>
              <a:rPr b="0" lang="ru-RU" sz="1800" spc="-1" strike="noStrike">
                <a:solidFill>
                  <a:srgbClr val="cc9900"/>
                </a:solidFill>
                <a:latin typeface="OCR A Extended"/>
              </a:rPr>
              <a:t>?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765000"/>
          </a:xfrm>
          <a:prstGeom prst="rect">
            <a:avLst/>
          </a:prstGeom>
          <a:solidFill>
            <a:srgbClr val="f8fd1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9797"/>
                </a:solidFill>
                <a:latin typeface="Sylfaen"/>
              </a:rPr>
              <a:t>Рейтинг профессий по результатам общественного мнения</a:t>
            </a:r>
            <a:endParaRPr b="0" lang="en-US" sz="2000" spc="-1" strike="noStrike">
              <a:solidFill>
                <a:srgbClr val="996600"/>
              </a:solidFill>
              <a:latin typeface="Arial Black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68360" y="836640"/>
          <a:ext cx="8675640" cy="6089760"/>
        </p:xfrm>
        <a:graphic>
          <a:graphicData uri="http://schemas.openxmlformats.org/drawingml/2006/table">
            <a:tbl>
              <a:tblPr/>
              <a:tblGrid>
                <a:gridCol w="4319640"/>
                <a:gridCol w="4356000"/>
              </a:tblGrid>
              <a:tr h="10883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.Банкир                            39,9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2.Преступный авторитет 28,3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3.Звезда эстрады               22,5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4.Депутат                           21,7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4.Министр                        15, 3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6.Юрист                             14,3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7.Губернатор                     13,5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8.Предприниматель        13, 3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9.Политик                         11,0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0.Проститутка                   9,1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1.Фотомодель                   8,0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2.Имиджмейкер              3,7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3.Врач                               3,0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4.Священник                     2,2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5.Артист                             2,0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6.Журналист                     1,7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7.Фермер                            1,3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8.Милиционер                  1,2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9.Сотрудник спецслужб 1,2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20.Нищий                            1,1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21.Учитель                          0,8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22.Ученый                           0,8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23.Писатель                         0,6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24.Спортсмен                       0,5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25.Квалифицированный рабочий                                0,5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26.Офицер армии               0,1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</a:tr>
            </a:tbl>
          </a:graphicData>
        </a:graphic>
      </p:graphicFrame>
      <p:sp>
        <p:nvSpPr>
          <p:cNvPr id="133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067600" cy="2205000"/>
          </a:xfrm>
          <a:prstGeom prst="rect">
            <a:avLst/>
          </a:prstGeom>
          <a:solidFill>
            <a:srgbClr val="fff9c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a3130"/>
                </a:solidFill>
                <a:latin typeface="OCR A Extended"/>
              </a:rPr>
              <a:t>Децильный коэффициент в России(соотношение 10% богатых к 10% бедных)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33520" y="2708280"/>
          <a:ext cx="7924680" cy="3529080"/>
        </p:xfrm>
        <a:graphic>
          <a:graphicData uri="http://schemas.openxmlformats.org/drawingml/2006/table">
            <a:tbl>
              <a:tblPr/>
              <a:tblGrid>
                <a:gridCol w="1133280"/>
                <a:gridCol w="1130400"/>
                <a:gridCol w="1133280"/>
                <a:gridCol w="1130400"/>
                <a:gridCol w="1133640"/>
                <a:gridCol w="1130040"/>
                <a:gridCol w="1133640"/>
              </a:tblGrid>
              <a:tr h="123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1998</a:t>
                      </a:r>
                      <a:r>
                        <a:rPr b="0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2001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2004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2007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2008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2009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</a:tr>
              <a:tr h="22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13,5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13,8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13,9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15,2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16,8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16,8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 u="sng">
                          <a:solidFill>
                            <a:srgbClr val="ff3300"/>
                          </a:solidFill>
                          <a:uFillTx/>
                          <a:latin typeface="Arial"/>
                        </a:rPr>
                        <a:t>16,7</a:t>
                      </a:r>
                      <a:endParaRPr b="0" lang="en-US" sz="3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</a:tr>
            </a:tbl>
          </a:graphicData>
        </a:graphic>
      </p:graphicFrame>
      <p:sp>
        <p:nvSpPr>
          <p:cNvPr id="136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10920" y="0"/>
            <a:ext cx="7924680" cy="1052640"/>
          </a:xfrm>
          <a:prstGeom prst="rect">
            <a:avLst/>
          </a:prstGeom>
          <a:solidFill>
            <a:srgbClr val="b5ebe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a3130"/>
                </a:solidFill>
                <a:latin typeface="OCR A Extended"/>
              </a:rPr>
              <a:t>Децильный коэффициент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79280" y="1700280"/>
          <a:ext cx="8964720" cy="244944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5440"/>
                <a:gridCol w="1494000"/>
                <a:gridCol w="1493640"/>
                <a:gridCol w="1494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Дания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Швеция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Норвегия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Франция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Германия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Бразилия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</a:tr>
              <a:tr h="174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3-4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3-4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3-4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5-7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5-7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</a:tr>
            </a:tbl>
          </a:graphicData>
        </a:graphic>
      </p:graphicFrame>
      <p:sp>
        <p:nvSpPr>
          <p:cNvPr id="139" name="Oval 26"/>
          <p:cNvSpPr/>
          <p:nvPr/>
        </p:nvSpPr>
        <p:spPr>
          <a:xfrm>
            <a:off x="1258920" y="3284640"/>
            <a:ext cx="7273800" cy="2879640"/>
          </a:xfrm>
          <a:prstGeom prst="ellipse">
            <a:avLst/>
          </a:prstGeom>
          <a:solidFill>
            <a:srgbClr val="f8fd1f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a3130"/>
                </a:solidFill>
                <a:latin typeface="OCR A Extended"/>
              </a:rPr>
              <a:t> </a:t>
            </a:r>
            <a:r>
              <a:rPr b="1" lang="ru-RU" sz="2400" spc="-1" strike="noStrike">
                <a:solidFill>
                  <a:srgbClr val="0a3130"/>
                </a:solidFill>
                <a:latin typeface="OCR A Extended"/>
              </a:rPr>
              <a:t>экономисты считают оптимальным </a:t>
            </a:r>
            <a:endParaRPr b="0" lang="en-US" sz="24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3130"/>
                </a:solidFill>
                <a:latin typeface="OCR A Extended"/>
              </a:rPr>
              <a:t>соотношение от 5 до 7.</a:t>
            </a:r>
            <a:endParaRPr b="0" lang="en-US" sz="24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40" name="Oval 27"/>
          <p:cNvSpPr/>
          <p:nvPr/>
        </p:nvSpPr>
        <p:spPr>
          <a:xfrm>
            <a:off x="1835280" y="4869000"/>
            <a:ext cx="6192720" cy="1800000"/>
          </a:xfrm>
          <a:prstGeom prst="ellipse">
            <a:avLst/>
          </a:prstGeom>
          <a:solidFill>
            <a:srgbClr val="f8fd1f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0a3130"/>
              </a:buClr>
              <a:buFont typeface="OCR A Extend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a3130"/>
                </a:solidFill>
                <a:latin typeface="OCR A Extended"/>
              </a:rPr>
              <a:t>Как только децильный коэффициент 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0a3130"/>
              </a:buClr>
              <a:buFont typeface="OCR A Extend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a3130"/>
                </a:solidFill>
                <a:latin typeface="OCR A Extended"/>
              </a:rPr>
              <a:t>достигает 10, 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0a3130"/>
              </a:buClr>
              <a:buFont typeface="OCR A Extend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a3130"/>
                </a:solidFill>
                <a:latin typeface="OCR A Extended"/>
              </a:rPr>
              <a:t>в стране появляются условия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0a3130"/>
              </a:buClr>
              <a:buFont typeface="OCR A Extend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a3130"/>
                </a:solidFill>
                <a:latin typeface="OCR A Extended"/>
              </a:rPr>
              <a:t> </a:t>
            </a:r>
            <a:r>
              <a:rPr b="1" lang="ru-RU" sz="1800" spc="-1" strike="noStrike">
                <a:solidFill>
                  <a:srgbClr val="0a3130"/>
                </a:solidFill>
                <a:latin typeface="OCR A Extended"/>
              </a:rPr>
              <a:t>для социальных беспорядков</a:t>
            </a:r>
            <a:r>
              <a:rPr b="0" lang="ru-RU" sz="1800" spc="-1" strike="noStrike">
                <a:solidFill>
                  <a:srgbClr val="0a3130"/>
                </a:solidFill>
                <a:latin typeface="OCR A Extended"/>
              </a:rPr>
              <a:t>. 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996600"/>
              </a:solidFill>
              <a:latin typeface="Arial Black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116000" y="0"/>
            <a:ext cx="5688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cc9900"/>
              </a:solidFill>
              <a:latin typeface="Arial"/>
            </a:endParaRPr>
          </a:p>
        </p:txBody>
      </p:sp>
      <p:pic>
        <p:nvPicPr>
          <p:cNvPr id="147" name="Picture 4" descr="%5bIS9NI_3-1%5d_%5bPF_04-r%5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4343400" y="0"/>
            <a:ext cx="3733920" cy="2297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fff9c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OCR A Extended"/>
              </a:rPr>
              <a:t>Очередь безработных за тарелкой супа</a:t>
            </a:r>
            <a:endParaRPr b="0" lang="en-US" sz="3200" spc="-1" strike="noStrike">
              <a:solidFill>
                <a:srgbClr val="cc9900"/>
              </a:solidFill>
              <a:latin typeface="OCR A Extende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Рисунок5"/>
          <p:cNvPicPr/>
          <p:nvPr/>
        </p:nvPicPr>
        <p:blipFill>
          <a:blip r:embed="rId1"/>
          <a:stretch/>
        </p:blipFill>
        <p:spPr>
          <a:xfrm>
            <a:off x="611280" y="549360"/>
            <a:ext cx="8064360" cy="6308640"/>
          </a:xfrm>
          <a:prstGeom prst="rect">
            <a:avLst/>
          </a:prstGeom>
          <a:ln w="76320">
            <a:solidFill>
              <a:srgbClr val="fff9cf"/>
            </a:solidFill>
            <a:miter/>
          </a:ln>
        </p:spPr>
      </p:pic>
      <p:sp>
        <p:nvSpPr>
          <p:cNvPr id="151" name="Rectangle 3"/>
          <p:cNvSpPr/>
          <p:nvPr/>
        </p:nvSpPr>
        <p:spPr>
          <a:xfrm>
            <a:off x="1908000" y="765000"/>
            <a:ext cx="3024360" cy="1224000"/>
          </a:xfrm>
          <a:prstGeom prst="rect">
            <a:avLst/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OCR A Extended"/>
              </a:rPr>
              <a:t>Грабь награбленное</a:t>
            </a:r>
            <a:r>
              <a:rPr b="0" lang="ru-RU" sz="2400" spc="-1" strike="noStrike">
                <a:solidFill>
                  <a:srgbClr val="333399"/>
                </a:solidFill>
                <a:latin typeface="Baskerville Old Face"/>
              </a:rPr>
              <a:t>!</a:t>
            </a:r>
            <a:endParaRPr b="0" lang="en-US" sz="24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Oval 4"/>
          <p:cNvSpPr/>
          <p:nvPr/>
        </p:nvSpPr>
        <p:spPr>
          <a:xfrm>
            <a:off x="2987640" y="2205000"/>
            <a:ext cx="3384720" cy="2592360"/>
          </a:xfrm>
          <a:prstGeom prst="ellipse">
            <a:avLst/>
          </a:prstGeom>
          <a:solidFill>
            <a:srgbClr val="e3cd74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2139e"/>
                </a:solidFill>
                <a:latin typeface="OCR A Extended"/>
              </a:rPr>
              <a:t>Почему?</a:t>
            </a:r>
            <a:endParaRPr b="0" lang="en-US" sz="32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54" name="Oval 5"/>
          <p:cNvSpPr/>
          <p:nvPr/>
        </p:nvSpPr>
        <p:spPr>
          <a:xfrm>
            <a:off x="1258920" y="1413000"/>
            <a:ext cx="2521080" cy="718920"/>
          </a:xfrm>
          <a:prstGeom prst="ellipse">
            <a:avLst/>
          </a:prstGeom>
          <a:solidFill>
            <a:srgbClr val="e3cd74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Студенты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55" name="Oval 6"/>
          <p:cNvSpPr/>
          <p:nvPr/>
        </p:nvSpPr>
        <p:spPr>
          <a:xfrm>
            <a:off x="395280" y="3213000"/>
            <a:ext cx="2303640" cy="936720"/>
          </a:xfrm>
          <a:prstGeom prst="ellipse">
            <a:avLst/>
          </a:prstGeom>
          <a:solidFill>
            <a:srgbClr val="e3cd74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Многодетные семьи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56" name="Oval 7"/>
          <p:cNvSpPr/>
          <p:nvPr/>
        </p:nvSpPr>
        <p:spPr>
          <a:xfrm>
            <a:off x="684360" y="4869000"/>
            <a:ext cx="2519280" cy="863640"/>
          </a:xfrm>
          <a:prstGeom prst="ellipse">
            <a:avLst/>
          </a:prstGeom>
          <a:solidFill>
            <a:srgbClr val="e3cd74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Пенсионеры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57" name="Oval 8"/>
          <p:cNvSpPr/>
          <p:nvPr/>
        </p:nvSpPr>
        <p:spPr>
          <a:xfrm>
            <a:off x="5508720" y="1341360"/>
            <a:ext cx="3097080" cy="936720"/>
          </a:xfrm>
          <a:prstGeom prst="ellipse">
            <a:avLst/>
          </a:prstGeom>
          <a:solidFill>
            <a:srgbClr val="e3cd74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Одинокие 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матери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58" name="Oval 9"/>
          <p:cNvSpPr/>
          <p:nvPr/>
        </p:nvSpPr>
        <p:spPr>
          <a:xfrm>
            <a:off x="6588000" y="2997360"/>
            <a:ext cx="2556000" cy="936360"/>
          </a:xfrm>
          <a:prstGeom prst="ellipse">
            <a:avLst/>
          </a:prstGeom>
          <a:solidFill>
            <a:srgbClr val="e3cd74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Семьи, потерявшие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кормильца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59" name="Oval 10"/>
          <p:cNvSpPr/>
          <p:nvPr/>
        </p:nvSpPr>
        <p:spPr>
          <a:xfrm>
            <a:off x="6300720" y="4581360"/>
            <a:ext cx="2448000" cy="936720"/>
          </a:xfrm>
          <a:prstGeom prst="ellipse">
            <a:avLst/>
          </a:prstGeom>
          <a:solidFill>
            <a:srgbClr val="e3cd74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Безработные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60" name="Oval 11"/>
          <p:cNvSpPr/>
          <p:nvPr/>
        </p:nvSpPr>
        <p:spPr>
          <a:xfrm>
            <a:off x="3780000" y="5300640"/>
            <a:ext cx="2160360" cy="792360"/>
          </a:xfrm>
          <a:prstGeom prst="ellipse">
            <a:avLst/>
          </a:prstGeom>
          <a:solidFill>
            <a:srgbClr val="e3cd74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Инвалиды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61" name="Line 12"/>
          <p:cNvSpPr/>
          <p:nvPr/>
        </p:nvSpPr>
        <p:spPr>
          <a:xfrm>
            <a:off x="2556000" y="2060640"/>
            <a:ext cx="1295280" cy="863640"/>
          </a:xfrm>
          <a:prstGeom prst="line">
            <a:avLst/>
          </a:prstGeom>
          <a:ln w="93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62" name="Line 13"/>
          <p:cNvSpPr/>
          <p:nvPr/>
        </p:nvSpPr>
        <p:spPr>
          <a:xfrm>
            <a:off x="2627280" y="3789360"/>
            <a:ext cx="865080" cy="0"/>
          </a:xfrm>
          <a:prstGeom prst="line">
            <a:avLst/>
          </a:prstGeom>
          <a:ln w="93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63" name="Line 14"/>
          <p:cNvSpPr/>
          <p:nvPr/>
        </p:nvSpPr>
        <p:spPr>
          <a:xfrm flipV="1">
            <a:off x="2843280" y="4220640"/>
            <a:ext cx="865080" cy="863640"/>
          </a:xfrm>
          <a:prstGeom prst="line">
            <a:avLst/>
          </a:prstGeom>
          <a:ln w="93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64" name="Line 15"/>
          <p:cNvSpPr/>
          <p:nvPr/>
        </p:nvSpPr>
        <p:spPr>
          <a:xfrm flipV="1">
            <a:off x="4716360" y="4365720"/>
            <a:ext cx="0" cy="1224000"/>
          </a:xfrm>
          <a:prstGeom prst="line">
            <a:avLst/>
          </a:prstGeom>
          <a:ln w="93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65" name="Line 16"/>
          <p:cNvSpPr/>
          <p:nvPr/>
        </p:nvSpPr>
        <p:spPr>
          <a:xfrm flipH="1" flipV="1">
            <a:off x="5508720" y="4365360"/>
            <a:ext cx="1511280" cy="431640"/>
          </a:xfrm>
          <a:prstGeom prst="line">
            <a:avLst/>
          </a:prstGeom>
          <a:ln w="93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66" name="Line 17"/>
          <p:cNvSpPr/>
          <p:nvPr/>
        </p:nvSpPr>
        <p:spPr>
          <a:xfrm flipH="1">
            <a:off x="6011640" y="3645000"/>
            <a:ext cx="936360" cy="0"/>
          </a:xfrm>
          <a:prstGeom prst="line">
            <a:avLst/>
          </a:prstGeom>
          <a:ln w="93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67" name="Line 18"/>
          <p:cNvSpPr/>
          <p:nvPr/>
        </p:nvSpPr>
        <p:spPr>
          <a:xfrm flipH="1">
            <a:off x="5363640" y="1916280"/>
            <a:ext cx="1008360" cy="792000"/>
          </a:xfrm>
          <a:prstGeom prst="line">
            <a:avLst/>
          </a:prstGeom>
          <a:ln w="93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6" descr="M4502"/>
          <p:cNvPicPr/>
          <p:nvPr/>
        </p:nvPicPr>
        <p:blipFill>
          <a:blip r:embed="rId1"/>
          <a:stretch/>
        </p:blipFill>
        <p:spPr>
          <a:xfrm>
            <a:off x="971640" y="2708280"/>
            <a:ext cx="3614760" cy="3529080"/>
          </a:xfrm>
          <a:prstGeom prst="rect">
            <a:avLst/>
          </a:prstGeom>
          <a:ln w="0">
            <a:noFill/>
          </a:ln>
        </p:spPr>
      </p:pic>
      <p:sp>
        <p:nvSpPr>
          <p:cNvPr id="170" name="Oval 8"/>
          <p:cNvSpPr/>
          <p:nvPr/>
        </p:nvSpPr>
        <p:spPr>
          <a:xfrm>
            <a:off x="1042920" y="1341360"/>
            <a:ext cx="3240000" cy="1224000"/>
          </a:xfrm>
          <a:prstGeom prst="ellipse">
            <a:avLst/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OCR A Extended"/>
              </a:rPr>
              <a:t>Кто платит?</a:t>
            </a:r>
            <a:endParaRPr b="0" lang="en-US" sz="2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71" name="Oval 10"/>
          <p:cNvSpPr/>
          <p:nvPr/>
        </p:nvSpPr>
        <p:spPr>
          <a:xfrm>
            <a:off x="6084720" y="1773360"/>
            <a:ext cx="2087640" cy="1008000"/>
          </a:xfrm>
          <a:prstGeom prst="ellipse">
            <a:avLst/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OCR A Extended"/>
              </a:rPr>
              <a:t>?</a:t>
            </a:r>
            <a:endParaRPr b="0" lang="en-US" sz="40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72" name="Oval 11"/>
          <p:cNvSpPr/>
          <p:nvPr/>
        </p:nvSpPr>
        <p:spPr>
          <a:xfrm>
            <a:off x="6012000" y="3213000"/>
            <a:ext cx="2087280" cy="936720"/>
          </a:xfrm>
          <a:prstGeom prst="ellipse">
            <a:avLst/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OCR A Extended"/>
              </a:rPr>
              <a:t>?</a:t>
            </a:r>
            <a:endParaRPr b="0" lang="en-US" sz="40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73" name="Oval 12"/>
          <p:cNvSpPr/>
          <p:nvPr/>
        </p:nvSpPr>
        <p:spPr>
          <a:xfrm>
            <a:off x="6084720" y="4581360"/>
            <a:ext cx="2232360" cy="1008360"/>
          </a:xfrm>
          <a:prstGeom prst="ellipse">
            <a:avLst/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OCR A Extended"/>
              </a:rPr>
              <a:t>?</a:t>
            </a:r>
            <a:endParaRPr b="0" lang="en-US" sz="40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996600"/>
              </a:solidFill>
              <a:latin typeface="OCR A Extended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6912000" cy="568656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LOADS_"/>
          <p:cNvPicPr/>
          <p:nvPr/>
        </p:nvPicPr>
        <p:blipFill>
          <a:blip r:embed="rId1"/>
          <a:stretch/>
        </p:blipFill>
        <p:spPr>
          <a:xfrm>
            <a:off x="4427640" y="2565360"/>
            <a:ext cx="4105080" cy="3888000"/>
          </a:xfrm>
          <a:prstGeom prst="rect">
            <a:avLst/>
          </a:prstGeom>
          <a:ln w="0">
            <a:noFill/>
          </a:ln>
        </p:spPr>
      </p:pic>
      <p:sp>
        <p:nvSpPr>
          <p:cNvPr id="176" name="Oval 5"/>
          <p:cNvSpPr/>
          <p:nvPr/>
        </p:nvSpPr>
        <p:spPr>
          <a:xfrm>
            <a:off x="755640" y="1557360"/>
            <a:ext cx="3457440" cy="2376360"/>
          </a:xfrm>
          <a:prstGeom prst="ellipse">
            <a:avLst/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OCR A Extended"/>
              </a:rPr>
              <a:t>Кто </a:t>
            </a:r>
            <a:endParaRPr b="0" lang="en-US" sz="36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OCR A Extended"/>
              </a:rPr>
              <a:t>принимает</a:t>
            </a:r>
            <a:endParaRPr b="0" lang="en-US" sz="36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OCR A Extende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OCR A Extended"/>
              </a:rPr>
              <a:t>решения</a:t>
            </a:r>
            <a:r>
              <a:rPr b="0" lang="ru-RU" sz="3600" spc="-1" strike="noStrike">
                <a:solidFill>
                  <a:srgbClr val="000000"/>
                </a:solidFill>
                <a:latin typeface="OCR A Extended"/>
              </a:rPr>
              <a:t>?</a:t>
            </a:r>
            <a:endParaRPr b="0" lang="en-US" sz="36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996600"/>
              </a:solidFill>
              <a:latin typeface="Arial Black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7848720" cy="540072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solidFill>
            <a:srgbClr val="fff9c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Baskerville Old Face"/>
              </a:rPr>
              <a:t>Динамика средней зарплаты по России в долларах и в рублях в 1996—2006 годах</a:t>
            </a:r>
            <a:endParaRPr b="0" lang="en-US" sz="3200" spc="-1" strike="noStrike">
              <a:solidFill>
                <a:srgbClr val="996600"/>
              </a:solidFill>
              <a:latin typeface="Arial Black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1258920" y="2349360"/>
            <a:ext cx="6626160" cy="403236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996600"/>
              </a:solidFill>
              <a:latin typeface="Arial Black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4356000" y="3232080"/>
            <a:ext cx="5648400" cy="3625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"/>
          <p:cNvPicPr/>
          <p:nvPr/>
        </p:nvPicPr>
        <p:blipFill>
          <a:blip r:embed="rId2"/>
          <a:stretch/>
        </p:blipFill>
        <p:spPr>
          <a:xfrm>
            <a:off x="-252360" y="0"/>
            <a:ext cx="5183280" cy="30988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"/>
          <p:cNvPicPr/>
          <p:nvPr/>
        </p:nvPicPr>
        <p:blipFill>
          <a:blip r:embed="rId3"/>
          <a:stretch/>
        </p:blipFill>
        <p:spPr>
          <a:xfrm>
            <a:off x="-468360" y="3284640"/>
            <a:ext cx="4896000" cy="30859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"/>
          <p:cNvPicPr/>
          <p:nvPr/>
        </p:nvPicPr>
        <p:blipFill>
          <a:blip r:embed="rId4"/>
          <a:stretch/>
        </p:blipFill>
        <p:spPr>
          <a:xfrm>
            <a:off x="4932360" y="549360"/>
            <a:ext cx="4896000" cy="275580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9"/>
          <p:cNvSpPr/>
          <p:nvPr/>
        </p:nvSpPr>
        <p:spPr>
          <a:xfrm>
            <a:off x="4859280" y="333360"/>
            <a:ext cx="4032360" cy="360360"/>
          </a:xfrm>
          <a:prstGeom prst="rect">
            <a:avLst/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a3130"/>
                </a:solidFill>
                <a:latin typeface="OCR A Extended"/>
              </a:rPr>
              <a:t>Рост МРОТ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0" y="44280"/>
          <a:ext cx="9144000" cy="6971040"/>
        </p:xfrm>
        <a:graphic>
          <a:graphicData uri="http://schemas.openxmlformats.org/drawingml/2006/table">
            <a:tbl>
              <a:tblPr/>
              <a:tblGrid>
                <a:gridCol w="3787920"/>
                <a:gridCol w="1722240"/>
                <a:gridCol w="1882800"/>
                <a:gridCol w="1751040"/>
              </a:tblGrid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Все население %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0033"/>
                          </a:solidFill>
                          <a:latin typeface="Sylfaen"/>
                        </a:rPr>
                        <a:t>(наш класс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Богатые %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Бедные %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</a:tr>
              <a:tr h="929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Трудом праведным не наживешь палат каменных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Бедность - не порок, а несчастье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Богатство - вода, пришла и ушла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Чем беднее, тем щедрее, чем богаче, тем скупее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Богачи едят калачи, да не спят ни днем, ни в ночи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Богатством ума не купишь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Не в деньгах счастье</a:t>
                      </a:r>
                      <a:r>
                        <a:rPr b="1" lang="ru-RU" sz="2400" spc="-1" strike="noStrike">
                          <a:solidFill>
                            <a:srgbClr val="219797"/>
                          </a:solidFill>
                          <a:latin typeface="Sylfaen"/>
                        </a:rPr>
                        <a:t> 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76,3 </a:t>
                      </a:r>
                      <a:r>
                        <a:rPr b="1" lang="ru-RU" sz="3200" spc="-1" strike="noStrike">
                          <a:solidFill>
                            <a:srgbClr val="990033"/>
                          </a:solidFill>
                          <a:latin typeface="Sylfaen"/>
                        </a:rPr>
                        <a:t>(48)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77,7 </a:t>
                      </a:r>
                      <a:r>
                        <a:rPr b="1" lang="ru-RU" sz="3200" spc="-1" strike="noStrike">
                          <a:solidFill>
                            <a:srgbClr val="990033"/>
                          </a:solidFill>
                          <a:latin typeface="Sylfaen"/>
                        </a:rPr>
                        <a:t>(48)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66,0 </a:t>
                      </a:r>
                      <a:r>
                        <a:rPr b="1" lang="ru-RU" sz="3200" spc="-1" strike="noStrike">
                          <a:solidFill>
                            <a:srgbClr val="990033"/>
                          </a:solidFill>
                          <a:latin typeface="Sylfaen"/>
                        </a:rPr>
                        <a:t>(72)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75,3 </a:t>
                      </a:r>
                      <a:r>
                        <a:rPr b="1" lang="ru-RU" sz="3200" spc="-1" strike="noStrike">
                          <a:solidFill>
                            <a:srgbClr val="990033"/>
                          </a:solidFill>
                          <a:latin typeface="Sylfaen"/>
                        </a:rPr>
                        <a:t>(66)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65,3 </a:t>
                      </a:r>
                      <a:r>
                        <a:rPr b="1" lang="ru-RU" sz="3200" spc="-1" strike="noStrike">
                          <a:solidFill>
                            <a:srgbClr val="990033"/>
                          </a:solidFill>
                          <a:latin typeface="Sylfaen"/>
                        </a:rPr>
                        <a:t>(72)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85,7</a:t>
                      </a:r>
                      <a:r>
                        <a:rPr b="1" lang="ru-RU" sz="3200" spc="-1" strike="noStrike">
                          <a:solidFill>
                            <a:srgbClr val="990033"/>
                          </a:solidFill>
                          <a:latin typeface="Sylfaen"/>
                        </a:rPr>
                        <a:t>(72</a:t>
                      </a: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)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64,9</a:t>
                      </a:r>
                      <a:r>
                        <a:rPr b="0" lang="ru-RU" sz="3200" spc="-1" strike="noStrike">
                          <a:solidFill>
                            <a:srgbClr val="cc9900"/>
                          </a:solidFill>
                          <a:latin typeface="Sylfaen"/>
                        </a:rPr>
                        <a:t> </a:t>
                      </a:r>
                      <a:r>
                        <a:rPr b="0" lang="ru-RU" sz="3200" spc="-1" strike="noStrike">
                          <a:solidFill>
                            <a:srgbClr val="990033"/>
                          </a:solidFill>
                          <a:latin typeface="Sylfaen"/>
                        </a:rPr>
                        <a:t>(72)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u="sng">
                          <a:solidFill>
                            <a:srgbClr val="ff3300"/>
                          </a:solidFill>
                          <a:uFillTx/>
                          <a:latin typeface="Sylfaen"/>
                        </a:rPr>
                        <a:t>44,9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73,6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54,8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u="sng">
                          <a:solidFill>
                            <a:srgbClr val="ff3300"/>
                          </a:solidFill>
                          <a:uFillTx/>
                          <a:latin typeface="Sylfaen"/>
                        </a:rPr>
                        <a:t>30,0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51,2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u="sng">
                          <a:solidFill>
                            <a:srgbClr val="219797"/>
                          </a:solidFill>
                          <a:uFillTx/>
                          <a:latin typeface="Sylfaen"/>
                        </a:rPr>
                        <a:t>84,2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67,0 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u="sng">
                          <a:solidFill>
                            <a:srgbClr val="ff3300"/>
                          </a:solidFill>
                          <a:uFillTx/>
                          <a:latin typeface="Sylfaen"/>
                        </a:rPr>
                        <a:t>83,6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80,5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63,9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u="sng">
                          <a:solidFill>
                            <a:srgbClr val="ff3300"/>
                          </a:solidFill>
                          <a:uFillTx/>
                          <a:latin typeface="Sylfaen"/>
                        </a:rPr>
                        <a:t>83,6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68,6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u="sng">
                          <a:solidFill>
                            <a:srgbClr val="219797"/>
                          </a:solidFill>
                          <a:uFillTx/>
                          <a:latin typeface="Sylfaen"/>
                        </a:rPr>
                        <a:t>82,8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55,9</a:t>
                      </a:r>
                      <a:r>
                        <a:rPr b="0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	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</a:tr>
            </a:tbl>
          </a:graphicData>
        </a:graphic>
      </p:graphicFrame>
      <p:sp>
        <p:nvSpPr>
          <p:cNvPr id="96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996600"/>
              </a:solidFill>
              <a:latin typeface="Arial Black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-36360" y="0"/>
          <a:ext cx="8501040" cy="6546960"/>
        </p:xfrm>
        <a:graphic>
          <a:graphicData uri="http://schemas.openxmlformats.org/drawingml/2006/table">
            <a:tbl>
              <a:tblPr/>
              <a:tblGrid>
                <a:gridCol w="5113080"/>
                <a:gridCol w="1943280"/>
                <a:gridCol w="14446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OCR A Extended"/>
                        </a:rPr>
                        <a:t>Причины бедности  </a:t>
                      </a: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OCR A Extended"/>
                        </a:rPr>
                        <a:t> Наш  класс          </a:t>
                      </a:r>
                      <a:endParaRPr b="0" lang="en-US" sz="1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OCR A Extended"/>
                        </a:rPr>
                        <a:t>Европа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OCR A Extended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ed410"/>
                    </a:solidFill>
                  </a:tcPr>
                </a:tc>
              </a:tr>
              <a:tr h="7882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Длительная безработица                           </a:t>
                      </a:r>
                      <a:r>
                        <a:rPr b="1" lang="ru-RU" sz="2400" spc="-1" strike="noStrike">
                          <a:solidFill>
                            <a:srgbClr val="990033"/>
                          </a:solidFill>
                          <a:latin typeface="Sylfaen"/>
                        </a:rPr>
                        <a:t>1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Невыплаты з/п, задержка пенсий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Семейные неурядицы, несчастья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Болезнь, инвалидность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Алкоголизм, наркомания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Низкий уровень жизни их родителей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Проживание в бедном регионе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Отсутствие поддержки со стороны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Недостаток государственных пособий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Лень, неприспособленность к жизни        </a:t>
                      </a:r>
                      <a:r>
                        <a:rPr b="1" lang="ru-RU" sz="2400" spc="-1" strike="noStrike">
                          <a:solidFill>
                            <a:srgbClr val="990033"/>
                          </a:solidFill>
                          <a:latin typeface="Sylfaen"/>
                        </a:rPr>
                        <a:t>1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Наличие большого числа иждивенцев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Плохое образование, низкая квалификация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Они мигранты, беженцы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Нежелание менять привычный образ жизни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Им просто не везет</a:t>
                      </a: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OCR A Extended"/>
                        </a:rPr>
                        <a:t>                </a:t>
                      </a:r>
                      <a:r>
                        <a:rPr b="1" lang="ru-RU" sz="2400" spc="-1" strike="noStrike">
                          <a:solidFill>
                            <a:srgbClr val="990033"/>
                          </a:solidFill>
                          <a:latin typeface="Baskerville Old Face"/>
                        </a:rPr>
                        <a:t>15</a:t>
                      </a:r>
                      <a:r>
                        <a:rPr b="1" lang="ru-RU" sz="2000" spc="-1" strike="noStrike">
                          <a:solidFill>
                            <a:srgbClr val="990033"/>
                          </a:solidFill>
                          <a:latin typeface="OCR A Extended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OCR A Extended"/>
                        </a:rPr>
                        <a:t>              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Sylfaen"/>
                        </a:rPr>
                        <a:t>54,0(2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-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Sylfaen"/>
                        </a:rPr>
                        <a:t>26,7(3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9999"/>
                          </a:solidFill>
                          <a:uFillTx/>
                          <a:latin typeface="Sylfaen"/>
                        </a:rPr>
                        <a:t>23,8(4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Sylfaen"/>
                        </a:rPr>
                        <a:t>57,1(1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2,7(8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8,6(8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20,4(6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21,0(5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9,7(9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4,8(10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9999"/>
                          </a:solidFill>
                          <a:uFillTx/>
                          <a:latin typeface="Sylfaen"/>
                        </a:rPr>
                        <a:t>17,6(7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6,4(9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219797"/>
                          </a:solidFill>
                          <a:uFillTx/>
                          <a:latin typeface="Sylfaen"/>
                        </a:rPr>
                        <a:t>4,5(11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	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Sylfaen"/>
                        </a:rPr>
                        <a:t>41,2(2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Sylfaen"/>
                        </a:rPr>
                        <a:t>46,8(1</a:t>
                      </a: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Sylfaen"/>
                        </a:rPr>
                        <a:t>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25,0(6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9999"/>
                          </a:solidFill>
                          <a:uFillTx/>
                          <a:latin typeface="Sylfaen"/>
                        </a:rPr>
                        <a:t>36,8(4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35,0(5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20,5(9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7,3(12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20,1(10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Sylfaen"/>
                        </a:rPr>
                        <a:t>37,1(3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22,6(7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7,2(13</a:t>
                      </a: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9999"/>
                          </a:solidFill>
                          <a:uFillTx/>
                          <a:latin typeface="Sylfaen"/>
                        </a:rPr>
                        <a:t>22,5(8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5,5(15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219797"/>
                          </a:solidFill>
                          <a:uFillTx/>
                          <a:latin typeface="Sylfaen"/>
                        </a:rPr>
                        <a:t>19,3(11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3,7 (14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eed410"/>
                    </a:solidFill>
                  </a:tcPr>
                </a:tc>
              </a:tr>
            </a:tbl>
          </a:graphicData>
        </a:graphic>
      </p:graphicFrame>
      <p:sp>
        <p:nvSpPr>
          <p:cNvPr id="99" name="Line 25"/>
          <p:cNvSpPr/>
          <p:nvPr/>
        </p:nvSpPr>
        <p:spPr>
          <a:xfrm>
            <a:off x="3203640" y="404640"/>
            <a:ext cx="1224000" cy="432000"/>
          </a:xfrm>
          <a:prstGeom prst="line">
            <a:avLst/>
          </a:prstGeom>
          <a:ln w="93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00" name="Line 26"/>
          <p:cNvSpPr/>
          <p:nvPr/>
        </p:nvSpPr>
        <p:spPr>
          <a:xfrm>
            <a:off x="3276720" y="404640"/>
            <a:ext cx="1439640" cy="3888000"/>
          </a:xfrm>
          <a:prstGeom prst="line">
            <a:avLst/>
          </a:prstGeom>
          <a:ln w="93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01" name="Line 27"/>
          <p:cNvSpPr/>
          <p:nvPr/>
        </p:nvSpPr>
        <p:spPr>
          <a:xfrm>
            <a:off x="3348000" y="476280"/>
            <a:ext cx="1511280" cy="5832360"/>
          </a:xfrm>
          <a:prstGeom prst="line">
            <a:avLst/>
          </a:prstGeom>
          <a:ln w="93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0" y="907920"/>
            <a:ext cx="4032360" cy="5950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2"/>
          <a:stretch/>
        </p:blipFill>
        <p:spPr>
          <a:xfrm>
            <a:off x="3995640" y="1989000"/>
            <a:ext cx="5715000" cy="342900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925040" cy="2158920"/>
          </a:xfrm>
          <a:prstGeom prst="rect">
            <a:avLst/>
          </a:prstGeom>
          <a:solidFill>
            <a:srgbClr val="f8fd1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a3130"/>
                </a:solidFill>
                <a:latin typeface="OCR A Extended"/>
              </a:rPr>
              <a:t>Стоимость потребительской корзины: данные за </a:t>
            </a:r>
            <a:r>
              <a:rPr b="1" lang="ru-RU" sz="3600" spc="-1" strike="noStrike">
                <a:solidFill>
                  <a:srgbClr val="0a3130"/>
                </a:solidFill>
                <a:latin typeface="Baskerville Old Face"/>
              </a:rPr>
              <a:t>3</a:t>
            </a:r>
            <a:r>
              <a:rPr b="1" lang="ru-RU" sz="3600" spc="-1" strike="noStrike">
                <a:solidFill>
                  <a:srgbClr val="0a3130"/>
                </a:solidFill>
                <a:latin typeface="OCR A Extended"/>
              </a:rPr>
              <a:t> года</a:t>
            </a:r>
            <a:br>
              <a:rPr sz="3600"/>
            </a:br>
            <a:r>
              <a:rPr b="1" lang="ru-RU" sz="3600" spc="-1" strike="noStrike">
                <a:solidFill>
                  <a:srgbClr val="0a3130"/>
                </a:solidFill>
                <a:latin typeface="OCR A Extended"/>
              </a:rPr>
              <a:t>(продукты</a:t>
            </a:r>
            <a:r>
              <a:rPr b="1" lang="ru-RU" sz="3600" spc="-1" strike="noStrike">
                <a:solidFill>
                  <a:srgbClr val="0a3130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0a3130"/>
                </a:solidFill>
                <a:latin typeface="OCR A Extended"/>
              </a:rPr>
              <a:t>,</a:t>
            </a:r>
            <a:r>
              <a:rPr b="1" lang="ru-RU" sz="3600" spc="-1" strike="noStrike">
                <a:solidFill>
                  <a:srgbClr val="62139e"/>
                </a:solidFill>
                <a:latin typeface="OCR A Extended"/>
              </a:rPr>
              <a:t>весь набор товаров и услуг)</a:t>
            </a:r>
            <a:endParaRPr b="0" lang="en-US" sz="3600" spc="-1" strike="noStrike">
              <a:solidFill>
                <a:srgbClr val="996600"/>
              </a:solidFill>
              <a:latin typeface="Arial Black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33520" y="2708280"/>
          <a:ext cx="7924680" cy="2987640"/>
        </p:xfrm>
        <a:graphic>
          <a:graphicData uri="http://schemas.openxmlformats.org/drawingml/2006/table">
            <a:tbl>
              <a:tblPr/>
              <a:tblGrid>
                <a:gridCol w="1981080"/>
                <a:gridCol w="1981080"/>
                <a:gridCol w="1981440"/>
                <a:gridCol w="19810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2139e"/>
                          </a:solidFill>
                          <a:latin typeface="Baskerville Old Face"/>
                        </a:rPr>
                        <a:t>2007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2139e"/>
                          </a:solidFill>
                          <a:latin typeface="Baskerville Old Face"/>
                        </a:rPr>
                        <a:t>2008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2139e"/>
                          </a:solidFill>
                          <a:latin typeface="Baskerville Old Face"/>
                        </a:rPr>
                        <a:t>2009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2139e"/>
                          </a:solidFill>
                          <a:latin typeface="Baskerville Old Face"/>
                        </a:rPr>
                        <a:t>2010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</a:tr>
              <a:tr h="246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1801,95 </a:t>
                      </a:r>
                      <a:endParaRPr b="0" lang="en-US" sz="3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5421,2</a:t>
                      </a: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 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2116,42 </a:t>
                      </a:r>
                      <a:endParaRPr b="0" lang="en-US" sz="3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6334,12</a:t>
                      </a: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 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2131,01</a:t>
                      </a:r>
                      <a:endParaRPr b="0" lang="en-US" sz="3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7292,01</a:t>
                      </a: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 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2192,72</a:t>
                      </a:r>
                      <a:endParaRPr b="0" lang="en-US" sz="3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8014,17</a:t>
                      </a: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 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</a:tr>
            </a:tbl>
          </a:graphicData>
        </a:graphic>
      </p:graphicFrame>
      <p:sp>
        <p:nvSpPr>
          <p:cNvPr id="108" name="Oval 29"/>
          <p:cNvSpPr/>
          <p:nvPr/>
        </p:nvSpPr>
        <p:spPr>
          <a:xfrm>
            <a:off x="1763640" y="5373720"/>
            <a:ext cx="6408720" cy="1484280"/>
          </a:xfrm>
          <a:prstGeom prst="ellipse">
            <a:avLst/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3130"/>
                </a:solidFill>
                <a:latin typeface="Baskerville Old Face"/>
              </a:rPr>
              <a:t>Прожиточный минимум (Иркутская область)</a:t>
            </a:r>
            <a:endParaRPr b="0" lang="en-US" sz="20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a3130"/>
                </a:solidFill>
                <a:latin typeface="Baskerville Old Face"/>
              </a:rPr>
              <a:t>4 710 руб.</a:t>
            </a:r>
            <a:endParaRPr b="0" lang="en-US" sz="2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99640" y="0"/>
            <a:ext cx="7566120" cy="719280"/>
          </a:xfrm>
          <a:prstGeom prst="rect">
            <a:avLst/>
          </a:prstGeom>
          <a:solidFill>
            <a:srgbClr val="fff9c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OCR A Extended"/>
              </a:rPr>
              <a:t>Главные признаки богатства</a:t>
            </a:r>
            <a:endParaRPr b="0" lang="en-US" sz="36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solidFill>
            <a:srgbClr val="fff9c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Font typeface="OCR A Extend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0033"/>
                </a:solidFill>
                <a:uFillTx/>
                <a:latin typeface="OCR A Extended"/>
              </a:rPr>
              <a:t>Качество жилищных условий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OCR A Extend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OCR A Extended"/>
              </a:rPr>
              <a:t>Возможность провести отпуск за границей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Font typeface="OCR A Extend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0033"/>
                </a:solidFill>
                <a:uFillTx/>
                <a:latin typeface="OCR A Extended"/>
              </a:rPr>
              <a:t>Доступность приобретения дорогой мебели и бытовой техники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OCR A Extend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OCR A Extended"/>
              </a:rPr>
              <a:t>Уровень медицинского обслуживания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OCR A Extend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OCR A Extended"/>
              </a:rPr>
              <a:t>Возможность для детей добиться в жизни намного большего, чем большинство их сверстников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OCR A Extend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OCR A Extended"/>
              </a:rPr>
              <a:t>Возможности получения хорошего образования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OCR A Extend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OCR A Extended"/>
              </a:rPr>
              <a:t>Большая уверенность в завтрашнем дне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Font typeface="OCR A Extend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0033"/>
                </a:solidFill>
                <a:uFillTx/>
                <a:latin typeface="OCR A Extended"/>
              </a:rPr>
              <a:t>Возможности проведения досуга (посещение дорогостоящих дискотек, ресторанов и т.д.)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OCR A Extend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OCR A Extended"/>
              </a:rPr>
              <a:t>Возможность приобретения недвижимости за рубежом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Font typeface="OCR A Extend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0033"/>
                </a:solidFill>
                <a:uFillTx/>
                <a:latin typeface="OCR A Extended"/>
              </a:rPr>
              <a:t>Наличие дорогого автомобиля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Font typeface="OCR A Extend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0033"/>
                </a:solidFill>
                <a:uFillTx/>
                <a:latin typeface="OCR A Extended"/>
              </a:rPr>
              <a:t>Возможность иметь интересную работу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Font typeface="OCR A Extend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0033"/>
                </a:solidFill>
                <a:uFillTx/>
                <a:latin typeface="OCR A Extended"/>
              </a:rPr>
              <a:t>Отношение к ним окружающих</a:t>
            </a:r>
            <a:r>
              <a:rPr b="1" lang="ru-RU" sz="2400" spc="-1" strike="noStrike">
                <a:solidFill>
                  <a:srgbClr val="333399"/>
                </a:solidFill>
                <a:latin typeface="OCR A Extended"/>
              </a:rPr>
              <a:t> 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OCR A Extend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OCR A Extended"/>
              </a:rPr>
              <a:t>Незащищенность от физического насилия и посягательств на их собственность 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0" y="0"/>
          <a:ext cx="9144000" cy="8607600"/>
        </p:xfrm>
        <a:graphic>
          <a:graphicData uri="http://schemas.openxmlformats.org/drawingml/2006/table">
            <a:tbl>
              <a:tblPr/>
              <a:tblGrid>
                <a:gridCol w="225360"/>
                <a:gridCol w="1913040"/>
                <a:gridCol w="1401840"/>
                <a:gridCol w="1326960"/>
                <a:gridCol w="4276800"/>
              </a:tblGrid>
              <a:tr h="117468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Имя</a:t>
                      </a:r>
                      <a:r>
                        <a:rPr b="1" lang="ru-RU" sz="24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	</a:t>
                      </a:r>
                      <a:r>
                        <a:rPr b="1" lang="ru-RU" sz="16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 </a:t>
                      </a:r>
                      <a:endParaRPr b="0" lang="en-US" sz="1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Оценка, $ млрд. 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Оценка, млрд .руб .</a:t>
                      </a:r>
                      <a:endParaRPr b="0" lang="en-US" sz="1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Статус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</a:tr>
              <a:tr h="102564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1965</a:t>
                      </a:r>
                      <a:endParaRPr b="0" lang="en-US" sz="1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Михаил Прохоров </a:t>
                      </a:r>
                      <a:endParaRPr b="0" lang="en-US" sz="1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14,10</a:t>
                      </a: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	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Baskerville Old Face"/>
                        </a:rPr>
                        <a:t>414,3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Друг моделей. Узник Куршевеля. Сноб. Одним словом, Global Russian </a:t>
                      </a:r>
                      <a:endParaRPr b="0" lang="en-US" sz="1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</a:tr>
              <a:tr h="102384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1966</a:t>
                      </a:r>
                      <a:endParaRPr b="0" lang="en-US" sz="1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Роман Абрамович </a:t>
                      </a:r>
                      <a:endParaRPr b="0" lang="en-US" sz="1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13,9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Baskerville Old Face"/>
                        </a:rPr>
                        <a:t>408,4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Поклонник красоты модельера Дарьи Жуковой и акционер Evraz Group</a:t>
                      </a: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	</a:t>
                      </a: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 </a:t>
                      </a:r>
                      <a:endParaRPr b="0" lang="en-US" sz="1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</a:tr>
              <a:tr h="102564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1956</a:t>
                      </a:r>
                      <a:endParaRPr b="0" lang="en-US" sz="1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Владимир Лисин </a:t>
                      </a:r>
                      <a:endParaRPr b="0" lang="en-US" sz="1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7,7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Baskerville Old Face"/>
                        </a:rPr>
                        <a:t>226,2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Владелец заводов (НЛМК), газет («Газета»), пароходов (UCL Holding)</a:t>
                      </a:r>
                      <a:endParaRPr b="0" lang="en-US" sz="1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</a:tr>
              <a:tr h="105552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1950</a:t>
                      </a:r>
                      <a:endParaRPr b="0" lang="en-US" sz="1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Вагит Алекперов </a:t>
                      </a:r>
                      <a:endParaRPr b="0" lang="en-US" sz="1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7,60</a:t>
                      </a: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	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Baskerville Old Face"/>
                        </a:rPr>
                        <a:t>223,3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Начинал буровиком, теперь владеет пятой частью «Лукойла </a:t>
                      </a:r>
                      <a:endParaRPr b="0" lang="en-US" sz="1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</a:tr>
              <a:tr h="111672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1966</a:t>
                      </a:r>
                      <a:endParaRPr b="0" lang="en-US" sz="1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Сулейман Керимов </a:t>
                      </a:r>
                      <a:endParaRPr b="0" lang="en-US" sz="1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7,50</a:t>
                      </a: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	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Baskerville Old Face"/>
                        </a:rPr>
                        <a:t>220,3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Член Совета федерации, разбогатевший на инвестициях в акции </a:t>
                      </a:r>
                      <a:endParaRPr b="0" lang="en-US" sz="1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</a:tr>
              <a:tr h="116208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1964</a:t>
                      </a:r>
                      <a:endParaRPr b="0" lang="en-US" sz="1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Михаил Фридман</a:t>
                      </a: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	</a:t>
                      </a:r>
                      <a:endParaRPr b="0" lang="en-US" sz="1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6,10</a:t>
                      </a: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	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Baskerville Old Face"/>
                        </a:rPr>
                        <a:t>179,2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Совладелец «Альфа-групп», не уживающийся с западными партнерами</a:t>
                      </a: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	</a:t>
                      </a: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 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</a:tr>
              <a:tr h="102348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1961</a:t>
                      </a:r>
                      <a:endParaRPr b="0" lang="en-US" sz="1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Владимир Потанин </a:t>
                      </a:r>
                      <a:endParaRPr b="0" lang="en-US" sz="1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5,0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Baskerville Old Face"/>
                        </a:rPr>
                        <a:t>146,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Лицо тандема 2П (Потанин – Прохоров). Теперь работает только на себя </a:t>
                      </a:r>
                      <a:endParaRPr b="0" lang="en-US" sz="1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</a:tr>
            </a:tbl>
          </a:graphicData>
        </a:graphic>
      </p:graphicFrame>
      <p:sp>
        <p:nvSpPr>
          <p:cNvPr id="114" name="Oval 203"/>
          <p:cNvSpPr/>
          <p:nvPr/>
        </p:nvSpPr>
        <p:spPr>
          <a:xfrm>
            <a:off x="1835280" y="2205000"/>
            <a:ext cx="5472000" cy="1295280"/>
          </a:xfrm>
          <a:prstGeom prst="ellipse">
            <a:avLst/>
          </a:prstGeom>
          <a:solidFill>
            <a:srgbClr val="fff9cf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OCR A Extended"/>
              </a:rPr>
              <a:t>Миллионеры России 2008 г.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648640" cy="6858000"/>
          </a:xfrm>
          <a:prstGeom prst="rect">
            <a:avLst/>
          </a:prstGeom>
          <a:solidFill>
            <a:srgbClr val="fff9cf"/>
          </a:solidFill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В июне 2010 года среднемесячная начисленная заработная плата составляла </a:t>
            </a:r>
            <a:r>
              <a:rPr b="1" lang="ru-RU" sz="2400" spc="-1" strike="noStrike">
                <a:solidFill>
                  <a:srgbClr val="ff3300"/>
                </a:solidFill>
                <a:latin typeface="Baskerville Old Face"/>
              </a:rPr>
              <a:t>21597 руб.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По данным на март 2010 года, средняя начисленная заработная плата в России составляла </a:t>
            </a:r>
            <a:r>
              <a:rPr b="1" lang="ru-RU" sz="2400" spc="-1" strike="noStrike">
                <a:solidFill>
                  <a:srgbClr val="ff3300"/>
                </a:solidFill>
                <a:latin typeface="Baskerville Old Face"/>
              </a:rPr>
              <a:t>20383 руб/мес</a:t>
            </a: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, в том числе в: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обрабатывающих производствах            </a:t>
            </a:r>
            <a:r>
              <a:rPr b="1" lang="ru-RU" sz="2400" spc="-1" strike="noStrike">
                <a:solidFill>
                  <a:srgbClr val="0a3130"/>
                </a:solidFill>
                <a:latin typeface="Baskerville Old Face"/>
              </a:rPr>
              <a:t>18297 руб/мес</a:t>
            </a: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;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производстве машин и оборудования     </a:t>
            </a:r>
            <a:r>
              <a:rPr b="1" lang="ru-RU" sz="2400" spc="-1" strike="noStrike">
                <a:solidFill>
                  <a:srgbClr val="0a3130"/>
                </a:solidFill>
                <a:latin typeface="Baskerville Old Face"/>
              </a:rPr>
              <a:t>19057 руб/мес</a:t>
            </a: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;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производстве нефтепродуктов                 </a:t>
            </a:r>
            <a:r>
              <a:rPr b="1" lang="ru-RU" sz="2400" spc="-1" strike="noStrike">
                <a:solidFill>
                  <a:srgbClr val="0a3130"/>
                </a:solidFill>
                <a:latin typeface="Baskerville Old Face"/>
              </a:rPr>
              <a:t>45228 руб/мес;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производстве пищевых продуктов и табака    </a:t>
            </a:r>
            <a:r>
              <a:rPr b="1" lang="ru-RU" sz="2400" spc="-1" strike="noStrike">
                <a:solidFill>
                  <a:srgbClr val="0a3130"/>
                </a:solidFill>
                <a:latin typeface="Baskerville Old Face"/>
              </a:rPr>
              <a:t>16982 руб/мес;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текстильном и швейном производстве   </a:t>
            </a:r>
            <a:r>
              <a:rPr b="1" lang="ru-RU" sz="2400" spc="-1" strike="noStrike">
                <a:solidFill>
                  <a:srgbClr val="0a3130"/>
                </a:solidFill>
                <a:latin typeface="Baskerville Old Face"/>
              </a:rPr>
              <a:t>10074 руб/мес</a:t>
            </a: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;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производстве кожи, изделий из кожи и производство обуви                                                              </a:t>
            </a:r>
            <a:r>
              <a:rPr b="1" lang="ru-RU" sz="2400" spc="-1" strike="noStrike">
                <a:solidFill>
                  <a:srgbClr val="0a3130"/>
                </a:solidFill>
                <a:latin typeface="Baskerville Old Face"/>
              </a:rPr>
              <a:t>10616 руб/мес;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химическом производстве                          </a:t>
            </a:r>
            <a:r>
              <a:rPr b="1" lang="ru-RU" sz="2400" spc="-1" strike="noStrike">
                <a:solidFill>
                  <a:srgbClr val="0a3130"/>
                </a:solidFill>
                <a:latin typeface="Baskerville Old Face"/>
              </a:rPr>
              <a:t>21956 руб/мес</a:t>
            </a: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;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металлургическом производстве              </a:t>
            </a:r>
            <a:r>
              <a:rPr b="1" lang="ru-RU" sz="2400" spc="-1" strike="noStrike">
                <a:solidFill>
                  <a:srgbClr val="0a3130"/>
                </a:solidFill>
                <a:latin typeface="Baskerville Old Face"/>
              </a:rPr>
              <a:t>23258 руб/мес</a:t>
            </a: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;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добыче полезных ископаемых                   </a:t>
            </a:r>
            <a:r>
              <a:rPr b="1" lang="ru-RU" sz="2400" spc="-1" strike="noStrike">
                <a:solidFill>
                  <a:srgbClr val="0a3130"/>
                </a:solidFill>
                <a:latin typeface="Baskerville Old Face"/>
              </a:rPr>
              <a:t>39742 руб/мес;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добыче топливно-энергетических полезных 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ископаемых                                                      </a:t>
            </a:r>
            <a:r>
              <a:rPr b="1" lang="ru-RU" sz="2400" spc="-1" strike="noStrike">
                <a:solidFill>
                  <a:srgbClr val="0a3130"/>
                </a:solidFill>
                <a:latin typeface="Baskerville Old Face"/>
              </a:rPr>
              <a:t>47559 руб/мес;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добыче полезных ископаемых (кроме топливно-энергетических)                                        </a:t>
            </a:r>
            <a:r>
              <a:rPr b="1" lang="ru-RU" sz="2400" spc="-1" strike="noStrike">
                <a:solidFill>
                  <a:srgbClr val="0a3130"/>
                </a:solidFill>
                <a:latin typeface="Baskerville Old Face"/>
              </a:rPr>
              <a:t>25361 руб/мес;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3:02:56Z</dcterms:created>
  <dc:creator>Лена</dc:creator>
  <dc:description/>
  <cp:keywords/>
  <dc:language>en-US</dc:language>
  <cp:lastModifiedBy>LEGION</cp:lastModifiedBy>
  <dcterms:modified xsi:type="dcterms:W3CDTF">2016-01-04T08:17:50Z</dcterms:modified>
  <cp:revision>22</cp:revision>
  <dc:subject/>
  <dc:title>Перераспределение доход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251049</vt:lpwstr>
  </property>
</Properties>
</file>