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92F4-75A3-4A05-AFFE-D2C8987923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9C5-3512-49BE-A19F-2CECCF09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DA4-B895-4D40-99E6-088A4AF3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E74-D81A-45CE-8CFD-AE5979D6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220-FBD2-453C-B8F0-54AB15BC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93E8-BDF2-4F68-B450-240F03FD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8D0E-0E66-40F3-8642-4700DCA8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7AF7-A57C-4270-9136-2C0759EA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CCA7-CEDA-4D00-99DC-65B5687D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E994-9D7B-4039-B86B-DB0321B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5BAA-1654-4F78-9CD0-8392C91B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44AB-9BE0-4558-92B7-B160151F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BA4-F896-45F1-BAED-07F4E186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EA6D-B555-4C75-85CB-B632853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5B7B-E158-4E05-A5FE-F07C07FD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FBD0-1CF7-4920-8E89-5961CBA8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70BD-89AC-4E7D-B470-C7FB2D21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E70D-2EEE-4574-9FF9-5DE3D079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D5F-4768-46E7-A161-2EAA6F72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31E-E891-4A02-B9F1-FA64F8B3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0BB-AA92-460C-AC75-9784CECC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6BE-E553-421E-A671-C6F29DA0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D07-4089-4616-9AD3-81119003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543-31BD-4783-9299-47A70BA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9E2-EB1D-456F-9DD8-91AD4245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125360"/>
            <a:ext cx="7391160" cy="319320"/>
            <a:chOff x="250560" y="1125360"/>
            <a:chExt cx="7391160" cy="319320"/>
          </a:xfrm>
        </p:grpSpPr>
        <p:sp>
          <p:nvSpPr>
            <p:cNvPr id="4" name="AutoShape 7"/>
            <p:cNvSpPr/>
            <p:nvPr/>
          </p:nvSpPr>
          <p:spPr>
            <a:xfrm>
              <a:off x="631440" y="1125360"/>
              <a:ext cx="701028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125360"/>
              <a:ext cx="39348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C4CC-25A7-497E-A535-15BE497CB72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C89D-1E5E-4FFE-B9A2-6CEB33CA3FA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Times New Roman"/>
              </a:rPr>
              <a:t>ТЕМА 4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СНОВЫ ТЕОРИИ СПРОСА И ПРЕДЛОЖЕНИЯ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71640" y="43898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фическое изображение функции спроса от цены на координатной плоскости получило название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крив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4637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требительский спрос на рынке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71640" y="2205000"/>
          <a:ext cx="7704000" cy="1620720"/>
        </p:xfrm>
        <a:graphic>
          <a:graphicData uri="http://schemas.openxmlformats.org/drawingml/2006/table">
            <a:tbl>
              <a:tblPr/>
              <a:tblGrid>
                <a:gridCol w="2058840"/>
                <a:gridCol w="1128600"/>
                <a:gridCol w="1128960"/>
                <a:gridCol w="1130400"/>
                <a:gridCol w="1128600"/>
                <a:gridCol w="1128600"/>
              </a:tblGrid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d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2935440" y="2060640"/>
          <a:ext cx="42289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2060640"/>
                    <a:ext cx="42289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7"/>
          <p:cNvSpPr/>
          <p:nvPr/>
        </p:nvSpPr>
        <p:spPr>
          <a:xfrm>
            <a:off x="1553040" y="165456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спроса на рынке бытовых пылесосов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величины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ости всех прочих параметров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2987640" y="3645000"/>
          <a:ext cx="345744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3457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3203640" y="3500280"/>
          <a:ext cx="3384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500280"/>
                    <a:ext cx="3384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971640" y="1630800"/>
            <a:ext cx="7705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спроса, называют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детерминантами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Основными детерминантами спроса являютс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кусы (предпочтения)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число потребителей на рынке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ходы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ы на сопряженные товары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требительские ожидания относительно будущих цен и доходов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900000" y="1698840"/>
            <a:ext cx="7705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Закон спрос: 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существует обратная зависимость между ценой и величиной спроса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71640" y="28652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дохода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00000" y="48830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замещения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 изменение величины спроса на товар в результате замещения (замены) более дорогих товаров менее дорогими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00000" y="1627560"/>
            <a:ext cx="77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редложени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900000" y="448200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 предложения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971640" y="23500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Цена предложения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) показывает минимальную цену за данное количество товара по которой продавец еще готов продать свой товар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42920" y="14274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Функция предложения от цен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= ƒ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еличина предложения;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6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50160" y="42220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Рыночное предложение бытовых пылесосо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14560" y="4799160"/>
          <a:ext cx="7489800" cy="1366560"/>
        </p:xfrm>
        <a:graphic>
          <a:graphicData uri="http://schemas.openxmlformats.org/drawingml/2006/table">
            <a:tbl>
              <a:tblPr/>
              <a:tblGrid>
                <a:gridCol w="2641320"/>
                <a:gridCol w="970200"/>
                <a:gridCol w="968400"/>
                <a:gridCol w="969840"/>
                <a:gridCol w="969840"/>
                <a:gridCol w="970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s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Rectangle 88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Object 87"/>
          <p:cNvGraphicFramePr/>
          <p:nvPr/>
        </p:nvGraphicFramePr>
        <p:xfrm>
          <a:off x="2340000" y="2060640"/>
          <a:ext cx="447048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44704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89"/>
          <p:cNvSpPr/>
          <p:nvPr/>
        </p:nvSpPr>
        <p:spPr>
          <a:xfrm>
            <a:off x="1549800" y="172764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предложения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Тема 4. Основы теории спроса и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187280" y="2106720"/>
            <a:ext cx="74883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спроса. Цена спроса. Закон спроса. Кривая спроса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Рыночное равновесие. Вмешательство государства в рыночное равновесие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232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Rectangle 674"/>
          <p:cNvSpPr/>
          <p:nvPr/>
        </p:nvSpPr>
        <p:spPr>
          <a:xfrm>
            <a:off x="3419640" y="14086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ла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00000" y="1629360"/>
            <a:ext cx="60501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величины предложения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6600960" y="1484280"/>
          <a:ext cx="2363760" cy="22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1484280"/>
                    <a:ext cx="23637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6588000" y="4292640"/>
          <a:ext cx="244800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292640"/>
                    <a:ext cx="2448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9"/>
          <p:cNvSpPr/>
          <p:nvPr/>
        </p:nvSpPr>
        <p:spPr>
          <a:xfrm>
            <a:off x="826920" y="4581720"/>
            <a:ext cx="6050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предложения,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971640" y="1580400"/>
            <a:ext cx="777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предложения, называют 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детерминантами предложения</a:t>
            </a: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3366"/>
                </a:solidFill>
                <a:uFillTx/>
                <a:latin typeface="Times New Roman"/>
              </a:rPr>
              <a:t>К основным детерминантам предложения можно отнести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ресурс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число продавцов на рынке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технология производства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налоги и субсидии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другие товар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ожидания производителей изменения цен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042920" y="155736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ыночное равновес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5938920" y="3500280"/>
          <a:ext cx="30970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8920" y="3500280"/>
                    <a:ext cx="30970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42920" y="343692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Этой точке соответствует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ая цен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Ре = Рd = Р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 и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ый объем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6000" y="148428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толок цены»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Object 7"/>
          <p:cNvGraphicFramePr/>
          <p:nvPr/>
        </p:nvGraphicFramePr>
        <p:xfrm>
          <a:off x="2627280" y="3500280"/>
          <a:ext cx="446580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500280"/>
                    <a:ext cx="446580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116000" y="16977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л цены»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2411280" y="3357720"/>
          <a:ext cx="4248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4248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042920" y="1556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прос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это платежеспособная потребность в каком-либо товаре или услуг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042920" y="3140640"/>
            <a:ext cx="74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ндивидуаль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на товар отражает желания и возможности отдельного потребителя, общий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рыноч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будет суммированным отражением спроса на какой-либо товар со стороны всех потенциальных потребителей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042920" y="18759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радиционно принято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выделять две специфические разновидности рыночного спрос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обусловленный присущими данному благу потребительскими качествами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не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63000" y="165456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рисоединения к большинству (эффект ваго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1619280" y="2336760"/>
          <a:ext cx="6840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36760"/>
                    <a:ext cx="6840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711600" y="1627920"/>
            <a:ext cx="25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ффект сноб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985080" cy="423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22480" y="1654560"/>
            <a:ext cx="78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оказательного потребления (эффект Вебле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2268360" y="2276640"/>
          <a:ext cx="56167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76640"/>
                    <a:ext cx="5616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69128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объём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ntity of deman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42920" y="441072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Максимальная цена, которую покупатели готовы заплатить за определенное количество данного товара или услуги называетс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цен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18435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висимость между величиной спроса и определяющими его факторами (детерминантами) называют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функцие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= ƒ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величина спроса на товар;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6:47:00Z</dcterms:created>
  <dc:creator>JR</dc:creator>
  <dc:description/>
  <dc:language>en-US</dc:language>
  <cp:lastModifiedBy>LEGION</cp:lastModifiedBy>
  <dcterms:modified xsi:type="dcterms:W3CDTF">2016-01-04T08:18:06Z</dcterms:modified>
  <cp:revision>80</cp:revision>
  <dc:subject/>
  <dc:title>Тема 4 основы теории спроса и предложения</dc:title>
</cp:coreProperties>
</file>