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DCDA-54A4-4F61-9544-E5FCCFF250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ТЕОРИИ СПРОСА И ПРЕДЛОЖ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А 4</a:t>
            </a:r>
            <a:br>
              <a:rPr sz="1200"/>
            </a:b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Ы ТЕОРИИ СПРОСА И ПРЕДЛОЖЕНИЯ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ческое изображение функции спроса от цены на координатной плоскости получило название крив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й спрос на рынке бытовых пылесо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рафическое изображение функции спроса от цены на координатной плоскости получило название кривой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требительский спрос на рынке бытовых пылесос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проса на рынке бытовых пылесо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ивая спроса на рынке бытовых пылесосов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спроса наблюдается при изменении цены рассматриваемого товара и неизменности всех прочих парамет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графике подобное изменение отражается движением вдоль кривой спроса, например, из точки А в точку В (и в обратном направлен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величины спроса наблюдается при изменении цены рассматриваемого товара и неизменности всех прочих параметров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 графике подобное изменение отражается движением вдоль кривой спроса, например, из точки А в точку В (и в обратном направлении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спроса происходит при неизменности рыночных цен на рассматриваемый товар, т.е. под воздействием каких-либо неценовых факторов, и на графике отражается смещением всей кривой спроса вправо и вверх (если спрос растет) или влево и вниз (если пада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спроса происходит при неизменности рыночных цен на рассматриваемый товар, т.е. под воздействием каких-либо неценовых факторов, и на графике отражается смещением всей кривой спроса вправо и вверх (если спрос растет) или влево и вниз (если падает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мещающие кривую спроса, называют детерминантами спр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детерминантами спроса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усы (предпочтения) потреб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отребителей на рынк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потреб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сопряженные това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е ожидания относительно будущих цен и дох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акторы, смещающие кривую спроса, называют детерминантами спроса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ыми детерминантами спроса являются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кусы (предпочтения) потребителей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число потребителей на рынке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оходы потребителей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ы на сопряженные товары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требительские ожидания относительно будущих цен и доходов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: существует обратная зависимость между ценой и величин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 – изменение величины спроса на товар в результате изменения реальных доходов вследствие повышения или понижение уровня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 –  изменение величины спроса на товар в результате замещения (замены) более дорогих товаров менее дорог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кон спрос: существует обратная зависимость между ценой и величиной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дохода – изменение величины спроса на товар в результате изменения реальных доходов вследствие повышения или понижение уровня цен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замещения –  изменение величины спроса на товар в результате замещения (замены) более дорогих товаров менее дорогими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- совокупность товаров и услуг, которые находятся в данный момент на рынке, и которые продавцы (производители) готовы продать при существую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предложения (Qs) - количество товаров и услуг, которое продавцы готовы продать в данное время, в данном месте и при данных цен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ложение - совокупность товаров и услуг, которые находятся в данный момент на рынке, и которые продавцы (производители) готовы продать при существующих ценах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еличина предложения (Qs) - количество товаров и услуг, которое продавцы готовы продать в данное время, в данном месте и при данных ценах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предложения (Рs) показывает минимальную цену за данное количество товара по которой продавец еще готов продать свой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а предложения (Рs) показывает минимальную цену за данное количество товара по которой продавец еще готов продать свой товар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редложения от це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s = ƒ Qs(Р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Qs – величина предло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предложение бытовых пылесо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ункция предложения от цены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Qs = ƒ Qs(Р),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де Qs – величина предложения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чное предложение бытовых пылесос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предложения бытовых пылесо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ивая предложения бытовых пылесос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сновы теори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спроса. Цена спроса. Закон спроса. Кривая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предложения. Цена предложения. Закон предложения. Кривая пред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. Вмешательство государства в рыночное равновес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а 4. Основы теории спроса и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щая характеристика спроса. Цена спроса. Закон спроса. Кривая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щая характеристика предложения. Цена предложения. Закон предложения. Кривая предложения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чное равновесие. Вмешательство государства в рыночное равновесие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предложения наблюдается при изменении цены рассматриваемого товара и неизменных прочих факторах рыночной конъюнктуры и предполагает движение вдоль кривой пред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предложения, напротив, означает изменение всей функции предложения за счет изменения каких-либо неценовых факторов при неизменной цене, и изображается путем смещения всей крив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величины предложения наблюдается при изменении цены рассматриваемого товара и неизменных прочих факторах рыночной конъюнктуры и предполагает движение вдоль кривой предложения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предложения, напротив, означает изменение всей функции предложения за счет изменения каких-либо неценовых факторов при неизменной цене, и изображается путем смещения всей кривой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мещающие кривую предложения, называют детерминантами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сновным детерминантам предложения можно отне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родавцов на рынк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оги и субсид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 производителей изменения ц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акторы, смещающие кривую предложения, называют детерминантами предложения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 основным детерминантам предложения можно отнести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ы на ресурсы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число продавцов на рынке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хнология производства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логи и субсидии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ы на другие товары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жидания производителей изменения цен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можно определить как состояние, при котором ни у кого из экономических субъектов не возникает побуждений к его измен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ительно к спросу и предложению точка рыночного равновесия будет находится в точке пересечения кривых спроса и предложения, т.е. в точке 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й точке соответствует равновесная цена (Ре = Рd = Рs) и равновесный объем (Qe = Qd = Q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чное равновесие можно определить как состояние, при котором ни у кого из экономических субъектов не возникает побуждений к его изменению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нительно к спросу и предложению точка рыночного равновесия будет находится в точке пересечения кривых спроса и предложения, т.е. в точке Е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той точке соответствует равновесная цена (Ре = Рd = Рs) и равновесный объем (Qe = Qd = Qs)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толок цены» представляет собой законодательно установленную максимальную цену, которую продавцу разрешается запрашивать за свой товар. «Потолки цен» всегда ниже цен равнове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Потолок цены» представляет собой законодательно установленную максимальную цену, которую продавцу разрешается запрашивать за свой товар. «Потолки цен» всегда ниже цен равновесия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л цены» это, наоборот, минимальная цена, установленная государством и превышающая цену равновесия. То есть производителям не разрешается продавать товары ниже этих ц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Пол цены» это, наоборот, минимальная цена, установленная государством и превышающая цену равновесия. То есть производителям не разрешается продавать товары ниже этих цен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– это платежеспособная потребность в каком-либо товаре или услуг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ый спрос на товар отражает желания и возможности отдельного потребителя, общий рыночный спрос будет суммированным отражением спроса на какой-либо товар со стороны всех потенциальных потребител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рос – это платежеспособная потребность в каком-либо товаре или услуге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ндивидуальный спрос на товар отражает желания и возможности отдельного потребителя, общий рыночный спрос будет суммированным отражением спроса на какой-либо товар со стороны всех потенциальных потребителей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диционно принято выделять две специфические разновидности рыночного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функциональный спрос, обусловленный присущими данному благу потребительскими качеств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нефункциональный спрос, возникающий у потребителя не в силу потребительских характеристик товара, а под влиянием каких-либо других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радиционно принято выделять две специфические разновидности рыночного спроса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*функциональный спрос, обусловленный присущими данному благу потребительскими качествами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*нефункциональный спрос, возникающий у потребителя не в силу потребительских характеристик товара, а под влиянием каких-либо других факторов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присоединения к большинству (эффект ваго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присоединения к большинству (эффект вагона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сноб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сноба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показательного потребления (эффект Вебле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показательного потребления (эффект Веблена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(объём) спроса (Qd, quantity of demand) – количество товаров и услуг, которое покупатели готовы приобрести в данное время, в данном месте, при данны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альная цена, которую покупатели готовы заплатить за определенное количество данного товара или услуги называется ценой спроса (Р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еличина (объём) спроса (Qd, quantity of demand) – количество товаров и услуг, которое покупатели готовы приобрести в данное время, в данном месте, при данных ценах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аксимальная цена, которую покупатели готовы заплатить за определенное количество данного товара или услуги называется ценой спроса (Рd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между величиной спроса и определяющими его факторами (детерминантами) называют функцие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d = ƒQd(Р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Qd – величина спроса на товар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висимость между величиной спроса и определяющими его факторами (детерминантами) называют функцией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Qd = ƒQd(Р),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де Qd – величина спроса на товар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0DE9-B173-40B8-84F5-A6BC94BF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3454-4CF4-42B9-AEF4-40FC577D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003D-7D0E-4CBC-96D1-63832F9B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39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0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39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0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EA9-CB4C-4DF9-BDB0-AEE419B5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9EB0-F573-441E-B4C7-AFFD35D3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6B8E-CA98-48E5-8B8C-2D3A1483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A702-3006-416B-A3CB-108EA306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6BAE-7FFF-4786-8952-007CCCF6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FEBD-30FE-41D3-95AC-B3C74450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269880" y="66600"/>
            <a:ext cx="5807160" cy="42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3DDA-2950-4A07-90FF-9F64E694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11DE-143A-409C-8D26-452FC0ED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9F54-ADE3-4730-910D-FC533887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43D5-F220-4D86-818B-160154E9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856A-A249-4A6A-9505-129EAE35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476F-A2D8-4592-8E5D-8900E0AA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A661-77DA-4327-90E7-8CEFCD5A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EBA9-4F6D-4107-8985-1F6F6113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A3C2-0BD1-45DD-ACF6-AB3BFC3F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6D1F-59D1-4055-9D5B-2021130F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A98B-7A46-427E-85AC-3414651F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269880" y="66600"/>
            <a:ext cx="5807160" cy="42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F34E-7FD9-4C96-9410-CD440B33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4471-AC31-4109-A512-E484C44F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FF8A-6E95-46F3-81ED-5EF7DBD2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A650-F868-40F5-BCC9-B2E89F03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4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" name="Group 6"/>
          <p:cNvGrpSpPr/>
          <p:nvPr/>
        </p:nvGrpSpPr>
        <p:grpSpPr>
          <a:xfrm>
            <a:off x="250560" y="1125360"/>
            <a:ext cx="7391160" cy="319320"/>
            <a:chOff x="250560" y="1125360"/>
            <a:chExt cx="7391160" cy="319320"/>
          </a:xfrm>
        </p:grpSpPr>
        <p:sp>
          <p:nvSpPr>
            <p:cNvPr id="4" name="AutoShape 7"/>
            <p:cNvSpPr/>
            <p:nvPr/>
          </p:nvSpPr>
          <p:spPr>
            <a:xfrm>
              <a:off x="631440" y="1125360"/>
              <a:ext cx="701028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AutoShape 8"/>
            <p:cNvSpPr/>
            <p:nvPr/>
          </p:nvSpPr>
          <p:spPr>
            <a:xfrm flipH="1">
              <a:off x="250200" y="1125360"/>
              <a:ext cx="39348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1519-C674-4FD3-AEE9-544FDF9F0E6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50F6-8582-418E-A2B4-773F8BA5CFD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021680" y="1101960"/>
            <a:ext cx="7556400" cy="16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round/>
          </a:ln>
          <a:effectLst>
            <a:outerShdw dist="107932" dir="18900000" blurRad="0" rotWithShape="0">
              <a:srgbClr val="99cc99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66"/>
                </a:solidFill>
                <a:uFillTx/>
                <a:latin typeface="Times New Roman"/>
              </a:rPr>
              <a:t>ТЕМА 4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ОСНОВЫ ТЕОРИИ СПРОСА И ПРЕДЛОЖЕНИЯ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971640" y="4389840"/>
            <a:ext cx="77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Графическое изображение функции спроса от цены на координатной плоскости получило название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кривой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146376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Потребительский спрос на рынке бытовых пылесос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971640" y="2205000"/>
          <a:ext cx="7704000" cy="1620720"/>
        </p:xfrm>
        <a:graphic>
          <a:graphicData uri="http://schemas.openxmlformats.org/drawingml/2006/table">
            <a:tbl>
              <a:tblPr/>
              <a:tblGrid>
                <a:gridCol w="2058840"/>
                <a:gridCol w="1128600"/>
                <a:gridCol w="1128960"/>
                <a:gridCol w="1130400"/>
                <a:gridCol w="1128600"/>
                <a:gridCol w="1128600"/>
              </a:tblGrid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у.е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Qd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тыс. шт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9" name="Object 5"/>
          <p:cNvGraphicFramePr/>
          <p:nvPr/>
        </p:nvGraphicFramePr>
        <p:xfrm>
          <a:off x="2935440" y="2060640"/>
          <a:ext cx="422892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5440" y="2060640"/>
                    <a:ext cx="422892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7"/>
          <p:cNvSpPr/>
          <p:nvPr/>
        </p:nvSpPr>
        <p:spPr>
          <a:xfrm>
            <a:off x="1553040" y="1654560"/>
            <a:ext cx="65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ривая спроса на рынке бытовых пылесосов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971640" y="155448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зменение величины спрос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наблюдается при изменении цены рассматриваемого товара и неизменности всех прочих параметров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 графике подобное изменение отражается движением вдоль кривой спроса, например, из точки А в точку В (и в обратном направлении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2987640" y="3645000"/>
          <a:ext cx="3457440" cy="30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3645000"/>
                    <a:ext cx="345744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971640" y="155448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зменение спрос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происходит при неизменности рыночных цен на рассматриваемый товар, т.е. под воздействием каких-либо неценовых факторов, и на графике отражается смещением всей кривой спроса вправо и вверх (если спрос растет) или влево и вниз (если падает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3" name="Object 7"/>
          <p:cNvGraphicFramePr/>
          <p:nvPr/>
        </p:nvGraphicFramePr>
        <p:xfrm>
          <a:off x="3203640" y="3500280"/>
          <a:ext cx="3384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500280"/>
                    <a:ext cx="338436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971640" y="1630800"/>
            <a:ext cx="7705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Факторы, смещающие кривую спроса, называют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детерминантами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3366"/>
                </a:solidFill>
                <a:uFillTx/>
                <a:latin typeface="Times New Roman"/>
              </a:rPr>
              <a:t>Основными детерминантами спроса являются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вкусы (предпочтения) потребителей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число потребителей на рынке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доходы потребителей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цены на сопряженные товары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отребительские ожидания относительно будущих цен и доходов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900000" y="1698840"/>
            <a:ext cx="7705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Times New Roman"/>
              </a:rPr>
              <a:t>Закон спрос: </a:t>
            </a:r>
            <a:r>
              <a:rPr b="0" lang="ru-RU" sz="2900" spc="-1" strike="noStrike">
                <a:solidFill>
                  <a:srgbClr val="003366"/>
                </a:solidFill>
                <a:latin typeface="Times New Roman"/>
              </a:rPr>
              <a:t>существует обратная зависимость между ценой и величиной спроса.</a:t>
            </a:r>
            <a:endParaRPr b="0" lang="en-US" sz="2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971640" y="2865240"/>
            <a:ext cx="77058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Times New Roman"/>
              </a:rPr>
              <a:t>Эффект дохода</a:t>
            </a:r>
            <a:r>
              <a:rPr b="0" lang="ru-RU" sz="2900" spc="-1" strike="noStrike">
                <a:solidFill>
                  <a:srgbClr val="003366"/>
                </a:solidFill>
                <a:latin typeface="Times New Roman"/>
              </a:rPr>
              <a:t> – изменение величины спроса на товар в результате изменения реальных доходов вследствие повышения или понижение уровня цен.</a:t>
            </a:r>
            <a:endParaRPr b="0" lang="en-US" sz="2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900000" y="4883040"/>
            <a:ext cx="77058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Times New Roman"/>
              </a:rPr>
              <a:t>Эффект замещения</a:t>
            </a:r>
            <a:r>
              <a:rPr b="0" lang="ru-RU" sz="2900" spc="-1" strike="noStrike">
                <a:solidFill>
                  <a:srgbClr val="003366"/>
                </a:solidFill>
                <a:latin typeface="Times New Roman"/>
              </a:rPr>
              <a:t> –  изменение величины спроса на товар в результате замещения (замены) более дорогих товаров менее дорогими.</a:t>
            </a:r>
            <a:endParaRPr b="0" lang="en-US" sz="2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900000" y="1627560"/>
            <a:ext cx="777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редложение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- совокупность товаров и услуг, которые находятся в данный момент на рынке, и которые продавцы (производители) готовы продать при существующих ценах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900000" y="4482000"/>
            <a:ext cx="777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еличина предложения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) - количество товаров и услуг, которое продавцы готовы продать в данное время, в данном месте и при данных ценах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971640" y="235008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Цена предложения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(Р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) показывает минимальную цену за данное количество товара по которой продавец еще готов продать свой товар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1042920" y="14274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Функция предложения от цены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= ƒ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(Р),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где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– величина предложения;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Р</a:t>
            </a:r>
            <a:r>
              <a:rPr b="0" i="1" lang="ru-RU" sz="36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цена товара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Rectangle 81"/>
          <p:cNvSpPr/>
          <p:nvPr/>
        </p:nvSpPr>
        <p:spPr>
          <a:xfrm>
            <a:off x="650160" y="422208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Рыночное предложение бытовых пылесосов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114560" y="4799160"/>
          <a:ext cx="7489800" cy="1366560"/>
        </p:xfrm>
        <a:graphic>
          <a:graphicData uri="http://schemas.openxmlformats.org/drawingml/2006/table">
            <a:tbl>
              <a:tblPr/>
              <a:tblGrid>
                <a:gridCol w="2641320"/>
                <a:gridCol w="970200"/>
                <a:gridCol w="968400"/>
                <a:gridCol w="969840"/>
                <a:gridCol w="969840"/>
                <a:gridCol w="9702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у.е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Qs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тыс. шт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Rectangle 88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6" name="Object 87"/>
          <p:cNvGraphicFramePr/>
          <p:nvPr/>
        </p:nvGraphicFramePr>
        <p:xfrm>
          <a:off x="2340000" y="2060640"/>
          <a:ext cx="447048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8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060640"/>
                    <a:ext cx="447048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89"/>
          <p:cNvSpPr/>
          <p:nvPr/>
        </p:nvSpPr>
        <p:spPr>
          <a:xfrm>
            <a:off x="1549800" y="1727640"/>
            <a:ext cx="59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ривая предложения бытовых пылесос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Тема 4. Основы теории спроса и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1187280" y="2106720"/>
            <a:ext cx="748836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Times New Roman"/>
              </a:rPr>
              <a:t>Общая характеристика спроса. Цена спроса. Закон спроса. Кривая спроса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Times New Roman"/>
              </a:rPr>
              <a:t>Общая характеристика предложения. Цена предложения. Закон предложения. Кривая предложения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Times New Roman"/>
              </a:rPr>
              <a:t>Рыночное равновесие. Вмешательство государства в рыночное равновесие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Rectangle 232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Rectangle 674"/>
          <p:cNvSpPr/>
          <p:nvPr/>
        </p:nvSpPr>
        <p:spPr>
          <a:xfrm>
            <a:off x="3419640" y="14086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ла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00000" y="1629360"/>
            <a:ext cx="60501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Изменение величины предложения</a:t>
            </a:r>
            <a:r>
              <a:rPr b="0" lang="ru-RU" sz="2300" spc="-1" strike="noStrike">
                <a:solidFill>
                  <a:srgbClr val="003366"/>
                </a:solidFill>
                <a:latin typeface="Times New Roman"/>
              </a:rPr>
              <a:t> наблюдается при изменении цены рассматриваемого товара и неизменных прочих факторах рыночной конъюнктуры и предполагает движение вдоль кривой предложения.</a:t>
            </a:r>
            <a:endParaRPr b="0" lang="en-US" sz="23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3" name="Object 5"/>
          <p:cNvGraphicFramePr/>
          <p:nvPr/>
        </p:nvGraphicFramePr>
        <p:xfrm>
          <a:off x="6600960" y="1484280"/>
          <a:ext cx="2363760" cy="22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0960" y="1484280"/>
                    <a:ext cx="2363760" cy="22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7"/>
          <p:cNvGraphicFramePr/>
          <p:nvPr/>
        </p:nvGraphicFramePr>
        <p:xfrm>
          <a:off x="6588000" y="4292640"/>
          <a:ext cx="2448000" cy="23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4292640"/>
                    <a:ext cx="244800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9"/>
          <p:cNvSpPr/>
          <p:nvPr/>
        </p:nvSpPr>
        <p:spPr>
          <a:xfrm>
            <a:off x="826920" y="4581720"/>
            <a:ext cx="605016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Изменение предложения,</a:t>
            </a:r>
            <a:r>
              <a:rPr b="0" lang="ru-RU" sz="2300" spc="-1" strike="noStrike">
                <a:solidFill>
                  <a:srgbClr val="003366"/>
                </a:solidFill>
                <a:latin typeface="Times New Roman"/>
              </a:rPr>
              <a:t> напротив, означает изменение всей функции предложения за счет изменения каких-либо неценовых факторов при неизменной цене, и изображается путем смещения всей кривой.</a:t>
            </a:r>
            <a:endParaRPr b="0" lang="en-US" sz="2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971640" y="1580400"/>
            <a:ext cx="77770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Факторы, смещающие кривую предложения, называют </a:t>
            </a:r>
            <a:r>
              <a:rPr b="1" lang="ru-RU" sz="3000" spc="-1" strike="noStrike">
                <a:solidFill>
                  <a:srgbClr val="003366"/>
                </a:solidFill>
                <a:latin typeface="Times New Roman"/>
              </a:rPr>
              <a:t>детерминантами предложения</a:t>
            </a: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3366"/>
                </a:solidFill>
                <a:uFillTx/>
                <a:latin typeface="Times New Roman"/>
              </a:rPr>
              <a:t>К основным детерминантам предложения можно отнести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цены на ресурсы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число продавцов на рынке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технология производства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налоги и субсидии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цены на другие товары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ожидания производителей изменения цен.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. Рыночное равновесие. Вмешательство государства в рыночное равновеси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042920" y="1557360"/>
            <a:ext cx="756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Рыночное равновесие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можно определить как состояние, при котором ни у кого из экономических субъектов не возникает побуждений к его изменению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5938920" y="3500280"/>
          <a:ext cx="309708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8920" y="3500280"/>
                    <a:ext cx="309708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7"/>
          <p:cNvSpPr/>
          <p:nvPr/>
        </p:nvSpPr>
        <p:spPr>
          <a:xfrm>
            <a:off x="1042920" y="3436920"/>
            <a:ext cx="51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именительно к спросу и предложению точка рыночного равновесия будет находится в точке пересечения кривых спроса и предложения, т.е. в точке Е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Этой точке соответствует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равновесная цен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(Ре = Рd = Р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) и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равновесный объем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e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 = 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 = 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. Рыночное равновесие. Вмешательство государства в рыночное равновеси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116000" y="1484280"/>
            <a:ext cx="734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«Потолок цены»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едставляет собой законодательно установленную максимальную цену, которую продавцу разрешается запрашивать за свой товар. «Потолки цен» всегда ниже цен равновесия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5" name="Object 7"/>
          <p:cNvGraphicFramePr/>
          <p:nvPr/>
        </p:nvGraphicFramePr>
        <p:xfrm>
          <a:off x="2627280" y="3500280"/>
          <a:ext cx="4465800" cy="33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500280"/>
                    <a:ext cx="4465800" cy="33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. Рыночное равновесие. Вмешательство государства в рыночное равновеси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1116000" y="1697760"/>
            <a:ext cx="73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«Пол цены»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это, наоборот, минимальная цена, установленная государством и превышающая цену равновесия. То есть производителям не разрешается продавать товары ниже этих цен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4" name="Object 8"/>
          <p:cNvGraphicFramePr/>
          <p:nvPr/>
        </p:nvGraphicFramePr>
        <p:xfrm>
          <a:off x="2411280" y="3357720"/>
          <a:ext cx="4248360" cy="35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357720"/>
                    <a:ext cx="424836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021680" y="1101960"/>
            <a:ext cx="7556400" cy="16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round/>
          </a:ln>
          <a:effectLst>
            <a:outerShdw dist="107932" dir="18900000" blurRad="0" rotWithShape="0">
              <a:srgbClr val="99cc99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ПАСИБО ЗА ВНИМАНИЕ!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042920" y="1556280"/>
            <a:ext cx="74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Спрос –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это платежеспособная потребность в каком-либо товаре или услуге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042920" y="3140640"/>
            <a:ext cx="748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Индивидуальный спрос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на товар отражает желания и возможности отдельного потребителя, общий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рыночный спрос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будет суммированным отражением спроса на какой-либо товар со стороны всех потенциальных потребителей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042920" y="1875960"/>
            <a:ext cx="7705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Традиционно принято </a:t>
            </a: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выделять две специфические разновидности рыночного спрос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*функциональный спрос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, обусловленный присущими данному благу потребительскими качествами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*нефункциональный спрос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, возникающий у потребителя не в силу потребительских характеристик товара, а под влиянием каких-либо других факторов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963000" y="1654560"/>
            <a:ext cx="79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Эффект присоединения к большинству (эффект вагона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22" name="Object 7"/>
          <p:cNvGraphicFramePr/>
          <p:nvPr/>
        </p:nvGraphicFramePr>
        <p:xfrm>
          <a:off x="1619280" y="2336760"/>
          <a:ext cx="6840360" cy="40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336760"/>
                    <a:ext cx="684036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711600" y="1627920"/>
            <a:ext cx="25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Эффект сноб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985080" cy="42339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122480" y="1654560"/>
            <a:ext cx="78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Эффект показательного потребления (эффект Веблена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Object 8"/>
          <p:cNvGraphicFramePr/>
          <p:nvPr/>
        </p:nvGraphicFramePr>
        <p:xfrm>
          <a:off x="2268360" y="2276640"/>
          <a:ext cx="561672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276640"/>
                    <a:ext cx="561672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71640" y="169128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еличина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объём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ntity of deman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) – количество товаров и услуг, которое покупатели готовы приобрести в данное время, в данном месте, при данных ценах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042920" y="4410720"/>
            <a:ext cx="77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Максимальная цена, которую покупатели готовы заплатить за определенное количество данного товара или услуги называется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ценой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(Р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042920" y="18435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Зависимость между величиной спроса и определяющими его факторами (детерминантами) называют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функцией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= ƒ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(Р),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гд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– величина спроса на товар;</a:t>
            </a:r>
            <a:r>
              <a:rPr b="0" i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</a:t>
            </a:r>
            <a:r>
              <a:rPr b="0" i="1" lang="ru-RU" sz="32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цена товар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6:47:00Z</dcterms:created>
  <dc:creator>JR</dc:creator>
  <dc:description/>
  <dc:language>en-US</dc:language>
  <cp:lastModifiedBy>LEGION</cp:lastModifiedBy>
  <dcterms:modified xsi:type="dcterms:W3CDTF">2016-01-04T08:18:06Z</dcterms:modified>
  <cp:revision>80</cp:revision>
  <dc:subject/>
  <dc:title>Тема 4 основы теории спроса и предложения</dc:title>
</cp:coreProperties>
</file>