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FFA31-E303-4783-8199-844D8869DC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э.н., ст.преп. Соколова 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ультет менеджмен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кт-Петербургский государственный универс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н., ст.преп. Соколова Е.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ультет менеджмен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нкт-Петербургский государственный университ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и задача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полного и одновременного удовлетворения всех потребностей всех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можность удовлетворения всех имеющ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выбора из нескольких доступных альтернати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за использова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куренция между альтернативными ц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носительность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и задача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полного и одновременного удовлетворения всех потребностей всех люд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сть удовлетворения всех имеющ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выбора из нескольких доступных альтернати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за использова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куренция между альтернативными ц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ость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ожно сказать, что рассматриваемая задача является экономичес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йонел Роббинс («Предмет экономической науки»,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тремится к различным цел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емя и средства, находящиеся в его распоряжении, огранич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и могут быть направлены  на достижение альтернатив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аждый момент времени разные цели обладают различной важ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ожно сказать, что рассматриваемая задача является экономическо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айонел Роббинс («Предмет экономической науки»,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к стремится к различным цел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ремя и средства, находящиеся в его распоряжении, огранич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могут быть направлены  на достижение альтернативных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ый момент времени разные цели обладают различной важ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задач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одновременного действия всех четырех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ойдет, если какое-то условие не выполн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ственная ц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жественность целей без ограниченности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ность ресурсов без возможности их альтернативного исполь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задач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обходимость одновременного действия всех четырех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ойдет, если какое-то условие не выпол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динственная це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енность целей без ограниченности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аниченность ресурсов без возможности их альтернативного использ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онятия альтернативных затрат при принятии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затраты (opportunity costs) – доход от наилучшей из оставшихся альтернатив использования рес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ние понятия альтернативных затрат при принятии реш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даментальные задач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кого произ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ль систем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как теория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даментальные задачи 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ого производи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системы ц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как теория цен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ханизмы распределе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дицио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ан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мешан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распределе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адицио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ч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ешан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экономической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экономической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ы решения задачи выбора между конкурирующими целями использования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МА О НЕВИДИМОЙ Р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А.Сми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МА О НЕВИДИМОЙ РУ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А.Сми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 макро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 макро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исследует функционирование экономической системы в целом и крупных ее секто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микроэкономической теории на вводном уров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ение основных проблем, изучаемых в рамках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микроэкономической теории на вводном уров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ние основных проблем, изучаемых в рамках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р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х хозяй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тельственных организац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словленное ограниченностью ресурсов поведение (принимаемые экономические решения)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ашних хозяйст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ительственных организ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ирование отдельных рынков, проявляющееся в формировании цен, объемов спроса и предлож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ология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моделя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dulus – мера, образ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отличный от исследуемого оригин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ощенное описание исходного объекта изу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odulus – мера, образе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отличный от исследуемого оригинал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ощенное описание исходного объекта изуч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альное – идеальная аналогия. Теоретический характер модел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ое – воспроизведение основных характеристик (в т.ч. фЫизических) моделируемого объек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деальное – идеальная аналогия. Теоретический характер моделир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типы моделей в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ба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о-математическ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типы моделей в экономи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баль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о-математичес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тельность и реалистичность принятых посылок и допущ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казательная способ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информационного обеспечения и вер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тельность и реалистичность принятых посылок и допуще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казательная способ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сть информационного обеспечения и верифик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ие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поведения отдельных экономических аг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взаимоотношений между экономическими агент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е мод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тимизационны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поведения отдельных экономических агент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ны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следование взаимоотношений между экономическими агент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понятия «ЛУЧШ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дивиды максимизируют удовлетворение своих потребностей, называемое полезност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нятия «ЛУЧШЕ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ивиды максимизируют удовлетворение своих потребностей, называемое полез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оведение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аксимизируют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продаж (рыночная до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ство собствен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осы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деление между собственниками и менеджера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йствие менеджеров исходя из собстве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циональное поведение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максимизиру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продаж (рыночная до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ство собствен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осыл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деление между собственниками и менеджера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йствие менеджеров исходя из собственных интере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альная модель рационального выб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 - множество возможных альтернатив x использования ограниченного ресурса - x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альная модель рационального выб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д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D - множество возможных альтернатив x использования ограниченного ресурса - x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 - показатель  (функция) полезного эффекта получаемого от реализации конкретной альтернативы использования ограниченного ресурса – F(x), x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знакомление с методологией микр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основных понятий и моделей микро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знакомление с методологией микр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основных понятий и моделей микроэкономи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 рациональности поведения экономического аг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рациональности поведения экономического аген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ализации альтернативы x необходимо, чтобы выгоды от ее реализации B(x) превышали сопряженные с ней издержки C(x)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держки экономических аг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ьтернативные (вмененные) издер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держки экономических агент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ямые переменные издержки – издержки, уровень которых зависит от степени использования (интенсивности, масштаба реализации) альтернати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вратные издержки – издержки, связанные с обеспечением необходимых для реализации альтернативы услов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ьтернативные (вмененные) издерж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вновесие экономически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вновесие экономических систе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не заинтересованы  в его изменен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ето-эффектив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рето-эффективн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ределение блага X является оптимальным по Парето, если увеличение количества блага, получаемого любым из участников дележа, не может быть достигнуто без уменьшения количества этого блага, приходящегося на долю хотя бы одного из остальных участник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ровни социально-экономического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Инстит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ереотипы (встроенные институ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циональная среда (социально-политическое устрой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титуты управления (организационно-правовое устрой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мещение ограниченных ресур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и социально-экономического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Институ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е стереотипы (встроенные институ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циональная среда (социально-политическое устройство)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ституты управления (организационно-правовое устрой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мещение ограниченных ресур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й и норматив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итивные модели отвечают на вопрос: «Что е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ые модели отвечают на вопрос: «Что должно бы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й и нормативный анали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итивные модели отвечают на вопрос: «Что 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рмативные модели отвечают на вопрос: «Что должно бы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и отрас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овокупность фирм, торгующих одним и тем же или родственными видам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сль – сторона, предлагающая товар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и отрас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ок – совокупность покупателей и продавцов, взаимодействие которых обеспечивает об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овокупность фирм, торгующих одним и тем же или родственными видам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ь – сторона, предлагающая товар на рынк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ур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едение в микроэкономи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поведения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ки факторов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овершенства рынка и роль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ур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ие в микроэкономи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оведения потреби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това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ынки факторов производ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овершенства рынка и роль государ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теория и прикладн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стиля обучения микроэкономической тео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ая тео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с приложениями для управления бизнесом (managerial/business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сы микроэкономики и макроэкономики в процессе подготовки менедж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 в учебном плане факульт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 (1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роэкономика (2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ы (3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ровая экономика (4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кроэкономика-2: теория отраслевой организации (6 семест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теория и прикладн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 стиля обучения микроэкономической те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истая теор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с приложениями для управления бизнесом (managerial/business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урсы микроэкономики и макроэкономики в процессе подготовки менедж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ка в учебном плане факульт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 (1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роэкономика (2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ы (3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ровая экономика (4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экономика-2: теория отраслевой организации (6 семест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Прикладные экономические нау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Международная экономи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ternation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еория отраслевой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Industr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ка общественного секто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Public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Экономическая теория организ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Organizatio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Финансовая эконом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r>
              <a:rPr b="0" lang="uk-UA" sz="1200" spc="-1" strike="noStrike">
                <a:solidFill>
                  <a:srgbClr val="000000"/>
                </a:solidFill>
                <a:latin typeface="Calibri"/>
              </a:rPr>
              <a:t>	</a:t>
            </a:r>
            <a:r>
              <a:rPr b="0" lang="pl-PL" sz="1200" spc="-1" strike="noStrike">
                <a:solidFill>
                  <a:srgbClr val="000000"/>
                </a:solidFill>
                <a:latin typeface="Calibri"/>
              </a:rPr>
              <a:t>Financial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рикладные экономические нау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Международная экономик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ternation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Теория отраслевой организ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Industr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ка общественного се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Public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Экономическая теория организ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Organizatio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инансовая экономи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r>
              <a:rPr b="0" lang="uk-UA" sz="1200" spc="-1" strike="noStrike">
                <a:solidFill>
                  <a:srgbClr val="000000"/>
                </a:solidFill>
                <a:latin typeface="Arial"/>
              </a:rPr>
              <a:t>	</a:t>
            </a:r>
            <a:r>
              <a:rPr b="0" lang="pl-PL" sz="1200" spc="-1" strike="noStrike">
                <a:solidFill>
                  <a:srgbClr val="000000"/>
                </a:solidFill>
                <a:latin typeface="Arial"/>
              </a:rPr>
              <a:t>Financial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удиторные заня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и (64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бор теоретического материала и обсуждение прим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минары (32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ние задач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статей, примеров, аналитических вопро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удиторные заня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и (64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бор теоретического материала и обсуждение пример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минары (32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ние задач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уждение статей, примеров, аналитических вопрос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рабо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м курсовой работы – не более 15 страни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ается коллективная работа над проектом (не более 4-х челов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рабо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 курсовой работы – не более 15 страниц</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ается коллективная работа над проектом (не более 4-х челове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язательным условием допуска к защите курсовой работы является наличие презентации основных результатов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ценка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к к экзамен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заданий, полученных на семинарских и лекционных занят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полнение письменной работы в ходе промежуточной аттест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ежуточная аттест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1 час 15 минут (во время ле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ый письменный экзам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0% итоговой оцен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ительность – 3 ча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экзаменационной и аттестационной рабо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1. Вопросы на выбор правильного отв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2: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пуск к экзамен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заданий, полученных на семинарских и лекционных занят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письменной работы в ходе промежуточной аттеста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межуточная аттестац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1 час 15 минут (во время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ый письменный экзаме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итоговой оцен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должительность – 3 ча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экзаменационной и аттестационной рабо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1. Вопросы на выбор правильного отве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2: задач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оговая оц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ксимальное количество баллов – 1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от 76 и выш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 от 66 до 7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от 56 до 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ый экзамен – в дополнительную сессию в февра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овая оцен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имальное количество баллов – 1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 от 76 и выш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 от 66 до 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от 56 до 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торный экзамен – в дополнительную сессию в февра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уемая литерату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ендиум по курс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анк Р.Х. Микроэкономика и поведение. – М.:ИНФРА-М, 2000. – 696 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ндайк Р.С., Рабинфельд Д.Л. Микроэкономика. /Пер. с англ. – СПб.: Питер, 2002. – 608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ьвов Ю.А. Основы экономики и организации бизнеса. – СПб.: 199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льперин В.М., Игнатьев С.М., Моргунов В.И. Микроэкономика. В 2-х т. СПб., 1994-2002.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школа. 50 лекций по микроэкономике. В 2-х т. СПб., 2000. www.economicus.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расевич Л., Гребенников П., Леусский А., Микроэкономика http://www.finec.ru/rus/parts/microeconomics/titul.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комендуемая 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ендиум по курс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нк Р.Х. Микроэкономика и поведение. – М.:ИНФРА-М, 2000. – 696 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индайк Р.С., Рабинфельд Д.Л. Микроэкономика. /Пер. с англ. – СПб.: Питер, 2002. – 608 с.</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ьвов Ю.А. Основы экономики и организации бизнеса. – СПб.: 199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ьперин В.М., Игнатьев С.М., Моргунов В.И. Микроэкономика. В 2-х т. СПб., 1994-2002.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школа. 50 лекций по микроэкономике. В 2-х т. СПб., 2000. www.economicus.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расевич Л., Гребенников П., Леусский А., Микроэкономика http://www.finec.ru/rus/parts/microeconomics/titul.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и 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ации проводятся по средам после ле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а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колова Екатерина Владимировна (sokolova@som.pu.r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ляр Татьяна Моисеевна (skliar@ts3924.spb.e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ганова Анастасия Александровна (taganova@som.pu.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рехин Александр Викторович (alexjva@mail.r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и 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ультации проводятся по средам после лек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акт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колова Екатерина Владимировна (sokolova@som.pu.r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ляр Татьяна Моисеевна (skliar@ts3924.spb.ed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ганова Анастасия Александровна (taganova@som.pu.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арехин Александр Викторович (alexjva@mail.r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D0B7E-57A0-46BD-BE69-F9FB856B8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D116E-0D76-494E-B00E-AD377608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FE0CF2-4D34-4D5B-826B-8BC23F598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43F28-A390-42C2-B7F1-A9C212C1F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04916-42CE-473A-BEEA-54912FF7C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35AE-717F-499A-A481-551B1FCB2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2391B-B80D-48CB-9388-85D3543E0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CBA0C-8CE3-4C16-9FD6-D6E9D63A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7A48F-DAC2-4F49-B220-F317B512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4724-2729-4EC8-8C0F-97B387752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29482-FFDB-4656-AD7C-BDFBDC682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21424-C37E-4A01-A6A5-2D080B4FA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BF6D-7611-494F-AA9E-F7A477483AA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Микроэкономика</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э.н., ст.преп. Соколова Е.В.</a:t>
            </a:r>
            <a:endParaRPr b="0" lang="en-US" sz="24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акультет менеджмента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анкт-Петербургский государственный университет</a:t>
            </a:r>
            <a:endParaRPr b="0" lang="en-US" sz="2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Тема 1. Введение в микроэкономику</a:t>
            </a: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граниченность ресурсов и задача выбора</a:t>
            </a:r>
            <a:endParaRPr b="0" lang="en-US" sz="4000" spc="-1" strike="noStrike">
              <a:solidFill>
                <a:srgbClr val="000000"/>
              </a:solidFill>
              <a:latin typeface="Arial"/>
            </a:endParaRPr>
          </a:p>
        </p:txBody>
      </p:sp>
      <p:sp>
        <p:nvSpPr>
          <p:cNvPr id="7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граниченность ресурсов</a:t>
            </a:r>
            <a:r>
              <a:rPr b="1"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полного и одновременного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потребностей </a:t>
            </a:r>
            <a:r>
              <a:rPr b="1" lang="ru-RU" sz="1800" spc="-1" strike="noStrike">
                <a:solidFill>
                  <a:srgbClr val="333399"/>
                </a:solidFill>
                <a:latin typeface="Arial"/>
              </a:rPr>
              <a:t>всех</a:t>
            </a:r>
            <a:r>
              <a:rPr b="1" lang="ru-RU" sz="1800" spc="-1" strike="noStrike">
                <a:solidFill>
                  <a:srgbClr val="000000"/>
                </a:solidFill>
                <a:latin typeface="Arial"/>
              </a:rPr>
              <a:t> людей</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возможность удовлетворения </a:t>
            </a:r>
            <a:r>
              <a:rPr b="1" lang="ru-RU" sz="1800" spc="-1" strike="noStrike">
                <a:solidFill>
                  <a:srgbClr val="333399"/>
                </a:solidFill>
                <a:latin typeface="Arial"/>
              </a:rPr>
              <a:t>всех</a:t>
            </a:r>
            <a:r>
              <a:rPr b="1" lang="ru-RU" sz="1800" spc="-1" strike="noStrike">
                <a:solidFill>
                  <a:srgbClr val="000000"/>
                </a:solidFill>
                <a:latin typeface="Arial"/>
              </a:rPr>
              <a:t> имеющихся альтернатив использования ресурса</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бходимость </a:t>
            </a:r>
            <a:r>
              <a:rPr b="1" lang="ru-RU" sz="2000" spc="-1" strike="noStrike">
                <a:solidFill>
                  <a:srgbClr val="333399"/>
                </a:solidFill>
                <a:latin typeface="Arial"/>
              </a:rPr>
              <a:t>выбора</a:t>
            </a:r>
            <a:r>
              <a:rPr b="1" lang="ru-RU" sz="2000" spc="-1" strike="noStrike">
                <a:solidFill>
                  <a:srgbClr val="000000"/>
                </a:solidFill>
                <a:latin typeface="Arial"/>
              </a:rPr>
              <a:t> из нескольких </a:t>
            </a:r>
            <a:r>
              <a:rPr b="1" lang="ru-RU" sz="2000" spc="-1" strike="noStrike">
                <a:solidFill>
                  <a:srgbClr val="333399"/>
                </a:solidFill>
                <a:latin typeface="Arial"/>
              </a:rPr>
              <a:t>доступных</a:t>
            </a:r>
            <a:r>
              <a:rPr b="1" lang="ru-RU" sz="2000" spc="-1" strike="noStrike">
                <a:solidFill>
                  <a:srgbClr val="000000"/>
                </a:solidFill>
                <a:latin typeface="Arial"/>
              </a:rPr>
              <a:t> альтернатив</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3399"/>
                </a:solidFill>
                <a:latin typeface="Arial"/>
              </a:rPr>
              <a:t>Конкуренция</a:t>
            </a:r>
            <a:r>
              <a:rPr b="1" lang="ru-RU" sz="2000" spc="-1" strike="noStrike">
                <a:solidFill>
                  <a:srgbClr val="000000"/>
                </a:solidFill>
                <a:latin typeface="Arial"/>
              </a:rPr>
              <a:t> за использование ограниченных ресурсов</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нкуренция между </a:t>
            </a:r>
            <a:r>
              <a:rPr b="1" i="1" lang="ru-RU" sz="1800" spc="-1" strike="noStrike">
                <a:solidFill>
                  <a:srgbClr val="333399"/>
                </a:solidFill>
                <a:latin typeface="Arial"/>
              </a:rPr>
              <a:t>альтернативными целями</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сительность ограниченности ресурсов</a:t>
            </a:r>
            <a:endParaRPr b="0" lang="en-US" sz="20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гда можно сказать, что рассматриваемая задача является экономичес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айонел Роббинс («Предмет экономической науки», 19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ловек стремится к </a:t>
            </a:r>
            <a:r>
              <a:rPr b="1" lang="ru-RU" sz="2400" spc="-1" strike="noStrike">
                <a:solidFill>
                  <a:srgbClr val="333399"/>
                </a:solidFill>
                <a:latin typeface="Arial"/>
              </a:rPr>
              <a:t>различным</a:t>
            </a:r>
            <a:r>
              <a:rPr b="1" lang="ru-RU" sz="2400" spc="-1" strike="noStrike">
                <a:solidFill>
                  <a:srgbClr val="000000"/>
                </a:solidFill>
                <a:latin typeface="Arial"/>
              </a:rPr>
              <a:t> цел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ремя и средства, находящиеся в его распоряжении, </a:t>
            </a:r>
            <a:r>
              <a:rPr b="1" lang="ru-RU" sz="2400" spc="-1" strike="noStrike">
                <a:solidFill>
                  <a:srgbClr val="333399"/>
                </a:solidFill>
                <a:latin typeface="Arial"/>
              </a:rPr>
              <a:t>ограничен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и могут быть направлены  на достижение </a:t>
            </a:r>
            <a:r>
              <a:rPr b="1" lang="ru-RU" sz="2400" spc="-1" strike="noStrike">
                <a:solidFill>
                  <a:srgbClr val="333399"/>
                </a:solidFill>
                <a:latin typeface="Arial"/>
              </a:rPr>
              <a:t>альтернативных</a:t>
            </a:r>
            <a:r>
              <a:rPr b="1" lang="ru-RU" sz="2400" spc="-1" strike="noStrike">
                <a:solidFill>
                  <a:srgbClr val="000000"/>
                </a:solidFill>
                <a:latin typeface="Arial"/>
              </a:rPr>
              <a:t> целе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каждый момент времени разные цели обладают различной </a:t>
            </a:r>
            <a:r>
              <a:rPr b="1" lang="ru-RU" sz="2400" spc="-1" strike="noStrike">
                <a:solidFill>
                  <a:srgbClr val="333399"/>
                </a:solidFill>
                <a:latin typeface="Arial"/>
              </a:rPr>
              <a:t>важностью</a:t>
            </a:r>
            <a:endParaRPr b="0" lang="en-US" sz="24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ая задача</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обходимость одновременного действия всех четырех услови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произойдет, если какое-то условие не выполняетс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динственная цел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ножественность целей без ограниченности ресурс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граниченность ресурсов без возможности их альтернативного использован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личие альтернативных возможностей использования ресурсов без приоритетности целей</a:t>
            </a:r>
            <a:endParaRPr b="0" lang="en-US" sz="24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льтернативные затраты</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льтернативные затраты (</a:t>
            </a:r>
            <a:r>
              <a:rPr b="1" lang="en-US" sz="2800" spc="-1" strike="noStrike">
                <a:solidFill>
                  <a:srgbClr val="000000"/>
                </a:solidFill>
                <a:latin typeface="Arial"/>
              </a:rPr>
              <a:t>opportunity costs) – </a:t>
            </a:r>
            <a:r>
              <a:rPr b="1" lang="ru-RU" sz="2800" spc="-1" strike="noStrike">
                <a:solidFill>
                  <a:srgbClr val="333399"/>
                </a:solidFill>
                <a:latin typeface="Arial"/>
              </a:rPr>
              <a:t>доход</a:t>
            </a:r>
            <a:r>
              <a:rPr b="1" lang="ru-RU" sz="2800" spc="-1" strike="noStrike">
                <a:solidFill>
                  <a:srgbClr val="000000"/>
                </a:solidFill>
                <a:latin typeface="Arial"/>
              </a:rPr>
              <a:t> от наилучшей из оставшихся альтернатив использования ресурс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пользование понятия альтернативных затрат при принятии решений</a:t>
            </a:r>
            <a:endParaRPr b="0" lang="en-US" sz="28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ундаментальные задачи экономики</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производи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ля кого производит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Роль системы це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кроэкономика как теория це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ханизмы распределения ограниченных ресурсов</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Традицио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Команд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ч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Смешанная</a:t>
            </a:r>
            <a:r>
              <a:rPr b="1" lang="ru-RU" sz="2800" spc="-1" strike="noStrike">
                <a:solidFill>
                  <a:srgbClr val="000000"/>
                </a:solidFill>
                <a:latin typeface="Arial"/>
              </a:rPr>
              <a:t> экономика</a:t>
            </a:r>
            <a:endParaRPr b="0" lang="en-US" sz="2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едмет экономической науки</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Способы решения задачи выбора между конкурирующими </a:t>
            </a:r>
            <a:r>
              <a:rPr b="1" lang="ru-RU" sz="3200" spc="-1" strike="noStrike" u="sng">
                <a:solidFill>
                  <a:srgbClr val="333399"/>
                </a:solidFill>
                <a:uFillTx/>
                <a:latin typeface="Arial"/>
              </a:rPr>
              <a:t>целями использования</a:t>
            </a:r>
            <a:r>
              <a:rPr b="1" lang="ru-RU" sz="3200" spc="-1" strike="noStrike">
                <a:solidFill>
                  <a:srgbClr val="333399"/>
                </a:solidFill>
                <a:latin typeface="Arial"/>
              </a:rPr>
              <a:t> ограниченных ресурсов</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ЕОРЕМА О НЕВИДИМОЙ РУКЕ»</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ждый человек имеет в виду лишь собственный интерес, преследует лишь собственную выгод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i="1" lang="ru-RU" sz="2800" spc="-1" strike="noStrike">
                <a:solidFill>
                  <a:srgbClr val="000000"/>
                </a:solidFill>
                <a:latin typeface="Arial"/>
              </a:rPr>
              <a:t>в этом случае… он невидимой рукой направляется к цели, которая совсем и не входила в его намерения… Преследуя свои собственные интересы, он часто более действенным образом служит интересам общества, чем тогда, когда сознательно стремится делать это</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000000"/>
                </a:solidFill>
                <a:latin typeface="Arial"/>
              </a:rPr>
              <a:t>А.Смит </a:t>
            </a:r>
            <a:endParaRPr b="0" lang="en-US" sz="28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икроэкономика и макроэкономика</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икроэкономика</a:t>
            </a:r>
            <a:r>
              <a:rPr b="1" lang="ru-RU" sz="2800" spc="-1" strike="noStrike">
                <a:solidFill>
                  <a:srgbClr val="000000"/>
                </a:solidFill>
                <a:latin typeface="Arial"/>
              </a:rPr>
              <a:t> изучает поведение отдельных экономических агентов: индивидуумов, домохозяйств, предприятий, владельцев первичных производственных ресурсов</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Макроэкономика</a:t>
            </a:r>
            <a:r>
              <a:rPr b="1" lang="ru-RU" sz="2800" spc="-1" strike="noStrike">
                <a:solidFill>
                  <a:srgbClr val="000000"/>
                </a:solidFill>
                <a:latin typeface="Arial"/>
              </a:rPr>
              <a:t> исследует функционирование экономической системы в целом и крупных ее секторов</a:t>
            </a:r>
            <a:endParaRPr b="0" lang="en-US" sz="28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Цель курса</a:t>
            </a:r>
            <a:endParaRPr b="0" lang="en-US" sz="4400" spc="-1" strike="noStrike">
              <a:solidFill>
                <a:srgbClr val="000000"/>
              </a:solidFill>
              <a:latin typeface="Arial"/>
            </a:endParaRPr>
          </a:p>
        </p:txBody>
      </p:sp>
      <p:sp>
        <p:nvSpPr>
          <p:cNvPr id="52" name="PlaceHolder 2"/>
          <p:cNvSpPr>
            <a:spLocks noGrp="1"/>
          </p:cNvSpPr>
          <p:nvPr>
            <p:ph/>
          </p:nvPr>
        </p:nvSpPr>
        <p:spPr>
          <a:xfrm>
            <a:off x="457200" y="1341000"/>
            <a:ext cx="8229600" cy="5327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зучение микроэкономической теории на вводном уровне:</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ение основных проблем, изучаемых в рамках микроэкономической теории</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ределение основных понятий и рассмотрение базовых математических моделей, формализующих их</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монстрация возможностей применения микроэкономических моделей при решении задач управления в частном и общественном секторах, анализе государственной социальной и экономической политики </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 микроэкономики</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условленное ограниченностью ресурсов </a:t>
            </a:r>
            <a:r>
              <a:rPr b="1" lang="en-US" sz="2800" spc="-1" strike="noStrike">
                <a:solidFill>
                  <a:srgbClr val="333399"/>
                </a:solidFill>
                <a:latin typeface="Arial"/>
              </a:rPr>
              <a:t>поведение</a:t>
            </a:r>
            <a:r>
              <a:rPr b="1" lang="en-US" sz="2800" spc="-1" strike="noStrike">
                <a:solidFill>
                  <a:srgbClr val="000000"/>
                </a:solidFill>
                <a:latin typeface="Arial"/>
              </a:rPr>
              <a:t> (принимаемые экономические решения) </a:t>
            </a:r>
            <a:r>
              <a:rPr b="1" lang="en-US" sz="2800" spc="-1" strike="noStrike">
                <a:solidFill>
                  <a:srgbClr val="333399"/>
                </a:solidFill>
                <a:latin typeface="Arial"/>
              </a:rPr>
              <a:t>экономических агентов</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отребителей</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фирм</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машних хозяйств</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равительственных организаций</a:t>
            </a: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функционирование </a:t>
            </a:r>
            <a:r>
              <a:rPr b="1" lang="en-US" sz="2800" spc="-1" strike="noStrike">
                <a:solidFill>
                  <a:srgbClr val="000000"/>
                </a:solidFill>
                <a:latin typeface="Arial"/>
              </a:rPr>
              <a:t>отдельных</a:t>
            </a:r>
            <a:r>
              <a:rPr b="1" lang="en-US" sz="2800" spc="-1" strike="noStrike">
                <a:solidFill>
                  <a:srgbClr val="333399"/>
                </a:solidFill>
                <a:latin typeface="Arial"/>
              </a:rPr>
              <a:t> рынков</a:t>
            </a:r>
            <a:r>
              <a:rPr b="1" lang="ru-RU" sz="2800" spc="-1" strike="noStrike">
                <a:solidFill>
                  <a:srgbClr val="000000"/>
                </a:solidFill>
                <a:latin typeface="Arial"/>
              </a:rPr>
              <a:t>, проявляющееся в формировании цен, объемов спроса и предложения</a:t>
            </a:r>
            <a:endParaRPr b="0" lang="en-US" sz="28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етодология микроэкономики</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объектов познания не непосредственно, а посредством анализа некоторых вспомогательных объектов, которые называют </a:t>
            </a:r>
            <a:r>
              <a:rPr b="1" i="1" lang="ru-RU" sz="3200" spc="-1" strike="noStrike">
                <a:solidFill>
                  <a:srgbClr val="333399"/>
                </a:solidFill>
                <a:latin typeface="Arial"/>
              </a:rPr>
              <a:t>моделями</a:t>
            </a:r>
            <a:endParaRPr b="0" lang="en-US" sz="32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Модели</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odulus</a:t>
            </a:r>
            <a:r>
              <a:rPr b="1" lang="ru-RU" sz="2800" spc="-1" strike="noStrike">
                <a:solidFill>
                  <a:srgbClr val="000000"/>
                </a:solidFill>
                <a:latin typeface="Arial"/>
              </a:rPr>
              <a:t> – мера, образец</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бъект, отличный от исследуемого оригинал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прощенное описание исходного объекта изучения</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исание, воспроизводящее существенные с точки зрения целей проводимого исследования свойства оригинала</a:t>
            </a:r>
            <a:r>
              <a:rPr b="1"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ные типы моделирования</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Материальное</a:t>
            </a:r>
            <a:r>
              <a:rPr b="0" lang="ru-RU" sz="3200" spc="-1" strike="noStrike">
                <a:solidFill>
                  <a:srgbClr val="000000"/>
                </a:solidFill>
                <a:latin typeface="Arial"/>
              </a:rPr>
              <a:t> – воспроизведение основных характеристик</a:t>
            </a:r>
            <a:r>
              <a:rPr b="0" lang="en-US" sz="3200" spc="-1" strike="noStrike">
                <a:solidFill>
                  <a:srgbClr val="000000"/>
                </a:solidFill>
                <a:latin typeface="Arial"/>
              </a:rPr>
              <a:t> (</a:t>
            </a:r>
            <a:r>
              <a:rPr b="0" lang="ru-RU" sz="3200" spc="-1" strike="noStrike">
                <a:solidFill>
                  <a:srgbClr val="000000"/>
                </a:solidFill>
                <a:latin typeface="Arial"/>
              </a:rPr>
              <a:t>в т.ч. фЫизических) моделируемого объект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333399"/>
                </a:solidFill>
                <a:latin typeface="Arial"/>
              </a:rPr>
              <a:t>Идеальное</a:t>
            </a:r>
            <a:r>
              <a:rPr b="0" lang="ru-RU" sz="3200" spc="-1" strike="noStrike">
                <a:solidFill>
                  <a:srgbClr val="000000"/>
                </a:solidFill>
                <a:latin typeface="Arial"/>
              </a:rPr>
              <a:t> – идеальная аналогия. Теоретический характер моделирова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сновные типы моделей в экономике</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бальные</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кономико-математические</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одержательность и реалистичность принятых посылок и допущен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казательная способност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нформационного обеспечения и верификаци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бщность</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кономические модели</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птимизационные</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поведения </a:t>
            </a:r>
            <a:r>
              <a:rPr b="1" i="1" lang="ru-RU" sz="2800" spc="-1" strike="noStrike">
                <a:solidFill>
                  <a:srgbClr val="333399"/>
                </a:solidFill>
                <a:latin typeface="Arial"/>
              </a:rPr>
              <a:t>отдельных</a:t>
            </a:r>
            <a:r>
              <a:rPr b="1" lang="ru-RU" sz="2800" spc="-1" strike="noStrike">
                <a:solidFill>
                  <a:srgbClr val="000000"/>
                </a:solidFill>
                <a:latin typeface="Arial"/>
              </a:rPr>
              <a:t> экономических агентов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Равновесные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сследование взаимоотношений </a:t>
            </a:r>
            <a:r>
              <a:rPr b="1" i="1" lang="ru-RU" sz="2800" spc="-1" strike="noStrike">
                <a:solidFill>
                  <a:srgbClr val="333399"/>
                </a:solidFill>
                <a:latin typeface="Arial"/>
              </a:rPr>
              <a:t>между</a:t>
            </a:r>
            <a:r>
              <a:rPr b="1" lang="ru-RU" sz="2800" spc="-1" strike="noStrike">
                <a:solidFill>
                  <a:srgbClr val="000000"/>
                </a:solidFill>
                <a:latin typeface="Arial"/>
              </a:rPr>
              <a:t> экономическими агентами </a:t>
            </a:r>
            <a:endParaRPr b="0" lang="en-US" sz="2800" spc="-1" strike="noStrike">
              <a:solidFill>
                <a:srgbClr val="000000"/>
              </a:solidFill>
              <a:latin typeface="Arial"/>
            </a:endParaRPr>
          </a:p>
        </p:txBody>
      </p:sp>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 (фирма) всегда выбирает оптимальное (ЛУЧШЕЕ) при имеющихся ограничениях и информации решение</a:t>
            </a: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пределение понятия «ЛУЧШЕЕ»</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ндивиды максимизируют удовлетворение своих потребностей, называемое </a:t>
            </a:r>
            <a:r>
              <a:rPr b="1" i="1" lang="ru-RU" sz="2800" spc="-1" strike="noStrike">
                <a:solidFill>
                  <a:srgbClr val="333399"/>
                </a:solidFill>
                <a:latin typeface="Arial"/>
              </a:rPr>
              <a:t>полезностью</a:t>
            </a:r>
            <a:endParaRPr b="0" lang="en-US" sz="2800" spc="-1" strike="noStrike">
              <a:solidFill>
                <a:srgbClr val="000000"/>
              </a:solidFill>
              <a:latin typeface="Arial"/>
            </a:endParaRPr>
          </a:p>
        </p:txBody>
      </p:sp>
      <p:sp>
        <p:nvSpPr>
          <p:cNvPr id="1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циональное поведение экономических агентов</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аксимизируют фирм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был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ъем продаж (рыночная дол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атство собственников</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посылки</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деление между собственниками и менеджерами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е менеджеров исходя из собственных интересов</a:t>
            </a:r>
            <a:endParaRPr b="0" lang="en-US" sz="2000" spc="-1" strike="noStrike">
              <a:solidFill>
                <a:srgbClr val="000000"/>
              </a:solidFill>
              <a:latin typeface="Arial"/>
            </a:endParaRPr>
          </a:p>
        </p:txBody>
      </p:sp>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альная модель рационального выбора</a:t>
            </a:r>
            <a:endParaRPr b="0" lang="en-US" sz="4000" spc="-1" strike="noStrike">
              <a:solidFill>
                <a:srgbClr val="000000"/>
              </a:solidFill>
              <a:latin typeface="Arial"/>
            </a:endParaRPr>
          </a:p>
        </p:txBody>
      </p:sp>
      <p:sp>
        <p:nvSpPr>
          <p:cNvPr id="133" name="PlaceHolder 2"/>
          <p:cNvSpPr>
            <a:spLocks noGrp="1"/>
          </p:cNvSpPr>
          <p:nvPr>
            <p:ph/>
          </p:nvPr>
        </p:nvSpPr>
        <p:spPr>
          <a:xfrm>
            <a:off x="457200" y="3789000"/>
            <a:ext cx="8229600" cy="2336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д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D -</a:t>
            </a:r>
            <a:r>
              <a:rPr b="0" lang="ru-RU" sz="2400" spc="-1" strike="noStrike">
                <a:solidFill>
                  <a:srgbClr val="000000"/>
                </a:solidFill>
                <a:latin typeface="Arial"/>
              </a:rPr>
              <a:t> множество возможных альтернатив </a:t>
            </a:r>
            <a:r>
              <a:rPr b="1" i="1" lang="ru-RU" sz="2400" spc="-1" strike="noStrike">
                <a:solidFill>
                  <a:srgbClr val="000000"/>
                </a:solidFill>
                <a:latin typeface="Arial"/>
              </a:rPr>
              <a:t>x</a:t>
            </a:r>
            <a:r>
              <a:rPr b="0" lang="ru-RU" sz="2400" spc="-1" strike="noStrike">
                <a:solidFill>
                  <a:srgbClr val="000000"/>
                </a:solidFill>
                <a:latin typeface="Arial"/>
              </a:rPr>
              <a:t> использования ограниченного ресурса - </a:t>
            </a:r>
            <a:r>
              <a:rPr b="0" i="1" lang="ru-RU" sz="2400" spc="-1" strike="noStrike">
                <a:solidFill>
                  <a:srgbClr val="000000"/>
                </a:solidFill>
                <a:latin typeface="Arial"/>
              </a:rPr>
              <a:t>x</a:t>
            </a:r>
            <a:r>
              <a:rPr b="0" lang="ru-RU" sz="2400" spc="-1" strike="noStrike">
                <a:solidFill>
                  <a:srgbClr val="000000"/>
                </a:solidFill>
                <a:latin typeface="Symbol"/>
                <a:ea typeface="Symbol"/>
              </a:rPr>
              <a:t></a:t>
            </a:r>
            <a:r>
              <a:rPr b="0" i="1" lang="ru-RU" sz="2400" spc="-1" strike="noStrike">
                <a:solidFill>
                  <a:srgbClr val="000000"/>
                </a:solidFill>
                <a:latin typeface="Arial"/>
              </a:rPr>
              <a:t>D</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F</a:t>
            </a:r>
            <a:r>
              <a:rPr b="0" lang="ru-RU" sz="2400" spc="-1" strike="noStrike">
                <a:solidFill>
                  <a:srgbClr val="000000"/>
                </a:solidFill>
                <a:latin typeface="Arial"/>
              </a:rPr>
              <a:t> - показатель  (функция) полезного эффекта получаемого от реализации конкретной альтернативы использования ограниченного ресурса – </a:t>
            </a:r>
            <a:r>
              <a:rPr b="1" i="1" lang="ru-RU" sz="2400" spc="-1" strike="noStrike">
                <a:solidFill>
                  <a:srgbClr val="000000"/>
                </a:solidFill>
                <a:latin typeface="Arial"/>
              </a:rPr>
              <a:t>F</a:t>
            </a:r>
            <a:r>
              <a:rPr b="1" lang="ru-RU" sz="2400" spc="-1" strike="noStrike">
                <a:solidFill>
                  <a:srgbClr val="000000"/>
                </a:solidFill>
                <a:latin typeface="Arial"/>
              </a:rPr>
              <a:t>(</a:t>
            </a:r>
            <a:r>
              <a:rPr b="1" i="1" lang="ru-RU" sz="2400" spc="-1" strike="noStrike">
                <a:solidFill>
                  <a:srgbClr val="000000"/>
                </a:solidFill>
                <a:latin typeface="Arial"/>
              </a:rPr>
              <a:t>x</a:t>
            </a:r>
            <a:r>
              <a:rPr b="1" lang="ru-RU" sz="2400" spc="-1" strike="noStrike">
                <a:solidFill>
                  <a:srgbClr val="000000"/>
                </a:solidFill>
                <a:latin typeface="Arial"/>
              </a:rPr>
              <a:t>)</a:t>
            </a:r>
            <a:r>
              <a:rPr b="0" lang="ru-RU" sz="2400" spc="-1" strike="noStrike">
                <a:solidFill>
                  <a:srgbClr val="000000"/>
                </a:solidFill>
                <a:latin typeface="Arial"/>
              </a:rPr>
              <a:t>, </a:t>
            </a:r>
            <a:r>
              <a:rPr b="1" i="1" lang="ru-RU" sz="2400" spc="-1" strike="noStrike">
                <a:solidFill>
                  <a:srgbClr val="000000"/>
                </a:solidFill>
                <a:latin typeface="Arial"/>
              </a:rPr>
              <a:t>x</a:t>
            </a:r>
            <a:r>
              <a:rPr b="0" lang="ru-RU" sz="2400" spc="-1" strike="noStrike">
                <a:solidFill>
                  <a:srgbClr val="000000"/>
                </a:solidFill>
                <a:latin typeface="Symbol"/>
                <a:ea typeface="Symbol"/>
              </a:rPr>
              <a:t></a:t>
            </a:r>
            <a:r>
              <a:rPr b="1" i="1" lang="ru-RU" sz="2400" spc="-1" strike="noStrike">
                <a:solidFill>
                  <a:srgbClr val="000000"/>
                </a:solidFill>
                <a:latin typeface="Arial"/>
              </a:rPr>
              <a:t>D</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468360" y="1700280"/>
                <a:ext cx="3384360" cy="2100240"/>
              </a:xfrm>
              <a:prstGeom prst="rect">
                <a:avLst/>
              </a:prstGeom>
            </p:spPr>
            <p:txBody>
              <a:bodyPr/>
              <a:p>
                <a14:m>
                  <m:oMath xmlns:m="http://schemas.openxmlformats.org/officeDocument/2006/math">
                    <m:eqArr>
                      <m:e>
                        <m:d>
                          <m:dPr>
                            <m:begChr m:val="{"/>
                            <m:endChr m:val=""/>
                          </m:dPr>
                          <m:e>
                            <m:r>
                              <m:rPr>
                                <m:lit/>
                                <m:nor/>
                              </m:rPr>
                              <m:t xml:space="preserve">max</m:t>
                            </m:r>
                            <m:r>
                              <m:t xml:space="preserve"> </m:t>
                            </m:r>
                            <m:r>
                              <m:t xml:space="preserve">F</m:t>
                            </m:r>
                            <m:r>
                              <m:t xml:space="preserve">(</m:t>
                            </m:r>
                            <m:r>
                              <m:t xml:space="preserve">x</m:t>
                            </m:r>
                            <m:r>
                              <m:t xml:space="preserve">)</m:t>
                            </m:r>
                          </m:e>
                          <m:e/>
                        </m:d>
                      </m:e>
                    </m:eqArr>
                  </m:oMath>
                </a14:m>
              </a:p>
            </p:txBody>
          </p:sp>
        </mc:Choice>
        <mc:Fallback/>
      </mc:AlternateContent>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Задачи курса</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накомление с методологией микроэкономического анализ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е основных понятий и моделей микроэкономики</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зучение основных положений микроэкономической теории в области производства, потребления и рыночного обмен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ллюстрация возможностей применения теоретических конструкций для анализа экономических процессов</a:t>
            </a: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инцип рациональности поведения экономического агента</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ля реализации альтернативы </a:t>
            </a:r>
            <a:r>
              <a:rPr b="1" i="1" lang="ru-RU" sz="3200" spc="-1" strike="noStrike">
                <a:solidFill>
                  <a:srgbClr val="000000"/>
                </a:solidFill>
                <a:latin typeface="Arial"/>
              </a:rPr>
              <a:t>x</a:t>
            </a:r>
            <a:r>
              <a:rPr b="1" lang="ru-RU" sz="3200" spc="-1" strike="noStrike">
                <a:solidFill>
                  <a:srgbClr val="000000"/>
                </a:solidFill>
                <a:latin typeface="Arial"/>
              </a:rPr>
              <a:t> необходимо, чтобы выгоды от ее реализации </a:t>
            </a:r>
            <a:r>
              <a:rPr b="1" i="1" lang="ru-RU" sz="3200" spc="-1" strike="noStrike">
                <a:solidFill>
                  <a:srgbClr val="000000"/>
                </a:solidFill>
                <a:latin typeface="Arial"/>
              </a:rPr>
              <a:t>B(x)</a:t>
            </a:r>
            <a:r>
              <a:rPr b="1" lang="ru-RU" sz="3200" spc="-1" strike="noStrike">
                <a:solidFill>
                  <a:srgbClr val="000000"/>
                </a:solidFill>
                <a:latin typeface="Arial"/>
              </a:rPr>
              <a:t> превышали </a:t>
            </a:r>
            <a:r>
              <a:rPr b="1" i="1" lang="ru-RU" sz="3200" spc="-1" strike="noStrike">
                <a:solidFill>
                  <a:srgbClr val="000000"/>
                </a:solidFill>
                <a:latin typeface="Arial"/>
              </a:rPr>
              <a:t>сопряженные с ней</a:t>
            </a:r>
            <a:r>
              <a:rPr b="1" lang="ru-RU" sz="3200" spc="-1" strike="noStrike">
                <a:solidFill>
                  <a:srgbClr val="000000"/>
                </a:solidFill>
                <a:latin typeface="Arial"/>
              </a:rPr>
              <a:t> издержки </a:t>
            </a:r>
            <a:r>
              <a:rPr b="1" i="1" lang="ru-RU" sz="3200" spc="-1" strike="noStrike">
                <a:solidFill>
                  <a:srgbClr val="000000"/>
                </a:solidFill>
                <a:latin typeface="Arial"/>
              </a:rPr>
              <a:t>C(x)</a:t>
            </a:r>
            <a:r>
              <a:rPr b="1" lang="ru-RU" sz="3200" spc="-1" strike="noStrike">
                <a:solidFill>
                  <a:srgbClr val="000000"/>
                </a:solidFill>
                <a:latin typeface="Arial"/>
              </a:rPr>
              <a:t>  </a:t>
            </a:r>
            <a:br>
              <a:rPr sz="3200"/>
            </a:b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здержки экономических агентов</a:t>
            </a:r>
            <a:endParaRPr b="0" lang="en-US" sz="3600" spc="-1" strike="noStrike">
              <a:solidFill>
                <a:srgbClr val="000000"/>
              </a:solidFill>
              <a:latin typeface="Arial"/>
            </a:endParaRPr>
          </a:p>
        </p:txBody>
      </p:sp>
      <p:sp>
        <p:nvSpPr>
          <p:cNvPr id="141"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Прямые переменные</a:t>
            </a:r>
            <a:r>
              <a:rPr b="1" i="1" lang="ru-RU" sz="2800" spc="-1" strike="noStrike">
                <a:solidFill>
                  <a:srgbClr val="000000"/>
                </a:solidFill>
                <a:latin typeface="Arial"/>
              </a:rPr>
              <a:t> издержки</a:t>
            </a:r>
            <a:r>
              <a:rPr b="1" lang="ru-RU" sz="2800" spc="-1" strike="noStrike">
                <a:solidFill>
                  <a:srgbClr val="000000"/>
                </a:solidFill>
                <a:latin typeface="Arial"/>
              </a:rPr>
              <a:t> – издержки, уровень которых зависит от степени использования (интенсивности, масштаба реализации) альтернатив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Невозвратные </a:t>
            </a:r>
            <a:r>
              <a:rPr b="1" i="1" lang="ru-RU" sz="2800" spc="-1" strike="noStrike">
                <a:solidFill>
                  <a:srgbClr val="000000"/>
                </a:solidFill>
                <a:latin typeface="Arial"/>
              </a:rPr>
              <a:t>издержки</a:t>
            </a:r>
            <a:r>
              <a:rPr b="1" lang="ru-RU" sz="2800" spc="-1" strike="noStrike">
                <a:solidFill>
                  <a:srgbClr val="000000"/>
                </a:solidFill>
                <a:latin typeface="Arial"/>
              </a:rPr>
              <a:t> – издержки, связанные с обеспечением необходимых для реализации альтернативы услови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99"/>
                </a:solidFill>
                <a:latin typeface="Arial"/>
              </a:rPr>
              <a:t>Альтернативные </a:t>
            </a:r>
            <a:r>
              <a:rPr b="1" lang="ru-RU" sz="2800" spc="-1" strike="noStrike">
                <a:solidFill>
                  <a:srgbClr val="000000"/>
                </a:solidFill>
                <a:latin typeface="Arial"/>
              </a:rPr>
              <a:t>(вмененные) издержки</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Равновесие экономических систем</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остояние (значение экономических переменных), при котором составляющие ее элементы (хозяйственные единицы или альтернативы) и сама  система в целом будут </a:t>
            </a:r>
            <a:r>
              <a:rPr b="1" lang="en-US" sz="3200" spc="-1" strike="noStrike">
                <a:solidFill>
                  <a:srgbClr val="333399"/>
                </a:solidFill>
                <a:latin typeface="Arial"/>
              </a:rPr>
              <a:t>не заинтересованы</a:t>
            </a:r>
            <a:r>
              <a:rPr b="1" lang="en-US" sz="3200" spc="-1" strike="noStrike">
                <a:solidFill>
                  <a:srgbClr val="000000"/>
                </a:solidFill>
                <a:latin typeface="Arial"/>
              </a:rPr>
              <a:t>  в его изменен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арето-эффективность</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пределение блага </a:t>
            </a:r>
            <a:r>
              <a:rPr b="1" i="1" lang="ru-RU" sz="2400" spc="-1" strike="noStrike">
                <a:solidFill>
                  <a:srgbClr val="000000"/>
                </a:solidFill>
                <a:latin typeface="Arial"/>
              </a:rPr>
              <a:t>X</a:t>
            </a:r>
            <a:r>
              <a:rPr b="1" lang="ru-RU" sz="2400" spc="-1" strike="noStrike">
                <a:solidFill>
                  <a:srgbClr val="000000"/>
                </a:solidFill>
                <a:latin typeface="Arial"/>
              </a:rPr>
              <a:t> является </a:t>
            </a:r>
            <a:r>
              <a:rPr b="1" lang="ru-RU" sz="2400" spc="-1" strike="noStrike" u="sng">
                <a:solidFill>
                  <a:srgbClr val="000000"/>
                </a:solidFill>
                <a:uFillTx/>
                <a:latin typeface="Arial"/>
              </a:rPr>
              <a:t>оптимальным по Парето</a:t>
            </a:r>
            <a:r>
              <a:rPr b="1" lang="ru-RU" sz="2400" spc="-1" strike="noStrike">
                <a:solidFill>
                  <a:srgbClr val="000000"/>
                </a:solidFill>
                <a:latin typeface="Arial"/>
              </a:rPr>
              <a:t>, если </a:t>
            </a:r>
            <a:r>
              <a:rPr b="1" lang="ru-RU" sz="2400" spc="-1" strike="noStrike">
                <a:solidFill>
                  <a:srgbClr val="333399"/>
                </a:solidFill>
                <a:latin typeface="Arial"/>
              </a:rPr>
              <a:t>увеличение количества блага</a:t>
            </a:r>
            <a:r>
              <a:rPr b="1" lang="ru-RU" sz="2400" spc="-1" strike="noStrike">
                <a:solidFill>
                  <a:srgbClr val="000000"/>
                </a:solidFill>
                <a:latin typeface="Arial"/>
              </a:rPr>
              <a:t>, получаемого любым из участников дележа, не может быть достигнуто </a:t>
            </a:r>
            <a:r>
              <a:rPr b="1" lang="ru-RU" sz="2400" spc="-1" strike="noStrike">
                <a:solidFill>
                  <a:srgbClr val="333399"/>
                </a:solidFill>
                <a:latin typeface="Arial"/>
              </a:rPr>
              <a:t>без уменьшения</a:t>
            </a:r>
            <a:r>
              <a:rPr b="1" lang="ru-RU" sz="2400" spc="-1" strike="noStrike">
                <a:solidFill>
                  <a:srgbClr val="000000"/>
                </a:solidFill>
                <a:latin typeface="Arial"/>
              </a:rPr>
              <a:t> количества этого блага, приходящегося на долю хотя бы одного из остальных участнико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сли распределение не является Парето-оптимальным, то это означает, что имеется возможность увеличения доли хотя бы одного из участников дележа без ущемления интересов остальных</a:t>
            </a:r>
            <a:endParaRPr b="0" lang="en-US" sz="24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ни социально-экономического анализа</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Института»</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циальные стереотипы (встроенные институты)</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циональная среда (социально-политическое устройство) </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итуты управления (организационно-правовое устройство)</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мещение ограниченных ресурсов</a:t>
            </a:r>
            <a:endParaRPr b="0" lang="en-US" sz="24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озитивный и нормативный анализ</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зитивные модели отвечают на вопрос: «</a:t>
            </a:r>
            <a:r>
              <a:rPr b="1" lang="ru-RU" sz="3200" spc="-1" strike="noStrike">
                <a:solidFill>
                  <a:srgbClr val="333399"/>
                </a:solidFill>
                <a:latin typeface="Arial"/>
              </a:rPr>
              <a:t>Что есть?</a:t>
            </a:r>
            <a:r>
              <a:rPr b="1"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рмативные модели отвечают на вопрос: «</a:t>
            </a:r>
            <a:r>
              <a:rPr b="1" lang="ru-RU" sz="3200" spc="-1" strike="noStrike">
                <a:solidFill>
                  <a:srgbClr val="333399"/>
                </a:solidFill>
                <a:latin typeface="Arial"/>
              </a:rPr>
              <a:t>Что должно быть?</a:t>
            </a:r>
            <a:r>
              <a:rPr b="1" lang="ru-RU" sz="3200" spc="-1" strike="noStrike">
                <a:solidFill>
                  <a:srgbClr val="000000"/>
                </a:solidFill>
                <a:latin typeface="Arial"/>
              </a:rPr>
              <a:t>»</a:t>
            </a:r>
            <a:endParaRPr b="0" lang="en-US" sz="3200" spc="-1" strike="noStrike">
              <a:solidFill>
                <a:srgbClr val="000000"/>
              </a:solidFill>
              <a:latin typeface="Arial"/>
            </a:endParaRPr>
          </a:p>
        </p:txBody>
      </p:sp>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ынок и отрасль</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Рынок</a:t>
            </a:r>
            <a:r>
              <a:rPr b="1" lang="ru-RU" sz="2800" spc="-1" strike="noStrike">
                <a:solidFill>
                  <a:srgbClr val="000000"/>
                </a:solidFill>
                <a:latin typeface="Arial"/>
              </a:rPr>
              <a:t> – совокупность покупателей и продавцов, взаимодействие которых обеспечивает обмен</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трасль</a:t>
            </a:r>
            <a:r>
              <a:rPr b="1" lang="ru-RU" sz="2800" spc="-1" strike="noStrike">
                <a:solidFill>
                  <a:srgbClr val="000000"/>
                </a:solidFill>
                <a:latin typeface="Arial"/>
              </a:rPr>
              <a:t> – совокупность фирм, торгующих одним и тем же или родственными видами товаро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трасль – сторона, предлагающая товар на рынке</a:t>
            </a:r>
            <a:endParaRPr b="0" lang="en-US" sz="24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руктура курс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ведение в микроэкономику</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поведения потребителя</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фирмы</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товаров</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ынки факторов производства</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совершенства рынка и роль государства</a:t>
            </a:r>
            <a:endParaRPr b="0" lang="en-US" sz="2400" spc="-1" strike="noStrike">
              <a:solidFill>
                <a:srgbClr val="000000"/>
              </a:solidFill>
              <a:latin typeface="Arial"/>
            </a:endParaRPr>
          </a:p>
        </p:txBody>
      </p:sp>
      <p:sp>
        <p:nvSpPr>
          <p:cNvPr id="1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кономическая теория и прикладная экономика</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ва стиля обучения микроэкономической теории:</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Чистая теори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еория с приложениями для управления бизнесом (</a:t>
            </a:r>
            <a:r>
              <a:rPr b="1" lang="en-US" sz="2000" spc="-1" strike="noStrike">
                <a:solidFill>
                  <a:srgbClr val="000000"/>
                </a:solidFill>
                <a:latin typeface="Arial"/>
              </a:rPr>
              <a:t>managerial/business econom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урсы микроэкономики и макроэкономики в процессе подготовки менедже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в учебном плане факультета</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 (1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кроэкономика (2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нансы (3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ровая экономика (4 семестр)</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кроэкономика-2: теория отраслевой организации (6 семестр)</a:t>
            </a:r>
            <a:endParaRPr b="0" lang="en-US" sz="20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кладные экономические науки</a:t>
            </a:r>
            <a:endParaRPr b="0" lang="en-US" sz="4000" spc="-1" strike="noStrike">
              <a:solidFill>
                <a:srgbClr val="000000"/>
              </a:solidFill>
              <a:latin typeface="Arial"/>
            </a:endParaRPr>
          </a:p>
        </p:txBody>
      </p:sp>
      <p:sp>
        <p:nvSpPr>
          <p:cNvPr id="165" name="PlaceHolder 2"/>
          <p:cNvSpPr>
            <a:spLocks noGrp="1"/>
          </p:cNvSpPr>
          <p:nvPr>
            <p:ph/>
          </p:nvPr>
        </p:nvSpPr>
        <p:spPr>
          <a:xfrm>
            <a:off x="457200" y="1484280"/>
            <a:ext cx="8229600" cy="51134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ждународная экономика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Internation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отраслевой организации</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Industrial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ка общественного сектор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	</a:t>
            </a:r>
            <a:r>
              <a:rPr b="1" i="1" lang="en-US" sz="2400" spc="-1" strike="noStrike">
                <a:solidFill>
                  <a:srgbClr val="000000"/>
                </a:solidFill>
                <a:latin typeface="Arial"/>
              </a:rPr>
              <a:t>Public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кономическая теория организаций</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Organization Economic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овая экономика</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000000"/>
                </a:solidFill>
                <a:latin typeface="Arial"/>
              </a:rPr>
              <a:t>Financial Economics</a:t>
            </a:r>
            <a:endParaRPr b="0" lang="en-US" sz="2400" spc="-1" strike="noStrike">
              <a:solidFill>
                <a:srgbClr val="000000"/>
              </a:solidFill>
              <a:latin typeface="Arial"/>
            </a:endParaRPr>
          </a:p>
        </p:txBody>
      </p:sp>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Аудиторные занятия</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екции (64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бор теоретического материала и обсуждение примеров</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инары (32 час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ешение задач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суждение статей, примеров, аналитических вопросо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рупповая работа </a:t>
            </a:r>
            <a:endParaRPr b="0" lang="en-US" sz="2800" spc="-1" strike="noStrike">
              <a:solidFill>
                <a:srgbClr val="000000"/>
              </a:solidFill>
              <a:latin typeface="Arial"/>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Групповая работа</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нализ любой отрасли народного хозяйства с использованием основных микроэкономических категорий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ъем курсовой работы – не более 15 страниц</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должна быть оформлена в соответствии с основными требованиями к оформлению курсовых работ</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пускается коллективная работа над проектом (не более 4-х человек)</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курсовой работы должен быть предоставлен научному руководителю не позже 4 декабря 2006 года</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ым условием допуска к защите курсовой работы является </a:t>
            </a:r>
            <a:r>
              <a:rPr b="1" lang="ru-RU" sz="2000" spc="-1" strike="noStrike">
                <a:solidFill>
                  <a:srgbClr val="000000"/>
                </a:solidFill>
                <a:latin typeface="Arial"/>
              </a:rPr>
              <a:t>наличие презентации</a:t>
            </a:r>
            <a:r>
              <a:rPr b="0" lang="ru-RU" sz="2000" spc="-1" strike="noStrike">
                <a:solidFill>
                  <a:srgbClr val="000000"/>
                </a:solidFill>
                <a:latin typeface="Arial"/>
              </a:rPr>
              <a:t> основных результатов исследования</a:t>
            </a:r>
            <a:endParaRPr b="0" lang="en-US" sz="2000" spc="-1" strike="noStrike">
              <a:solidFill>
                <a:srgbClr val="000000"/>
              </a:solidFill>
              <a:latin typeface="Arial"/>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Оценка по курсу</a:t>
            </a:r>
            <a:endParaRPr b="0" lang="en-US" sz="4000" spc="-1" strike="noStrike">
              <a:solidFill>
                <a:srgbClr val="000000"/>
              </a:solidFill>
              <a:latin typeface="Arial"/>
            </a:endParaRPr>
          </a:p>
        </p:txBody>
      </p:sp>
      <p:sp>
        <p:nvSpPr>
          <p:cNvPr id="64"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пуск к экзамену:</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заданий, полученных на семинарских и лекционных занятиях</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ение письменной работы в ходе промежуточной аттестации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межуточная аттестация</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1 час 15 минут (во время лекции)</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овый письменный экзамен</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0% итоговой оценк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должительность – 3 час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уктура экзаменационной и аттестационной работ</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1. Вопросы на выбор правильного ответа</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2: задачи</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лок 3: аналитические вопросы (применение теоретических знаний для ответа на поставленный вопрос)</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Итоговая оценка</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аксимальное количество баллов – 1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 от 76 и выш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 от 66 до 7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от 56 до 65</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вторный экзамен – в дополнительную сессию в феврале</a:t>
            </a:r>
            <a:endParaRPr b="0" lang="en-US" sz="3200" spc="-1" strike="noStrike">
              <a:solidFill>
                <a:srgbClr val="000000"/>
              </a:solidFill>
              <a:latin typeface="Arial"/>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комендуемая литература</a:t>
            </a:r>
            <a:endParaRPr b="0" lang="en-US" sz="4400" spc="-1" strike="noStrike">
              <a:solidFill>
                <a:srgbClr val="000000"/>
              </a:solidFill>
              <a:latin typeface="Arial"/>
            </a:endParaRPr>
          </a:p>
        </p:txBody>
      </p:sp>
      <p:sp>
        <p:nvSpPr>
          <p:cNvPr id="70" name="PlaceHolder 2"/>
          <p:cNvSpPr>
            <a:spLocks noGrp="1"/>
          </p:cNvSpPr>
          <p:nvPr>
            <p:ph/>
          </p:nvPr>
        </p:nvSpPr>
        <p:spPr>
          <a:xfrm>
            <a:off x="457200" y="1196640"/>
            <a:ext cx="8229600" cy="5545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ендиум по курс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эриан Х.Л. Микроэкономика. Промежуточный уровень. Современный подход: Учебние для вузов /Пер. с англ. под. ред. Н.Д.Фроловой. – М.: ЮНИТИ, 1997.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ранк Р.Х. Микроэкономика и поведение. – М.:ИНФРА-М, 2000. – 696 с.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ндайк Р.С., Рабинфельд Д.Л. Микроэкономика. /Пер. с англ. – СПб.: Питер, 2002. – 608 с.</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лгром П., Робертс Дж. Экономика, организация и менеджмент: В 2-х т./ Пер. с англ. под редакцией И.И.Елисеевой, В.Л.Тамбовцева. СПб.: Экономическая школа, 1999. Т.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ьвов Ю.А. Основы экономики и организации бизнеса. – СПб.: 1992.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альперин В.М., Игнатьев С.М., Моргунов В.И. Микроэкономика. В 2-х т. СПб., 1994-2002.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ономическая школа. 50 лекций по микроэкономике. В 2-х т. СПб., 2000.</a:t>
            </a:r>
            <a:r>
              <a:rPr b="0" i="1" lang="ru-RU" sz="2000" spc="-1" strike="noStrike">
                <a:solidFill>
                  <a:srgbClr val="000000"/>
                </a:solidFill>
                <a:latin typeface="Arial"/>
              </a:rPr>
              <a:t> </a:t>
            </a:r>
            <a:r>
              <a:rPr b="0" i="1" lang="en-US" sz="2000" spc="-1" strike="noStrike">
                <a:solidFill>
                  <a:srgbClr val="000000"/>
                </a:solidFill>
                <a:latin typeface="Arial"/>
              </a:rPr>
              <a:t>www</a:t>
            </a:r>
            <a:r>
              <a:rPr b="0" i="1" lang="ru-RU" sz="2000" spc="-1" strike="noStrike">
                <a:solidFill>
                  <a:srgbClr val="000000"/>
                </a:solidFill>
                <a:latin typeface="Arial"/>
              </a:rPr>
              <a:t>.</a:t>
            </a:r>
            <a:r>
              <a:rPr b="0" i="1" lang="en-US" sz="2000" spc="-1" strike="noStrike">
                <a:solidFill>
                  <a:srgbClr val="000000"/>
                </a:solidFill>
                <a:latin typeface="Arial"/>
              </a:rPr>
              <a:t>economicus</a:t>
            </a:r>
            <a:r>
              <a:rPr b="0" i="1" lang="ru-RU" sz="2000" spc="-1" strike="noStrike">
                <a:solidFill>
                  <a:srgbClr val="000000"/>
                </a:solidFill>
                <a:latin typeface="Arial"/>
              </a:rPr>
              <a:t>.</a:t>
            </a:r>
            <a:r>
              <a:rPr b="0" i="1" lang="en-US" sz="2000" spc="-1" strike="noStrike">
                <a:solidFill>
                  <a:srgbClr val="000000"/>
                </a:solidFill>
                <a:latin typeface="Arial"/>
              </a:rPr>
              <a:t>ru</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расевич Л., Гребенников П., Леусский А., Микроэкономика http://www.finec.ru/rus/parts/microeconomics/titul.html</a:t>
            </a:r>
            <a:endParaRPr b="0" lang="en-US" sz="1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Консультации и контакты</a:t>
            </a: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сультации проводятся по средам после лекци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такт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олова Екатерина Владимировна (</a:t>
            </a:r>
            <a:r>
              <a:rPr b="0" lang="en-US" sz="2400" spc="-1" strike="noStrike">
                <a:solidFill>
                  <a:srgbClr val="000000"/>
                </a:solidFill>
                <a:latin typeface="Arial"/>
              </a:rPr>
              <a:t>sokolova@som.pu.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яр Татьяна Моисеевна (</a:t>
            </a:r>
            <a:r>
              <a:rPr b="0" lang="en-US" sz="2400" spc="-1" strike="noStrike">
                <a:solidFill>
                  <a:srgbClr val="000000"/>
                </a:solidFill>
                <a:latin typeface="Arial"/>
              </a:rPr>
              <a:t>skliar@ts3924.spb.ed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ганова Анастасия Александровна (</a:t>
            </a:r>
            <a:r>
              <a:rPr b="0" lang="en-US" sz="2400" spc="-1" strike="noStrike">
                <a:solidFill>
                  <a:srgbClr val="000000"/>
                </a:solidFill>
                <a:latin typeface="Arial"/>
              </a:rPr>
              <a:t>taganova@som.pu.ru)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арехин Александр Викторович (</a:t>
            </a:r>
            <a:r>
              <a:rPr b="0" lang="en-US" sz="2400" spc="-1" strike="noStrike">
                <a:solidFill>
                  <a:srgbClr val="000000"/>
                </a:solidFill>
                <a:latin typeface="Arial"/>
              </a:rPr>
              <a:t>alexjva@mail.ru) </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0:34:03Z</dcterms:created>
  <dc:creator>СоколоваЕВ</dc:creator>
  <dc:description/>
  <dc:language>en-US</dc:language>
  <cp:lastModifiedBy>LEGION</cp:lastModifiedBy>
  <dcterms:modified xsi:type="dcterms:W3CDTF">2016-01-04T08:18:14Z</dcterms:modified>
  <cp:revision>15</cp:revision>
  <dc:subject/>
  <dc:title>Микроэкономика</dc:title>
</cp:coreProperties>
</file>