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2FDE-18FC-446D-AB62-25A16CBBA5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э.н., ст.преп. Соколова 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ультет менеджмен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кт-Петербургский государственный универс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э.н., ст.преп. Соколова Е.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ультет менеджмен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нкт-Петербургский государственный университ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и задача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полного и одновременного удовлетворения всех потребностей всех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удовлетворения всех имеющ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выбора из нескольких доступных альтернати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за использова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между альтернативными ц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сительность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и задача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полного и одновременного удовлетворения всех потребностей всех люд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удовлетворения всех имеющ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выбора из нескольких доступных альтернати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за использова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между альтернативными ц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сть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ожно сказать, что рассматриваемая задача является экономичес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йонел Роббинс («Предмет экономической науки»,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тремится к различным цел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и средства, находящиеся в его распоряжении,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и могут быть направлены  на достижение альтернатив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аждый момент времени разные цели обладают различной важ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ожно сказать, что рассматриваемая задача является экономическ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йонел Роббинс («Предмет экономической науки»,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к стремится к различным цел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я и средства, находящиеся в его распоряжении, огранич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могут быть направлены  на достижение альтернативных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ый момент времени разные цели обладают различной важ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одновременного действия всех четырех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ойдет, если какое-то условие не выполн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ственная ц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жественность целей без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без возможности их альтернативного ис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одновременного действия всех четырех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ойдет, если какое-то условие не выпол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ственная це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енность целей без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без возможности их альтернативного использ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онятия альтернативных затрат при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 понятия альтернативных затрат при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даментальные задач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ког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систем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как теория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задачи 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ог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системы ц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как теория ц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ы распределе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о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ан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распределе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дицио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экономической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экономической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МА О НЕВИДИМОЙ Р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А.См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О НЕВИДИМОЙ РУ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А.Сми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 ма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 ма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микроэкономической теории на вводном уров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ение основных проблем, изучаемых в рамках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микроэкономической теории на вводном уров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ние основных проблем, изучаемых в рамках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р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х хозяй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тельственных организац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ашних хозяй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енных организ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ология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dulus – мера, образ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отличный от исследуемого ориги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ощенное описание исходного объекта изу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odulus – мера, образе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отличный от исследуемого ориги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ощенное описание исходного объекта изуч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ьное – идеальная аналогия. Теоретический характер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альное – идеальная аналогия. Теоретический характер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ей в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ба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о-математическ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ей в экономи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баль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о-математичес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тельность и реалистичность принятых посылок и допущ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казательная способ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ость информационного обеспечения и вер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тельность и реалистичность принятых посылок и допущ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казательная способ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нформационного обеспечения и верифик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поведения отдельных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взаимоотношений между экономическими агент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имизацион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поведения отдельных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ны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взаимоотношений между экономическими агент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понятия «ЛУЧШ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ы максимизируют удовлетворение своих потребностей, называемое полез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нятия «ЛУЧШЕ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ы максимизируют удовлетворение своих потребностей, называемое полез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аксимизируют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продаж (рыночная д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ство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сы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деление между собственниками и менеджер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йствие менеджеров исходя из собстве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максимизиру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продаж (рыночная д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ство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осыл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деление между собственниками и менеджер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менеджеров исходя из собственных интере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альная модель рационального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 - множество возможных альтернатив x использования ограниченного ресурса - x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альная модель рационального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 - множество возможных альтернатив x использования ограниченного ресурса - x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знакомление с методологией микр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моделей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знакомление с методологией микр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моделей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 рациональности поведения экономического аг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рациональности поведения экономического аген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держки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вмененные) издер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держки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вмененные) издер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экономически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экономических сист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ето-эффектив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то-эффектив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вни социальн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Инстит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ереотипы (встроенные институ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циональная среда (социально-политическое устрой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ты управления (организационно-правовое устрой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ще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и социальн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Институ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е стереотипы (встроенные институ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реда (социально-политическое устройств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ты управления (организационно-правовое устрой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й и норматив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е модели отвечают на вопрос: «Что е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ые модели отвечают на вопрос: «Что должно бы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й и нормативный анали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одели отвечают на вопрос: «Что 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е модели отвечают на вопрос: «Что должно бы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и отрас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овокупность фирм, торгующих одним и тем же или родственными видам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торона, предлагающая товар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и отрас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овокупность фирм, торгующих одним и тем же или родственными видам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торона, предлагающая товар на рын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поведения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факторов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ства рынка и роль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оведения потреб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факторов произ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овершенства рынка и роль государ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теория и прикла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стиля обучения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ая те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с приложениями для управления бизнесом (managerial/business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сы микроэкономики и макроэкономики в процессе подготовки менедж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 в учебном плане факульт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1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2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ы (3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ровая экономика (4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2: теория отраслевой организации (6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теория и прикла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стиля обучения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ая те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с приложениями для управления бизнесом (managerial/business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ы микроэкономики и макроэкономики в процессе подготовки менедж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в учебном плане факульт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1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2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ы (3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 (4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2: теория отраслевой организации (6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кладные экономические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еждународная эконом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ternation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ория отраслево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dustr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ка общественного сект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Public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ческая теория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Organizatio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Financ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рикладные экономические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еждународная эконом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ternation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еория отраслево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dustr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ка общественного се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Public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ческая теория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Organizatio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инансов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Financ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удиторные за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и (64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бор теоретического материала и обсуждение прим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минары (32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дач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статей, примеров, аналитических вопро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удиторные за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ции (64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бор теоретического материала и обсуждение прим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инары (32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дач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уждение статей, примеров, аналитических вопро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курсовой работы – не более 15 страни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ается коллективная работа над проектом (не более 4-х челов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курсовой работы – не более 15 страни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ается коллективная работа над проектом (не более 4-х челове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ценка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 к экзамен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заданий, полученных на семинарских и лекционных занят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письменной работы в ходе промежуточной аттес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ежуточная аттест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1 час 15 минут (во время ле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ый письменный экза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3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экзаменационной и аттестационной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1. Вопросы на выбор правильного отв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2: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 к экзамен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заданий, полученных на семинарских и лекционных занят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письменной работы в ходе промежуточной аттест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межуточная аттестац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1 час 15 минут (во время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ый письменный экза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3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экзаменационной и аттестационной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1. Вопросы на выбор правильного отв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2: задач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ая оц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симальное количество баллов –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от 76 и выш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от 66 до 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от 56 до 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ый экзамен – в дополнительную сессию в февра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ая оцен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имальное количество баллов –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от 76 и выш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от 66 до 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от 56 до 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торный экзамен – в дополнительную сессию в февра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мая литерату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ендиум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анк Р.Х. Микроэкономика и поведение. – М.:ИНФРА-М, 2000. – 696 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ндайк Р.С., Рабинфельд Д.Л. Микроэкономика. /Пер. с англ. – СПб.: Питер, 2002. – 608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ьвов Ю.А. Основы экономики и организации бизнеса. – СПб.: 199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ьперин В.М., Игнатьев С.М., Моргунов В.И. Микроэкономика. В 2-х т. СПб., 1994-2002.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школа. 50 лекций по микроэкономике. В 2-х т. СПб., 2000.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расевич Л., Гребенников П., Леусский А., Микроэкономика http://www.finec.ru/rus/parts/microeconomics/titu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диум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к Р.Х. Микроэкономика и поведение. – М.:ИНФРА-М, 2000. – 696 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ндайк Р.С., Рабинфельд Д.Л. Микроэкономика. /Пер. с англ. – СПб.: Питер, 2002. – 608 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ьвов Ю.А. Основы экономики и организации бизнеса. – СПб.: 199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ьперин В.М., Игнатьев С.М., Моргунов В.И. Микроэкономика. В 2-х т. СПб., 1994-2002.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школа. 50 лекций по микроэкономике. В 2-х т. СПб., 2000.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расевич Л., Гребенников П., Леусский А., Микроэкономика http://www.finec.ru/rus/parts/microeconomics/titul.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и 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проводятся по средам после ле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колова Екатерина Владимировна (sokolova@som.pu.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ляр Татьяна Моисеевна (skliar@ts3924.spb.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ганова Анастасия Александровна (taganova@som.pu.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рехин Александр Викторович (alexjva@mail.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проводятся по средам после ле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колова Екатерина Владимировна (sokolova@som.pu.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ляр Татьяна Моисеевна (skliar@ts3924.spb.ed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ганова Анастасия Александровна (taganova@som.pu.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рехин Александр Викторович (alexjva@mail.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2E2FA-E790-4134-B546-E83ABB0FB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37A0-7259-43F4-9B50-1BC8603DB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B190B-C681-400B-AC38-406C9B8FC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9D4C5-3DEE-4B2C-A577-5B615748E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7FFCF-2A19-429E-8F2B-2B6E852E7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804B5-A241-4FD5-9474-E64635AB8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1F2B6-4A96-48DB-8DC1-D0CF20354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30586-F0DD-4261-8076-66CBBAA3A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BB07F-E79E-4AFA-BB6A-B409229B5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0539-D695-4D04-85FA-C5375318D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C9B0F-A10A-49B7-B69B-0B569240E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67071-F57F-4CF6-A8EE-9147F1415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1398-F132-4750-B923-A9502C4A998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Микроэкономика</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э.н., ст.преп. Соколова Е.В.</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акультет менеджмента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нкт-Петербургский государственный университет</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ма 1. Введение в микроэкономику</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граниченность ресурсов и задача выбора</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граниченность ресурсов</a:t>
            </a:r>
            <a:r>
              <a:rPr b="1"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полного и одновременного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потребностей </a:t>
            </a:r>
            <a:r>
              <a:rPr b="1" lang="ru-RU" sz="1800" spc="-1" strike="noStrike">
                <a:solidFill>
                  <a:srgbClr val="333399"/>
                </a:solidFill>
                <a:latin typeface="Arial"/>
              </a:rPr>
              <a:t>всех</a:t>
            </a:r>
            <a:r>
              <a:rPr b="1" lang="ru-RU" sz="1800" spc="-1" strike="noStrike">
                <a:solidFill>
                  <a:srgbClr val="000000"/>
                </a:solidFill>
                <a:latin typeface="Arial"/>
              </a:rPr>
              <a:t> людей</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имеющихся альтернатив использования ресурса</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бходимость </a:t>
            </a:r>
            <a:r>
              <a:rPr b="1" lang="ru-RU" sz="2000" spc="-1" strike="noStrike">
                <a:solidFill>
                  <a:srgbClr val="333399"/>
                </a:solidFill>
                <a:latin typeface="Arial"/>
              </a:rPr>
              <a:t>выбора</a:t>
            </a:r>
            <a:r>
              <a:rPr b="1" lang="ru-RU" sz="2000" spc="-1" strike="noStrike">
                <a:solidFill>
                  <a:srgbClr val="000000"/>
                </a:solidFill>
                <a:latin typeface="Arial"/>
              </a:rPr>
              <a:t> из нескольких </a:t>
            </a:r>
            <a:r>
              <a:rPr b="1" lang="ru-RU" sz="2000" spc="-1" strike="noStrike">
                <a:solidFill>
                  <a:srgbClr val="333399"/>
                </a:solidFill>
                <a:latin typeface="Arial"/>
              </a:rPr>
              <a:t>доступных</a:t>
            </a:r>
            <a:r>
              <a:rPr b="1" lang="ru-RU" sz="2000" spc="-1" strike="noStrike">
                <a:solidFill>
                  <a:srgbClr val="000000"/>
                </a:solidFill>
                <a:latin typeface="Arial"/>
              </a:rPr>
              <a:t> альтернати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Конкуренция</a:t>
            </a:r>
            <a:r>
              <a:rPr b="1" lang="ru-RU" sz="2000" spc="-1" strike="noStrike">
                <a:solidFill>
                  <a:srgbClr val="000000"/>
                </a:solidFill>
                <a:latin typeface="Arial"/>
              </a:rPr>
              <a:t> за использование ограниченных ресурсов</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куренция между </a:t>
            </a:r>
            <a:r>
              <a:rPr b="1" i="1" lang="ru-RU" sz="1800" spc="-1" strike="noStrike">
                <a:solidFill>
                  <a:srgbClr val="333399"/>
                </a:solidFill>
                <a:latin typeface="Arial"/>
              </a:rPr>
              <a:t>альтернативными целями</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сительность ограниченности ресурсов</a:t>
            </a:r>
            <a:endParaRPr b="0" lang="en-US" sz="20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 можно сказать, что рассматриваемая задача является экономичес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айонел Роббинс («Предмет экономической науки», 19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ловек стремится к </a:t>
            </a:r>
            <a:r>
              <a:rPr b="1" lang="ru-RU" sz="2400" spc="-1" strike="noStrike">
                <a:solidFill>
                  <a:srgbClr val="333399"/>
                </a:solidFill>
                <a:latin typeface="Arial"/>
              </a:rPr>
              <a:t>различным</a:t>
            </a:r>
            <a:r>
              <a:rPr b="1" lang="ru-RU" sz="2400" spc="-1" strike="noStrike">
                <a:solidFill>
                  <a:srgbClr val="000000"/>
                </a:solidFill>
                <a:latin typeface="Arial"/>
              </a:rPr>
              <a:t> цел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и средства, находящиеся в его распоряжении, </a:t>
            </a:r>
            <a:r>
              <a:rPr b="1" lang="ru-RU" sz="2400" spc="-1" strike="noStrike">
                <a:solidFill>
                  <a:srgbClr val="333399"/>
                </a:solidFill>
                <a:latin typeface="Arial"/>
              </a:rPr>
              <a:t>ограничен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и могут быть направлены  на достижение </a:t>
            </a:r>
            <a:r>
              <a:rPr b="1" lang="ru-RU" sz="2400" spc="-1" strike="noStrike">
                <a:solidFill>
                  <a:srgbClr val="333399"/>
                </a:solidFill>
                <a:latin typeface="Arial"/>
              </a:rPr>
              <a:t>альтернативных</a:t>
            </a:r>
            <a:r>
              <a:rPr b="1" lang="ru-RU" sz="2400" spc="-1" strike="noStrike">
                <a:solidFill>
                  <a:srgbClr val="000000"/>
                </a:solidFill>
                <a:latin typeface="Arial"/>
              </a:rPr>
              <a:t> целе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каждый момент времени разные цели обладают различной </a:t>
            </a:r>
            <a:r>
              <a:rPr b="1" lang="ru-RU" sz="2400" spc="-1" strike="noStrike">
                <a:solidFill>
                  <a:srgbClr val="333399"/>
                </a:solidFill>
                <a:latin typeface="Arial"/>
              </a:rPr>
              <a:t>важностью</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бходимость одновременного действия всех четырех услови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произойдет, если какое-то условие не выполняе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динственная це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ожественность целей без ограниченности ресурс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аниченность ресурсов без возможности их альтернативного использован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24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льтернативные затраты</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льтернативные затраты (</a:t>
            </a:r>
            <a:r>
              <a:rPr b="1" lang="en-US" sz="2800" spc="-1" strike="noStrike">
                <a:solidFill>
                  <a:srgbClr val="000000"/>
                </a:solidFill>
                <a:latin typeface="Arial"/>
              </a:rPr>
              <a:t>opportunity costs) – </a:t>
            </a:r>
            <a:r>
              <a:rPr b="1" lang="ru-RU" sz="2800" spc="-1" strike="noStrike">
                <a:solidFill>
                  <a:srgbClr val="333399"/>
                </a:solidFill>
                <a:latin typeface="Arial"/>
              </a:rPr>
              <a:t>доход</a:t>
            </a:r>
            <a:r>
              <a:rPr b="1" lang="ru-RU" sz="2800" spc="-1" strike="noStrike">
                <a:solidFill>
                  <a:srgbClr val="000000"/>
                </a:solidFill>
                <a:latin typeface="Arial"/>
              </a:rPr>
              <a:t> от наилучшей из оставшихся альтернатив использования ресурс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ьзование понятия альтернативных затрат при принятии решений</a:t>
            </a:r>
            <a:endParaRPr b="0" lang="en-US" sz="28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ундаментальные задачи экономики</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кого производит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ль системы це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кроэкономика как теория це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ханизмы распределения ограниченных ресурсов</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Традицио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Команд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ч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Смеша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едмет экономической науки</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Способы решения задачи выбора между конкурирующими </a:t>
            </a:r>
            <a:r>
              <a:rPr b="1" lang="ru-RU" sz="3200" spc="-1" strike="noStrike" u="sng">
                <a:solidFill>
                  <a:srgbClr val="333399"/>
                </a:solidFill>
                <a:uFillTx/>
                <a:latin typeface="Arial"/>
              </a:rPr>
              <a:t>целями использования</a:t>
            </a:r>
            <a:r>
              <a:rPr b="1" lang="ru-RU" sz="3200" spc="-1" strike="noStrike">
                <a:solidFill>
                  <a:srgbClr val="333399"/>
                </a:solidFill>
                <a:latin typeface="Arial"/>
              </a:rPr>
              <a:t> ограниченных ресурсо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ЕОРЕМА О НЕВИДИМОЙ РУКЕ»</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i="1" lang="ru-RU" sz="28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А.Смит </a:t>
            </a:r>
            <a:endParaRPr b="0" lang="en-US" sz="28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икроэкономика и макроэкономик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икроэкономика</a:t>
            </a:r>
            <a:r>
              <a:rPr b="1" lang="ru-RU" sz="2800" spc="-1" strike="noStrike">
                <a:solidFill>
                  <a:srgbClr val="000000"/>
                </a:solidFill>
                <a:latin typeface="Arial"/>
              </a:rPr>
              <a:t>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акроэкономика</a:t>
            </a:r>
            <a:r>
              <a:rPr b="1" lang="ru-RU" sz="2800" spc="-1" strike="noStrike">
                <a:solidFill>
                  <a:srgbClr val="000000"/>
                </a:solidFill>
                <a:latin typeface="Arial"/>
              </a:rPr>
              <a:t> исследует функционирование экономической системы в целом и крупных ее секторов</a:t>
            </a:r>
            <a:endParaRPr b="0" lang="en-US" sz="28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Цель курса</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учение микроэкономической теории на вводном уровне:</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ение основных проблем, изучаемых в рамках микроэкономической теории</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 микроэкономики</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условленное ограниченностью ресурсов </a:t>
            </a:r>
            <a:r>
              <a:rPr b="1" lang="en-US" sz="2800" spc="-1" strike="noStrike">
                <a:solidFill>
                  <a:srgbClr val="333399"/>
                </a:solidFill>
                <a:latin typeface="Arial"/>
              </a:rPr>
              <a:t>поведение</a:t>
            </a:r>
            <a:r>
              <a:rPr b="1" lang="en-US" sz="2800" spc="-1" strike="noStrike">
                <a:solidFill>
                  <a:srgbClr val="000000"/>
                </a:solidFill>
                <a:latin typeface="Arial"/>
              </a:rPr>
              <a:t> (принимаемые экономические решения) </a:t>
            </a:r>
            <a:r>
              <a:rPr b="1" lang="en-US" sz="2800" spc="-1" strike="noStrike">
                <a:solidFill>
                  <a:srgbClr val="333399"/>
                </a:solidFill>
                <a:latin typeface="Arial"/>
              </a:rPr>
              <a:t>экономических агентов</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требителей</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ирм</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машних хозяйств</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авительственных организаци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функционирование </a:t>
            </a:r>
            <a:r>
              <a:rPr b="1" lang="en-US" sz="2800" spc="-1" strike="noStrike">
                <a:solidFill>
                  <a:srgbClr val="000000"/>
                </a:solidFill>
                <a:latin typeface="Arial"/>
              </a:rPr>
              <a:t>отдельных</a:t>
            </a:r>
            <a:r>
              <a:rPr b="1" lang="en-US" sz="2800" spc="-1" strike="noStrike">
                <a:solidFill>
                  <a:srgbClr val="333399"/>
                </a:solidFill>
                <a:latin typeface="Arial"/>
              </a:rPr>
              <a:t> рынков</a:t>
            </a:r>
            <a:r>
              <a:rPr b="1" lang="ru-RU" sz="2800" spc="-1" strike="noStrike">
                <a:solidFill>
                  <a:srgbClr val="000000"/>
                </a:solidFill>
                <a:latin typeface="Arial"/>
              </a:rPr>
              <a:t>, проявляющееся в формировании цен, объемов спроса и предложения</a:t>
            </a:r>
            <a:endParaRPr b="0" lang="en-US" sz="28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тодология микроэкономики</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a:t>
            </a:r>
            <a:r>
              <a:rPr b="1" i="1" lang="ru-RU" sz="3200" spc="-1" strike="noStrike">
                <a:solidFill>
                  <a:srgbClr val="333399"/>
                </a:solidFill>
                <a:latin typeface="Arial"/>
              </a:rPr>
              <a:t>моделями</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и</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odulus</a:t>
            </a:r>
            <a:r>
              <a:rPr b="1" lang="ru-RU" sz="2800" spc="-1" strike="noStrike">
                <a:solidFill>
                  <a:srgbClr val="000000"/>
                </a:solidFill>
                <a:latin typeface="Arial"/>
              </a:rPr>
              <a:t> – мера, образе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ъект, отличный от исследуемого оригинал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прощенное описание исходного объекта изучен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ные типы моделирования</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Материальное</a:t>
            </a:r>
            <a:r>
              <a:rPr b="0" lang="ru-RU" sz="3200" spc="-1" strike="noStrike">
                <a:solidFill>
                  <a:srgbClr val="000000"/>
                </a:solidFill>
                <a:latin typeface="Arial"/>
              </a:rPr>
              <a:t> – воспроизведение основных характеристик</a:t>
            </a:r>
            <a:r>
              <a:rPr b="0" lang="en-US" sz="3200" spc="-1" strike="noStrike">
                <a:solidFill>
                  <a:srgbClr val="000000"/>
                </a:solidFill>
                <a:latin typeface="Arial"/>
              </a:rPr>
              <a:t> (</a:t>
            </a:r>
            <a:r>
              <a:rPr b="0" lang="ru-RU" sz="3200" spc="-1" strike="noStrike">
                <a:solidFill>
                  <a:srgbClr val="000000"/>
                </a:solidFill>
                <a:latin typeface="Arial"/>
              </a:rPr>
              <a:t>в т.ч. фЫизических) моделируемого объект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Идеальное</a:t>
            </a:r>
            <a:r>
              <a:rPr b="0" lang="ru-RU" sz="3200" spc="-1" strike="noStrike">
                <a:solidFill>
                  <a:srgbClr val="000000"/>
                </a:solidFill>
                <a:latin typeface="Arial"/>
              </a:rPr>
              <a:t> – идеальная аналогия. Теоретический характер моделиров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сновные типы моделей в экономике</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бальны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кономико-математические</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держательность и реалистичность принятых посылок и допущ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казательная способнос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нформационного обеспечения и верификаци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ность</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имизационны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поведения </a:t>
            </a:r>
            <a:r>
              <a:rPr b="1" i="1" lang="ru-RU" sz="2800" spc="-1" strike="noStrike">
                <a:solidFill>
                  <a:srgbClr val="333399"/>
                </a:solidFill>
                <a:latin typeface="Arial"/>
              </a:rPr>
              <a:t>отдельных</a:t>
            </a:r>
            <a:r>
              <a:rPr b="1" lang="ru-RU" sz="2800" spc="-1" strike="noStrike">
                <a:solidFill>
                  <a:srgbClr val="000000"/>
                </a:solidFill>
                <a:latin typeface="Arial"/>
              </a:rPr>
              <a:t> экономических агентов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вновесные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взаимоотношений </a:t>
            </a:r>
            <a:r>
              <a:rPr b="1" i="1" lang="ru-RU" sz="2800" spc="-1" strike="noStrike">
                <a:solidFill>
                  <a:srgbClr val="333399"/>
                </a:solidFill>
                <a:latin typeface="Arial"/>
              </a:rPr>
              <a:t>между</a:t>
            </a:r>
            <a:r>
              <a:rPr b="1" lang="ru-RU" sz="2800" spc="-1" strike="noStrike">
                <a:solidFill>
                  <a:srgbClr val="000000"/>
                </a:solidFill>
                <a:latin typeface="Arial"/>
              </a:rPr>
              <a:t> экономическими агентами </a:t>
            </a:r>
            <a:endParaRPr b="0" lang="en-US" sz="28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понятия «ЛУЧШЕЕ»</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ы максимизируют удовлетворение своих потребностей, называемое </a:t>
            </a:r>
            <a:r>
              <a:rPr b="1" i="1" lang="ru-RU" sz="2800" spc="-1" strike="noStrike">
                <a:solidFill>
                  <a:srgbClr val="333399"/>
                </a:solidFill>
                <a:latin typeface="Arial"/>
              </a:rPr>
              <a:t>полезностью</a:t>
            </a:r>
            <a:endParaRPr b="0" lang="en-US" sz="28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аксимизируют фир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бы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м продаж (рыночная дол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атство собственников</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посылки</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деление между собственниками и менеджерами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е менеджеров исходя из собственных интересов</a:t>
            </a:r>
            <a:endParaRPr b="0" lang="en-US" sz="20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альная модель рационального выбора</a:t>
            </a:r>
            <a:endParaRPr b="0" lang="en-US" sz="4000" spc="-1" strike="noStrike">
              <a:solidFill>
                <a:srgbClr val="000000"/>
              </a:solidFill>
              <a:latin typeface="Arial"/>
            </a:endParaRPr>
          </a:p>
        </p:txBody>
      </p:sp>
      <p:sp>
        <p:nvSpPr>
          <p:cNvPr id="133" name="PlaceHolder 2"/>
          <p:cNvSpPr>
            <a:spLocks noGrp="1"/>
          </p:cNvSpPr>
          <p:nvPr>
            <p:ph/>
          </p:nvPr>
        </p:nvSpPr>
        <p:spPr>
          <a:xfrm>
            <a:off x="457200" y="3789000"/>
            <a:ext cx="8229600" cy="233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D -</a:t>
            </a:r>
            <a:r>
              <a:rPr b="0" lang="ru-RU" sz="2400" spc="-1" strike="noStrike">
                <a:solidFill>
                  <a:srgbClr val="000000"/>
                </a:solidFill>
                <a:latin typeface="Arial"/>
              </a:rPr>
              <a:t> множество возможных альтернатив </a:t>
            </a:r>
            <a:r>
              <a:rPr b="1" i="1" lang="ru-RU" sz="2400" spc="-1" strike="noStrike">
                <a:solidFill>
                  <a:srgbClr val="000000"/>
                </a:solidFill>
                <a:latin typeface="Arial"/>
              </a:rPr>
              <a:t>x</a:t>
            </a:r>
            <a:r>
              <a:rPr b="0" lang="ru-RU" sz="2400" spc="-1" strike="noStrike">
                <a:solidFill>
                  <a:srgbClr val="000000"/>
                </a:solidFill>
                <a:latin typeface="Arial"/>
              </a:rPr>
              <a:t> использования ограниченного ресурса - </a:t>
            </a:r>
            <a:r>
              <a:rPr b="0" i="1" lang="ru-RU" sz="2400" spc="-1" strike="noStrike">
                <a:solidFill>
                  <a:srgbClr val="000000"/>
                </a:solidFill>
                <a:latin typeface="Arial"/>
              </a:rPr>
              <a:t>x</a:t>
            </a:r>
            <a:r>
              <a:rPr b="0" lang="ru-RU" sz="2400" spc="-1" strike="noStrike">
                <a:solidFill>
                  <a:srgbClr val="000000"/>
                </a:solidFill>
                <a:latin typeface="Symbol"/>
                <a:ea typeface="Symbol"/>
              </a:rPr>
              <a:t></a:t>
            </a:r>
            <a:r>
              <a:rPr b="0" i="1" lang="ru-RU" sz="2400" spc="-1" strike="noStrike">
                <a:solidFill>
                  <a:srgbClr val="000000"/>
                </a:solidFill>
                <a:latin typeface="Arial"/>
              </a:rPr>
              <a:t>D</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F</a:t>
            </a:r>
            <a:r>
              <a:rPr b="0" lang="ru-RU" sz="2400" spc="-1" strike="noStrike">
                <a:solidFill>
                  <a:srgbClr val="000000"/>
                </a:solidFill>
                <a:latin typeface="Arial"/>
              </a:rPr>
              <a:t> - показатель  (функция) полезного эффекта получаемого от реализации конкретной альтернативы использования ограниченного ресурса – </a:t>
            </a:r>
            <a:r>
              <a:rPr b="1" i="1" lang="ru-RU" sz="2400" spc="-1" strike="noStrike">
                <a:solidFill>
                  <a:srgbClr val="000000"/>
                </a:solidFill>
                <a:latin typeface="Arial"/>
              </a:rPr>
              <a:t>F</a:t>
            </a:r>
            <a:r>
              <a:rPr b="1" lang="ru-RU" sz="2400" spc="-1" strike="noStrike">
                <a:solidFill>
                  <a:srgbClr val="000000"/>
                </a:solidFill>
                <a:latin typeface="Arial"/>
              </a:rPr>
              <a:t>(</a:t>
            </a:r>
            <a:r>
              <a:rPr b="1" i="1" lang="ru-RU" sz="2400" spc="-1" strike="noStrike">
                <a:solidFill>
                  <a:srgbClr val="000000"/>
                </a:solidFill>
                <a:latin typeface="Arial"/>
              </a:rPr>
              <a:t>x</a:t>
            </a:r>
            <a:r>
              <a:rPr b="1" lang="ru-RU" sz="2400" spc="-1" strike="noStrike">
                <a:solidFill>
                  <a:srgbClr val="000000"/>
                </a:solidFill>
                <a:latin typeface="Arial"/>
              </a:rPr>
              <a:t>)</a:t>
            </a:r>
            <a:r>
              <a:rPr b="0" lang="ru-RU" sz="2400" spc="-1" strike="noStrike">
                <a:solidFill>
                  <a:srgbClr val="000000"/>
                </a:solidFill>
                <a:latin typeface="Arial"/>
              </a:rPr>
              <a:t>, </a:t>
            </a:r>
            <a:r>
              <a:rPr b="1" i="1" lang="ru-RU" sz="2400" spc="-1" strike="noStrike">
                <a:solidFill>
                  <a:srgbClr val="000000"/>
                </a:solidFill>
                <a:latin typeface="Arial"/>
              </a:rPr>
              <a:t>x</a:t>
            </a:r>
            <a:r>
              <a:rPr b="0" lang="ru-RU" sz="2400" spc="-1" strike="noStrike">
                <a:solidFill>
                  <a:srgbClr val="000000"/>
                </a:solidFill>
                <a:latin typeface="Symbol"/>
                <a:ea typeface="Symbol"/>
              </a:rPr>
              <a:t></a:t>
            </a:r>
            <a:r>
              <a:rPr b="1" i="1" lang="ru-RU" sz="2400" spc="-1" strike="noStrike">
                <a:solidFill>
                  <a:srgbClr val="000000"/>
                </a:solidFill>
                <a:latin typeface="Arial"/>
              </a:rPr>
              <a:t>D</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468360" y="1700280"/>
                <a:ext cx="3384360" cy="2100240"/>
              </a:xfrm>
              <a:prstGeom prst="rect">
                <a:avLst/>
              </a:prstGeom>
            </p:spPr>
            <p:txBody>
              <a:bodyPr/>
              <a:p>
                <a14:m>
                  <m:oMath xmlns:m="http://schemas.openxmlformats.org/officeDocument/2006/math">
                    <m:eqArr>
                      <m:e>
                        <m:d>
                          <m:dPr>
                            <m:begChr m:val="{"/>
                            <m:endChr m:val=""/>
                          </m:dPr>
                          <m:e>
                            <m:r>
                              <m:rPr>
                                <m:lit/>
                                <m:nor/>
                              </m:rPr>
                              <m:t xml:space="preserve">max</m:t>
                            </m:r>
                            <m:r>
                              <m:t xml:space="preserve"> </m:t>
                            </m:r>
                            <m:r>
                              <m:t xml:space="preserve">F</m:t>
                            </m:r>
                            <m:r>
                              <m:t xml:space="preserve">(</m:t>
                            </m:r>
                            <m:r>
                              <m:t xml:space="preserve">x</m:t>
                            </m:r>
                            <m:r>
                              <m:t xml:space="preserve">)</m:t>
                            </m:r>
                          </m:e>
                          <m:e/>
                        </m:d>
                      </m:e>
                    </m:eqArr>
                  </m:oMath>
                </a14:m>
              </a:p>
            </p:txBody>
          </p:sp>
        </mc:Choice>
        <mc:Fallback/>
      </mc:AlternateContent>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чи курса</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ление с методологией микроэкономического анализ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основных понятий и моделей микроэконом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нцип рациональности поведения экономического агента</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ля реализации альтернативы </a:t>
            </a:r>
            <a:r>
              <a:rPr b="1" i="1" lang="ru-RU" sz="3200" spc="-1" strike="noStrike">
                <a:solidFill>
                  <a:srgbClr val="000000"/>
                </a:solidFill>
                <a:latin typeface="Arial"/>
              </a:rPr>
              <a:t>x</a:t>
            </a:r>
            <a:r>
              <a:rPr b="1" lang="ru-RU" sz="3200" spc="-1" strike="noStrike">
                <a:solidFill>
                  <a:srgbClr val="000000"/>
                </a:solidFill>
                <a:latin typeface="Arial"/>
              </a:rPr>
              <a:t> необходимо, чтобы выгоды от ее реализации </a:t>
            </a:r>
            <a:r>
              <a:rPr b="1" i="1" lang="ru-RU" sz="3200" spc="-1" strike="noStrike">
                <a:solidFill>
                  <a:srgbClr val="000000"/>
                </a:solidFill>
                <a:latin typeface="Arial"/>
              </a:rPr>
              <a:t>B(x)</a:t>
            </a:r>
            <a:r>
              <a:rPr b="1" lang="ru-RU" sz="3200" spc="-1" strike="noStrike">
                <a:solidFill>
                  <a:srgbClr val="000000"/>
                </a:solidFill>
                <a:latin typeface="Arial"/>
              </a:rPr>
              <a:t> превышали </a:t>
            </a:r>
            <a:r>
              <a:rPr b="1" i="1" lang="ru-RU" sz="3200" spc="-1" strike="noStrike">
                <a:solidFill>
                  <a:srgbClr val="000000"/>
                </a:solidFill>
                <a:latin typeface="Arial"/>
              </a:rPr>
              <a:t>сопряженные с ней</a:t>
            </a:r>
            <a:r>
              <a:rPr b="1" lang="ru-RU" sz="3200" spc="-1" strike="noStrike">
                <a:solidFill>
                  <a:srgbClr val="000000"/>
                </a:solidFill>
                <a:latin typeface="Arial"/>
              </a:rPr>
              <a:t> издержки </a:t>
            </a:r>
            <a:r>
              <a:rPr b="1" i="1" lang="ru-RU" sz="3200" spc="-1" strike="noStrike">
                <a:solidFill>
                  <a:srgbClr val="000000"/>
                </a:solidFill>
                <a:latin typeface="Arial"/>
              </a:rPr>
              <a:t>C(x)</a:t>
            </a:r>
            <a:r>
              <a:rPr b="1" lang="ru-RU" sz="3200" spc="-1" strike="noStrike">
                <a:solidFill>
                  <a:srgbClr val="000000"/>
                </a:solidFill>
                <a:latin typeface="Arial"/>
              </a:rPr>
              <a:t>  </a:t>
            </a:r>
            <a:br>
              <a:rPr sz="3200"/>
            </a:b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здержки экономических агентов</a:t>
            </a:r>
            <a:endParaRPr b="0" lang="en-US" sz="3600" spc="-1" strike="noStrike">
              <a:solidFill>
                <a:srgbClr val="000000"/>
              </a:solidFill>
              <a:latin typeface="Arial"/>
            </a:endParaRPr>
          </a:p>
        </p:txBody>
      </p:sp>
      <p:sp>
        <p:nvSpPr>
          <p:cNvPr id="14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Прямые переменные</a:t>
            </a:r>
            <a:r>
              <a:rPr b="1" i="1" lang="ru-RU" sz="2800" spc="-1" strike="noStrike">
                <a:solidFill>
                  <a:srgbClr val="000000"/>
                </a:solidFill>
                <a:latin typeface="Arial"/>
              </a:rPr>
              <a:t> издержки</a:t>
            </a:r>
            <a:r>
              <a:rPr b="1" lang="ru-RU" sz="2800" spc="-1" strike="noStrike">
                <a:solidFill>
                  <a:srgbClr val="000000"/>
                </a:solidFill>
                <a:latin typeface="Arial"/>
              </a:rPr>
              <a:t> – издержки, уровень которых зависит от степени использования (интенсивности, масштаба реализации) альтернатив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Невозвратные </a:t>
            </a:r>
            <a:r>
              <a:rPr b="1" i="1" lang="ru-RU" sz="2800" spc="-1" strike="noStrike">
                <a:solidFill>
                  <a:srgbClr val="000000"/>
                </a:solidFill>
                <a:latin typeface="Arial"/>
              </a:rPr>
              <a:t>издержки</a:t>
            </a:r>
            <a:r>
              <a:rPr b="1" lang="ru-RU" sz="2800" spc="-1" strike="noStrike">
                <a:solidFill>
                  <a:srgbClr val="000000"/>
                </a:solidFill>
                <a:latin typeface="Arial"/>
              </a:rPr>
              <a:t> – издержки, связанные с обеспечением необходимых для реализации альтернативы услов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Альтернативные </a:t>
            </a:r>
            <a:r>
              <a:rPr b="1" lang="ru-RU" sz="2800" spc="-1" strike="noStrike">
                <a:solidFill>
                  <a:srgbClr val="000000"/>
                </a:solidFill>
                <a:latin typeface="Arial"/>
              </a:rPr>
              <a:t>(вмененные) издержк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вновесие экономических систем</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a:t>
            </a:r>
            <a:r>
              <a:rPr b="1" lang="en-US" sz="3200" spc="-1" strike="noStrike">
                <a:solidFill>
                  <a:srgbClr val="333399"/>
                </a:solidFill>
                <a:latin typeface="Arial"/>
              </a:rPr>
              <a:t>не заинтересованы</a:t>
            </a:r>
            <a:r>
              <a:rPr b="1" lang="en-US" sz="3200" spc="-1" strike="noStrike">
                <a:solidFill>
                  <a:srgbClr val="000000"/>
                </a:solidFill>
                <a:latin typeface="Arial"/>
              </a:rPr>
              <a:t>  в его изменении</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рето-эффективность</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ределение блага </a:t>
            </a:r>
            <a:r>
              <a:rPr b="1" i="1" lang="ru-RU" sz="2400" spc="-1" strike="noStrike">
                <a:solidFill>
                  <a:srgbClr val="000000"/>
                </a:solidFill>
                <a:latin typeface="Arial"/>
              </a:rPr>
              <a:t>X</a:t>
            </a:r>
            <a:r>
              <a:rPr b="1" lang="ru-RU" sz="2400" spc="-1" strike="noStrike">
                <a:solidFill>
                  <a:srgbClr val="000000"/>
                </a:solidFill>
                <a:latin typeface="Arial"/>
              </a:rPr>
              <a:t> является </a:t>
            </a:r>
            <a:r>
              <a:rPr b="1" lang="ru-RU" sz="2400" spc="-1" strike="noStrike" u="sng">
                <a:solidFill>
                  <a:srgbClr val="000000"/>
                </a:solidFill>
                <a:uFillTx/>
                <a:latin typeface="Arial"/>
              </a:rPr>
              <a:t>оптимальным по Парето</a:t>
            </a:r>
            <a:r>
              <a:rPr b="1" lang="ru-RU" sz="2400" spc="-1" strike="noStrike">
                <a:solidFill>
                  <a:srgbClr val="000000"/>
                </a:solidFill>
                <a:latin typeface="Arial"/>
              </a:rPr>
              <a:t>, если </a:t>
            </a:r>
            <a:r>
              <a:rPr b="1" lang="ru-RU" sz="2400" spc="-1" strike="noStrike">
                <a:solidFill>
                  <a:srgbClr val="333399"/>
                </a:solidFill>
                <a:latin typeface="Arial"/>
              </a:rPr>
              <a:t>увеличение количества блага</a:t>
            </a:r>
            <a:r>
              <a:rPr b="1" lang="ru-RU" sz="2400" spc="-1" strike="noStrike">
                <a:solidFill>
                  <a:srgbClr val="000000"/>
                </a:solidFill>
                <a:latin typeface="Arial"/>
              </a:rPr>
              <a:t>, получаемого любым из участников дележа, не может быть достигнуто </a:t>
            </a:r>
            <a:r>
              <a:rPr b="1" lang="ru-RU" sz="2400" spc="-1" strike="noStrike">
                <a:solidFill>
                  <a:srgbClr val="333399"/>
                </a:solidFill>
                <a:latin typeface="Arial"/>
              </a:rPr>
              <a:t>без уменьшения</a:t>
            </a:r>
            <a:r>
              <a:rPr b="1" lang="ru-RU" sz="2400" spc="-1" strike="noStrike">
                <a:solidFill>
                  <a:srgbClr val="000000"/>
                </a:solidFill>
                <a:latin typeface="Arial"/>
              </a:rPr>
              <a:t> количества этого блага, приходящегося на долю хотя бы одного из остальных участнико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24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ни социально-экономического анализа</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ятие «Институт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стереотипы (встроенные институты)</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циональная среда (социально-политическое устройство)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ты управления (организационно-правовое устройство)</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мещение ограниченных ресурсов</a:t>
            </a:r>
            <a:endParaRPr b="0" lang="en-US" sz="24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зитивный и нормативный анализ</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зитивные модели отвечают на вопрос: «</a:t>
            </a:r>
            <a:r>
              <a:rPr b="1" lang="ru-RU" sz="3200" spc="-1" strike="noStrike">
                <a:solidFill>
                  <a:srgbClr val="333399"/>
                </a:solidFill>
                <a:latin typeface="Arial"/>
              </a:rPr>
              <a:t>Что есть?</a:t>
            </a:r>
            <a:r>
              <a:rPr b="1"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ые модели отвечают на вопрос: «</a:t>
            </a:r>
            <a:r>
              <a:rPr b="1" lang="ru-RU" sz="3200" spc="-1" strike="noStrike">
                <a:solidFill>
                  <a:srgbClr val="333399"/>
                </a:solidFill>
                <a:latin typeface="Arial"/>
              </a:rPr>
              <a:t>Что должно быть?</a:t>
            </a:r>
            <a:r>
              <a:rPr b="1" lang="ru-RU" sz="3200" spc="-1" strike="noStrike">
                <a:solidFill>
                  <a:srgbClr val="000000"/>
                </a:solidFill>
                <a:latin typeface="Arial"/>
              </a:rPr>
              <a:t>»</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ынок и отрасль</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к</a:t>
            </a:r>
            <a:r>
              <a:rPr b="1" lang="ru-RU" sz="2800" spc="-1" strike="noStrike">
                <a:solidFill>
                  <a:srgbClr val="000000"/>
                </a:solidFill>
                <a:latin typeface="Arial"/>
              </a:rPr>
              <a:t> – совокупность покупателей и продавцов, взаимодействие которых обеспечивает обмен</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трасль</a:t>
            </a:r>
            <a:r>
              <a:rPr b="1" lang="ru-RU" sz="2800" spc="-1" strike="noStrike">
                <a:solidFill>
                  <a:srgbClr val="000000"/>
                </a:solidFill>
                <a:latin typeface="Arial"/>
              </a:rPr>
              <a:t> – совокупность фирм, торгующих одним и тем же или родственными видами товаро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расль – сторона, предлагающая товар на рынке</a:t>
            </a:r>
            <a:endParaRPr b="0" lang="en-US" sz="24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руктура курса</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ведение в микроэкономику</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поведения потребителя</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фирмы</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товаров</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факторов производства</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ершенства рынка и роль государства</a:t>
            </a:r>
            <a:endParaRPr b="0" lang="en-US" sz="24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кономическая теория и прикладная экономика</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ва стиля обучения микроэкономической теории:</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тая теори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ория с приложениями для управления бизнесом (</a:t>
            </a:r>
            <a:r>
              <a:rPr b="1" lang="en-US" sz="2000" spc="-1" strike="noStrike">
                <a:solidFill>
                  <a:srgbClr val="000000"/>
                </a:solidFill>
                <a:latin typeface="Arial"/>
              </a:rPr>
              <a:t>managerial/business econom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урсы микроэкономики и макроэкономики в процессе подготовки менедже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в учебном плане факультета</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 (1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кроэкономика (2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нансы (3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ровая экономика (4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2: теория отраслевой организации (6 семестр)</a:t>
            </a:r>
            <a:endParaRPr b="0" lang="en-US" sz="20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кладные экономические науки</a:t>
            </a:r>
            <a:endParaRPr b="0" lang="en-US" sz="4000" spc="-1" strike="noStrike">
              <a:solidFill>
                <a:srgbClr val="000000"/>
              </a:solidFill>
              <a:latin typeface="Arial"/>
            </a:endParaRPr>
          </a:p>
        </p:txBody>
      </p:sp>
      <p:sp>
        <p:nvSpPr>
          <p:cNvPr id="165" name="PlaceHolder 2"/>
          <p:cNvSpPr>
            <a:spLocks noGrp="1"/>
          </p:cNvSpPr>
          <p:nvPr>
            <p:ph/>
          </p:nvPr>
        </p:nvSpPr>
        <p:spPr>
          <a:xfrm>
            <a:off x="457200" y="1484280"/>
            <a:ext cx="8229600" cy="51134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ждународная экономи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Internation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отраслевой организации</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Industri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общественного сектор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Public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ческая теория организаций</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Organization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овая экономик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Financial Economics</a:t>
            </a:r>
            <a:endParaRPr b="0" lang="en-US" sz="2400" spc="-1" strike="noStrike">
              <a:solidFill>
                <a:srgbClr val="000000"/>
              </a:solidFill>
              <a:latin typeface="Arial"/>
            </a:endParaRPr>
          </a:p>
        </p:txBody>
      </p:sp>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удиторные заняти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ции (64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бор теоретического материала и обсуждение примеров</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нары (32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шение задач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суждение статей, примеров, аналитических вопросо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работа </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рупповая работ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ем курсовой работы – не более 15 страниц</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ускается коллективная работа над проектом (не более 4-х челове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язательным условием допуска к защите курсовой работы является </a:t>
            </a:r>
            <a:r>
              <a:rPr b="1" lang="ru-RU" sz="2000" spc="-1" strike="noStrike">
                <a:solidFill>
                  <a:srgbClr val="000000"/>
                </a:solidFill>
                <a:latin typeface="Arial"/>
              </a:rPr>
              <a:t>наличие презентации</a:t>
            </a:r>
            <a:r>
              <a:rPr b="0" lang="ru-RU" sz="2000" spc="-1" strike="noStrike">
                <a:solidFill>
                  <a:srgbClr val="000000"/>
                </a:solidFill>
                <a:latin typeface="Arial"/>
              </a:rPr>
              <a:t> основных результатов исследования</a:t>
            </a:r>
            <a:endParaRPr b="0" lang="en-US" sz="20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ценка по курсу</a:t>
            </a: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пуск к экзамену:</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заданий, полученных на семинарских и лекционных занятиях</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письменной работы в ходе промежуточной аттестации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ежуточная аттестация</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1 час 15 минут (во время лекции)</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ый письменный экзамен</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3 час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экзаменационной и аттестационной работ</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1. Вопросы на выбор правильного ответа</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2: задач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оговая оценка</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ксимальное количество баллов – 1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 от 76 и выш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 от 66 до 7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от 56 до 6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ный экзамен – в дополнительную сессию в феврале</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комендуемая литература</a:t>
            </a:r>
            <a:endParaRPr b="0" lang="en-US" sz="4400" spc="-1" strike="noStrike">
              <a:solidFill>
                <a:srgbClr val="000000"/>
              </a:solidFill>
              <a:latin typeface="Arial"/>
            </a:endParaRPr>
          </a:p>
        </p:txBody>
      </p:sp>
      <p:sp>
        <p:nvSpPr>
          <p:cNvPr id="70" name="PlaceHolder 2"/>
          <p:cNvSpPr>
            <a:spLocks noGrp="1"/>
          </p:cNvSpPr>
          <p:nvPr>
            <p:ph/>
          </p:nvPr>
        </p:nvSpPr>
        <p:spPr>
          <a:xfrm>
            <a:off x="457200" y="1196640"/>
            <a:ext cx="8229600" cy="5545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ендиум по курс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анк Р.Х. Микроэкономика и поведение. – М.:ИНФРА-М, 2000. – 696 с.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ндайк Р.С., Рабинфельд Д.Л. Микроэкономика. /Пер. с англ. – СПб.: Питер, 2002. – 608 с.</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ьвов Ю.А. Основы экономики и организации бизнеса. – СПб.: 1992.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льперин В.М., Игнатьев С.М., Моргунов В.И. Микроэкономика. В 2-х т. СПб., 1994-2002.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ономическая школа. 50 лекций по микроэкономике. В 2-х т. СПб., 2000.</a:t>
            </a:r>
            <a:r>
              <a:rPr b="0" i="1" lang="ru-RU" sz="2000" spc="-1" strike="noStrike">
                <a:solidFill>
                  <a:srgbClr val="000000"/>
                </a:solidFill>
                <a:latin typeface="Arial"/>
              </a:rPr>
              <a:t>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расевич Л., Гребенников П., Леусский А., Микроэкономика http://www.finec.ru/rus/parts/microeconomics/titul.html</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нсультации и контакты</a:t>
            </a: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ультации проводятся по средам после лек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такт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олова Екатерина Владимировна (</a:t>
            </a:r>
            <a:r>
              <a:rPr b="0" lang="en-US" sz="2400" spc="-1" strike="noStrike">
                <a:solidFill>
                  <a:srgbClr val="000000"/>
                </a:solidFill>
                <a:latin typeface="Arial"/>
              </a:rPr>
              <a:t>sokolova@som.pu.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яр Татьяна Моисеевна (</a:t>
            </a:r>
            <a:r>
              <a:rPr b="0" lang="en-US" sz="2400" spc="-1" strike="noStrike">
                <a:solidFill>
                  <a:srgbClr val="000000"/>
                </a:solidFill>
                <a:latin typeface="Arial"/>
              </a:rPr>
              <a:t>skliar@ts3924.spb.ed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ганова Анастасия Александровна (</a:t>
            </a:r>
            <a:r>
              <a:rPr b="0" lang="en-US" sz="2400" spc="-1" strike="noStrike">
                <a:solidFill>
                  <a:srgbClr val="000000"/>
                </a:solidFill>
                <a:latin typeface="Arial"/>
              </a:rPr>
              <a:t>taganova@som.pu.r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рехин Александр Викторович (</a:t>
            </a:r>
            <a:r>
              <a:rPr b="0" lang="en-US" sz="2400" spc="-1" strike="noStrike">
                <a:solidFill>
                  <a:srgbClr val="000000"/>
                </a:solidFill>
                <a:latin typeface="Arial"/>
              </a:rPr>
              <a:t>alexjva@mail.ru) </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0:34:03Z</dcterms:created>
  <dc:creator>СоколоваЕВ</dc:creator>
  <dc:description/>
  <dc:language>en-US</dc:language>
  <cp:lastModifiedBy>LEGION</cp:lastModifiedBy>
  <dcterms:modified xsi:type="dcterms:W3CDTF">2016-01-04T08:18:14Z</dcterms:modified>
  <cp:revision>15</cp:revision>
  <dc:subject/>
  <dc:title>Микроэкономика</dc:title>
</cp:coreProperties>
</file>