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7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12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doni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doni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211B-B02D-4806-A990-7465979CC71B}" type="slidenum">
              <a:rPr b="0" lang="uk-UA" sz="1200" spc="-1" strike="noStrike">
                <a:solidFill>
                  <a:srgbClr val="000000"/>
                </a:solidFill>
                <a:latin typeface="Bodoni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общения зна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м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ньги. Кредиты. Бюджет семьи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Урок обобщения зна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 тем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Деньги. Кредиты. Бюджет семьи.»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де лучше хранить деньги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Где лучше хранить деньги..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остоят причины дифференциации в оплате труда работни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йте ответ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 чем состоят причины дифференциации в оплате труда работников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айте ответ!!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семь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всех доходов и расходов за определенный период времени (месяц или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юджет семьи-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труктура всех доходов и расходов за определенный период времени (месяц или год)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для 1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учитель, з/п за месяц – 25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– медсестра, з/п за месяц – 12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– пенсионерка, пенсия – 9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чь – студентка, стипендия  - 2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ученик 5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купить домашний кинотеатр за 65 000 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дание для 1 группы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Отец – учитель, з/п за месяц – 25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Мать – медсестра, з/п за месяц – 12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абушка – пенсионерка, пенсия – 9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очь – студентка, стипендия  - 2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ученик 5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ь: купить домашний кинотеатр за 65 000 р.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для 2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рабочий, з/п за месяц – 19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– продавец, з/п за месяц – 10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душка – пенсионер, пенсия – 15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студент, стипендия  - 9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ученик 3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купить компьютер за 35 000 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дание для 2 группы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Отец – рабочий, з/п за месяц – 19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Мать – продавец, з/п за месяц – 10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едушка – пенсионер, пенсия – 15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студент, стипендия  - 9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ученик 3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ь: купить компьютер за 35 000 р.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общить и закрепить знания учащихся по теме « Деньги. Кредиты. Заработанная плата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ть экономность, бережливость, предприимчивость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будить интерес к изучению экономики, применя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знания на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и урока: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обобщить и закрепить знания учащихся по теме « Деньги. Кредиты. Заработанная плата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воспитывать экономность, бережливость, предприимчивость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побудить интерес к изучению экономики, применя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лученные знания на практике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о Шефер. Мани, или азбука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одо Шефер. Мани, или азбука денег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от греческого слова «ОЙКОНОМ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ЙКОС» - у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М» (НОМ) – дом или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Экономика от греческого слова «ОЙКОНОМИЯ»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ОЙКОС» - управлять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НЕМ» (НОМ) – дом или хозяйство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одная мудрость гласи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 деньгах счаст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 рубль бере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 любят с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очешь добра - посыпь сереб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т мудрен, у кого карман яд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родная мудрость гласи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е в деньгах счастье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опейка рубль береже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еньги любят сче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хочешь добра - посыпь серебра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Тот мудрен, у кого карман ядрен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е день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налич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иды денег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Товарные деньги 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редит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лич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езналич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акие виды денег вы знаете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депоз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иды депозитов вы знаете?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Что такое депозит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акие виды депозитов вы знаете?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 кре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поте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жите об этих видах кредита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требительский креди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ево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Личны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Ипотечны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Расскажите об этих видах кредита!!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причины широкого распространения потребительских кредит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зовите причины широкого распространения потребительских кредитов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DD76-6482-4808-BC50-826ADE8E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707-7B12-4D08-AF1C-B2C42811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13F9-8241-4827-A8A2-1E7A9D6A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C49-A72D-4651-8FA9-08B59D48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CEB-1AEC-4D8B-BE94-943EC304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A0C-9FF2-4EC7-8484-6D0E22AA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C25-7F88-4502-BF12-645181A7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84E-7210-40D1-93D4-A213DF92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335-16D4-4E06-9F22-E4BE09BB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243-641F-4ECF-8C65-1D2D6777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9F9C-26EC-488F-8AB1-CE0A9314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8BD-B775-4982-9729-47879E4E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C84B-63CA-4AD1-99B2-5F5FBAFD10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Bodoni MT Black"/>
              </a:rPr>
              <a:t>Урок обобщения знаний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Bodoni MT Black"/>
              </a:rPr>
              <a:t>по теме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Bodoni MT Black"/>
              </a:rPr>
              <a:t>«Деньги. Кредиты. Бюджет семьи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457200" y="1143000"/>
            <a:ext cx="82677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де лучше хранить деньги...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5" descr="5624-17926796-______________"/>
          <p:cNvPicPr/>
          <p:nvPr/>
        </p:nvPicPr>
        <p:blipFill>
          <a:blip r:embed="rId1"/>
          <a:stretch/>
        </p:blipFill>
        <p:spPr>
          <a:xfrm>
            <a:off x="838080" y="1981080"/>
            <a:ext cx="3657600" cy="281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bank"/>
          <p:cNvPicPr/>
          <p:nvPr/>
        </p:nvPicPr>
        <p:blipFill>
          <a:blip r:embed="rId2"/>
          <a:stretch/>
        </p:blipFill>
        <p:spPr>
          <a:xfrm>
            <a:off x="4876920" y="3048120"/>
            <a:ext cx="3733560" cy="271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Picture 7" descr="question_mark_3d"/>
          <p:cNvPicPr/>
          <p:nvPr/>
        </p:nvPicPr>
        <p:blipFill>
          <a:blip r:embed="rId3"/>
          <a:stretch/>
        </p:blipFill>
        <p:spPr>
          <a:xfrm>
            <a:off x="3048120" y="228600"/>
            <a:ext cx="3660480" cy="70772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чем состоят причины дифференциации в оплате труда работник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228600" y="-152280"/>
            <a:ext cx="513396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libri"/>
              </a:rPr>
              <a:t>Дайте ответ!!!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Бюджет семьи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структура всех доходов и расходов за определенный период времени (месяц или г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question"/>
          <p:cNvPicPr/>
          <p:nvPr/>
        </p:nvPicPr>
        <p:blipFill>
          <a:blip r:embed="rId2"/>
          <a:stretch/>
        </p:blipFill>
        <p:spPr>
          <a:xfrm>
            <a:off x="6541920" y="3962520"/>
            <a:ext cx="2602080" cy="2895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QUESTION MARK 4"/>
          <p:cNvPicPr/>
          <p:nvPr/>
        </p:nvPicPr>
        <p:blipFill>
          <a:blip r:embed="rId2"/>
          <a:stretch/>
        </p:blipFill>
        <p:spPr>
          <a:xfrm>
            <a:off x="6662880" y="2209680"/>
            <a:ext cx="2481120" cy="44197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1206576288878508735yves_guillou_question"/>
          <p:cNvPicPr/>
          <p:nvPr/>
        </p:nvPicPr>
        <p:blipFill>
          <a:blip r:embed="rId2"/>
          <a:stretch/>
        </p:blipFill>
        <p:spPr>
          <a:xfrm rot="732000">
            <a:off x="7467480" y="4038480"/>
            <a:ext cx="1208160" cy="25956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адание для 1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став семь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ец – учитель, з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 за месяц – 25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ть – медсестра, з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 за месяц – 12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бушка – пенсионерка, пенсия – 9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чь – студентка, стипендия  - 2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ын – ученик 5 класса, пособие – 15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ль: купить домашний кинотеатр за 65 000 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 какой период семья накопит данную сумму денег!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228600" y="152280"/>
            <a:ext cx="8534520" cy="1524240"/>
          </a:xfrm>
          <a:custGeom>
            <a:avLst/>
            <a:gdLst>
              <a:gd name="textAreaLeft" fmla="*/ 0 w 8534520"/>
              <a:gd name="textAreaRight" fmla="*/ 8534880 w 8534520"/>
              <a:gd name="textAreaTop" fmla="*/ 197280 h 1524240"/>
              <a:gd name="textAreaBottom" fmla="*/ 132696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адание для 2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став сем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ец – рабочий, з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 за месяц – 19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ть – продавец, з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 за месяц – 10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душка – пенсионер, пенсия – 15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ын – студент, стипендия  - 9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ын – ученик 3 класса, пособие – 15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: купить компьютер за 35 000 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 какой период семья накопит данную сумму денег!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228600" y="304920"/>
            <a:ext cx="8534520" cy="1523880"/>
          </a:xfrm>
          <a:custGeom>
            <a:avLst/>
            <a:gdLst>
              <a:gd name="textAreaLeft" fmla="*/ 0 w 8534520"/>
              <a:gd name="textAreaRight" fmla="*/ 8534880 w 8534520"/>
              <a:gd name="textAreaTop" fmla="*/ 197280 h 1523880"/>
              <a:gd name="textAreaBottom" fmla="*/ 13266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072"/>
          <p:cNvPicPr/>
          <p:nvPr/>
        </p:nvPicPr>
        <p:blipFill>
          <a:blip r:embed="rId2"/>
          <a:stretch/>
        </p:blipFill>
        <p:spPr>
          <a:xfrm>
            <a:off x="228600" y="228600"/>
            <a:ext cx="4114800" cy="273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1" name="Picture 7" descr="140905-01865122"/>
          <p:cNvPicPr/>
          <p:nvPr/>
        </p:nvPicPr>
        <p:blipFill>
          <a:blip r:embed="rId3"/>
          <a:stretch/>
        </p:blipFill>
        <p:spPr>
          <a:xfrm>
            <a:off x="2971800" y="1981080"/>
            <a:ext cx="3962520" cy="268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2" name="Picture 8" descr="a2bba1c554ba2e24c4341a1cf00151c2_XL"/>
          <p:cNvPicPr/>
          <p:nvPr/>
        </p:nvPicPr>
        <p:blipFill>
          <a:blip r:embed="rId4"/>
          <a:stretch/>
        </p:blipFill>
        <p:spPr>
          <a:xfrm>
            <a:off x="4724280" y="3505320"/>
            <a:ext cx="4191120" cy="306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ели урока: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lonna MT"/>
              </a:rPr>
              <a:t> </a:t>
            </a:r>
            <a:br>
              <a:rPr sz="32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общить и закрепить знания учащихся по теме </a:t>
            </a:r>
            <a:r>
              <a:rPr b="1" lang="ru-RU" sz="2400" spc="-1" strike="noStrike" u="sng">
                <a:solidFill>
                  <a:srgbClr val="3333ff"/>
                </a:solidFill>
                <a:uFillTx/>
                <a:latin typeface="Bookman Old Style"/>
              </a:rPr>
              <a:t>« Деньги. Кредиты. Заработанная плата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воспитывать экономность, бережливость, предприимчивость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побудить интерес к изучению экономики, применя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олученные знания на прак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до Шефер. Мани, или азбука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апп.mp3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652292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Экономика от греческого слова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«ОЙКОНОМ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«ОЙКОС»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- управл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«НЕМ» (НОМ)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– дом или хозяй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Baskerville Old Face"/>
              </a:rPr>
              <a:t>Народная мудрость гласит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Не в деньгах сча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Копейка рубль бере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Деньги любят с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Захочешь добра - посыпь сере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Тот мудрен, у кого карман ядр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Группа 44 - Миром правят Деньги(OST Стритрейсеры).mp3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9886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Organization Chart 18"/>
          <p:cNvGrpSpPr/>
          <p:nvPr/>
        </p:nvGrpSpPr>
        <p:grpSpPr>
          <a:xfrm>
            <a:off x="457200" y="304920"/>
            <a:ext cx="8228880" cy="5789160"/>
            <a:chOff x="457200" y="304920"/>
            <a:chExt cx="8228880" cy="5789160"/>
          </a:xfrm>
        </p:grpSpPr>
        <p:cxnSp>
          <p:nvCxnSpPr>
            <p:cNvPr id="59" name="_s1028"/>
            <p:cNvCxnSpPr>
              <a:stCxn id="60" idx="0"/>
              <a:endCxn id="61" idx="2"/>
            </p:cNvCxnSpPr>
            <p:nvPr/>
          </p:nvCxnSpPr>
          <p:spPr>
            <a:xfrm flipV="1" rot="16200000">
              <a:off x="5592600" y="1598760"/>
              <a:ext cx="1158480" cy="320076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29"/>
            <p:cNvCxnSpPr>
              <a:stCxn id="63" idx="0"/>
              <a:endCxn id="61" idx="2"/>
            </p:cNvCxnSpPr>
            <p:nvPr/>
          </p:nvCxnSpPr>
          <p:spPr>
            <a:xfrm flipV="1" rot="16200000">
              <a:off x="4525920" y="2665440"/>
              <a:ext cx="1158480" cy="106704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0"/>
            <p:cNvCxnSpPr>
              <a:stCxn id="65" idx="0"/>
              <a:endCxn id="61" idx="2"/>
            </p:cNvCxnSpPr>
            <p:nvPr/>
          </p:nvCxnSpPr>
          <p:spPr>
            <a:xfrm flipH="1" flipV="1" rot="5400000">
              <a:off x="3458880" y="2665440"/>
              <a:ext cx="1158480" cy="106740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1"/>
            <p:cNvCxnSpPr>
              <a:stCxn id="67" idx="0"/>
              <a:endCxn id="61" idx="2"/>
            </p:cNvCxnSpPr>
            <p:nvPr/>
          </p:nvCxnSpPr>
          <p:spPr>
            <a:xfrm flipH="1" flipV="1" rot="5400000">
              <a:off x="2392200" y="1598760"/>
              <a:ext cx="1158480" cy="320112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032"/>
            <p:cNvSpPr/>
            <p:nvPr/>
          </p:nvSpPr>
          <p:spPr>
            <a:xfrm>
              <a:off x="3657600" y="30492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doni MT"/>
                </a:rPr>
                <a:t>ФУНКЦИИ </a:t>
              </a:r>
              <a:endParaRPr b="0" lang="en-US" sz="24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doni MT"/>
                </a:rPr>
                <a:t>ДЕНЕГ</a:t>
              </a:r>
              <a:endParaRPr b="0" lang="en-US" sz="24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7" name="_s1033"/>
            <p:cNvSpPr/>
            <p:nvPr/>
          </p:nvSpPr>
          <p:spPr>
            <a:xfrm>
              <a:off x="45720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doni MT"/>
                </a:rPr>
                <a:t>обмена</a:t>
              </a: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5" name="_s1034"/>
            <p:cNvSpPr/>
            <p:nvPr/>
          </p:nvSpPr>
          <p:spPr>
            <a:xfrm>
              <a:off x="259056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змерения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тоимости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товаров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 услуг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3" name="_s1035"/>
            <p:cNvSpPr/>
            <p:nvPr/>
          </p:nvSpPr>
          <p:spPr>
            <a:xfrm>
              <a:off x="472428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образования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 накопления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бережений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0" name="_s1036"/>
            <p:cNvSpPr/>
            <p:nvPr/>
          </p:nvSpPr>
          <p:spPr>
            <a:xfrm>
              <a:off x="685764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платежа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</p:grp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варные деньг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едит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лич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зналич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114480" y="0"/>
            <a:ext cx="90295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ие виды денег вы знаете?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4267080" y="1828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44956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4343400" y="4114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4952880" y="5334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75" name="Picture 10" descr="Internet-portal-8"/>
          <p:cNvPicPr/>
          <p:nvPr/>
        </p:nvPicPr>
        <p:blipFill>
          <a:blip r:embed="rId3"/>
          <a:stretch/>
        </p:blipFill>
        <p:spPr>
          <a:xfrm>
            <a:off x="7010280" y="3733920"/>
            <a:ext cx="1752840" cy="116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11" descr="1214_017"/>
          <p:cNvPicPr/>
          <p:nvPr/>
        </p:nvPicPr>
        <p:blipFill>
          <a:blip r:embed="rId4"/>
          <a:stretch/>
        </p:blipFill>
        <p:spPr>
          <a:xfrm>
            <a:off x="6781680" y="1143000"/>
            <a:ext cx="1981440" cy="14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12" descr="IMG_2009-12-24-Securities1"/>
          <p:cNvPicPr/>
          <p:nvPr/>
        </p:nvPicPr>
        <p:blipFill>
          <a:blip r:embed="rId5"/>
          <a:stretch/>
        </p:blipFill>
        <p:spPr>
          <a:xfrm>
            <a:off x="5562720" y="2438280"/>
            <a:ext cx="9712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13" descr="1268138901"/>
          <p:cNvPicPr/>
          <p:nvPr/>
        </p:nvPicPr>
        <p:blipFill>
          <a:blip r:embed="rId6"/>
          <a:stretch/>
        </p:blipFill>
        <p:spPr>
          <a:xfrm>
            <a:off x="5943600" y="4876920"/>
            <a:ext cx="1676520" cy="125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457200" y="457200"/>
            <a:ext cx="447660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такое депозит?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457200" y="5181480"/>
            <a:ext cx="817236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ие виды депозитов вы знаете?!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295280" y="228600"/>
            <a:ext cx="64296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6009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требительский кредит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d6009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AutoShape 22"/>
          <p:cNvSpPr/>
          <p:nvPr/>
        </p:nvSpPr>
        <p:spPr>
          <a:xfrm>
            <a:off x="1219320" y="2362320"/>
            <a:ext cx="1752480" cy="236196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11">
                <a:moveTo>
                  <a:pt x="3600" y="0"/>
                </a:moveTo>
                <a:arcTo wR="3600" hR="3600" stAng="16200000" swAng="-5400000"/>
                <a:lnTo>
                  <a:pt x="0" y="25511"/>
                </a:lnTo>
                <a:arcTo wR="3600" hR="3600" stAng="10800000" swAng="-5400000"/>
                <a:lnTo>
                  <a:pt x="18000" y="29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Целевой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5" name="AutoShape 23"/>
          <p:cNvSpPr/>
          <p:nvPr/>
        </p:nvSpPr>
        <p:spPr>
          <a:xfrm>
            <a:off x="3657600" y="2362320"/>
            <a:ext cx="1752480" cy="236196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11">
                <a:moveTo>
                  <a:pt x="3600" y="0"/>
                </a:moveTo>
                <a:arcTo wR="3600" hR="3600" stAng="16200000" swAng="-5400000"/>
                <a:lnTo>
                  <a:pt x="0" y="25511"/>
                </a:lnTo>
                <a:arcTo wR="3600" hR="3600" stAng="10800000" swAng="-5400000"/>
                <a:lnTo>
                  <a:pt x="18000" y="29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Личный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6" name="AutoShape 24"/>
          <p:cNvSpPr/>
          <p:nvPr/>
        </p:nvSpPr>
        <p:spPr>
          <a:xfrm>
            <a:off x="6095880" y="2362320"/>
            <a:ext cx="1752840" cy="236196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05">
                <a:moveTo>
                  <a:pt x="3600" y="0"/>
                </a:moveTo>
                <a:arcTo wR="3600" hR="3600" stAng="16200000" swAng="-5400000"/>
                <a:lnTo>
                  <a:pt x="0" y="25505"/>
                </a:lnTo>
                <a:arcTo wR="3600" hR="3600" stAng="10800000" swAng="-5400000"/>
                <a:lnTo>
                  <a:pt x="18000" y="29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60093"/>
              </a:gs>
              <a:gs pos="50000">
                <a:srgbClr val="ffffff"/>
              </a:gs>
              <a:gs pos="100000">
                <a:srgbClr val="d6009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потечный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7" name="Oval 27"/>
          <p:cNvSpPr/>
          <p:nvPr/>
        </p:nvSpPr>
        <p:spPr>
          <a:xfrm>
            <a:off x="1752480" y="19051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doni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8" name="Oval 28"/>
          <p:cNvSpPr/>
          <p:nvPr/>
        </p:nvSpPr>
        <p:spPr>
          <a:xfrm>
            <a:off x="4191120" y="1905120"/>
            <a:ext cx="685800" cy="68580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9" name="Oval 29"/>
          <p:cNvSpPr/>
          <p:nvPr/>
        </p:nvSpPr>
        <p:spPr>
          <a:xfrm>
            <a:off x="6629400" y="1905120"/>
            <a:ext cx="685800" cy="6858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5245200" y="3537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1" name="WordArt 31"/>
          <p:cNvSpPr txBox="1"/>
          <p:nvPr/>
        </p:nvSpPr>
        <p:spPr>
          <a:xfrm>
            <a:off x="609480" y="5562720"/>
            <a:ext cx="765828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скажите об этих видах кредита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Назовите причины широкого распространения потребительских кредитов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8:2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