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png" ContentType="image/png"/>
  <Override PartName="/ppt/media/image11.jpeg" ContentType="image/jpeg"/>
  <Override PartName="/ppt/media/image4.jpeg" ContentType="image/jpeg"/>
  <Override PartName="/ppt/media/image31.jpeg" ContentType="image/jpeg"/>
  <Override PartName="/ppt/media/image25.jpeg" ContentType="image/jpeg"/>
  <Override PartName="/ppt/media/image27.jpeg" ContentType="image/jpeg"/>
  <Override PartName="/ppt/media/image22.jpeg" ContentType="image/jpeg"/>
  <Override PartName="/ppt/media/image7.png" ContentType="image/png"/>
  <Override PartName="/ppt/media/image1.jpeg" ContentType="image/jpeg"/>
  <Override PartName="/ppt/media/image29.jpeg" ContentType="image/jpeg"/>
  <Override PartName="/ppt/media/image5.png" ContentType="image/png"/>
  <Override PartName="/ppt/media/image8.jpeg" ContentType="image/jpeg"/>
  <Override PartName="/ppt/media/image13.jpeg" ContentType="image/jpeg"/>
  <Override PartName="/ppt/media/image12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.jpeg" ContentType="image/jpeg"/>
  <Override PartName="/ppt/media/image23.jpeg" ContentType="image/jpeg"/>
  <Override PartName="/ppt/media/image10.jpeg" ContentType="image/jpeg"/>
  <Override PartName="/ppt/media/image14.png" ContentType="image/png"/>
  <Override PartName="/ppt/media/image15.jpeg" ContentType="image/jpeg"/>
  <Override PartName="/ppt/media/image16.jpeg" ContentType="image/jpeg"/>
  <Override PartName="/ppt/media/image17.jpeg" ContentType="image/jpeg"/>
  <Override PartName="/ppt/media/image26.png" ContentType="image/png"/>
  <Override PartName="/ppt/media/image6.jpeg" ContentType="image/jpeg"/>
  <Override PartName="/ppt/media/image18.png" ContentType="image/png"/>
  <Override PartName="/ppt/media/image28.jpeg" ContentType="image/jpeg"/>
  <Override PartName="/ppt/media/image19.jpeg" ContentType="image/jpeg"/>
  <Override PartName="/ppt/media/image20.jpeg" ContentType="image/jpeg"/>
  <Override PartName="/ppt/media/image2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Bodoni M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Bodoni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Bodoni M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4B856-FBED-431C-8F92-DA6F939A9F9B}" type="slidenum">
              <a:rPr b="0" lang="uk-UA" sz="1200" spc="-1" strike="noStrike">
                <a:solidFill>
                  <a:srgbClr val="000000"/>
                </a:solidFill>
                <a:latin typeface="Bodoni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к обобщения знаний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теме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Деньги. Кредиты. Бюджет семьи.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Bodoni MT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Bodoni MT"/>
              </a:rPr>
              <a:t>Урок обобщения знаний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Bodoni MT"/>
              </a:rPr>
              <a:t>по теме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Bodoni MT"/>
              </a:rPr>
              <a:t>«Деньги. Кредиты. Бюджет семьи.»</a:t>
            </a: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Где лучше хранить деньги.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Bodoni MT"/>
              </a:rPr>
              <a:t>Где лучше хранить деньги...</a:t>
            </a: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работная  плата                                                                                                (дайте определени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чем состоят причины дифференциации в оплате труда работников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йте ответ!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doni MT"/>
              </a:rPr>
              <a:t>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Bodoni MT"/>
              </a:rPr>
              <a:t>Заработная  плата                                                                                                (дайте определение)</a:t>
            </a: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doni MT"/>
              </a:rPr>
              <a:t>В чем состоят причины дифференциации в оплате труда работников?</a:t>
            </a: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doni MT"/>
              </a:rPr>
              <a:t>Дайте ответ!!!</a:t>
            </a: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юджет семьи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уктура всех доходов и расходов за определенный период времени (месяц или год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doni MT"/>
              </a:rPr>
              <a:t>Бюджет семьи-</a:t>
            </a: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doni MT"/>
              </a:rPr>
              <a:t>структура всех доходов и расходов за определенный период времени (месяц или год)</a:t>
            </a: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Bodoni MT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Bodoni MT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Bodoni MT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ние для 1 групп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ав семь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ец – учитель, з/п за месяц – 25 000 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ть – медсестра, з/п за месяц – 12 000 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бушка – пенсионерка, пенсия – 9 000 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чь – студентка, стипендия  - 2 000 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ын – ученик 5 класса, пособие – 150 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ь: купить домашний кинотеатр за 65 000 р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 какой период семья накопит данную сумму денег!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имание!! Не забудьте о расходах на питание,  услуги ЖКХ, одежду, лекар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doni MT"/>
              </a:rPr>
              <a:t>Задание для 1 группы</a:t>
            </a: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doni MT"/>
              </a:rPr>
              <a:t>Состав семьи:</a:t>
            </a: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doni MT"/>
              </a:rPr>
              <a:t>Отец – учитель, з/п за месяц – 25 000 р.</a:t>
            </a: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doni MT"/>
              </a:rPr>
              <a:t>Мать – медсестра, з/п за месяц – 12 000 р.</a:t>
            </a: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doni MT"/>
              </a:rPr>
              <a:t>Бабушка – пенсионерка, пенсия – 9 000 р.</a:t>
            </a: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doni MT"/>
              </a:rPr>
              <a:t>Дочь – студентка, стипендия  - 2 000 р.</a:t>
            </a: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doni MT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Bodoni MT"/>
              </a:rPr>
              <a:t>Сын – ученик 5 класса, пособие – 150 р.</a:t>
            </a: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doni MT"/>
              </a:rPr>
              <a:t>Цель: купить домашний кинотеатр за 65 000 р. </a:t>
            </a: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doni MT"/>
              </a:rPr>
              <a:t>За какой период семья накопит данную сумму денег!?</a:t>
            </a: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doni MT"/>
              </a:rPr>
              <a:t>Внимание!! Не забудьте о расходах на питание,  услуги ЖКХ, одежду, лекарства.</a:t>
            </a: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ние для 2 групп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ав семь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ец – рабочий, з/п за месяц – 19 000 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ть – продавец, з/п за месяц – 10 000 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душка – пенсионер, пенсия – 15 000 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ын – студент, стипендия  - 900 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ын – ученик 3 класса, пособие – 150 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ь: купить компьютер за 35 000 р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 какой период семья накопит данную сумму денег!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имание!! Не забудьте о расходах на питание,  услуги ЖКХ, одежду, лекар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doni MT"/>
              </a:rPr>
              <a:t>Задание для 2 группы</a:t>
            </a: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doni MT"/>
              </a:rPr>
              <a:t>Состав семьи:</a:t>
            </a: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doni MT"/>
              </a:rPr>
              <a:t>Отец – рабочий, з/п за месяц – 19 000 р.</a:t>
            </a: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doni MT"/>
              </a:rPr>
              <a:t>Мать – продавец, з/п за месяц – 10 000 р.</a:t>
            </a: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doni MT"/>
              </a:rPr>
              <a:t>Дедушка – пенсионер, пенсия – 15 000 р.</a:t>
            </a: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doni MT"/>
              </a:rPr>
              <a:t>Сын – студент, стипендия  - 900 р.</a:t>
            </a: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doni MT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Bodoni MT"/>
              </a:rPr>
              <a:t>Сын – ученик 3 класса, пособие – 150 р.</a:t>
            </a: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doni MT"/>
              </a:rPr>
              <a:t>Цель: купить компьютер за 35 000 р. </a:t>
            </a: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doni MT"/>
              </a:rPr>
              <a:t>За какой период семья накопит данную сумму денег!?</a:t>
            </a: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doni MT"/>
              </a:rPr>
              <a:t>Внимание!! Не забудьте о расходах на питание,  услуги ЖКХ, одежду, лекарства.</a:t>
            </a: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Bodoni MT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Bodoni MT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и урока: 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обобщить и закрепить знания учащихся по теме « Деньги. Кредиты. Заработанная плата»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формировать умение коллективно обсуждать рациональность тех или иных затрат и принимать разумное решение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воспитывать экономность, бережливость, предприимчивость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побудить интерес к изучению экономики, применять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ученные знания на практи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Bodoni MT"/>
              </a:rPr>
              <a:t>Цели урока: 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Bodoni MT"/>
              </a:rPr>
              <a:t>- обобщить и закрепить знания учащихся по теме « Деньги. Кредиты. Заработанная плата»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Bodoni MT"/>
              </a:rPr>
              <a:t>- формировать умение коллективно обсуждать рациональность тех или иных затрат и принимать разумное решение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Bodoni MT"/>
              </a:rPr>
              <a:t>- воспитывать экономность, бережливость, предприимчивость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Bodoni MT"/>
              </a:rPr>
              <a:t>- побудить интерес к изучению экономики, применять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Bodoni MT"/>
              </a:rPr>
              <a:t>полученные знания на практике</a:t>
            </a: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до Шефер. Мани, или азбука дене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много найдется людей, которые не хотели бы разбогатеть. Но некоторые осознают это желание отчетливее, чем большинство. Другие притворяются, что хотели бы быть богатыми лишь в определенных ситуациях. Но, в конечном счете, все хотят быть счастливее, успешнее и — чтобы у них было больше дене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этом желании нет ничего предосудительного. Ведь быть состоятельным — наше право от рождения. Человек, у которого достаточно денег, сам живет лучше и может принести больше пользы себе и другим. Мысль о том, что ты должен терпеть нехватку средств или даже вести нищенское существование, — одно из худших заблуждений человечеств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Bodoni MT"/>
              </a:rPr>
              <a:t>Бодо Шефер. Мани, или азбука денег</a:t>
            </a: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doni MT"/>
              </a:rPr>
              <a:t>Немного найдется людей, которые не хотели бы разбогатеть. Но некоторые осознают это желание отчетливее, чем большинство. Другие притворяются, что хотели бы быть богатыми лишь в определенных ситуациях. Но, в конечном счете, все хотят быть счастливее, успешнее и — чтобы у них было больше денег.</a:t>
            </a: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doni MT"/>
              </a:rPr>
              <a:t>В этом желании нет ничего предосудительного. Ведь быть состоятельным — наше право от рождения. Человек, у которого достаточно денег, сам живет лучше и может принести больше пользы себе и другим. Мысль о том, что ты должен терпеть нехватку средств или даже вести нищенское существование, — одно из худших заблуждений человечества </a:t>
            </a: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ка от греческого слова «ОЙКОНОМИЯ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ОЙКОС» - управля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НЕМ» (НОМ) – дом или хозяй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doni MT"/>
              </a:rPr>
              <a:t>Экономика от греческого слова «ОЙКОНОМИЯ»</a:t>
            </a: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doni MT"/>
              </a:rPr>
              <a:t>«ОЙКОС» - управлять</a:t>
            </a: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doni MT"/>
              </a:rPr>
              <a:t>«НЕМ» (НОМ) – дом или хозяйство</a:t>
            </a: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родная мудрость гласит: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в деньгах счасть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пейка рубль береж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ньги любят сч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хочешь добра - посыпь сереб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т мудрен, у кого карман ядре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doni MT"/>
              </a:rPr>
              <a:t>Народная мудрость гласит: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doni MT"/>
              </a:rPr>
              <a:t>Не в деньгах счастье</a:t>
            </a: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doni MT"/>
              </a:rPr>
              <a:t>Копейка рубль бережет</a:t>
            </a: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doni MT"/>
              </a:rPr>
              <a:t>Деньги любят счет</a:t>
            </a: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doni MT"/>
              </a:rPr>
              <a:t>Захочешь добра - посыпь серебра</a:t>
            </a: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doni MT"/>
              </a:rPr>
              <a:t>Тот мудрен, у кого карман ядрен</a:t>
            </a: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Bodoni MT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варные деньги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едитные деньг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ичные деньг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зналичные деньг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ие виды денег вы знает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doni MT"/>
              </a:rPr>
              <a:t>Товарные деньги  </a:t>
            </a: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doni MT"/>
              </a:rPr>
              <a:t>Кредитные деньги</a:t>
            </a: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doni MT"/>
              </a:rPr>
              <a:t>Наличные деньги</a:t>
            </a: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doni MT"/>
              </a:rPr>
              <a:t>Безналичные деньги</a:t>
            </a: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doni MT"/>
              </a:rPr>
              <a:t>Какие виды денег вы знаете?</a:t>
            </a: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такое депозит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ие виды депозитов вы знаете?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doni MT"/>
              </a:rPr>
              <a:t>Что такое депозит?</a:t>
            </a: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doni MT"/>
              </a:rPr>
              <a:t>Какие виды депозитов вы знаете?!</a:t>
            </a: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требительский креди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ев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чн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потечн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скажите об этих видах кредита!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doni MT"/>
              </a:rPr>
              <a:t>Потребительский кредит</a:t>
            </a: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doni MT"/>
              </a:rPr>
              <a:t>Целевой</a:t>
            </a: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doni MT"/>
              </a:rPr>
              <a:t>Личный</a:t>
            </a: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doni MT"/>
              </a:rPr>
              <a:t>Ипотечный</a:t>
            </a: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doni MT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doni MT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doni MT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doni MT"/>
              </a:rPr>
              <a:t>Расскажите об этих видах кредита!!!</a:t>
            </a: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зовите причины широкого распространения потребительских кредитов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doni MT"/>
              </a:rPr>
              <a:t>Назовите причины широкого распространения потребительских кредитов?</a:t>
            </a: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A20FD-B4AA-4C5E-BA45-B4FE17BC3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F4BD5-3834-4A2C-B997-EF09F2F29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5F42B-86C2-4D6D-B05B-FD9A59D51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D9D5B-D88F-4A4B-B9D2-DB029BE16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63EF7-94DC-4E6F-8FBE-FE9AC1D5A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C9FF1-2005-48CD-B0AF-2B183F9C1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E9E50-81B6-4F7B-9CD9-C704E4D1C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8B91A-FBDD-48FC-BBE5-4E3721BD4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F35BB-FE51-4301-9870-DEC85CC0B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692AC-59B5-4A31-BCFA-7D911DB3A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788B2-A521-40F5-BE4D-8D2A1FCCD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D307D-3927-40C4-ABD5-8EAE54A24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E6219-CEFF-43B9-A95B-092080C413D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800" spc="-1" strike="noStrike">
                <a:solidFill>
                  <a:srgbClr val="ff0000"/>
                </a:solidFill>
                <a:latin typeface="Bodoni MT Black"/>
              </a:rPr>
              <a:t>Урок обобщения знаний </a:t>
            </a:r>
            <a:br>
              <a:rPr sz="4800"/>
            </a:br>
            <a:r>
              <a:rPr b="1" lang="ru-RU" sz="4800" spc="-1" strike="noStrike">
                <a:solidFill>
                  <a:srgbClr val="ff0000"/>
                </a:solidFill>
                <a:latin typeface="Bodoni MT Black"/>
              </a:rPr>
              <a:t>по теме</a:t>
            </a:r>
            <a:br>
              <a:rPr sz="4800"/>
            </a:br>
            <a:r>
              <a:rPr b="1" lang="ru-RU" sz="4800" spc="-1" strike="noStrike" u="sng">
                <a:solidFill>
                  <a:srgbClr val="ff0000"/>
                </a:solidFill>
                <a:uFillTx/>
                <a:latin typeface="Bodoni MT Black"/>
              </a:rPr>
              <a:t>«Деньги. Кредиты. Бюджет семьи.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  <p:transition spd="med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6767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WordArt 4"/>
          <p:cNvSpPr txBox="1"/>
          <p:nvPr/>
        </p:nvSpPr>
        <p:spPr>
          <a:xfrm>
            <a:off x="457200" y="1143000"/>
            <a:ext cx="826776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Где лучше хранить деньги...</a:t>
            </a:r>
            <a:endParaRPr b="0" lang="en-US" sz="5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6" name="Picture 5" descr="5624-17926796-______________"/>
          <p:cNvPicPr/>
          <p:nvPr/>
        </p:nvPicPr>
        <p:blipFill>
          <a:blip r:embed="rId1"/>
          <a:stretch/>
        </p:blipFill>
        <p:spPr>
          <a:xfrm>
            <a:off x="838080" y="1981080"/>
            <a:ext cx="3657600" cy="28195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" descr="bank"/>
          <p:cNvPicPr/>
          <p:nvPr/>
        </p:nvPicPr>
        <p:blipFill>
          <a:blip r:embed="rId2"/>
          <a:stretch/>
        </p:blipFill>
        <p:spPr>
          <a:xfrm>
            <a:off x="4876920" y="3048120"/>
            <a:ext cx="3733560" cy="2716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8" name="Picture 7" descr="question_mark_3d"/>
          <p:cNvPicPr/>
          <p:nvPr/>
        </p:nvPicPr>
        <p:blipFill>
          <a:blip r:embed="rId3"/>
          <a:stretch/>
        </p:blipFill>
        <p:spPr>
          <a:xfrm>
            <a:off x="3048120" y="228600"/>
            <a:ext cx="3660480" cy="7077240"/>
          </a:xfrm>
          <a:prstGeom prst="rect">
            <a:avLst/>
          </a:prstGeom>
          <a:ln w="0">
            <a:noFill/>
          </a:ln>
        </p:spPr>
      </p:pic>
      <p:sp>
        <p:nvSpPr>
          <p:cNvPr id="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  <p:transition spd="med">
    <p:zoom dir="out"/>
  </p:transition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609120" y="159984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                        </a:t>
            </a: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Заработная  плата                                                                                                (дайте определение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В чем состоят причины дифференциации в оплате труда работников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WordArt 5"/>
          <p:cNvSpPr txBox="1"/>
          <p:nvPr/>
        </p:nvSpPr>
        <p:spPr>
          <a:xfrm>
            <a:off x="228600" y="-152280"/>
            <a:ext cx="5133960" cy="231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Calibri"/>
              </a:rPr>
              <a:t>Дайте ответ!!!</a:t>
            </a:r>
            <a:endParaRPr b="1" lang="en-US" sz="66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Calibri"/>
              <a:ea typeface="Calibri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  <p:transition spd="med">
    <p:zoom dir="out"/>
  </p:transition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458200" cy="11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Calibri"/>
              </a:rPr>
              <a:t>Бюджет семьи-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Book Antiqua"/>
              </a:rPr>
              <a:t>структура всех доходов и расходов за определенный период времени (месяц или год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  <p:transition spd="med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4" descr="question"/>
          <p:cNvPicPr/>
          <p:nvPr/>
        </p:nvPicPr>
        <p:blipFill>
          <a:blip r:embed="rId2"/>
          <a:stretch/>
        </p:blipFill>
        <p:spPr>
          <a:xfrm>
            <a:off x="6541920" y="3962520"/>
            <a:ext cx="2602080" cy="2895480"/>
          </a:xfrm>
          <a:prstGeom prst="rect">
            <a:avLst/>
          </a:prstGeom>
          <a:ln w="0">
            <a:noFill/>
          </a:ln>
        </p:spPr>
      </p:pic>
      <p:sp>
        <p:nvSpPr>
          <p:cNvPr id="1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  <p:transition spd="med">
    <p:zoom dir="out"/>
  </p:transition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9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4" descr="QUESTION MARK 4"/>
          <p:cNvPicPr/>
          <p:nvPr/>
        </p:nvPicPr>
        <p:blipFill>
          <a:blip r:embed="rId2"/>
          <a:stretch/>
        </p:blipFill>
        <p:spPr>
          <a:xfrm>
            <a:off x="6662880" y="2209680"/>
            <a:ext cx="2481120" cy="4419720"/>
          </a:xfrm>
          <a:prstGeom prst="rect">
            <a:avLst/>
          </a:prstGeom>
          <a:ln w="0">
            <a:noFill/>
          </a:ln>
        </p:spPr>
      </p:pic>
      <p:sp>
        <p:nvSpPr>
          <p:cNvPr id="1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  <p:transition spd="med">
    <p:zoom dir="out"/>
  </p:transition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6" descr="1206576288878508735yves_guillou_question"/>
          <p:cNvPicPr/>
          <p:nvPr/>
        </p:nvPicPr>
        <p:blipFill>
          <a:blip r:embed="rId2"/>
          <a:stretch/>
        </p:blipFill>
        <p:spPr>
          <a:xfrm rot="732000">
            <a:off x="7467480" y="4038480"/>
            <a:ext cx="1208160" cy="2595600"/>
          </a:xfrm>
          <a:prstGeom prst="rect">
            <a:avLst/>
          </a:prstGeom>
          <a:ln w="0">
            <a:noFill/>
          </a:ln>
        </p:spPr>
      </p:pic>
      <p:sp>
        <p:nvSpPr>
          <p:cNvPr id="11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  <p:transition spd="med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Garamond"/>
              </a:rPr>
              <a:t>Задание для 1 групп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-360" y="1218960"/>
            <a:ext cx="899172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Состав семь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Отец – учитель, з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 за месяц – 25 000 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Мать – медсестра, з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 за месяц – 12 000 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Бабушка – пенсионерка, пенсия – 9 000 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Дочь – студентка, стипендия  - 2 000 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Сын – ученик 5 класса, пособие – 150 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Цель: купить домашний кинотеатр за 65 000 р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За какой период семья накопит данную сумму денег!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4"/>
          <p:cNvSpPr/>
          <p:nvPr/>
        </p:nvSpPr>
        <p:spPr>
          <a:xfrm>
            <a:off x="228600" y="152280"/>
            <a:ext cx="8534520" cy="1524240"/>
          </a:xfrm>
          <a:custGeom>
            <a:avLst/>
            <a:gdLst>
              <a:gd name="textAreaLeft" fmla="*/ 0 w 8534520"/>
              <a:gd name="textAreaRight" fmla="*/ 8534880 w 8534520"/>
              <a:gd name="textAreaTop" fmla="*/ 197280 h 1524240"/>
              <a:gd name="textAreaBottom" fmla="*/ 1326960 h 152424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gradFill rotWithShape="0">
            <a:gsLst>
              <a:gs pos="0">
                <a:srgbClr val="fee7f2"/>
              </a:gs>
              <a:gs pos="100000">
                <a:srgbClr val="fee7f2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odoni MT"/>
              </a:rPr>
              <a:t>Внимание!! Не забудьте о расходах на питание,  услуги ЖКХ, одежду, лекарства.</a:t>
            </a:r>
            <a:endParaRPr b="0" lang="en-US" sz="1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  <p:transition spd="med">
    <p:zoom dir="out"/>
  </p:transition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3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6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9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2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5" dur="5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8" dur="500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1" dur="500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4" dur="500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3d4a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Garamond"/>
              </a:rPr>
              <a:t>Задание для 2 групп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-360" y="1218960"/>
            <a:ext cx="899172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Состав семь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Отец – рабочий, з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п за месяц – 19 000 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Мать – продавец, з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п за месяц – 10 000 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Дедушка – пенсионер, пенсия – 15 000 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Сын – студент, стипендия  - 900 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Сын – ученик 3 класса, пособие – 150 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Цель: купить компьютер за 35 000 р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За какой период семья накопит данную сумму денег!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4"/>
          <p:cNvSpPr/>
          <p:nvPr/>
        </p:nvSpPr>
        <p:spPr>
          <a:xfrm>
            <a:off x="228600" y="304920"/>
            <a:ext cx="8534520" cy="1523880"/>
          </a:xfrm>
          <a:custGeom>
            <a:avLst/>
            <a:gdLst>
              <a:gd name="textAreaLeft" fmla="*/ 0 w 8534520"/>
              <a:gd name="textAreaRight" fmla="*/ 8534880 w 8534520"/>
              <a:gd name="textAreaTop" fmla="*/ 197280 h 1523880"/>
              <a:gd name="textAreaBottom" fmla="*/ 132660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gradFill rotWithShape="0">
            <a:gsLst>
              <a:gs pos="0">
                <a:srgbClr val="fee7f2"/>
              </a:gs>
              <a:gs pos="100000">
                <a:srgbClr val="fee7f2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odoni MT"/>
              </a:rPr>
              <a:t>Внимание!! Не забудьте о расходах на питание,  услуги ЖКХ, одежду, лекарства.</a:t>
            </a:r>
            <a:endParaRPr b="0" lang="en-US" sz="1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11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  <p:transition spd="med">
    <p:zoom dir="out"/>
  </p:transition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3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8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1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4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7" dur="5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0" dur="5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3" dur="500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6" dur="500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9" dur="500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072"/>
          <p:cNvPicPr/>
          <p:nvPr/>
        </p:nvPicPr>
        <p:blipFill>
          <a:blip r:embed="rId2"/>
          <a:stretch/>
        </p:blipFill>
        <p:spPr>
          <a:xfrm>
            <a:off x="228600" y="228600"/>
            <a:ext cx="4114800" cy="27352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21" name="Picture 7" descr="140905-01865122"/>
          <p:cNvPicPr/>
          <p:nvPr/>
        </p:nvPicPr>
        <p:blipFill>
          <a:blip r:embed="rId3"/>
          <a:stretch/>
        </p:blipFill>
        <p:spPr>
          <a:xfrm>
            <a:off x="2971800" y="1981080"/>
            <a:ext cx="3962520" cy="26892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22" name="Picture 8" descr="a2bba1c554ba2e24c4341a1cf00151c2_XL"/>
          <p:cNvPicPr/>
          <p:nvPr/>
        </p:nvPicPr>
        <p:blipFill>
          <a:blip r:embed="rId4"/>
          <a:stretch/>
        </p:blipFill>
        <p:spPr>
          <a:xfrm>
            <a:off x="4724280" y="3505320"/>
            <a:ext cx="4191120" cy="30686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1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  <p:transition spd="med">
    <p:zoom dir="out"/>
  </p:transition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4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4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5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 u="sng">
                <a:solidFill>
                  <a:srgbClr val="000000"/>
                </a:solidFill>
                <a:uFillTx/>
                <a:latin typeface="Bookman Old Style"/>
              </a:rPr>
              <a:t>Цели урока: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Colonna MT"/>
              </a:rPr>
              <a:t> </a:t>
            </a:r>
            <a:br>
              <a:rPr sz="3200"/>
            </a:b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- </a:t>
            </a: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обобщить и закрепить знания учащихся по теме </a:t>
            </a:r>
            <a:r>
              <a:rPr b="1" lang="ru-RU" sz="2400" spc="-1" strike="noStrike" u="sng">
                <a:solidFill>
                  <a:srgbClr val="3333ff"/>
                </a:solidFill>
                <a:uFillTx/>
                <a:latin typeface="Bookman Old Style"/>
              </a:rPr>
              <a:t>« Деньги. Кредиты. Заработанная плата»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- формировать умение коллективно обсуждать рациональность тех или иных затрат и принимать разумное решение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- воспитывать экономность, бережливость, предприимчивость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- побудить интерес к изучению экономики, применять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полученные знания на практи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  <p:transition spd="med">
    <p:zoom dir="ou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Бодо Шефер. Мани, или азбука дене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Немного найдется людей, которые не хотели бы разбогатеть. Но некоторые осознают это желание отчетливее, чем большинство. Другие притворяются, что хотели бы быть богатыми лишь в определенных ситуациях. Но, в конечном счете, все хотят быть счастливее, успешнее и — чтобы у них было больше дене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В этом желании нет ничего предосудительного. Ведь быть состоятельным — наше право от рождения. Человек, у которого достаточно денег, сам живет лучше и может принести больше пользы себе и другим. Мысль о том, что ты должен терпеть нехватку средств или даже вести нищенское существование, — одно из худших заблуждений человечеств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апп.mp3" descr=""/>
          <p:cNvPicPr/>
          <p:nvPr/>
        </p:nvPicPr>
        <p:blipFill>
          <a:blip r:embed="rId2"/>
          <a:stretch/>
        </p:blipFill>
        <p:spPr>
          <a:xfrm>
            <a:off x="838080" y="59436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2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  <p:transition spd="med">
    <p:zoom dir="out"/>
  </p:transition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nodeType="clickEffect" fill="hold">
                      <p:stCondLst>
                        <p:cond delay="0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afterEffect" fill="hold" presetClass="mediacall" presetID="1">
                                  <p:stCondLst>
                                    <p:cond delay="20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0" dur="652292" fill="hold"/>
                                        <p:tgtEl>
                                          <p:spTgt spid="1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304920" y="762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omic Sans MS"/>
              </a:rPr>
              <a:t>Экономика от греческого слова </a:t>
            </a:r>
            <a:r>
              <a:rPr b="1" lang="ru-RU" sz="4000" spc="-1" strike="noStrike" u="sng">
                <a:solidFill>
                  <a:srgbClr val="ffffff"/>
                </a:solidFill>
                <a:uFillTx/>
                <a:latin typeface="Comic Sans MS"/>
              </a:rPr>
              <a:t>«ОЙКОНОМИЯ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ffff"/>
                </a:solidFill>
                <a:uFillTx/>
                <a:latin typeface="Comic Sans MS"/>
              </a:rPr>
              <a:t>«ОЙКОС»</a:t>
            </a:r>
            <a:r>
              <a:rPr b="1" lang="ru-RU" sz="3600" spc="-1" strike="noStrike">
                <a:solidFill>
                  <a:srgbClr val="ffffff"/>
                </a:solidFill>
                <a:latin typeface="Comic Sans MS"/>
              </a:rPr>
              <a:t> - управля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ffff"/>
                </a:solidFill>
                <a:uFillTx/>
                <a:latin typeface="Comic Sans MS"/>
              </a:rPr>
              <a:t>«НЕМ» (НОМ)</a:t>
            </a:r>
            <a:r>
              <a:rPr b="1" lang="ru-RU" sz="3600" spc="-1" strike="noStrike">
                <a:solidFill>
                  <a:srgbClr val="ffffff"/>
                </a:solidFill>
                <a:latin typeface="Comic Sans MS"/>
              </a:rPr>
              <a:t> – дом или хозяйств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  <p:transition spd="med">
    <p:zoom dir="out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" dur="5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" dur="5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" dur="5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 u="sng">
                <a:solidFill>
                  <a:srgbClr val="ff0000"/>
                </a:solidFill>
                <a:uFillTx/>
                <a:latin typeface="Baskerville Old Face"/>
              </a:rPr>
              <a:t>Народная мудрость гласит: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333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ff"/>
                </a:solidFill>
                <a:latin typeface="Bookman Old Style"/>
              </a:rPr>
              <a:t>Не в деньгах счаст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333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ff"/>
                </a:solidFill>
                <a:latin typeface="Bookman Old Style"/>
              </a:rPr>
              <a:t>Копейка рубль береж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333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ff"/>
                </a:solidFill>
                <a:latin typeface="Bookman Old Style"/>
              </a:rPr>
              <a:t>Деньги любят сч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333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ff"/>
                </a:solidFill>
                <a:latin typeface="Bookman Old Style"/>
              </a:rPr>
              <a:t>Захочешь добра - посыпь сереб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333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ff"/>
                </a:solidFill>
                <a:latin typeface="Bookman Old Style"/>
              </a:rPr>
              <a:t>Тот мудрен, у кого карман ядре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Группа 44 - Миром правят Деньги(OST Стритрейсеры).mp3" descr=""/>
          <p:cNvPicPr/>
          <p:nvPr/>
        </p:nvPicPr>
        <p:blipFill>
          <a:blip r:embed="rId2"/>
          <a:stretch/>
        </p:blipFill>
        <p:spPr>
          <a:xfrm>
            <a:off x="8534520" y="62485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  <p:transition spd="med">
    <p:zoom dir="out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0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77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2" dur="77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4" dur="77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6" dur="77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" dur="298864" fill="hold"/>
                                        <p:tgtEl>
                                          <p:spTgt spid="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Organization Chart 18"/>
          <p:cNvGrpSpPr/>
          <p:nvPr/>
        </p:nvGrpSpPr>
        <p:grpSpPr>
          <a:xfrm>
            <a:off x="457200" y="304920"/>
            <a:ext cx="8228880" cy="5789160"/>
            <a:chOff x="457200" y="304920"/>
            <a:chExt cx="8228880" cy="5789160"/>
          </a:xfrm>
        </p:grpSpPr>
        <p:cxnSp>
          <p:nvCxnSpPr>
            <p:cNvPr id="59" name="_s1028"/>
            <p:cNvCxnSpPr>
              <a:stCxn id="60" idx="0"/>
              <a:endCxn id="61" idx="2"/>
            </p:cNvCxnSpPr>
            <p:nvPr/>
          </p:nvCxnSpPr>
          <p:spPr>
            <a:xfrm flipV="1" rot="16200000">
              <a:off x="5592600" y="1598760"/>
              <a:ext cx="1158480" cy="3200760"/>
            </a:xfrm>
            <a:prstGeom prst="bentConnector3">
              <a:avLst>
                <a:gd name="adj1" fmla="val 985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2" name="_s1029"/>
            <p:cNvCxnSpPr>
              <a:stCxn id="63" idx="0"/>
              <a:endCxn id="61" idx="2"/>
            </p:cNvCxnSpPr>
            <p:nvPr/>
          </p:nvCxnSpPr>
          <p:spPr>
            <a:xfrm flipV="1" rot="16200000">
              <a:off x="4525920" y="2665440"/>
              <a:ext cx="1158480" cy="1067040"/>
            </a:xfrm>
            <a:prstGeom prst="bentConnector3">
              <a:avLst>
                <a:gd name="adj1" fmla="val 985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4" name="_s1030"/>
            <p:cNvCxnSpPr>
              <a:stCxn id="65" idx="0"/>
              <a:endCxn id="61" idx="2"/>
            </p:cNvCxnSpPr>
            <p:nvPr/>
          </p:nvCxnSpPr>
          <p:spPr>
            <a:xfrm flipH="1" flipV="1" rot="5400000">
              <a:off x="3458880" y="2665440"/>
              <a:ext cx="1158480" cy="1067400"/>
            </a:xfrm>
            <a:prstGeom prst="bentConnector3">
              <a:avLst>
                <a:gd name="adj1" fmla="val 985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6" name="_s1031"/>
            <p:cNvCxnSpPr>
              <a:stCxn id="67" idx="0"/>
              <a:endCxn id="61" idx="2"/>
            </p:cNvCxnSpPr>
            <p:nvPr/>
          </p:nvCxnSpPr>
          <p:spPr>
            <a:xfrm flipH="1" flipV="1" rot="5400000">
              <a:off x="2392200" y="1598760"/>
              <a:ext cx="1158480" cy="3201120"/>
            </a:xfrm>
            <a:prstGeom prst="bentConnector3">
              <a:avLst>
                <a:gd name="adj1" fmla="val 9853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61" name="_s1032"/>
            <p:cNvSpPr/>
            <p:nvPr/>
          </p:nvSpPr>
          <p:spPr>
            <a:xfrm>
              <a:off x="3657600" y="304920"/>
              <a:ext cx="1828440" cy="2315520"/>
            </a:xfrm>
            <a:custGeom>
              <a:avLst/>
              <a:gdLst>
                <a:gd name="textAreaLeft" fmla="*/ 88920 w 1828440"/>
                <a:gd name="textAreaRight" fmla="*/ 1739520 w 1828440"/>
                <a:gd name="textAreaTop" fmla="*/ 88920 h 2315520"/>
                <a:gd name="textAreaBottom" fmla="*/ 2226600 h 2315520"/>
              </a:gdLst>
              <a:ahLst/>
              <a:rect l="textAreaLeft" t="textAreaTop" r="textAreaRight" b="textAreaBottom"/>
              <a:pathLst>
                <a:path w="21600" h="27353">
                  <a:moveTo>
                    <a:pt x="3600" y="0"/>
                  </a:moveTo>
                  <a:arcTo wR="3600" hR="3600" stAng="16200000" swAng="-5400000"/>
                  <a:lnTo>
                    <a:pt x="0" y="23753"/>
                  </a:lnTo>
                  <a:arcTo wR="3600" hR="3600" stAng="10800000" swAng="-5400000"/>
                  <a:lnTo>
                    <a:pt x="18000" y="273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Bodoni MT"/>
                </a:rPr>
                <a:t>ФУНКЦИИ </a:t>
              </a:r>
              <a:endParaRPr b="0" lang="en-US" sz="2400" spc="-1" strike="noStrike">
                <a:solidFill>
                  <a:srgbClr val="000000"/>
                </a:solidFill>
                <a:latin typeface="Bodoni MT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Bodoni MT"/>
                </a:rPr>
                <a:t>ДЕНЕГ</a:t>
              </a:r>
              <a:endParaRPr b="0" lang="en-US" sz="2400" spc="-1" strike="noStrike">
                <a:solidFill>
                  <a:srgbClr val="000000"/>
                </a:solidFill>
                <a:latin typeface="Bodoni MT"/>
              </a:endParaRPr>
            </a:p>
          </p:txBody>
        </p:sp>
        <p:sp>
          <p:nvSpPr>
            <p:cNvPr id="67" name="_s1033"/>
            <p:cNvSpPr/>
            <p:nvPr/>
          </p:nvSpPr>
          <p:spPr>
            <a:xfrm>
              <a:off x="457200" y="3778560"/>
              <a:ext cx="1828440" cy="2315520"/>
            </a:xfrm>
            <a:custGeom>
              <a:avLst/>
              <a:gdLst>
                <a:gd name="textAreaLeft" fmla="*/ 88920 w 1828440"/>
                <a:gd name="textAreaRight" fmla="*/ 1739520 w 1828440"/>
                <a:gd name="textAreaTop" fmla="*/ 88920 h 2315520"/>
                <a:gd name="textAreaBottom" fmla="*/ 2226600 h 2315520"/>
              </a:gdLst>
              <a:ahLst/>
              <a:rect l="textAreaLeft" t="textAreaTop" r="textAreaRight" b="textAreaBottom"/>
              <a:pathLst>
                <a:path w="21600" h="27353">
                  <a:moveTo>
                    <a:pt x="3600" y="0"/>
                  </a:moveTo>
                  <a:arcTo wR="3600" hR="3600" stAng="16200000" swAng="-5400000"/>
                  <a:lnTo>
                    <a:pt x="0" y="23753"/>
                  </a:lnTo>
                  <a:arcTo wR="3600" hR="3600" stAng="10800000" swAng="-5400000"/>
                  <a:lnTo>
                    <a:pt x="18000" y="273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doni MT"/>
                </a:rPr>
                <a:t>Средство </a:t>
              </a:r>
              <a:endParaRPr b="0" lang="en-US" sz="2000" spc="-1" strike="noStrike">
                <a:solidFill>
                  <a:srgbClr val="000000"/>
                </a:solidFill>
                <a:latin typeface="Bodoni MT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doni MT"/>
                </a:rPr>
                <a:t>обмена</a:t>
              </a:r>
              <a:endParaRPr b="0" lang="en-US" sz="2000" spc="-1" strike="noStrike">
                <a:solidFill>
                  <a:srgbClr val="000000"/>
                </a:solidFill>
                <a:latin typeface="Bodoni MT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Bodoni MT"/>
              </a:endParaRPr>
            </a:p>
          </p:txBody>
        </p:sp>
        <p:sp>
          <p:nvSpPr>
            <p:cNvPr id="65" name="_s1034"/>
            <p:cNvSpPr/>
            <p:nvPr/>
          </p:nvSpPr>
          <p:spPr>
            <a:xfrm>
              <a:off x="2590560" y="3778560"/>
              <a:ext cx="1828440" cy="2315520"/>
            </a:xfrm>
            <a:custGeom>
              <a:avLst/>
              <a:gdLst>
                <a:gd name="textAreaLeft" fmla="*/ 88920 w 1828440"/>
                <a:gd name="textAreaRight" fmla="*/ 1739520 w 1828440"/>
                <a:gd name="textAreaTop" fmla="*/ 88920 h 2315520"/>
                <a:gd name="textAreaBottom" fmla="*/ 2226600 h 2315520"/>
              </a:gdLst>
              <a:ahLst/>
              <a:rect l="textAreaLeft" t="textAreaTop" r="textAreaRight" b="textAreaBottom"/>
              <a:pathLst>
                <a:path w="21600" h="27353">
                  <a:moveTo>
                    <a:pt x="3600" y="0"/>
                  </a:moveTo>
                  <a:arcTo wR="3600" hR="3600" stAng="16200000" swAng="-5400000"/>
                  <a:lnTo>
                    <a:pt x="0" y="23753"/>
                  </a:lnTo>
                  <a:arcTo wR="3600" hR="3600" stAng="10800000" swAng="-5400000"/>
                  <a:lnTo>
                    <a:pt x="18000" y="273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doni MT"/>
                </a:rPr>
                <a:t>Средство</a:t>
              </a:r>
              <a:endParaRPr b="0" lang="en-US" sz="1800" spc="-1" strike="noStrike">
                <a:solidFill>
                  <a:srgbClr val="000000"/>
                </a:solidFill>
                <a:latin typeface="Bodoni MT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doni MT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Bodoni MT"/>
                </a:rPr>
                <a:t>измерения </a:t>
              </a:r>
              <a:endParaRPr b="0" lang="en-US" sz="1800" spc="-1" strike="noStrike">
                <a:solidFill>
                  <a:srgbClr val="000000"/>
                </a:solidFill>
                <a:latin typeface="Bodoni MT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doni MT"/>
                </a:rPr>
                <a:t>стоимости </a:t>
              </a:r>
              <a:endParaRPr b="0" lang="en-US" sz="1800" spc="-1" strike="noStrike">
                <a:solidFill>
                  <a:srgbClr val="000000"/>
                </a:solidFill>
                <a:latin typeface="Bodoni MT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doni MT"/>
                </a:rPr>
                <a:t>товаров </a:t>
              </a:r>
              <a:endParaRPr b="0" lang="en-US" sz="1800" spc="-1" strike="noStrike">
                <a:solidFill>
                  <a:srgbClr val="000000"/>
                </a:solidFill>
                <a:latin typeface="Bodoni MT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doni MT"/>
                </a:rPr>
                <a:t>и услуг</a:t>
              </a:r>
              <a:endParaRPr b="0" lang="en-US" sz="1800" spc="-1" strike="noStrike">
                <a:solidFill>
                  <a:srgbClr val="000000"/>
                </a:solidFill>
                <a:latin typeface="Bodoni MT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odoni MT"/>
              </a:endParaRPr>
            </a:p>
          </p:txBody>
        </p:sp>
        <p:sp>
          <p:nvSpPr>
            <p:cNvPr id="63" name="_s1035"/>
            <p:cNvSpPr/>
            <p:nvPr/>
          </p:nvSpPr>
          <p:spPr>
            <a:xfrm>
              <a:off x="4724280" y="3778560"/>
              <a:ext cx="1828440" cy="2315520"/>
            </a:xfrm>
            <a:custGeom>
              <a:avLst/>
              <a:gdLst>
                <a:gd name="textAreaLeft" fmla="*/ 88920 w 1828440"/>
                <a:gd name="textAreaRight" fmla="*/ 1739520 w 1828440"/>
                <a:gd name="textAreaTop" fmla="*/ 88920 h 2315520"/>
                <a:gd name="textAreaBottom" fmla="*/ 2226600 h 2315520"/>
              </a:gdLst>
              <a:ahLst/>
              <a:rect l="textAreaLeft" t="textAreaTop" r="textAreaRight" b="textAreaBottom"/>
              <a:pathLst>
                <a:path w="21600" h="27353">
                  <a:moveTo>
                    <a:pt x="3600" y="0"/>
                  </a:moveTo>
                  <a:arcTo wR="3600" hR="3600" stAng="16200000" swAng="-5400000"/>
                  <a:lnTo>
                    <a:pt x="0" y="23753"/>
                  </a:lnTo>
                  <a:arcTo wR="3600" hR="3600" stAng="10800000" swAng="-5400000"/>
                  <a:lnTo>
                    <a:pt x="18000" y="273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doni MT"/>
                </a:rPr>
                <a:t>Средство </a:t>
              </a:r>
              <a:endParaRPr b="0" lang="en-US" sz="1800" spc="-1" strike="noStrike">
                <a:solidFill>
                  <a:srgbClr val="000000"/>
                </a:solidFill>
                <a:latin typeface="Bodoni MT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doni MT"/>
                </a:rPr>
                <a:t>образования</a:t>
              </a:r>
              <a:endParaRPr b="0" lang="en-US" sz="1800" spc="-1" strike="noStrike">
                <a:solidFill>
                  <a:srgbClr val="000000"/>
                </a:solidFill>
                <a:latin typeface="Bodoni MT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doni MT"/>
                </a:rPr>
                <a:t>и накопления </a:t>
              </a:r>
              <a:endParaRPr b="0" lang="en-US" sz="1800" spc="-1" strike="noStrike">
                <a:solidFill>
                  <a:srgbClr val="000000"/>
                </a:solidFill>
                <a:latin typeface="Bodoni MT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doni MT"/>
                </a:rPr>
                <a:t>сбережений</a:t>
              </a:r>
              <a:endParaRPr b="0" lang="en-US" sz="1800" spc="-1" strike="noStrike">
                <a:solidFill>
                  <a:srgbClr val="000000"/>
                </a:solidFill>
                <a:latin typeface="Bodoni MT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odoni MT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odoni MT"/>
              </a:endParaRPr>
            </a:p>
          </p:txBody>
        </p:sp>
        <p:sp>
          <p:nvSpPr>
            <p:cNvPr id="60" name="_s1036"/>
            <p:cNvSpPr/>
            <p:nvPr/>
          </p:nvSpPr>
          <p:spPr>
            <a:xfrm>
              <a:off x="6857640" y="3778560"/>
              <a:ext cx="1828440" cy="2315520"/>
            </a:xfrm>
            <a:custGeom>
              <a:avLst/>
              <a:gdLst>
                <a:gd name="textAreaLeft" fmla="*/ 88920 w 1828440"/>
                <a:gd name="textAreaRight" fmla="*/ 1739520 w 1828440"/>
                <a:gd name="textAreaTop" fmla="*/ 88920 h 2315520"/>
                <a:gd name="textAreaBottom" fmla="*/ 2226600 h 2315520"/>
              </a:gdLst>
              <a:ahLst/>
              <a:rect l="textAreaLeft" t="textAreaTop" r="textAreaRight" b="textAreaBottom"/>
              <a:pathLst>
                <a:path w="21600" h="27353">
                  <a:moveTo>
                    <a:pt x="3600" y="0"/>
                  </a:moveTo>
                  <a:arcTo wR="3600" hR="3600" stAng="16200000" swAng="-5400000"/>
                  <a:lnTo>
                    <a:pt x="0" y="23753"/>
                  </a:lnTo>
                  <a:arcTo wR="3600" hR="3600" stAng="10800000" swAng="-5400000"/>
                  <a:lnTo>
                    <a:pt x="18000" y="273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doni MT"/>
                </a:rPr>
                <a:t>Средство </a:t>
              </a:r>
              <a:endParaRPr b="0" lang="en-US" sz="1800" spc="-1" strike="noStrike">
                <a:solidFill>
                  <a:srgbClr val="000000"/>
                </a:solidFill>
                <a:latin typeface="Bodoni MT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doni MT"/>
                </a:rPr>
                <a:t>платежа</a:t>
              </a:r>
              <a:endParaRPr b="0" lang="en-US" sz="1800" spc="-1" strike="noStrike">
                <a:solidFill>
                  <a:srgbClr val="000000"/>
                </a:solidFill>
                <a:latin typeface="Bodoni MT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odoni MT"/>
              </a:endParaRPr>
            </a:p>
          </p:txBody>
        </p:sp>
      </p:grpSp>
      <p:sp>
        <p:nvSpPr>
          <p:cNvPr id="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  <p:transition spd="med">
    <p:zoom dir="out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5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Товарные деньги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Кредитные деньг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Наличные деньг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Безналичные деньг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WordArt 5"/>
          <p:cNvSpPr txBox="1"/>
          <p:nvPr/>
        </p:nvSpPr>
        <p:spPr>
          <a:xfrm>
            <a:off x="114480" y="0"/>
            <a:ext cx="9029520" cy="1104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Какие виды денег вы знаете?</a:t>
            </a:r>
            <a:endParaRPr b="1" lang="en-US" sz="4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1" name="AutoShape 6"/>
          <p:cNvSpPr/>
          <p:nvPr/>
        </p:nvSpPr>
        <p:spPr>
          <a:xfrm>
            <a:off x="4267080" y="182880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72" name="AutoShape 7"/>
          <p:cNvSpPr/>
          <p:nvPr/>
        </p:nvSpPr>
        <p:spPr>
          <a:xfrm>
            <a:off x="4495680" y="297180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73" name="AutoShape 8"/>
          <p:cNvSpPr/>
          <p:nvPr/>
        </p:nvSpPr>
        <p:spPr>
          <a:xfrm>
            <a:off x="4343400" y="411480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74" name="AutoShape 9"/>
          <p:cNvSpPr/>
          <p:nvPr/>
        </p:nvSpPr>
        <p:spPr>
          <a:xfrm>
            <a:off x="4952880" y="5334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doni MT"/>
            </a:endParaRPr>
          </a:p>
        </p:txBody>
      </p:sp>
      <p:pic>
        <p:nvPicPr>
          <p:cNvPr id="75" name="Picture 10" descr="Internet-portal-8"/>
          <p:cNvPicPr/>
          <p:nvPr/>
        </p:nvPicPr>
        <p:blipFill>
          <a:blip r:embed="rId3"/>
          <a:stretch/>
        </p:blipFill>
        <p:spPr>
          <a:xfrm>
            <a:off x="7010280" y="3733920"/>
            <a:ext cx="1752840" cy="1166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6" name="Picture 11" descr="1214_017"/>
          <p:cNvPicPr/>
          <p:nvPr/>
        </p:nvPicPr>
        <p:blipFill>
          <a:blip r:embed="rId4"/>
          <a:stretch/>
        </p:blipFill>
        <p:spPr>
          <a:xfrm>
            <a:off x="6781680" y="1143000"/>
            <a:ext cx="1981440" cy="1486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7" name="Picture 12" descr="IMG_2009-12-24-Securities1"/>
          <p:cNvPicPr/>
          <p:nvPr/>
        </p:nvPicPr>
        <p:blipFill>
          <a:blip r:embed="rId5"/>
          <a:stretch/>
        </p:blipFill>
        <p:spPr>
          <a:xfrm>
            <a:off x="5562720" y="2438280"/>
            <a:ext cx="971280" cy="137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8" name="Picture 13" descr="1268138901"/>
          <p:cNvPicPr/>
          <p:nvPr/>
        </p:nvPicPr>
        <p:blipFill>
          <a:blip r:embed="rId6"/>
          <a:stretch/>
        </p:blipFill>
        <p:spPr>
          <a:xfrm>
            <a:off x="5943600" y="4876920"/>
            <a:ext cx="1676520" cy="1257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  <p:transition spd="med">
    <p:zoom dir="out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8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9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1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2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3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4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5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9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0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1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2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3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4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5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6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4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0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1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2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3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4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5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6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7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WordArt 4"/>
          <p:cNvSpPr txBox="1"/>
          <p:nvPr/>
        </p:nvSpPr>
        <p:spPr>
          <a:xfrm>
            <a:off x="457200" y="457200"/>
            <a:ext cx="4476600" cy="1393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Что такое депозит?</a:t>
            </a:r>
            <a:endParaRPr b="1" lang="en-US" sz="4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1" name="WordArt 5"/>
          <p:cNvSpPr txBox="1"/>
          <p:nvPr/>
        </p:nvSpPr>
        <p:spPr>
          <a:xfrm>
            <a:off x="457200" y="5181480"/>
            <a:ext cx="8172360" cy="1393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Какие виды депозитов вы знаете?!</a:t>
            </a:r>
            <a:endParaRPr b="1" lang="en-US" sz="4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  <p:transition spd="med">
    <p:zoom dir="out"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385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6" dur="385" fill="hold"/>
                                        <p:tgtEl>
                                          <p:spTgt spid="8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28" dur="385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0" dur="385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WordArt 4"/>
          <p:cNvSpPr txBox="1"/>
          <p:nvPr/>
        </p:nvSpPr>
        <p:spPr>
          <a:xfrm>
            <a:off x="1295280" y="228600"/>
            <a:ext cx="6429600" cy="67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d60093"/>
                    </a:gs>
                  </a:gsLst>
                  <a:lin ang="27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отребительский кредит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00"/>
                  </a:gs>
                  <a:gs pos="100000">
                    <a:srgbClr val="d60093"/>
                  </a:gs>
                </a:gsLst>
                <a:lin ang="27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4" name="AutoShape 22"/>
          <p:cNvSpPr/>
          <p:nvPr/>
        </p:nvSpPr>
        <p:spPr>
          <a:xfrm>
            <a:off x="1219320" y="2362320"/>
            <a:ext cx="1752480" cy="2361960"/>
          </a:xfrm>
          <a:custGeom>
            <a:avLst/>
            <a:gdLst>
              <a:gd name="textAreaLeft" fmla="*/ 85320 w 1752480"/>
              <a:gd name="textAreaRight" fmla="*/ 1667160 w 1752480"/>
              <a:gd name="textAreaTop" fmla="*/ 85320 h 2361960"/>
              <a:gd name="textAreaBottom" fmla="*/ 2276640 h 2361960"/>
            </a:gdLst>
            <a:ahLst/>
            <a:rect l="textAreaLeft" t="textAreaTop" r="textAreaRight" b="textAreaBottom"/>
            <a:pathLst>
              <a:path w="21600" h="29111">
                <a:moveTo>
                  <a:pt x="3600" y="0"/>
                </a:moveTo>
                <a:arcTo wR="3600" hR="3600" stAng="16200000" swAng="-5400000"/>
                <a:lnTo>
                  <a:pt x="0" y="25511"/>
                </a:lnTo>
                <a:arcTo wR="3600" hR="3600" stAng="10800000" swAng="-5400000"/>
                <a:lnTo>
                  <a:pt x="18000" y="291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Book Antiqua"/>
              </a:rPr>
              <a:t>Целевой</a:t>
            </a:r>
            <a:endParaRPr b="0" lang="en-US" sz="2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85" name="AutoShape 23"/>
          <p:cNvSpPr/>
          <p:nvPr/>
        </p:nvSpPr>
        <p:spPr>
          <a:xfrm>
            <a:off x="3657600" y="2362320"/>
            <a:ext cx="1752480" cy="2361960"/>
          </a:xfrm>
          <a:custGeom>
            <a:avLst/>
            <a:gdLst>
              <a:gd name="textAreaLeft" fmla="*/ 85320 w 1752480"/>
              <a:gd name="textAreaRight" fmla="*/ 1667160 w 1752480"/>
              <a:gd name="textAreaTop" fmla="*/ 85320 h 2361960"/>
              <a:gd name="textAreaBottom" fmla="*/ 2276640 h 2361960"/>
            </a:gdLst>
            <a:ahLst/>
            <a:rect l="textAreaLeft" t="textAreaTop" r="textAreaRight" b="textAreaBottom"/>
            <a:pathLst>
              <a:path w="21600" h="29111">
                <a:moveTo>
                  <a:pt x="3600" y="0"/>
                </a:moveTo>
                <a:arcTo wR="3600" hR="3600" stAng="16200000" swAng="-5400000"/>
                <a:lnTo>
                  <a:pt x="0" y="25511"/>
                </a:lnTo>
                <a:arcTo wR="3600" hR="3600" stAng="10800000" swAng="-5400000"/>
                <a:lnTo>
                  <a:pt x="18000" y="291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3333ff"/>
              </a:gs>
              <a:gs pos="50000">
                <a:srgbClr val="ffffff"/>
              </a:gs>
              <a:gs pos="100000">
                <a:srgbClr val="3333ff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Book Antiqua"/>
              </a:rPr>
              <a:t>Личный</a:t>
            </a:r>
            <a:endParaRPr b="0" lang="en-US" sz="2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86" name="AutoShape 24"/>
          <p:cNvSpPr/>
          <p:nvPr/>
        </p:nvSpPr>
        <p:spPr>
          <a:xfrm>
            <a:off x="6095880" y="2362320"/>
            <a:ext cx="1752840" cy="2361960"/>
          </a:xfrm>
          <a:custGeom>
            <a:avLst/>
            <a:gdLst>
              <a:gd name="textAreaLeft" fmla="*/ 85320 w 1752840"/>
              <a:gd name="textAreaRight" fmla="*/ 1667520 w 1752840"/>
              <a:gd name="textAreaTop" fmla="*/ 85320 h 2361960"/>
              <a:gd name="textAreaBottom" fmla="*/ 2276640 h 2361960"/>
            </a:gdLst>
            <a:ahLst/>
            <a:rect l="textAreaLeft" t="textAreaTop" r="textAreaRight" b="textAreaBottom"/>
            <a:pathLst>
              <a:path w="21600" h="29105">
                <a:moveTo>
                  <a:pt x="3600" y="0"/>
                </a:moveTo>
                <a:arcTo wR="3600" hR="3600" stAng="16200000" swAng="-5400000"/>
                <a:lnTo>
                  <a:pt x="0" y="25505"/>
                </a:lnTo>
                <a:arcTo wR="3600" hR="3600" stAng="10800000" swAng="-5400000"/>
                <a:lnTo>
                  <a:pt x="18000" y="2910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d60093"/>
              </a:gs>
              <a:gs pos="50000">
                <a:srgbClr val="ffffff"/>
              </a:gs>
              <a:gs pos="100000">
                <a:srgbClr val="d60093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Ипотечный</a:t>
            </a:r>
            <a:endParaRPr b="0" lang="en-US" sz="24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87" name="Oval 27"/>
          <p:cNvSpPr/>
          <p:nvPr/>
        </p:nvSpPr>
        <p:spPr>
          <a:xfrm>
            <a:off x="1752480" y="1905120"/>
            <a:ext cx="685800" cy="685800"/>
          </a:xfrm>
          <a:prstGeom prst="ellipse">
            <a:avLst/>
          </a:prstGeom>
          <a:gradFill rotWithShape="0">
            <a:gsLst>
              <a:gs pos="0">
                <a:srgbClr val="ffff66"/>
              </a:gs>
              <a:gs pos="100000">
                <a:srgbClr val="ffff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doni MT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88" name="Oval 28"/>
          <p:cNvSpPr/>
          <p:nvPr/>
        </p:nvSpPr>
        <p:spPr>
          <a:xfrm>
            <a:off x="4191120" y="1905120"/>
            <a:ext cx="685800" cy="685800"/>
          </a:xfrm>
          <a:prstGeom prst="ellipse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doni MT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89" name="Oval 29"/>
          <p:cNvSpPr/>
          <p:nvPr/>
        </p:nvSpPr>
        <p:spPr>
          <a:xfrm>
            <a:off x="6629400" y="1905120"/>
            <a:ext cx="685800" cy="685800"/>
          </a:xfrm>
          <a:prstGeom prst="ellipse">
            <a:avLst/>
          </a:prstGeom>
          <a:solidFill>
            <a:srgbClr val="d6009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doni MT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90" name="Rectangle 30"/>
          <p:cNvSpPr/>
          <p:nvPr/>
        </p:nvSpPr>
        <p:spPr>
          <a:xfrm>
            <a:off x="5245200" y="353700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91" name="WordArt 31"/>
          <p:cNvSpPr txBox="1"/>
          <p:nvPr/>
        </p:nvSpPr>
        <p:spPr>
          <a:xfrm>
            <a:off x="609480" y="5562720"/>
            <a:ext cx="7658280" cy="892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Расскажите об этих видах кредита!!!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  <p:transition spd="med">
    <p:zoom dir="out"/>
  </p:transition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3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9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Garamond"/>
              </a:rPr>
              <a:t>Назовите причины широкого распространения потребительских кредитов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  <p:transition spd="med">
    <p:zoom dir="out"/>
  </p:transition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3" dur="2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6-01-04T08:18:21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