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4.jpeg" ContentType="image/jpeg"/>
  <Override PartName="/ppt/media/image31.jpeg" ContentType="image/jpeg"/>
  <Override PartName="/ppt/media/image25.jpeg" ContentType="image/jpeg"/>
  <Override PartName="/ppt/media/image27.jpeg" ContentType="image/jpeg"/>
  <Override PartName="/ppt/media/image22.jpeg" ContentType="image/jpeg"/>
  <Override PartName="/ppt/media/image7.png" ContentType="image/png"/>
  <Override PartName="/ppt/media/image1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3.jpeg" ContentType="image/jpeg"/>
  <Override PartName="/ppt/media/image12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.jpeg" ContentType="image/jpeg"/>
  <Override PartName="/ppt/media/image23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6.jpeg" ContentType="image/jpeg"/>
  <Override PartName="/ppt/media/image18.png" ContentType="image/png"/>
  <Override PartName="/ppt/media/image2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Bodoni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doni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Bodoni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A3F07-C2BF-432C-BB49-3A08CF878591}" type="slidenum">
              <a:rPr b="0" lang="uk-UA" sz="1200" spc="-1" strike="noStrike">
                <a:solidFill>
                  <a:srgbClr val="000000"/>
                </a:solidFill>
                <a:latin typeface="Bodoni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обобщения знани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тем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Деньги. Кредиты. Бюджет семьи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Урок обобщения знани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по тем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«Деньги. Кредиты. Бюджет семьи.»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Где лучше хранить деньги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doni MT"/>
              </a:rPr>
              <a:t>Где лучше хранить деньги...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аботная  плата                                                                                                (дайте определ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чем состоят причины дифференциации в оплате труда работник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йте ответ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Заработная  плата                                                                                                (дайте определение)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В чем состоят причины дифференциации в оплате труда работников?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Дайте ответ!!!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юджет семьи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всех доходов и расходов за определенный период времени (месяц или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Бюджет семьи-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структура всех доходов и расходов за определенный период времени (месяц или год)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 для 1 груп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 семь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ец – учитель, з/п за месяц – 25 000 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ь – медсестра, з/п за месяц – 12 000 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бушка – пенсионерка, пенсия – 9 000 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чь – студентка, стипендия  - 2 000 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ын – ученик 5 класса, пособие – 150 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: купить домашний кинотеатр за 65 000 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какой период семья накопит данную сумму денег!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имание!! Не забудьте о расходах на питание,  услуги ЖКХ, одежду, лек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Задание для 1 группы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Состав семьи: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Отец – учитель, з/п за месяц – 25 000 р.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Мать – медсестра, з/п за месяц – 12 000 р.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Бабушка – пенсионерка, пенсия – 9 000 р.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Дочь – студентка, стипендия  - 2 000 р.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Сын – ученик 5 класса, пособие – 150 р.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Цель: купить домашний кинотеатр за 65 000 р. 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За какой период семья накопит данную сумму денег!?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Внимание!! Не забудьте о расходах на питание,  услуги ЖКХ, одежду, лекарства.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 для 2 груп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 семь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ец – рабочий, з/п за месяц – 19 000 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ь – продавец, з/п за месяц – 10 000 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душка – пенсионер, пенсия – 15 000 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ын – студент, стипендия  - 900 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ын – ученик 3 класса, пособие – 150 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: купить компьютер за 35 000 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какой период семья накопит данную сумму денег!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имание!! Не забудьте о расходах на питание,  услуги ЖКХ, одежду, лек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Задание для 2 группы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Состав семьи: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Отец – рабочий, з/п за месяц – 19 000 р.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Мать – продавец, з/п за месяц – 10 000 р.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Дедушка – пенсионер, пенсия – 15 000 р.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Сын – студент, стипендия  - 900 р.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Сын – ученик 3 класса, пособие – 150 р.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Цель: купить компьютер за 35 000 р. 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За какой период семья накопит данную сумму денег!?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Внимание!! Не забудьте о расходах на питание,  услуги ЖКХ, одежду, лекарства.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урока: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бобщить и закрепить знания учащихся по теме « Деньги. Кредиты. Заработанная плата»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формировать умение коллективно обсуждать рациональность тех или иных затрат и принимать разумное решение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оспитывать экономность, бережливость, предприимчивость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будить интерес к изучению экономики, применя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ные знания на практ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Цели урока: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- обобщить и закрепить знания учащихся по теме « Деньги. Кредиты. Заработанная плата»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- формировать умение коллективно обсуждать рациональность тех или иных затрат и принимать разумное решение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- воспитывать экономность, бережливость, предприимчивость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- побудить интерес к изучению экономики, применя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полученные знания на практике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до Шефер. Мани, или азбука дене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ного найдется людей, которые не хотели бы разбогатеть. Но некоторые осознают это желание отчетливее, чем большинство. Другие притворяются, что хотели бы быть богатыми лишь в определенных ситуациях. Но, в конечном счете, все хотят быть счастливее, успешнее и — чтобы у них было больше дене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м желании нет ничего предосудительного. Ведь быть состоятельным — наше право от рождения. Человек, у которого достаточно денег, сам живет лучше и может принести больше пользы себе и другим. Мысль о том, что ты должен терпеть нехватку средств или даже вести нищенское существование, — одно из худших заблуждений человече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Бодо Шефер. Мани, или азбука денег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Немного найдется людей, которые не хотели бы разбогатеть. Но некоторые осознают это желание отчетливее, чем большинство. Другие притворяются, что хотели бы быть богатыми лишь в определенных ситуациях. Но, в конечном счете, все хотят быть счастливее, успешнее и — чтобы у них было больше денег.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В этом желании нет ничего предосудительного. Ведь быть состоятельным — наше право от рождения. Человек, у которого достаточно денег, сам живет лучше и может принести больше пользы себе и другим. Мысль о том, что ты должен терпеть нехватку средств или даже вести нищенское существование, — одно из худших заблуждений человечества 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а от греческого слова «ОЙКОНОМ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ЙКОС» - управля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ЕМ» (НОМ) – дом или хозя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Экономика от греческого слова «ОЙКОНОМИЯ»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«ОЙКОС» - управлять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«НЕМ» (НОМ) – дом или хозяйство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одная мудрость гласит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в деньгах счасть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пейка рубль береж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ьги любят сч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хочешь добра - посыпь сереб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т мудрен, у кого карман ядр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Народная мудрость гласит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Не в деньгах счастье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Копейка рубль бережет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Деньги любят счет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Захочешь добра - посыпь серебра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Тот мудрен, у кого карман ядрен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ные деньги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ные день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ные день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наличные день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виды денег вы знает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Товарные деньги  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Кредитные деньги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Наличные деньги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Безналичные деньги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Какие виды денег вы знаете?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депози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виды депозитов вы знаете?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Что такое депозит?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Какие виды депозитов вы знаете?!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ительский кред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ев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потеч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кажите об этих видах кредита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Потребительский кредит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Целевой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Личный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Ипотечный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Расскажите об этих видах кредита!!!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овите причины широкого распространения потребительских кредит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Назовите причины широкого распространения потребительских кредитов?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1E36-9F66-45CF-B682-50E30E24F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C20A-F9E2-4888-B366-C21A5F7F6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DFD2-A96A-4E95-BAD9-A140C581E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C60F-83EC-4783-B761-B0AA6DBC0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2163-93F5-42E5-B9CA-C74A6D315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4C88-FFA0-4ADB-B59B-2C3273F98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CC2C-53FA-4625-A8E9-BFBAFDA36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29BD-6DBD-4E34-A5EC-C3C8FCF57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88BF-4834-4EA0-A1FD-CB80F25A6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6DD1-40ED-4752-83CD-938ACD6B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61E4-8CFA-483F-8480-D0F48D9B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27B9-D3D3-4296-BC3A-F4C6E9CB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E2557-C91D-4B54-869A-807A7AA358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Bodoni MT Black"/>
              </a:rPr>
              <a:t>Урок обобщения знаний </a:t>
            </a:r>
            <a:br>
              <a:rPr sz="4800"/>
            </a:br>
            <a:r>
              <a:rPr b="1" lang="ru-RU" sz="4800" spc="-1" strike="noStrike">
                <a:solidFill>
                  <a:srgbClr val="ff0000"/>
                </a:solidFill>
                <a:latin typeface="Bodoni MT Black"/>
              </a:rPr>
              <a:t>по теме</a:t>
            </a:r>
            <a:br>
              <a:rPr sz="4800"/>
            </a:br>
            <a:r>
              <a:rPr b="1" lang="ru-RU" sz="4800" spc="-1" strike="noStrike" u="sng">
                <a:solidFill>
                  <a:srgbClr val="ff0000"/>
                </a:solidFill>
                <a:uFillTx/>
                <a:latin typeface="Bodoni MT Black"/>
              </a:rPr>
              <a:t>«Деньги. Кредиты. Бюджет семьи.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4"/>
          <p:cNvSpPr txBox="1"/>
          <p:nvPr/>
        </p:nvSpPr>
        <p:spPr>
          <a:xfrm>
            <a:off x="457200" y="1143000"/>
            <a:ext cx="82677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де лучше хранить деньги...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6" name="Picture 5" descr="5624-17926796-______________"/>
          <p:cNvPicPr/>
          <p:nvPr/>
        </p:nvPicPr>
        <p:blipFill>
          <a:blip r:embed="rId1"/>
          <a:stretch/>
        </p:blipFill>
        <p:spPr>
          <a:xfrm>
            <a:off x="838080" y="1981080"/>
            <a:ext cx="3657600" cy="2819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bank"/>
          <p:cNvPicPr/>
          <p:nvPr/>
        </p:nvPicPr>
        <p:blipFill>
          <a:blip r:embed="rId2"/>
          <a:stretch/>
        </p:blipFill>
        <p:spPr>
          <a:xfrm>
            <a:off x="4876920" y="3048120"/>
            <a:ext cx="3733560" cy="2716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8" name="Picture 7" descr="question_mark_3d"/>
          <p:cNvPicPr/>
          <p:nvPr/>
        </p:nvPicPr>
        <p:blipFill>
          <a:blip r:embed="rId3"/>
          <a:stretch/>
        </p:blipFill>
        <p:spPr>
          <a:xfrm>
            <a:off x="3048120" y="228600"/>
            <a:ext cx="3660480" cy="707724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                      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Заработная  плата                                                                                                (дайте определение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В чем состоят причины дифференциации в оплате труда работников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5"/>
          <p:cNvSpPr txBox="1"/>
          <p:nvPr/>
        </p:nvSpPr>
        <p:spPr>
          <a:xfrm>
            <a:off x="228600" y="-152280"/>
            <a:ext cx="5133960" cy="23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alibri"/>
              </a:rPr>
              <a:t>Дайте ответ!!!</a:t>
            </a:r>
            <a:endParaRPr b="1" lang="en-US" sz="6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alibri"/>
              <a:ea typeface="Calibri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4582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Бюджет семьи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Book Antiqua"/>
              </a:rPr>
              <a:t>структура всех доходов и расходов за определенный период времени (месяц или год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question"/>
          <p:cNvPicPr/>
          <p:nvPr/>
        </p:nvPicPr>
        <p:blipFill>
          <a:blip r:embed="rId2"/>
          <a:stretch/>
        </p:blipFill>
        <p:spPr>
          <a:xfrm>
            <a:off x="6541920" y="3962520"/>
            <a:ext cx="2602080" cy="289548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9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QUESTION MARK 4"/>
          <p:cNvPicPr/>
          <p:nvPr/>
        </p:nvPicPr>
        <p:blipFill>
          <a:blip r:embed="rId2"/>
          <a:stretch/>
        </p:blipFill>
        <p:spPr>
          <a:xfrm>
            <a:off x="6662880" y="2209680"/>
            <a:ext cx="2481120" cy="441972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6" descr="1206576288878508735yves_guillou_question"/>
          <p:cNvPicPr/>
          <p:nvPr/>
        </p:nvPicPr>
        <p:blipFill>
          <a:blip r:embed="rId2"/>
          <a:stretch/>
        </p:blipFill>
        <p:spPr>
          <a:xfrm rot="732000">
            <a:off x="7467480" y="4038480"/>
            <a:ext cx="1208160" cy="25956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Задание для 1 групп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89917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остав семь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тец – учитель, з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 за месяц – 25 000 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ать – медсестра, з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 за месяц – 12 000 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абушка – пенсионерка, пенсия – 9 000 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очь – студентка, стипендия  - 2 000 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ын – ученик 5 класса, пособие – 150 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Цель: купить домашний кинотеатр за 65 000 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а какой период семья накопит данную сумму денег!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228600" y="152280"/>
            <a:ext cx="8534520" cy="1524240"/>
          </a:xfrm>
          <a:custGeom>
            <a:avLst/>
            <a:gdLst>
              <a:gd name="textAreaLeft" fmla="*/ 0 w 8534520"/>
              <a:gd name="textAreaRight" fmla="*/ 8534880 w 8534520"/>
              <a:gd name="textAreaTop" fmla="*/ 197280 h 1524240"/>
              <a:gd name="textAreaBottom" fmla="*/ 132696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fee7f2"/>
              </a:gs>
              <a:gs pos="100000">
                <a:srgbClr val="fee7f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doni MT"/>
              </a:rPr>
              <a:t>Внимание!! Не забудьте о расходах на питание,  услуги ЖКХ, одежду, лекарства.</a:t>
            </a: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6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9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2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5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8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1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4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Задание для 2 групп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89917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остав семь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тец – рабочий, з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 за месяц – 19 000 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ать – продавец, з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 за месяц – 10 000 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едушка – пенсионер, пенсия – 15 000 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ын – студент, стипендия  - 900 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ын – ученик 3 класса, пособие – 150 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Цель: купить компьютер за 35 000 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а какой период семья накопит данную сумму денег!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228600" y="304920"/>
            <a:ext cx="8534520" cy="1523880"/>
          </a:xfrm>
          <a:custGeom>
            <a:avLst/>
            <a:gdLst>
              <a:gd name="textAreaLeft" fmla="*/ 0 w 8534520"/>
              <a:gd name="textAreaRight" fmla="*/ 8534880 w 8534520"/>
              <a:gd name="textAreaTop" fmla="*/ 197280 h 1523880"/>
              <a:gd name="textAreaBottom" fmla="*/ 132660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fee7f2"/>
              </a:gs>
              <a:gs pos="100000">
                <a:srgbClr val="fee7f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doni MT"/>
              </a:rPr>
              <a:t>Внимание!! Не забудьте о расходах на питание,  услуги ЖКХ, одежду, лекарства.</a:t>
            </a: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1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4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7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0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3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6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9" dur="5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072"/>
          <p:cNvPicPr/>
          <p:nvPr/>
        </p:nvPicPr>
        <p:blipFill>
          <a:blip r:embed="rId2"/>
          <a:stretch/>
        </p:blipFill>
        <p:spPr>
          <a:xfrm>
            <a:off x="228600" y="228600"/>
            <a:ext cx="4114800" cy="2735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21" name="Picture 7" descr="140905-01865122"/>
          <p:cNvPicPr/>
          <p:nvPr/>
        </p:nvPicPr>
        <p:blipFill>
          <a:blip r:embed="rId3"/>
          <a:stretch/>
        </p:blipFill>
        <p:spPr>
          <a:xfrm>
            <a:off x="2971800" y="1981080"/>
            <a:ext cx="3962520" cy="2689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22" name="Picture 8" descr="a2bba1c554ba2e24c4341a1cf00151c2_XL"/>
          <p:cNvPicPr/>
          <p:nvPr/>
        </p:nvPicPr>
        <p:blipFill>
          <a:blip r:embed="rId4"/>
          <a:stretch/>
        </p:blipFill>
        <p:spPr>
          <a:xfrm>
            <a:off x="4724280" y="3505320"/>
            <a:ext cx="4191120" cy="3068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Цели урока: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olonna MT"/>
              </a:rPr>
              <a:t> </a:t>
            </a:r>
            <a:br>
              <a:rPr sz="32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-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обобщить и закрепить знания учащихся по теме </a:t>
            </a:r>
            <a:r>
              <a:rPr b="1" lang="ru-RU" sz="2400" spc="-1" strike="noStrike" u="sng">
                <a:solidFill>
                  <a:srgbClr val="3333ff"/>
                </a:solidFill>
                <a:uFillTx/>
                <a:latin typeface="Bookman Old Style"/>
              </a:rPr>
              <a:t>« Деньги. Кредиты. Заработанная плата»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- формировать умение коллективно обсуждать рациональность тех или иных затрат и принимать разумное решение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- воспитывать экономность, бережливость, предприимчивость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- побудить интерес к изучению экономики, применять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полученные знания на практ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одо Шефер. Мани, или азбука дене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емного найдется людей, которые не хотели бы разбогатеть. Но некоторые осознают это желание отчетливее, чем большинство. Другие притворяются, что хотели бы быть богатыми лишь в определенных ситуациях. Но, в конечном счете, все хотят быть счастливее, успешнее и — чтобы у них было больше дене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 этом желании нет ничего предосудительного. Ведь быть состоятельным — наше право от рождения. Человек, у которого достаточно денег, сам живет лучше и может принести больше пользы себе и другим. Мысль о том, что ты должен терпеть нехватку средств или даже вести нищенское существование, — одно из худших заблуждений человече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апп.mp3" descr=""/>
          <p:cNvPicPr/>
          <p:nvPr/>
        </p:nvPicPr>
        <p:blipFill>
          <a:blip r:embed="rId2"/>
          <a:stretch/>
        </p:blipFill>
        <p:spPr>
          <a:xfrm>
            <a:off x="838080" y="5943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mediacall" presetID="1">
                                  <p:stCondLst>
                                    <p:cond delay="2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0" dur="652292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Экономика от греческого слова </a:t>
            </a:r>
            <a:r>
              <a:rPr b="1" lang="ru-RU" sz="4000" spc="-1" strike="noStrike" u="sng">
                <a:solidFill>
                  <a:srgbClr val="ffffff"/>
                </a:solidFill>
                <a:uFillTx/>
                <a:latin typeface="Comic Sans MS"/>
              </a:rPr>
              <a:t>«ОЙКОНОМИ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Comic Sans MS"/>
              </a:rPr>
              <a:t>«ОЙКОС»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 - управля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Comic Sans MS"/>
              </a:rPr>
              <a:t>«НЕМ» (НОМ)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 – дом или хозяй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ff0000"/>
                </a:solidFill>
                <a:uFillTx/>
                <a:latin typeface="Baskerville Old Face"/>
              </a:rPr>
              <a:t>Народная мудрость гласит: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ff"/>
                </a:solidFill>
                <a:latin typeface="Bookman Old Style"/>
              </a:rPr>
              <a:t>Не в деньгах счаст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ff"/>
                </a:solidFill>
                <a:latin typeface="Bookman Old Style"/>
              </a:rPr>
              <a:t>Копейка рубль береж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ff"/>
                </a:solidFill>
                <a:latin typeface="Bookman Old Style"/>
              </a:rPr>
              <a:t>Деньги любят сч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ff"/>
                </a:solidFill>
                <a:latin typeface="Bookman Old Style"/>
              </a:rPr>
              <a:t>Захочешь добра - посыпь сереб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ff"/>
                </a:solidFill>
                <a:latin typeface="Bookman Old Style"/>
              </a:rPr>
              <a:t>Тот мудрен, у кого карман ядр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Группа 44 - Миром правят Деньги(OST Стритрейсеры).mp3" descr=""/>
          <p:cNvPicPr/>
          <p:nvPr/>
        </p:nvPicPr>
        <p:blipFill>
          <a:blip r:embed="rId2"/>
          <a:stretch/>
        </p:blipFill>
        <p:spPr>
          <a:xfrm>
            <a:off x="8534520" y="6248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7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7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298864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Organization Chart 18"/>
          <p:cNvGrpSpPr/>
          <p:nvPr/>
        </p:nvGrpSpPr>
        <p:grpSpPr>
          <a:xfrm>
            <a:off x="457200" y="304920"/>
            <a:ext cx="8228880" cy="5789160"/>
            <a:chOff x="457200" y="304920"/>
            <a:chExt cx="8228880" cy="5789160"/>
          </a:xfrm>
        </p:grpSpPr>
        <p:cxnSp>
          <p:nvCxnSpPr>
            <p:cNvPr id="59" name="_s1028"/>
            <p:cNvCxnSpPr>
              <a:stCxn id="60" idx="0"/>
              <a:endCxn id="61" idx="2"/>
            </p:cNvCxnSpPr>
            <p:nvPr/>
          </p:nvCxnSpPr>
          <p:spPr>
            <a:xfrm flipV="1" rot="16200000">
              <a:off x="5592600" y="1598760"/>
              <a:ext cx="1158480" cy="3200760"/>
            </a:xfrm>
            <a:prstGeom prst="bentConnector3">
              <a:avLst>
                <a:gd name="adj1" fmla="val 98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1029"/>
            <p:cNvCxnSpPr>
              <a:stCxn id="63" idx="0"/>
              <a:endCxn id="61" idx="2"/>
            </p:cNvCxnSpPr>
            <p:nvPr/>
          </p:nvCxnSpPr>
          <p:spPr>
            <a:xfrm flipV="1" rot="16200000">
              <a:off x="4525920" y="2665440"/>
              <a:ext cx="1158480" cy="1067040"/>
            </a:xfrm>
            <a:prstGeom prst="bentConnector3">
              <a:avLst>
                <a:gd name="adj1" fmla="val 98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" name="_s1030"/>
            <p:cNvCxnSpPr>
              <a:stCxn id="65" idx="0"/>
              <a:endCxn id="61" idx="2"/>
            </p:cNvCxnSpPr>
            <p:nvPr/>
          </p:nvCxnSpPr>
          <p:spPr>
            <a:xfrm flipH="1" flipV="1" rot="5400000">
              <a:off x="3458880" y="2665440"/>
              <a:ext cx="1158480" cy="1067400"/>
            </a:xfrm>
            <a:prstGeom prst="bentConnector3">
              <a:avLst>
                <a:gd name="adj1" fmla="val 98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6" name="_s1031"/>
            <p:cNvCxnSpPr>
              <a:stCxn id="67" idx="0"/>
              <a:endCxn id="61" idx="2"/>
            </p:cNvCxnSpPr>
            <p:nvPr/>
          </p:nvCxnSpPr>
          <p:spPr>
            <a:xfrm flipH="1" flipV="1" rot="5400000">
              <a:off x="2392200" y="1598760"/>
              <a:ext cx="1158480" cy="3201120"/>
            </a:xfrm>
            <a:prstGeom prst="bentConnector3">
              <a:avLst>
                <a:gd name="adj1" fmla="val 98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1" name="_s1032"/>
            <p:cNvSpPr/>
            <p:nvPr/>
          </p:nvSpPr>
          <p:spPr>
            <a:xfrm>
              <a:off x="3657600" y="304920"/>
              <a:ext cx="1828440" cy="231552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315520"/>
                <a:gd name="textAreaBottom" fmla="*/ 2226600 h 2315520"/>
              </a:gdLst>
              <a:ahLst/>
              <a:rect l="textAreaLeft" t="textAreaTop" r="textAreaRight" b="textAreaBottom"/>
              <a:pathLst>
                <a:path w="21600" h="27353">
                  <a:moveTo>
                    <a:pt x="3600" y="0"/>
                  </a:moveTo>
                  <a:arcTo wR="3600" hR="3600" stAng="16200000" swAng="-5400000"/>
                  <a:lnTo>
                    <a:pt x="0" y="23753"/>
                  </a:lnTo>
                  <a:arcTo wR="3600" hR="3600" stAng="10800000" swAng="-5400000"/>
                  <a:lnTo>
                    <a:pt x="18000" y="273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doni MT"/>
                </a:rPr>
                <a:t>ФУНКЦИИ </a:t>
              </a:r>
              <a:endParaRPr b="0" lang="en-US" sz="24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doni MT"/>
                </a:rPr>
                <a:t>ДЕНЕГ</a:t>
              </a:r>
              <a:endParaRPr b="0" lang="en-US" sz="2400" spc="-1" strike="noStrike">
                <a:solidFill>
                  <a:srgbClr val="000000"/>
                </a:solidFill>
                <a:latin typeface="Bodoni MT"/>
              </a:endParaRPr>
            </a:p>
          </p:txBody>
        </p:sp>
        <p:sp>
          <p:nvSpPr>
            <p:cNvPr id="67" name="_s1033"/>
            <p:cNvSpPr/>
            <p:nvPr/>
          </p:nvSpPr>
          <p:spPr>
            <a:xfrm>
              <a:off x="457200" y="3778560"/>
              <a:ext cx="1828440" cy="231552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315520"/>
                <a:gd name="textAreaBottom" fmla="*/ 2226600 h 2315520"/>
              </a:gdLst>
              <a:ahLst/>
              <a:rect l="textAreaLeft" t="textAreaTop" r="textAreaRight" b="textAreaBottom"/>
              <a:pathLst>
                <a:path w="21600" h="27353">
                  <a:moveTo>
                    <a:pt x="3600" y="0"/>
                  </a:moveTo>
                  <a:arcTo wR="3600" hR="3600" stAng="16200000" swAng="-5400000"/>
                  <a:lnTo>
                    <a:pt x="0" y="23753"/>
                  </a:lnTo>
                  <a:arcTo wR="3600" hR="3600" stAng="10800000" swAng="-5400000"/>
                  <a:lnTo>
                    <a:pt x="18000" y="273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doni MT"/>
                </a:rPr>
                <a:t>Средство </a:t>
              </a:r>
              <a:endParaRPr b="0" lang="en-US" sz="20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doni MT"/>
                </a:rPr>
                <a:t>обмена</a:t>
              </a:r>
              <a:endParaRPr b="0" lang="en-US" sz="20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Bodoni MT"/>
              </a:endParaRPr>
            </a:p>
          </p:txBody>
        </p:sp>
        <p:sp>
          <p:nvSpPr>
            <p:cNvPr id="65" name="_s1034"/>
            <p:cNvSpPr/>
            <p:nvPr/>
          </p:nvSpPr>
          <p:spPr>
            <a:xfrm>
              <a:off x="2590560" y="3778560"/>
              <a:ext cx="1828440" cy="231552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315520"/>
                <a:gd name="textAreaBottom" fmla="*/ 2226600 h 2315520"/>
              </a:gdLst>
              <a:ahLst/>
              <a:rect l="textAreaLeft" t="textAreaTop" r="textAreaRight" b="textAreaBottom"/>
              <a:pathLst>
                <a:path w="21600" h="27353">
                  <a:moveTo>
                    <a:pt x="3600" y="0"/>
                  </a:moveTo>
                  <a:arcTo wR="3600" hR="3600" stAng="16200000" swAng="-5400000"/>
                  <a:lnTo>
                    <a:pt x="0" y="23753"/>
                  </a:lnTo>
                  <a:arcTo wR="3600" hR="3600" stAng="10800000" swAng="-5400000"/>
                  <a:lnTo>
                    <a:pt x="18000" y="273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doni MT"/>
                </a:rPr>
                <a:t>Средство</a:t>
              </a: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doni MT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doni MT"/>
                </a:rPr>
                <a:t>измерения </a:t>
              </a: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doni MT"/>
                </a:rPr>
                <a:t>стоимости </a:t>
              </a: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doni MT"/>
                </a:rPr>
                <a:t>товаров </a:t>
              </a: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doni MT"/>
                </a:rPr>
                <a:t>и услуг</a:t>
              </a: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</p:txBody>
        </p:sp>
        <p:sp>
          <p:nvSpPr>
            <p:cNvPr id="63" name="_s1035"/>
            <p:cNvSpPr/>
            <p:nvPr/>
          </p:nvSpPr>
          <p:spPr>
            <a:xfrm>
              <a:off x="4724280" y="3778560"/>
              <a:ext cx="1828440" cy="231552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315520"/>
                <a:gd name="textAreaBottom" fmla="*/ 2226600 h 2315520"/>
              </a:gdLst>
              <a:ahLst/>
              <a:rect l="textAreaLeft" t="textAreaTop" r="textAreaRight" b="textAreaBottom"/>
              <a:pathLst>
                <a:path w="21600" h="27353">
                  <a:moveTo>
                    <a:pt x="3600" y="0"/>
                  </a:moveTo>
                  <a:arcTo wR="3600" hR="3600" stAng="16200000" swAng="-5400000"/>
                  <a:lnTo>
                    <a:pt x="0" y="23753"/>
                  </a:lnTo>
                  <a:arcTo wR="3600" hR="3600" stAng="10800000" swAng="-5400000"/>
                  <a:lnTo>
                    <a:pt x="18000" y="273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doni MT"/>
                </a:rPr>
                <a:t>Средство </a:t>
              </a: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doni MT"/>
                </a:rPr>
                <a:t>образования</a:t>
              </a: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doni MT"/>
                </a:rPr>
                <a:t>и накопления </a:t>
              </a: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doni MT"/>
                </a:rPr>
                <a:t>сбережений</a:t>
              </a: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</p:txBody>
        </p:sp>
        <p:sp>
          <p:nvSpPr>
            <p:cNvPr id="60" name="_s1036"/>
            <p:cNvSpPr/>
            <p:nvPr/>
          </p:nvSpPr>
          <p:spPr>
            <a:xfrm>
              <a:off x="6857640" y="3778560"/>
              <a:ext cx="1828440" cy="231552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315520"/>
                <a:gd name="textAreaBottom" fmla="*/ 2226600 h 2315520"/>
              </a:gdLst>
              <a:ahLst/>
              <a:rect l="textAreaLeft" t="textAreaTop" r="textAreaRight" b="textAreaBottom"/>
              <a:pathLst>
                <a:path w="21600" h="27353">
                  <a:moveTo>
                    <a:pt x="3600" y="0"/>
                  </a:moveTo>
                  <a:arcTo wR="3600" hR="3600" stAng="16200000" swAng="-5400000"/>
                  <a:lnTo>
                    <a:pt x="0" y="23753"/>
                  </a:lnTo>
                  <a:arcTo wR="3600" hR="3600" stAng="10800000" swAng="-5400000"/>
                  <a:lnTo>
                    <a:pt x="18000" y="273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doni MT"/>
                </a:rPr>
                <a:t>Средство </a:t>
              </a: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doni MT"/>
                </a:rPr>
                <a:t>платежа</a:t>
              </a: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</p:txBody>
        </p:sp>
      </p:grp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оварные деньги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редитные день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личные день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езналичные день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5"/>
          <p:cNvSpPr txBox="1"/>
          <p:nvPr/>
        </p:nvSpPr>
        <p:spPr>
          <a:xfrm>
            <a:off x="114480" y="0"/>
            <a:ext cx="902952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акие виды денег вы знаете?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1" name="AutoShape 6"/>
          <p:cNvSpPr/>
          <p:nvPr/>
        </p:nvSpPr>
        <p:spPr>
          <a:xfrm>
            <a:off x="4267080" y="18288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72" name="AutoShape 7"/>
          <p:cNvSpPr/>
          <p:nvPr/>
        </p:nvSpPr>
        <p:spPr>
          <a:xfrm>
            <a:off x="4495680" y="29718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73" name="AutoShape 8"/>
          <p:cNvSpPr/>
          <p:nvPr/>
        </p:nvSpPr>
        <p:spPr>
          <a:xfrm>
            <a:off x="4343400" y="411480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74" name="AutoShape 9"/>
          <p:cNvSpPr/>
          <p:nvPr/>
        </p:nvSpPr>
        <p:spPr>
          <a:xfrm>
            <a:off x="4952880" y="5334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pic>
        <p:nvPicPr>
          <p:cNvPr id="75" name="Picture 10" descr="Internet-portal-8"/>
          <p:cNvPicPr/>
          <p:nvPr/>
        </p:nvPicPr>
        <p:blipFill>
          <a:blip r:embed="rId3"/>
          <a:stretch/>
        </p:blipFill>
        <p:spPr>
          <a:xfrm>
            <a:off x="7010280" y="3733920"/>
            <a:ext cx="1752840" cy="1166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6" name="Picture 11" descr="1214_017"/>
          <p:cNvPicPr/>
          <p:nvPr/>
        </p:nvPicPr>
        <p:blipFill>
          <a:blip r:embed="rId4"/>
          <a:stretch/>
        </p:blipFill>
        <p:spPr>
          <a:xfrm>
            <a:off x="6781680" y="1143000"/>
            <a:ext cx="1981440" cy="1486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7" name="Picture 12" descr="IMG_2009-12-24-Securities1"/>
          <p:cNvPicPr/>
          <p:nvPr/>
        </p:nvPicPr>
        <p:blipFill>
          <a:blip r:embed="rId5"/>
          <a:stretch/>
        </p:blipFill>
        <p:spPr>
          <a:xfrm>
            <a:off x="5562720" y="2438280"/>
            <a:ext cx="971280" cy="137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8" name="Picture 13" descr="1268138901"/>
          <p:cNvPicPr/>
          <p:nvPr/>
        </p:nvPicPr>
        <p:blipFill>
          <a:blip r:embed="rId6"/>
          <a:stretch/>
        </p:blipFill>
        <p:spPr>
          <a:xfrm>
            <a:off x="5943600" y="4876920"/>
            <a:ext cx="1676520" cy="125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WordArt 4"/>
          <p:cNvSpPr txBox="1"/>
          <p:nvPr/>
        </p:nvSpPr>
        <p:spPr>
          <a:xfrm>
            <a:off x="457200" y="457200"/>
            <a:ext cx="4476600" cy="139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то такое депозит?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" name="WordArt 5"/>
          <p:cNvSpPr txBox="1"/>
          <p:nvPr/>
        </p:nvSpPr>
        <p:spPr>
          <a:xfrm>
            <a:off x="457200" y="5181480"/>
            <a:ext cx="8172360" cy="139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акие виды депозитов вы знаете?!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385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6" dur="385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8" dur="385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0" dur="385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4"/>
          <p:cNvSpPr txBox="1"/>
          <p:nvPr/>
        </p:nvSpPr>
        <p:spPr>
          <a:xfrm>
            <a:off x="1295280" y="228600"/>
            <a:ext cx="64296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d60093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требительский кредит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d60093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AutoShape 22"/>
          <p:cNvSpPr/>
          <p:nvPr/>
        </p:nvSpPr>
        <p:spPr>
          <a:xfrm>
            <a:off x="1219320" y="2362320"/>
            <a:ext cx="1752480" cy="2361960"/>
          </a:xfrm>
          <a:custGeom>
            <a:avLst/>
            <a:gdLst>
              <a:gd name="textAreaLeft" fmla="*/ 85320 w 1752480"/>
              <a:gd name="textAreaRight" fmla="*/ 1667160 w 1752480"/>
              <a:gd name="textAreaTop" fmla="*/ 85320 h 2361960"/>
              <a:gd name="textAreaBottom" fmla="*/ 2276640 h 2361960"/>
            </a:gdLst>
            <a:ahLst/>
            <a:rect l="textAreaLeft" t="textAreaTop" r="textAreaRight" b="textAreaBottom"/>
            <a:pathLst>
              <a:path w="21600" h="29111">
                <a:moveTo>
                  <a:pt x="3600" y="0"/>
                </a:moveTo>
                <a:arcTo wR="3600" hR="3600" stAng="16200000" swAng="-5400000"/>
                <a:lnTo>
                  <a:pt x="0" y="25511"/>
                </a:lnTo>
                <a:arcTo wR="3600" hR="3600" stAng="10800000" swAng="-5400000"/>
                <a:lnTo>
                  <a:pt x="18000" y="291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Целевой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85" name="AutoShape 23"/>
          <p:cNvSpPr/>
          <p:nvPr/>
        </p:nvSpPr>
        <p:spPr>
          <a:xfrm>
            <a:off x="3657600" y="2362320"/>
            <a:ext cx="1752480" cy="2361960"/>
          </a:xfrm>
          <a:custGeom>
            <a:avLst/>
            <a:gdLst>
              <a:gd name="textAreaLeft" fmla="*/ 85320 w 1752480"/>
              <a:gd name="textAreaRight" fmla="*/ 1667160 w 1752480"/>
              <a:gd name="textAreaTop" fmla="*/ 85320 h 2361960"/>
              <a:gd name="textAreaBottom" fmla="*/ 2276640 h 2361960"/>
            </a:gdLst>
            <a:ahLst/>
            <a:rect l="textAreaLeft" t="textAreaTop" r="textAreaRight" b="textAreaBottom"/>
            <a:pathLst>
              <a:path w="21600" h="29111">
                <a:moveTo>
                  <a:pt x="3600" y="0"/>
                </a:moveTo>
                <a:arcTo wR="3600" hR="3600" stAng="16200000" swAng="-5400000"/>
                <a:lnTo>
                  <a:pt x="0" y="25511"/>
                </a:lnTo>
                <a:arcTo wR="3600" hR="3600" stAng="10800000" swAng="-5400000"/>
                <a:lnTo>
                  <a:pt x="18000" y="291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3333ff"/>
              </a:gs>
              <a:gs pos="50000">
                <a:srgbClr val="ffffff"/>
              </a:gs>
              <a:gs pos="100000">
                <a:srgbClr val="3333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Личный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86" name="AutoShape 24"/>
          <p:cNvSpPr/>
          <p:nvPr/>
        </p:nvSpPr>
        <p:spPr>
          <a:xfrm>
            <a:off x="6095880" y="2362320"/>
            <a:ext cx="1752840" cy="2361960"/>
          </a:xfrm>
          <a:custGeom>
            <a:avLst/>
            <a:gdLst>
              <a:gd name="textAreaLeft" fmla="*/ 85320 w 1752840"/>
              <a:gd name="textAreaRight" fmla="*/ 1667520 w 1752840"/>
              <a:gd name="textAreaTop" fmla="*/ 85320 h 2361960"/>
              <a:gd name="textAreaBottom" fmla="*/ 2276640 h 2361960"/>
            </a:gdLst>
            <a:ahLst/>
            <a:rect l="textAreaLeft" t="textAreaTop" r="textAreaRight" b="textAreaBottom"/>
            <a:pathLst>
              <a:path w="21600" h="29105">
                <a:moveTo>
                  <a:pt x="3600" y="0"/>
                </a:moveTo>
                <a:arcTo wR="3600" hR="3600" stAng="16200000" swAng="-5400000"/>
                <a:lnTo>
                  <a:pt x="0" y="25505"/>
                </a:lnTo>
                <a:arcTo wR="3600" hR="3600" stAng="10800000" swAng="-5400000"/>
                <a:lnTo>
                  <a:pt x="18000" y="29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d60093"/>
              </a:gs>
              <a:gs pos="50000">
                <a:srgbClr val="ffffff"/>
              </a:gs>
              <a:gs pos="100000">
                <a:srgbClr val="d60093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Ипотечный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87" name="Oval 27"/>
          <p:cNvSpPr/>
          <p:nvPr/>
        </p:nvSpPr>
        <p:spPr>
          <a:xfrm>
            <a:off x="1752480" y="1905120"/>
            <a:ext cx="685800" cy="68580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doni MT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88" name="Oval 28"/>
          <p:cNvSpPr/>
          <p:nvPr/>
        </p:nvSpPr>
        <p:spPr>
          <a:xfrm>
            <a:off x="4191120" y="1905120"/>
            <a:ext cx="685800" cy="68580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doni MT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89" name="Oval 29"/>
          <p:cNvSpPr/>
          <p:nvPr/>
        </p:nvSpPr>
        <p:spPr>
          <a:xfrm>
            <a:off x="6629400" y="1905120"/>
            <a:ext cx="685800" cy="685800"/>
          </a:xfrm>
          <a:prstGeom prst="ellipse">
            <a:avLst/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doni MT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90" name="Rectangle 30"/>
          <p:cNvSpPr/>
          <p:nvPr/>
        </p:nvSpPr>
        <p:spPr>
          <a:xfrm>
            <a:off x="5245200" y="3537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91" name="WordArt 31"/>
          <p:cNvSpPr txBox="1"/>
          <p:nvPr/>
        </p:nvSpPr>
        <p:spPr>
          <a:xfrm>
            <a:off x="609480" y="5562720"/>
            <a:ext cx="7658280" cy="89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асскажите об этих видах кредита!!!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9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aramond"/>
              </a:rPr>
              <a:t>Назовите причины широкого распространения потребительских кредитов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3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4T08:18:21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