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drumroll.wav" ContentType="audio/x-wav"/>
  <Override PartName="/ppt/media/push.wav" ContentType="audio/x-wav"/>
  <Override PartName="/ppt/media/whoosh.wav" ContentType="audio/x-wav"/>
  <Override PartName="/ppt/media/suction.wav" ContentType="audio/x-wav"/>
  <Override PartName="/ppt/media/image4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D2DD4-2D03-489B-8BE2-75CF6D42A4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3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, предложение и рыночное равновес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3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, предложение и рыночное равновесие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изшие» това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ормальные» това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кусы и предпочтения потреби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заменяемые това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полняющие това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ние изменения доходов и ц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числа покупа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изшие» товары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ормальные» товары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кусы и предпочтения потребителей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заменяемые товары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полняющие товары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ние изменения доходов и цен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числа покупателей.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supply, S) — количество товара, которое продавцы готовы продать на рынке по определенной цен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е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supply, S) — количество товара, которое продавцы готовы продать на рынке по определенной цене. 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влияющ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предло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овые фак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ценовые фак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цены при неизменности других факторов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других факторов при неизменной цене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яют величину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яют функцию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влияющ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предложение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овые факторы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ценовые факторы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цены при неизменности других факторов– 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других факторов при неизменной цене– 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яют величину предложения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яют функцию предложения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е: изменение це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е: изменение цены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law of supply) — величина предложения находится в прямой зависимост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 цены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ше цена — выше предло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же цена — ниже предло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предложения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law of supply) — величина предложения находится в прямой зависимост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 цены: 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ше цена — выше предложение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же цена — ниже предложение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law of supply) — величина предложения находится в прямой зависимости от цены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ше цен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выше предло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же цена — ниже предло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предложения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law of supply) — величина предложения находится в прямой зависимости от цены: 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ше цен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выше предложение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же цена — ниже предложение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функции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функции предложения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 предложения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ценовые фак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 объемов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условий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ы на другие това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очт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ценовые факторы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 объемов производств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условий производств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ы на другие товары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очтения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ния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чное равновес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фиц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чное равновес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лиш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фиц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чное равновесие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фицит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чное равновесие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лишек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фицит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фики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женкин Флемин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833-1885), английский инженер и экономист, впервые представил спрос и предложен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виде пересекающихся графиков. Он ж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обрел канатные дороги. На фоне эскиза такой дороги он показан на рисун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фики спроса и предложения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женкин Флеминг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833-1885), английский инженер и экономист, впервые представил спрос и предложен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виде пересекающихся графиков. Он ж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обрел канатные дороги. На фоне эскиза такой дороги он показан на рисунке.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market) — сфера  устойчивого обмена эквивалентными ценностя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ера, а не определенное мес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ера устойчивого  обме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ера обмена, а не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мен эквивалентными ценностями, ценность которых ра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market) — сфера  устойчивого обмена эквивалентными ценностями. 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ера, а не определенное место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ера устойчивого  обмена 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ера обмена, а не производств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мен эквивалентными ценностями, ценность которых равн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рыночного равнове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 колич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 це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вновесная ц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колич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ая равновесная цен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колич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рыночного равновесия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 количеств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 цены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 спрос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вновесная цен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количество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ая равновесная цен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количество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— сфера свободног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устойчивого обмена равноценными товарами, услугами и фактора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х производ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возникает в результате разделения труда — специализа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производстве определенных товаров и услуг, которыми производители обмениваются для удовлетворения своих потребнос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ы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— сфера свободног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устойчивого обмена равноценными товарами, услугами и фактора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х производства. 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возникает в результате разделения труда — специализа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производстве определенных товаров и услуг, которыми производители обмениваются для удовлетворения своих потребностей.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— количество товара, которое продавцы готовы продать на рынке по определенной цен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находится в обратной зависимости от цены товара: выше цена — ниже спро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е — количество товара, которое поставляется на рынок при определенной цен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о находится в прямой зависимости от цены: выше цена — больше предлож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чное равновесие возникает, когда спрос равен предложени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чный механизм автоматически устраняет избыток и дефицит товаров и устанавливает равновесную цен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ы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— количество товара, которое продавцы готовы продать на рынке по определенной цене.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находится в обратной зависимости от цены товара: выше цена — ниже спрос.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е — количество товара, которое поставляется на рынок при определенной цене. 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о находится в прямой зависимости от цены: выше цена — больше предложение.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чное равновесие возникает, когда спрос равен предложению. 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чный механизм автоматически устраняет избыток и дефицит товаров и устанавливает равновесную цену.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астичность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астичность означает степень чувствительности изменений одной величины на изменение другой велич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эффициент эластичности показывает на сколько процентов изменяется спрос в ответ на однопроцентное изменение цен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астичность спрос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астичность означает степень чувствительности изменений одной величины на изменение другой величины.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эффициент эластичности показывает на сколько процентов изменяется спрос в ответ на однопроцентное изменение цены. 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и варианта ценовой эластичности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астичный, когда изменение объема спроса больше изменения це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единичной эластичности, когда изменения объема спроса равны изменению це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эластичный спрос, когда изменение объема спроса меньше изменения це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и варианта ценовой эластичности спрос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астичный, когда изменение объема спроса больше изменения цены 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единичной эластичности, когда изменения объема спроса равны изменению цены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эластичный спрос, когда изменение объема спроса меньше изменения цены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эластичности спроса по це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заменимость това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чимость товара для потреби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сто товара в структуре потреб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эластичности спроса по цене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заменимость товар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чимость товара для потребителя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сто товара в структуре потребления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я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(market) – сфера свободного и устойчивого обмена равноценными товарами, услугами и факторами их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(demand, D ) – количество товара, которое покупатели готовы приобрести на рынке по определенной цен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спроса(law of demand) – величина спроса находится в обратной зависимости от цены: чем выше цена, тем ниже величина спроса, и наоборо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е(supply, S) – количество товара, которое продавцы готовы продать на рынке по определенной цен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предложения (law of supply) – величина предложения находится в прямой зависимости от цены: чем выше цена, тем выше предложение и наоборо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я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(market) – сфера свободного и устойчивого обмена равноценными товарами, услугами и факторами их производств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(demand, D ) – количество товара, которое покупатели готовы приобрести на рынке по определенной цене.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спроса(law of demand) – величина спроса находится в обратной зависимости от цены: чем выше цена, тем ниже величина спроса, и наоборот.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е(supply, S) – количество товара, которое продавцы готовы продать на рынке по определенной цене.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предложения (law of supply) – величина предложения находится в прямой зависимости от цены: чем выше цена, тем выше предложение и наоборот.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чное равновесие (market equilibrium) - равенство спроса и предложения на рынке определенного това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а (price) – пропорция обмена товара на деньги, если цена выражена в деньгах, или альтернативная стоимость, если цена выражена в другом товар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я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чное равновесие (market equilibrium) - равенство спроса и предложения на рынке определенного товара.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а (price) – пропорция обмена товара на деньги, если цена выражена в деньгах, или альтернативная стоимость, если цена выражена в другом товаре.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е «Спрос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Выберите правильный отв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чиной увеличения спроса на роликовые коньки может бы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ожидание наступления дожд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ие цен на подшипн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ближение летних канику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орожание апельсинового с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е «Спрос»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Выберите правильный ответ: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чиной увеличения спроса на роликовые коньки может быть: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ожидание наступления дождей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ие цен на подшипн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ближение летних каникул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орожание апельсинового сок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ерите пару товаров-заменителе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мобильные покрышки и бенз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ьевые ручки и черни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жинсы и футбол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сло и маргар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ерите пару товаров-заменителей: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мобильные покрышки и бензин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ьевые ручки и чернил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жинсы и футбол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сло и маргарин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demand, D) — количество товара, которое покупатели готовы приобрести на рынк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определенной цене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demand, D) — количество товара, которое покупатели готовы приобрести на рынк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определенной цене.  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влияющие на спр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овые фак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ценовые фак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цены при неизменности других факторов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других факторов при неизменной цене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яют величину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яют функцию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влияющие на спрос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овые факторы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ценовые факторы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цены при неизменности других факторов– 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других факторов при неизменной цене– 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яют величину спрос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яют функцию спрос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величины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величины спрос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law of demand) — величина спроса находится в обратной зависимости от цены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ше ц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же спр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ше спр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же ц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спрос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law of demand) — величина спроса находится в обратной зависимости от цены: 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ше цен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же спрос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ше спрос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же цен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ценовые фак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ло покупа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ходы покупа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ы на другие това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очт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ценовые факторы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ло покупателей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ходы покупателей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ы на другие товары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очтения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ния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овой барь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 дох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 замещ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убывания предельной полез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ключение из правил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 Гиффена(повышение цены ведет к повышению величины спрос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овой барьер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 доход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 замещения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убывания предельной полезност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ключение из правила: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 Гиффена(повышение цены ведет к повышению величины спроса)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функции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функции спрос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 спрос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FCA12-EA8C-469C-8ECE-D21EA6AE0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E0D52-0465-49AD-8EBF-76315A427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3EC9B-29EC-4D24-B6E8-1B30C0050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BD1D0-8A83-4CC8-8856-AAAEADB6F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9B440-3435-48F7-8DB3-9A1E3D679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F502B-43D3-4077-A542-D6EF4233A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EE76D-257B-4C2A-8569-B74087250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E5BCA-BCE0-4EA0-9234-3F7E3CC36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DE203-9C8D-4331-9107-9DED17AF1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4E5A0-A423-4E34-90BF-28AB397D8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42567-EE17-492A-9DA5-0D37E96F8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03211-E154-4A16-B9AD-4A6496959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D7A15-17DF-41FC-82AA-D6BA8A9CC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5CF08-6E3C-4788-8E08-3DE2683B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ECD69-5F78-42E1-94C2-7B4D2E5F7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BCF68-C163-4CF0-ADF5-D83838988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081CA-D0BB-4DE3-84AB-3EDD64578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1080F-0AB0-4623-B17D-5FD745FA4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B736C-B367-4A07-9B98-1F87DE241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213D3-682D-4131-AD57-E097FD065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F8434-A35C-4E98-BEBB-A0C91FBC2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9694C-B511-49E2-89C7-9CEDAA1B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3F360-3B3A-4E81-AF03-01F1C866F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CF9B1-87E1-4FB1-AB5E-BBB5E1374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477120"/>
            <a:ext cx="2514600" cy="2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Глава 1. Принципы экономик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B3FC8-0CE4-468B-8646-1F558C23ADD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Arial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Arial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Arial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Arial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Arial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Arial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Arial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477120"/>
            <a:ext cx="25909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Глава 1. Принципы экономик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477120"/>
            <a:ext cx="2895840" cy="2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5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3ADBB-C227-4001-A99A-0A62479D11D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zt.ru/img/20070109213354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audio" Target="../media/push.wav"/><Relationship Id="rId4" Type="http://schemas.openxmlformats.org/officeDocument/2006/relationships/audio" Target="../media/whoosh.wav"/><Relationship Id="rId5" Type="http://schemas.openxmlformats.org/officeDocument/2006/relationships/audio" Target="../media/suction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Глава 3 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Спрос, предложение и рыночное равновесие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523880" y="2286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Picture 6" descr="2007010921335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3124080"/>
            <a:ext cx="373356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«Низшие» товар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«Нормальные» товар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кусы и предпочтения потребител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заимозаменяемые товар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ополняющие товар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жидание изменения доходов и це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зменение числа покупателе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редложени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upply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) — количество товара, которое продавцы готовы продать на рынке по определенной цене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Факторы, влияющие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на предложение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1219320" y="2133720"/>
            <a:ext cx="320040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Ценовые факторы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4724280" y="2133720"/>
            <a:ext cx="320040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ценовые факторы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1219320" y="3048120"/>
            <a:ext cx="3200400" cy="100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изменение цены при неизменности других факторов–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724280" y="3048120"/>
            <a:ext cx="3200400" cy="100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изменение других факторов при неизменной цене–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219320" y="4495680"/>
            <a:ext cx="3200400" cy="703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ределяют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еличину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предложения</a:t>
            </a:r>
            <a:endParaRPr b="0" lang="en-US" sz="20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4724280" y="4495680"/>
            <a:ext cx="3200400" cy="703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ределяют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функцию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предложения</a:t>
            </a:r>
            <a:endParaRPr b="0" lang="en-US" sz="20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Предложение: изменение цены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93" name="Object 3"/>
          <p:cNvGraphicFramePr/>
          <p:nvPr/>
        </p:nvGraphicFramePr>
        <p:xfrm>
          <a:off x="1676520" y="914400"/>
          <a:ext cx="5790960" cy="545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914400"/>
                    <a:ext cx="5790960" cy="54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Line 4"/>
          <p:cNvSpPr/>
          <p:nvPr/>
        </p:nvSpPr>
        <p:spPr>
          <a:xfrm>
            <a:off x="2209680" y="472428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96" name="Line 5"/>
          <p:cNvSpPr/>
          <p:nvPr/>
        </p:nvSpPr>
        <p:spPr>
          <a:xfrm>
            <a:off x="4724280" y="472428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97" name="Line 6"/>
          <p:cNvSpPr/>
          <p:nvPr/>
        </p:nvSpPr>
        <p:spPr>
          <a:xfrm>
            <a:off x="5715000" y="3886200"/>
            <a:ext cx="0" cy="1752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98" name="Line 7"/>
          <p:cNvSpPr/>
          <p:nvPr/>
        </p:nvSpPr>
        <p:spPr>
          <a:xfrm>
            <a:off x="2286000" y="3886200"/>
            <a:ext cx="3352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99" name="Freeform 8"/>
          <p:cNvSpPr/>
          <p:nvPr/>
        </p:nvSpPr>
        <p:spPr>
          <a:xfrm rot="16468200">
            <a:off x="2740680" y="1373400"/>
            <a:ext cx="3963960" cy="3810240"/>
          </a:xfrm>
          <a:custGeom>
            <a:avLst/>
            <a:gdLst>
              <a:gd name="textAreaLeft" fmla="*/ 0 w 3963960"/>
              <a:gd name="textAreaRight" fmla="*/ 3964320 w 3963960"/>
              <a:gd name="textAreaTop" fmla="*/ 0 h 3810240"/>
              <a:gd name="textAreaBottom" fmla="*/ 3810600 h 3810240"/>
            </a:gdLst>
            <a:ahLst/>
            <a:rect l="textAreaLeft" t="textAreaTop" r="textAreaRight" b="textAreaBottom"/>
            <a:pathLst>
              <a:path w="2496" h="2208">
                <a:moveTo>
                  <a:pt x="0" y="0"/>
                </a:moveTo>
                <a:cubicBezTo>
                  <a:pt x="40" y="392"/>
                  <a:pt x="80" y="784"/>
                  <a:pt x="288" y="1104"/>
                </a:cubicBezTo>
                <a:cubicBezTo>
                  <a:pt x="496" y="1424"/>
                  <a:pt x="880" y="1736"/>
                  <a:pt x="1248" y="1920"/>
                </a:cubicBezTo>
                <a:cubicBezTo>
                  <a:pt x="1616" y="2104"/>
                  <a:pt x="2288" y="2160"/>
                  <a:pt x="2496" y="2208"/>
                </a:cubicBezTo>
              </a:path>
            </a:pathLst>
          </a:custGeom>
          <a:noFill/>
          <a:ln w="63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00" name="AutoShape 9"/>
          <p:cNvSpPr/>
          <p:nvPr/>
        </p:nvSpPr>
        <p:spPr>
          <a:xfrm>
            <a:off x="4648320" y="4648320"/>
            <a:ext cx="152280" cy="15228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01" name="AutoShape 11"/>
          <p:cNvSpPr/>
          <p:nvPr/>
        </p:nvSpPr>
        <p:spPr>
          <a:xfrm>
            <a:off x="5638680" y="3809880"/>
            <a:ext cx="152640" cy="1526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02" name="Text Box 12"/>
          <p:cNvSpPr/>
          <p:nvPr/>
        </p:nvSpPr>
        <p:spPr>
          <a:xfrm>
            <a:off x="1295280" y="1143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03" name="Text Box 13"/>
          <p:cNvSpPr/>
          <p:nvPr/>
        </p:nvSpPr>
        <p:spPr>
          <a:xfrm>
            <a:off x="739152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04" name="Line 14"/>
          <p:cNvSpPr/>
          <p:nvPr/>
        </p:nvSpPr>
        <p:spPr>
          <a:xfrm>
            <a:off x="2209680" y="1676520"/>
            <a:ext cx="4343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05" name="Line 15"/>
          <p:cNvSpPr/>
          <p:nvPr/>
        </p:nvSpPr>
        <p:spPr>
          <a:xfrm>
            <a:off x="6705720" y="1676520"/>
            <a:ext cx="0" cy="4038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06" name="Text Box 16"/>
          <p:cNvSpPr/>
          <p:nvPr/>
        </p:nvSpPr>
        <p:spPr>
          <a:xfrm>
            <a:off x="5334120" y="35812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07" name="Text Box 18"/>
          <p:cNvSpPr/>
          <p:nvPr/>
        </p:nvSpPr>
        <p:spPr>
          <a:xfrm>
            <a:off x="6172200" y="1295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08" name="AutoShape 20"/>
          <p:cNvSpPr/>
          <p:nvPr/>
        </p:nvSpPr>
        <p:spPr>
          <a:xfrm>
            <a:off x="6629400" y="1600200"/>
            <a:ext cx="152280" cy="15228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09" name="Text Box 21"/>
          <p:cNvSpPr/>
          <p:nvPr/>
        </p:nvSpPr>
        <p:spPr>
          <a:xfrm>
            <a:off x="2362320" y="457200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66ff"/>
                </a:solidFill>
                <a:latin typeface="Arial"/>
              </a:rPr>
              <a:t>S</a:t>
            </a:r>
            <a:endParaRPr b="0" lang="en-US" sz="36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10" name="Line 33"/>
          <p:cNvSpPr/>
          <p:nvPr/>
        </p:nvSpPr>
        <p:spPr>
          <a:xfrm>
            <a:off x="6705720" y="1752480"/>
            <a:ext cx="0" cy="388620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11" name="Line 34"/>
          <p:cNvSpPr/>
          <p:nvPr/>
        </p:nvSpPr>
        <p:spPr>
          <a:xfrm flipV="1">
            <a:off x="2362320" y="1676520"/>
            <a:ext cx="4343400" cy="1584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12" name="Line 35"/>
          <p:cNvSpPr/>
          <p:nvPr/>
        </p:nvSpPr>
        <p:spPr>
          <a:xfrm>
            <a:off x="5715000" y="3962520"/>
            <a:ext cx="0" cy="167616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13" name="Line 36"/>
          <p:cNvSpPr/>
          <p:nvPr/>
        </p:nvSpPr>
        <p:spPr>
          <a:xfrm>
            <a:off x="2286000" y="3886200"/>
            <a:ext cx="3338640" cy="144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14" name="Line 37"/>
          <p:cNvSpPr/>
          <p:nvPr/>
        </p:nvSpPr>
        <p:spPr>
          <a:xfrm>
            <a:off x="2195640" y="4754520"/>
            <a:ext cx="2485800" cy="180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15" name="Line 38"/>
          <p:cNvSpPr/>
          <p:nvPr/>
        </p:nvSpPr>
        <p:spPr>
          <a:xfrm>
            <a:off x="4724280" y="4800600"/>
            <a:ext cx="0" cy="83808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1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3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3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Закон предложени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w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f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upply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) — величина предложения находится в прямой зависимости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от цены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выше цена — выше предлож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ниже цена — ниже предлож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Закон предложени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w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f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upply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) — величина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предложения находится в прямой зависимости от цены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выше цена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— выше предлож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ниже цена — ниже предлож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30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300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Изменение функции предложения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24" name="Object 3"/>
          <p:cNvGraphicFramePr/>
          <p:nvPr/>
        </p:nvGraphicFramePr>
        <p:xfrm>
          <a:off x="1676520" y="914400"/>
          <a:ext cx="5790960" cy="545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914400"/>
                    <a:ext cx="5790960" cy="54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Line 6"/>
          <p:cNvSpPr/>
          <p:nvPr/>
        </p:nvSpPr>
        <p:spPr>
          <a:xfrm>
            <a:off x="5715000" y="3886200"/>
            <a:ext cx="0" cy="1752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27" name="Line 7"/>
          <p:cNvSpPr/>
          <p:nvPr/>
        </p:nvSpPr>
        <p:spPr>
          <a:xfrm>
            <a:off x="2286000" y="3886200"/>
            <a:ext cx="3352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28" name="Freeform 8"/>
          <p:cNvSpPr/>
          <p:nvPr/>
        </p:nvSpPr>
        <p:spPr>
          <a:xfrm rot="16468200">
            <a:off x="2704320" y="1409760"/>
            <a:ext cx="3963960" cy="3733560"/>
          </a:xfrm>
          <a:custGeom>
            <a:avLst/>
            <a:gdLst>
              <a:gd name="textAreaLeft" fmla="*/ 0 w 3963960"/>
              <a:gd name="textAreaRight" fmla="*/ 3964320 w 3963960"/>
              <a:gd name="textAreaTop" fmla="*/ 0 h 3733560"/>
              <a:gd name="textAreaBottom" fmla="*/ 3733920 h 3733560"/>
            </a:gdLst>
            <a:ahLst/>
            <a:rect l="textAreaLeft" t="textAreaTop" r="textAreaRight" b="textAreaBottom"/>
            <a:pathLst>
              <a:path w="2496" h="2208">
                <a:moveTo>
                  <a:pt x="0" y="0"/>
                </a:moveTo>
                <a:cubicBezTo>
                  <a:pt x="40" y="392"/>
                  <a:pt x="80" y="784"/>
                  <a:pt x="288" y="1104"/>
                </a:cubicBezTo>
                <a:cubicBezTo>
                  <a:pt x="496" y="1424"/>
                  <a:pt x="880" y="1736"/>
                  <a:pt x="1248" y="1920"/>
                </a:cubicBezTo>
                <a:cubicBezTo>
                  <a:pt x="1616" y="2104"/>
                  <a:pt x="2288" y="2160"/>
                  <a:pt x="2496" y="2208"/>
                </a:cubicBezTo>
              </a:path>
            </a:pathLst>
          </a:custGeom>
          <a:noFill/>
          <a:ln w="63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29" name="AutoShape 10"/>
          <p:cNvSpPr/>
          <p:nvPr/>
        </p:nvSpPr>
        <p:spPr>
          <a:xfrm>
            <a:off x="5638680" y="3809880"/>
            <a:ext cx="152640" cy="1526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30" name="Text Box 11"/>
          <p:cNvSpPr/>
          <p:nvPr/>
        </p:nvSpPr>
        <p:spPr>
          <a:xfrm>
            <a:off x="1295280" y="1143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31" name="Text Box 12"/>
          <p:cNvSpPr/>
          <p:nvPr/>
        </p:nvSpPr>
        <p:spPr>
          <a:xfrm>
            <a:off x="739152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32" name="Text Box 15"/>
          <p:cNvSpPr/>
          <p:nvPr/>
        </p:nvSpPr>
        <p:spPr>
          <a:xfrm>
            <a:off x="5486400" y="3429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514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33" name="Text Box 20"/>
          <p:cNvSpPr/>
          <p:nvPr/>
        </p:nvSpPr>
        <p:spPr>
          <a:xfrm>
            <a:off x="5943600" y="16002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66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34" name="Line 28"/>
          <p:cNvSpPr/>
          <p:nvPr/>
        </p:nvSpPr>
        <p:spPr>
          <a:xfrm>
            <a:off x="6705720" y="3962520"/>
            <a:ext cx="0" cy="1752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35" name="Text Box 29"/>
          <p:cNvSpPr/>
          <p:nvPr/>
        </p:nvSpPr>
        <p:spPr>
          <a:xfrm>
            <a:off x="6400800" y="34290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514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36" name="Text Box 30"/>
          <p:cNvSpPr/>
          <p:nvPr/>
        </p:nvSpPr>
        <p:spPr>
          <a:xfrm>
            <a:off x="6629400" y="1981080"/>
            <a:ext cx="68580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66ff"/>
                </a:solidFill>
                <a:latin typeface="Arial"/>
              </a:rPr>
              <a:t>S</a:t>
            </a:r>
            <a:r>
              <a:rPr b="1" lang="en-US" sz="2000" spc="-1" strike="noStrike" baseline="-25000">
                <a:solidFill>
                  <a:srgbClr val="6666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37" name="AutoShape 18"/>
          <p:cNvSpPr/>
          <p:nvPr/>
        </p:nvSpPr>
        <p:spPr>
          <a:xfrm>
            <a:off x="6629400" y="3809880"/>
            <a:ext cx="152280" cy="1526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38" name="Line 33"/>
          <p:cNvSpPr/>
          <p:nvPr/>
        </p:nvSpPr>
        <p:spPr>
          <a:xfrm>
            <a:off x="5791320" y="38862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39" name="Line 34"/>
          <p:cNvSpPr/>
          <p:nvPr/>
        </p:nvSpPr>
        <p:spPr>
          <a:xfrm>
            <a:off x="5791320" y="3886200"/>
            <a:ext cx="838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40" name="AutoShape 35"/>
          <p:cNvSpPr/>
          <p:nvPr/>
        </p:nvSpPr>
        <p:spPr>
          <a:xfrm>
            <a:off x="2514600" y="2666880"/>
            <a:ext cx="2362320" cy="381240"/>
          </a:xfrm>
          <a:prstGeom prst="borderCallout1">
            <a:avLst>
              <a:gd name="adj1" fmla="val 18750"/>
              <a:gd name="adj2" fmla="val -8333"/>
              <a:gd name="adj3" fmla="val 320000"/>
              <a:gd name="adj4" fmla="val 154837"/>
            </a:avLst>
          </a:prstGeom>
          <a:solidFill>
            <a:srgbClr val="0099cc"/>
          </a:solidFill>
          <a:ln w="9360">
            <a:solidFill>
              <a:srgbClr val="000514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ост предложения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3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3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3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3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022E-016 2.22222E-006 L 0.1125 2.22222E-006 E">
                                      <p:cBhvr>
                                        <p:cTn id="205" dur="2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3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3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5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6" dur="30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30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Неценовые фактор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ост объемов производст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Улучшение условий производст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Цены на другие товар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едпочте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жида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ыночное равновеси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46" name="Object 3"/>
          <p:cNvGraphicFramePr/>
          <p:nvPr/>
        </p:nvGraphicFramePr>
        <p:xfrm>
          <a:off x="1676520" y="914400"/>
          <a:ext cx="5715000" cy="538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914400"/>
                    <a:ext cx="5715000" cy="53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Freeform 6"/>
          <p:cNvSpPr/>
          <p:nvPr/>
        </p:nvSpPr>
        <p:spPr>
          <a:xfrm>
            <a:off x="2743200" y="1676520"/>
            <a:ext cx="3962520" cy="3504960"/>
          </a:xfrm>
          <a:custGeom>
            <a:avLst/>
            <a:gdLst>
              <a:gd name="textAreaLeft" fmla="*/ 0 w 3962520"/>
              <a:gd name="textAreaRight" fmla="*/ 3962880 w 3962520"/>
              <a:gd name="textAreaTop" fmla="*/ 0 h 3504960"/>
              <a:gd name="textAreaBottom" fmla="*/ 3505320 h 3504960"/>
            </a:gdLst>
            <a:ahLst/>
            <a:rect l="textAreaLeft" t="textAreaTop" r="textAreaRight" b="textAreaBottom"/>
            <a:pathLst>
              <a:path w="2496" h="2208">
                <a:moveTo>
                  <a:pt x="0" y="0"/>
                </a:moveTo>
                <a:cubicBezTo>
                  <a:pt x="40" y="392"/>
                  <a:pt x="80" y="784"/>
                  <a:pt x="288" y="1104"/>
                </a:cubicBezTo>
                <a:cubicBezTo>
                  <a:pt x="496" y="1424"/>
                  <a:pt x="880" y="1736"/>
                  <a:pt x="1248" y="1920"/>
                </a:cubicBezTo>
                <a:cubicBezTo>
                  <a:pt x="1616" y="2104"/>
                  <a:pt x="2288" y="2160"/>
                  <a:pt x="2496" y="2208"/>
                </a:cubicBezTo>
              </a:path>
            </a:pathLst>
          </a:custGeom>
          <a:noFill/>
          <a:ln w="633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1295280" y="1143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50" name="Text Box 10"/>
          <p:cNvSpPr/>
          <p:nvPr/>
        </p:nvSpPr>
        <p:spPr>
          <a:xfrm>
            <a:off x="4648320" y="42670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51" name="Text Box 11"/>
          <p:cNvSpPr/>
          <p:nvPr/>
        </p:nvSpPr>
        <p:spPr>
          <a:xfrm>
            <a:off x="6019920" y="3505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52" name="Text Box 16"/>
          <p:cNvSpPr/>
          <p:nvPr/>
        </p:nvSpPr>
        <p:spPr>
          <a:xfrm>
            <a:off x="6629400" y="1447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53" name="Text Box 17"/>
          <p:cNvSpPr/>
          <p:nvPr/>
        </p:nvSpPr>
        <p:spPr>
          <a:xfrm>
            <a:off x="2819520" y="14479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54" name="Freeform 18"/>
          <p:cNvSpPr/>
          <p:nvPr/>
        </p:nvSpPr>
        <p:spPr>
          <a:xfrm rot="16468200">
            <a:off x="2646360" y="1347480"/>
            <a:ext cx="3846600" cy="4113000"/>
          </a:xfrm>
          <a:custGeom>
            <a:avLst/>
            <a:gdLst>
              <a:gd name="textAreaLeft" fmla="*/ 0 w 3846600"/>
              <a:gd name="textAreaRight" fmla="*/ 3846960 w 3846600"/>
              <a:gd name="textAreaTop" fmla="*/ 0 h 4113000"/>
              <a:gd name="textAreaBottom" fmla="*/ 4113360 h 4113000"/>
            </a:gdLst>
            <a:ahLst/>
            <a:rect l="textAreaLeft" t="textAreaTop" r="textAreaRight" b="textAreaBottom"/>
            <a:pathLst>
              <a:path w="2496" h="2208">
                <a:moveTo>
                  <a:pt x="0" y="0"/>
                </a:moveTo>
                <a:cubicBezTo>
                  <a:pt x="40" y="392"/>
                  <a:pt x="80" y="784"/>
                  <a:pt x="288" y="1104"/>
                </a:cubicBezTo>
                <a:cubicBezTo>
                  <a:pt x="496" y="1424"/>
                  <a:pt x="880" y="1736"/>
                  <a:pt x="1248" y="1920"/>
                </a:cubicBezTo>
                <a:cubicBezTo>
                  <a:pt x="1616" y="2104"/>
                  <a:pt x="2288" y="2160"/>
                  <a:pt x="2496" y="2208"/>
                </a:cubicBezTo>
              </a:path>
            </a:pathLst>
          </a:custGeom>
          <a:noFill/>
          <a:ln w="63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55" name="AutoShape 14"/>
          <p:cNvSpPr/>
          <p:nvPr/>
        </p:nvSpPr>
        <p:spPr>
          <a:xfrm>
            <a:off x="4602240" y="4662360"/>
            <a:ext cx="152280" cy="1526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56" name="Text Box 19"/>
          <p:cNvSpPr/>
          <p:nvPr/>
        </p:nvSpPr>
        <p:spPr>
          <a:xfrm>
            <a:off x="2971800" y="3581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57" name="AutoShape 20"/>
          <p:cNvSpPr/>
          <p:nvPr/>
        </p:nvSpPr>
        <p:spPr>
          <a:xfrm>
            <a:off x="6095880" y="3352680"/>
            <a:ext cx="152640" cy="1526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58" name="AutoShape 22"/>
          <p:cNvSpPr/>
          <p:nvPr/>
        </p:nvSpPr>
        <p:spPr>
          <a:xfrm>
            <a:off x="6568920" y="5075280"/>
            <a:ext cx="152640" cy="15228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59" name="Text Box 24"/>
          <p:cNvSpPr/>
          <p:nvPr/>
        </p:nvSpPr>
        <p:spPr>
          <a:xfrm>
            <a:off x="6400800" y="4724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60" name="AutoShape 25"/>
          <p:cNvSpPr/>
          <p:nvPr/>
        </p:nvSpPr>
        <p:spPr>
          <a:xfrm rot="16200000">
            <a:off x="4572000" y="1828440"/>
            <a:ext cx="228600" cy="2667240"/>
          </a:xfrm>
          <a:custGeom>
            <a:avLst/>
            <a:gdLst>
              <a:gd name="textAreaLeft" fmla="*/ 0 w 228600"/>
              <a:gd name="textAreaRight" fmla="*/ 82440 w 228600"/>
              <a:gd name="textAreaTop" fmla="*/ 69480 h 2667240"/>
              <a:gd name="textAreaBottom" fmla="*/ 2597760 h 266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61" name="Text Box 28"/>
          <p:cNvSpPr/>
          <p:nvPr/>
        </p:nvSpPr>
        <p:spPr>
          <a:xfrm>
            <a:off x="4191120" y="49528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фицит</a:t>
            </a:r>
            <a:endParaRPr b="0" lang="en-US" sz="20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62" name="Text Box 29"/>
          <p:cNvSpPr/>
          <p:nvPr/>
        </p:nvSpPr>
        <p:spPr>
          <a:xfrm>
            <a:off x="7391520" y="5715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63" name="Text Box 30"/>
          <p:cNvSpPr/>
          <p:nvPr/>
        </p:nvSpPr>
        <p:spPr>
          <a:xfrm>
            <a:off x="6095880" y="16002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66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64" name="Text Box 31"/>
          <p:cNvSpPr/>
          <p:nvPr/>
        </p:nvSpPr>
        <p:spPr>
          <a:xfrm>
            <a:off x="2895480" y="16002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66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65" name="Line 32"/>
          <p:cNvSpPr/>
          <p:nvPr/>
        </p:nvSpPr>
        <p:spPr>
          <a:xfrm>
            <a:off x="2332080" y="4724280"/>
            <a:ext cx="2316240" cy="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66" name="Line 33"/>
          <p:cNvSpPr/>
          <p:nvPr/>
        </p:nvSpPr>
        <p:spPr>
          <a:xfrm>
            <a:off x="4692600" y="4815000"/>
            <a:ext cx="0" cy="76176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67" name="AutoShape 35"/>
          <p:cNvSpPr/>
          <p:nvPr/>
        </p:nvSpPr>
        <p:spPr>
          <a:xfrm>
            <a:off x="5791320" y="4305240"/>
            <a:ext cx="2666880" cy="343080"/>
          </a:xfrm>
          <a:prstGeom prst="borderCallout1">
            <a:avLst>
              <a:gd name="adj1" fmla="val 18750"/>
              <a:gd name="adj2" fmla="val -8333"/>
              <a:gd name="adj3" fmla="val 118055"/>
              <a:gd name="adj4" fmla="val -35416"/>
            </a:avLst>
          </a:prstGeom>
          <a:solidFill>
            <a:srgbClr val="0099cc"/>
          </a:solidFill>
          <a:ln w="9360">
            <a:solidFill>
              <a:srgbClr val="000514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ыночное равновесие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68" name="Line 36"/>
          <p:cNvSpPr/>
          <p:nvPr/>
        </p:nvSpPr>
        <p:spPr>
          <a:xfrm>
            <a:off x="2255760" y="3398760"/>
            <a:ext cx="3886200" cy="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69" name="AutoShape 7"/>
          <p:cNvSpPr/>
          <p:nvPr/>
        </p:nvSpPr>
        <p:spPr>
          <a:xfrm>
            <a:off x="3124080" y="3352680"/>
            <a:ext cx="152640" cy="1526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70" name="Line 37"/>
          <p:cNvSpPr/>
          <p:nvPr/>
        </p:nvSpPr>
        <p:spPr>
          <a:xfrm>
            <a:off x="3216240" y="3460680"/>
            <a:ext cx="0" cy="213372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71" name="Line 38"/>
          <p:cNvSpPr/>
          <p:nvPr/>
        </p:nvSpPr>
        <p:spPr>
          <a:xfrm>
            <a:off x="6156360" y="3444840"/>
            <a:ext cx="0" cy="213372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72" name="Text Box 39"/>
          <p:cNvSpPr/>
          <p:nvPr/>
        </p:nvSpPr>
        <p:spPr>
          <a:xfrm>
            <a:off x="4038480" y="2971800"/>
            <a:ext cx="1219320" cy="6426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Излишек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73" name="Line 40"/>
          <p:cNvSpPr/>
          <p:nvPr/>
        </p:nvSpPr>
        <p:spPr>
          <a:xfrm>
            <a:off x="2255760" y="5149800"/>
            <a:ext cx="4281480" cy="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74" name="AutoShape 21"/>
          <p:cNvSpPr/>
          <p:nvPr/>
        </p:nvSpPr>
        <p:spPr>
          <a:xfrm>
            <a:off x="3627360" y="5029200"/>
            <a:ext cx="152640" cy="15228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75" name="Text Box 41"/>
          <p:cNvSpPr/>
          <p:nvPr/>
        </p:nvSpPr>
        <p:spPr>
          <a:xfrm>
            <a:off x="4419720" y="5181480"/>
            <a:ext cx="1218960" cy="368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Дефицит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76" name="Line 42"/>
          <p:cNvSpPr/>
          <p:nvPr/>
        </p:nvSpPr>
        <p:spPr>
          <a:xfrm>
            <a:off x="3276720" y="3429000"/>
            <a:ext cx="281916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77" name="Line 43"/>
          <p:cNvSpPr/>
          <p:nvPr/>
        </p:nvSpPr>
        <p:spPr>
          <a:xfrm>
            <a:off x="3733920" y="5135400"/>
            <a:ext cx="2865240" cy="180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78" name="Line 44"/>
          <p:cNvSpPr/>
          <p:nvPr/>
        </p:nvSpPr>
        <p:spPr>
          <a:xfrm flipH="1">
            <a:off x="3701520" y="5151600"/>
            <a:ext cx="1800" cy="48708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79" name="Line 45"/>
          <p:cNvSpPr/>
          <p:nvPr/>
        </p:nvSpPr>
        <p:spPr>
          <a:xfrm>
            <a:off x="6629400" y="5181480"/>
            <a:ext cx="0" cy="45720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7" autoRev="1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ush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238" dur="2000" fill="hold"/>
                                        <p:tgtEl>
                                          <p:spTgt spid="255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6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4" dur="3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26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3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2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29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6" dur="3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29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Нижний колонтитул 6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Графики спроса и предложения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419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женкин Флеминг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1833-1885)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нглийский инженер и экономист, впервые представил спрос и предложение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виде пересекающихся графиков. Он же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обрел канатные дороги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фоне эскиза такой дороги он показан на рисунк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83" name="Picture 4" descr="jenkin2"/>
          <p:cNvPicPr/>
          <p:nvPr/>
        </p:nvPicPr>
        <p:blipFill>
          <a:blip r:embed="rId1"/>
          <a:stretch/>
        </p:blipFill>
        <p:spPr>
          <a:xfrm>
            <a:off x="5257800" y="1447920"/>
            <a:ext cx="3406680" cy="47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ынок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arket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) — сфера  устойчивого обмена эквивалентными ценностями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Сфера,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 не определенное мест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фера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 устойчивого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обмена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фера 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обмена,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 не производст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бмен 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эквивалентными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ценностями, ценность которых рав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Изменение рыночного равновесия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86" name="Object 3"/>
          <p:cNvGraphicFramePr/>
          <p:nvPr/>
        </p:nvGraphicFramePr>
        <p:xfrm>
          <a:off x="1676520" y="914400"/>
          <a:ext cx="5715000" cy="538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914400"/>
                    <a:ext cx="5715000" cy="53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Freeform 4"/>
          <p:cNvSpPr/>
          <p:nvPr/>
        </p:nvSpPr>
        <p:spPr>
          <a:xfrm>
            <a:off x="2743200" y="1676520"/>
            <a:ext cx="3962520" cy="3504960"/>
          </a:xfrm>
          <a:custGeom>
            <a:avLst/>
            <a:gdLst>
              <a:gd name="textAreaLeft" fmla="*/ 0 w 3962520"/>
              <a:gd name="textAreaRight" fmla="*/ 3962880 w 3962520"/>
              <a:gd name="textAreaTop" fmla="*/ 0 h 3504960"/>
              <a:gd name="textAreaBottom" fmla="*/ 3505320 h 3504960"/>
            </a:gdLst>
            <a:ahLst/>
            <a:rect l="textAreaLeft" t="textAreaTop" r="textAreaRight" b="textAreaBottom"/>
            <a:pathLst>
              <a:path w="2496" h="2208">
                <a:moveTo>
                  <a:pt x="0" y="0"/>
                </a:moveTo>
                <a:cubicBezTo>
                  <a:pt x="40" y="392"/>
                  <a:pt x="80" y="784"/>
                  <a:pt x="288" y="1104"/>
                </a:cubicBezTo>
                <a:cubicBezTo>
                  <a:pt x="496" y="1424"/>
                  <a:pt x="880" y="1736"/>
                  <a:pt x="1248" y="1920"/>
                </a:cubicBezTo>
                <a:cubicBezTo>
                  <a:pt x="1616" y="2104"/>
                  <a:pt x="2288" y="2160"/>
                  <a:pt x="2496" y="2208"/>
                </a:cubicBezTo>
              </a:path>
            </a:pathLst>
          </a:custGeom>
          <a:noFill/>
          <a:ln w="633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89" name="Text Box 6"/>
          <p:cNvSpPr/>
          <p:nvPr/>
        </p:nvSpPr>
        <p:spPr>
          <a:xfrm>
            <a:off x="1295280" y="1143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90" name="Text Box 7"/>
          <p:cNvSpPr/>
          <p:nvPr/>
        </p:nvSpPr>
        <p:spPr>
          <a:xfrm>
            <a:off x="739152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91" name="Text Box 8"/>
          <p:cNvSpPr/>
          <p:nvPr/>
        </p:nvSpPr>
        <p:spPr>
          <a:xfrm>
            <a:off x="4648320" y="42670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92" name="Text Box 9"/>
          <p:cNvSpPr/>
          <p:nvPr/>
        </p:nvSpPr>
        <p:spPr>
          <a:xfrm>
            <a:off x="5486400" y="28954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93" name="Text Box 10"/>
          <p:cNvSpPr/>
          <p:nvPr/>
        </p:nvSpPr>
        <p:spPr>
          <a:xfrm>
            <a:off x="6629400" y="1447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94" name="Freeform 12"/>
          <p:cNvSpPr/>
          <p:nvPr/>
        </p:nvSpPr>
        <p:spPr>
          <a:xfrm rot="16468200">
            <a:off x="2742120" y="1464120"/>
            <a:ext cx="3583080" cy="4038480"/>
          </a:xfrm>
          <a:custGeom>
            <a:avLst/>
            <a:gdLst>
              <a:gd name="textAreaLeft" fmla="*/ 0 w 3583080"/>
              <a:gd name="textAreaRight" fmla="*/ 3583440 w 3583080"/>
              <a:gd name="textAreaTop" fmla="*/ 0 h 4038480"/>
              <a:gd name="textAreaBottom" fmla="*/ 4038840 h 4038480"/>
            </a:gdLst>
            <a:ahLst/>
            <a:rect l="textAreaLeft" t="textAreaTop" r="textAreaRight" b="textAreaBottom"/>
            <a:pathLst>
              <a:path w="2496" h="2208">
                <a:moveTo>
                  <a:pt x="0" y="0"/>
                </a:moveTo>
                <a:cubicBezTo>
                  <a:pt x="40" y="392"/>
                  <a:pt x="80" y="784"/>
                  <a:pt x="288" y="1104"/>
                </a:cubicBezTo>
                <a:cubicBezTo>
                  <a:pt x="496" y="1424"/>
                  <a:pt x="880" y="1736"/>
                  <a:pt x="1248" y="1920"/>
                </a:cubicBezTo>
                <a:cubicBezTo>
                  <a:pt x="1616" y="2104"/>
                  <a:pt x="2288" y="2160"/>
                  <a:pt x="2496" y="2208"/>
                </a:cubicBezTo>
              </a:path>
            </a:pathLst>
          </a:custGeom>
          <a:noFill/>
          <a:ln w="63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95" name="AutoShape 13"/>
          <p:cNvSpPr/>
          <p:nvPr/>
        </p:nvSpPr>
        <p:spPr>
          <a:xfrm>
            <a:off x="4648320" y="4648320"/>
            <a:ext cx="152280" cy="15228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96" name="AutoShape 15"/>
          <p:cNvSpPr/>
          <p:nvPr/>
        </p:nvSpPr>
        <p:spPr>
          <a:xfrm>
            <a:off x="6080040" y="3322800"/>
            <a:ext cx="152640" cy="15228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97" name="AutoShape 16"/>
          <p:cNvSpPr/>
          <p:nvPr/>
        </p:nvSpPr>
        <p:spPr>
          <a:xfrm>
            <a:off x="2179800" y="4648320"/>
            <a:ext cx="152280" cy="15228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98" name="Line 37"/>
          <p:cNvSpPr/>
          <p:nvPr/>
        </p:nvSpPr>
        <p:spPr>
          <a:xfrm>
            <a:off x="2362320" y="4724280"/>
            <a:ext cx="2209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99" name="Line 38"/>
          <p:cNvSpPr/>
          <p:nvPr/>
        </p:nvSpPr>
        <p:spPr>
          <a:xfrm>
            <a:off x="4724280" y="48006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00" name="Line 39"/>
          <p:cNvSpPr/>
          <p:nvPr/>
        </p:nvSpPr>
        <p:spPr>
          <a:xfrm>
            <a:off x="2286000" y="3429000"/>
            <a:ext cx="3809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01" name="Line 40"/>
          <p:cNvSpPr/>
          <p:nvPr/>
        </p:nvSpPr>
        <p:spPr>
          <a:xfrm>
            <a:off x="6172200" y="3581280"/>
            <a:ext cx="0" cy="2057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02" name="AutoShape 43"/>
          <p:cNvSpPr/>
          <p:nvPr/>
        </p:nvSpPr>
        <p:spPr>
          <a:xfrm>
            <a:off x="2209680" y="6019920"/>
            <a:ext cx="2210040" cy="342720"/>
          </a:xfrm>
          <a:prstGeom prst="borderCallout1">
            <a:avLst>
              <a:gd name="adj1" fmla="val 18750"/>
              <a:gd name="adj2" fmla="val -8333"/>
              <a:gd name="adj3" fmla="val -122222"/>
              <a:gd name="adj4" fmla="val 110342"/>
            </a:avLst>
          </a:prstGeom>
          <a:solidFill>
            <a:srgbClr val="0099cc"/>
          </a:solidFill>
          <a:ln w="9360">
            <a:solidFill>
              <a:srgbClr val="000514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ост количества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03" name="AutoShape 44"/>
          <p:cNvSpPr/>
          <p:nvPr/>
        </p:nvSpPr>
        <p:spPr>
          <a:xfrm>
            <a:off x="304920" y="4648320"/>
            <a:ext cx="1371600" cy="342720"/>
          </a:xfrm>
          <a:prstGeom prst="borderCallout1">
            <a:avLst>
              <a:gd name="adj1" fmla="val 18750"/>
              <a:gd name="adj2" fmla="val -8333"/>
              <a:gd name="adj3" fmla="val 18981"/>
              <a:gd name="adj4" fmla="val 130208"/>
            </a:avLst>
          </a:prstGeom>
          <a:solidFill>
            <a:srgbClr val="0099cc"/>
          </a:solidFill>
          <a:ln w="9360">
            <a:solidFill>
              <a:srgbClr val="000514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ост цены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04" name="AutoShape 45"/>
          <p:cNvSpPr/>
          <p:nvPr/>
        </p:nvSpPr>
        <p:spPr>
          <a:xfrm>
            <a:off x="3962520" y="2133720"/>
            <a:ext cx="1600200" cy="342720"/>
          </a:xfrm>
          <a:prstGeom prst="borderCallout1">
            <a:avLst>
              <a:gd name="adj1" fmla="val 18750"/>
              <a:gd name="adj2" fmla="val -8333"/>
              <a:gd name="adj3" fmla="val 277777"/>
              <a:gd name="adj4" fmla="val -54263"/>
            </a:avLst>
          </a:prstGeom>
          <a:solidFill>
            <a:srgbClr val="0099cc"/>
          </a:solidFill>
          <a:ln w="9360">
            <a:solidFill>
              <a:srgbClr val="000514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ост спроса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05" name="AutoShape 46"/>
          <p:cNvSpPr/>
          <p:nvPr/>
        </p:nvSpPr>
        <p:spPr>
          <a:xfrm>
            <a:off x="4587840" y="5486400"/>
            <a:ext cx="152280" cy="15228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06" name="Text Box 47"/>
          <p:cNvSpPr/>
          <p:nvPr/>
        </p:nvSpPr>
        <p:spPr>
          <a:xfrm>
            <a:off x="6172200" y="16002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66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07" name="Text Box 48"/>
          <p:cNvSpPr/>
          <p:nvPr/>
        </p:nvSpPr>
        <p:spPr>
          <a:xfrm>
            <a:off x="2743200" y="16002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66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08" name="Line 49"/>
          <p:cNvSpPr/>
          <p:nvPr/>
        </p:nvSpPr>
        <p:spPr>
          <a:xfrm>
            <a:off x="2332080" y="4724280"/>
            <a:ext cx="2316240" cy="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09" name="Line 50"/>
          <p:cNvSpPr/>
          <p:nvPr/>
        </p:nvSpPr>
        <p:spPr>
          <a:xfrm>
            <a:off x="2286000" y="3429000"/>
            <a:ext cx="3809880" cy="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10" name="Line 51"/>
          <p:cNvSpPr/>
          <p:nvPr/>
        </p:nvSpPr>
        <p:spPr>
          <a:xfrm>
            <a:off x="4694400" y="4768920"/>
            <a:ext cx="0" cy="73332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11" name="Line 52"/>
          <p:cNvSpPr/>
          <p:nvPr/>
        </p:nvSpPr>
        <p:spPr>
          <a:xfrm>
            <a:off x="6172200" y="3505320"/>
            <a:ext cx="0" cy="198108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12" name="AutoShape 53"/>
          <p:cNvSpPr/>
          <p:nvPr/>
        </p:nvSpPr>
        <p:spPr>
          <a:xfrm>
            <a:off x="6858000" y="4800600"/>
            <a:ext cx="1981080" cy="990720"/>
          </a:xfrm>
          <a:prstGeom prst="borderCallout1">
            <a:avLst>
              <a:gd name="adj1" fmla="val 18750"/>
              <a:gd name="adj2" fmla="val -8333"/>
              <a:gd name="adj3" fmla="val -7851"/>
              <a:gd name="adj4" fmla="val -97675"/>
            </a:avLst>
          </a:prstGeom>
          <a:solidFill>
            <a:srgbClr val="0099cc"/>
          </a:solidFill>
          <a:ln w="9360">
            <a:solidFill>
              <a:srgbClr val="000514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авновесная цена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и количество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13" name="AutoShape 54"/>
          <p:cNvSpPr/>
          <p:nvPr/>
        </p:nvSpPr>
        <p:spPr>
          <a:xfrm>
            <a:off x="6858000" y="3124080"/>
            <a:ext cx="1905120" cy="1295640"/>
          </a:xfrm>
          <a:prstGeom prst="borderCallout1">
            <a:avLst>
              <a:gd name="adj1" fmla="val 18750"/>
              <a:gd name="adj2" fmla="val -8333"/>
              <a:gd name="adj3" fmla="val 20587"/>
              <a:gd name="adj4" fmla="val -32000"/>
            </a:avLst>
          </a:prstGeom>
          <a:solidFill>
            <a:srgbClr val="0099cc"/>
          </a:solidFill>
          <a:ln w="9360">
            <a:solidFill>
              <a:srgbClr val="000514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Новая равновесная цена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и количество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3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54335E-006 L 0.32084 -0.00277 E">
                                      <p:cBhvr>
                                        <p:cTn id="363" dur="20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96532E-006 L 0.31666 -1.96532E-006 E">
                                      <p:cBhvr>
                                        <p:cTn id="365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71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68208E-006 L -3.33333E-006 -0.19145 E">
                                      <p:cBhvr>
                                        <p:cTn id="372" dur="2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2.48555E-006 L -0.00503 -0.18867 E">
                                      <p:cBhvr>
                                        <p:cTn id="374" dur="2000" fill="hold"/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38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4.10405E-006 L 0.1625 -0.00277 E">
                                      <p:cBhvr>
                                        <p:cTn id="381" dur="2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4104E-006 L 0.16493 -3.4104E-006 E">
                                      <p:cBhvr>
                                        <p:cTn id="383" dur="20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3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3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3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3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3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ывод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ынок — сфера свободного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 устойчивого обмена равноценными товарами, услугами и факторами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х производства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ынок возникает в результате разделения труда — специализации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 производстве определенных товаров и услуг, которыми производители обмениваются для удовлетворения своих потребносте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ывод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прос — количество товара, которое продавцы готовы продать на рынке по определенной цене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прос находится </a:t>
            </a:r>
            <a:r>
              <a:rPr b="0" lang="ru-RU" sz="2400" spc="-1" strike="noStrike">
                <a:solidFill>
                  <a:srgbClr val="ffffff"/>
                </a:solidFill>
                <a:latin typeface="Arial Unicode MS"/>
              </a:rPr>
              <a:t>в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обратной зависимости от цены товара: выше цена — ниже спрос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едложение — количество товара, которое поставляется </a:t>
            </a:r>
            <a:r>
              <a:rPr b="0" lang="ru-RU" sz="2400" spc="-1" strike="noStrike">
                <a:solidFill>
                  <a:srgbClr val="ffffff"/>
                </a:solidFill>
                <a:latin typeface="Arial Unicode MS"/>
              </a:rPr>
              <a:t>на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рынок при определенной цене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но находится в прямой зависимости от цены: выше цена — больше предложение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ыночное равновесие возникает, когда спрос равен предложению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ыночный механизм автоматически устраняет избыток и дефицит товаров и устанавливает равновесную цену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Нижний колонтитул 6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Эластичность спрос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Эластичность означает степень чувствительности изменений одной величины на изменение другой величины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оэффициент эластичности показывает на сколько процентов изменяется спрос в ответ на однопроцентное изменение цены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Object 4"/>
              <p:cNvSpPr txBox="1"/>
              <p:nvPr/>
            </p:nvSpPr>
            <p:spPr>
              <a:xfrm>
                <a:off x="0" y="0"/>
                <a:ext cx="22384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Q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ИзменениеQв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ИзменениеPв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Object 6"/>
              <p:cNvSpPr txBox="1"/>
              <p:nvPr/>
            </p:nvSpPr>
            <p:spPr>
              <a:xfrm>
                <a:off x="0" y="0"/>
                <a:ext cx="22384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Q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ИзменениеQв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ИзменениеPв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Object 8"/>
              <p:cNvSpPr txBox="1"/>
              <p:nvPr/>
            </p:nvSpPr>
            <p:spPr>
              <a:xfrm>
                <a:off x="0" y="0"/>
                <a:ext cx="22384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Q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ИзменениеQв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ИзменениеPв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Object 13"/>
              <p:cNvSpPr txBox="1"/>
              <p:nvPr/>
            </p:nvSpPr>
            <p:spPr>
              <a:xfrm>
                <a:off x="762120" y="4267080"/>
                <a:ext cx="694512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Q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ИзменениеQв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ИзменениеPв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Три варианта ценовой эластичности спроса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Эластичный, когда изменение объема спроса больше изменения цены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прос единичной эластичности, когда изменения объема спроса равны изменению цен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еэластичный спрос, когда изменение объема спроса меньше изменения цен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Факторы эластичности спроса по цене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езаменимость товар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Значимость товара для потребител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Место товара в структуре потребле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рем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Определения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Рынок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(market)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– сфера свободного и устойчивого обмена равноценными товарами, услугами и факторами их производств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прос (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emand, D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) – количество товара, которое покупатели готовы приобрести на рынке по определенной цене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Закон спроса(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aw of demand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) – величина спроса находится в обратной зависимости от цены: чем выше цена, тем ниже величина спроса, и наоборот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едложение(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upply, S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) – количество товара, которое продавцы готовы продать на рынке по определенной цене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Закон предложения (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aw of supply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) – величина предложения находится в прямой зависимости от цены: чем выше цена, тем выше предложение и наоборот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Определения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ыночное равновесие (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rket equilibrium)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 равенство спроса и предложения на рынке определенного товар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Цена (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ice)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– пропорция обмена товара на деньги, если цена выражена в деньгах, или альтернативная стоимость, если цена выражена в другом товаре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Задание «Спрос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.Выберите правильный ответ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ичиной увеличения спроса на роликовые коньки может быть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-ожидание наступления дожд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нижение цен на подшипник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иближение летних канику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дорожание апельсинового со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ыберите пару товаров-заменителей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втомобильные покрышки и бензи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ерьевые ручки и чернил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жинсы и футболк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Масло и маргари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Спрос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emand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) — количество товара, которое покупатели готовы приобрести на рынке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по определенной цене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Факторы, влияющие на спрос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1219320" y="2133720"/>
            <a:ext cx="320040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Ценовые факторы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4724280" y="2133720"/>
            <a:ext cx="320040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ценовые факторы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1219320" y="3048120"/>
            <a:ext cx="3200400" cy="100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изменение цены при неизменности других факторов–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724280" y="3048120"/>
            <a:ext cx="3200400" cy="100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изменение других факторов при неизменной цене–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1219320" y="4495680"/>
            <a:ext cx="3200400" cy="703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ределяют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еличину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проса</a:t>
            </a:r>
            <a:endParaRPr b="0" lang="en-US" sz="20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23" name="Text Box 16"/>
          <p:cNvSpPr/>
          <p:nvPr/>
        </p:nvSpPr>
        <p:spPr>
          <a:xfrm>
            <a:off x="4724280" y="4495680"/>
            <a:ext cx="3200400" cy="703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ределяют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функцию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проса</a:t>
            </a:r>
            <a:endParaRPr b="0" lang="en-US" sz="20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graphicFrame>
        <p:nvGraphicFramePr>
          <p:cNvPr id="125" name="Object 4"/>
          <p:cNvGraphicFramePr/>
          <p:nvPr/>
        </p:nvGraphicFramePr>
        <p:xfrm>
          <a:off x="1863720" y="914400"/>
          <a:ext cx="5715000" cy="538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3720" y="914400"/>
                    <a:ext cx="5715000" cy="53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Изменение величины спрос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Line 24"/>
          <p:cNvSpPr/>
          <p:nvPr/>
        </p:nvSpPr>
        <p:spPr>
          <a:xfrm>
            <a:off x="2406600" y="470520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29" name="Line 27"/>
          <p:cNvSpPr/>
          <p:nvPr/>
        </p:nvSpPr>
        <p:spPr>
          <a:xfrm>
            <a:off x="2482920" y="3409920"/>
            <a:ext cx="838080" cy="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30" name="Freeform 29"/>
          <p:cNvSpPr/>
          <p:nvPr/>
        </p:nvSpPr>
        <p:spPr>
          <a:xfrm>
            <a:off x="2895480" y="1447920"/>
            <a:ext cx="4248360" cy="3768480"/>
          </a:xfrm>
          <a:custGeom>
            <a:avLst/>
            <a:gdLst>
              <a:gd name="textAreaLeft" fmla="*/ 0 w 4248360"/>
              <a:gd name="textAreaRight" fmla="*/ 4248720 w 4248360"/>
              <a:gd name="textAreaTop" fmla="*/ 0 h 3768480"/>
              <a:gd name="textAreaBottom" fmla="*/ 3768840 h 3768480"/>
            </a:gdLst>
            <a:ahLst/>
            <a:rect l="textAreaLeft" t="textAreaTop" r="textAreaRight" b="textAreaBottom"/>
            <a:pathLst>
              <a:path w="2496" h="2208">
                <a:moveTo>
                  <a:pt x="0" y="0"/>
                </a:moveTo>
                <a:cubicBezTo>
                  <a:pt x="40" y="392"/>
                  <a:pt x="80" y="784"/>
                  <a:pt x="288" y="1104"/>
                </a:cubicBezTo>
                <a:cubicBezTo>
                  <a:pt x="496" y="1424"/>
                  <a:pt x="880" y="1736"/>
                  <a:pt x="1248" y="1920"/>
                </a:cubicBezTo>
                <a:cubicBezTo>
                  <a:pt x="1616" y="2104"/>
                  <a:pt x="2288" y="2160"/>
                  <a:pt x="2496" y="2208"/>
                </a:cubicBezTo>
              </a:path>
            </a:pathLst>
          </a:custGeom>
          <a:noFill/>
          <a:ln w="63360">
            <a:solidFill>
              <a:srgbClr val="3399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31" name="AutoShape 30"/>
          <p:cNvSpPr/>
          <p:nvPr/>
        </p:nvSpPr>
        <p:spPr>
          <a:xfrm>
            <a:off x="4786200" y="4584600"/>
            <a:ext cx="152640" cy="1526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32" name="AutoShape 21"/>
          <p:cNvSpPr/>
          <p:nvPr/>
        </p:nvSpPr>
        <p:spPr>
          <a:xfrm>
            <a:off x="2863800" y="1581120"/>
            <a:ext cx="152280" cy="15228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33" name="AutoShape 28"/>
          <p:cNvSpPr/>
          <p:nvPr/>
        </p:nvSpPr>
        <p:spPr>
          <a:xfrm>
            <a:off x="3321000" y="3333600"/>
            <a:ext cx="152280" cy="1526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34" name="Text Box 31"/>
          <p:cNvSpPr/>
          <p:nvPr/>
        </p:nvSpPr>
        <p:spPr>
          <a:xfrm>
            <a:off x="1447920" y="1143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35" name="Text Box 32"/>
          <p:cNvSpPr/>
          <p:nvPr/>
        </p:nvSpPr>
        <p:spPr>
          <a:xfrm>
            <a:off x="746748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36" name="Line 33"/>
          <p:cNvSpPr/>
          <p:nvPr/>
        </p:nvSpPr>
        <p:spPr>
          <a:xfrm>
            <a:off x="2438280" y="1676520"/>
            <a:ext cx="457200" cy="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37" name="Text Box 35"/>
          <p:cNvSpPr/>
          <p:nvPr/>
        </p:nvSpPr>
        <p:spPr>
          <a:xfrm>
            <a:off x="3397320" y="302904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514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38" name="Text Box 36"/>
          <p:cNvSpPr/>
          <p:nvPr/>
        </p:nvSpPr>
        <p:spPr>
          <a:xfrm>
            <a:off x="4844880" y="43243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514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39" name="Freeform 47"/>
          <p:cNvSpPr/>
          <p:nvPr/>
        </p:nvSpPr>
        <p:spPr>
          <a:xfrm>
            <a:off x="3397320" y="3409920"/>
            <a:ext cx="1731960" cy="1271520"/>
          </a:xfrm>
          <a:custGeom>
            <a:avLst/>
            <a:gdLst>
              <a:gd name="textAreaLeft" fmla="*/ 0 w 1731960"/>
              <a:gd name="textAreaRight" fmla="*/ 1732320 w 1731960"/>
              <a:gd name="textAreaTop" fmla="*/ 0 h 1271520"/>
              <a:gd name="textAreaBottom" fmla="*/ 1271880 h 1271520"/>
            </a:gdLst>
            <a:ahLst/>
            <a:rect l="textAreaLeft" t="textAreaTop" r="textAreaRight" b="textAreaBottom"/>
            <a:pathLst>
              <a:path w="1091" h="801">
                <a:moveTo>
                  <a:pt x="0" y="0"/>
                </a:moveTo>
                <a:cubicBezTo>
                  <a:pt x="8" y="42"/>
                  <a:pt x="17" y="83"/>
                  <a:pt x="25" y="125"/>
                </a:cubicBezTo>
                <a:cubicBezTo>
                  <a:pt x="28" y="138"/>
                  <a:pt x="29" y="153"/>
                  <a:pt x="37" y="163"/>
                </a:cubicBezTo>
                <a:cubicBezTo>
                  <a:pt x="46" y="175"/>
                  <a:pt x="62" y="180"/>
                  <a:pt x="75" y="188"/>
                </a:cubicBezTo>
                <a:cubicBezTo>
                  <a:pt x="83" y="200"/>
                  <a:pt x="89" y="215"/>
                  <a:pt x="100" y="225"/>
                </a:cubicBezTo>
                <a:cubicBezTo>
                  <a:pt x="123" y="245"/>
                  <a:pt x="175" y="275"/>
                  <a:pt x="175" y="275"/>
                </a:cubicBezTo>
                <a:cubicBezTo>
                  <a:pt x="210" y="329"/>
                  <a:pt x="275" y="384"/>
                  <a:pt x="325" y="425"/>
                </a:cubicBezTo>
                <a:cubicBezTo>
                  <a:pt x="373" y="464"/>
                  <a:pt x="398" y="513"/>
                  <a:pt x="450" y="551"/>
                </a:cubicBezTo>
                <a:cubicBezTo>
                  <a:pt x="531" y="610"/>
                  <a:pt x="510" y="596"/>
                  <a:pt x="601" y="626"/>
                </a:cubicBezTo>
                <a:cubicBezTo>
                  <a:pt x="613" y="630"/>
                  <a:pt x="638" y="638"/>
                  <a:pt x="638" y="638"/>
                </a:cubicBezTo>
                <a:cubicBezTo>
                  <a:pt x="682" y="667"/>
                  <a:pt x="695" y="677"/>
                  <a:pt x="751" y="701"/>
                </a:cubicBezTo>
                <a:cubicBezTo>
                  <a:pt x="775" y="711"/>
                  <a:pt x="826" y="726"/>
                  <a:pt x="826" y="726"/>
                </a:cubicBezTo>
                <a:cubicBezTo>
                  <a:pt x="873" y="761"/>
                  <a:pt x="930" y="801"/>
                  <a:pt x="989" y="801"/>
                </a:cubicBezTo>
                <a:lnTo>
                  <a:pt x="1091" y="39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40" name="Text Box 49"/>
          <p:cNvSpPr/>
          <p:nvPr/>
        </p:nvSpPr>
        <p:spPr>
          <a:xfrm>
            <a:off x="6597720" y="47959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514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41" name="Line 52"/>
          <p:cNvSpPr/>
          <p:nvPr/>
        </p:nvSpPr>
        <p:spPr>
          <a:xfrm>
            <a:off x="2406600" y="4705200"/>
            <a:ext cx="2438280" cy="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42" name="Line 53"/>
          <p:cNvSpPr/>
          <p:nvPr/>
        </p:nvSpPr>
        <p:spPr>
          <a:xfrm>
            <a:off x="2909880" y="1735200"/>
            <a:ext cx="0" cy="380988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43" name="Line 54"/>
          <p:cNvSpPr/>
          <p:nvPr/>
        </p:nvSpPr>
        <p:spPr>
          <a:xfrm>
            <a:off x="3397320" y="3486240"/>
            <a:ext cx="0" cy="205740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44" name="Line 55"/>
          <p:cNvSpPr/>
          <p:nvPr/>
        </p:nvSpPr>
        <p:spPr>
          <a:xfrm>
            <a:off x="4857840" y="4745160"/>
            <a:ext cx="19080" cy="81108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45" name="Line 56"/>
          <p:cNvSpPr/>
          <p:nvPr/>
        </p:nvSpPr>
        <p:spPr>
          <a:xfrm>
            <a:off x="2468520" y="5148360"/>
            <a:ext cx="4343400" cy="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46" name="AutoShape 57"/>
          <p:cNvSpPr/>
          <p:nvPr/>
        </p:nvSpPr>
        <p:spPr>
          <a:xfrm>
            <a:off x="6750000" y="5086440"/>
            <a:ext cx="152280" cy="15228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47" name="Line 58"/>
          <p:cNvSpPr/>
          <p:nvPr/>
        </p:nvSpPr>
        <p:spPr>
          <a:xfrm>
            <a:off x="6826320" y="5238720"/>
            <a:ext cx="0" cy="31284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48" name="Text Box 37"/>
          <p:cNvSpPr/>
          <p:nvPr/>
        </p:nvSpPr>
        <p:spPr>
          <a:xfrm>
            <a:off x="2895480" y="14479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514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3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3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Закон спрос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w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f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emand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) — величина спроса находится в обратной зависимости от цены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выше це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ниже спро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выше спро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ниже це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AutoShape 9"/>
          <p:cNvSpPr/>
          <p:nvPr/>
        </p:nvSpPr>
        <p:spPr>
          <a:xfrm rot="20623800">
            <a:off x="3276720" y="4800600"/>
            <a:ext cx="1600200" cy="38088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53" name="AutoShape 10"/>
          <p:cNvSpPr/>
          <p:nvPr/>
        </p:nvSpPr>
        <p:spPr>
          <a:xfrm rot="1093200">
            <a:off x="3276720" y="3581280"/>
            <a:ext cx="1600200" cy="38124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3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3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30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3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Неценовые фактор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Число покупател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оходы покупател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Цены на другие товар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едпочте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жида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Ценовой барьер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Эффект доход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Эффект замеще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инцип убывания предельной полезно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сключение из правила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Эффект Гиффена(повышение цены ведет к повышению величины спроса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Изменение функции спрос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62" name="Object 3"/>
          <p:cNvGraphicFramePr/>
          <p:nvPr/>
        </p:nvGraphicFramePr>
        <p:xfrm>
          <a:off x="1676520" y="914400"/>
          <a:ext cx="5715000" cy="538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914400"/>
                    <a:ext cx="5715000" cy="53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Line 10"/>
          <p:cNvSpPr/>
          <p:nvPr/>
        </p:nvSpPr>
        <p:spPr>
          <a:xfrm>
            <a:off x="3200400" y="3505320"/>
            <a:ext cx="0" cy="2133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65" name="Line 11"/>
          <p:cNvSpPr/>
          <p:nvPr/>
        </p:nvSpPr>
        <p:spPr>
          <a:xfrm>
            <a:off x="2209680" y="34290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66" name="Freeform 12"/>
          <p:cNvSpPr/>
          <p:nvPr/>
        </p:nvSpPr>
        <p:spPr>
          <a:xfrm>
            <a:off x="2743200" y="1676520"/>
            <a:ext cx="2971800" cy="31240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3124080"/>
              <a:gd name="textAreaBottom" fmla="*/ 3124440 h 3124080"/>
            </a:gdLst>
            <a:ahLst/>
            <a:rect l="textAreaLeft" t="textAreaTop" r="textAreaRight" b="textAreaBottom"/>
            <a:pathLst>
              <a:path w="2496" h="2208">
                <a:moveTo>
                  <a:pt x="0" y="0"/>
                </a:moveTo>
                <a:cubicBezTo>
                  <a:pt x="40" y="392"/>
                  <a:pt x="80" y="784"/>
                  <a:pt x="288" y="1104"/>
                </a:cubicBezTo>
                <a:cubicBezTo>
                  <a:pt x="496" y="1424"/>
                  <a:pt x="880" y="1736"/>
                  <a:pt x="1248" y="1920"/>
                </a:cubicBezTo>
                <a:cubicBezTo>
                  <a:pt x="1616" y="2104"/>
                  <a:pt x="2288" y="2160"/>
                  <a:pt x="2496" y="2208"/>
                </a:cubicBezTo>
              </a:path>
            </a:pathLst>
          </a:custGeom>
          <a:noFill/>
          <a:ln w="633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67" name="AutoShape 16"/>
          <p:cNvSpPr/>
          <p:nvPr/>
        </p:nvSpPr>
        <p:spPr>
          <a:xfrm>
            <a:off x="3124080" y="3352680"/>
            <a:ext cx="152640" cy="1526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68" name="Text Box 17"/>
          <p:cNvSpPr/>
          <p:nvPr/>
        </p:nvSpPr>
        <p:spPr>
          <a:xfrm>
            <a:off x="1295280" y="1143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69" name="Text Box 18"/>
          <p:cNvSpPr/>
          <p:nvPr/>
        </p:nvSpPr>
        <p:spPr>
          <a:xfrm>
            <a:off x="739152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70" name="Line 25"/>
          <p:cNvSpPr/>
          <p:nvPr/>
        </p:nvSpPr>
        <p:spPr>
          <a:xfrm>
            <a:off x="3276720" y="34290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71" name="AutoShape 26"/>
          <p:cNvSpPr/>
          <p:nvPr/>
        </p:nvSpPr>
        <p:spPr>
          <a:xfrm>
            <a:off x="4114800" y="3352680"/>
            <a:ext cx="152280" cy="1526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72" name="Line 28"/>
          <p:cNvSpPr/>
          <p:nvPr/>
        </p:nvSpPr>
        <p:spPr>
          <a:xfrm>
            <a:off x="4191120" y="3505320"/>
            <a:ext cx="0" cy="2057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73" name="Text Box 33"/>
          <p:cNvSpPr/>
          <p:nvPr/>
        </p:nvSpPr>
        <p:spPr>
          <a:xfrm>
            <a:off x="3733920" y="1600200"/>
            <a:ext cx="60948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66"/>
                </a:solidFill>
                <a:latin typeface="Arial"/>
              </a:rPr>
              <a:t>D</a:t>
            </a:r>
            <a:r>
              <a:rPr b="1" lang="ru-RU" sz="2000" spc="-1" strike="noStrike" baseline="-25000">
                <a:solidFill>
                  <a:srgbClr val="00cc66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74" name="Text Box 34"/>
          <p:cNvSpPr/>
          <p:nvPr/>
        </p:nvSpPr>
        <p:spPr>
          <a:xfrm>
            <a:off x="2743200" y="16002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66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75" name="Line 35"/>
          <p:cNvSpPr/>
          <p:nvPr/>
        </p:nvSpPr>
        <p:spPr>
          <a:xfrm>
            <a:off x="3306600" y="3414600"/>
            <a:ext cx="8384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76" name="AutoShape 38"/>
          <p:cNvSpPr/>
          <p:nvPr/>
        </p:nvSpPr>
        <p:spPr>
          <a:xfrm>
            <a:off x="4952880" y="1714680"/>
            <a:ext cx="1752840" cy="419040"/>
          </a:xfrm>
          <a:prstGeom prst="borderCallout2">
            <a:avLst>
              <a:gd name="adj1" fmla="val 18750"/>
              <a:gd name="adj2" fmla="val -8333"/>
              <a:gd name="adj3" fmla="val 27273"/>
              <a:gd name="adj4" fmla="val -36324"/>
              <a:gd name="adj5" fmla="val 390907"/>
              <a:gd name="adj6" fmla="val -69564"/>
            </a:avLst>
          </a:prstGeom>
          <a:solidFill>
            <a:srgbClr val="0099cc"/>
          </a:solidFill>
          <a:ln w="9360">
            <a:solidFill>
              <a:srgbClr val="000514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ост спроса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3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3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3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33333E-006 L 0.10417 3.33333E-006 E">
                                      <p:cBhvr>
                                        <p:cTn id="111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0" dur="3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3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4T19:40:43Z</dcterms:created>
  <dc:creator/>
  <dc:description/>
  <dc:language>en-US</dc:language>
  <cp:lastModifiedBy>LEGION</cp:lastModifiedBy>
  <dcterms:modified xsi:type="dcterms:W3CDTF">2016-01-04T08:18:30Z</dcterms:modified>
  <cp:revision>115</cp:revision>
  <dc:subject/>
  <dc:title>Тема 2. Рыночная система экономики</dc:title>
</cp:coreProperties>
</file>