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471B-2FC7-4867-BD3B-C8CB00704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04D1-EC24-4D4F-883F-33218174E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D64C-A6D5-4DC0-AD40-8538E5F84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6756-3339-41EF-875C-859BDDA29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EB98-A7ED-402B-934E-5235BF7D28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3701-B666-4AF2-AC3F-67AE1B55E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8AA4-2594-4054-ABBB-899148BD87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D3A6-DBB0-487C-99DE-F24E5BED8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1066-1F1E-4081-B55A-2A7B9A364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400-5C46-43AF-BBCD-175997BB3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931D-66CC-4ABF-90BA-4816E2126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CBFC-B014-4103-9D59-A93156B75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549D-D3A9-437D-8D7E-E53850A25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69D-F49C-417D-B759-B0B0059D3F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C33-2B16-4B3D-BEA1-45318C502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FD9C-BEBD-4986-A9B7-08462672B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9907-AEAE-4D6A-80A4-A9410D34F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48F-EA8B-4679-95EA-DCEFEFEF4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51E9-C4C2-45A2-B9D3-78963292C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5583-D65C-4317-8882-F663A29E1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DCC5-1EBA-4383-B027-6BD5D203A7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5593-49A6-44B1-BBE3-4682E7CA1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18F2-2366-40B6-B7BF-8CAD7EE7D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21C0-85D9-47AE-9F63-365F3E700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BF5-A1A0-449F-8722-43EC910940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A8EA-DED8-4E1C-BFAA-3306CFF48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DA1-F3C8-4028-84B7-37B5464A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AD4-DE7B-49A8-8509-982C1F3B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C25-5951-43D6-BC30-866A03DD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DE4-45B6-45D8-B358-FD7CF683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8ED-583E-47CD-ACEF-E3F72680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BC9-4701-42DB-8A65-A789035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EDD-AFD4-4AAF-B19E-ACFF5074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B40-96CD-4B4D-9700-1A08ABF7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F61-1221-4DF9-88AF-1A6D87A3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F65-B73D-4139-AFFD-2F6E326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359-051B-40C9-8AE8-0261EA0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28F-A661-4FA0-83F0-14C92B0C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A006-F028-4FA6-8099-C0B296AAB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Steam"/>
          <p:cNvPicPr/>
          <p:nvPr/>
        </p:nvPicPr>
        <p:blipFill>
          <a:blip r:embed="rId1"/>
          <a:stretch/>
        </p:blipFill>
        <p:spPr>
          <a:xfrm>
            <a:off x="5505480" y="503712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Ice Bucket"/>
          <p:cNvPicPr/>
          <p:nvPr/>
        </p:nvPicPr>
        <p:blipFill>
          <a:blip r:embed="rId2"/>
          <a:stretch/>
        </p:blipFill>
        <p:spPr>
          <a:xfrm>
            <a:off x="1258920" y="5037120"/>
            <a:ext cx="1009440" cy="1181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Man with stretched arms (1)"/>
          <p:cNvPicPr/>
          <p:nvPr/>
        </p:nvPicPr>
        <p:blipFill>
          <a:blip r:embed="rId3"/>
          <a:stretch/>
        </p:blipFill>
        <p:spPr>
          <a:xfrm>
            <a:off x="2986200" y="4076640"/>
            <a:ext cx="1709640" cy="156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Vase"/>
          <p:cNvPicPr/>
          <p:nvPr/>
        </p:nvPicPr>
        <p:blipFill>
          <a:blip r:embed="rId4"/>
          <a:stretch/>
        </p:blipFill>
        <p:spPr>
          <a:xfrm>
            <a:off x="3238560" y="5757840"/>
            <a:ext cx="1219320" cy="876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Man with stretched arms (2)"/>
          <p:cNvPicPr/>
          <p:nvPr/>
        </p:nvPicPr>
        <p:blipFill>
          <a:blip r:embed="rId5"/>
          <a:stretch/>
        </p:blipFill>
        <p:spPr>
          <a:xfrm>
            <a:off x="7377120" y="4210200"/>
            <a:ext cx="1104840" cy="1663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Escimo_sel"/>
          <p:cNvPicPr/>
          <p:nvPr/>
        </p:nvPicPr>
        <p:blipFill>
          <a:blip r:embed="rId1"/>
          <a:stretch/>
        </p:blipFill>
        <p:spPr>
          <a:xfrm>
            <a:off x="6656400" y="5002200"/>
            <a:ext cx="1604880" cy="1247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Arab_sel"/>
          <p:cNvPicPr/>
          <p:nvPr/>
        </p:nvPicPr>
        <p:blipFill>
          <a:blip r:embed="rId2"/>
          <a:stretch/>
        </p:blipFill>
        <p:spPr>
          <a:xfrm>
            <a:off x="900000" y="5002200"/>
            <a:ext cx="1605240" cy="112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5" descr="Desert"/>
          <p:cNvPicPr/>
          <p:nvPr/>
        </p:nvPicPr>
        <p:blipFill>
          <a:blip r:embed="rId3"/>
          <a:stretch/>
        </p:blipFill>
        <p:spPr>
          <a:xfrm>
            <a:off x="2914560" y="5289480"/>
            <a:ext cx="1522440" cy="108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6" descr="Snow"/>
          <p:cNvPicPr/>
          <p:nvPr/>
        </p:nvPicPr>
        <p:blipFill>
          <a:blip r:embed="rId4"/>
          <a:stretch/>
        </p:blipFill>
        <p:spPr>
          <a:xfrm>
            <a:off x="4821120" y="4857840"/>
            <a:ext cx="1525680" cy="988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Short-sighted (ed)"/>
          <p:cNvPicPr/>
          <p:nvPr/>
        </p:nvPicPr>
        <p:blipFill>
          <a:blip r:embed="rId1"/>
          <a:stretch/>
        </p:blipFill>
        <p:spPr>
          <a:xfrm>
            <a:off x="6116760" y="3922560"/>
            <a:ext cx="601560" cy="2187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Touch (ed)"/>
          <p:cNvPicPr/>
          <p:nvPr/>
        </p:nvPicPr>
        <p:blipFill>
          <a:blip r:embed="rId2"/>
          <a:stretch/>
        </p:blipFill>
        <p:spPr>
          <a:xfrm>
            <a:off x="2338560" y="3922560"/>
            <a:ext cx="1550880" cy="2217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1"/>
          <p:cNvSpPr/>
          <p:nvPr/>
        </p:nvSpPr>
        <p:spPr>
          <a:xfrm flipH="1" rot="3600000">
            <a:off x="172620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18000000">
            <a:off x="5613120" y="2204640"/>
            <a:ext cx="1800360" cy="180000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770200" y="161928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 пол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б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79056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ые пять тро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4749840" y="4138560"/>
            <a:ext cx="3598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ующие четыре троп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ят не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собенност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203640" y="5589720"/>
            <a:ext cx="1936800" cy="1022040"/>
            <a:chOff x="3203640" y="5589720"/>
            <a:chExt cx="1936800" cy="1022040"/>
          </a:xfrm>
        </p:grpSpPr>
        <p:sp>
          <p:nvSpPr>
            <p:cNvPr id="198" name="Oval 5"/>
            <p:cNvSpPr/>
            <p:nvPr/>
          </p:nvSpPr>
          <p:spPr>
            <a:xfrm>
              <a:off x="3203640" y="5589720"/>
              <a:ext cx="1936800" cy="102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12" descr="Book"/>
            <p:cNvPicPr/>
            <p:nvPr/>
          </p:nvPicPr>
          <p:blipFill>
            <a:blip r:embed="rId1"/>
            <a:stretch/>
          </p:blipFill>
          <p:spPr>
            <a:xfrm>
              <a:off x="3322800" y="5661000"/>
              <a:ext cx="175248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Oval 13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00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3201840" y="5587920"/>
            <a:ext cx="1936800" cy="1022400"/>
          </a:xfrm>
          <a:prstGeom prst="ellipse">
            <a:avLst/>
          </a:prstGeom>
          <a:solidFill>
            <a:srgbClr val="ff00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J0195342"/>
          <p:cNvPicPr/>
          <p:nvPr/>
        </p:nvPicPr>
        <p:blipFill>
          <a:blip r:embed="rId2"/>
          <a:stretch/>
        </p:blipFill>
        <p:spPr>
          <a:xfrm>
            <a:off x="4335480" y="4724280"/>
            <a:ext cx="1892160" cy="1838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9" descr="Inspirations and Dreams_red12"/>
          <p:cNvPicPr/>
          <p:nvPr/>
        </p:nvPicPr>
        <p:blipFill>
          <a:blip r:embed="rId3"/>
          <a:stretch/>
        </p:blipFill>
        <p:spPr>
          <a:xfrm>
            <a:off x="539640" y="5110200"/>
            <a:ext cx="180360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4" name="Picture 23" descr="Sunrise Spectacular_red12"/>
          <p:cNvPicPr/>
          <p:nvPr/>
        </p:nvPicPr>
        <p:blipFill>
          <a:blip r:embed="rId4"/>
          <a:stretch/>
        </p:blipFill>
        <p:spPr>
          <a:xfrm>
            <a:off x="6837480" y="5110200"/>
            <a:ext cx="1803240" cy="143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5" descr="2005-08-07_13-14_1420_fr2"/>
          <p:cNvPicPr/>
          <p:nvPr/>
        </p:nvPicPr>
        <p:blipFill>
          <a:blip r:embed="rId1"/>
          <a:stretch/>
        </p:blipFill>
        <p:spPr>
          <a:xfrm>
            <a:off x="6513480" y="5218200"/>
            <a:ext cx="2133720" cy="155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2005-08-07_12-59_1392_sm"/>
          <p:cNvPicPr/>
          <p:nvPr/>
        </p:nvPicPr>
        <p:blipFill>
          <a:blip r:embed="rId2"/>
          <a:stretch/>
        </p:blipFill>
        <p:spPr>
          <a:xfrm>
            <a:off x="4211640" y="5218200"/>
            <a:ext cx="81900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2005-08-07_12-59_1392_sm"/>
          <p:cNvPicPr/>
          <p:nvPr/>
        </p:nvPicPr>
        <p:blipFill>
          <a:blip r:embed="rId3"/>
          <a:stretch/>
        </p:blipFill>
        <p:spPr>
          <a:xfrm>
            <a:off x="2340000" y="5576760"/>
            <a:ext cx="272880" cy="5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Tourist (3)"/>
          <p:cNvPicPr/>
          <p:nvPr/>
        </p:nvPicPr>
        <p:blipFill>
          <a:blip r:embed="rId4"/>
          <a:stretch/>
        </p:blipFill>
        <p:spPr>
          <a:xfrm>
            <a:off x="826920" y="5829480"/>
            <a:ext cx="524160" cy="92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urist (2)"/>
          <p:cNvPicPr/>
          <p:nvPr/>
        </p:nvPicPr>
        <p:blipFill>
          <a:blip r:embed="rId5"/>
          <a:stretch/>
        </p:blipFill>
        <p:spPr>
          <a:xfrm>
            <a:off x="5468760" y="5937120"/>
            <a:ext cx="343080" cy="847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3" descr="Short-sighted (ed)"/>
          <p:cNvPicPr/>
          <p:nvPr/>
        </p:nvPicPr>
        <p:blipFill>
          <a:blip r:embed="rId6"/>
          <a:stretch/>
        </p:blipFill>
        <p:spPr>
          <a:xfrm>
            <a:off x="8348760" y="5433840"/>
            <a:ext cx="341280" cy="12430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Grove_ed"/>
          <p:cNvPicPr/>
          <p:nvPr/>
        </p:nvPicPr>
        <p:blipFill>
          <a:blip r:embed="rId1"/>
          <a:stretch/>
        </p:blipFill>
        <p:spPr>
          <a:xfrm>
            <a:off x="7377120" y="5721480"/>
            <a:ext cx="1400040" cy="111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Tree"/>
          <p:cNvPicPr/>
          <p:nvPr/>
        </p:nvPicPr>
        <p:blipFill>
          <a:blip r:embed="rId2"/>
          <a:stretch/>
        </p:blipFill>
        <p:spPr>
          <a:xfrm>
            <a:off x="6405480" y="5792760"/>
            <a:ext cx="860400" cy="97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Snow-flake"/>
          <p:cNvPicPr/>
          <p:nvPr/>
        </p:nvPicPr>
        <p:blipFill>
          <a:blip r:embed="rId3"/>
          <a:stretch/>
        </p:blipFill>
        <p:spPr>
          <a:xfrm>
            <a:off x="719280" y="5792760"/>
            <a:ext cx="809640" cy="885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DD00297_"/>
          <p:cNvPicPr/>
          <p:nvPr/>
        </p:nvPicPr>
        <p:blipFill>
          <a:blip r:embed="rId4"/>
          <a:stretch/>
        </p:blipFill>
        <p:spPr>
          <a:xfrm>
            <a:off x="1654200" y="5757840"/>
            <a:ext cx="176040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Flower_red"/>
          <p:cNvPicPr/>
          <p:nvPr/>
        </p:nvPicPr>
        <p:blipFill>
          <a:blip r:embed="rId5"/>
          <a:stretch/>
        </p:blipFill>
        <p:spPr>
          <a:xfrm>
            <a:off x="3562200" y="593712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PH01221K"/>
          <p:cNvPicPr/>
          <p:nvPr/>
        </p:nvPicPr>
        <p:blipFill>
          <a:blip r:embed="rId6"/>
          <a:stretch/>
        </p:blipFill>
        <p:spPr>
          <a:xfrm>
            <a:off x="4713120" y="5757840"/>
            <a:ext cx="1474920" cy="969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omet"/>
          <p:cNvPicPr/>
          <p:nvPr/>
        </p:nvPicPr>
        <p:blipFill>
          <a:blip r:embed="rId1"/>
          <a:stretch/>
        </p:blipFill>
        <p:spPr>
          <a:xfrm>
            <a:off x="6012000" y="6200640"/>
            <a:ext cx="730080" cy="541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un"/>
          <p:cNvPicPr/>
          <p:nvPr/>
        </p:nvPicPr>
        <p:blipFill>
          <a:blip r:embed="rId2"/>
          <a:stretch/>
        </p:blipFill>
        <p:spPr>
          <a:xfrm>
            <a:off x="2843280" y="6134040"/>
            <a:ext cx="641160" cy="6462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2014560" y="6189840"/>
            <a:ext cx="5097600" cy="5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(десятый) троп подводит ит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ирро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ирро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оздержание от 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несидем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стоверность чувственного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строения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особенностей инди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я в восприятии разными органами 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исимость восприятия от внешни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грипп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доказательность рас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дурной бесконечности (удаления в бесконеч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роизвольного допущения (предполо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оп порочного круга (взаимодоказуем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екст Эмпирик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истематизация скептиц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кадемический скепсис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стина и веро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и один человек имее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органы чувств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идетельства которых различны, и непонятно, какому следует отдать предпоч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 отдав предпочтение какому-то одному из человеческих чувств, мы обнаружим, что вос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няется в зависимости от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я и суждения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ависят от обычаев нар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одна вещь не является в чистом виде, но всегда воспринимается 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смешении с другими ве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мест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тором они наход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представляются различным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зависимости от их коли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ятие вещей зависит от того, наскольк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ча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ни встреч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якая вещь воспринимается не сама по себе, а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носи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ругих вещей, в том числе относительно восприним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4030560" y="5937120"/>
            <a:ext cx="1079640" cy="5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762200" y="503712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297480" y="503712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62856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9548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5164200" y="41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431120" y="41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71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1187280" y="3238560"/>
            <a:ext cx="107964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2338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345456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4605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572148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6872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7988400" y="3238560"/>
            <a:ext cx="1079280" cy="53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>
            <a:off x="230184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4570560" y="575784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20"/>
          <p:cNvCxnSpPr/>
          <p:nvPr/>
        </p:nvCxnSpPr>
        <p:spPr>
          <a:xfrm>
            <a:off x="4570560" y="57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Line 21"/>
          <p:cNvSpPr/>
          <p:nvPr/>
        </p:nvSpPr>
        <p:spPr>
          <a:xfrm>
            <a:off x="116856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2"/>
          <p:cNvSpPr/>
          <p:nvPr/>
        </p:nvSpPr>
        <p:spPr>
          <a:xfrm>
            <a:off x="2301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23"/>
          <p:cNvCxnSpPr/>
          <p:nvPr/>
        </p:nvCxnSpPr>
        <p:spPr>
          <a:xfrm>
            <a:off x="2301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8" name="Line 24"/>
          <p:cNvSpPr/>
          <p:nvPr/>
        </p:nvSpPr>
        <p:spPr>
          <a:xfrm>
            <a:off x="5703840" y="4857840"/>
            <a:ext cx="113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5"/>
          <p:cNvSpPr/>
          <p:nvPr/>
        </p:nvSpPr>
        <p:spPr>
          <a:xfrm>
            <a:off x="6837480" y="4857840"/>
            <a:ext cx="1133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26"/>
          <p:cNvCxnSpPr/>
          <p:nvPr/>
        </p:nvCxnSpPr>
        <p:spPr>
          <a:xfrm>
            <a:off x="683748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AutoShape 27"/>
          <p:cNvCxnSpPr/>
          <p:nvPr/>
        </p:nvCxnSpPr>
        <p:spPr>
          <a:xfrm>
            <a:off x="116856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AutoShape 28"/>
          <p:cNvCxnSpPr/>
          <p:nvPr/>
        </p:nvCxnSpPr>
        <p:spPr>
          <a:xfrm>
            <a:off x="2301480" y="557640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3" name="AutoShape 29"/>
          <p:cNvCxnSpPr/>
          <p:nvPr/>
        </p:nvCxnSpPr>
        <p:spPr>
          <a:xfrm>
            <a:off x="6837480" y="557640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4" name="AutoShape 30"/>
          <p:cNvCxnSpPr/>
          <p:nvPr/>
        </p:nvCxnSpPr>
        <p:spPr>
          <a:xfrm>
            <a:off x="116856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5" name="AutoShape 31"/>
          <p:cNvCxnSpPr/>
          <p:nvPr/>
        </p:nvCxnSpPr>
        <p:spPr>
          <a:xfrm>
            <a:off x="3435480" y="467784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6" name="AutoShape 32"/>
          <p:cNvCxnSpPr/>
          <p:nvPr/>
        </p:nvCxnSpPr>
        <p:spPr>
          <a:xfrm>
            <a:off x="5703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7" name="AutoShape 33"/>
          <p:cNvCxnSpPr/>
          <p:nvPr/>
        </p:nvCxnSpPr>
        <p:spPr>
          <a:xfrm>
            <a:off x="797040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8" name="AutoShape 34"/>
          <p:cNvCxnSpPr/>
          <p:nvPr/>
        </p:nvCxnSpPr>
        <p:spPr>
          <a:xfrm>
            <a:off x="611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69" name="AutoShape 35"/>
          <p:cNvCxnSpPr/>
          <p:nvPr/>
        </p:nvCxnSpPr>
        <p:spPr>
          <a:xfrm>
            <a:off x="172728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Line 36"/>
          <p:cNvSpPr/>
          <p:nvPr/>
        </p:nvSpPr>
        <p:spPr>
          <a:xfrm>
            <a:off x="6112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116856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8"/>
          <p:cNvCxnSpPr/>
          <p:nvPr/>
        </p:nvCxnSpPr>
        <p:spPr>
          <a:xfrm>
            <a:off x="34354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3" name="AutoShape 39"/>
          <p:cNvCxnSpPr/>
          <p:nvPr/>
        </p:nvCxnSpPr>
        <p:spPr>
          <a:xfrm>
            <a:off x="2878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4" name="AutoShape 40"/>
          <p:cNvCxnSpPr/>
          <p:nvPr/>
        </p:nvCxnSpPr>
        <p:spPr>
          <a:xfrm>
            <a:off x="399420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5" name="Line 41"/>
          <p:cNvSpPr/>
          <p:nvPr/>
        </p:nvSpPr>
        <p:spPr>
          <a:xfrm>
            <a:off x="287820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435480" y="3957480"/>
            <a:ext cx="55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43"/>
          <p:cNvCxnSpPr/>
          <p:nvPr/>
        </p:nvCxnSpPr>
        <p:spPr>
          <a:xfrm>
            <a:off x="5703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44"/>
          <p:cNvCxnSpPr/>
          <p:nvPr/>
        </p:nvCxnSpPr>
        <p:spPr>
          <a:xfrm>
            <a:off x="5145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79" name="AutoShape 45"/>
          <p:cNvCxnSpPr/>
          <p:nvPr/>
        </p:nvCxnSpPr>
        <p:spPr>
          <a:xfrm>
            <a:off x="626112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0" name="Line 46"/>
          <p:cNvSpPr/>
          <p:nvPr/>
        </p:nvSpPr>
        <p:spPr>
          <a:xfrm>
            <a:off x="514512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7"/>
          <p:cNvSpPr/>
          <p:nvPr/>
        </p:nvSpPr>
        <p:spPr>
          <a:xfrm>
            <a:off x="570384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48"/>
          <p:cNvCxnSpPr/>
          <p:nvPr/>
        </p:nvCxnSpPr>
        <p:spPr>
          <a:xfrm>
            <a:off x="797040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49"/>
          <p:cNvCxnSpPr/>
          <p:nvPr/>
        </p:nvCxnSpPr>
        <p:spPr>
          <a:xfrm>
            <a:off x="741312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50"/>
          <p:cNvCxnSpPr/>
          <p:nvPr/>
        </p:nvCxnSpPr>
        <p:spPr>
          <a:xfrm>
            <a:off x="8528040" y="37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51"/>
          <p:cNvSpPr/>
          <p:nvPr/>
        </p:nvSpPr>
        <p:spPr>
          <a:xfrm>
            <a:off x="741348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2"/>
          <p:cNvSpPr/>
          <p:nvPr/>
        </p:nvSpPr>
        <p:spPr>
          <a:xfrm>
            <a:off x="7970760" y="3957480"/>
            <a:ext cx="55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казательность рас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разноречив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ения людей противоречат друг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удаления в бесконечность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в свою очередь требует доказательства, и так до бесконе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относительн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 утверждения относятся не к вещам, каковы они сами по себе, а к вещам, каковы они по отношению к другим вещам и по отношению судящ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предположения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збегая удаления в бесконечность, догматики исходят из положений, произвольно (т.е. без основания и доказательств) принимаемых за исти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оп взаимодоказуемости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ё, приводимое в доказательство, истинно лишь постольку, поскольку истинно то, что доказывается с его помощ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грипп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Троп порочного кр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670200" y="539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1870200" y="359892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5468760" y="359892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7128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870200" y="1798560"/>
            <a:ext cx="180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367020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иоген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7269120" y="1798560"/>
            <a:ext cx="18003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окра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мерт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705280" y="136692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2770200" y="4948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2"/>
          <p:cNvSpPr/>
          <p:nvPr/>
        </p:nvSpPr>
        <p:spPr>
          <a:xfrm>
            <a:off x="4570560" y="494820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13"/>
          <p:cNvCxnSpPr/>
          <p:nvPr/>
        </p:nvCxnSpPr>
        <p:spPr>
          <a:xfrm>
            <a:off x="4570560" y="494820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4" name="AutoShape 14"/>
          <p:cNvCxnSpPr/>
          <p:nvPr/>
        </p:nvCxnSpPr>
        <p:spPr>
          <a:xfrm>
            <a:off x="2770200" y="314784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5" name="AutoShape 15"/>
          <p:cNvCxnSpPr/>
          <p:nvPr/>
        </p:nvCxnSpPr>
        <p:spPr>
          <a:xfrm>
            <a:off x="277020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6" name="AutoShape 16"/>
          <p:cNvCxnSpPr/>
          <p:nvPr/>
        </p:nvCxnSpPr>
        <p:spPr>
          <a:xfrm>
            <a:off x="97164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7" name="AutoShape 17"/>
          <p:cNvCxnSpPr/>
          <p:nvPr/>
        </p:nvCxnSpPr>
        <p:spPr>
          <a:xfrm>
            <a:off x="457056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08" name="AutoShape 18"/>
          <p:cNvCxnSpPr/>
          <p:nvPr/>
        </p:nvCxnSpPr>
        <p:spPr>
          <a:xfrm>
            <a:off x="8168760" y="2698560"/>
            <a:ext cx="252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09" name="Line 19"/>
          <p:cNvSpPr/>
          <p:nvPr/>
        </p:nvSpPr>
        <p:spPr>
          <a:xfrm>
            <a:off x="971640" y="31478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2770200" y="3147840"/>
            <a:ext cx="539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21"/>
          <p:cNvCxnSpPr/>
          <p:nvPr/>
        </p:nvCxnSpPr>
        <p:spPr>
          <a:xfrm>
            <a:off x="6369120" y="2698560"/>
            <a:ext cx="2160" cy="44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22"/>
          <p:cNvCxnSpPr/>
          <p:nvPr/>
        </p:nvCxnSpPr>
        <p:spPr>
          <a:xfrm>
            <a:off x="277020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3" name="AutoShape 23"/>
          <p:cNvCxnSpPr/>
          <p:nvPr/>
        </p:nvCxnSpPr>
        <p:spPr>
          <a:xfrm>
            <a:off x="6369120" y="4497480"/>
            <a:ext cx="2160" cy="45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2"/>
          <p:cNvSpPr/>
          <p:nvPr/>
        </p:nvSpPr>
        <p:spPr>
          <a:xfrm>
            <a:off x="3151080" y="5056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2071800" y="379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>
            <a:off x="99216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5"/>
          <p:cNvSpPr/>
          <p:nvPr/>
        </p:nvSpPr>
        <p:spPr>
          <a:xfrm>
            <a:off x="647640" y="1654200"/>
            <a:ext cx="4678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можем 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1727280" y="291456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, 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ар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2806560" y="4173480"/>
            <a:ext cx="467856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казывают тропы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ладших скептик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 мышл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ат в себе 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3886200" y="543384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 исти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стематизация скептиц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4" descr="sextus_empiricus-profile"/>
          <p:cNvPicPr/>
          <p:nvPr/>
        </p:nvPicPr>
        <p:blipFill>
          <a:blip r:embed="rId1"/>
          <a:stretch/>
        </p:blipFill>
        <p:spPr>
          <a:xfrm>
            <a:off x="7197840" y="1654200"/>
            <a:ext cx="1447560" cy="22953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0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619280" y="1438200"/>
            <a:ext cx="234000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р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6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ок. 2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468760" y="323856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7197840" y="359892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216000" y="377820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рш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943280" y="4138560"/>
            <a:ext cx="1690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ладш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670200" y="4497480"/>
            <a:ext cx="1690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рр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250920" y="467820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есидем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1978200" y="5037120"/>
            <a:ext cx="161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иппа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 -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706920" y="539748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екст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к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6008760" y="19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с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7"/>
          <p:cNvSpPr/>
          <p:nvPr/>
        </p:nvSpPr>
        <p:spPr>
          <a:xfrm>
            <a:off x="5505480" y="41385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кесила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15-2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8"/>
          <p:cNvSpPr/>
          <p:nvPr/>
        </p:nvSpPr>
        <p:spPr>
          <a:xfrm>
            <a:off x="7232760" y="449748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неа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14/13-129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1060560" y="3057480"/>
            <a:ext cx="91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20"/>
          <p:cNvCxnSpPr/>
          <p:nvPr/>
        </p:nvCxnSpPr>
        <p:spPr>
          <a:xfrm>
            <a:off x="1978200" y="2338200"/>
            <a:ext cx="2160" cy="71964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1"/>
          <p:cNvCxnSpPr/>
          <p:nvPr/>
        </p:nvCxnSpPr>
        <p:spPr>
          <a:xfrm>
            <a:off x="1060560" y="3057480"/>
            <a:ext cx="2160" cy="72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2"/>
          <p:cNvSpPr/>
          <p:nvPr/>
        </p:nvSpPr>
        <p:spPr>
          <a:xfrm>
            <a:off x="1906560" y="395748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23"/>
          <p:cNvCxnSpPr/>
          <p:nvPr/>
        </p:nvCxnSpPr>
        <p:spPr>
          <a:xfrm>
            <a:off x="278712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24"/>
          <p:cNvSpPr/>
          <p:nvPr/>
        </p:nvSpPr>
        <p:spPr>
          <a:xfrm>
            <a:off x="3633840" y="4317840"/>
            <a:ext cx="88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5"/>
          <p:cNvCxnSpPr/>
          <p:nvPr/>
        </p:nvCxnSpPr>
        <p:spPr>
          <a:xfrm>
            <a:off x="4516560" y="431748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6" name="AutoShape 26"/>
          <p:cNvCxnSpPr/>
          <p:nvPr/>
        </p:nvCxnSpPr>
        <p:spPr>
          <a:xfrm>
            <a:off x="71787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7" name="Line 27"/>
          <p:cNvSpPr/>
          <p:nvPr/>
        </p:nvSpPr>
        <p:spPr>
          <a:xfrm>
            <a:off x="6315120" y="3057480"/>
            <a:ext cx="863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8"/>
          <p:cNvCxnSpPr/>
          <p:nvPr/>
        </p:nvCxnSpPr>
        <p:spPr>
          <a:xfrm>
            <a:off x="6315120" y="305748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9" name="Line 29"/>
          <p:cNvSpPr/>
          <p:nvPr/>
        </p:nvSpPr>
        <p:spPr>
          <a:xfrm>
            <a:off x="7161120" y="3417840"/>
            <a:ext cx="88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30"/>
          <p:cNvCxnSpPr/>
          <p:nvPr/>
        </p:nvCxnSpPr>
        <p:spPr>
          <a:xfrm>
            <a:off x="8042400" y="34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31"/>
          <p:cNvCxnSpPr/>
          <p:nvPr/>
        </p:nvCxnSpPr>
        <p:spPr>
          <a:xfrm>
            <a:off x="3598920" y="233856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AutoShape 32"/>
          <p:cNvSpPr/>
          <p:nvPr/>
        </p:nvSpPr>
        <p:spPr>
          <a:xfrm>
            <a:off x="2787480" y="2517840"/>
            <a:ext cx="16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имон</a:t>
            </a:r>
            <a:br>
              <a:rPr sz="18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з Флиунта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5/20-235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3"/>
          <p:cNvSpPr/>
          <p:nvPr/>
        </p:nvSpPr>
        <p:spPr>
          <a:xfrm>
            <a:off x="7232760" y="5576760"/>
            <a:ext cx="16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итомах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87/86-1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714120" y="356220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5200" y="316548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83596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734160" y="393372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7"/>
          <p:cNvSpPr/>
          <p:nvPr/>
        </p:nvSpPr>
        <p:spPr>
          <a:xfrm>
            <a:off x="4102200" y="4030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171960" y="4173480"/>
            <a:ext cx="900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9"/>
          <p:cNvSpPr/>
          <p:nvPr/>
        </p:nvSpPr>
        <p:spPr>
          <a:xfrm>
            <a:off x="4788000" y="4653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4794120" y="4857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но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1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4216680" y="582948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3"/>
          <p:cNvSpPr/>
          <p:nvPr/>
        </p:nvSpPr>
        <p:spPr>
          <a:xfrm>
            <a:off x="5181480" y="3706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5334120" y="3417840"/>
            <a:ext cx="988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ит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5"/>
          <p:cNvSpPr/>
          <p:nvPr/>
        </p:nvSpPr>
        <p:spPr>
          <a:xfrm>
            <a:off x="181764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1410120" y="446256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7"/>
          <p:cNvSpPr/>
          <p:nvPr/>
        </p:nvSpPr>
        <p:spPr>
          <a:xfrm>
            <a:off x="4317840" y="4065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4217760" y="4210200"/>
            <a:ext cx="1037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лиу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чный скепт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8920" y="3057480"/>
            <a:ext cx="46782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Против учё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лог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книги против физ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эт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разных наук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6 кни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. Три книги Пирроновых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313680" y="4724280"/>
            <a:ext cx="209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ст Эмпири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7964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extus_empiricus-profile"/>
          <p:cNvPicPr/>
          <p:nvPr/>
        </p:nvPicPr>
        <p:blipFill>
          <a:blip r:embed="rId1"/>
          <a:stretch/>
        </p:blipFill>
        <p:spPr>
          <a:xfrm>
            <a:off x="6656400" y="1978200"/>
            <a:ext cx="1447920" cy="2295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3"/>
          <p:cNvSpPr/>
          <p:nvPr/>
        </p:nvSpPr>
        <p:spPr>
          <a:xfrm>
            <a:off x="5451480" y="457056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371840" y="2949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1816200" y="4389480"/>
            <a:ext cx="880920" cy="14605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5600 h 1460520"/>
              <a:gd name="textAreaBottom" fmla="*/ 105912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36560" y="277020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539640" y="161928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вы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619280" y="3238560"/>
            <a:ext cx="23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к н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698920" y="4857840"/>
            <a:ext cx="23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тек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4173480" y="179856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ещей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епостижи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53120" y="341784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этому к ним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ледует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ситьс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авноду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6332400" y="5037120"/>
            <a:ext cx="23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з такого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ытекает</a:t>
            </a:r>
            <a:br>
              <a:rPr sz="1800"/>
            </a:b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атаракс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(невозмут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878200" y="2276640"/>
            <a:ext cx="1295280" cy="485640"/>
          </a:xfrm>
          <a:prstGeom prst="rightArrow">
            <a:avLst>
              <a:gd name="adj1" fmla="val 50000"/>
              <a:gd name="adj2" fmla="val 666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ирро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ержание от суж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7348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по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εποχ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о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держ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81840" y="1798560"/>
            <a:ext cx="259056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а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с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ταραξία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</a:rPr>
              <a:t>ταρα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χή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нение, тревог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озмутим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мяте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466560" y="179856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зост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ίσοσθένε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иль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полож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73480" y="4317840"/>
            <a:ext cx="259092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кептик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σκεπτικό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лонный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мотре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думыванию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 flipH="1" flipV="1">
            <a:off x="39492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 чём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ать, чт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 больш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епени 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друг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 flipH="1" flipV="1">
            <a:off x="6008760" y="4317120"/>
            <a:ext cx="2735280" cy="19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отли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е су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исти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у нас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итерия ис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Elephant (2)"/>
          <p:cNvPicPr/>
          <p:nvPr/>
        </p:nvPicPr>
        <p:blipFill>
          <a:blip r:embed="rId1"/>
          <a:stretch/>
        </p:blipFill>
        <p:spPr>
          <a:xfrm>
            <a:off x="468360" y="2986200"/>
            <a:ext cx="1868400" cy="2439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Ant"/>
          <p:cNvPicPr/>
          <p:nvPr/>
        </p:nvPicPr>
        <p:blipFill>
          <a:blip r:embed="rId2"/>
          <a:stretch/>
        </p:blipFill>
        <p:spPr>
          <a:xfrm>
            <a:off x="3419640" y="5229360"/>
            <a:ext cx="763560" cy="44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Leaf (3)"/>
          <p:cNvPicPr/>
          <p:nvPr/>
        </p:nvPicPr>
        <p:blipFill>
          <a:blip r:embed="rId3"/>
          <a:stretch/>
        </p:blipFill>
        <p:spPr>
          <a:xfrm>
            <a:off x="2484360" y="4248000"/>
            <a:ext cx="1181160" cy="9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Hedgehog (6)"/>
          <p:cNvPicPr/>
          <p:nvPr/>
        </p:nvPicPr>
        <p:blipFill>
          <a:blip r:embed="rId4"/>
          <a:stretch/>
        </p:blipFill>
        <p:spPr>
          <a:xfrm>
            <a:off x="7093080" y="4797360"/>
            <a:ext cx="120960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Dolphin (2)"/>
          <p:cNvPicPr/>
          <p:nvPr/>
        </p:nvPicPr>
        <p:blipFill>
          <a:blip r:embed="rId5"/>
          <a:stretch/>
        </p:blipFill>
        <p:spPr>
          <a:xfrm>
            <a:off x="5133960" y="2878200"/>
            <a:ext cx="1382760" cy="2098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Черепаха-7"/>
          <p:cNvPicPr/>
          <p:nvPr/>
        </p:nvPicPr>
        <p:blipFill>
          <a:blip r:embed="rId6"/>
          <a:stretch/>
        </p:blipFill>
        <p:spPr>
          <a:xfrm>
            <a:off x="7377120" y="359892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несиде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достоверность чувствен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5760" y="1420920"/>
            <a:ext cx="8697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живые существ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увствуют по-разному, и совершенно невозможно понять, кто чувствует «правиль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же, если мы отдадим предпочтение человеческому восприятию, придётся признать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ные люд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акже чувствуют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Robin Hood"/>
          <p:cNvPicPr/>
          <p:nvPr/>
        </p:nvPicPr>
        <p:blipFill>
          <a:blip r:embed="rId1"/>
          <a:stretch/>
        </p:blipFill>
        <p:spPr>
          <a:xfrm>
            <a:off x="1438200" y="3849840"/>
            <a:ext cx="2382840" cy="2001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Short-sighted (ed)"/>
          <p:cNvPicPr/>
          <p:nvPr/>
        </p:nvPicPr>
        <p:blipFill>
          <a:blip r:embed="rId2"/>
          <a:stretch/>
        </p:blipFill>
        <p:spPr>
          <a:xfrm>
            <a:off x="6477120" y="3633840"/>
            <a:ext cx="601560" cy="2187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46:48Z</dcterms:created>
  <dc:creator>Николай Бирюков / Nikolai Biryukov</dc:creator>
  <dc:description>Редакция декабря 2006 г.</dc:description>
  <dc:language>en-US</dc:language>
  <cp:lastModifiedBy>LEGION</cp:lastModifiedBy>
  <dcterms:modified xsi:type="dcterms:W3CDTF">2014-11-11T12:34:56Z</dcterms:modified>
  <cp:revision>95</cp:revision>
  <dc:subject>Основы философии - Тема 7</dc:subject>
  <dc:title>Античный скептицизм</dc:title>
</cp:coreProperties>
</file>