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8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562608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AD9F8C5-4B56-469A-B78C-050BF05D5366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517-B27D-4B86-B032-AB829DD3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97E-DC20-4B86-84B2-E7E151FC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751-D2E1-4962-A477-3BBE4F5C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AA0-9576-42D9-B06A-AF6122A1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2679-DACA-4E0C-AD69-8D0F27B4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0198-D522-4CD4-89AE-117581A6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68EC-78CC-4BBA-BF35-FDA94CBA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1274-9982-4F34-B2CC-D33422C0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DBA0-0869-4880-82BF-AB9CD6BD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E8AD-38F9-4D6F-A2D7-C2062B8F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63B5-F144-416A-924D-075ED678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BAB-D754-4DBB-BDFC-431381B1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437B-6629-406D-A843-20493E2D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29B2-E011-4BEA-BB2E-5A718B5C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81F4-7919-4151-988C-987C2B7D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2015-1491-4B47-B36F-9FF7C33F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4680-7BA6-48EA-987B-4833E85F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436-4C18-45B9-A2BE-76BBE17E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13B-9E30-4DB2-B52C-A6E8CD48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549-F53E-4463-9E1F-784ABFEB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AC2-7977-4858-8DDF-A27CCF38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14F-AAD5-4DC8-95E7-3EA7F7CC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235-3D02-458A-B33E-FA8A0343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2C2-3B7B-4012-AA8E-BC5B26D2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1030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34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036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Rectangle 1038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1039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Rectangle 1040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42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1046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1050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1051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1055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6399-8BA5-4470-BFCC-3BED05C225D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" name="Picture 1063" descr="G:\tmp\mf_svetlov3.gif"/>
          <p:cNvPicPr/>
          <p:nvPr/>
        </p:nvPicPr>
        <p:blipFill>
          <a:blip r:embed="rId2"/>
          <a:stretch/>
        </p:blipFill>
        <p:spPr>
          <a:xfrm>
            <a:off x="0" y="152280"/>
            <a:ext cx="4190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4FCA-6B8F-4B94-8AE5-1015117997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1828800" y="6027840"/>
            <a:ext cx="6324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8172360" y="6027840"/>
            <a:ext cx="743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34E-D8D0-46FE-B20D-D44F18AA1316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кция 12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рынка: оценивание функций Торнкви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334116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лек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ходы к моделированию ры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висимость спроса от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дура оценивания параметров функций Торнквиста на основе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70000" y="139356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астичность спроса по це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новая цена;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старая цен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Цена рассматривается как фактор, сокращающий располагаемый дохо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Может быть вычислена аналитически, но приводит к слишком сложному выраже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агрессивной ценовой поли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расширения сбы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033640" y="1751040"/>
          <a:ext cx="386388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751040"/>
                    <a:ext cx="3863880" cy="81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6550-8987-46B6-98BE-200BBBBDD3A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22480" y="96948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о-математические методы и прикладные модели: Учеб. пособие для вузов / Под ред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.В. Федосее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— 2-е изд. М.: ЮНИТИ-ДАНА, 20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етрика: начальный курс /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Я.Р. Магнус, П.К. Катышев, А.А. Пересецк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– 8-е изд. – М.: Акад. нар. хоз-ва при Правительстве РФ, 20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8E10-155C-42EA-BF0A-B8B395706677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1. Подходы к моделированию рын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0000" y="135900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це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амый употребительный способ исследования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дох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годны для описания только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конечного 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ные модели ры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Употребляются для моделирования спроса на промежуточную продукц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ют определить объём сбыта и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Точнее предыдущих двух подходов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53DB-5C46-4E2E-8737-13FFDB29DF6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ая модель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объём спроса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одного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доход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влияние на спрос факторов, не связанных с доходо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называется кривой Эн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пирическая спецификация – функция Торнкви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любом доход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втор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редметов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является ненасыщаемы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146640" y="3583080"/>
          <a:ext cx="13129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6640" y="3583080"/>
                    <a:ext cx="1312920" cy="77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2"/>
          <p:cNvGraphicFramePr/>
          <p:nvPr/>
        </p:nvGraphicFramePr>
        <p:xfrm>
          <a:off x="6681960" y="4452840"/>
          <a:ext cx="1728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960" y="4452840"/>
                    <a:ext cx="172872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Object 2"/>
          <p:cNvGraphicFramePr/>
          <p:nvPr/>
        </p:nvGraphicFramePr>
        <p:xfrm>
          <a:off x="6635880" y="5357880"/>
          <a:ext cx="1874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5880" y="5357880"/>
                    <a:ext cx="187488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ABBA-DB7A-460C-9247-7BC76D005AD7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500120" y="2014560"/>
            <a:ext cx="6775560" cy="407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2081160" y="3481560"/>
          <a:ext cx="671400" cy="39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3481560"/>
                    <a:ext cx="671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"/>
          <p:cNvGraphicFramePr/>
          <p:nvPr/>
        </p:nvGraphicFramePr>
        <p:xfrm>
          <a:off x="3343320" y="2819520"/>
          <a:ext cx="998640" cy="44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3320" y="2819520"/>
                    <a:ext cx="998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4495680" y="4292640"/>
          <a:ext cx="9194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4292640"/>
                    <a:ext cx="9194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97A9-DC23-491E-ABA2-729C04E1807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5780160" y="560232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13"/>
          <p:cNvSpPr/>
          <p:nvPr/>
        </p:nvSpPr>
        <p:spPr>
          <a:xfrm rot="16200000">
            <a:off x="1038960" y="387036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54160" y="4483080"/>
            <a:ext cx="77882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аем </a:t>
            </a:r>
            <a:r>
              <a:rPr b="1" i="1" lang="ru-RU" sz="1300" spc="-1" strike="noStrike">
                <a:solidFill>
                  <a:srgbClr val="000000"/>
                </a:solidFill>
                <a:latin typeface="Tahoma"/>
              </a:rPr>
              <a:t>линейные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cel, Statistica, SPSS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необходимо принять константу равной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возникают сложности, связанные с корреляцией между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оценки параметров становятся неустойчивыми, а </a:t>
            </a:r>
            <a:r>
              <a:rPr b="0" i="1" lang="ru-RU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тест завышает их значимость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еменные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коррелированы </a:t>
            </a:r>
            <a:r>
              <a:rPr b="0" lang="ru-RU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ки, как правило,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сильно смещены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(особенно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Метод практически не пригоден для реальных дан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187280" y="1844640"/>
          <a:ext cx="291492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2914920" cy="253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Object 2"/>
          <p:cNvGraphicFramePr/>
          <p:nvPr/>
        </p:nvGraphicFramePr>
        <p:xfrm>
          <a:off x="4967280" y="1844640"/>
          <a:ext cx="3083040" cy="25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844640"/>
                    <a:ext cx="3083040" cy="257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67B7-D481-4496-9F57-67C282425C3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54160" y="3489480"/>
            <a:ext cx="7788240" cy="26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 оценивании рекомендуется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если спрос есть всегда, то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Эта процедура особенно полезна, если наблюдений мало (в пределах 20-3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384200" y="2230560"/>
          <a:ext cx="2370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230560"/>
                    <a:ext cx="2370240" cy="120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2"/>
          <p:cNvGraphicFramePr/>
          <p:nvPr/>
        </p:nvGraphicFramePr>
        <p:xfrm>
          <a:off x="5103720" y="2219400"/>
          <a:ext cx="2543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2219400"/>
                    <a:ext cx="2543400" cy="124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ED23-DC0A-48D6-9307-DC9E65094CD6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70000" y="157140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стратегии рекламно-информационных камп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итационное моделирование спр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 ИМ функция Торнквиста используется сместе с данными о распределении величины </a:t>
            </a: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ние всех трёх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ариа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социальный слой потребителей вашей продукции, его численность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насыщаемость спроса и потенциальный объём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D689-5C88-4C83-B99B-2A0E1B816B8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52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 зависит от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очень высокая – целесообразно принимать меры по повышению доходов потребител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 т.ч. лоббирование соответствующих законопроект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127160" y="2446200"/>
          <a:ext cx="31906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446200"/>
                    <a:ext cx="319068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2"/>
          <p:cNvGraphicFramePr/>
          <p:nvPr/>
        </p:nvGraphicFramePr>
        <p:xfrm>
          <a:off x="4784760" y="2446200"/>
          <a:ext cx="30654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446200"/>
                    <a:ext cx="306540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588D-34A6-4F5F-B698-E338FC0BD917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04T08:18:43Z</dcterms:modified>
  <cp:revision>261</cp:revision>
  <dc:subject/>
  <dc:title>Моделирование рынка: оценивание функций Торнквиста</dc:title>
</cp:coreProperties>
</file>