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928225" cy="6800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928800" cy="68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7"/>
          </p:nvPr>
        </p:nvSpPr>
        <p:spPr>
          <a:xfrm>
            <a:off x="562608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200" rIns="8820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8"/>
          </p:nvPr>
        </p:nvSpPr>
        <p:spPr>
          <a:xfrm>
            <a:off x="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9"/>
          </p:nvPr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E53CCD49-CDF0-412B-ACAE-62FC87EF52C6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кция 12. Моделирование рынка: оценивание функций Торнкв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ржание лекц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ходы к моделированию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висимость спроса от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дура оценивания параметров функций Торнквиста на основе статистических д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ование функции Торнквиста в маркетинг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Лекция 12. Моделирование рынка: оценивание функций Торнквис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одержание лекции: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дходы к моделированию рынк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Зависимость спроса от доход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оцедура оценивания параметров функций Торнквиста на основе статистических данных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спользование функции Торнквиста в маркетинг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4. Использование функции Торнквиста в маркетинг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спроса по це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 – новая цена; p0 – старая ц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а рассматривается как фактор, сокращающий располагаем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полагается отсутствие других влияний цены на спрос, кроме как через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частности, отсутствие товаров, комплементарных или субституционарных данном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ет быть вычислена аналитически, но приводит к слишком сложному выражен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воляет хоть как-то определить эластичность спроса по цене, если весь товар продаётся по одной и той же цене либо если данные о ценах продаж отсутствую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зкая Ey/p указывает на возможность агрессивной ценовой поли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сокая Ey/p указывает на возможность расширения сбы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4. Использование функции Торнквиста в маркетинг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ластичность спроса по цен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p – новая цена; p0 – старая цен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на рассматривается как фактор, сокращающий располагаемый доход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едполагается отсутствие других влияний цены на спрос, кроме как через доход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 частности, отсутствие товаров, комплементарных или субституционарных данному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жет быть вычислена аналитически, но приводит к слишком сложному выражени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зволяет хоть как-то определить эластичность спроса по цене, если весь товар продаётся по одной и той же цене либо если данные о ценах продаж отсутствуют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Низкая Ey/p указывает на возможность агрессивной ценовой политик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ысокая Ey/p указывает на возможность расширения сбы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0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о-математические методы и прикладные модели: Учеб. пособие для вузов / Под ред. В.В. Федосеева. — 2-е изд. М.: ЮНИТИ-ДАНА, 200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етрика: начальный курс / Я.Р. Магнус, П.К. Катышев, А.А. Пересецкий. – 8-е изд. – М.: Акад. нар. хоз-ва при Правительстве РФ, 200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кономико-математические методы и прикладные модели: Учеб. пособие для вузов / Под ред. В.В. Федосеева. — 2-е изд. М.: ЮНИТИ-ДАНА, 2005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конометрика: начальный курс / Я.Р. Магнус, П.К. Катышев, А.А. Пересецкий. – 8-е изд. – М.: Акад. нар. хоз-ва при Правительстве РФ, 2007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2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1. Подходы к моделированию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етрическое моделирование зависимости спроса от це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ый употребительный способ исследования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воляет определить эластичность спроса по це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рынке в цел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егменте клиентов данной фи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ктически непригоден при предельных случаях эластичности спроса по цене (очень высокая и очень низка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том числе для маркетинга важнейших видов сельскохозяйственной продукции продовольственного назнач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етрическое моделирование зависимости спроса от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воляет определи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ём сбыта на монопольном рын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спроса по дохо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спроса по цене в предположении постоянного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годны для описания только конечного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том числе спроса на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уктурные модели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аны на математическом описании технологий производства и производственных мощностей покуп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отребляются для моделирования спроса на промежуточную продук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воляют определить объём сбыта и эластичность спроса по це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чнее предыдущих двух под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1. Подходы к моделированию рынк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конометрическое моделирование зависимости спроса от цены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амый употребительный способ исследования рынк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зволяет определить эластичность спроса по цен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на рынке в целом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 сегменте клиентов данной фирмы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актически непригоден при предельных случаях эластичности спроса по цене (очень высокая и очень низкая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 том числе для маркетинга важнейших видов сельскохозяйственной продукции продовольственного назначени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конометрическое моделирование зависимости спроса от доход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зволяет определить: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бъём сбыта на монопольном рынк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ластичность спроса по доходу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ластичность спроса по цене в предположении постоянного доход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игодны для описания только конечного спрос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 том числе спроса на услуг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труктурные модели рынк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снованы на математическом описании технологий производства и производственных мощностей покупателей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Употребляются для моделирования спроса на промежуточную продукци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зволяют определить объём сбыта и эластичность спроса по цен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Точнее предыдущих двух подходов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3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2. Зависимость спроса от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етическая модель: y = f (z) + 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 – объём спроса одного потребит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z – доход потребит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ε – влияние на спрос факторов, не связанных с доход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фик функции y = f (z) называется кривой Энг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мпирическая спецификация – функция Торнкв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товаров первой необходи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возникает при любом доход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имеет уровень насыщения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товаров второй необходи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возникает при доходе, превышающем b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имеет уровень насыщения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редметов роскош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возникает при доходе, превышающем b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является ненасыщаемы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2. Зависимость спроса от доход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Теоретическая модель: y = f (z) + 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y – объём спроса одного потребител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z – доход потребител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ε – влияние на спрос факторов, не связанных с доходом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График функции y = f (z) называется кривой Энгел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мпирическая спецификация – функция Торнквис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Для товаров первой необходимост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прос возникает при любом доходе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 имеет уровень насыщения a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Для товаров второй необходимост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прос возникает при доходе, превышающем b,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 имеет уровень насыщения a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Для предметов роскош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прос возникает при доходе, превышающем b,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 является ненасыщаемым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4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2. Зависимость спроса от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, у.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, ш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2. Зависимость спроса от доход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5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доход, у.е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прос, шт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3. Оценивание параметров функций Торнкв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аем линейные уравнения регресс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иваем их параметры методом наименьших квадратов (O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Excel, Statistica, SPSS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оценивании функции Торнквиста для предметов роскош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 принять константу равной нул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никают сложности, связанные с корреляцией между z и z2: оценки параметров становятся неустойчивыми, а t-тест завышает их значим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менные y и z коррелированы  оценки, как правило, сильно смещены (особенно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 практически не пригоден для реальных д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3. Оценивание параметров функций Торнквис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лучаем линейные уравнения регресси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цениваем их параметры методом наименьших квадратов (OLS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Excel, Statistica, SPSS и др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и оценивании функции Торнквиста для предметов роскоши: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необходимо принять константу равной нул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озникают сложности, связанные с корреляцией между z и z2: оценки параметров становятся неустойчивыми, а t-тест завышает их значимость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еременные y и z коррелированы  оценки, как правило, сильно смещены (особенно c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етод практически не пригоден для реальных данных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3. Оценивание параметров функций Торнкв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оценивании рекомендуе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ять b равным минимальному известному из данных доходу, при котором возникает ненулевой с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спрос есть всегда, то нул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ять a равным максимальной наблюдаемой величине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остить выражения, как показано выше, чтобы избавиться от мультиколлинеарности и сузить интервал доверия к оценке параметра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спользоваться однофакторным регрессионным анализом, приравняв константу (свободный член) к нул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 процедура особенно полезна, если наблюдений мало (в пределах 20-3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борка обязательно должна быть репрезентативной: распределение опрошенных лиц по доходам в выборке должно соответствовать генеральной совокуп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3. Оценивание параметров функций Торнквис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и оценивании рекомендуется: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инять b равным минимальному известному из данных доходу, при котором возникает ненулевой спрос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если спрос есть всегда, то нул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инять a равным максимальной наблюдаемой величине спрос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упростить выражения, как показано выше, чтобы избавиться от мультиколлинеарности и сузить интервал доверия к оценке параметра c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оспользоваться однофакторным регрессионным анализом, приравняв константу (свободный член) к нул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та процедура особенно полезна, если наблюдений мало (в пределах 20-30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ыборка обязательно должна быть репрезентативной: распределение опрошенных лиц по доходам в выборке должно соответствовать генеральной совокупност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7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4. Использование функции Торнквиста в маркетинг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стратегии рекламно-информационных камп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м выше уровень дохода потенциального клиента, тем больше издержки на рекламу, способную победить в конкурентной борьбе за его вним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помощью ф.Т. можно определить социальный слой, максимизирующий разницу между прибавкой дохода от сбыта продукции и затратами на рекламную компан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имо ф.Т., требуется эмпирическая зависимость затрат на эффективную рекламу (в расчёте на одного потенциального клиента) от дохода потенциального кли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итационное моделирование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ИМ функция Торнквиста используется сместе с данными о распределении величины 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итационное моделирование позволяет принять правильные маркетинговые решения в ожидании сокращения доходов из-за кризисов, повышения зарплат бюджетников или госслужащих, изменения налогов, выплачиваемых гражданами, и т.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ивание всех трёх вариантов функции Торнквиста по одним и тем же данным и выбор наилучшей подгонки позволяет классифицировать продаваемый това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ь социальный слой потребителей вашей продукции, его числен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ь насыщаемость спроса и потенциальный объём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4. Использование функции Торнквиста в маркетинг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пределение стратегии рекламно-информационных кампаний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Чем выше уровень дохода потенциального клиента, тем больше издержки на рекламу, способную победить в конкурентной борьбе за его внимани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 помощью ф.Т. можно определить социальный слой, максимизирующий разницу между прибавкой дохода от сбыта продукции и затратами на рекламную компани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мимо ф.Т., требуется эмпирическая зависимость затрат на эффективную рекламу (в расчёте на одного потенциального клиента) от дохода потенциального клиен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митационное моделирование спрос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 ИМ функция Торнквиста используется сместе с данными о распределении величины 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митационное моделирование позволяет принять правильные маркетинговые решения в ожидании сокращения доходов из-за кризисов, повышения зарплат бюджетников или госслужащих, изменения налогов, выплачиваемых гражданами, и т.п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ценивание всех трёх вариантов функции Торнквиста по одним и тем же данным и выбор наилучшей подгонки позволяет классифицировать продаваемый товар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пределить социальный слой потребителей вашей продукции, его численность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пределить насыщаемость спроса и потенциальный объём рынк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8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4. Использование функции Торнквиста в маркетинг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спроса по дохо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зависит от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низкая – можно игнорировать изменение доходов при планировании маркетинговой страте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очень высокая – целесообразно принимать меры по повышению доходов потреб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т.ч. лоббирование соответствующих законопроек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4. Использование функции Торнквиста в маркетинг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ластичность спроса по доходу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Не зависит от a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Если низкая – можно игнорировать изменение доходов при планировании маркетинговой стратеги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Если очень высокая – целесообразно принимать меры по повышению доходов потребителей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 т.ч. лоббирование соответствующих законопроектов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9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A16D-27B2-4EC6-98DB-1900D9EF7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C329-E3C9-482C-8353-AE697A7B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16F1-3D24-4CA6-83F4-3D6283B91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57EF-9EAB-46C4-B79B-94794D959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784AD-DBAA-443E-AAB2-D6824F415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FDB8-8EED-45D5-AEF3-0F3DBF42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B48A-FC38-4783-B562-F5D56BF8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E0D1-1413-4B4F-A837-F28E0457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7EF2-3465-4B9A-8541-CBF919EC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A00E-0814-45B9-A0F6-1FB830B4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4A36-EECD-480A-A172-31E2EF29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5036-6F4E-40D2-9EAC-EEE2BB42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CE871-D628-404C-80BB-23D20DD8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9B362-C8B0-4524-AE87-A37756B8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274B-A6D5-48EE-ADC6-5284ACAD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ACD8-F0C5-4ADC-B983-704A1E47B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EBA7-F436-45DC-851B-60CF13260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DBA9-F9CF-49D6-8C5B-9A3A3154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B4A3-F1A9-40F1-8990-096B1A3D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B3C0-C206-4BD4-988A-BE2EC7B7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8F01-E73A-4A20-ABE7-B471FFE6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6462-C60A-4234-918F-BC474399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1392-5B2B-49DD-8BC5-84FB4499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1C80-5935-4BB8-9041-197237F0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" name="Group 1028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1029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" name="Rectangle 1030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Rectangle 1031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Rectangle 1032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Rectangle 1033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Rectangle 1034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Rectangle 1035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Rectangle 1036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Rectangle 1037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Rectangle 1038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" name="Rectangle 1039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" name="Rectangle 1040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" name="Rectangle 1041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" name="Rectangle 1042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" name="Rectangle 1043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" name="Rectangle 1044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" name="Rectangle 1045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" name="Rectangle 1046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" name="Rectangle 1047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" name="Rectangle 1048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" name="Rectangle 1049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Rectangle 1050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Rectangle 1051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" name="Rectangle 1052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" name="Rectangle 1053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" name="Rectangle 1054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" name="Rectangle 1055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" name="Rectangle 1056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" name="Rectangle 1057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2640" y="6248520"/>
            <a:ext cx="692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5f5f5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f5f5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1217-D756-4679-8525-68F69A6541BA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" name="Picture 1063" descr="G:\tmp\mf_svetlov3.gif"/>
          <p:cNvPicPr/>
          <p:nvPr/>
        </p:nvPicPr>
        <p:blipFill>
          <a:blip r:embed="rId2"/>
          <a:stretch/>
        </p:blipFill>
        <p:spPr>
          <a:xfrm>
            <a:off x="0" y="152280"/>
            <a:ext cx="419040" cy="41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1026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5" name="Rectangle 1027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6" name="Group 1028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7" name="Rectangle 1029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" name="Rectangle 1030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" name="Rectangle 1031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" name="Rectangle 1032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" name="Rectangle 1033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" name="Rectangle 1034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Rectangle 1035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" name="Rectangle 1036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" name="Rectangle 1037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" name="Rectangle 1038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" name="Rectangle 1039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" name="Rectangle 1040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" name="Rectangle 1041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" name="Rectangle 1042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" name="Rectangle 1043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1044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" name="Rectangle 1045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" name="Rectangle 1046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1047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Rectangle 1048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Rectangle 1049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1050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1051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Rectangle 1052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1053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Rectangle 1054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Rectangle 1055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1056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Rectangle 1057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9079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2123640" y="6248520"/>
            <a:ext cx="597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E653-E234-425C-A2A9-FF7C7A5C8C4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ижний колонтитул 4"/>
          <p:cNvSpPr/>
          <p:nvPr/>
        </p:nvSpPr>
        <p:spPr>
          <a:xfrm>
            <a:off x="1828800" y="6027840"/>
            <a:ext cx="6324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Номер слайда 5"/>
          <p:cNvSpPr/>
          <p:nvPr/>
        </p:nvSpPr>
        <p:spPr>
          <a:xfrm>
            <a:off x="8172360" y="6027840"/>
            <a:ext cx="743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C666-0AC6-4BAE-876C-2C11036E2C8F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587520"/>
            <a:ext cx="7772400" cy="110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Лекция 12.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Моделирование рынка: оценивание функций Торнквис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0000" y="3341160"/>
            <a:ext cx="7772400" cy="23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держание лекци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дходы к моделированию рын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висимость спроса от дохо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цедура оценивания параметров функций Торнквиста на основе статистических данны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спользование функции Торнквиста в маркетинг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6000" y="156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2.4. Использование функции Торнквиста в маркетинг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170000" y="1393560"/>
            <a:ext cx="7772400" cy="49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Эластичность спроса по цен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 – новая цена;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 – старая цена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Цена рассматривается как фактор, сокращающий располагаемый дохо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предполагается отсутствие других влияний цены на спрос, кроме как через доход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 частности, отсутствие товаров, комплементарных или субституционарных данному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Может быть вычислена аналитически, но приводит к слишком сложному выражению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озволяет хоть как-то определить эластичность спроса по цене, если весь товар продаётся по одной и той же цене либо если данные о ценах продаж отсутствуют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изкая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ahoma"/>
              </a:rPr>
              <a:t>y/p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указывает на возможность агрессивной ценовой политик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сокая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ahoma"/>
              </a:rPr>
              <a:t>y/p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указывает на возможность расширения сбыт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8" name="Object 2"/>
          <p:cNvGraphicFramePr/>
          <p:nvPr/>
        </p:nvGraphicFramePr>
        <p:xfrm>
          <a:off x="2033640" y="1751040"/>
          <a:ext cx="3863880" cy="81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3640" y="1751040"/>
                    <a:ext cx="3863880" cy="819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0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73CE-DA0A-40F5-AD50-D5B2C87836BB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95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Литератур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22480" y="96948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ономико-математические методы и прикладные модели: Учеб. пособие для вузов / Под ред.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В.В. Федосеев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— 2-е изд. М.: ЮНИТИ-ДАНА, 2005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онометрика: начальный курс /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Я.Р. Магнус, П.К. Катышев, А.А. Пересецки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– 8-е изд. – М.: Акад. нар. хоз-ва при Правительстве РФ, 2007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78B9-FE05-476F-9BAD-879B7507752E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3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12.1. Подходы к моделированию рынк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70000" y="1359000"/>
            <a:ext cx="77724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Эконометрическое моделирование зависимости спроса от цен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Самый употребительный способ исследования рынка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озволяет определить эластичность спроса по цене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на рынке в целом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 сегменте клиентов данной фирмы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рактически непригоден при предельных случаях эластичности спроса по цене (очень высокая и очень низкая)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 том числе для маркетинга важнейших видов сельскохозяйственной продукции продовольственного назначени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Эконометрическое моделирование зависимости спроса от дохо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озволяет определить: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Объём сбыта на монопольном рынк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Эластичность спроса по доходу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Эластичность спроса по цене в предположении постоянного доход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ригодны для описания только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конечного 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спроса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 том числе спроса на услуг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руктурные модели рын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Основаны на математическом описании технологий производства и производственных мощностей покупателей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Употребляются для моделирования спроса на промежуточную продукцию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озволяют определить объём сбыта и эластичность спроса по цене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Точнее предыдущих двух подходов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79E6-90D3-4F83-9F71-36014EBAA989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12.2. Зависимость спроса от доход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еоретическая модель: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) + </a:t>
            </a:r>
            <a:r>
              <a:rPr b="0" i="1" lang="el-GR" sz="2000" spc="-1" strike="noStrike">
                <a:solidFill>
                  <a:srgbClr val="000000"/>
                </a:solidFill>
                <a:latin typeface="Tahoma"/>
              </a:rPr>
              <a:t>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 – объём спроса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одного потребителя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 – доход потребителя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5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 – влияние на спрос факторов, не связанных с доходом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рафик функции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) называется кривой Энгел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мпирическая спецификация – функция Торнквис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товаров первой необходим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Спрос возникает при любом доходе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и имеет уровень насыщения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товаров второй необходим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Спрос возникает при доходе, превышающем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и имеет уровень насыщения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предметов роскош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Спрос возникает при доходе, превышающем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и является ненасыщаемым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8" name="Object 2"/>
          <p:cNvGraphicFramePr/>
          <p:nvPr/>
        </p:nvGraphicFramePr>
        <p:xfrm>
          <a:off x="6146640" y="3583080"/>
          <a:ext cx="131292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6640" y="3583080"/>
                    <a:ext cx="1312920" cy="771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Object 2"/>
          <p:cNvGraphicFramePr/>
          <p:nvPr/>
        </p:nvGraphicFramePr>
        <p:xfrm>
          <a:off x="6681960" y="4452840"/>
          <a:ext cx="1728720" cy="7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81960" y="4452840"/>
                    <a:ext cx="1728720" cy="770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2" name="Object 2"/>
          <p:cNvGraphicFramePr/>
          <p:nvPr/>
        </p:nvGraphicFramePr>
        <p:xfrm>
          <a:off x="6635880" y="5357880"/>
          <a:ext cx="1874880" cy="77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3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35880" y="5357880"/>
                    <a:ext cx="1874880" cy="770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4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DE90-A387-48CA-95E1-A2B19F0AC141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1500120" y="2014560"/>
            <a:ext cx="6775560" cy="40752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12.2. Зависимость спроса от доход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8" name="Object 2"/>
          <p:cNvGraphicFramePr/>
          <p:nvPr/>
        </p:nvGraphicFramePr>
        <p:xfrm>
          <a:off x="2081160" y="3481560"/>
          <a:ext cx="671400" cy="39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81160" y="3481560"/>
                    <a:ext cx="67140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2"/>
          <p:cNvGraphicFramePr/>
          <p:nvPr/>
        </p:nvGraphicFramePr>
        <p:xfrm>
          <a:off x="3343320" y="2819520"/>
          <a:ext cx="998640" cy="444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1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43320" y="2819520"/>
                    <a:ext cx="99864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2"/>
          <p:cNvGraphicFramePr/>
          <p:nvPr/>
        </p:nvGraphicFramePr>
        <p:xfrm>
          <a:off x="4495680" y="4292640"/>
          <a:ext cx="919440" cy="377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3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495680" y="4292640"/>
                    <a:ext cx="91944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0CA6-1C64-4524-97B8-9DE635931197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Box 12"/>
          <p:cNvSpPr/>
          <p:nvPr/>
        </p:nvSpPr>
        <p:spPr>
          <a:xfrm>
            <a:off x="5780160" y="5602320"/>
            <a:ext cx="106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оход, у.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Box 13"/>
          <p:cNvSpPr/>
          <p:nvPr/>
        </p:nvSpPr>
        <p:spPr>
          <a:xfrm rot="16200000">
            <a:off x="1038960" y="3870360"/>
            <a:ext cx="106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рос, шт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12.3. Оценивание параметров функций Торнквист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54160" y="4483080"/>
            <a:ext cx="7788240" cy="17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олучаем </a:t>
            </a:r>
            <a:r>
              <a:rPr b="1" i="1" lang="ru-RU" sz="1300" spc="-1" strike="noStrike">
                <a:solidFill>
                  <a:srgbClr val="000000"/>
                </a:solidFill>
                <a:latin typeface="Tahoma"/>
              </a:rPr>
              <a:t>линейные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уравнения регресси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Оцениваем их параметры методом наименьших квадратов (OLS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75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Excel, Statistica, SPSS 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и др.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ри оценивании функции Торнквиста для предметов роскоши: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75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необходимо принять константу равной нулю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75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возникают сложности, связанные с корреляцией между </a:t>
            </a:r>
            <a:r>
              <a:rPr b="0" i="1" lang="ru-RU" sz="1100" spc="-1" strike="noStrike">
                <a:solidFill>
                  <a:srgbClr val="7f7f7f"/>
                </a:solidFill>
                <a:latin typeface="Tahoma"/>
              </a:rPr>
              <a:t>z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i="1" lang="ru-RU" sz="1100" spc="-1" strike="noStrike">
                <a:solidFill>
                  <a:srgbClr val="7f7f7f"/>
                </a:solidFill>
                <a:latin typeface="Tahoma"/>
              </a:rPr>
              <a:t>z</a:t>
            </a:r>
            <a:r>
              <a:rPr b="0" lang="ru-RU" sz="11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: оценки параметров становятся неустойчивыми, а </a:t>
            </a:r>
            <a:r>
              <a:rPr b="0" i="1" lang="ru-RU" sz="11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-тест завышает их значимость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еременные </a:t>
            </a:r>
            <a:r>
              <a:rPr b="0" i="1" lang="ru-RU" sz="1300" spc="-1" strike="noStrike">
                <a:solidFill>
                  <a:srgbClr val="7f7f7f"/>
                </a:solidFill>
                <a:latin typeface="Tahoma"/>
              </a:rPr>
              <a:t>y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i="1" lang="ru-RU" sz="1300" spc="-1" strike="noStrike">
                <a:solidFill>
                  <a:srgbClr val="7f7f7f"/>
                </a:solidFill>
                <a:latin typeface="Tahoma"/>
              </a:rPr>
              <a:t>z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коррелированы </a:t>
            </a:r>
            <a:r>
              <a:rPr b="0" lang="ru-RU" sz="13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оценки, как правило, </a:t>
            </a: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сильно смещены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(особенно </a:t>
            </a:r>
            <a:r>
              <a:rPr b="0" i="1" lang="ru-RU" sz="13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75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ahoma"/>
              </a:rPr>
              <a:t>Метод практически не пригоден для реальных данных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Object 2"/>
          <p:cNvGraphicFramePr/>
          <p:nvPr/>
        </p:nvGraphicFramePr>
        <p:xfrm>
          <a:off x="1187280" y="1844640"/>
          <a:ext cx="2914920" cy="25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2914920" cy="2538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92" name="Object 2"/>
          <p:cNvGraphicFramePr/>
          <p:nvPr/>
        </p:nvGraphicFramePr>
        <p:xfrm>
          <a:off x="4967280" y="1844640"/>
          <a:ext cx="3083040" cy="257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67280" y="1844640"/>
                    <a:ext cx="3083040" cy="2579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4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A433-7251-4843-AF00-31C06920B908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2.3. Оценивание параметров функций Торнквис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154160" y="3489480"/>
            <a:ext cx="7788240" cy="26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ри оценивании рекомендуется: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ринять </a:t>
            </a:r>
            <a:r>
              <a:rPr b="0" i="1" lang="ru-RU" sz="13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равным минимальному известному из данных доходу, при котором возникает ненулевой спрос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если спрос есть всегда, то нулю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ринять </a:t>
            </a:r>
            <a:r>
              <a:rPr b="0" i="1" lang="ru-RU" sz="13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равным максимальной наблюдаемой величине спрос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упростить выражения, как показано выше, чтобы избавиться от мультиколлинеарности и сузить интервал доверия к оценке параметра </a:t>
            </a:r>
            <a:r>
              <a:rPr b="0" i="1" lang="ru-RU" sz="13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оспользоваться однофакторным регрессионным анализом, приравняв константу (свободный член) к нул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Эта процедура особенно полезна, если наблюдений мало (в пределах 20-30)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ыборка обязательно должна быть репрезентативной: распределение опрошенных лиц по доходам в выборке должно соответствовать генеральной совокупност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8" name="Object 2"/>
          <p:cNvGraphicFramePr/>
          <p:nvPr/>
        </p:nvGraphicFramePr>
        <p:xfrm>
          <a:off x="1384200" y="2230560"/>
          <a:ext cx="2370240" cy="12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4200" y="2230560"/>
                    <a:ext cx="2370240" cy="1204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0" name="Object 2"/>
          <p:cNvGraphicFramePr/>
          <p:nvPr/>
        </p:nvGraphicFramePr>
        <p:xfrm>
          <a:off x="5103720" y="2219400"/>
          <a:ext cx="2543400" cy="12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3720" y="2219400"/>
                    <a:ext cx="2543400" cy="1243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2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FD18-16CF-4F6D-82AB-3B1D38B53A84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3000" y="17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12.4. Использование функции Торнквиста в маркетинг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170000" y="1571400"/>
            <a:ext cx="77724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пределение стратегии рекламно-информационных кампан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Чем выше уровень дохода потенциального клиента, тем больше издержки на рекламу, способную победить в конкурентной борьбе за его внимание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С помощью ф.Т. можно определить социальный слой, максимизирующий разницу между прибавкой дохода от сбыта продукции и затратами на рекламную компанию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омимо ф.Т., требуется эмпирическая зависимость затрат на эффективную рекламу (в расчёте на одного потенциального клиента) от дохода потенциального клиен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митационное моделирование спрос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В ИМ функция Торнквиста используется сместе с данными о распределении величины </a:t>
            </a:r>
            <a:r>
              <a:rPr b="0" i="1" lang="el-GR" sz="1500" spc="-1" strike="noStrike">
                <a:solidFill>
                  <a:srgbClr val="000000"/>
                </a:solidFill>
                <a:latin typeface="Tahoma"/>
              </a:rPr>
              <a:t>ε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Имитационное моделирование позволяет принять правильные маркетинговые решения в ожидании сокращения доходов из-за кризисов, повышения зарплат бюджетников или госслужащих, изменения налогов, выплачиваемых гражданами, и т.п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ценивание всех трёх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вариантов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функции Торнквиста по одним и тем же данным и выбор наилучшей подгонки позволяет классифицировать продаваемый това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Определить социальный слой потребителей вашей продукции, его численность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Определить насыщаемость спроса и потенциальный объём рынка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417C-B217-4894-8E85-CE2A1E746396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3000" y="352080"/>
            <a:ext cx="7772400" cy="69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2.4. Использование функции Торнквиста в маркетинг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Эластичность спроса по доходу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Не зависит от </a:t>
            </a:r>
            <a:r>
              <a:rPr b="0" i="1" lang="ru-RU" sz="2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Если низкая – можно игнорировать изменение доходов при планировании маркетинговой стратегии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Если очень высокая – целесообразно принимать меры по повышению доходов потребителей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В т.ч. лоббирование соответствующих законопроектов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0" name="Object 2"/>
          <p:cNvGraphicFramePr/>
          <p:nvPr/>
        </p:nvGraphicFramePr>
        <p:xfrm>
          <a:off x="1127160" y="2446200"/>
          <a:ext cx="3190680" cy="7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2446200"/>
                    <a:ext cx="3190680" cy="7765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2" name="Object 2"/>
          <p:cNvGraphicFramePr/>
          <p:nvPr/>
        </p:nvGraphicFramePr>
        <p:xfrm>
          <a:off x="4784760" y="2446200"/>
          <a:ext cx="3065400" cy="7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4760" y="2446200"/>
                    <a:ext cx="3065400" cy="7765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4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A23F-23AE-414B-8E23-CB04505B5A8A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1T17:48:52Z</dcterms:created>
  <dc:creator>Н. Светлов</dc:creator>
  <dc:description/>
  <dc:language>en-US</dc:language>
  <cp:lastModifiedBy>LEGION</cp:lastModifiedBy>
  <dcterms:modified xsi:type="dcterms:W3CDTF">2016-01-04T08:18:43Z</dcterms:modified>
  <cp:revision>261</cp:revision>
  <dc:subject/>
  <dc:title>Моделирование рынка: оценивание функций Торнквиста</dc:title>
</cp:coreProperties>
</file>