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D14E4-CC0E-464E-BD73-DF1AAEC2AF9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прос.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едложение.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ыночное равновес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Спрос.</a:t>
            </a:r>
            <a:br>
              <a:rPr sz="1200"/>
            </a:b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Предложение.</a:t>
            </a:r>
            <a:br>
              <a:rPr sz="1200"/>
            </a:b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Рыночное равновеси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ая детерминанта – ценова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движение от точки к точке на одной и той же кривой предлож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выше цена, тем больше предложе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ширяется круг производ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ет загрузка мощно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дит переключение мощностей на производство товара, ставшего более выгод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лавная детерминанта – ценовая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движение от точки к точке на одной и той же кривой предложения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Чем выше цена, тем больше предложение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сширяется круг производител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стет загрузка мощност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исходит переключение мощностей на производство товара, ставшего более выгодны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дит изменение величины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жение от точки к точке на одной и той же кривой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исходит изменение величины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вижение от точки к точке на одной и той же кривой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ценовые детерминанты предложения – сдвигают всю кривую предложения вправо или вле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на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я в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 и до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на другие това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жидания производ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я численности продавцов (производителе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ценовые детерминанты предложения – сдвигают всю кривую предложения вправо или влев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ны на рес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менения в технолог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логи и дотац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ны на другие товар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жидания производител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менения численности продавцов (производителей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дит изменение предложения (в цело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s = f (P, Pr, E, T, V et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исходит изменение предложения (в целом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 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s = f (P, Pr, E, T, V etc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а и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урок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ластичность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роса и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урок 3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реакции величины спроса на изменение цены товара называется эластичностью спроса по це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Δ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d = ------ * 10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Δ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ластичность спро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тепень реакции величины спроса на изменение цены товара называется эластичностью спроса по цен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Δ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Ed = ------ * 100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Δ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Е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или отсутствие замен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необходимости товара для покупа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я цены товара в совокупном доходе покупа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 времени, в течение которого принимается решение о покуп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кторы, влияющие на Е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личие или отсутствие заменител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тепень необходимости товара для покупател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оля цены товара в совокупном доходе покупател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ериод времени, в течение которого принимается решение о покупк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предложения – масштаб изменения величины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%) при изменении цены на 1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Δ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s = ------ * 10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Δ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ластичность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ластичность предложения – масштаб изменения величины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в %) при изменении цены на 1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Δ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Es = ------ * 100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Δ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эласти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ый спрос (ED &gt; 1). Ситуация, при которой величина спроса изменяется в большей степени, чем цены. Например, рост цены на 1% вызывает снижение величины спроса на 4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эластичный спрос (ED &lt; 1). Ситуация, при которой величина спроса изменяется в меньшей степени, чем цена. Например, рост цены на 1% приводит к снижению спроса лишь на 0,3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ичная эластичность спроса (ED =1). Она возникает в том случае, когда на каждый 1% изменения цены количество спроса изменяется на 1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ршенно эластичный спрос (ED = ∞). Ситуация, при которой величина спроса бесконечно изменяется при малом изменении цены. В этом случае кривая спроса строго горизонтальн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ршенно неэластичный спрос (ED = 0). Ситуация, при которой величина спроса абсолютно не меняется при изменении цены. Такой спрос представлен вертикальной кривой сп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ормы эластич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ластичный спрос (ED &gt; 1). Ситуация, при которой величина спроса изменяется в большей степени, чем цены. Например, рост цены на 1% вызывает снижение величины спроса на 4%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эластичный спрос (ED &lt; 1). Ситуация, при которой величина спроса изменяется в меньшей степени, чем цена. Например, рост цены на 1% приводит к снижению спроса лишь на 0,3%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единичная эластичность спроса (ED =1). Она возникает в том случае, когда на каждый 1% изменения цены количество спроса изменяется на 1%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вершенно эластичный спрос (ED = ∞). Ситуация, при которой величина спроса бесконечно изменяется при малом изменении цены. В этом случае кривая спроса строго горизонтальн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вершенно неэластичный спрос (ED = 0). Ситуация, при которой величина спроса абсолютно не меняется при изменении цены. Такой спрос представлен вертикальной кривой спрос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рение эласти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измерить эластичность, нужно установить, насколько изменяется спрос при изменении це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демонстрирует понятие эластичности. Содержательно эластичность показывает, гибко или не гибко реагирует спрос на изменения це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мерение эластич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Чтобы измерить эластичность, нужно установить, насколько изменяется спрос при изменении цены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одель демонстрирует понятие эластичности. Содержательно эластичность показывает, гибко или не гибко реагирует спрос на изменения цены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ы урок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и пред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чное равновес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мы уроков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рос и предложе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ластичность спроса и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ыночное равновесие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Е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ервы производства и запасы готовой продук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 и тип производимого товара или услу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кторы, влияющие на Е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зервы производства и запасы готовой продукци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Характер и тип производимого товара или услуг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н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Эластичность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Эластичность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ыночное равновес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(урок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Рыночное равновес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(урок 4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ки стремятся к состоянию равновесия, где спрос = предложению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лиш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ынки стремятся к состоянию равновесия, где спрос = предложению..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лише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ефиц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овесная цена – цена, уравновешивающая спрос и предложение в результате действия конкурентных си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равновесной це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ирующ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мулирующ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целом механизм цен способствует перераспределению ресурсов в пользу отраслей с высоким платежеспособным спросом (наиболее эффективных на данный момен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вновесная цена – цена, уравновешивающая спрос и предложение в результате действия конкурентных си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ункции равновесной цен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нформационна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ормирующа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тимулирующа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целом механизм цен способствует перераспределению ресурсов в пользу отраслей с высоким платежеспособным спросом (наиболее эффективных на данный момент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лишки производителя и потребител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ыигрывают и покупатели, и продавц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лишки производителя и потребителя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выигрывают и покупатели, и продавцы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равновесия по Вальрас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нипулирование ценами в краткосрочном перио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лиш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 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становление равновесия по Вальрас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анипулирование ценами в краткосрочном период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лише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ефиц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 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равновесия п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Маршалл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нипулирование объемами производства в долгосрочном перио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ока PD &gt; PS или PS &gt; P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становление равновесия по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. Маршалл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анипулирование объемами производства в долгосрочном период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пока PD &gt; PS или PS &gt; P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 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утинообразная модель равнове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ойчивое равновес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затухающие колебания)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угол наклона кривой предложения S круче угла наклона кривой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аутинообразная модель равновес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стойчивое равновес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затухающие колебания) –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если угол наклона кривой предложения S круче угла наклона кривой спро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утинообразная модель установления равновес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устойчивое равновес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зрывной характер колебани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аутинообразная модель установления равновесия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устойчивое равновес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взрывной характер колебаний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и пред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уроки 1,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рос и предложе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уроки 1,2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утинообразная модель с равномерным отклонением от равнове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ярный характер колеб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аутинообразная модель с равномерным отклонением от равновес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гулярный характер колебан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ойчивое равновес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затухающие колеба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стойчивое равновесие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затухающие колебания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устанавливающееся равновес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зрывные колеба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устанавливающееся равновесие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взрывные колебания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устанавливающееся равновесие (равномерные колеба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устанавливающееся равновесие (равномерные колебания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– сложившаяся в определенный период зависимость величин спроса на данном товарном рынке от цен, по которым товары могут быть предложены к продаж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А СПРОСА – количество товара, которое покупатели хотят и могут приобрести по данной цене в течение определенного промежутка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РОС – сложившаяся в определенный период зависимость величин спроса на данном товарном рынке от цен, по которым товары могут быть предложены к продаж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ЕЛИЧИНА СПРОСА – количество товара, которое покупатели хотят и могут приобрести по данной цене в течение определенного промежутка времен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спроса гласит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итель приобретет тем больше товара, чем ниже его рыночная цен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..при прочих равных услов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вая спроса позволяет ответить на 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а будет величина спроса при разных уровнях це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зменится величина спроса при изменении цен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кон спроса гласит: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требитель приобретет тем больше товара, чем ниже его рыночная цена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...при прочих равных условиях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ривая спроса позволяет ответить на вопросы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ова будет величина спроса при разных уровнях цен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 изменится величина спроса при изменении цены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сдвиг кривой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езность това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 выбора покупа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(снижение) до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усы (предпочтен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товаров-замени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числа покупа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кторы, влияющие на сдвиг кривой спро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н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лезность товар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на выбора покупател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ост (снижение) доходо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кусы (предпочтения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тоимость товаров-заменителе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менение числа покупателе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ИЕ – зависимость количества товара, которое производители хотят и могут произвести, от цен на этот това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А ПРЕДЛОЖЕНИЯ – количество товара, которое производители хотят и могут произвести и предложить к продаже по данной цене в течение определенного промежутка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ДЛОЖЕНИЕ – зависимость количества товара, которое производители хотят и могут произвести, от цен на этот товар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ЕЛИЧИНА ПРЕДЛОЖЕНИЯ – количество товара, которое производители хотят и могут произвести и предложить к продаже по данной цене в течение определенного промежутка времен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предложения гласит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ие товара тем больше, чем выше цена на него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..при прочих равных услов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исимость между ценой и количеством товаров – прям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фик имеет вид восходящей кривой (прямо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 = f (P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кон предложения гласит: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дложение товара тем больше, чем выше цена на него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...при прочих равных условиях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висимость между ценой и количеством товаров – пряма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рафик имеет вид восходящей кривой (прямой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 = f (P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величину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на ресур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технологии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 и субсид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цен на товары, производимые в аналогичных услов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жидание изменения ц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(снижение) числа производи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кторы, влияющие на величину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ны на ресурс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менение технологии производств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логи и субсиди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менение цен на товары, производимые в аналогичных условиях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жидание изменения цен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ост (снижение) числа производителе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641E-5BB2-4510-A930-F32FC1B76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CBBE-D302-4407-9EC7-C9B1836EA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CE5C-86AD-46C1-90FE-7F034A776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4027-C4A3-44D1-94C3-D86EE2293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A786D-D35A-4D6D-9D53-E955B33C3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91686-8860-49DC-976B-355C153D3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00C16-6847-4C15-BEE3-7EDACD82F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2D2CF-17E1-4027-B456-9C287280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C7638-274A-4612-B848-7FF8783B9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1F82D-44DB-456A-93A6-B996CCF65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5A151-8414-4D66-808F-809B8D4D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69EF-B723-4490-8072-DC0E1C8DC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3E441-9464-40E9-8E44-7C9CA7F0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FC3F3-4E5E-4222-A37F-F3598837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1E01B-597E-4B1B-8346-369997966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42798-6B78-4147-896B-22916A4C6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C665A-4961-4BC3-A980-2C5CCF95C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738E-46EC-4438-B341-468258E2D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9D25-E681-430F-88C4-9581F62F9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2E41-12C1-4BDB-9423-2CB52EA0B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055D-69E3-4C9D-BD6F-B967261FA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E19C-B403-4994-8782-67FC0608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59E8-4FC0-444D-9B44-952EBF78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98E8-B8C1-4425-A38C-B8E22E3A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49B2F-163E-4560-93DC-98F4A01BF65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AC1FF-5495-454A-8ED8-7EA60A3AE32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10920" y="1700280"/>
            <a:ext cx="8134200" cy="2449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Спрос.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Предложение.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Рыночное равновесие</a:t>
            </a: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4000" y="765000"/>
            <a:ext cx="84596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Главная детерминанта – ценовая</a:t>
            </a:r>
            <a:br>
              <a:rPr sz="4000"/>
            </a:br>
            <a:r>
              <a:rPr b="0" lang="ru-RU" sz="3600" spc="-1" strike="noStrike">
                <a:solidFill>
                  <a:srgbClr val="dbbd71"/>
                </a:solidFill>
                <a:latin typeface="Arial"/>
              </a:rPr>
              <a:t>(движение от точки к точке на одной и той же кривой предложения)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50920" y="2492280"/>
            <a:ext cx="86868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ем выше цена, тем больше предложени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ширяется круг производител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тет загрузка мощност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исходит переключение мощностей на производство товара, ставшего более выгодны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роисходит изменение величины предложения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вижение от точки к точке на одной и той же кривой предлож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Line 4"/>
          <p:cNvSpPr/>
          <p:nvPr/>
        </p:nvSpPr>
        <p:spPr>
          <a:xfrm flipV="1">
            <a:off x="971640" y="2811600"/>
            <a:ext cx="0" cy="345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Line 5"/>
          <p:cNvSpPr/>
          <p:nvPr/>
        </p:nvSpPr>
        <p:spPr>
          <a:xfrm>
            <a:off x="971640" y="6267600"/>
            <a:ext cx="4392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Line 6"/>
          <p:cNvSpPr/>
          <p:nvPr/>
        </p:nvSpPr>
        <p:spPr>
          <a:xfrm flipV="1">
            <a:off x="1619280" y="3242880"/>
            <a:ext cx="3097080" cy="2592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5508720" y="597996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Oval 8"/>
          <p:cNvSpPr/>
          <p:nvPr/>
        </p:nvSpPr>
        <p:spPr>
          <a:xfrm>
            <a:off x="2268360" y="5229360"/>
            <a:ext cx="71640" cy="7128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Oval 9"/>
          <p:cNvSpPr/>
          <p:nvPr/>
        </p:nvSpPr>
        <p:spPr>
          <a:xfrm>
            <a:off x="3203640" y="4437000"/>
            <a:ext cx="73080" cy="7164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Text Box 10"/>
          <p:cNvSpPr/>
          <p:nvPr/>
        </p:nvSpPr>
        <p:spPr>
          <a:xfrm>
            <a:off x="2033640" y="4673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2843280" y="4221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395280" y="2421000"/>
            <a:ext cx="77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Text Box 14"/>
          <p:cNvSpPr/>
          <p:nvPr/>
        </p:nvSpPr>
        <p:spPr>
          <a:xfrm>
            <a:off x="4875120" y="2708280"/>
            <a:ext cx="6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Line 15"/>
          <p:cNvSpPr/>
          <p:nvPr/>
        </p:nvSpPr>
        <p:spPr>
          <a:xfrm flipV="1">
            <a:off x="2340000" y="4508640"/>
            <a:ext cx="863640" cy="720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Неценовые детерминанты предложения – сдвигают всю кривую предложения вправо или влево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0" y="2492280"/>
            <a:ext cx="91440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ены на ресурс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менения в технолог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оги и дот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ены на другие товар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жидания производител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менения численности продавцов (производителей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роисходит изменение предложения (в целом)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964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Line 4"/>
          <p:cNvSpPr/>
          <p:nvPr/>
        </p:nvSpPr>
        <p:spPr>
          <a:xfrm flipV="1">
            <a:off x="971640" y="2811600"/>
            <a:ext cx="0" cy="345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Line 5"/>
          <p:cNvSpPr/>
          <p:nvPr/>
        </p:nvSpPr>
        <p:spPr>
          <a:xfrm>
            <a:off x="971640" y="6267600"/>
            <a:ext cx="4392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Line 6"/>
          <p:cNvSpPr/>
          <p:nvPr/>
        </p:nvSpPr>
        <p:spPr>
          <a:xfrm flipV="1">
            <a:off x="1619280" y="3212640"/>
            <a:ext cx="3097080" cy="2592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5508720" y="597996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Oval 8"/>
          <p:cNvSpPr/>
          <p:nvPr/>
        </p:nvSpPr>
        <p:spPr>
          <a:xfrm>
            <a:off x="2340000" y="5157720"/>
            <a:ext cx="71280" cy="7164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Oval 9"/>
          <p:cNvSpPr/>
          <p:nvPr/>
        </p:nvSpPr>
        <p:spPr>
          <a:xfrm>
            <a:off x="3203640" y="4437000"/>
            <a:ext cx="73080" cy="7164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Text Box 10"/>
          <p:cNvSpPr/>
          <p:nvPr/>
        </p:nvSpPr>
        <p:spPr>
          <a:xfrm>
            <a:off x="2050920" y="4797360"/>
            <a:ext cx="4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Text Box 11"/>
          <p:cNvSpPr/>
          <p:nvPr/>
        </p:nvSpPr>
        <p:spPr>
          <a:xfrm>
            <a:off x="2843280" y="42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Text Box 13"/>
          <p:cNvSpPr/>
          <p:nvPr/>
        </p:nvSpPr>
        <p:spPr>
          <a:xfrm>
            <a:off x="395280" y="2349360"/>
            <a:ext cx="77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Line 14"/>
          <p:cNvSpPr/>
          <p:nvPr/>
        </p:nvSpPr>
        <p:spPr>
          <a:xfrm flipV="1">
            <a:off x="1835280" y="3428640"/>
            <a:ext cx="3097080" cy="259236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Line 17"/>
          <p:cNvSpPr/>
          <p:nvPr/>
        </p:nvSpPr>
        <p:spPr>
          <a:xfrm flipV="1">
            <a:off x="1476360" y="2852280"/>
            <a:ext cx="3095640" cy="259236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Text Box 18"/>
          <p:cNvSpPr/>
          <p:nvPr/>
        </p:nvSpPr>
        <p:spPr>
          <a:xfrm>
            <a:off x="4299120" y="2482920"/>
            <a:ext cx="113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19"/>
          <p:cNvSpPr/>
          <p:nvPr/>
        </p:nvSpPr>
        <p:spPr>
          <a:xfrm>
            <a:off x="4803840" y="2781360"/>
            <a:ext cx="8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Text Box 20"/>
          <p:cNvSpPr/>
          <p:nvPr/>
        </p:nvSpPr>
        <p:spPr>
          <a:xfrm>
            <a:off x="5019840" y="3429000"/>
            <a:ext cx="120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21"/>
          <p:cNvSpPr/>
          <p:nvPr/>
        </p:nvSpPr>
        <p:spPr>
          <a:xfrm>
            <a:off x="4859280" y="226692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 = f (P, Pr, E, T, V et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Line 22"/>
          <p:cNvSpPr/>
          <p:nvPr/>
        </p:nvSpPr>
        <p:spPr>
          <a:xfrm>
            <a:off x="3132000" y="44370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Line 23"/>
          <p:cNvSpPr/>
          <p:nvPr/>
        </p:nvSpPr>
        <p:spPr>
          <a:xfrm flipH="1" flipV="1">
            <a:off x="2484360" y="4436640"/>
            <a:ext cx="719280" cy="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Line 26"/>
          <p:cNvSpPr/>
          <p:nvPr/>
        </p:nvSpPr>
        <p:spPr>
          <a:xfrm>
            <a:off x="2411280" y="5157720"/>
            <a:ext cx="505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Эластичность</a:t>
            </a:r>
            <a:br>
              <a:rPr sz="5400"/>
            </a:b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спроса и предложения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урок 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Эластичность спрос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епень реакции величины спроса на изменение цены товара называется эластичностью спроса по цен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3059280" y="3645000"/>
            <a:ext cx="3384360" cy="17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           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  <a:ea typeface="Tahoma"/>
              </a:rPr>
              <a:t>Δ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E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= ------ * 10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Δ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Факторы, влияющие на Е</a:t>
            </a:r>
            <a:r>
              <a:rPr b="0" lang="en-US" sz="3600" spc="-1" strike="noStrike" baseline="-25000">
                <a:solidFill>
                  <a:srgbClr val="dbbd71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личие или отсутствие заменител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тепень необходимости товара для покупател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оля цены товара в совокупном доходе покупател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иод времени, в течение которого принимается решение о покупк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1332000" y="2060640"/>
          <a:ext cx="6095880" cy="44748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66ff"/>
                          </a:solidFill>
                          <a:latin typeface="Tahoma"/>
                        </a:rPr>
                        <a:t>Зубная пас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66ff"/>
                          </a:solidFill>
                          <a:latin typeface="Tahoma"/>
                        </a:rPr>
                        <a:t>яйц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1332000" y="2924280"/>
          <a:ext cx="6048360" cy="504720"/>
        </p:xfrm>
        <a:graphic>
          <a:graphicData uri="http://schemas.openxmlformats.org/drawingml/2006/table">
            <a:tbl>
              <a:tblPr/>
              <a:tblGrid>
                <a:gridCol w="1849320"/>
                <a:gridCol w="419904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66ff"/>
                          </a:solidFill>
                          <a:latin typeface="Tahoma"/>
                        </a:rPr>
                        <a:t>роскош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66ff"/>
                          </a:solidFill>
                          <a:latin typeface="Tahoma"/>
                        </a:rPr>
                        <a:t>Товары первой необходим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1332000" y="4149720"/>
          <a:ext cx="6121440" cy="863640"/>
        </p:xfrm>
        <a:graphic>
          <a:graphicData uri="http://schemas.openxmlformats.org/drawingml/2006/table">
            <a:tbl>
              <a:tblPr/>
              <a:tblGrid>
                <a:gridCol w="3095640"/>
                <a:gridCol w="302580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66ff"/>
                          </a:solidFill>
                          <a:latin typeface="Tahoma"/>
                        </a:rPr>
                        <a:t>компьюте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66ff"/>
                          </a:solidFill>
                          <a:latin typeface="Tahoma"/>
                        </a:rPr>
                        <a:t>мыл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262" name="Oval 154"/>
          <p:cNvSpPr/>
          <p:nvPr/>
        </p:nvSpPr>
        <p:spPr>
          <a:xfrm>
            <a:off x="3564000" y="4508640"/>
            <a:ext cx="647640" cy="433080"/>
          </a:xfrm>
          <a:prstGeom prst="ellipse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Oval 155"/>
          <p:cNvSpPr/>
          <p:nvPr/>
        </p:nvSpPr>
        <p:spPr>
          <a:xfrm>
            <a:off x="6732720" y="4508640"/>
            <a:ext cx="647640" cy="433080"/>
          </a:xfrm>
          <a:prstGeom prst="ellipse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AutoShape 162"/>
          <p:cNvSpPr/>
          <p:nvPr/>
        </p:nvSpPr>
        <p:spPr>
          <a:xfrm>
            <a:off x="3564000" y="4508640"/>
            <a:ext cx="647640" cy="43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599" y="10127"/>
                </a:moveTo>
                <a:cubicBezTo>
                  <a:pt x="12679" y="10342"/>
                  <a:pt x="12721" y="10570"/>
                  <a:pt x="12721" y="10800"/>
                </a:cubicBezTo>
                <a:cubicBezTo>
                  <a:pt x="12721" y="11860"/>
                  <a:pt x="11860" y="12721"/>
                  <a:pt x="10800" y="12721"/>
                </a:cubicBezTo>
                <a:cubicBezTo>
                  <a:pt x="9739" y="12721"/>
                  <a:pt x="8879" y="11860"/>
                  <a:pt x="8879" y="10800"/>
                </a:cubicBezTo>
                <a:cubicBezTo>
                  <a:pt x="8878" y="10570"/>
                  <a:pt x="8920" y="10342"/>
                  <a:pt x="9000" y="10127"/>
                </a:cubicBezTo>
                <a:lnTo>
                  <a:pt x="683" y="7017"/>
                </a:lnTo>
                <a:cubicBezTo>
                  <a:pt x="231" y="8227"/>
                  <a:pt x="-1" y="9508"/>
                  <a:pt x="0" y="10800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6764" y="21600"/>
                  <a:pt x="21600" y="16764"/>
                  <a:pt x="21600" y="10800"/>
                </a:cubicBezTo>
                <a:cubicBezTo>
                  <a:pt x="21600" y="9508"/>
                  <a:pt x="21368" y="8227"/>
                  <a:pt x="20916" y="7017"/>
                </a:cubicBezTo>
                <a:lnTo>
                  <a:pt x="12599" y="10127"/>
                </a:lnTo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AutoShape 163"/>
          <p:cNvSpPr/>
          <p:nvPr/>
        </p:nvSpPr>
        <p:spPr>
          <a:xfrm>
            <a:off x="6732720" y="4508640"/>
            <a:ext cx="647640" cy="433080"/>
          </a:xfrm>
          <a:custGeom>
            <a:avLst/>
            <a:gdLst>
              <a:gd name="textAreaLeft" fmla="*/ 0 w 647640"/>
              <a:gd name="textAreaRight" fmla="*/ 648000 w 647640"/>
              <a:gd name="textAreaTop" fmla="*/ 0 h 433080"/>
              <a:gd name="textAreaBottom" fmla="*/ 427680 h 433080"/>
            </a:gdLst>
            <a:ahLst/>
            <a:rect l="textAreaLeft" t="textAreaTop" r="textAreaRight" b="textAreaBottom"/>
            <a:pathLst>
              <a:path w="21600" h="21600">
                <a:moveTo>
                  <a:pt x="12599" y="15902"/>
                </a:moveTo>
                <a:cubicBezTo>
                  <a:pt x="12021" y="16106"/>
                  <a:pt x="11413" y="16210"/>
                  <a:pt x="10800" y="16211"/>
                </a:cubicBezTo>
                <a:cubicBezTo>
                  <a:pt x="10186" y="16211"/>
                  <a:pt x="9578" y="16106"/>
                  <a:pt x="9000" y="15902"/>
                </a:cubicBezTo>
                <a:lnTo>
                  <a:pt x="7207" y="20984"/>
                </a:lnTo>
                <a:cubicBezTo>
                  <a:pt x="8361" y="21392"/>
                  <a:pt x="9576" y="21600"/>
                  <a:pt x="10800" y="21600"/>
                </a:cubicBezTo>
                <a:cubicBezTo>
                  <a:pt x="12023" y="21599"/>
                  <a:pt x="13238" y="21392"/>
                  <a:pt x="14392" y="20984"/>
                </a:cubicBezTo>
                <a:lnTo>
                  <a:pt x="12599" y="15902"/>
                </a:lnTo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Эластичность предложения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ластичность предложения – масштаб изменения величины предлож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в %) при изменении цены на 1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059280" y="3645000"/>
            <a:ext cx="338436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           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  <a:ea typeface="Tahoma"/>
              </a:rPr>
              <a:t>Δ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= ------ * 10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Δ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Формы эластичност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эластичный спрос (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ahoma"/>
              </a:rPr>
              <a:t>D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&gt; 1)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Ситуация, при которой величина спроса изменяется в большей степени, чем цены. Например, рост цены на 1% вызывает снижение величины спроса на 4%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еэластичный спрос (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ahoma"/>
              </a:rPr>
              <a:t>D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&lt; 1)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Ситуация, при которой величина спроса изменяется в меньшей степени, чем цена. Например, рост цены на 1% приводит к снижению спроса лишь на 0,3%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единичная эластичность спроса (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ahoma"/>
              </a:rPr>
              <a:t>D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=1)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Она возникает в том случае, когда на каждый 1%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зменения цены количество спроса изменяется на 1%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овершенно эластичный спрос (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ahoma"/>
              </a:rPr>
              <a:t>D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= ∞)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Ситуация, при которой величина спроса бесконечно изменяется при малом изменении цены. В этом случае кривая спроса строго горизонтальн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овершенно неэластичный спрос (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ahoma"/>
              </a:rPr>
              <a:t>D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= 0)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Ситуация, при которой величина спроса абсолютно не меняется при изменении цены. Такой спрос представлен вертикальной кривой спрос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Измерение эластичност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тобы измерить эластичность, нужно установить, насколько изменяется спрос при изменении цен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дель демонстрирует понятие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эластичност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Содержательно эластичность показывает, гибко или не гибко реагирует спрос на изменения цен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6" name="Picture 4" descr=""/>
          <p:cNvPicPr/>
          <p:nvPr/>
        </p:nvPicPr>
        <p:blipFill>
          <a:blip r:embed="rId1"/>
          <a:stretch/>
        </p:blipFill>
        <p:spPr>
          <a:xfrm>
            <a:off x="2843280" y="2492280"/>
            <a:ext cx="3529080" cy="2975040"/>
          </a:xfrm>
          <a:prstGeom prst="rect">
            <a:avLst/>
          </a:prstGeom>
          <a:ln w="0">
            <a:noFill/>
          </a:ln>
        </p:spPr>
      </p:pic>
      <p:sp>
        <p:nvSpPr>
          <p:cNvPr id="27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Темы уроков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прос и предлож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ластичность спроса и предлож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ыночное равновеси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Факторы, влияющие на Е</a:t>
            </a:r>
            <a:r>
              <a:rPr b="0" lang="en-US" sz="4400" spc="-1" strike="noStrike" baseline="-25000">
                <a:solidFill>
                  <a:srgbClr val="dbbd71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зервы производства и запасы готовой продукц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Характер и тип производимого товара или услуг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е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Эластичность предложения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82" name="Picture 6" descr="image232"/>
          <p:cNvPicPr/>
          <p:nvPr/>
        </p:nvPicPr>
        <p:blipFill>
          <a:blip r:embed="rId1"/>
          <a:stretch/>
        </p:blipFill>
        <p:spPr>
          <a:xfrm>
            <a:off x="250920" y="2276640"/>
            <a:ext cx="8636040" cy="36511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7" descr=" "/>
          <p:cNvPicPr/>
          <p:nvPr/>
        </p:nvPicPr>
        <p:blipFill>
          <a:blip r:embed="rId2"/>
          <a:stretch/>
        </p:blipFill>
        <p:spPr>
          <a:xfrm>
            <a:off x="3851280" y="1413000"/>
            <a:ext cx="1152360" cy="666720"/>
          </a:xfrm>
          <a:prstGeom prst="rect">
            <a:avLst/>
          </a:prstGeom>
          <a:ln w="0">
            <a:noFill/>
          </a:ln>
        </p:spPr>
      </p:pic>
      <p:sp>
        <p:nvSpPr>
          <p:cNvPr id="28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Рыночное равновесие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урок 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Line 2"/>
          <p:cNvSpPr/>
          <p:nvPr/>
        </p:nvSpPr>
        <p:spPr>
          <a:xfrm flipV="1">
            <a:off x="2340000" y="2565360"/>
            <a:ext cx="0" cy="345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Line 3"/>
          <p:cNvSpPr/>
          <p:nvPr/>
        </p:nvSpPr>
        <p:spPr>
          <a:xfrm>
            <a:off x="2340000" y="6021360"/>
            <a:ext cx="4392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Line 4"/>
          <p:cNvSpPr/>
          <p:nvPr/>
        </p:nvSpPr>
        <p:spPr>
          <a:xfrm flipV="1">
            <a:off x="2987640" y="2997000"/>
            <a:ext cx="3097080" cy="2592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Line 5"/>
          <p:cNvSpPr/>
          <p:nvPr/>
        </p:nvSpPr>
        <p:spPr>
          <a:xfrm>
            <a:off x="3132000" y="3213000"/>
            <a:ext cx="2952720" cy="23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6156360" y="508464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6156360" y="242100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1692360" y="220500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6877080" y="573408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Line 10"/>
          <p:cNvSpPr/>
          <p:nvPr/>
        </p:nvSpPr>
        <p:spPr>
          <a:xfrm flipH="1">
            <a:off x="2340000" y="4292640"/>
            <a:ext cx="2160720" cy="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Line 11"/>
          <p:cNvSpPr/>
          <p:nvPr/>
        </p:nvSpPr>
        <p:spPr>
          <a:xfrm>
            <a:off x="4500720" y="4292640"/>
            <a:ext cx="0" cy="172872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Text Box 12"/>
          <p:cNvSpPr/>
          <p:nvPr/>
        </p:nvSpPr>
        <p:spPr>
          <a:xfrm>
            <a:off x="1476360" y="3860640"/>
            <a:ext cx="934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Text Box 13"/>
          <p:cNvSpPr/>
          <p:nvPr/>
        </p:nvSpPr>
        <p:spPr>
          <a:xfrm>
            <a:off x="4284720" y="5967360"/>
            <a:ext cx="1150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Rectangle 14"/>
          <p:cNvSpPr/>
          <p:nvPr/>
        </p:nvSpPr>
        <p:spPr>
          <a:xfrm>
            <a:off x="539640" y="673200"/>
            <a:ext cx="835200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Рынки стремятся к состоянию равновесия, где спрос = предложению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Line 15"/>
          <p:cNvSpPr/>
          <p:nvPr/>
        </p:nvSpPr>
        <p:spPr>
          <a:xfrm>
            <a:off x="2340000" y="3645000"/>
            <a:ext cx="295272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Line 16"/>
          <p:cNvSpPr/>
          <p:nvPr/>
        </p:nvSpPr>
        <p:spPr>
          <a:xfrm>
            <a:off x="2340000" y="4941720"/>
            <a:ext cx="287964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Line 17"/>
          <p:cNvSpPr/>
          <p:nvPr/>
        </p:nvSpPr>
        <p:spPr>
          <a:xfrm flipV="1">
            <a:off x="3995640" y="3645000"/>
            <a:ext cx="432000" cy="28872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Line 18"/>
          <p:cNvSpPr/>
          <p:nvPr/>
        </p:nvSpPr>
        <p:spPr>
          <a:xfrm flipV="1">
            <a:off x="4211640" y="3644640"/>
            <a:ext cx="647640" cy="43164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Line 19"/>
          <p:cNvSpPr/>
          <p:nvPr/>
        </p:nvSpPr>
        <p:spPr>
          <a:xfrm>
            <a:off x="4211640" y="4581360"/>
            <a:ext cx="647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Line 20"/>
          <p:cNvSpPr/>
          <p:nvPr/>
        </p:nvSpPr>
        <p:spPr>
          <a:xfrm>
            <a:off x="3995640" y="4724280"/>
            <a:ext cx="1081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Text Box 21"/>
          <p:cNvSpPr/>
          <p:nvPr/>
        </p:nvSpPr>
        <p:spPr>
          <a:xfrm>
            <a:off x="3579840" y="314172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Излише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Text Box 22"/>
          <p:cNvSpPr/>
          <p:nvPr/>
        </p:nvSpPr>
        <p:spPr>
          <a:xfrm>
            <a:off x="3780000" y="5084640"/>
            <a:ext cx="17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Дефици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-396720" y="274320"/>
            <a:ext cx="954072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Равновесная цена – цена, уравновешивающая спрос и предложение в результате действия конкурентных сил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0560" y="2707920"/>
            <a:ext cx="889308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Функции равновесной цен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формационн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ормирующ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имулирующ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целом механизм цен способствует перераспределению ресурсов в пользу отраслей с высоким платежеспособным спросом (наиболее эффективных на данный момент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Line 2"/>
          <p:cNvSpPr/>
          <p:nvPr/>
        </p:nvSpPr>
        <p:spPr>
          <a:xfrm flipV="1">
            <a:off x="2340000" y="2204640"/>
            <a:ext cx="0" cy="381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Line 3"/>
          <p:cNvSpPr/>
          <p:nvPr/>
        </p:nvSpPr>
        <p:spPr>
          <a:xfrm>
            <a:off x="2340000" y="6021360"/>
            <a:ext cx="4392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Line 4"/>
          <p:cNvSpPr/>
          <p:nvPr/>
        </p:nvSpPr>
        <p:spPr>
          <a:xfrm flipV="1">
            <a:off x="2340000" y="2997360"/>
            <a:ext cx="3744720" cy="3024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Line 5"/>
          <p:cNvSpPr/>
          <p:nvPr/>
        </p:nvSpPr>
        <p:spPr>
          <a:xfrm>
            <a:off x="2340000" y="2637000"/>
            <a:ext cx="3744720" cy="2952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6156360" y="515772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Text Box 7"/>
          <p:cNvSpPr/>
          <p:nvPr/>
        </p:nvSpPr>
        <p:spPr>
          <a:xfrm>
            <a:off x="6084720" y="249228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Text Box 8"/>
          <p:cNvSpPr/>
          <p:nvPr/>
        </p:nvSpPr>
        <p:spPr>
          <a:xfrm>
            <a:off x="1692360" y="220500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Text Box 9"/>
          <p:cNvSpPr/>
          <p:nvPr/>
        </p:nvSpPr>
        <p:spPr>
          <a:xfrm>
            <a:off x="6877080" y="573408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Line 10"/>
          <p:cNvSpPr/>
          <p:nvPr/>
        </p:nvSpPr>
        <p:spPr>
          <a:xfrm flipH="1">
            <a:off x="2340000" y="4292640"/>
            <a:ext cx="2160720" cy="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Line 11"/>
          <p:cNvSpPr/>
          <p:nvPr/>
        </p:nvSpPr>
        <p:spPr>
          <a:xfrm>
            <a:off x="4500720" y="4292640"/>
            <a:ext cx="0" cy="172872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Text Box 12"/>
          <p:cNvSpPr/>
          <p:nvPr/>
        </p:nvSpPr>
        <p:spPr>
          <a:xfrm>
            <a:off x="1476360" y="3860640"/>
            <a:ext cx="934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Text Box 13"/>
          <p:cNvSpPr/>
          <p:nvPr/>
        </p:nvSpPr>
        <p:spPr>
          <a:xfrm>
            <a:off x="4284720" y="5967360"/>
            <a:ext cx="1150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Rectangle 14"/>
          <p:cNvSpPr/>
          <p:nvPr/>
        </p:nvSpPr>
        <p:spPr>
          <a:xfrm>
            <a:off x="179280" y="333360"/>
            <a:ext cx="882036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Излишки производителя и потребителя</a:t>
            </a:r>
            <a:br>
              <a:rPr sz="4000"/>
            </a:b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(выигрывают и покупатели, и продавцы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Line 15"/>
          <p:cNvSpPr/>
          <p:nvPr/>
        </p:nvSpPr>
        <p:spPr>
          <a:xfrm flipV="1">
            <a:off x="2340000" y="3141360"/>
            <a:ext cx="576360" cy="4316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Line 16"/>
          <p:cNvSpPr/>
          <p:nvPr/>
        </p:nvSpPr>
        <p:spPr>
          <a:xfrm flipV="1">
            <a:off x="2340000" y="3429000"/>
            <a:ext cx="936720" cy="7207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Line 17"/>
          <p:cNvSpPr/>
          <p:nvPr/>
        </p:nvSpPr>
        <p:spPr>
          <a:xfrm flipV="1">
            <a:off x="2987640" y="3715920"/>
            <a:ext cx="720720" cy="5763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Line 18"/>
          <p:cNvSpPr/>
          <p:nvPr/>
        </p:nvSpPr>
        <p:spPr>
          <a:xfrm flipV="1">
            <a:off x="3851280" y="4076640"/>
            <a:ext cx="289080" cy="2160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Line 19"/>
          <p:cNvSpPr/>
          <p:nvPr/>
        </p:nvSpPr>
        <p:spPr>
          <a:xfrm>
            <a:off x="2340000" y="5300640"/>
            <a:ext cx="503280" cy="28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Line 20"/>
          <p:cNvSpPr/>
          <p:nvPr/>
        </p:nvSpPr>
        <p:spPr>
          <a:xfrm>
            <a:off x="2340000" y="4724280"/>
            <a:ext cx="863640" cy="505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Line 21"/>
          <p:cNvSpPr/>
          <p:nvPr/>
        </p:nvSpPr>
        <p:spPr>
          <a:xfrm>
            <a:off x="2700360" y="4292640"/>
            <a:ext cx="1008000" cy="57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Line 22"/>
          <p:cNvSpPr/>
          <p:nvPr/>
        </p:nvSpPr>
        <p:spPr>
          <a:xfrm>
            <a:off x="3708360" y="4292640"/>
            <a:ext cx="43200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Установление равновесия по Вальрасу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нипулирование ценами в краткосрочном период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Line 4"/>
          <p:cNvSpPr/>
          <p:nvPr/>
        </p:nvSpPr>
        <p:spPr>
          <a:xfrm flipV="1">
            <a:off x="2340000" y="2565360"/>
            <a:ext cx="0" cy="345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Line 5"/>
          <p:cNvSpPr/>
          <p:nvPr/>
        </p:nvSpPr>
        <p:spPr>
          <a:xfrm>
            <a:off x="2340000" y="6021360"/>
            <a:ext cx="4392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Line 6"/>
          <p:cNvSpPr/>
          <p:nvPr/>
        </p:nvSpPr>
        <p:spPr>
          <a:xfrm flipV="1">
            <a:off x="2987640" y="2997000"/>
            <a:ext cx="3097080" cy="2592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Line 7"/>
          <p:cNvSpPr/>
          <p:nvPr/>
        </p:nvSpPr>
        <p:spPr>
          <a:xfrm>
            <a:off x="3132000" y="3213000"/>
            <a:ext cx="2952720" cy="23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Text Box 8"/>
          <p:cNvSpPr/>
          <p:nvPr/>
        </p:nvSpPr>
        <p:spPr>
          <a:xfrm>
            <a:off x="6156360" y="508464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Text Box 9"/>
          <p:cNvSpPr/>
          <p:nvPr/>
        </p:nvSpPr>
        <p:spPr>
          <a:xfrm>
            <a:off x="6156360" y="242100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Text Box 10"/>
          <p:cNvSpPr/>
          <p:nvPr/>
        </p:nvSpPr>
        <p:spPr>
          <a:xfrm>
            <a:off x="1692360" y="220500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Text Box 11"/>
          <p:cNvSpPr/>
          <p:nvPr/>
        </p:nvSpPr>
        <p:spPr>
          <a:xfrm>
            <a:off x="6877080" y="573408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Line 12"/>
          <p:cNvSpPr/>
          <p:nvPr/>
        </p:nvSpPr>
        <p:spPr>
          <a:xfrm flipH="1">
            <a:off x="2340000" y="4292640"/>
            <a:ext cx="2160720" cy="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Line 13"/>
          <p:cNvSpPr/>
          <p:nvPr/>
        </p:nvSpPr>
        <p:spPr>
          <a:xfrm>
            <a:off x="4500720" y="4292640"/>
            <a:ext cx="0" cy="172872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Text Box 14"/>
          <p:cNvSpPr/>
          <p:nvPr/>
        </p:nvSpPr>
        <p:spPr>
          <a:xfrm>
            <a:off x="4284720" y="5967360"/>
            <a:ext cx="1150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Line 15"/>
          <p:cNvSpPr/>
          <p:nvPr/>
        </p:nvSpPr>
        <p:spPr>
          <a:xfrm>
            <a:off x="2340000" y="3645000"/>
            <a:ext cx="295272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Line 16"/>
          <p:cNvSpPr/>
          <p:nvPr/>
        </p:nvSpPr>
        <p:spPr>
          <a:xfrm>
            <a:off x="2340000" y="4941720"/>
            <a:ext cx="287964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Line 17"/>
          <p:cNvSpPr/>
          <p:nvPr/>
        </p:nvSpPr>
        <p:spPr>
          <a:xfrm flipV="1">
            <a:off x="3995640" y="3645000"/>
            <a:ext cx="432000" cy="28872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Line 18"/>
          <p:cNvSpPr/>
          <p:nvPr/>
        </p:nvSpPr>
        <p:spPr>
          <a:xfrm flipV="1">
            <a:off x="4211640" y="3644640"/>
            <a:ext cx="647640" cy="43164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Line 19"/>
          <p:cNvSpPr/>
          <p:nvPr/>
        </p:nvSpPr>
        <p:spPr>
          <a:xfrm>
            <a:off x="4211640" y="4581360"/>
            <a:ext cx="647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3995640" y="4724280"/>
            <a:ext cx="1081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Text Box 21"/>
          <p:cNvSpPr/>
          <p:nvPr/>
        </p:nvSpPr>
        <p:spPr>
          <a:xfrm>
            <a:off x="3579840" y="314172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Излише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Text Box 22"/>
          <p:cNvSpPr/>
          <p:nvPr/>
        </p:nvSpPr>
        <p:spPr>
          <a:xfrm>
            <a:off x="3780000" y="5084640"/>
            <a:ext cx="17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Дефици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Line 23"/>
          <p:cNvSpPr/>
          <p:nvPr/>
        </p:nvSpPr>
        <p:spPr>
          <a:xfrm>
            <a:off x="4427640" y="3645000"/>
            <a:ext cx="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Line 24"/>
          <p:cNvSpPr/>
          <p:nvPr/>
        </p:nvSpPr>
        <p:spPr>
          <a:xfrm flipV="1">
            <a:off x="4643280" y="443700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Text Box 25"/>
          <p:cNvSpPr/>
          <p:nvPr/>
        </p:nvSpPr>
        <p:spPr>
          <a:xfrm>
            <a:off x="1763640" y="3284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Text Box 26"/>
          <p:cNvSpPr/>
          <p:nvPr/>
        </p:nvSpPr>
        <p:spPr>
          <a:xfrm>
            <a:off x="1619280" y="472428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Text Box 27"/>
          <p:cNvSpPr/>
          <p:nvPr/>
        </p:nvSpPr>
        <p:spPr>
          <a:xfrm>
            <a:off x="1490760" y="4076640"/>
            <a:ext cx="77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Line 28"/>
          <p:cNvSpPr/>
          <p:nvPr/>
        </p:nvSpPr>
        <p:spPr>
          <a:xfrm>
            <a:off x="2050920" y="371628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Line 29"/>
          <p:cNvSpPr/>
          <p:nvPr/>
        </p:nvSpPr>
        <p:spPr>
          <a:xfrm flipV="1">
            <a:off x="1979640" y="4581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5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5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bbd71"/>
                </a:solidFill>
                <a:latin typeface="Arial"/>
              </a:rPr>
              <a:t>Установление равновесия по </a:t>
            </a:r>
            <a:br>
              <a:rPr sz="3600"/>
            </a:br>
            <a:r>
              <a:rPr b="0" lang="ru-RU" sz="3600" spc="-1" strike="noStrike">
                <a:solidFill>
                  <a:srgbClr val="dbbd71"/>
                </a:solidFill>
                <a:latin typeface="Arial"/>
              </a:rPr>
              <a:t>А. Маршаллу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нипулирование объемами производства в долгосрочном период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пока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D &gt; PS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или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S &gt; PD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Line 4"/>
          <p:cNvSpPr/>
          <p:nvPr/>
        </p:nvSpPr>
        <p:spPr>
          <a:xfrm flipV="1">
            <a:off x="2340000" y="2204640"/>
            <a:ext cx="0" cy="381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Line 5"/>
          <p:cNvSpPr/>
          <p:nvPr/>
        </p:nvSpPr>
        <p:spPr>
          <a:xfrm>
            <a:off x="2340000" y="6021360"/>
            <a:ext cx="4392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Line 6"/>
          <p:cNvSpPr/>
          <p:nvPr/>
        </p:nvSpPr>
        <p:spPr>
          <a:xfrm flipV="1">
            <a:off x="2340000" y="2997360"/>
            <a:ext cx="3744720" cy="3024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Line 7"/>
          <p:cNvSpPr/>
          <p:nvPr/>
        </p:nvSpPr>
        <p:spPr>
          <a:xfrm>
            <a:off x="2340000" y="2637000"/>
            <a:ext cx="3744720" cy="2952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Text Box 8"/>
          <p:cNvSpPr/>
          <p:nvPr/>
        </p:nvSpPr>
        <p:spPr>
          <a:xfrm>
            <a:off x="6156360" y="515772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Text Box 9"/>
          <p:cNvSpPr/>
          <p:nvPr/>
        </p:nvSpPr>
        <p:spPr>
          <a:xfrm>
            <a:off x="6084720" y="249228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Text Box 10"/>
          <p:cNvSpPr/>
          <p:nvPr/>
        </p:nvSpPr>
        <p:spPr>
          <a:xfrm>
            <a:off x="1692360" y="220500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Text Box 11"/>
          <p:cNvSpPr/>
          <p:nvPr/>
        </p:nvSpPr>
        <p:spPr>
          <a:xfrm>
            <a:off x="6877080" y="573408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Line 12"/>
          <p:cNvSpPr/>
          <p:nvPr/>
        </p:nvSpPr>
        <p:spPr>
          <a:xfrm flipH="1">
            <a:off x="2340000" y="4292640"/>
            <a:ext cx="2160720" cy="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Line 13"/>
          <p:cNvSpPr/>
          <p:nvPr/>
        </p:nvSpPr>
        <p:spPr>
          <a:xfrm>
            <a:off x="4500720" y="4292640"/>
            <a:ext cx="0" cy="172872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Text Box 14"/>
          <p:cNvSpPr/>
          <p:nvPr/>
        </p:nvSpPr>
        <p:spPr>
          <a:xfrm>
            <a:off x="1476360" y="3860640"/>
            <a:ext cx="934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Text Box 15"/>
          <p:cNvSpPr/>
          <p:nvPr/>
        </p:nvSpPr>
        <p:spPr>
          <a:xfrm>
            <a:off x="4284720" y="5967360"/>
            <a:ext cx="1150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Line 24"/>
          <p:cNvSpPr/>
          <p:nvPr/>
        </p:nvSpPr>
        <p:spPr>
          <a:xfrm>
            <a:off x="2340000" y="4797360"/>
            <a:ext cx="273672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Line 28"/>
          <p:cNvSpPr/>
          <p:nvPr/>
        </p:nvSpPr>
        <p:spPr>
          <a:xfrm flipV="1">
            <a:off x="3851280" y="3789360"/>
            <a:ext cx="0" cy="223200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Text Box 29"/>
          <p:cNvSpPr/>
          <p:nvPr/>
        </p:nvSpPr>
        <p:spPr>
          <a:xfrm flipH="1">
            <a:off x="1546920" y="472428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Line 30"/>
          <p:cNvSpPr/>
          <p:nvPr/>
        </p:nvSpPr>
        <p:spPr>
          <a:xfrm flipH="1">
            <a:off x="2340000" y="3789360"/>
            <a:ext cx="151128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Text Box 31"/>
          <p:cNvSpPr/>
          <p:nvPr/>
        </p:nvSpPr>
        <p:spPr>
          <a:xfrm>
            <a:off x="1563840" y="3500280"/>
            <a:ext cx="70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Line 32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Text Box 33"/>
          <p:cNvSpPr/>
          <p:nvPr/>
        </p:nvSpPr>
        <p:spPr>
          <a:xfrm>
            <a:off x="3276720" y="6021360"/>
            <a:ext cx="7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6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аутинообразная модель равновесия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Line 4"/>
          <p:cNvSpPr/>
          <p:nvPr/>
        </p:nvSpPr>
        <p:spPr>
          <a:xfrm flipV="1">
            <a:off x="900000" y="2133360"/>
            <a:ext cx="0" cy="3671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Line 5"/>
          <p:cNvSpPr/>
          <p:nvPr/>
        </p:nvSpPr>
        <p:spPr>
          <a:xfrm>
            <a:off x="900000" y="5805360"/>
            <a:ext cx="36007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Line 6"/>
          <p:cNvSpPr/>
          <p:nvPr/>
        </p:nvSpPr>
        <p:spPr>
          <a:xfrm>
            <a:off x="1187280" y="2924280"/>
            <a:ext cx="2808360" cy="2665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Line 7"/>
          <p:cNvSpPr/>
          <p:nvPr/>
        </p:nvSpPr>
        <p:spPr>
          <a:xfrm flipV="1">
            <a:off x="1332000" y="2707920"/>
            <a:ext cx="2087640" cy="280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Line 8"/>
          <p:cNvSpPr/>
          <p:nvPr/>
        </p:nvSpPr>
        <p:spPr>
          <a:xfrm>
            <a:off x="1476360" y="3213000"/>
            <a:ext cx="1582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Line 9"/>
          <p:cNvSpPr/>
          <p:nvPr/>
        </p:nvSpPr>
        <p:spPr>
          <a:xfrm>
            <a:off x="3059280" y="3213000"/>
            <a:ext cx="0" cy="1440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Line 10"/>
          <p:cNvSpPr/>
          <p:nvPr/>
        </p:nvSpPr>
        <p:spPr>
          <a:xfrm flipH="1">
            <a:off x="1979640" y="4653000"/>
            <a:ext cx="1008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Line 11"/>
          <p:cNvSpPr/>
          <p:nvPr/>
        </p:nvSpPr>
        <p:spPr>
          <a:xfrm flipV="1">
            <a:off x="1979640" y="3716280"/>
            <a:ext cx="0" cy="936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Line 12"/>
          <p:cNvSpPr/>
          <p:nvPr/>
        </p:nvSpPr>
        <p:spPr>
          <a:xfrm>
            <a:off x="2050920" y="3716280"/>
            <a:ext cx="576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Line 13"/>
          <p:cNvSpPr/>
          <p:nvPr/>
        </p:nvSpPr>
        <p:spPr>
          <a:xfrm>
            <a:off x="2627280" y="3789360"/>
            <a:ext cx="0" cy="50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Line 14"/>
          <p:cNvSpPr/>
          <p:nvPr/>
        </p:nvSpPr>
        <p:spPr>
          <a:xfrm flipH="1">
            <a:off x="2268000" y="4292640"/>
            <a:ext cx="358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Line 15"/>
          <p:cNvSpPr/>
          <p:nvPr/>
        </p:nvSpPr>
        <p:spPr>
          <a:xfrm flipV="1">
            <a:off x="2268360" y="4005000"/>
            <a:ext cx="0" cy="215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Text Box 16"/>
          <p:cNvSpPr/>
          <p:nvPr/>
        </p:nvSpPr>
        <p:spPr>
          <a:xfrm>
            <a:off x="4299120" y="2338560"/>
            <a:ext cx="48448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стойчивое равновес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тухающие колебания)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ли угол наклона кривой предложения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круче угла наклона кривой спро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Text Box 25"/>
          <p:cNvSpPr/>
          <p:nvPr/>
        </p:nvSpPr>
        <p:spPr>
          <a:xfrm>
            <a:off x="4067280" y="5229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Text Box 26"/>
          <p:cNvSpPr/>
          <p:nvPr/>
        </p:nvSpPr>
        <p:spPr>
          <a:xfrm>
            <a:off x="3492360" y="2637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Text Box 27"/>
          <p:cNvSpPr/>
          <p:nvPr/>
        </p:nvSpPr>
        <p:spPr>
          <a:xfrm>
            <a:off x="4572000" y="57340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Text Box 28"/>
          <p:cNvSpPr/>
          <p:nvPr/>
        </p:nvSpPr>
        <p:spPr>
          <a:xfrm>
            <a:off x="539640" y="1989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0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аутинообразная модель установления равновесия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Line 4"/>
          <p:cNvSpPr/>
          <p:nvPr/>
        </p:nvSpPr>
        <p:spPr>
          <a:xfrm flipV="1">
            <a:off x="826920" y="2205000"/>
            <a:ext cx="0" cy="36734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Line 5"/>
          <p:cNvSpPr/>
          <p:nvPr/>
        </p:nvSpPr>
        <p:spPr>
          <a:xfrm>
            <a:off x="826920" y="5877000"/>
            <a:ext cx="36738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Line 6"/>
          <p:cNvSpPr/>
          <p:nvPr/>
        </p:nvSpPr>
        <p:spPr>
          <a:xfrm>
            <a:off x="971640" y="2565360"/>
            <a:ext cx="2232000" cy="3095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Line 7"/>
          <p:cNvSpPr/>
          <p:nvPr/>
        </p:nvSpPr>
        <p:spPr>
          <a:xfrm flipV="1">
            <a:off x="1042920" y="2781360"/>
            <a:ext cx="3024360" cy="2735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Line 10"/>
          <p:cNvSpPr/>
          <p:nvPr/>
        </p:nvSpPr>
        <p:spPr>
          <a:xfrm>
            <a:off x="1763640" y="3645000"/>
            <a:ext cx="1368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Line 11"/>
          <p:cNvSpPr/>
          <p:nvPr/>
        </p:nvSpPr>
        <p:spPr>
          <a:xfrm>
            <a:off x="3059280" y="3645000"/>
            <a:ext cx="0" cy="1800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Line 12"/>
          <p:cNvSpPr/>
          <p:nvPr/>
        </p:nvSpPr>
        <p:spPr>
          <a:xfrm flipH="1">
            <a:off x="1115640" y="5445000"/>
            <a:ext cx="1871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Line 13"/>
          <p:cNvSpPr/>
          <p:nvPr/>
        </p:nvSpPr>
        <p:spPr>
          <a:xfrm flipV="1">
            <a:off x="1116000" y="2708280"/>
            <a:ext cx="0" cy="2736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Line 14"/>
          <p:cNvSpPr/>
          <p:nvPr/>
        </p:nvSpPr>
        <p:spPr>
          <a:xfrm>
            <a:off x="1114560" y="2708280"/>
            <a:ext cx="3097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Text Box 15"/>
          <p:cNvSpPr/>
          <p:nvPr/>
        </p:nvSpPr>
        <p:spPr>
          <a:xfrm>
            <a:off x="4284720" y="1773360"/>
            <a:ext cx="4859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устойчивое равновес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взрывной характер колебаний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Text Box 22"/>
          <p:cNvSpPr/>
          <p:nvPr/>
        </p:nvSpPr>
        <p:spPr>
          <a:xfrm>
            <a:off x="179280" y="206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Text Box 23"/>
          <p:cNvSpPr/>
          <p:nvPr/>
        </p:nvSpPr>
        <p:spPr>
          <a:xfrm>
            <a:off x="4500720" y="59500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Text Box 24"/>
          <p:cNvSpPr/>
          <p:nvPr/>
        </p:nvSpPr>
        <p:spPr>
          <a:xfrm>
            <a:off x="3276720" y="5300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Text Box 25"/>
          <p:cNvSpPr/>
          <p:nvPr/>
        </p:nvSpPr>
        <p:spPr>
          <a:xfrm>
            <a:off x="3924360" y="2924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0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Спрос и предложение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уроки 1,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907236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аутинообразная модель с равномерным отклонением от равновесия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50920" y="1960560"/>
            <a:ext cx="8686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Line 4"/>
          <p:cNvSpPr/>
          <p:nvPr/>
        </p:nvSpPr>
        <p:spPr>
          <a:xfrm flipV="1">
            <a:off x="900000" y="2491920"/>
            <a:ext cx="0" cy="3816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Line 5"/>
          <p:cNvSpPr/>
          <p:nvPr/>
        </p:nvSpPr>
        <p:spPr>
          <a:xfrm>
            <a:off x="900000" y="6308640"/>
            <a:ext cx="3888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Line 6"/>
          <p:cNvSpPr/>
          <p:nvPr/>
        </p:nvSpPr>
        <p:spPr>
          <a:xfrm>
            <a:off x="1332000" y="3429000"/>
            <a:ext cx="2808360" cy="244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Line 7"/>
          <p:cNvSpPr/>
          <p:nvPr/>
        </p:nvSpPr>
        <p:spPr>
          <a:xfrm flipV="1">
            <a:off x="1332000" y="3357360"/>
            <a:ext cx="2808360" cy="2592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Line 8"/>
          <p:cNvSpPr/>
          <p:nvPr/>
        </p:nvSpPr>
        <p:spPr>
          <a:xfrm>
            <a:off x="1979640" y="3933720"/>
            <a:ext cx="1512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Line 9"/>
          <p:cNvSpPr/>
          <p:nvPr/>
        </p:nvSpPr>
        <p:spPr>
          <a:xfrm>
            <a:off x="3492360" y="3933720"/>
            <a:ext cx="0" cy="1366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Line 10"/>
          <p:cNvSpPr/>
          <p:nvPr/>
        </p:nvSpPr>
        <p:spPr>
          <a:xfrm flipH="1">
            <a:off x="1979640" y="5300640"/>
            <a:ext cx="1512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Line 11"/>
          <p:cNvSpPr/>
          <p:nvPr/>
        </p:nvSpPr>
        <p:spPr>
          <a:xfrm flipV="1">
            <a:off x="1979640" y="3933360"/>
            <a:ext cx="0" cy="1366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Text Box 12"/>
          <p:cNvSpPr/>
          <p:nvPr/>
        </p:nvSpPr>
        <p:spPr>
          <a:xfrm>
            <a:off x="2700360" y="2492280"/>
            <a:ext cx="546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гулярный характер колеба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Text Box 13"/>
          <p:cNvSpPr/>
          <p:nvPr/>
        </p:nvSpPr>
        <p:spPr>
          <a:xfrm>
            <a:off x="411120" y="2492280"/>
            <a:ext cx="5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Text Box 14"/>
          <p:cNvSpPr/>
          <p:nvPr/>
        </p:nvSpPr>
        <p:spPr>
          <a:xfrm>
            <a:off x="4730760" y="6308640"/>
            <a:ext cx="6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Text Box 15"/>
          <p:cNvSpPr/>
          <p:nvPr/>
        </p:nvSpPr>
        <p:spPr>
          <a:xfrm>
            <a:off x="4356000" y="57340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Text Box 16"/>
          <p:cNvSpPr/>
          <p:nvPr/>
        </p:nvSpPr>
        <p:spPr>
          <a:xfrm>
            <a:off x="3995640" y="3429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nodeType="clickEffect" fill="hold">
                      <p:stCondLst>
                        <p:cond delay="0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Устойчивое равновесие</a:t>
            </a:r>
            <a:br>
              <a:rPr sz="4000"/>
            </a:b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(затухающие колебания)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Line 4"/>
          <p:cNvSpPr/>
          <p:nvPr/>
        </p:nvSpPr>
        <p:spPr>
          <a:xfrm flipV="1">
            <a:off x="826920" y="2204640"/>
            <a:ext cx="73080" cy="36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Line 5"/>
          <p:cNvSpPr/>
          <p:nvPr/>
        </p:nvSpPr>
        <p:spPr>
          <a:xfrm>
            <a:off x="826920" y="5805360"/>
            <a:ext cx="3673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Line 6"/>
          <p:cNvSpPr/>
          <p:nvPr/>
        </p:nvSpPr>
        <p:spPr>
          <a:xfrm>
            <a:off x="900000" y="3933720"/>
            <a:ext cx="36007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Line 7"/>
          <p:cNvSpPr/>
          <p:nvPr/>
        </p:nvSpPr>
        <p:spPr>
          <a:xfrm flipV="1">
            <a:off x="826920" y="4005360"/>
            <a:ext cx="388944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Line 8"/>
          <p:cNvSpPr/>
          <p:nvPr/>
        </p:nvSpPr>
        <p:spPr>
          <a:xfrm>
            <a:off x="900000" y="2421000"/>
            <a:ext cx="3888000" cy="158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Freeform 9"/>
          <p:cNvSpPr/>
          <p:nvPr/>
        </p:nvSpPr>
        <p:spPr>
          <a:xfrm>
            <a:off x="900000" y="2228760"/>
            <a:ext cx="3527640" cy="3000600"/>
          </a:xfrm>
          <a:custGeom>
            <a:avLst/>
            <a:gdLst>
              <a:gd name="textAreaLeft" fmla="*/ 0 w 3527640"/>
              <a:gd name="textAreaRight" fmla="*/ 3528000 w 3527640"/>
              <a:gd name="textAreaTop" fmla="*/ 0 h 3000600"/>
              <a:gd name="textAreaBottom" fmla="*/ 3000960 h 3000600"/>
            </a:gdLst>
            <a:ahLst/>
            <a:rect l="textAreaLeft" t="textAreaTop" r="textAreaRight" b="textAreaBottom"/>
            <a:pathLst>
              <a:path w="2222" h="1890">
                <a:moveTo>
                  <a:pt x="0" y="438"/>
                </a:moveTo>
                <a:cubicBezTo>
                  <a:pt x="22" y="366"/>
                  <a:pt x="45" y="295"/>
                  <a:pt x="90" y="257"/>
                </a:cubicBezTo>
                <a:cubicBezTo>
                  <a:pt x="135" y="219"/>
                  <a:pt x="227" y="0"/>
                  <a:pt x="272" y="212"/>
                </a:cubicBezTo>
                <a:cubicBezTo>
                  <a:pt x="317" y="424"/>
                  <a:pt x="325" y="1270"/>
                  <a:pt x="363" y="1527"/>
                </a:cubicBezTo>
                <a:cubicBezTo>
                  <a:pt x="401" y="1784"/>
                  <a:pt x="439" y="1890"/>
                  <a:pt x="499" y="1754"/>
                </a:cubicBezTo>
                <a:cubicBezTo>
                  <a:pt x="559" y="1618"/>
                  <a:pt x="650" y="915"/>
                  <a:pt x="725" y="711"/>
                </a:cubicBezTo>
                <a:cubicBezTo>
                  <a:pt x="800" y="507"/>
                  <a:pt x="899" y="469"/>
                  <a:pt x="952" y="529"/>
                </a:cubicBezTo>
                <a:cubicBezTo>
                  <a:pt x="1005" y="589"/>
                  <a:pt x="1020" y="923"/>
                  <a:pt x="1043" y="1074"/>
                </a:cubicBezTo>
                <a:cubicBezTo>
                  <a:pt x="1066" y="1225"/>
                  <a:pt x="1058" y="1368"/>
                  <a:pt x="1088" y="1436"/>
                </a:cubicBezTo>
                <a:cubicBezTo>
                  <a:pt x="1118" y="1504"/>
                  <a:pt x="1171" y="1595"/>
                  <a:pt x="1224" y="1482"/>
                </a:cubicBezTo>
                <a:cubicBezTo>
                  <a:pt x="1277" y="1369"/>
                  <a:pt x="1353" y="869"/>
                  <a:pt x="1406" y="756"/>
                </a:cubicBezTo>
                <a:cubicBezTo>
                  <a:pt x="1459" y="643"/>
                  <a:pt x="1504" y="703"/>
                  <a:pt x="1542" y="801"/>
                </a:cubicBezTo>
                <a:cubicBezTo>
                  <a:pt x="1580" y="899"/>
                  <a:pt x="1573" y="1331"/>
                  <a:pt x="1633" y="1346"/>
                </a:cubicBezTo>
                <a:cubicBezTo>
                  <a:pt x="1693" y="1361"/>
                  <a:pt x="1837" y="907"/>
                  <a:pt x="1905" y="892"/>
                </a:cubicBezTo>
                <a:cubicBezTo>
                  <a:pt x="1973" y="877"/>
                  <a:pt x="1988" y="1232"/>
                  <a:pt x="2041" y="1255"/>
                </a:cubicBezTo>
                <a:cubicBezTo>
                  <a:pt x="2094" y="1278"/>
                  <a:pt x="2192" y="1066"/>
                  <a:pt x="2222" y="102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Text Box 10"/>
          <p:cNvSpPr/>
          <p:nvPr/>
        </p:nvSpPr>
        <p:spPr>
          <a:xfrm>
            <a:off x="411120" y="220500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Text Box 11"/>
          <p:cNvSpPr/>
          <p:nvPr/>
        </p:nvSpPr>
        <p:spPr>
          <a:xfrm>
            <a:off x="4514760" y="5805360"/>
            <a:ext cx="6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nodeType="clickEffect" fill="hold">
                      <p:stCondLst>
                        <p:cond delay="0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Неустанавливающееся равновесие</a:t>
            </a:r>
            <a:br>
              <a:rPr sz="4000"/>
            </a:b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(взрывные колебания)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Line 4"/>
          <p:cNvSpPr/>
          <p:nvPr/>
        </p:nvSpPr>
        <p:spPr>
          <a:xfrm flipV="1">
            <a:off x="1042920" y="2133360"/>
            <a:ext cx="0" cy="36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Line 5"/>
          <p:cNvSpPr/>
          <p:nvPr/>
        </p:nvSpPr>
        <p:spPr>
          <a:xfrm>
            <a:off x="1042920" y="5734080"/>
            <a:ext cx="381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Line 6"/>
          <p:cNvSpPr/>
          <p:nvPr/>
        </p:nvSpPr>
        <p:spPr>
          <a:xfrm>
            <a:off x="1042920" y="3573360"/>
            <a:ext cx="37450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Line 7"/>
          <p:cNvSpPr/>
          <p:nvPr/>
        </p:nvSpPr>
        <p:spPr>
          <a:xfrm flipV="1">
            <a:off x="1042920" y="1773360"/>
            <a:ext cx="3600360" cy="180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Line 8"/>
          <p:cNvSpPr/>
          <p:nvPr/>
        </p:nvSpPr>
        <p:spPr>
          <a:xfrm>
            <a:off x="1042920" y="3573360"/>
            <a:ext cx="3673440" cy="165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Freeform 10"/>
          <p:cNvSpPr/>
          <p:nvPr/>
        </p:nvSpPr>
        <p:spPr>
          <a:xfrm>
            <a:off x="1116000" y="1773360"/>
            <a:ext cx="3960720" cy="3192480"/>
          </a:xfrm>
          <a:custGeom>
            <a:avLst/>
            <a:gdLst>
              <a:gd name="textAreaLeft" fmla="*/ 0 w 3960720"/>
              <a:gd name="textAreaRight" fmla="*/ 3960720 w 3960720"/>
              <a:gd name="textAreaTop" fmla="*/ 0 h 3192480"/>
              <a:gd name="textAreaBottom" fmla="*/ 3192840 h 3192480"/>
            </a:gdLst>
            <a:ahLst/>
            <a:rect l="textAreaLeft" t="textAreaTop" r="textAreaRight" b="textAreaBottom"/>
            <a:pathLst>
              <a:path w="2495" h="2011">
                <a:moveTo>
                  <a:pt x="0" y="1134"/>
                </a:moveTo>
                <a:cubicBezTo>
                  <a:pt x="49" y="1081"/>
                  <a:pt x="98" y="1028"/>
                  <a:pt x="136" y="1043"/>
                </a:cubicBezTo>
                <a:cubicBezTo>
                  <a:pt x="174" y="1058"/>
                  <a:pt x="189" y="1209"/>
                  <a:pt x="227" y="1224"/>
                </a:cubicBezTo>
                <a:cubicBezTo>
                  <a:pt x="265" y="1239"/>
                  <a:pt x="325" y="1179"/>
                  <a:pt x="363" y="1134"/>
                </a:cubicBezTo>
                <a:cubicBezTo>
                  <a:pt x="401" y="1089"/>
                  <a:pt x="423" y="1005"/>
                  <a:pt x="453" y="952"/>
                </a:cubicBezTo>
                <a:cubicBezTo>
                  <a:pt x="483" y="899"/>
                  <a:pt x="514" y="778"/>
                  <a:pt x="544" y="816"/>
                </a:cubicBezTo>
                <a:cubicBezTo>
                  <a:pt x="574" y="854"/>
                  <a:pt x="605" y="1066"/>
                  <a:pt x="635" y="1179"/>
                </a:cubicBezTo>
                <a:cubicBezTo>
                  <a:pt x="665" y="1292"/>
                  <a:pt x="681" y="1474"/>
                  <a:pt x="726" y="1497"/>
                </a:cubicBezTo>
                <a:cubicBezTo>
                  <a:pt x="771" y="1520"/>
                  <a:pt x="839" y="1429"/>
                  <a:pt x="907" y="1315"/>
                </a:cubicBezTo>
                <a:cubicBezTo>
                  <a:pt x="975" y="1201"/>
                  <a:pt x="1081" y="937"/>
                  <a:pt x="1134" y="816"/>
                </a:cubicBezTo>
                <a:cubicBezTo>
                  <a:pt x="1187" y="695"/>
                  <a:pt x="1179" y="657"/>
                  <a:pt x="1224" y="589"/>
                </a:cubicBezTo>
                <a:cubicBezTo>
                  <a:pt x="1269" y="521"/>
                  <a:pt x="1345" y="363"/>
                  <a:pt x="1406" y="408"/>
                </a:cubicBezTo>
                <a:cubicBezTo>
                  <a:pt x="1467" y="453"/>
                  <a:pt x="1542" y="658"/>
                  <a:pt x="1587" y="862"/>
                </a:cubicBezTo>
                <a:cubicBezTo>
                  <a:pt x="1632" y="1066"/>
                  <a:pt x="1625" y="1444"/>
                  <a:pt x="1678" y="1633"/>
                </a:cubicBezTo>
                <a:cubicBezTo>
                  <a:pt x="1731" y="1822"/>
                  <a:pt x="1814" y="2011"/>
                  <a:pt x="1905" y="1996"/>
                </a:cubicBezTo>
                <a:cubicBezTo>
                  <a:pt x="1996" y="1981"/>
                  <a:pt x="2124" y="1875"/>
                  <a:pt x="2222" y="1542"/>
                </a:cubicBezTo>
                <a:cubicBezTo>
                  <a:pt x="2320" y="1209"/>
                  <a:pt x="2449" y="257"/>
                  <a:pt x="2495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Text Box 11"/>
          <p:cNvSpPr/>
          <p:nvPr/>
        </p:nvSpPr>
        <p:spPr>
          <a:xfrm>
            <a:off x="555480" y="2133720"/>
            <a:ext cx="4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Text Box 12"/>
          <p:cNvSpPr/>
          <p:nvPr/>
        </p:nvSpPr>
        <p:spPr>
          <a:xfrm>
            <a:off x="4803840" y="580536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nodeType="clickEffect" fill="hold">
                      <p:stCondLst>
                        <p:cond delay="0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4560" y="27432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Неустанавливающееся равновесие (равномерные колебания)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686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Line 4"/>
          <p:cNvSpPr/>
          <p:nvPr/>
        </p:nvSpPr>
        <p:spPr>
          <a:xfrm flipV="1">
            <a:off x="755640" y="2204640"/>
            <a:ext cx="0" cy="36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Line 5"/>
          <p:cNvSpPr/>
          <p:nvPr/>
        </p:nvSpPr>
        <p:spPr>
          <a:xfrm>
            <a:off x="755640" y="5877000"/>
            <a:ext cx="403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Line 6"/>
          <p:cNvSpPr/>
          <p:nvPr/>
        </p:nvSpPr>
        <p:spPr>
          <a:xfrm>
            <a:off x="755640" y="3860640"/>
            <a:ext cx="37450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Line 7"/>
          <p:cNvSpPr/>
          <p:nvPr/>
        </p:nvSpPr>
        <p:spPr>
          <a:xfrm>
            <a:off x="755640" y="2565360"/>
            <a:ext cx="381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Line 8"/>
          <p:cNvSpPr/>
          <p:nvPr/>
        </p:nvSpPr>
        <p:spPr>
          <a:xfrm>
            <a:off x="755640" y="5013360"/>
            <a:ext cx="381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Freeform 9"/>
          <p:cNvSpPr/>
          <p:nvPr/>
        </p:nvSpPr>
        <p:spPr>
          <a:xfrm>
            <a:off x="755640" y="2278080"/>
            <a:ext cx="3935520" cy="2867040"/>
          </a:xfrm>
          <a:custGeom>
            <a:avLst/>
            <a:gdLst>
              <a:gd name="textAreaLeft" fmla="*/ 0 w 3935520"/>
              <a:gd name="textAreaRight" fmla="*/ 3935880 w 3935520"/>
              <a:gd name="textAreaTop" fmla="*/ 0 h 2867040"/>
              <a:gd name="textAreaBottom" fmla="*/ 2867400 h 2867040"/>
            </a:gdLst>
            <a:ahLst/>
            <a:rect l="textAreaLeft" t="textAreaTop" r="textAreaRight" b="textAreaBottom"/>
            <a:pathLst>
              <a:path w="2479" h="1806">
                <a:moveTo>
                  <a:pt x="0" y="498"/>
                </a:moveTo>
                <a:cubicBezTo>
                  <a:pt x="68" y="388"/>
                  <a:pt x="136" y="279"/>
                  <a:pt x="181" y="226"/>
                </a:cubicBezTo>
                <a:cubicBezTo>
                  <a:pt x="226" y="173"/>
                  <a:pt x="242" y="151"/>
                  <a:pt x="272" y="181"/>
                </a:cubicBezTo>
                <a:cubicBezTo>
                  <a:pt x="302" y="211"/>
                  <a:pt x="333" y="226"/>
                  <a:pt x="363" y="407"/>
                </a:cubicBezTo>
                <a:cubicBezTo>
                  <a:pt x="393" y="588"/>
                  <a:pt x="409" y="1050"/>
                  <a:pt x="454" y="1269"/>
                </a:cubicBezTo>
                <a:cubicBezTo>
                  <a:pt x="499" y="1488"/>
                  <a:pt x="552" y="1746"/>
                  <a:pt x="635" y="1723"/>
                </a:cubicBezTo>
                <a:cubicBezTo>
                  <a:pt x="718" y="1700"/>
                  <a:pt x="877" y="1337"/>
                  <a:pt x="953" y="1133"/>
                </a:cubicBezTo>
                <a:cubicBezTo>
                  <a:pt x="1029" y="929"/>
                  <a:pt x="1029" y="657"/>
                  <a:pt x="1089" y="498"/>
                </a:cubicBezTo>
                <a:cubicBezTo>
                  <a:pt x="1149" y="339"/>
                  <a:pt x="1247" y="143"/>
                  <a:pt x="1315" y="181"/>
                </a:cubicBezTo>
                <a:cubicBezTo>
                  <a:pt x="1383" y="219"/>
                  <a:pt x="1414" y="468"/>
                  <a:pt x="1497" y="725"/>
                </a:cubicBezTo>
                <a:cubicBezTo>
                  <a:pt x="1580" y="982"/>
                  <a:pt x="1701" y="1640"/>
                  <a:pt x="1814" y="1723"/>
                </a:cubicBezTo>
                <a:cubicBezTo>
                  <a:pt x="1927" y="1806"/>
                  <a:pt x="2071" y="1481"/>
                  <a:pt x="2177" y="1224"/>
                </a:cubicBezTo>
                <a:cubicBezTo>
                  <a:pt x="2283" y="967"/>
                  <a:pt x="2419" y="362"/>
                  <a:pt x="2449" y="181"/>
                </a:cubicBezTo>
                <a:cubicBezTo>
                  <a:pt x="2479" y="0"/>
                  <a:pt x="2359" y="143"/>
                  <a:pt x="2359" y="135"/>
                </a:cubicBezTo>
                <a:cubicBezTo>
                  <a:pt x="2359" y="127"/>
                  <a:pt x="2404" y="131"/>
                  <a:pt x="2449" y="135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Text Box 10"/>
          <p:cNvSpPr/>
          <p:nvPr/>
        </p:nvSpPr>
        <p:spPr>
          <a:xfrm>
            <a:off x="0" y="234936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Text Box 11"/>
          <p:cNvSpPr/>
          <p:nvPr/>
        </p:nvSpPr>
        <p:spPr>
          <a:xfrm>
            <a:off x="4730760" y="595008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0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СПРОС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сложившаяся в определенный период зависимость величин спроса на данном товарном рынке от цен, по которым товары могут быть предложены к продаж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ВЕЛИЧИНА СПРОС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количество товара, которое покупатели хотят и могут приобрести по данной цене в течение определенного промежутка времен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Line 2"/>
          <p:cNvSpPr/>
          <p:nvPr/>
        </p:nvSpPr>
        <p:spPr>
          <a:xfrm flipV="1">
            <a:off x="468360" y="2738520"/>
            <a:ext cx="0" cy="345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Line 3"/>
          <p:cNvSpPr/>
          <p:nvPr/>
        </p:nvSpPr>
        <p:spPr>
          <a:xfrm>
            <a:off x="468360" y="6194520"/>
            <a:ext cx="4392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Line 4"/>
          <p:cNvSpPr/>
          <p:nvPr/>
        </p:nvSpPr>
        <p:spPr>
          <a:xfrm>
            <a:off x="971640" y="3386160"/>
            <a:ext cx="2952720" cy="2376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3924360" y="518652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-36360" y="237816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4500720" y="612288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200160" y="549360"/>
            <a:ext cx="894384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Закон спроса гласит</a:t>
            </a:r>
            <a:r>
              <a:rPr b="0" lang="ru-RU" sz="3600" spc="-1" strike="noStrike">
                <a:solidFill>
                  <a:srgbClr val="dbbd71"/>
                </a:solidFill>
                <a:latin typeface="Arial"/>
              </a:rPr>
              <a:t>:</a:t>
            </a:r>
            <a:br>
              <a:rPr sz="3600"/>
            </a:b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потребитель приобретет тем больше товара, чем ниже его рыночная цен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2984040" y="2463840"/>
            <a:ext cx="59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..при прочих равных условия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4500720" y="3284640"/>
            <a:ext cx="43192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66ff"/>
                </a:solidFill>
                <a:latin typeface="Tahoma"/>
              </a:rPr>
              <a:t>Кривая спроса позволяет ответить на вопрос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25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кова будет величина спроса при разных уровнях цен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25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к изменится величина спроса при изменении цены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Line 11"/>
          <p:cNvSpPr/>
          <p:nvPr/>
        </p:nvSpPr>
        <p:spPr>
          <a:xfrm>
            <a:off x="468360" y="4292640"/>
            <a:ext cx="1582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Line 12"/>
          <p:cNvSpPr/>
          <p:nvPr/>
        </p:nvSpPr>
        <p:spPr>
          <a:xfrm>
            <a:off x="2050920" y="4292640"/>
            <a:ext cx="0" cy="18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Line 13"/>
          <p:cNvSpPr/>
          <p:nvPr/>
        </p:nvSpPr>
        <p:spPr>
          <a:xfrm>
            <a:off x="468360" y="5084640"/>
            <a:ext cx="2590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Line 14"/>
          <p:cNvSpPr/>
          <p:nvPr/>
        </p:nvSpPr>
        <p:spPr>
          <a:xfrm>
            <a:off x="3059280" y="5084640"/>
            <a:ext cx="0" cy="108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Text Box 15"/>
          <p:cNvSpPr/>
          <p:nvPr/>
        </p:nvSpPr>
        <p:spPr>
          <a:xfrm>
            <a:off x="0" y="407664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Text Box 16"/>
          <p:cNvSpPr/>
          <p:nvPr/>
        </p:nvSpPr>
        <p:spPr>
          <a:xfrm>
            <a:off x="0" y="486900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Text Box 17"/>
          <p:cNvSpPr/>
          <p:nvPr/>
        </p:nvSpPr>
        <p:spPr>
          <a:xfrm>
            <a:off x="1835280" y="6165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q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Text Box 18"/>
          <p:cNvSpPr/>
          <p:nvPr/>
        </p:nvSpPr>
        <p:spPr>
          <a:xfrm>
            <a:off x="2843280" y="623736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q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Факторы, влияющие на сдвиг кривой спрос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е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лезность товар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ена выбора покупател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ост (снижение) доход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кусы (предпочтения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оимость товаров-заменител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менение числа покупател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ПРЕДЛОЖЕНИЕ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–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висимость количества товара, которое производители хотят и могут произвести, от цен на этот това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ВЕЛИЧИНА ПРЕДЛОЖЕНИ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количество товара, которое производители хотят и могут произвести и предложить к продаже по данной цене в течение определенного промежутка времен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Line 2"/>
          <p:cNvSpPr/>
          <p:nvPr/>
        </p:nvSpPr>
        <p:spPr>
          <a:xfrm flipV="1">
            <a:off x="971640" y="2811600"/>
            <a:ext cx="0" cy="345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Line 3"/>
          <p:cNvSpPr/>
          <p:nvPr/>
        </p:nvSpPr>
        <p:spPr>
          <a:xfrm>
            <a:off x="971640" y="6267600"/>
            <a:ext cx="4392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Line 4"/>
          <p:cNvSpPr/>
          <p:nvPr/>
        </p:nvSpPr>
        <p:spPr>
          <a:xfrm flipV="1">
            <a:off x="1619280" y="3242880"/>
            <a:ext cx="3097080" cy="2592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4788000" y="266688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324000" y="245124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5508720" y="597996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200160" y="549360"/>
            <a:ext cx="894384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Закон предложения гласит</a:t>
            </a:r>
            <a:r>
              <a:rPr b="0" lang="ru-RU" sz="3600" spc="-1" strike="noStrike">
                <a:solidFill>
                  <a:srgbClr val="dbbd71"/>
                </a:solidFill>
                <a:latin typeface="Arial"/>
              </a:rPr>
              <a:t>:</a:t>
            </a:r>
            <a:br>
              <a:rPr sz="3600"/>
            </a:b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предложение товара тем больше, чем выше цена на него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2984040" y="2133720"/>
            <a:ext cx="59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..при прочих равных условия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4140360" y="3645000"/>
            <a:ext cx="500364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висимость между ценой и количеством товаров – пряма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рафик имеет вид восходящей кривой (прямой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Q = f (P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Oval 11"/>
          <p:cNvSpPr/>
          <p:nvPr/>
        </p:nvSpPr>
        <p:spPr>
          <a:xfrm>
            <a:off x="2340000" y="5157720"/>
            <a:ext cx="71280" cy="7164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Oval 12"/>
          <p:cNvSpPr/>
          <p:nvPr/>
        </p:nvSpPr>
        <p:spPr>
          <a:xfrm>
            <a:off x="3203640" y="4437000"/>
            <a:ext cx="73080" cy="7164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Text Box 13"/>
          <p:cNvSpPr/>
          <p:nvPr/>
        </p:nvSpPr>
        <p:spPr>
          <a:xfrm>
            <a:off x="2033640" y="4673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14"/>
          <p:cNvSpPr/>
          <p:nvPr/>
        </p:nvSpPr>
        <p:spPr>
          <a:xfrm>
            <a:off x="2843280" y="4221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Факторы, влияющие на величину предложения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ены на ресурс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менение технологии производ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оги и субсид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менение цен на товары, производимые в аналогичных условия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жидание изменения це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ост (снижение) числа производител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1T18:35:32Z</dcterms:created>
  <dc:creator>user</dc:creator>
  <dc:description/>
  <dc:language>en-US</dc:language>
  <cp:lastModifiedBy>LEGION</cp:lastModifiedBy>
  <dcterms:modified xsi:type="dcterms:W3CDTF">2016-01-04T08:18:50Z</dcterms:modified>
  <cp:revision>18</cp:revision>
  <dc:subject/>
  <dc:title>Спрос</dc:title>
</cp:coreProperties>
</file>