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C994-038C-48D5-A827-A3AB08FF0EF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рос.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едложение.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ыночное равновес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Спрос.</a:t>
            </a:r>
            <a:br>
              <a:rPr sz="1200"/>
            </a:b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Предложение.</a:t>
            </a:r>
            <a:br>
              <a:rPr sz="1200"/>
            </a:b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Рыночное равновес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ая детерминанта – ценов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вижение от точки к точке на одной и той же кривой предлож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выше цена, тем больше предлож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яется круг произв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т загрузка мощ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переключение мощностей на производство товара, ставшего более выгод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лавная детерминанта – ценова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движение от точки к точке на одной и той же кривой предложе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м выше цена, тем больше предложе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ширяется круг производи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тет загрузка мощност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сходит переключение мощностей на производство товара, ставшего более выгодны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изменение величины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от точки к точке на одной и той же кривой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сходит изменение величины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вижение от точки к точке на одной и той же кривой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 детерминанты предложения – сдвигают всю кривую предложения вправо или вл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в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и до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другие 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ния произв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численности продавцов (производителе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ценовые детерминанты предложения – сдвигают всю кривую предложения вправо или вле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 на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я в технолог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логи и дот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 на другие товар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жидания производи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я численности продавцов (производителе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изменение предложения (в цел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s = f (P, Pr, E, T, V et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сходит изменение предложения (в целом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s = f (P, Pr, E, T, V etc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а 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рок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урок 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реакции величины спроса на изменение цены товара называется эластичностью спроса по ц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Δ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d = ------ * 10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Δ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спро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епень реакции величины спроса на изменение цены товара называется эластичностью спроса по цен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Δ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Ed = ------ * 100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Δ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Е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или отсутствие замен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необходимости товара для покуп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цены товара в совокупном доходе покуп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времени, в течение которого принимается решение о покуп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Е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личие или отсутствие замени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епень необходимости товара для покупате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ля цены товара в совокупном доходе покупате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иод времени, в течение которого принимается решение о покуп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 – масштаб изменения величины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%) при изменении цены на 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Δ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s = ------ * 10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Δ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предложения – масштаб изменения величины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 %) при изменении цены на 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Δ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Es = ------ * 100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Δ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эласт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ый спрос (ED &gt; 1). Ситуация, при которой величина спроса изменяется в большей степени, чем цены. Например, рост цены на 1% вызывает снижение величины спроса на 4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ластичный спрос (ED &lt; 1). Ситуация, при которой величина спроса изменяется в меньшей степени, чем цена. Например, рост цены на 1% приводит к снижению спроса лишь на 0,3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чная эластичность спроса (ED =1). Она возникает в том случае, когда на каждый 1% изменения цены количество спроса изменяется на 1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но эластичный спрос (ED = ∞). Ситуация, при которой величина спроса бесконечно изменяется при малом изменении цены. В этом случае кривая спроса строго горизонталь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но неэластичный спрос (ED = 0). Ситуация, при которой величина спроса абсолютно не меняется при изменении цены. Такой спрос представлен вертикальной кривой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ормы эластич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ый спрос (ED &gt; 1). Ситуация, при которой величина спроса изменяется в большей степени, чем цены. Например, рост цены на 1% вызывает снижение величины спроса на 4%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эластичный спрос (ED &lt; 1). Ситуация, при которой величина спроса изменяется в меньшей степени, чем цена. Например, рост цены на 1% приводит к снижению спроса лишь на 0,3%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диничная эластичность спроса (ED =1). Она возникает в том случае, когда на каждый 1% изменения цены количество спроса изменяется на 1%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ершенно эластичный спрос (ED = ∞). Ситуация, при которой величина спроса бесконечно изменяется при малом изменении цены. В этом случае кривая спроса строго горизонтальн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ершенно неэластичный спрос (ED = 0). Ситуация, при которой величина спроса абсолютно не меняется при изменении цены. Такой спрос представлен вертикальной кривой спрос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рение эласт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измерить эластичность, нужно установить, насколько изменяется спрос при изменении ц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демонстрирует понятие эластичности. Содержательно эластичность показывает, гибко или не гибко реагирует спрос на изменения ц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рение эластич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бы измерить эластичность, нужно установить, насколько изменяется спрос при изменении цен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одель демонстрирует понятие эластичности. Содержательно эластичность показывает, гибко или не гибко реагирует спрос на изменения цен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ы уро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ое равновес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мы уроков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 и предлож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чное равновеси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Е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ы производства и запасы готовой проду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 и тип производимого товара или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Е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зервы производства и запасы готовой продукц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арактер и тип производимого товара или услуг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Эластичность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ыночное равнове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(урок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Рыночное равновес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(урок 4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стремятся к состоянию равновесия, где спрос = предложению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лиш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ки стремятся к состоянию равновесия, где спрос = предложению..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лиш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фиц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весная цена – цена, уравновешивающая спрос и предложение в результате действия конкурентных с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авновесной ц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ирую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ом механизм цен способствует перераспределению ресурсов в пользу отраслей с высоким платежеспособным спросом (наиболее эффективных на данный моме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вновесная цена – цена, уравновешивающая спрос и предложение в результате действия конкурентных си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ункции равновесной це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формационн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рмирующ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имулирующ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целом механизм цен способствует перераспределению ресурсов в пользу отраслей с высоким платежеспособным спросом (наиболее эффективных на данный момент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лишки производителя и потребител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ыигрывают и покупатели, и продавц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лишки производителя и потребител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ыигрывают и покупатели, и продавцы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равновесия по Вальра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нипулирование ценами в краткосрочном пери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лиш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ановление равновесия по Вальрас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анипулирование ценами в краткосрочном период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лиш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фиц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 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равновесия п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Маршал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нипулирование объемами производства в долгосрочном пери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ка PD &gt; PS или PS &gt; P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ановление равновесия по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. Маршалл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анипулирование объемами производства в долгосрочном период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пока PD &gt; PS или PS &gt; P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 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тинообразная модель равнове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е равнове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тухающие колебания)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угол наклона кривой предложения S круче угла наклона кривой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утинообразная модель равновес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ойчивое равновес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затухающие колебания) –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сли угол наклона кривой предложения S круче угла наклона кривой спро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тинообразная модель установления равновес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стойчивое равнове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зрывной характер колебан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утинообразная модель установления равновес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устойчивое равновес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зрывной характер колебани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роки 1,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 и предлож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уроки 1,2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тинообразная модель с равномерным отклонением от равнове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рный характер колеб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утинообразная модель с равномерным отклонением от равновес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гулярный характер колеба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е равновес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тухающие колеб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ойчивое равновес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затухающие колеба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станавливающееся равновес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зрывные колеб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устанавливающееся равновес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зрывные колеба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станавливающееся равновесие (равномерные колеб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устанавливающееся равновесие (равномерные колеба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– сложившаяся в определенный период зависимость величин спроса на данном товарном рынке от цен, по которым товары могут быть предложены к продаж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СПРОСА – количество товара, которое покупатели хотят и могут приобрести по данной цене в течение определенного промежутк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 – сложившаяся в определенный период зависимость величин спроса на данном товарном рынке от цен, по которым товары могут быть предложены к продаж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ЛИЧИНА СПРОСА – количество товара, которое покупатели хотят и могут приобрести по данной цене в течение определенного промежутка времен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спроса гласит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 приобретет тем больше товара, чем ниже его рыночная цен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при прочих рав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вая спроса позволяет ответить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а будет величина спроса при разных уровнях це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менится величина спроса при изменении це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кон спроса гласит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требитель приобретет тем больше товара, чем ниже его рыночная цена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..при прочих равных условия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ривая спроса позволяет ответить на вопрос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ова будет величина спроса при разных уровнях цен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изменится величина спроса при изменении цены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сдвиг кривой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ость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выбора покуп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(снижение) до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усы (предпочт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товаров-замен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числа покуп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сдвиг кривой спро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лезность товар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а выбора покупател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т (снижение) доход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кусы (предпочтения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оимость товаров-заменител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е числа покупател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– зависимость количества товара, которое производители хотят и могут произвести, от цен на этот тов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ПРЕДЛОЖЕНИЯ – количество товара, которое производители хотят и могут произвести и предложить к продаже по данной цене в течение определенного промежутк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 – зависимость количества товара, которое производители хотят и могут произвести, от цен на этот товар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ЛИЧИНА ПРЕДЛОЖЕНИЯ – количество товара, которое производители хотят и могут произвести и предложить к продаже по данной цене в течение определенного промежутка времен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предложения гласит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товара тем больше, чем выше цена на нег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при прочих рав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между ценой и количеством товаров – прям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к имеет вид восходящей кривой (прям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 = f (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кон предложения гласит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 товара тем больше, чем выше цена на него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..при прочих равных условия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висимость между ценой и количеством товаров – прям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рафик имеет вид восходящей кривой (прямо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 = f (P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величину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технологии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и субсид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цен на товары, производимые в аналогичных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ние изменения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(снижение) числа производ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величину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 на ресурс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е технологии производств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логи и субсид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е цен на товары, производимые в аналогичных условиях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жидание изменения цен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т (снижение) числа производител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7A0A-61DC-49DC-9835-ED2F83160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EA33-AB94-4FB7-8299-BA3F636B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B796-542A-49B0-B23C-5D270855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8676-F628-4782-8743-29370136A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C442-4F7C-4807-8AF6-016F3BB98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8E3A-B205-41F8-A830-42388F72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6D20-0635-4598-8B69-6BE92CE4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A515-8E3D-4589-ACE0-1FD72832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85B2-2AB8-4304-90A2-8C2B4690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3718-F674-47FF-A3CC-12C2F2CE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6510-7E10-4815-947B-BCB70D01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B541-9EF6-41BA-A0EF-EADCD6DC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1286-751B-4013-810C-671C2660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F1E6-B708-4E49-8129-FD7ED955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2F8A-3857-4E76-878E-0BD6F77F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6308-FB53-47E5-BE79-6E70C4874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FD2A-8A5D-4261-BF61-0A82F2064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0D7C-5A45-4A76-835F-1A8CAA38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9753-E466-4413-8A4F-AAC9A295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B060-7C89-4159-8F79-0B7F7A09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2DAE-07BF-4FA4-B95D-DF10D663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5591-2DE4-43EF-A9DF-0628ED47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0C43-A61A-4833-8B7D-B0186533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FD70-C149-4CC4-9F69-9BD7EBD2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21D9-7CCC-4DD4-9C2C-2B7B1DB7BB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CA46-CA1F-4CEB-BAF1-9FEBB02C788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0920" y="1700280"/>
            <a:ext cx="8134200" cy="2449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Спрос.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Предложение.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Рыночное равновесие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000" y="765000"/>
            <a:ext cx="84596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Главная детерминанта – ценовая</a:t>
            </a:r>
            <a:br>
              <a:rPr sz="4000"/>
            </a:b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(движение от точки к точке на одной и той же кривой предложения)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920" y="2492280"/>
            <a:ext cx="86868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м выше цена, тем больше предложе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ширяется круг производит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тет загрузка мощнос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сходит переключение мощностей на производство товара, ставшего более выгодны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оисходит изменение величины предложен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ижение от точки к точке на одной и той же кривой пред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Line 4"/>
          <p:cNvSpPr/>
          <p:nvPr/>
        </p:nvSpPr>
        <p:spPr>
          <a:xfrm flipV="1">
            <a:off x="971640" y="281160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971640" y="6267600"/>
            <a:ext cx="4392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Line 6"/>
          <p:cNvSpPr/>
          <p:nvPr/>
        </p:nvSpPr>
        <p:spPr>
          <a:xfrm flipV="1">
            <a:off x="1619280" y="324288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5508720" y="5979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2268360" y="5229360"/>
            <a:ext cx="71640" cy="71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3203640" y="4437000"/>
            <a:ext cx="730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2033640" y="4673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2843280" y="4221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395280" y="2421000"/>
            <a:ext cx="77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4875120" y="270828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Line 15"/>
          <p:cNvSpPr/>
          <p:nvPr/>
        </p:nvSpPr>
        <p:spPr>
          <a:xfrm flipV="1">
            <a:off x="2340000" y="4508640"/>
            <a:ext cx="86364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Неценовые детерминанты предложения – сдвигают всю кривую предложения вправо или влево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91440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ы на ресур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я в техноло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и и дот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ы на другие това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жидания производит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я численности продавцов (производителе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оисходит изменение предложения (в целом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964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Line 4"/>
          <p:cNvSpPr/>
          <p:nvPr/>
        </p:nvSpPr>
        <p:spPr>
          <a:xfrm flipV="1">
            <a:off x="971640" y="281160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Line 5"/>
          <p:cNvSpPr/>
          <p:nvPr/>
        </p:nvSpPr>
        <p:spPr>
          <a:xfrm>
            <a:off x="971640" y="6267600"/>
            <a:ext cx="4392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Line 6"/>
          <p:cNvSpPr/>
          <p:nvPr/>
        </p:nvSpPr>
        <p:spPr>
          <a:xfrm flipV="1">
            <a:off x="1619280" y="321264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5508720" y="5979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Oval 8"/>
          <p:cNvSpPr/>
          <p:nvPr/>
        </p:nvSpPr>
        <p:spPr>
          <a:xfrm>
            <a:off x="2340000" y="5157720"/>
            <a:ext cx="712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Oval 9"/>
          <p:cNvSpPr/>
          <p:nvPr/>
        </p:nvSpPr>
        <p:spPr>
          <a:xfrm>
            <a:off x="3203640" y="4437000"/>
            <a:ext cx="730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2050920" y="479736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2843280" y="42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395280" y="2349360"/>
            <a:ext cx="77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1835280" y="342864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Line 17"/>
          <p:cNvSpPr/>
          <p:nvPr/>
        </p:nvSpPr>
        <p:spPr>
          <a:xfrm flipV="1">
            <a:off x="1476360" y="2852280"/>
            <a:ext cx="3095640" cy="259236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4299120" y="2482920"/>
            <a:ext cx="11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19"/>
          <p:cNvSpPr/>
          <p:nvPr/>
        </p:nvSpPr>
        <p:spPr>
          <a:xfrm>
            <a:off x="4803840" y="278136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5019840" y="342900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4859280" y="226692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 = f (P, Pr, E, T, V et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Line 22"/>
          <p:cNvSpPr/>
          <p:nvPr/>
        </p:nvSpPr>
        <p:spPr>
          <a:xfrm>
            <a:off x="3132000" y="4437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Line 23"/>
          <p:cNvSpPr/>
          <p:nvPr/>
        </p:nvSpPr>
        <p:spPr>
          <a:xfrm flipH="1" flipV="1">
            <a:off x="2484360" y="4436640"/>
            <a:ext cx="71928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Line 26"/>
          <p:cNvSpPr/>
          <p:nvPr/>
        </p:nvSpPr>
        <p:spPr>
          <a:xfrm>
            <a:off x="2411280" y="5157720"/>
            <a:ext cx="50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Эластичность</a:t>
            </a:r>
            <a:br>
              <a:rPr sz="5400"/>
            </a:b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спроса и предложения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урок 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Эластичность спрос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епень реакции величины спроса на изменение цены товара называется эластичностью спроса по цен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059280" y="3645000"/>
            <a:ext cx="3384360" cy="17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        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= ------ * 10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Факторы, влияющие на Е</a:t>
            </a:r>
            <a:r>
              <a:rPr b="0" lang="en-US" sz="3600" spc="-1" strike="noStrike" baseline="-25000">
                <a:solidFill>
                  <a:srgbClr val="dbbd71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или отсутствие замен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епень необходимости товара для покупате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ля цены товара в совокупном доходе покупате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иод времени, в течение которого принимается решение о покупк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332000" y="2060640"/>
          <a:ext cx="6095880" cy="4474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Зубная пас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яйц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1332000" y="2924280"/>
          <a:ext cx="6048360" cy="504720"/>
        </p:xfrm>
        <a:graphic>
          <a:graphicData uri="http://schemas.openxmlformats.org/drawingml/2006/table">
            <a:tbl>
              <a:tblPr/>
              <a:tblGrid>
                <a:gridCol w="1849320"/>
                <a:gridCol w="419904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роскош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Товары первой необходим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1332000" y="4149720"/>
          <a:ext cx="6121440" cy="863640"/>
        </p:xfrm>
        <a:graphic>
          <a:graphicData uri="http://schemas.openxmlformats.org/drawingml/2006/table">
            <a:tbl>
              <a:tblPr/>
              <a:tblGrid>
                <a:gridCol w="3095640"/>
                <a:gridCol w="30258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компьют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мыл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262" name="Oval 154"/>
          <p:cNvSpPr/>
          <p:nvPr/>
        </p:nvSpPr>
        <p:spPr>
          <a:xfrm>
            <a:off x="3564000" y="4508640"/>
            <a:ext cx="647640" cy="4330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Oval 155"/>
          <p:cNvSpPr/>
          <p:nvPr/>
        </p:nvSpPr>
        <p:spPr>
          <a:xfrm>
            <a:off x="6732720" y="4508640"/>
            <a:ext cx="647640" cy="4330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AutoShape 162"/>
          <p:cNvSpPr/>
          <p:nvPr/>
        </p:nvSpPr>
        <p:spPr>
          <a:xfrm>
            <a:off x="3564000" y="4508640"/>
            <a:ext cx="647640" cy="43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599" y="10127"/>
                </a:moveTo>
                <a:cubicBezTo>
                  <a:pt x="12679" y="10342"/>
                  <a:pt x="12721" y="10570"/>
                  <a:pt x="12721" y="10800"/>
                </a:cubicBezTo>
                <a:cubicBezTo>
                  <a:pt x="12721" y="11860"/>
                  <a:pt x="11860" y="12721"/>
                  <a:pt x="10800" y="12721"/>
                </a:cubicBezTo>
                <a:cubicBezTo>
                  <a:pt x="9739" y="12721"/>
                  <a:pt x="8879" y="11860"/>
                  <a:pt x="8879" y="10800"/>
                </a:cubicBezTo>
                <a:cubicBezTo>
                  <a:pt x="8878" y="10570"/>
                  <a:pt x="8920" y="10342"/>
                  <a:pt x="9000" y="10127"/>
                </a:cubicBezTo>
                <a:lnTo>
                  <a:pt x="683" y="7017"/>
                </a:lnTo>
                <a:cubicBezTo>
                  <a:pt x="231" y="8227"/>
                  <a:pt x="-1" y="9508"/>
                  <a:pt x="0" y="10800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9508"/>
                  <a:pt x="21368" y="8227"/>
                  <a:pt x="20916" y="7017"/>
                </a:cubicBezTo>
                <a:lnTo>
                  <a:pt x="12599" y="10127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AutoShape 163"/>
          <p:cNvSpPr/>
          <p:nvPr/>
        </p:nvSpPr>
        <p:spPr>
          <a:xfrm>
            <a:off x="6732720" y="4508640"/>
            <a:ext cx="647640" cy="433080"/>
          </a:xfrm>
          <a:custGeom>
            <a:avLst/>
            <a:gdLst>
              <a:gd name="textAreaLeft" fmla="*/ 0 w 647640"/>
              <a:gd name="textAreaRight" fmla="*/ 648000 w 647640"/>
              <a:gd name="textAreaTop" fmla="*/ 0 h 433080"/>
              <a:gd name="textAreaBottom" fmla="*/ 427680 h 433080"/>
            </a:gdLst>
            <a:ahLst/>
            <a:rect l="textAreaLeft" t="textAreaTop" r="textAreaRight" b="textAreaBottom"/>
            <a:pathLst>
              <a:path w="21600" h="21600">
                <a:moveTo>
                  <a:pt x="12599" y="15902"/>
                </a:moveTo>
                <a:cubicBezTo>
                  <a:pt x="12021" y="16106"/>
                  <a:pt x="11413" y="16210"/>
                  <a:pt x="10800" y="16211"/>
                </a:cubicBezTo>
                <a:cubicBezTo>
                  <a:pt x="10186" y="16211"/>
                  <a:pt x="9578" y="16106"/>
                  <a:pt x="9000" y="15902"/>
                </a:cubicBezTo>
                <a:lnTo>
                  <a:pt x="7207" y="20984"/>
                </a:lnTo>
                <a:cubicBezTo>
                  <a:pt x="8361" y="21392"/>
                  <a:pt x="9576" y="21600"/>
                  <a:pt x="10800" y="21600"/>
                </a:cubicBezTo>
                <a:cubicBezTo>
                  <a:pt x="12023" y="21599"/>
                  <a:pt x="13238" y="21392"/>
                  <a:pt x="14392" y="20984"/>
                </a:cubicBezTo>
                <a:lnTo>
                  <a:pt x="12599" y="15902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Эластичность предложен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ластичность предложения – масштаб изменения величины пред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в %) при изменении цены на 1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059280" y="3645000"/>
            <a:ext cx="338436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        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= ------ * 10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Формы эластичност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ластичный спрос 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&gt; 1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Ситуация, при которой величина спроса изменяется в большей степени, чем цены. Например, рост цены на 1% вызывает снижение величины спроса на 4%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эластичный спрос 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&lt; 1)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Ситуация, при которой величина спроса изменяется в меньшей степени, чем цена. Например, рост цены на 1% приводит к снижению спроса лишь на 0,3%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единичная эластичность спроса 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=1)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Она возникает в том случае, когда на каждый 1%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менения цены количество спроса изменяется на 1%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вершенно эластичный спрос (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= ∞)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итуация, при которой величина спроса бесконечно изменяется при малом изменении цены. В этом случае кривая спроса строго горизонтальн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вершенно неэластичный спрос (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= 0)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итуация, при которой величина спроса абсолютно не меняется при изменении цены. Такой спрос представлен вертикальной кривой спро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Измерение эластичност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бы измерить эластичность, нужно установить, насколько изменяется спрос при изменении це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дель демонстрирует понятие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ластичност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Содержательно эластичность показывает, гибко или не гибко реагирует спрос на изменения це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1"/>
          <a:stretch/>
        </p:blipFill>
        <p:spPr>
          <a:xfrm>
            <a:off x="2843280" y="2492280"/>
            <a:ext cx="3529080" cy="297504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Темы уроков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рос и предлож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ластичность спроса и пред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ыночное равновес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Факторы, влияющие на Е</a:t>
            </a:r>
            <a:r>
              <a:rPr b="0" lang="en-US" sz="4400" spc="-1" strike="noStrike" baseline="-25000">
                <a:solidFill>
                  <a:srgbClr val="dbbd71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зервы производства и запасы готовой продук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арактер и тип производимого товара или услуг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Эластичность предложен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82" name="Picture 6" descr="image232"/>
          <p:cNvPicPr/>
          <p:nvPr/>
        </p:nvPicPr>
        <p:blipFill>
          <a:blip r:embed="rId1"/>
          <a:stretch/>
        </p:blipFill>
        <p:spPr>
          <a:xfrm>
            <a:off x="250920" y="2276640"/>
            <a:ext cx="8636040" cy="3651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 "/>
          <p:cNvPicPr/>
          <p:nvPr/>
        </p:nvPicPr>
        <p:blipFill>
          <a:blip r:embed="rId2"/>
          <a:stretch/>
        </p:blipFill>
        <p:spPr>
          <a:xfrm>
            <a:off x="3851280" y="1413000"/>
            <a:ext cx="1152360" cy="66672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Рыночное равновесие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урок 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Line 2"/>
          <p:cNvSpPr/>
          <p:nvPr/>
        </p:nvSpPr>
        <p:spPr>
          <a:xfrm flipV="1">
            <a:off x="2340000" y="256536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Line 3"/>
          <p:cNvSpPr/>
          <p:nvPr/>
        </p:nvSpPr>
        <p:spPr>
          <a:xfrm>
            <a:off x="2340000" y="602136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Line 4"/>
          <p:cNvSpPr/>
          <p:nvPr/>
        </p:nvSpPr>
        <p:spPr>
          <a:xfrm flipV="1">
            <a:off x="2987640" y="299700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Line 5"/>
          <p:cNvSpPr/>
          <p:nvPr/>
        </p:nvSpPr>
        <p:spPr>
          <a:xfrm>
            <a:off x="3132000" y="3213000"/>
            <a:ext cx="2952720" cy="23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6156360" y="50846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6156360" y="2421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692360" y="2205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6877080" y="57340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Line 10"/>
          <p:cNvSpPr/>
          <p:nvPr/>
        </p:nvSpPr>
        <p:spPr>
          <a:xfrm flipH="1">
            <a:off x="2340000" y="4292640"/>
            <a:ext cx="216072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4500720" y="429264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1476360" y="3860640"/>
            <a:ext cx="934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4284720" y="5967360"/>
            <a:ext cx="1150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539640" y="673200"/>
            <a:ext cx="83520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Рынки стремятся к состоянию равновесия, где спрос = предложению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Line 15"/>
          <p:cNvSpPr/>
          <p:nvPr/>
        </p:nvSpPr>
        <p:spPr>
          <a:xfrm>
            <a:off x="2340000" y="3645000"/>
            <a:ext cx="295272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Line 16"/>
          <p:cNvSpPr/>
          <p:nvPr/>
        </p:nvSpPr>
        <p:spPr>
          <a:xfrm>
            <a:off x="2340000" y="4941720"/>
            <a:ext cx="287964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Line 17"/>
          <p:cNvSpPr/>
          <p:nvPr/>
        </p:nvSpPr>
        <p:spPr>
          <a:xfrm flipV="1">
            <a:off x="3995640" y="3645000"/>
            <a:ext cx="432000" cy="2887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Line 18"/>
          <p:cNvSpPr/>
          <p:nvPr/>
        </p:nvSpPr>
        <p:spPr>
          <a:xfrm flipV="1">
            <a:off x="4211640" y="3644640"/>
            <a:ext cx="647640" cy="43164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Line 19"/>
          <p:cNvSpPr/>
          <p:nvPr/>
        </p:nvSpPr>
        <p:spPr>
          <a:xfrm>
            <a:off x="4211640" y="458136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Line 20"/>
          <p:cNvSpPr/>
          <p:nvPr/>
        </p:nvSpPr>
        <p:spPr>
          <a:xfrm>
            <a:off x="3995640" y="4724280"/>
            <a:ext cx="10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Text Box 21"/>
          <p:cNvSpPr/>
          <p:nvPr/>
        </p:nvSpPr>
        <p:spPr>
          <a:xfrm>
            <a:off x="3579840" y="3141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Излиш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Text Box 22"/>
          <p:cNvSpPr/>
          <p:nvPr/>
        </p:nvSpPr>
        <p:spPr>
          <a:xfrm>
            <a:off x="3780000" y="5084640"/>
            <a:ext cx="17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ефиц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96720" y="274320"/>
            <a:ext cx="954072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Равновесная цена – цена, уравновешивающая спрос и предложение в результате действия конкурентных си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0560" y="2707920"/>
            <a:ext cx="889308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Функции равновесной цен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рмирующ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имулирующ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целом механизм цен способствует перераспределению ресурсов в пользу отраслей с высоким платежеспособным спросом (наиболее эффективных на данный момент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Line 2"/>
          <p:cNvSpPr/>
          <p:nvPr/>
        </p:nvSpPr>
        <p:spPr>
          <a:xfrm flipV="1">
            <a:off x="2340000" y="2204640"/>
            <a:ext cx="0" cy="381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Line 3"/>
          <p:cNvSpPr/>
          <p:nvPr/>
        </p:nvSpPr>
        <p:spPr>
          <a:xfrm>
            <a:off x="2340000" y="602136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Line 4"/>
          <p:cNvSpPr/>
          <p:nvPr/>
        </p:nvSpPr>
        <p:spPr>
          <a:xfrm flipV="1">
            <a:off x="2340000" y="2997360"/>
            <a:ext cx="3744720" cy="3024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Line 5"/>
          <p:cNvSpPr/>
          <p:nvPr/>
        </p:nvSpPr>
        <p:spPr>
          <a:xfrm>
            <a:off x="2340000" y="2637000"/>
            <a:ext cx="3744720" cy="2952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6156360" y="51577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6084720" y="249228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1692360" y="2205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6877080" y="57340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Line 10"/>
          <p:cNvSpPr/>
          <p:nvPr/>
        </p:nvSpPr>
        <p:spPr>
          <a:xfrm flipH="1">
            <a:off x="2340000" y="4292640"/>
            <a:ext cx="216072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Line 11"/>
          <p:cNvSpPr/>
          <p:nvPr/>
        </p:nvSpPr>
        <p:spPr>
          <a:xfrm>
            <a:off x="4500720" y="429264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Text Box 12"/>
          <p:cNvSpPr/>
          <p:nvPr/>
        </p:nvSpPr>
        <p:spPr>
          <a:xfrm>
            <a:off x="1476360" y="3860640"/>
            <a:ext cx="934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Text Box 13"/>
          <p:cNvSpPr/>
          <p:nvPr/>
        </p:nvSpPr>
        <p:spPr>
          <a:xfrm>
            <a:off x="4284720" y="5967360"/>
            <a:ext cx="1150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Rectangle 14"/>
          <p:cNvSpPr/>
          <p:nvPr/>
        </p:nvSpPr>
        <p:spPr>
          <a:xfrm>
            <a:off x="179280" y="333360"/>
            <a:ext cx="8820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Излишки производителя и потребителя</a:t>
            </a:r>
            <a:br>
              <a:rPr sz="40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(выигрывают и покупатели, и продавцы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Line 15"/>
          <p:cNvSpPr/>
          <p:nvPr/>
        </p:nvSpPr>
        <p:spPr>
          <a:xfrm flipV="1">
            <a:off x="2340000" y="3141360"/>
            <a:ext cx="576360" cy="431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Line 16"/>
          <p:cNvSpPr/>
          <p:nvPr/>
        </p:nvSpPr>
        <p:spPr>
          <a:xfrm flipV="1">
            <a:off x="2340000" y="3429000"/>
            <a:ext cx="936720" cy="720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Line 17"/>
          <p:cNvSpPr/>
          <p:nvPr/>
        </p:nvSpPr>
        <p:spPr>
          <a:xfrm flipV="1">
            <a:off x="2987640" y="3715920"/>
            <a:ext cx="720720" cy="576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Line 18"/>
          <p:cNvSpPr/>
          <p:nvPr/>
        </p:nvSpPr>
        <p:spPr>
          <a:xfrm flipV="1">
            <a:off x="3851280" y="4076640"/>
            <a:ext cx="289080" cy="2160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Line 19"/>
          <p:cNvSpPr/>
          <p:nvPr/>
        </p:nvSpPr>
        <p:spPr>
          <a:xfrm>
            <a:off x="2340000" y="5300640"/>
            <a:ext cx="503280" cy="28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Line 20"/>
          <p:cNvSpPr/>
          <p:nvPr/>
        </p:nvSpPr>
        <p:spPr>
          <a:xfrm>
            <a:off x="2340000" y="4724280"/>
            <a:ext cx="863640" cy="5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Line 21"/>
          <p:cNvSpPr/>
          <p:nvPr/>
        </p:nvSpPr>
        <p:spPr>
          <a:xfrm>
            <a:off x="2700360" y="4292640"/>
            <a:ext cx="100800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Line 22"/>
          <p:cNvSpPr/>
          <p:nvPr/>
        </p:nvSpPr>
        <p:spPr>
          <a:xfrm>
            <a:off x="3708360" y="4292640"/>
            <a:ext cx="43200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Установление равновесия по Вальрасу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нипулирование ценами в краткосрочном период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Line 4"/>
          <p:cNvSpPr/>
          <p:nvPr/>
        </p:nvSpPr>
        <p:spPr>
          <a:xfrm flipV="1">
            <a:off x="2340000" y="256536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Line 5"/>
          <p:cNvSpPr/>
          <p:nvPr/>
        </p:nvSpPr>
        <p:spPr>
          <a:xfrm>
            <a:off x="2340000" y="602136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Line 6"/>
          <p:cNvSpPr/>
          <p:nvPr/>
        </p:nvSpPr>
        <p:spPr>
          <a:xfrm flipV="1">
            <a:off x="2987640" y="299700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Line 7"/>
          <p:cNvSpPr/>
          <p:nvPr/>
        </p:nvSpPr>
        <p:spPr>
          <a:xfrm>
            <a:off x="3132000" y="3213000"/>
            <a:ext cx="2952720" cy="23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6156360" y="50846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6156360" y="2421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1692360" y="2205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Text Box 11"/>
          <p:cNvSpPr/>
          <p:nvPr/>
        </p:nvSpPr>
        <p:spPr>
          <a:xfrm>
            <a:off x="6877080" y="57340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Line 12"/>
          <p:cNvSpPr/>
          <p:nvPr/>
        </p:nvSpPr>
        <p:spPr>
          <a:xfrm flipH="1">
            <a:off x="2340000" y="4292640"/>
            <a:ext cx="216072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Line 13"/>
          <p:cNvSpPr/>
          <p:nvPr/>
        </p:nvSpPr>
        <p:spPr>
          <a:xfrm>
            <a:off x="4500720" y="429264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Text Box 14"/>
          <p:cNvSpPr/>
          <p:nvPr/>
        </p:nvSpPr>
        <p:spPr>
          <a:xfrm>
            <a:off x="4284720" y="5967360"/>
            <a:ext cx="1150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Line 15"/>
          <p:cNvSpPr/>
          <p:nvPr/>
        </p:nvSpPr>
        <p:spPr>
          <a:xfrm>
            <a:off x="2340000" y="3645000"/>
            <a:ext cx="295272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Line 16"/>
          <p:cNvSpPr/>
          <p:nvPr/>
        </p:nvSpPr>
        <p:spPr>
          <a:xfrm>
            <a:off x="2340000" y="4941720"/>
            <a:ext cx="287964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Line 17"/>
          <p:cNvSpPr/>
          <p:nvPr/>
        </p:nvSpPr>
        <p:spPr>
          <a:xfrm flipV="1">
            <a:off x="3995640" y="3645000"/>
            <a:ext cx="432000" cy="2887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Line 18"/>
          <p:cNvSpPr/>
          <p:nvPr/>
        </p:nvSpPr>
        <p:spPr>
          <a:xfrm flipV="1">
            <a:off x="4211640" y="3644640"/>
            <a:ext cx="647640" cy="43164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Line 19"/>
          <p:cNvSpPr/>
          <p:nvPr/>
        </p:nvSpPr>
        <p:spPr>
          <a:xfrm>
            <a:off x="4211640" y="458136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3995640" y="4724280"/>
            <a:ext cx="10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Text Box 21"/>
          <p:cNvSpPr/>
          <p:nvPr/>
        </p:nvSpPr>
        <p:spPr>
          <a:xfrm>
            <a:off x="3579840" y="3141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Излиш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Text Box 22"/>
          <p:cNvSpPr/>
          <p:nvPr/>
        </p:nvSpPr>
        <p:spPr>
          <a:xfrm>
            <a:off x="3780000" y="5084640"/>
            <a:ext cx="17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ефиц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Line 23"/>
          <p:cNvSpPr/>
          <p:nvPr/>
        </p:nvSpPr>
        <p:spPr>
          <a:xfrm>
            <a:off x="4427640" y="3645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Line 24"/>
          <p:cNvSpPr/>
          <p:nvPr/>
        </p:nvSpPr>
        <p:spPr>
          <a:xfrm flipV="1">
            <a:off x="4643280" y="4437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Text Box 25"/>
          <p:cNvSpPr/>
          <p:nvPr/>
        </p:nvSpPr>
        <p:spPr>
          <a:xfrm>
            <a:off x="1763640" y="3284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Text Box 26"/>
          <p:cNvSpPr/>
          <p:nvPr/>
        </p:nvSpPr>
        <p:spPr>
          <a:xfrm>
            <a:off x="1619280" y="472428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Text Box 27"/>
          <p:cNvSpPr/>
          <p:nvPr/>
        </p:nvSpPr>
        <p:spPr>
          <a:xfrm>
            <a:off x="1490760" y="4076640"/>
            <a:ext cx="77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Line 28"/>
          <p:cNvSpPr/>
          <p:nvPr/>
        </p:nvSpPr>
        <p:spPr>
          <a:xfrm>
            <a:off x="2050920" y="37162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Line 29"/>
          <p:cNvSpPr/>
          <p:nvPr/>
        </p:nvSpPr>
        <p:spPr>
          <a:xfrm flipV="1">
            <a:off x="1979640" y="4581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Установление равновесия по </a:t>
            </a:r>
            <a:br>
              <a:rPr sz="3600"/>
            </a:b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А. Маршаллу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нипулирование объемами производства в долгосрочном период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пока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D &gt; PS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S &gt; P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Line 4"/>
          <p:cNvSpPr/>
          <p:nvPr/>
        </p:nvSpPr>
        <p:spPr>
          <a:xfrm flipV="1">
            <a:off x="2340000" y="2204640"/>
            <a:ext cx="0" cy="381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2340000" y="602136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Line 6"/>
          <p:cNvSpPr/>
          <p:nvPr/>
        </p:nvSpPr>
        <p:spPr>
          <a:xfrm flipV="1">
            <a:off x="2340000" y="2997360"/>
            <a:ext cx="3744720" cy="3024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Line 7"/>
          <p:cNvSpPr/>
          <p:nvPr/>
        </p:nvSpPr>
        <p:spPr>
          <a:xfrm>
            <a:off x="2340000" y="2637000"/>
            <a:ext cx="3744720" cy="2952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6156360" y="51577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6084720" y="249228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Text Box 10"/>
          <p:cNvSpPr/>
          <p:nvPr/>
        </p:nvSpPr>
        <p:spPr>
          <a:xfrm>
            <a:off x="1692360" y="2205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Text Box 11"/>
          <p:cNvSpPr/>
          <p:nvPr/>
        </p:nvSpPr>
        <p:spPr>
          <a:xfrm>
            <a:off x="6877080" y="57340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Line 12"/>
          <p:cNvSpPr/>
          <p:nvPr/>
        </p:nvSpPr>
        <p:spPr>
          <a:xfrm flipH="1">
            <a:off x="2340000" y="4292640"/>
            <a:ext cx="216072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Line 13"/>
          <p:cNvSpPr/>
          <p:nvPr/>
        </p:nvSpPr>
        <p:spPr>
          <a:xfrm>
            <a:off x="4500720" y="429264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Text Box 14"/>
          <p:cNvSpPr/>
          <p:nvPr/>
        </p:nvSpPr>
        <p:spPr>
          <a:xfrm>
            <a:off x="1476360" y="3860640"/>
            <a:ext cx="934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Text Box 15"/>
          <p:cNvSpPr/>
          <p:nvPr/>
        </p:nvSpPr>
        <p:spPr>
          <a:xfrm>
            <a:off x="4284720" y="5967360"/>
            <a:ext cx="1150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Line 24"/>
          <p:cNvSpPr/>
          <p:nvPr/>
        </p:nvSpPr>
        <p:spPr>
          <a:xfrm>
            <a:off x="2340000" y="4797360"/>
            <a:ext cx="273672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Line 28"/>
          <p:cNvSpPr/>
          <p:nvPr/>
        </p:nvSpPr>
        <p:spPr>
          <a:xfrm flipV="1">
            <a:off x="3851280" y="3789360"/>
            <a:ext cx="0" cy="22320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Text Box 29"/>
          <p:cNvSpPr/>
          <p:nvPr/>
        </p:nvSpPr>
        <p:spPr>
          <a:xfrm flipH="1">
            <a:off x="1546920" y="47242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Line 30"/>
          <p:cNvSpPr/>
          <p:nvPr/>
        </p:nvSpPr>
        <p:spPr>
          <a:xfrm flipH="1">
            <a:off x="2340000" y="3789360"/>
            <a:ext cx="151128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Text Box 31"/>
          <p:cNvSpPr/>
          <p:nvPr/>
        </p:nvSpPr>
        <p:spPr>
          <a:xfrm>
            <a:off x="1563840" y="3500280"/>
            <a:ext cx="70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Line 32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Text Box 33"/>
          <p:cNvSpPr/>
          <p:nvPr/>
        </p:nvSpPr>
        <p:spPr>
          <a:xfrm>
            <a:off x="3276720" y="602136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аутинообразная модель равновес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Line 4"/>
          <p:cNvSpPr/>
          <p:nvPr/>
        </p:nvSpPr>
        <p:spPr>
          <a:xfrm flipV="1">
            <a:off x="900000" y="2133360"/>
            <a:ext cx="0" cy="367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Line 5"/>
          <p:cNvSpPr/>
          <p:nvPr/>
        </p:nvSpPr>
        <p:spPr>
          <a:xfrm>
            <a:off x="900000" y="5805360"/>
            <a:ext cx="3600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Line 6"/>
          <p:cNvSpPr/>
          <p:nvPr/>
        </p:nvSpPr>
        <p:spPr>
          <a:xfrm>
            <a:off x="1187280" y="2924280"/>
            <a:ext cx="2808360" cy="2665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Line 7"/>
          <p:cNvSpPr/>
          <p:nvPr/>
        </p:nvSpPr>
        <p:spPr>
          <a:xfrm flipV="1">
            <a:off x="1332000" y="2707920"/>
            <a:ext cx="2087640" cy="280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Line 8"/>
          <p:cNvSpPr/>
          <p:nvPr/>
        </p:nvSpPr>
        <p:spPr>
          <a:xfrm>
            <a:off x="1476360" y="3213000"/>
            <a:ext cx="1582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Line 9"/>
          <p:cNvSpPr/>
          <p:nvPr/>
        </p:nvSpPr>
        <p:spPr>
          <a:xfrm>
            <a:off x="3059280" y="3213000"/>
            <a:ext cx="0" cy="14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Line 10"/>
          <p:cNvSpPr/>
          <p:nvPr/>
        </p:nvSpPr>
        <p:spPr>
          <a:xfrm flipH="1">
            <a:off x="1979640" y="4653000"/>
            <a:ext cx="1008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Line 11"/>
          <p:cNvSpPr/>
          <p:nvPr/>
        </p:nvSpPr>
        <p:spPr>
          <a:xfrm flipV="1">
            <a:off x="1979640" y="3716280"/>
            <a:ext cx="0" cy="93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Line 12"/>
          <p:cNvSpPr/>
          <p:nvPr/>
        </p:nvSpPr>
        <p:spPr>
          <a:xfrm>
            <a:off x="2050920" y="3716280"/>
            <a:ext cx="576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Line 13"/>
          <p:cNvSpPr/>
          <p:nvPr/>
        </p:nvSpPr>
        <p:spPr>
          <a:xfrm>
            <a:off x="2627280" y="3789360"/>
            <a:ext cx="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Line 14"/>
          <p:cNvSpPr/>
          <p:nvPr/>
        </p:nvSpPr>
        <p:spPr>
          <a:xfrm flipH="1">
            <a:off x="2268000" y="4292640"/>
            <a:ext cx="358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Line 15"/>
          <p:cNvSpPr/>
          <p:nvPr/>
        </p:nvSpPr>
        <p:spPr>
          <a:xfrm flipV="1">
            <a:off x="2268360" y="4005000"/>
            <a:ext cx="0" cy="21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Text Box 16"/>
          <p:cNvSpPr/>
          <p:nvPr/>
        </p:nvSpPr>
        <p:spPr>
          <a:xfrm>
            <a:off x="4299120" y="2338560"/>
            <a:ext cx="48448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ойчивое равновес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тухающие колебания)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угол наклона кривой предложени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руче угла наклона кривой спро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4067280" y="5229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26"/>
          <p:cNvSpPr/>
          <p:nvPr/>
        </p:nvSpPr>
        <p:spPr>
          <a:xfrm>
            <a:off x="3492360" y="2637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Text Box 27"/>
          <p:cNvSpPr/>
          <p:nvPr/>
        </p:nvSpPr>
        <p:spPr>
          <a:xfrm>
            <a:off x="4572000" y="5734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28"/>
          <p:cNvSpPr/>
          <p:nvPr/>
        </p:nvSpPr>
        <p:spPr>
          <a:xfrm>
            <a:off x="539640" y="1989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аутинообразная модель установления равновесия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Line 4"/>
          <p:cNvSpPr/>
          <p:nvPr/>
        </p:nvSpPr>
        <p:spPr>
          <a:xfrm flipV="1">
            <a:off x="826920" y="2205000"/>
            <a:ext cx="0" cy="3673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Line 5"/>
          <p:cNvSpPr/>
          <p:nvPr/>
        </p:nvSpPr>
        <p:spPr>
          <a:xfrm>
            <a:off x="826920" y="5877000"/>
            <a:ext cx="3673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Line 6"/>
          <p:cNvSpPr/>
          <p:nvPr/>
        </p:nvSpPr>
        <p:spPr>
          <a:xfrm>
            <a:off x="971640" y="2565360"/>
            <a:ext cx="2232000" cy="309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Line 7"/>
          <p:cNvSpPr/>
          <p:nvPr/>
        </p:nvSpPr>
        <p:spPr>
          <a:xfrm flipV="1">
            <a:off x="1042920" y="2781360"/>
            <a:ext cx="3024360" cy="273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Line 10"/>
          <p:cNvSpPr/>
          <p:nvPr/>
        </p:nvSpPr>
        <p:spPr>
          <a:xfrm>
            <a:off x="1763640" y="3645000"/>
            <a:ext cx="1368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Line 11"/>
          <p:cNvSpPr/>
          <p:nvPr/>
        </p:nvSpPr>
        <p:spPr>
          <a:xfrm>
            <a:off x="3059280" y="3645000"/>
            <a:ext cx="0" cy="180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Line 12"/>
          <p:cNvSpPr/>
          <p:nvPr/>
        </p:nvSpPr>
        <p:spPr>
          <a:xfrm flipH="1">
            <a:off x="1115640" y="5445000"/>
            <a:ext cx="1871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Line 13"/>
          <p:cNvSpPr/>
          <p:nvPr/>
        </p:nvSpPr>
        <p:spPr>
          <a:xfrm flipV="1">
            <a:off x="1116000" y="2708280"/>
            <a:ext cx="0" cy="273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Line 14"/>
          <p:cNvSpPr/>
          <p:nvPr/>
        </p:nvSpPr>
        <p:spPr>
          <a:xfrm>
            <a:off x="1114560" y="2708280"/>
            <a:ext cx="3097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Text Box 15"/>
          <p:cNvSpPr/>
          <p:nvPr/>
        </p:nvSpPr>
        <p:spPr>
          <a:xfrm>
            <a:off x="4284720" y="1773360"/>
            <a:ext cx="4859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устойчивое равновес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взрывной характер колебани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Text Box 22"/>
          <p:cNvSpPr/>
          <p:nvPr/>
        </p:nvSpPr>
        <p:spPr>
          <a:xfrm>
            <a:off x="179280" y="206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Text Box 23"/>
          <p:cNvSpPr/>
          <p:nvPr/>
        </p:nvSpPr>
        <p:spPr>
          <a:xfrm>
            <a:off x="4500720" y="59500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Text Box 24"/>
          <p:cNvSpPr/>
          <p:nvPr/>
        </p:nvSpPr>
        <p:spPr>
          <a:xfrm>
            <a:off x="3276720" y="530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Text Box 25"/>
          <p:cNvSpPr/>
          <p:nvPr/>
        </p:nvSpPr>
        <p:spPr>
          <a:xfrm>
            <a:off x="3924360" y="2924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0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Спрос и предложение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уроки 1,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9072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аутинообразная модель с равномерным отклонением от равновес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50920" y="1960560"/>
            <a:ext cx="8686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Line 4"/>
          <p:cNvSpPr/>
          <p:nvPr/>
        </p:nvSpPr>
        <p:spPr>
          <a:xfrm flipV="1">
            <a:off x="900000" y="2491920"/>
            <a:ext cx="0" cy="3816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Line 5"/>
          <p:cNvSpPr/>
          <p:nvPr/>
        </p:nvSpPr>
        <p:spPr>
          <a:xfrm>
            <a:off x="900000" y="6308640"/>
            <a:ext cx="3888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Line 6"/>
          <p:cNvSpPr/>
          <p:nvPr/>
        </p:nvSpPr>
        <p:spPr>
          <a:xfrm>
            <a:off x="1332000" y="3429000"/>
            <a:ext cx="2808360" cy="244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Line 7"/>
          <p:cNvSpPr/>
          <p:nvPr/>
        </p:nvSpPr>
        <p:spPr>
          <a:xfrm flipV="1">
            <a:off x="1332000" y="3357360"/>
            <a:ext cx="2808360" cy="2592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Line 8"/>
          <p:cNvSpPr/>
          <p:nvPr/>
        </p:nvSpPr>
        <p:spPr>
          <a:xfrm>
            <a:off x="1979640" y="3933720"/>
            <a:ext cx="1512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Line 9"/>
          <p:cNvSpPr/>
          <p:nvPr/>
        </p:nvSpPr>
        <p:spPr>
          <a:xfrm>
            <a:off x="3492360" y="3933720"/>
            <a:ext cx="0" cy="1366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Line 10"/>
          <p:cNvSpPr/>
          <p:nvPr/>
        </p:nvSpPr>
        <p:spPr>
          <a:xfrm flipH="1">
            <a:off x="1979640" y="5300640"/>
            <a:ext cx="1512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Line 11"/>
          <p:cNvSpPr/>
          <p:nvPr/>
        </p:nvSpPr>
        <p:spPr>
          <a:xfrm flipV="1">
            <a:off x="1979640" y="3933360"/>
            <a:ext cx="0" cy="1366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2700360" y="249228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улярный характер колеба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Text Box 13"/>
          <p:cNvSpPr/>
          <p:nvPr/>
        </p:nvSpPr>
        <p:spPr>
          <a:xfrm>
            <a:off x="411120" y="2492280"/>
            <a:ext cx="5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Text Box 14"/>
          <p:cNvSpPr/>
          <p:nvPr/>
        </p:nvSpPr>
        <p:spPr>
          <a:xfrm>
            <a:off x="4730760" y="6308640"/>
            <a:ext cx="6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Text Box 15"/>
          <p:cNvSpPr/>
          <p:nvPr/>
        </p:nvSpPr>
        <p:spPr>
          <a:xfrm>
            <a:off x="4356000" y="5734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Text Box 16"/>
          <p:cNvSpPr/>
          <p:nvPr/>
        </p:nvSpPr>
        <p:spPr>
          <a:xfrm>
            <a:off x="3995640" y="342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0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Устойчивое равновесие</a:t>
            </a: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(затухающие колебания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Line 4"/>
          <p:cNvSpPr/>
          <p:nvPr/>
        </p:nvSpPr>
        <p:spPr>
          <a:xfrm flipV="1">
            <a:off x="826920" y="2204640"/>
            <a:ext cx="73080" cy="36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Line 5"/>
          <p:cNvSpPr/>
          <p:nvPr/>
        </p:nvSpPr>
        <p:spPr>
          <a:xfrm>
            <a:off x="826920" y="5805360"/>
            <a:ext cx="3673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900000" y="3933720"/>
            <a:ext cx="3600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 flipV="1">
            <a:off x="826920" y="4005360"/>
            <a:ext cx="388944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>
            <a:off x="900000" y="2421000"/>
            <a:ext cx="388800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Freeform 9"/>
          <p:cNvSpPr/>
          <p:nvPr/>
        </p:nvSpPr>
        <p:spPr>
          <a:xfrm>
            <a:off x="900000" y="2228760"/>
            <a:ext cx="3527640" cy="3000600"/>
          </a:xfrm>
          <a:custGeom>
            <a:avLst/>
            <a:gdLst>
              <a:gd name="textAreaLeft" fmla="*/ 0 w 3527640"/>
              <a:gd name="textAreaRight" fmla="*/ 3528000 w 3527640"/>
              <a:gd name="textAreaTop" fmla="*/ 0 h 3000600"/>
              <a:gd name="textAreaBottom" fmla="*/ 3000960 h 3000600"/>
            </a:gdLst>
            <a:ahLst/>
            <a:rect l="textAreaLeft" t="textAreaTop" r="textAreaRight" b="textAreaBottom"/>
            <a:pathLst>
              <a:path w="2222" h="1890">
                <a:moveTo>
                  <a:pt x="0" y="438"/>
                </a:moveTo>
                <a:cubicBezTo>
                  <a:pt x="22" y="366"/>
                  <a:pt x="45" y="295"/>
                  <a:pt x="90" y="257"/>
                </a:cubicBezTo>
                <a:cubicBezTo>
                  <a:pt x="135" y="219"/>
                  <a:pt x="227" y="0"/>
                  <a:pt x="272" y="212"/>
                </a:cubicBezTo>
                <a:cubicBezTo>
                  <a:pt x="317" y="424"/>
                  <a:pt x="325" y="1270"/>
                  <a:pt x="363" y="1527"/>
                </a:cubicBezTo>
                <a:cubicBezTo>
                  <a:pt x="401" y="1784"/>
                  <a:pt x="439" y="1890"/>
                  <a:pt x="499" y="1754"/>
                </a:cubicBezTo>
                <a:cubicBezTo>
                  <a:pt x="559" y="1618"/>
                  <a:pt x="650" y="915"/>
                  <a:pt x="725" y="711"/>
                </a:cubicBezTo>
                <a:cubicBezTo>
                  <a:pt x="800" y="507"/>
                  <a:pt x="899" y="469"/>
                  <a:pt x="952" y="529"/>
                </a:cubicBezTo>
                <a:cubicBezTo>
                  <a:pt x="1005" y="589"/>
                  <a:pt x="1020" y="923"/>
                  <a:pt x="1043" y="1074"/>
                </a:cubicBezTo>
                <a:cubicBezTo>
                  <a:pt x="1066" y="1225"/>
                  <a:pt x="1058" y="1368"/>
                  <a:pt x="1088" y="1436"/>
                </a:cubicBezTo>
                <a:cubicBezTo>
                  <a:pt x="1118" y="1504"/>
                  <a:pt x="1171" y="1595"/>
                  <a:pt x="1224" y="1482"/>
                </a:cubicBezTo>
                <a:cubicBezTo>
                  <a:pt x="1277" y="1369"/>
                  <a:pt x="1353" y="869"/>
                  <a:pt x="1406" y="756"/>
                </a:cubicBezTo>
                <a:cubicBezTo>
                  <a:pt x="1459" y="643"/>
                  <a:pt x="1504" y="703"/>
                  <a:pt x="1542" y="801"/>
                </a:cubicBezTo>
                <a:cubicBezTo>
                  <a:pt x="1580" y="899"/>
                  <a:pt x="1573" y="1331"/>
                  <a:pt x="1633" y="1346"/>
                </a:cubicBezTo>
                <a:cubicBezTo>
                  <a:pt x="1693" y="1361"/>
                  <a:pt x="1837" y="907"/>
                  <a:pt x="1905" y="892"/>
                </a:cubicBezTo>
                <a:cubicBezTo>
                  <a:pt x="1973" y="877"/>
                  <a:pt x="1988" y="1232"/>
                  <a:pt x="2041" y="1255"/>
                </a:cubicBezTo>
                <a:cubicBezTo>
                  <a:pt x="2094" y="1278"/>
                  <a:pt x="2192" y="1066"/>
                  <a:pt x="2222" y="102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411120" y="22050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Text Box 11"/>
          <p:cNvSpPr/>
          <p:nvPr/>
        </p:nvSpPr>
        <p:spPr>
          <a:xfrm>
            <a:off x="4514760" y="580536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0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Неустанавливающееся равновесие</a:t>
            </a: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(взрывные колебания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Line 4"/>
          <p:cNvSpPr/>
          <p:nvPr/>
        </p:nvSpPr>
        <p:spPr>
          <a:xfrm flipV="1">
            <a:off x="1042920" y="2133360"/>
            <a:ext cx="0" cy="36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Line 5"/>
          <p:cNvSpPr/>
          <p:nvPr/>
        </p:nvSpPr>
        <p:spPr>
          <a:xfrm>
            <a:off x="1042920" y="5734080"/>
            <a:ext cx="381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Line 6"/>
          <p:cNvSpPr/>
          <p:nvPr/>
        </p:nvSpPr>
        <p:spPr>
          <a:xfrm>
            <a:off x="1042920" y="3573360"/>
            <a:ext cx="3745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Line 7"/>
          <p:cNvSpPr/>
          <p:nvPr/>
        </p:nvSpPr>
        <p:spPr>
          <a:xfrm flipV="1">
            <a:off x="1042920" y="1773360"/>
            <a:ext cx="360036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Line 8"/>
          <p:cNvSpPr/>
          <p:nvPr/>
        </p:nvSpPr>
        <p:spPr>
          <a:xfrm>
            <a:off x="1042920" y="3573360"/>
            <a:ext cx="3673440" cy="16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Freeform 10"/>
          <p:cNvSpPr/>
          <p:nvPr/>
        </p:nvSpPr>
        <p:spPr>
          <a:xfrm>
            <a:off x="1116000" y="1773360"/>
            <a:ext cx="3960720" cy="3192480"/>
          </a:xfrm>
          <a:custGeom>
            <a:avLst/>
            <a:gdLst>
              <a:gd name="textAreaLeft" fmla="*/ 0 w 3960720"/>
              <a:gd name="textAreaRight" fmla="*/ 3960720 w 3960720"/>
              <a:gd name="textAreaTop" fmla="*/ 0 h 3192480"/>
              <a:gd name="textAreaBottom" fmla="*/ 3192840 h 3192480"/>
            </a:gdLst>
            <a:ahLst/>
            <a:rect l="textAreaLeft" t="textAreaTop" r="textAreaRight" b="textAreaBottom"/>
            <a:pathLst>
              <a:path w="2495" h="2011">
                <a:moveTo>
                  <a:pt x="0" y="1134"/>
                </a:moveTo>
                <a:cubicBezTo>
                  <a:pt x="49" y="1081"/>
                  <a:pt x="98" y="1028"/>
                  <a:pt x="136" y="1043"/>
                </a:cubicBezTo>
                <a:cubicBezTo>
                  <a:pt x="174" y="1058"/>
                  <a:pt x="189" y="1209"/>
                  <a:pt x="227" y="1224"/>
                </a:cubicBezTo>
                <a:cubicBezTo>
                  <a:pt x="265" y="1239"/>
                  <a:pt x="325" y="1179"/>
                  <a:pt x="363" y="1134"/>
                </a:cubicBezTo>
                <a:cubicBezTo>
                  <a:pt x="401" y="1089"/>
                  <a:pt x="423" y="1005"/>
                  <a:pt x="453" y="952"/>
                </a:cubicBezTo>
                <a:cubicBezTo>
                  <a:pt x="483" y="899"/>
                  <a:pt x="514" y="778"/>
                  <a:pt x="544" y="816"/>
                </a:cubicBezTo>
                <a:cubicBezTo>
                  <a:pt x="574" y="854"/>
                  <a:pt x="605" y="1066"/>
                  <a:pt x="635" y="1179"/>
                </a:cubicBezTo>
                <a:cubicBezTo>
                  <a:pt x="665" y="1292"/>
                  <a:pt x="681" y="1474"/>
                  <a:pt x="726" y="1497"/>
                </a:cubicBezTo>
                <a:cubicBezTo>
                  <a:pt x="771" y="1520"/>
                  <a:pt x="839" y="1429"/>
                  <a:pt x="907" y="1315"/>
                </a:cubicBezTo>
                <a:cubicBezTo>
                  <a:pt x="975" y="1201"/>
                  <a:pt x="1081" y="937"/>
                  <a:pt x="1134" y="816"/>
                </a:cubicBezTo>
                <a:cubicBezTo>
                  <a:pt x="1187" y="695"/>
                  <a:pt x="1179" y="657"/>
                  <a:pt x="1224" y="589"/>
                </a:cubicBezTo>
                <a:cubicBezTo>
                  <a:pt x="1269" y="521"/>
                  <a:pt x="1345" y="363"/>
                  <a:pt x="1406" y="408"/>
                </a:cubicBezTo>
                <a:cubicBezTo>
                  <a:pt x="1467" y="453"/>
                  <a:pt x="1542" y="658"/>
                  <a:pt x="1587" y="862"/>
                </a:cubicBezTo>
                <a:cubicBezTo>
                  <a:pt x="1632" y="1066"/>
                  <a:pt x="1625" y="1444"/>
                  <a:pt x="1678" y="1633"/>
                </a:cubicBezTo>
                <a:cubicBezTo>
                  <a:pt x="1731" y="1822"/>
                  <a:pt x="1814" y="2011"/>
                  <a:pt x="1905" y="1996"/>
                </a:cubicBezTo>
                <a:cubicBezTo>
                  <a:pt x="1996" y="1981"/>
                  <a:pt x="2124" y="1875"/>
                  <a:pt x="2222" y="1542"/>
                </a:cubicBezTo>
                <a:cubicBezTo>
                  <a:pt x="2320" y="1209"/>
                  <a:pt x="2449" y="257"/>
                  <a:pt x="2495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555480" y="2133720"/>
            <a:ext cx="4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4803840" y="58053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0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4560" y="2743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Неустанавливающееся равновесие (равномерные колебания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Line 4"/>
          <p:cNvSpPr/>
          <p:nvPr/>
        </p:nvSpPr>
        <p:spPr>
          <a:xfrm flipV="1">
            <a:off x="755640" y="2204640"/>
            <a:ext cx="0" cy="36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Line 5"/>
          <p:cNvSpPr/>
          <p:nvPr/>
        </p:nvSpPr>
        <p:spPr>
          <a:xfrm>
            <a:off x="755640" y="5877000"/>
            <a:ext cx="403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Line 6"/>
          <p:cNvSpPr/>
          <p:nvPr/>
        </p:nvSpPr>
        <p:spPr>
          <a:xfrm>
            <a:off x="755640" y="3860640"/>
            <a:ext cx="3745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Line 7"/>
          <p:cNvSpPr/>
          <p:nvPr/>
        </p:nvSpPr>
        <p:spPr>
          <a:xfrm>
            <a:off x="755640" y="2565360"/>
            <a:ext cx="38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Line 8"/>
          <p:cNvSpPr/>
          <p:nvPr/>
        </p:nvSpPr>
        <p:spPr>
          <a:xfrm>
            <a:off x="755640" y="5013360"/>
            <a:ext cx="38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Freeform 9"/>
          <p:cNvSpPr/>
          <p:nvPr/>
        </p:nvSpPr>
        <p:spPr>
          <a:xfrm>
            <a:off x="755640" y="2278080"/>
            <a:ext cx="3935520" cy="2867040"/>
          </a:xfrm>
          <a:custGeom>
            <a:avLst/>
            <a:gdLst>
              <a:gd name="textAreaLeft" fmla="*/ 0 w 3935520"/>
              <a:gd name="textAreaRight" fmla="*/ 3935880 w 3935520"/>
              <a:gd name="textAreaTop" fmla="*/ 0 h 2867040"/>
              <a:gd name="textAreaBottom" fmla="*/ 2867400 h 2867040"/>
            </a:gdLst>
            <a:ahLst/>
            <a:rect l="textAreaLeft" t="textAreaTop" r="textAreaRight" b="textAreaBottom"/>
            <a:pathLst>
              <a:path w="2479" h="1806">
                <a:moveTo>
                  <a:pt x="0" y="498"/>
                </a:moveTo>
                <a:cubicBezTo>
                  <a:pt x="68" y="388"/>
                  <a:pt x="136" y="279"/>
                  <a:pt x="181" y="226"/>
                </a:cubicBezTo>
                <a:cubicBezTo>
                  <a:pt x="226" y="173"/>
                  <a:pt x="242" y="151"/>
                  <a:pt x="272" y="181"/>
                </a:cubicBezTo>
                <a:cubicBezTo>
                  <a:pt x="302" y="211"/>
                  <a:pt x="333" y="226"/>
                  <a:pt x="363" y="407"/>
                </a:cubicBezTo>
                <a:cubicBezTo>
                  <a:pt x="393" y="588"/>
                  <a:pt x="409" y="1050"/>
                  <a:pt x="454" y="1269"/>
                </a:cubicBezTo>
                <a:cubicBezTo>
                  <a:pt x="499" y="1488"/>
                  <a:pt x="552" y="1746"/>
                  <a:pt x="635" y="1723"/>
                </a:cubicBezTo>
                <a:cubicBezTo>
                  <a:pt x="718" y="1700"/>
                  <a:pt x="877" y="1337"/>
                  <a:pt x="953" y="1133"/>
                </a:cubicBezTo>
                <a:cubicBezTo>
                  <a:pt x="1029" y="929"/>
                  <a:pt x="1029" y="657"/>
                  <a:pt x="1089" y="498"/>
                </a:cubicBezTo>
                <a:cubicBezTo>
                  <a:pt x="1149" y="339"/>
                  <a:pt x="1247" y="143"/>
                  <a:pt x="1315" y="181"/>
                </a:cubicBezTo>
                <a:cubicBezTo>
                  <a:pt x="1383" y="219"/>
                  <a:pt x="1414" y="468"/>
                  <a:pt x="1497" y="725"/>
                </a:cubicBezTo>
                <a:cubicBezTo>
                  <a:pt x="1580" y="982"/>
                  <a:pt x="1701" y="1640"/>
                  <a:pt x="1814" y="1723"/>
                </a:cubicBezTo>
                <a:cubicBezTo>
                  <a:pt x="1927" y="1806"/>
                  <a:pt x="2071" y="1481"/>
                  <a:pt x="2177" y="1224"/>
                </a:cubicBezTo>
                <a:cubicBezTo>
                  <a:pt x="2283" y="967"/>
                  <a:pt x="2419" y="362"/>
                  <a:pt x="2449" y="181"/>
                </a:cubicBezTo>
                <a:cubicBezTo>
                  <a:pt x="2479" y="0"/>
                  <a:pt x="2359" y="143"/>
                  <a:pt x="2359" y="135"/>
                </a:cubicBezTo>
                <a:cubicBezTo>
                  <a:pt x="2359" y="127"/>
                  <a:pt x="2404" y="131"/>
                  <a:pt x="2449" y="13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0" y="23493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4730760" y="59500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ПРО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сложившаяся в определенный период зависимость величин спроса на данном товарном рынке от цен, по которым товары могут быть предложены к продаж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ЕЛИЧИНА СПРОС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количество товара, которое покупатели хотят и могут приобрести по данной цене в течение определенного промежутка време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2"/>
          <p:cNvSpPr/>
          <p:nvPr/>
        </p:nvSpPr>
        <p:spPr>
          <a:xfrm flipV="1">
            <a:off x="468360" y="273852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Line 3"/>
          <p:cNvSpPr/>
          <p:nvPr/>
        </p:nvSpPr>
        <p:spPr>
          <a:xfrm>
            <a:off x="468360" y="619452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971640" y="3386160"/>
            <a:ext cx="2952720" cy="2376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924360" y="51865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-36360" y="23781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4500720" y="61228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200160" y="549360"/>
            <a:ext cx="894384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Закон спроса гласит</a:t>
            </a: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:</a:t>
            </a:r>
            <a:br>
              <a:rPr sz="36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отребитель приобретет тем больше товара, чем ниже его рыночная цен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2984040" y="2463840"/>
            <a:ext cx="59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..при прочих равных услов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4500720" y="3284640"/>
            <a:ext cx="4319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ff"/>
                </a:solidFill>
                <a:latin typeface="Tahoma"/>
              </a:rPr>
              <a:t>Кривая спроса позволяет ответить на вопрос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ова будет величина спроса при разных уровнях цен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 изменится величина спроса при изменении цены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Line 11"/>
          <p:cNvSpPr/>
          <p:nvPr/>
        </p:nvSpPr>
        <p:spPr>
          <a:xfrm>
            <a:off x="468360" y="4292640"/>
            <a:ext cx="1582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Line 12"/>
          <p:cNvSpPr/>
          <p:nvPr/>
        </p:nvSpPr>
        <p:spPr>
          <a:xfrm>
            <a:off x="2050920" y="4292640"/>
            <a:ext cx="0" cy="18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468360" y="508464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Line 14"/>
          <p:cNvSpPr/>
          <p:nvPr/>
        </p:nvSpPr>
        <p:spPr>
          <a:xfrm>
            <a:off x="3059280" y="5084640"/>
            <a:ext cx="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0" y="4076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0" y="48690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1835280" y="6165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2843280" y="6237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Факторы, влияющие на сдвиг кривой спрос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езность това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а выбора покупател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ст (снижение) доход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кусы (предпочтения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оимость товаров-замени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е числа покупа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ЕДЛОЖЕНИЕ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висимость количества товара, которое производители хотят и могут произвести, от цен на этот това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ЕЛИЧИНА ПРЕДЛОЖЕ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количество товара, которое производители хотят и могут произвести и предложить к продаже по данной цене в течение определенного промежутка време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Line 2"/>
          <p:cNvSpPr/>
          <p:nvPr/>
        </p:nvSpPr>
        <p:spPr>
          <a:xfrm flipV="1">
            <a:off x="971640" y="281160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Line 3"/>
          <p:cNvSpPr/>
          <p:nvPr/>
        </p:nvSpPr>
        <p:spPr>
          <a:xfrm>
            <a:off x="971640" y="6267600"/>
            <a:ext cx="4392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Line 4"/>
          <p:cNvSpPr/>
          <p:nvPr/>
        </p:nvSpPr>
        <p:spPr>
          <a:xfrm flipV="1">
            <a:off x="1619280" y="324288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788000" y="26668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324000" y="24512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5508720" y="5979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200160" y="549360"/>
            <a:ext cx="894384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Закон предложения гласит</a:t>
            </a: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:</a:t>
            </a:r>
            <a:br>
              <a:rPr sz="36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редложение товара тем больше, чем выше цена на него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2984040" y="2133720"/>
            <a:ext cx="59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..при прочих равных услов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4140360" y="3645000"/>
            <a:ext cx="50036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исимость между ценой и количеством товаров – пряма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афик имеет вид восходящей кривой (прямо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Q = f (P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Oval 11"/>
          <p:cNvSpPr/>
          <p:nvPr/>
        </p:nvSpPr>
        <p:spPr>
          <a:xfrm>
            <a:off x="2340000" y="5157720"/>
            <a:ext cx="712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Oval 12"/>
          <p:cNvSpPr/>
          <p:nvPr/>
        </p:nvSpPr>
        <p:spPr>
          <a:xfrm>
            <a:off x="3203640" y="4437000"/>
            <a:ext cx="730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2033640" y="4673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2843280" y="4221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Факторы, влияющие на величину предложен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ы на ресурс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е технологии производ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и и субсид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е цен на товары, производимые в аналогичных услови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жидание изменения це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ст (снижение) числа производи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18:35:32Z</dcterms:created>
  <dc:creator>user</dc:creator>
  <dc:description/>
  <dc:language>en-US</dc:language>
  <cp:lastModifiedBy>LEGION</cp:lastModifiedBy>
  <dcterms:modified xsi:type="dcterms:W3CDTF">2016-01-04T08:18:50Z</dcterms:modified>
  <cp:revision>18</cp:revision>
  <dc:subject/>
  <dc:title>Спрос</dc:title>
</cp:coreProperties>
</file>