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9EA0-832F-47D4-ABF5-F2730A6823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F8E-6F0A-4495-802A-A3C363C6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0DF-6BB2-4BB0-9905-755326BA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9BA-3454-4881-8A68-1C9F785C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87F-39AF-4B9C-B949-F972F1C1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0D8A-AA48-4E3E-87B0-2DBD01EC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F23D-3401-44B8-B23F-D45304D2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F0FC-FC37-43F6-A7EA-75C97B05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EE15-7659-4DD8-A7AF-B8057CDC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70E6-FF7D-4F19-8290-61289BC7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A25F-CE05-4A92-B764-BF4DE31D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FB04-9FF6-472D-BC87-B852CBD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777-3AA1-4D16-8AE3-843ED000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9ACD-EBDF-4E80-8FEB-F8A5EF4D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9EF8-9134-4A3C-AB80-E551BCBE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7212-F8E1-4233-B2F7-59E2154D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47FE-4B19-41C6-8923-73F84B6F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133E-E516-4EF5-8E97-F188B640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47E-1E75-4C5A-88E1-BD12E53A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8CC-D469-49ED-8618-22FC7D20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A40-2B5A-4571-BD2F-833A4362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15F-D06F-4D7D-BA8C-EA6FB987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BEF-4E7C-4F14-B994-87D38C90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6B5-7E04-4640-B1DB-2E38FFE8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FEB-404E-483E-AFF7-845378CF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D00D-2345-4085-9D69-DD2C468D8A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E679-195B-4161-9C4A-BF59B058E4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5" descr="food14[1]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" descr="026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002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21M4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AG00032_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AG00033_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G00328_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AG00327_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AG00330_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AG00331_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AG00332_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AG00333_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J0076210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J0095685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J0095684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J0095723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J0095724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J0095710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J0076120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J0095678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food19[1]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5" descr="BS00004A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BS00005A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6" descr="food26[1]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food10[1]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ood20[1]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food33[1]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21M4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6" descr="BS00558A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08:18:57Z</dcterms:modified>
  <cp:revision>19</cp:revision>
  <dc:subject/>
  <dc:title>Цены товар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7000000000001024140</vt:lpwstr>
  </property>
</Properties>
</file>