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1EA-5BF2-4512-A6B3-7E3B134930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2A0-FB22-4408-A399-3328EDE5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F26-F42C-4A9E-B104-EEAADC4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FDF-5625-4404-862F-848CA79D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C41-280E-403B-AAA9-2138D0AD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8CB9-E0AB-4FA9-BC39-1EA8BAD8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A73A-1210-4980-BAD1-B369BECB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617E-602A-4F48-92B5-80D70E1F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34EC-3755-4080-9D23-FF37E72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E94C-B37C-45C4-920E-FDADB6A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CF42-6CC8-408B-AC18-3B9F8B9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0F9C-03E1-46F5-80C8-5C7DBBC8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327-C37A-4B91-9E9C-33D9A263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668D-3353-48B0-91D7-DD871E1C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C3E6-FB4B-4EAF-9858-287B282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FE4C-4450-4E5E-AC1C-4AAB36FD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BFC9-01E8-4982-86BD-7891214D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22B-FEE1-4132-82CF-492049FA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DAE9F-5437-40FC-BDEF-FDB1B19F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C9A68-DAA2-4B2D-B2E4-67E2DEF8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8CC04-788F-43B3-B70B-36C71D37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D6708-7A45-4872-9E94-5D088129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D0667-F7BF-48B7-A2FA-3BC9E59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BF9-F73C-47FC-84EB-66652D2C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1EC5D-50AE-4A62-9A54-FF3A58B9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80BFB-28D3-40FE-B670-5002523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D680E-DC2B-4B36-AC28-6A90FA3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EBF3B-C621-4782-9FE3-E7719D46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06766-C7DB-4536-A05B-BE039234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7B115-C150-434E-857D-6A3CA904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A64A5-81EF-4B81-9EF2-7CF60B49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19043-3295-4551-9F93-6957658F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ECC59-6239-42CF-BC06-5749CDFE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206E5-D13D-408F-93B7-339185A0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014-F139-42C6-9D3A-71A04CFF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FE689-97D7-42A4-9566-C8E0FF8C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E1E56-8E13-40A7-A9E5-CE01E18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CC210-B5BC-457C-9AD1-C2CA034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F26D0-3245-41AB-A556-EC275E9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F50E7-6FE2-494C-9D1B-95B15C99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A28B2-C4DA-4691-BB55-49CFDCA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F41F1-0C3E-4998-B033-747EB5C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785FB-79D0-435A-84EF-AB9A55B2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97A1C-33FD-426A-B633-895ABF2B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5458A-1E28-4968-B6DA-1A5B6F9A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438-4227-47D9-AC90-CE664EC2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53CD5-BA05-41DB-8274-B0850D54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9AAFF-0B5A-4356-9984-F559E4C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3D22D-2A59-439E-975D-7E250B9E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685C5-BE24-4739-BE3C-C6B0D4D4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41111-5F9C-493B-A0FF-6F92DE8E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7D130-8D16-441A-A4C4-9F6B789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B2F3B-7B0C-4615-9D77-9E6D99B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A6F30-C341-4678-B15F-C827EF7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0A9C1-18EF-47A6-9420-2461372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94FD6-9AE5-4CA2-A047-0233ED32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381-1537-4582-8BF4-8FADAC2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78646-5455-4123-AEDE-814074AA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C8D2-733E-43CE-AD2F-48C9AB7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A233-9F57-49F1-A60D-BF7A4C34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D6136-8346-439C-A563-A748A4C9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60CF-31E2-4E22-A98F-A4030F05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5BEF-ECF8-49F8-84D2-311654E0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FC461-3E69-4B77-A6F3-E80FA638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496B-9325-4A2F-BB89-B995187E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41F19-460D-4C3D-A0DE-9FA8FAF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5C3A-294B-492D-B857-F5CFFA4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0FE-A786-450E-AE34-6DFBBDB0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9F39-8BF3-4F11-B987-5F13D918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FED9-F5C2-4151-AAD6-8172327F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D2FD-05D0-45D0-AA9B-5356E3C0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36D7E-437E-49D0-91A4-332CEFDB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A5DA2-D37B-447F-B5E8-8F3D76D2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C125A-0B86-4724-B021-6101E50F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EDC40-FE86-4546-8B60-D720CA0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05DF3-08FE-42C0-AA6C-CDE6AB95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B127B-9999-481C-9305-F795172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E457B-BCE9-4F3A-AD78-3A49DFA1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BD3-54C9-4994-8894-B11F971D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B18C0-B98F-471E-9BCD-B009D61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22121-608C-484A-A34B-FBFAADA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66E4B-7210-4331-A72D-22527085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DB7E3-9F28-4F0F-864E-B1D3FAF3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F466A-C32F-44D9-BE54-1250FB95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00726-008E-41BB-A023-417C1728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5830F-614F-4F61-BDB0-FBA65ACF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F88ED-585F-4FA8-842E-0F7A9D09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B9037-3110-4661-91D8-FFDE3C7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8C5A-54F4-45E9-ADB6-8BFADC5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478-7594-4109-B543-79A1397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CD6C-233F-45F8-997B-5BDD308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36C0-2930-4BE2-9E2B-913CE513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D538-11A4-479B-9087-AA6BF738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89EFD-6A82-43CD-B2AA-DF16DD02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CD02A-72A7-406D-857B-268BF134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54729-69DC-4BAD-9227-CC306DE2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57C06-949F-41F3-AA26-885BA367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3B98-1788-4EB8-901E-1FEFCE38530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F30-4CCE-4C8F-B814-A1796BAA4C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4DFB-B106-4D87-824A-2DB745AF9E8D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5A88-AC3C-402E-85F7-9B675E7C5586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B9B-C041-4A64-8953-6FEE19A9783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EDF-3443-4540-84C9-A68BA263E965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546-1F16-4174-817F-FFE2F2CDFD4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A58C-2207-4811-889F-858304119B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7A2F-C507-4F7D-905A-FDDF2D89700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F718-1B6D-478E-8FBE-427E8E9B5B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3BD7-9258-4FB8-8F33-C856EF5428F9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E72D-2FB7-428C-986A-74941FA1C0BA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1DFF-BA6D-43E3-92C6-2F938C6522D2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78D-A512-4C57-A349-899D2411CED7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05DB-9CC2-4138-824F-7F4704A25A03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9FB5-07BB-4502-8030-148724C740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879720"/>
            <a:ext cx="647676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ЭЛАСТИЧНОСТЬ СПРОСА И ПРЕДЛОЖЕНИЯ 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ма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4640" y="3643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1692360" y="3284640"/>
            <a:ext cx="4392360" cy="1008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2"/>
          <p:cNvSpPr/>
          <p:nvPr/>
        </p:nvSpPr>
        <p:spPr>
          <a:xfrm>
            <a:off x="3059280" y="3573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4572000" y="4005360"/>
            <a:ext cx="1440" cy="1655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1547640" y="357336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1547640" y="393372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2050920" y="35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прос единичной эластичност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14560" y="4714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41"/>
          <p:cNvSpPr/>
          <p:nvPr/>
        </p:nvSpPr>
        <p:spPr>
          <a:xfrm>
            <a:off x="1908000" y="2492280"/>
            <a:ext cx="2808360" cy="280836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42"/>
          <p:cNvSpPr/>
          <p:nvPr/>
        </p:nvSpPr>
        <p:spPr>
          <a:xfrm>
            <a:off x="305928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3564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3059280" y="501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611280" y="3357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1547640" y="364500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42880" y="4786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2627280" y="2349360"/>
            <a:ext cx="1440000" cy="3095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059280" y="328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42"/>
          <p:cNvSpPr/>
          <p:nvPr/>
        </p:nvSpPr>
        <p:spPr>
          <a:xfrm>
            <a:off x="3492360" y="4221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84360" y="29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1547640" y="328464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1547640" y="42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38"/>
          <p:cNvSpPr/>
          <p:nvPr/>
        </p:nvSpPr>
        <p:spPr>
          <a:xfrm>
            <a:off x="2050920" y="3284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785760" y="2500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38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спроса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отрез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ой спроса, выраженные в форме прямой линии могут име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ную эласт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57880" y="514332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ая соединительная линия 42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ая соединительная линия 50"/>
          <p:cNvSpPr/>
          <p:nvPr/>
        </p:nvSpPr>
        <p:spPr>
          <a:xfrm>
            <a:off x="3348000" y="3933720"/>
            <a:ext cx="172872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авая фигурная скобка 54"/>
          <p:cNvSpPr/>
          <p:nvPr/>
        </p:nvSpPr>
        <p:spPr>
          <a:xfrm rot="18881400">
            <a:off x="2441520" y="1522080"/>
            <a:ext cx="560520" cy="25477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547720"/>
              <a:gd name="textAreaBottom" fmla="*/ 253332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657"/>
                </a:lnTo>
                <a:cubicBezTo>
                  <a:pt x="10800" y="10855"/>
                  <a:pt x="16200" y="11053"/>
                  <a:pt x="21600" y="11053"/>
                </a:cubicBezTo>
                <a:cubicBezTo>
                  <a:pt x="16200" y="11053"/>
                  <a:pt x="10800" y="11251"/>
                  <a:pt x="10800" y="11449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авая фигурная скобка 55"/>
          <p:cNvSpPr/>
          <p:nvPr/>
        </p:nvSpPr>
        <p:spPr>
          <a:xfrm rot="18931800">
            <a:off x="4184280" y="3355560"/>
            <a:ext cx="571680" cy="241452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2414520"/>
              <a:gd name="textAreaBottom" fmla="*/ 2399760 h 24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65"/>
                </a:lnTo>
                <a:cubicBezTo>
                  <a:pt x="10800" y="10578"/>
                  <a:pt x="16200" y="10791"/>
                  <a:pt x="21600" y="10791"/>
                </a:cubicBezTo>
                <a:cubicBezTo>
                  <a:pt x="16200" y="10791"/>
                  <a:pt x="10800" y="11004"/>
                  <a:pt x="10800" y="11217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2987640" y="1773360"/>
            <a:ext cx="24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Эластичный интервал (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4859280" y="3716280"/>
            <a:ext cx="309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эластичный интервал (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4" name="Прямая со стрелкой 62"/>
          <p:cNvCxnSpPr/>
          <p:nvPr/>
        </p:nvCxnSpPr>
        <p:spPr>
          <a:xfrm flipH="1">
            <a:off x="3347280" y="2780280"/>
            <a:ext cx="2880360" cy="1152720"/>
          </a:xfrm>
          <a:prstGeom prst="straightConnector1">
            <a:avLst/>
          </a:prstGeom>
          <a:ln w="38160">
            <a:solidFill>
              <a:srgbClr val="968c8c"/>
            </a:solidFill>
            <a:miter/>
            <a:tailEnd len="med" type="arrow" w="med"/>
          </a:ln>
        </p:spPr>
      </p:cxnSp>
      <p:sp>
        <p:nvSpPr>
          <p:cNvPr id="685" name="Rectangle 20"/>
          <p:cNvSpPr/>
          <p:nvPr/>
        </p:nvSpPr>
        <p:spPr>
          <a:xfrm>
            <a:off x="5796000" y="198900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Точка единичной эластичности (│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726868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│=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Реакция покупателей на изменения цены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rcRect l="9656" t="27677" r="9417" b="16860"/>
          <a:stretch/>
        </p:blipFill>
        <p:spPr>
          <a:xfrm>
            <a:off x="0" y="160020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68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785760" y="4857840"/>
            <a:ext cx="5605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"/>
          <p:cNvSpPr/>
          <p:nvPr/>
        </p:nvSpPr>
        <p:spPr>
          <a:xfrm flipV="1">
            <a:off x="755640" y="1700280"/>
            <a:ext cx="0" cy="39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55640" y="5661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20"/>
          <p:cNvSpPr/>
          <p:nvPr/>
        </p:nvSpPr>
        <p:spPr>
          <a:xfrm>
            <a:off x="4140360" y="58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179280" y="1557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Line 41"/>
          <p:cNvSpPr/>
          <p:nvPr/>
        </p:nvSpPr>
        <p:spPr>
          <a:xfrm>
            <a:off x="755640" y="3933720"/>
            <a:ext cx="676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Line 42"/>
          <p:cNvSpPr/>
          <p:nvPr/>
        </p:nvSpPr>
        <p:spPr>
          <a:xfrm>
            <a:off x="2340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Прямая соединительная линия 42"/>
          <p:cNvSpPr/>
          <p:nvPr/>
        </p:nvSpPr>
        <p:spPr>
          <a:xfrm>
            <a:off x="754920" y="2276640"/>
            <a:ext cx="1584360" cy="165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Прямая соединительная линия 50"/>
          <p:cNvSpPr/>
          <p:nvPr/>
        </p:nvSpPr>
        <p:spPr>
          <a:xfrm>
            <a:off x="2339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324000" y="573408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3"/>
          <p:cNvSpPr/>
          <p:nvPr/>
        </p:nvSpPr>
        <p:spPr>
          <a:xfrm flipV="1">
            <a:off x="485928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4859280" y="566100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8317080" y="5805360"/>
            <a:ext cx="8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4356000" y="162864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0"/>
          <p:cNvSpPr/>
          <p:nvPr/>
        </p:nvSpPr>
        <p:spPr>
          <a:xfrm>
            <a:off x="4572000" y="5734080"/>
            <a:ext cx="5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Дуга 45"/>
          <p:cNvSpPr/>
          <p:nvPr/>
        </p:nvSpPr>
        <p:spPr>
          <a:xfrm>
            <a:off x="2627280" y="2276640"/>
            <a:ext cx="4897440" cy="3384360"/>
          </a:xfrm>
          <a:custGeom>
            <a:avLst/>
            <a:gdLst/>
            <a:ahLst/>
            <a:rect l="l" t="t" r="r" b="b"/>
            <a:pathLst>
              <a:path stroke="0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  <a:lnTo>
                  <a:pt x="2448719" y="1692275"/>
                </a:lnTo>
                <a:lnTo>
                  <a:pt x="2258135" y="5133"/>
                </a:lnTo>
                <a:close/>
              </a:path>
              <a:path fill="none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1"/>
          <p:cNvSpPr/>
          <p:nvPr/>
        </p:nvSpPr>
        <p:spPr>
          <a:xfrm>
            <a:off x="755640" y="227664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752472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21"/>
          <p:cNvSpPr/>
          <p:nvPr/>
        </p:nvSpPr>
        <p:spPr>
          <a:xfrm>
            <a:off x="0" y="2060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0" y="3573360"/>
            <a:ext cx="7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1979640" y="57340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708360" y="573408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877080" y="573408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7511760" y="3284640"/>
            <a:ext cx="13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аким образом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ерекрестная эластичность спрос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3000240" y="3071880"/>
                <a:ext cx="3095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Rectangle 12"/>
          <p:cNvSpPr/>
          <p:nvPr/>
        </p:nvSpPr>
        <p:spPr>
          <a:xfrm>
            <a:off x="611280" y="4653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заменяемые блага (субститу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дополняемые блага (комплемен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нейтральные бла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дохо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3132000" y="278136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Rectangle 9"/>
          <p:cNvSpPr/>
          <p:nvPr/>
        </p:nvSpPr>
        <p:spPr>
          <a:xfrm>
            <a:off x="611280" y="4221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ро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первой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изкокачественные това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54900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Кривые Энг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4" descr="50_7_f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62728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предлож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1640" y="2071440"/>
            <a:ext cx="560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41"/>
          <p:cNvSpPr/>
          <p:nvPr/>
        </p:nvSpPr>
        <p:spPr>
          <a:xfrm>
            <a:off x="1547640" y="479736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rc 26"/>
          <p:cNvSpPr/>
          <p:nvPr/>
        </p:nvSpPr>
        <p:spPr>
          <a:xfrm flipV="1" rot="591600">
            <a:off x="2484000" y="220428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41"/>
          <p:cNvSpPr/>
          <p:nvPr/>
        </p:nvSpPr>
        <p:spPr>
          <a:xfrm>
            <a:off x="1547640" y="414972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42"/>
          <p:cNvSpPr/>
          <p:nvPr/>
        </p:nvSpPr>
        <p:spPr>
          <a:xfrm>
            <a:off x="3059280" y="4797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31"/>
          <p:cNvSpPr/>
          <p:nvPr/>
        </p:nvSpPr>
        <p:spPr>
          <a:xfrm>
            <a:off x="4572000" y="4076640"/>
            <a:ext cx="574560" cy="504720"/>
          </a:xfrm>
          <a:prstGeom prst="wedgeRectCallout">
            <a:avLst>
              <a:gd name="adj1" fmla="val -138675"/>
              <a:gd name="adj2" fmla="val 34907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32"/>
          <p:cNvSpPr/>
          <p:nvPr/>
        </p:nvSpPr>
        <p:spPr>
          <a:xfrm>
            <a:off x="4500720" y="5013360"/>
            <a:ext cx="647640" cy="504720"/>
          </a:xfrm>
          <a:prstGeom prst="wedgeRectCallout">
            <a:avLst>
              <a:gd name="adj1" fmla="val -188236"/>
              <a:gd name="adj2" fmla="val -89935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Line 34"/>
          <p:cNvSpPr/>
          <p:nvPr/>
        </p:nvSpPr>
        <p:spPr>
          <a:xfrm>
            <a:off x="3059280" y="54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11280" y="458136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0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Line 42"/>
          <p:cNvSpPr/>
          <p:nvPr/>
        </p:nvSpPr>
        <p:spPr>
          <a:xfrm flipV="1">
            <a:off x="1763640" y="4149720"/>
            <a:ext cx="230364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43"/>
          <p:cNvSpPr/>
          <p:nvPr/>
        </p:nvSpPr>
        <p:spPr>
          <a:xfrm flipV="1">
            <a:off x="4067280" y="2637000"/>
            <a:ext cx="230328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4"/>
              <p:cNvSpPr txBox="1"/>
              <p:nvPr/>
            </p:nvSpPr>
            <p:spPr>
              <a:xfrm>
                <a:off x="5076720" y="2349360"/>
                <a:ext cx="388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7" name="Прямая со стрелкой 42"/>
          <p:cNvCxnSpPr/>
          <p:nvPr/>
        </p:nvCxnSpPr>
        <p:spPr>
          <a:xfrm flipV="1">
            <a:off x="1926000" y="414504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8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42920" y="20714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1547640" y="4581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42"/>
          <p:cNvSpPr/>
          <p:nvPr/>
        </p:nvSpPr>
        <p:spPr>
          <a:xfrm>
            <a:off x="507672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rc 26"/>
          <p:cNvSpPr/>
          <p:nvPr/>
        </p:nvSpPr>
        <p:spPr>
          <a:xfrm flipV="1" rot="591600">
            <a:off x="2626920" y="2275920"/>
            <a:ext cx="2449440" cy="2520720"/>
          </a:xfrm>
          <a:custGeom>
            <a:avLst/>
            <a:gdLst>
              <a:gd name="textAreaLeft" fmla="*/ 0 w 2449440"/>
              <a:gd name="textAreaRight" fmla="*/ 2449440 w 2449440"/>
              <a:gd name="textAreaTop" fmla="*/ 360 h 2520720"/>
              <a:gd name="textAreaBottom" fmla="*/ 2521440 h 252072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</a:path>
              <a:path stroke="0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1"/>
          <p:cNvSpPr/>
          <p:nvPr/>
        </p:nvSpPr>
        <p:spPr>
          <a:xfrm>
            <a:off x="1547640" y="31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42"/>
          <p:cNvSpPr/>
          <p:nvPr/>
        </p:nvSpPr>
        <p:spPr>
          <a:xfrm>
            <a:off x="3059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5508720" y="4149720"/>
            <a:ext cx="574560" cy="504720"/>
          </a:xfrm>
          <a:prstGeom prst="wedgeRectCallout">
            <a:avLst>
              <a:gd name="adj1" fmla="val -126518"/>
              <a:gd name="adj2" fmla="val -8522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0"/>
          <p:cNvSpPr/>
          <p:nvPr/>
        </p:nvSpPr>
        <p:spPr>
          <a:xfrm>
            <a:off x="5508720" y="4869000"/>
            <a:ext cx="647640" cy="504720"/>
          </a:xfrm>
          <a:prstGeom prst="wedgeRectCallout">
            <a:avLst>
              <a:gd name="adj1" fmla="val -247060"/>
              <a:gd name="adj2" fmla="val -10503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32"/>
          <p:cNvSpPr/>
          <p:nvPr/>
        </p:nvSpPr>
        <p:spPr>
          <a:xfrm>
            <a:off x="3059280" y="515772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1128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1"/>
          <p:cNvSpPr/>
          <p:nvPr/>
        </p:nvSpPr>
        <p:spPr>
          <a:xfrm>
            <a:off x="611280" y="422100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48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3" name="Object 3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Line 39"/>
          <p:cNvSpPr/>
          <p:nvPr/>
        </p:nvSpPr>
        <p:spPr>
          <a:xfrm flipV="1">
            <a:off x="3059280" y="3141360"/>
            <a:ext cx="2017440" cy="143820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43"/>
              <p:cNvSpPr txBox="1"/>
              <p:nvPr/>
            </p:nvSpPr>
            <p:spPr>
              <a:xfrm>
                <a:off x="5572080" y="2357280"/>
                <a:ext cx="3413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19" name="Прямая со стрелкой 41"/>
          <p:cNvCxnSpPr/>
          <p:nvPr/>
        </p:nvCxnSpPr>
        <p:spPr>
          <a:xfrm flipV="1">
            <a:off x="2068920" y="3142800"/>
            <a:ext cx="2520" cy="143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14600" y="3571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9" name="Object 3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33"/>
          <p:cNvSpPr/>
          <p:nvPr/>
        </p:nvSpPr>
        <p:spPr>
          <a:xfrm>
            <a:off x="6659640" y="3500280"/>
            <a:ext cx="1297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е предлож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500800" y="250020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41"/>
          <p:cNvSpPr/>
          <p:nvPr/>
        </p:nvSpPr>
        <p:spPr>
          <a:xfrm flipV="1">
            <a:off x="1835280" y="3068640"/>
            <a:ext cx="4249440" cy="1224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42"/>
          <p:cNvSpPr/>
          <p:nvPr/>
        </p:nvSpPr>
        <p:spPr>
          <a:xfrm>
            <a:off x="457200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42"/>
          <p:cNvSpPr/>
          <p:nvPr/>
        </p:nvSpPr>
        <p:spPr>
          <a:xfrm flipH="1">
            <a:off x="3059280" y="3933720"/>
            <a:ext cx="1440" cy="165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Rectangle 34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Line 35"/>
          <p:cNvSpPr/>
          <p:nvPr/>
        </p:nvSpPr>
        <p:spPr>
          <a:xfrm>
            <a:off x="1547640" y="3933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1547640" y="350028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5f55"/>
                </a:solidFill>
                <a:latin typeface="Calibri"/>
              </a:rPr>
              <a:t>Предложение единичной эластичности 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41"/>
          <p:cNvSpPr/>
          <p:nvPr/>
        </p:nvSpPr>
        <p:spPr>
          <a:xfrm flipV="1">
            <a:off x="1979640" y="2349360"/>
            <a:ext cx="2879640" cy="288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42"/>
          <p:cNvSpPr/>
          <p:nvPr/>
        </p:nvSpPr>
        <p:spPr>
          <a:xfrm>
            <a:off x="356400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3059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1128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1547640" y="4149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619280" y="3645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611280" y="3284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Неэластичное предложение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00680" y="235728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Line 41"/>
          <p:cNvSpPr/>
          <p:nvPr/>
        </p:nvSpPr>
        <p:spPr>
          <a:xfrm flipH="1">
            <a:off x="2916360" y="2492280"/>
            <a:ext cx="1008000" cy="295272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42"/>
          <p:cNvSpPr/>
          <p:nvPr/>
        </p:nvSpPr>
        <p:spPr>
          <a:xfrm>
            <a:off x="370836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3348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3348000" y="5013360"/>
            <a:ext cx="362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75564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20"/>
          <p:cNvSpPr/>
          <p:nvPr/>
        </p:nvSpPr>
        <p:spPr>
          <a:xfrm>
            <a:off x="30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20"/>
          <p:cNvSpPr/>
          <p:nvPr/>
        </p:nvSpPr>
        <p:spPr>
          <a:xfrm>
            <a:off x="3564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35"/>
          <p:cNvSpPr/>
          <p:nvPr/>
        </p:nvSpPr>
        <p:spPr>
          <a:xfrm>
            <a:off x="154764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36"/>
          <p:cNvSpPr/>
          <p:nvPr/>
        </p:nvSpPr>
        <p:spPr>
          <a:xfrm>
            <a:off x="1547640" y="3141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755640" y="299736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8"/>
          <p:cNvSpPr/>
          <p:nvPr/>
        </p:nvSpPr>
        <p:spPr>
          <a:xfrm>
            <a:off x="212400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не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714840" y="228564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8" name="Object 2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2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30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4" dur="5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9" dur="500"/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4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Распределение налогового бремени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076720" y="4220640"/>
            <a:ext cx="4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704404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1258920" y="5734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324000" y="1628640"/>
            <a:ext cx="1223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23"/>
          <p:cNvSpPr/>
          <p:nvPr/>
        </p:nvSpPr>
        <p:spPr>
          <a:xfrm>
            <a:off x="5651640" y="2565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924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26"/>
          <p:cNvSpPr/>
          <p:nvPr/>
        </p:nvSpPr>
        <p:spPr>
          <a:xfrm>
            <a:off x="6227640" y="3357720"/>
            <a:ext cx="266400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27"/>
          <p:cNvSpPr/>
          <p:nvPr/>
        </p:nvSpPr>
        <p:spPr>
          <a:xfrm flipV="1">
            <a:off x="1979640" y="242064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Line 28"/>
          <p:cNvSpPr/>
          <p:nvPr/>
        </p:nvSpPr>
        <p:spPr>
          <a:xfrm>
            <a:off x="2340000" y="1844640"/>
            <a:ext cx="3095640" cy="324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Line 30"/>
          <p:cNvSpPr/>
          <p:nvPr/>
        </p:nvSpPr>
        <p:spPr>
          <a:xfrm flipH="1">
            <a:off x="1547280" y="3141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31"/>
          <p:cNvSpPr/>
          <p:nvPr/>
        </p:nvSpPr>
        <p:spPr>
          <a:xfrm flipH="1">
            <a:off x="1547280" y="371628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Line 32"/>
          <p:cNvSpPr/>
          <p:nvPr/>
        </p:nvSpPr>
        <p:spPr>
          <a:xfrm>
            <a:off x="4067280" y="371628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Line 33"/>
          <p:cNvSpPr/>
          <p:nvPr/>
        </p:nvSpPr>
        <p:spPr>
          <a:xfrm>
            <a:off x="3564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Line 34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1692360" y="169992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5508720" y="17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Line 39"/>
          <p:cNvSpPr/>
          <p:nvPr/>
        </p:nvSpPr>
        <p:spPr>
          <a:xfrm flipV="1">
            <a:off x="45720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4643280" y="24210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1547640" y="3141720"/>
            <a:ext cx="2016360" cy="1008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1547640" y="3141720"/>
            <a:ext cx="201636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547640" y="3716280"/>
            <a:ext cx="2016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52"/>
          <p:cNvSpPr/>
          <p:nvPr/>
        </p:nvSpPr>
        <p:spPr>
          <a:xfrm>
            <a:off x="3780000" y="357336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5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6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2960" y="1600200"/>
            <a:ext cx="8123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эластичность спроса по цене», «перекрестная эластичность спроса»  и «эластичность спроса по дох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цен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79280" y="4797360"/>
                <a:ext cx="878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ластичность</m:t>
                    </m:r>
                    <m:r>
                      <m:rPr>
                        <m:lit/>
                        <m:nor/>
                      </m:rPr>
                      <m:t xml:space="preserve">спроса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цен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объема спроса, 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ие цены, 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моду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ак как рост цены всегда приводит к снижению объема с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85880" y="414324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rc 34"/>
          <p:cNvSpPr/>
          <p:nvPr/>
        </p:nvSpPr>
        <p:spPr>
          <a:xfrm flipV="1" rot="5400000">
            <a:off x="2662920" y="216900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ая соединительная линия 50"/>
          <p:cNvSpPr/>
          <p:nvPr/>
        </p:nvSpPr>
        <p:spPr>
          <a:xfrm>
            <a:off x="3347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ая соединительная линия 50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3492360" y="3141720"/>
            <a:ext cx="574920" cy="504720"/>
          </a:xfrm>
          <a:prstGeom prst="wedgeRectCallout">
            <a:avLst>
              <a:gd name="adj1" fmla="val -71546"/>
              <a:gd name="adj2" fmla="val 192768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4284720" y="3645000"/>
            <a:ext cx="647640" cy="504720"/>
          </a:xfrm>
          <a:prstGeom prst="wedgeRectCallout">
            <a:avLst>
              <a:gd name="adj1" fmla="val -14901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1835280" y="3933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3348000" y="5445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1280" y="3573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987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7"/>
              <p:cNvSpPr txBox="1"/>
              <p:nvPr/>
            </p:nvSpPr>
            <p:spPr>
              <a:xfrm>
                <a:off x="4572000" y="213372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4" name="Object 4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Місце для нижнього колонтитула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1680" y="45716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1619280" y="314172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2556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rc 26"/>
          <p:cNvSpPr/>
          <p:nvPr/>
        </p:nvSpPr>
        <p:spPr>
          <a:xfrm flipV="1" rot="5400000">
            <a:off x="2446920" y="2312640"/>
            <a:ext cx="2449800" cy="2521080"/>
          </a:xfrm>
          <a:custGeom>
            <a:avLst/>
            <a:gdLst>
              <a:gd name="textAreaLeft" fmla="*/ 0 w 2449800"/>
              <a:gd name="textAreaRight" fmla="*/ 2450160 w 244980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4067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ая соединительная линия 50"/>
          <p:cNvSpPr/>
          <p:nvPr/>
        </p:nvSpPr>
        <p:spPr>
          <a:xfrm>
            <a:off x="2556000" y="3141720"/>
            <a:ext cx="1511280" cy="1511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31"/>
          <p:cNvSpPr/>
          <p:nvPr/>
        </p:nvSpPr>
        <p:spPr>
          <a:xfrm>
            <a:off x="4572000" y="3645000"/>
            <a:ext cx="574560" cy="504720"/>
          </a:xfrm>
          <a:prstGeom prst="wedgeRectCallout">
            <a:avLst>
              <a:gd name="adj1" fmla="val -138675"/>
              <a:gd name="adj2" fmla="val 19180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3419640" y="2133720"/>
            <a:ext cx="647640" cy="504720"/>
          </a:xfrm>
          <a:prstGeom prst="wedgeRectCallout">
            <a:avLst>
              <a:gd name="adj1" fmla="val -9264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205092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2556000" y="5157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11280" y="2781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9" name="Object 43"/>
              <p:cNvSpPr txBox="1"/>
              <p:nvPr/>
            </p:nvSpPr>
            <p:spPr>
              <a:xfrm>
                <a:off x="4572000" y="2133720"/>
                <a:ext cx="4032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57880" y="357156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42"/>
          <p:cNvSpPr/>
          <p:nvPr/>
        </p:nvSpPr>
        <p:spPr>
          <a:xfrm>
            <a:off x="6659640" y="3500280"/>
            <a:ext cx="1584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59:14Z</dcterms:created>
  <dc:creator>ira</dc:creator>
  <dc:description/>
  <dc:language>en-US</dc:language>
  <cp:lastModifiedBy>LEGION</cp:lastModifiedBy>
  <dcterms:modified xsi:type="dcterms:W3CDTF">2016-01-04T08:19:36Z</dcterms:modified>
  <cp:revision>47</cp:revision>
  <dc:subject/>
  <dc:title>Эластичность спроса и предложения</dc:title>
</cp:coreProperties>
</file>