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F276-3E07-40B1-9876-86D90EB03E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C0C-E297-44C5-B4EC-A2CF5477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D7A-82C7-47AA-BDB4-ABA5D5CD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851-0EF7-4DFC-B745-1A08C053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516-B94F-4EBC-84B7-2F440BFB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0132-6974-40AD-81F9-7A3E20E9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0375-B30F-4B68-A037-C6712C98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03FC-B2A8-4094-A358-D553B4D0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6EA6-7A9E-44E6-B7E4-1308FB9E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56EB-AAB9-4B3A-B6DB-9AAFBB70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E9F9-4ED6-41A7-840E-695D0AD4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4D15-BADA-4485-A78E-CEB78B1D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508-CDE6-45E8-B8AC-F8F31080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AB27-6F49-445F-B7AE-F09C3B0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42F0-283F-4738-9D27-C8216F5E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EF17-6A16-422A-9DCD-E0CD0A12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5C3D-71B1-4CFF-9ED2-EBF2F14E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AEAA-F2AD-4C8E-9612-F96AFF1D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2CDFA-0EE4-441E-976F-3DCB7735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B54E1-3AD7-493E-9F26-AAD389E7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AFE8B-1023-4460-9797-FE987ACA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36B56-3E11-4A59-A58D-7E7B9291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DA736-F61B-4BA6-8A35-877E2798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AB6-D3E0-46D4-8EC8-4D44F623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DAFA3-B644-4EB4-A07D-EF7F8552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C4294-1024-4628-A4EE-C13CC3CF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5AC7D-4DB8-48FC-A66B-47C5BC2D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ED95C-DF84-4AE2-8041-9B73582A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79B3E-116B-4509-A679-72B316DD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52F41-D317-48FA-B9AA-5C93A9B5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01044-4DAD-4F5A-B50C-C2F3A28D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7BD5FC-ECEF-4B9A-AC7A-BF5C3C51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0CA3B-C18F-4572-93AA-0F755528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15055-6DE8-47D2-B4C4-7B92D095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3A3-CDF7-4330-93C4-5951DC05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3906F-41C2-4844-95F4-FEBCC667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8A6BF-3423-467A-A6FD-2398E9AE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C453B-6896-49F7-BB75-5C7FED59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9C168-7DA8-4849-BCF1-8735F275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E453D-B52F-4B4C-8303-74A95DD4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1A5E1-B5B4-4FA4-B4A1-562855E0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3CF749-1B81-4BCE-AF0A-67173EC3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98118-5045-426F-A56D-85631685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552C2-67C4-4D87-84E1-C5EC8347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ABA55-BF31-4EE9-9CCD-7F438487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739-1349-4F6C-9D45-0A83770C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1B3D1-2A6E-4594-971C-ECC1817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8C7B3-6D99-4C18-AE2B-2419D037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2A626-079A-4E73-9993-FA6A538A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16096-6D31-4EC0-8C7D-F9141EFE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F3ADD-CE91-4AC4-A7A2-093D6E20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4B516-C790-4412-BFEE-34D97EE6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CFE18-BFBF-4965-82E3-0DC0CC1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2B992-5A27-4F83-BC12-1A03ACD0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4C6AD-EDA3-4D45-8A3C-2ED5A956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6C1B2-9A4E-433F-A2B6-1EEF15DB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C8A-AC65-496B-900D-5F23FC6E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19B70-9350-4F4C-A790-45D685F0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CB172-DE2F-41C0-88D9-2E285428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EAD8B-604C-481E-8E81-B5880E7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9C9C7-A7CF-45B8-B694-7F771856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6D4E4-AD22-4870-B68E-6D1D7F90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36B4C-887B-4FC4-86C7-46288E60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72AA0-A30F-458F-99BA-1A12AD58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3DEC3-4663-4589-90BA-80B3C504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F3DBD-1E54-4675-AFED-39C710BC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F0D57-5A98-4AC5-B6DE-17D26DE2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57A-0144-4DDC-AD5F-7FBD0FE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45601-D23A-46A2-9389-E73A59FE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5C4E-12BB-4D05-86C2-17C79579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E89EC-8102-4601-9A64-2CEA0CCB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A40BA-8BDE-48F6-9FBB-DC87809C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232D5-C165-437C-8F9A-85DE08D8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0BA62-D123-4F30-9A79-CC915B0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35436-DCB3-4B56-A964-8681B2FA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F502C-8E4B-46DA-81C5-8E171922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CE849-D269-48D1-98AE-D18BFB03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D5093-E4DB-492F-85C9-40A2E27D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ABB-011E-44FB-974A-1A2BD6E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D0965-69F7-49E8-89E1-1E24372D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0705F-6CF3-493F-872D-A816BCB5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45539-CA7C-4E3B-998A-E0AB95C8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2EFA3-7366-40C5-9A50-32053757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03488-034D-400A-B20F-D30234BE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880F9-5021-4CFF-AC74-26C978C2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CAE73-1A0E-439F-822A-94FAA2F0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12392-07D5-4A1D-A430-CA742517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79CED-6F9C-40BB-9BE9-155B2AB9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E4AE0-ACAC-4853-A83D-D7F7A523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974-1D43-4091-9B6A-231E8D0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87361-CA15-43F8-8C81-228BDDBD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0F18A-70D2-45D4-B154-4A9C8165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521AD-6413-490E-81A6-49689E4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3DE4A-1DAC-418C-A762-EDBCA239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22CB7-3785-45A7-8295-EEDB13AD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E3F05-CFE8-416B-A7B0-4AD15D78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181D1-1F6F-4F22-9AB5-AC86CC94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8A7C-D338-4F44-B726-E4DB0EFEAC49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FBD9-848B-441B-BE7F-CFD96011397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CA28-B33B-4C16-9124-2EB9BDBE238D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9CD4-07BB-40A3-942B-866B47E4C870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9561-EC90-4D3C-BBC0-B92B2A6303E7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ECBD-221B-40A2-89F0-965E37F31527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197C-708C-4378-8E76-EE4ECF90F950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90A6-A03C-4C3F-AF9C-829093A06E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EDD2-2920-4763-8DAC-DA43C2198F3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EEBC-46CC-48E8-B3D4-E08521BD01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D9C-07C8-4A7D-9DAD-F5E07FF05A8A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E2CF-F7A8-464B-8C63-7CE9DA237B14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61AE-224B-4AF0-A69E-F14763E35D18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795D-8C5B-4521-AF49-C035BB286A7C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2F4B-DB6F-4396-8389-4C7F46128176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D7CE-CE0D-49C0-8AB2-A5781BB3C78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879720"/>
            <a:ext cx="647676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ЭЛАСТИЧНОСТЬ СПРОСА И ПРЕДЛОЖЕНИЯ 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ма 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4640" y="3643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1692360" y="3284640"/>
            <a:ext cx="4392360" cy="1008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42"/>
          <p:cNvSpPr/>
          <p:nvPr/>
        </p:nvSpPr>
        <p:spPr>
          <a:xfrm>
            <a:off x="3059280" y="357336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42"/>
          <p:cNvSpPr/>
          <p:nvPr/>
        </p:nvSpPr>
        <p:spPr>
          <a:xfrm flipH="1">
            <a:off x="4572000" y="4005360"/>
            <a:ext cx="1440" cy="1655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35"/>
          <p:cNvSpPr/>
          <p:nvPr/>
        </p:nvSpPr>
        <p:spPr>
          <a:xfrm>
            <a:off x="1547640" y="357336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36"/>
          <p:cNvSpPr/>
          <p:nvPr/>
        </p:nvSpPr>
        <p:spPr>
          <a:xfrm>
            <a:off x="1547640" y="393372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2050920" y="35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Спрос единичной эластичности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14560" y="4714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41"/>
          <p:cNvSpPr/>
          <p:nvPr/>
        </p:nvSpPr>
        <p:spPr>
          <a:xfrm>
            <a:off x="1908000" y="2492280"/>
            <a:ext cx="2808360" cy="280836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42"/>
          <p:cNvSpPr/>
          <p:nvPr/>
        </p:nvSpPr>
        <p:spPr>
          <a:xfrm>
            <a:off x="305928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3564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3059280" y="5013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611280" y="335772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1547640" y="364500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142880" y="4786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Line 41"/>
          <p:cNvSpPr/>
          <p:nvPr/>
        </p:nvSpPr>
        <p:spPr>
          <a:xfrm>
            <a:off x="2627280" y="2349360"/>
            <a:ext cx="1440000" cy="3095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42"/>
          <p:cNvSpPr/>
          <p:nvPr/>
        </p:nvSpPr>
        <p:spPr>
          <a:xfrm>
            <a:off x="3059280" y="3284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42"/>
          <p:cNvSpPr/>
          <p:nvPr/>
        </p:nvSpPr>
        <p:spPr>
          <a:xfrm>
            <a:off x="3492360" y="4221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3059280" y="501336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684360" y="2924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35"/>
          <p:cNvSpPr/>
          <p:nvPr/>
        </p:nvSpPr>
        <p:spPr>
          <a:xfrm>
            <a:off x="1547640" y="328464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36"/>
          <p:cNvSpPr/>
          <p:nvPr/>
        </p:nvSpPr>
        <p:spPr>
          <a:xfrm>
            <a:off x="1547640" y="4221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38"/>
          <p:cNvSpPr/>
          <p:nvPr/>
        </p:nvSpPr>
        <p:spPr>
          <a:xfrm>
            <a:off x="2050920" y="328464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785760" y="2500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8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38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спроса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ые отрез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вой спроса, выраженные в форме прямой линии могут иметь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ную эластич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57880" y="514332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ая соединительная линия 42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ая соединительная линия 50"/>
          <p:cNvSpPr/>
          <p:nvPr/>
        </p:nvSpPr>
        <p:spPr>
          <a:xfrm>
            <a:off x="3348000" y="3933720"/>
            <a:ext cx="172872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Правая фигурная скобка 54"/>
          <p:cNvSpPr/>
          <p:nvPr/>
        </p:nvSpPr>
        <p:spPr>
          <a:xfrm rot="18881400">
            <a:off x="2441520" y="1522080"/>
            <a:ext cx="560520" cy="2547720"/>
          </a:xfrm>
          <a:custGeom>
            <a:avLst/>
            <a:gdLst>
              <a:gd name="textAreaLeft" fmla="*/ 0 w 560520"/>
              <a:gd name="textAreaRight" fmla="*/ 202320 w 560520"/>
              <a:gd name="textAreaTop" fmla="*/ 14400 h 2547720"/>
              <a:gd name="textAreaBottom" fmla="*/ 2533320 h 25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657"/>
                </a:lnTo>
                <a:cubicBezTo>
                  <a:pt x="10800" y="10855"/>
                  <a:pt x="16200" y="11053"/>
                  <a:pt x="21600" y="11053"/>
                </a:cubicBezTo>
                <a:cubicBezTo>
                  <a:pt x="16200" y="11053"/>
                  <a:pt x="10800" y="11251"/>
                  <a:pt x="10800" y="11449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Правая фигурная скобка 55"/>
          <p:cNvSpPr/>
          <p:nvPr/>
        </p:nvSpPr>
        <p:spPr>
          <a:xfrm rot="18931800">
            <a:off x="4184280" y="3355560"/>
            <a:ext cx="571680" cy="241452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2414520"/>
              <a:gd name="textAreaBottom" fmla="*/ 2399760 h 24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6"/>
                </a:cubicBezTo>
                <a:lnTo>
                  <a:pt x="10800" y="10365"/>
                </a:lnTo>
                <a:cubicBezTo>
                  <a:pt x="10800" y="10578"/>
                  <a:pt x="16200" y="10791"/>
                  <a:pt x="21600" y="10791"/>
                </a:cubicBezTo>
                <a:cubicBezTo>
                  <a:pt x="16200" y="10791"/>
                  <a:pt x="10800" y="11004"/>
                  <a:pt x="10800" y="11217"/>
                </a:cubicBezTo>
                <a:lnTo>
                  <a:pt x="10800" y="21174"/>
                </a:lnTo>
                <a:cubicBezTo>
                  <a:pt x="10800" y="2138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Rectangle 20"/>
          <p:cNvSpPr/>
          <p:nvPr/>
        </p:nvSpPr>
        <p:spPr>
          <a:xfrm>
            <a:off x="2987640" y="1773360"/>
            <a:ext cx="24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Эластичный интервал (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&g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4859280" y="3716280"/>
            <a:ext cx="309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Неэластичный интервал (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&l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84" name="Прямая со стрелкой 62"/>
          <p:cNvCxnSpPr/>
          <p:nvPr/>
        </p:nvCxnSpPr>
        <p:spPr>
          <a:xfrm flipH="1">
            <a:off x="3347280" y="2780280"/>
            <a:ext cx="2880360" cy="1152720"/>
          </a:xfrm>
          <a:prstGeom prst="straightConnector1">
            <a:avLst/>
          </a:prstGeom>
          <a:ln w="38160">
            <a:solidFill>
              <a:srgbClr val="968c8c"/>
            </a:solidFill>
            <a:miter/>
            <a:tailEnd len="med" type="arrow" w="med"/>
          </a:ln>
        </p:spPr>
      </p:cxnSp>
      <p:sp>
        <p:nvSpPr>
          <p:cNvPr id="685" name="Rectangle 20"/>
          <p:cNvSpPr/>
          <p:nvPr/>
        </p:nvSpPr>
        <p:spPr>
          <a:xfrm>
            <a:off x="5796000" y="1989000"/>
            <a:ext cx="324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Точка единичной эластичности (│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726868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│=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Реакция покупателей на изменения цены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rcRect l="9656" t="27677" r="9417" b="16860"/>
          <a:stretch/>
        </p:blipFill>
        <p:spPr>
          <a:xfrm>
            <a:off x="0" y="1600200"/>
            <a:ext cx="9144000" cy="5068800"/>
          </a:xfrm>
          <a:prstGeom prst="rect">
            <a:avLst/>
          </a:prstGeom>
          <a:ln w="0">
            <a:noFill/>
          </a:ln>
        </p:spPr>
      </p:pic>
      <p:sp>
        <p:nvSpPr>
          <p:cNvPr id="68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534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785760" y="4857840"/>
            <a:ext cx="5605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3"/>
          <p:cNvSpPr/>
          <p:nvPr/>
        </p:nvSpPr>
        <p:spPr>
          <a:xfrm flipV="1">
            <a:off x="755640" y="1700280"/>
            <a:ext cx="0" cy="396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Line 4"/>
          <p:cNvSpPr/>
          <p:nvPr/>
        </p:nvSpPr>
        <p:spPr>
          <a:xfrm>
            <a:off x="755640" y="566100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Rectangle 20"/>
          <p:cNvSpPr/>
          <p:nvPr/>
        </p:nvSpPr>
        <p:spPr>
          <a:xfrm>
            <a:off x="4140360" y="5805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21"/>
          <p:cNvSpPr/>
          <p:nvPr/>
        </p:nvSpPr>
        <p:spPr>
          <a:xfrm>
            <a:off x="179280" y="15573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Line 41"/>
          <p:cNvSpPr/>
          <p:nvPr/>
        </p:nvSpPr>
        <p:spPr>
          <a:xfrm>
            <a:off x="755640" y="3933720"/>
            <a:ext cx="676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Line 42"/>
          <p:cNvSpPr/>
          <p:nvPr/>
        </p:nvSpPr>
        <p:spPr>
          <a:xfrm>
            <a:off x="2340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Прямая соединительная линия 42"/>
          <p:cNvSpPr/>
          <p:nvPr/>
        </p:nvSpPr>
        <p:spPr>
          <a:xfrm>
            <a:off x="754920" y="2276640"/>
            <a:ext cx="1584360" cy="1657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Прямая соединительная линия 50"/>
          <p:cNvSpPr/>
          <p:nvPr/>
        </p:nvSpPr>
        <p:spPr>
          <a:xfrm>
            <a:off x="2339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324000" y="573408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Line 3"/>
          <p:cNvSpPr/>
          <p:nvPr/>
        </p:nvSpPr>
        <p:spPr>
          <a:xfrm flipV="1">
            <a:off x="485928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4859280" y="5661000"/>
            <a:ext cx="403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8317080" y="5805360"/>
            <a:ext cx="82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4356000" y="162864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Rectangle 20"/>
          <p:cNvSpPr/>
          <p:nvPr/>
        </p:nvSpPr>
        <p:spPr>
          <a:xfrm>
            <a:off x="4572000" y="5734080"/>
            <a:ext cx="503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Дуга 45"/>
          <p:cNvSpPr/>
          <p:nvPr/>
        </p:nvSpPr>
        <p:spPr>
          <a:xfrm>
            <a:off x="2627280" y="2276640"/>
            <a:ext cx="4897440" cy="3384360"/>
          </a:xfrm>
          <a:custGeom>
            <a:avLst/>
            <a:gdLst/>
            <a:ahLst/>
            <a:rect l="l" t="t" r="r" b="b"/>
            <a:pathLst>
              <a:path stroke="0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  <a:lnTo>
                  <a:pt x="2448719" y="1692275"/>
                </a:lnTo>
                <a:lnTo>
                  <a:pt x="2258135" y="5133"/>
                </a:lnTo>
                <a:close/>
              </a:path>
              <a:path fill="none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41"/>
          <p:cNvSpPr/>
          <p:nvPr/>
        </p:nvSpPr>
        <p:spPr>
          <a:xfrm>
            <a:off x="755640" y="227664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752472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Rectangle 21"/>
          <p:cNvSpPr/>
          <p:nvPr/>
        </p:nvSpPr>
        <p:spPr>
          <a:xfrm>
            <a:off x="0" y="2060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0" y="3573360"/>
            <a:ext cx="7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21"/>
          <p:cNvSpPr/>
          <p:nvPr/>
        </p:nvSpPr>
        <p:spPr>
          <a:xfrm>
            <a:off x="1979640" y="573408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3708360" y="573408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ectangle 21"/>
          <p:cNvSpPr/>
          <p:nvPr/>
        </p:nvSpPr>
        <p:spPr>
          <a:xfrm>
            <a:off x="6877080" y="573408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28"/>
          <p:cNvSpPr/>
          <p:nvPr/>
        </p:nvSpPr>
        <p:spPr>
          <a:xfrm>
            <a:off x="7511760" y="3284640"/>
            <a:ext cx="133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7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аким образом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Вопрос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ерекрестная эластичность спрос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3000240" y="3071880"/>
                <a:ext cx="309564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2" name="Rectangle 12"/>
          <p:cNvSpPr/>
          <p:nvPr/>
        </p:nvSpPr>
        <p:spPr>
          <a:xfrm>
            <a:off x="611280" y="465300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заменяемые блага (субститу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дополняемые блага (комплемен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нейтральные бла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дохо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8"/>
              <p:cNvSpPr txBox="1"/>
              <p:nvPr/>
            </p:nvSpPr>
            <p:spPr>
              <a:xfrm>
                <a:off x="3132000" y="2781360"/>
                <a:ext cx="23767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7" name="Rectangle 9"/>
          <p:cNvSpPr/>
          <p:nvPr/>
        </p:nvSpPr>
        <p:spPr>
          <a:xfrm>
            <a:off x="611280" y="4221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роскош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первой необх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низкокачественные това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2640" y="54900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Кривые Энг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4" descr="50_7_f3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62728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предлож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1640" y="2071440"/>
            <a:ext cx="5605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Line 41"/>
          <p:cNvSpPr/>
          <p:nvPr/>
        </p:nvSpPr>
        <p:spPr>
          <a:xfrm>
            <a:off x="1547640" y="479736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Arc 26"/>
          <p:cNvSpPr/>
          <p:nvPr/>
        </p:nvSpPr>
        <p:spPr>
          <a:xfrm flipV="1" rot="591600">
            <a:off x="2484000" y="220428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Line 41"/>
          <p:cNvSpPr/>
          <p:nvPr/>
        </p:nvSpPr>
        <p:spPr>
          <a:xfrm>
            <a:off x="1547640" y="414972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Line 42"/>
          <p:cNvSpPr/>
          <p:nvPr/>
        </p:nvSpPr>
        <p:spPr>
          <a:xfrm>
            <a:off x="3059280" y="4797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AutoShape 31"/>
          <p:cNvSpPr/>
          <p:nvPr/>
        </p:nvSpPr>
        <p:spPr>
          <a:xfrm>
            <a:off x="4572000" y="4076640"/>
            <a:ext cx="574560" cy="504720"/>
          </a:xfrm>
          <a:prstGeom prst="wedgeRectCallout">
            <a:avLst>
              <a:gd name="adj1" fmla="val -138675"/>
              <a:gd name="adj2" fmla="val 34907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32"/>
          <p:cNvSpPr/>
          <p:nvPr/>
        </p:nvSpPr>
        <p:spPr>
          <a:xfrm>
            <a:off x="4500720" y="5013360"/>
            <a:ext cx="647640" cy="504720"/>
          </a:xfrm>
          <a:prstGeom prst="wedgeRectCallout">
            <a:avLst>
              <a:gd name="adj1" fmla="val -188236"/>
              <a:gd name="adj2" fmla="val -89935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Line 34"/>
          <p:cNvSpPr/>
          <p:nvPr/>
        </p:nvSpPr>
        <p:spPr>
          <a:xfrm>
            <a:off x="3059280" y="5445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tangle 21"/>
          <p:cNvSpPr/>
          <p:nvPr/>
        </p:nvSpPr>
        <p:spPr>
          <a:xfrm>
            <a:off x="611280" y="458136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0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Line 42"/>
          <p:cNvSpPr/>
          <p:nvPr/>
        </p:nvSpPr>
        <p:spPr>
          <a:xfrm flipV="1">
            <a:off x="1763640" y="4149720"/>
            <a:ext cx="230364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43"/>
          <p:cNvSpPr/>
          <p:nvPr/>
        </p:nvSpPr>
        <p:spPr>
          <a:xfrm flipV="1">
            <a:off x="4067280" y="2637000"/>
            <a:ext cx="230328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44"/>
              <p:cNvSpPr txBox="1"/>
              <p:nvPr/>
            </p:nvSpPr>
            <p:spPr>
              <a:xfrm>
                <a:off x="5076720" y="2349360"/>
                <a:ext cx="38880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77" name="Прямая со стрелкой 42"/>
          <p:cNvCxnSpPr/>
          <p:nvPr/>
        </p:nvCxnSpPr>
        <p:spPr>
          <a:xfrm flipV="1">
            <a:off x="1926000" y="414504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8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42920" y="20714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Line 41"/>
          <p:cNvSpPr/>
          <p:nvPr/>
        </p:nvSpPr>
        <p:spPr>
          <a:xfrm>
            <a:off x="1547640" y="4581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Line 42"/>
          <p:cNvSpPr/>
          <p:nvPr/>
        </p:nvSpPr>
        <p:spPr>
          <a:xfrm>
            <a:off x="507672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rc 26"/>
          <p:cNvSpPr/>
          <p:nvPr/>
        </p:nvSpPr>
        <p:spPr>
          <a:xfrm flipV="1" rot="591600">
            <a:off x="2626920" y="2275920"/>
            <a:ext cx="2449440" cy="2520720"/>
          </a:xfrm>
          <a:custGeom>
            <a:avLst/>
            <a:gdLst>
              <a:gd name="textAreaLeft" fmla="*/ 0 w 2449440"/>
              <a:gd name="textAreaRight" fmla="*/ 2449440 w 2449440"/>
              <a:gd name="textAreaTop" fmla="*/ 360 h 2520720"/>
              <a:gd name="textAreaBottom" fmla="*/ 2521440 h 2520720"/>
            </a:gdLst>
            <a:ahLst/>
            <a:rect l="textAreaLeft" t="textAreaTop" r="textAreaRight" b="textAreaBottom"/>
            <a:pathLst>
              <a:path fill="none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</a:path>
              <a:path stroke="0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Line 41"/>
          <p:cNvSpPr/>
          <p:nvPr/>
        </p:nvSpPr>
        <p:spPr>
          <a:xfrm>
            <a:off x="1547640" y="31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Line 42"/>
          <p:cNvSpPr/>
          <p:nvPr/>
        </p:nvSpPr>
        <p:spPr>
          <a:xfrm>
            <a:off x="3059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AutoShape 29"/>
          <p:cNvSpPr/>
          <p:nvPr/>
        </p:nvSpPr>
        <p:spPr>
          <a:xfrm>
            <a:off x="5508720" y="4149720"/>
            <a:ext cx="574560" cy="504720"/>
          </a:xfrm>
          <a:prstGeom prst="wedgeRectCallout">
            <a:avLst>
              <a:gd name="adj1" fmla="val -126518"/>
              <a:gd name="adj2" fmla="val -8522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30"/>
          <p:cNvSpPr/>
          <p:nvPr/>
        </p:nvSpPr>
        <p:spPr>
          <a:xfrm>
            <a:off x="5508720" y="4869000"/>
            <a:ext cx="647640" cy="504720"/>
          </a:xfrm>
          <a:prstGeom prst="wedgeRectCallout">
            <a:avLst>
              <a:gd name="adj1" fmla="val -247060"/>
              <a:gd name="adj2" fmla="val -10503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Line 32"/>
          <p:cNvSpPr/>
          <p:nvPr/>
        </p:nvSpPr>
        <p:spPr>
          <a:xfrm>
            <a:off x="3059280" y="5157720"/>
            <a:ext cx="20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61128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1"/>
          <p:cNvSpPr/>
          <p:nvPr/>
        </p:nvSpPr>
        <p:spPr>
          <a:xfrm>
            <a:off x="611280" y="422100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Rectangle 20"/>
          <p:cNvSpPr/>
          <p:nvPr/>
        </p:nvSpPr>
        <p:spPr>
          <a:xfrm>
            <a:off x="48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3" name="Object 3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Line 39"/>
          <p:cNvSpPr/>
          <p:nvPr/>
        </p:nvSpPr>
        <p:spPr>
          <a:xfrm flipV="1">
            <a:off x="3059280" y="3141360"/>
            <a:ext cx="2017440" cy="143820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43"/>
              <p:cNvSpPr txBox="1"/>
              <p:nvPr/>
            </p:nvSpPr>
            <p:spPr>
              <a:xfrm>
                <a:off x="5572080" y="2357280"/>
                <a:ext cx="341316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819" name="Прямая со стрелкой 41"/>
          <p:cNvCxnSpPr/>
          <p:nvPr/>
        </p:nvCxnSpPr>
        <p:spPr>
          <a:xfrm flipV="1">
            <a:off x="2068920" y="3142800"/>
            <a:ext cx="2520" cy="143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214600" y="3571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Line 26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49" name="Object 3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33"/>
          <p:cNvSpPr/>
          <p:nvPr/>
        </p:nvSpPr>
        <p:spPr>
          <a:xfrm>
            <a:off x="6659640" y="3500280"/>
            <a:ext cx="1297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е предлож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500800" y="250020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Line 41"/>
          <p:cNvSpPr/>
          <p:nvPr/>
        </p:nvSpPr>
        <p:spPr>
          <a:xfrm flipV="1">
            <a:off x="1835280" y="3068640"/>
            <a:ext cx="4249440" cy="1224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Line 42"/>
          <p:cNvSpPr/>
          <p:nvPr/>
        </p:nvSpPr>
        <p:spPr>
          <a:xfrm>
            <a:off x="4572000" y="350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Line 42"/>
          <p:cNvSpPr/>
          <p:nvPr/>
        </p:nvSpPr>
        <p:spPr>
          <a:xfrm flipH="1">
            <a:off x="3059280" y="3933720"/>
            <a:ext cx="1440" cy="165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Rectangle 34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Line 35"/>
          <p:cNvSpPr/>
          <p:nvPr/>
        </p:nvSpPr>
        <p:spPr>
          <a:xfrm>
            <a:off x="1547640" y="3933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Line 36"/>
          <p:cNvSpPr/>
          <p:nvPr/>
        </p:nvSpPr>
        <p:spPr>
          <a:xfrm>
            <a:off x="1547640" y="350028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775f55"/>
                </a:solidFill>
                <a:latin typeface="Calibri"/>
              </a:rPr>
              <a:t>Предложение единичной эластичности 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Line 41"/>
          <p:cNvSpPr/>
          <p:nvPr/>
        </p:nvSpPr>
        <p:spPr>
          <a:xfrm flipV="1">
            <a:off x="1979640" y="2349360"/>
            <a:ext cx="2879640" cy="288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Line 42"/>
          <p:cNvSpPr/>
          <p:nvPr/>
        </p:nvSpPr>
        <p:spPr>
          <a:xfrm>
            <a:off x="356400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3059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Line 27"/>
          <p:cNvSpPr/>
          <p:nvPr/>
        </p:nvSpPr>
        <p:spPr>
          <a:xfrm>
            <a:off x="3059280" y="5157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21"/>
          <p:cNvSpPr/>
          <p:nvPr/>
        </p:nvSpPr>
        <p:spPr>
          <a:xfrm>
            <a:off x="61128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Line 35"/>
          <p:cNvSpPr/>
          <p:nvPr/>
        </p:nvSpPr>
        <p:spPr>
          <a:xfrm>
            <a:off x="1547640" y="4149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Line 36"/>
          <p:cNvSpPr/>
          <p:nvPr/>
        </p:nvSpPr>
        <p:spPr>
          <a:xfrm>
            <a:off x="1619280" y="3645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611280" y="3284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nodeType="clickEffect" fill="hold">
                      <p:stCondLst>
                        <p:cond delay="indefinite"/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142640" y="620640"/>
            <a:ext cx="8001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Неэластичное предложение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000680" y="235728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Line 41"/>
          <p:cNvSpPr/>
          <p:nvPr/>
        </p:nvSpPr>
        <p:spPr>
          <a:xfrm flipH="1">
            <a:off x="2916360" y="2492280"/>
            <a:ext cx="1008000" cy="295272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Line 42"/>
          <p:cNvSpPr/>
          <p:nvPr/>
        </p:nvSpPr>
        <p:spPr>
          <a:xfrm>
            <a:off x="370836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Line 42"/>
          <p:cNvSpPr/>
          <p:nvPr/>
        </p:nvSpPr>
        <p:spPr>
          <a:xfrm>
            <a:off x="3348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Line 27"/>
          <p:cNvSpPr/>
          <p:nvPr/>
        </p:nvSpPr>
        <p:spPr>
          <a:xfrm>
            <a:off x="3348000" y="5013360"/>
            <a:ext cx="362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21"/>
          <p:cNvSpPr/>
          <p:nvPr/>
        </p:nvSpPr>
        <p:spPr>
          <a:xfrm>
            <a:off x="75564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Rectangle 20"/>
          <p:cNvSpPr/>
          <p:nvPr/>
        </p:nvSpPr>
        <p:spPr>
          <a:xfrm>
            <a:off x="30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20"/>
          <p:cNvSpPr/>
          <p:nvPr/>
        </p:nvSpPr>
        <p:spPr>
          <a:xfrm>
            <a:off x="3564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Line 35"/>
          <p:cNvSpPr/>
          <p:nvPr/>
        </p:nvSpPr>
        <p:spPr>
          <a:xfrm>
            <a:off x="1547640" y="4149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Line 36"/>
          <p:cNvSpPr/>
          <p:nvPr/>
        </p:nvSpPr>
        <p:spPr>
          <a:xfrm>
            <a:off x="1547640" y="314172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21"/>
          <p:cNvSpPr/>
          <p:nvPr/>
        </p:nvSpPr>
        <p:spPr>
          <a:xfrm>
            <a:off x="755640" y="299736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8"/>
          <p:cNvSpPr/>
          <p:nvPr/>
        </p:nvSpPr>
        <p:spPr>
          <a:xfrm>
            <a:off x="212400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не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714840" y="228564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8" name="Object 2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Object 2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Rectangle 30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1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Line 32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34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0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nodeType="clickEffect" fill="hold">
                      <p:stCondLst>
                        <p:cond delay="indefinite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8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nodeType="clickEffect" fill="hold">
                      <p:stCondLst>
                        <p:cond delay="indefinite"/>
                      </p:stCondLst>
                      <p:childTnLst>
                        <p:par>
                          <p:cTn id="2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4" dur="500"/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9" dur="500"/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4" dur="500"/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Распределение налогового бремени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5076720" y="4220640"/>
            <a:ext cx="43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704404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Line 13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Rectangle 20"/>
          <p:cNvSpPr/>
          <p:nvPr/>
        </p:nvSpPr>
        <p:spPr>
          <a:xfrm>
            <a:off x="1258920" y="5734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Rectangle 21"/>
          <p:cNvSpPr/>
          <p:nvPr/>
        </p:nvSpPr>
        <p:spPr>
          <a:xfrm>
            <a:off x="324000" y="1628640"/>
            <a:ext cx="1223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Rectangle 23"/>
          <p:cNvSpPr/>
          <p:nvPr/>
        </p:nvSpPr>
        <p:spPr>
          <a:xfrm>
            <a:off x="5651640" y="2565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92436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Rectangle 26"/>
          <p:cNvSpPr/>
          <p:nvPr/>
        </p:nvSpPr>
        <p:spPr>
          <a:xfrm>
            <a:off x="6227640" y="3357720"/>
            <a:ext cx="266400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27"/>
          <p:cNvSpPr/>
          <p:nvPr/>
        </p:nvSpPr>
        <p:spPr>
          <a:xfrm flipV="1">
            <a:off x="1979640" y="242064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Line 28"/>
          <p:cNvSpPr/>
          <p:nvPr/>
        </p:nvSpPr>
        <p:spPr>
          <a:xfrm>
            <a:off x="2340000" y="1844640"/>
            <a:ext cx="3095640" cy="324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Line 30"/>
          <p:cNvSpPr/>
          <p:nvPr/>
        </p:nvSpPr>
        <p:spPr>
          <a:xfrm flipH="1">
            <a:off x="1547280" y="3141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Line 31"/>
          <p:cNvSpPr/>
          <p:nvPr/>
        </p:nvSpPr>
        <p:spPr>
          <a:xfrm flipH="1">
            <a:off x="1547280" y="371628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Line 32"/>
          <p:cNvSpPr/>
          <p:nvPr/>
        </p:nvSpPr>
        <p:spPr>
          <a:xfrm>
            <a:off x="4067280" y="371628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Line 33"/>
          <p:cNvSpPr/>
          <p:nvPr/>
        </p:nvSpPr>
        <p:spPr>
          <a:xfrm>
            <a:off x="3564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Line 34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Line 37"/>
          <p:cNvSpPr/>
          <p:nvPr/>
        </p:nvSpPr>
        <p:spPr>
          <a:xfrm flipV="1">
            <a:off x="1692360" y="169992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ctangle 38"/>
          <p:cNvSpPr/>
          <p:nvPr/>
        </p:nvSpPr>
        <p:spPr>
          <a:xfrm>
            <a:off x="5508720" y="17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Line 39"/>
          <p:cNvSpPr/>
          <p:nvPr/>
        </p:nvSpPr>
        <p:spPr>
          <a:xfrm flipV="1">
            <a:off x="4572000" y="242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Rectangle 40"/>
          <p:cNvSpPr/>
          <p:nvPr/>
        </p:nvSpPr>
        <p:spPr>
          <a:xfrm>
            <a:off x="4643280" y="242100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1547640" y="3141720"/>
            <a:ext cx="2016360" cy="1008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Rectangle 42"/>
          <p:cNvSpPr/>
          <p:nvPr/>
        </p:nvSpPr>
        <p:spPr>
          <a:xfrm>
            <a:off x="1547640" y="3141720"/>
            <a:ext cx="2016360" cy="57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Rectangle 43"/>
          <p:cNvSpPr/>
          <p:nvPr/>
        </p:nvSpPr>
        <p:spPr>
          <a:xfrm>
            <a:off x="1547640" y="3716280"/>
            <a:ext cx="201636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Line 52"/>
          <p:cNvSpPr/>
          <p:nvPr/>
        </p:nvSpPr>
        <p:spPr>
          <a:xfrm>
            <a:off x="3780000" y="357336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5" dur="indefinite" restart="never" nodeType="tmRoot">
          <p:childTnLst>
            <p:seq>
              <p:cTn id="2206" dur="indefinite" nodeType="mainSeq">
                <p:childTnLst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nodeType="clickEffect" fill="hold">
                      <p:stCondLst>
                        <p:cond delay="indefinite"/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5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1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6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42960" y="1600200"/>
            <a:ext cx="8123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эластичность спроса по цене», «перекрестная эластичность спроса»  и «эластичность спроса по доход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цен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79280" y="4797360"/>
                <a:ext cx="878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Эластичность</m:t>
                    </m:r>
                    <m:r>
                      <m:rPr>
                        <m:lit/>
                        <m:nor/>
                      </m:rPr>
                      <m:t xml:space="preserve">спроса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rPr>
                        <m:lit/>
                        <m:nor/>
                      </m:rPr>
                      <m:t xml:space="preserve">цен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 объема спроса, 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ие цены, 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модул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ак как рост цены всегда приводит к снижению объема спро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285880" y="414324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rc 34"/>
          <p:cNvSpPr/>
          <p:nvPr/>
        </p:nvSpPr>
        <p:spPr>
          <a:xfrm flipV="1" rot="5400000">
            <a:off x="2662920" y="216900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42"/>
          <p:cNvSpPr/>
          <p:nvPr/>
        </p:nvSpPr>
        <p:spPr>
          <a:xfrm>
            <a:off x="4067280" y="4653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ая соединительная линия 50"/>
          <p:cNvSpPr/>
          <p:nvPr/>
        </p:nvSpPr>
        <p:spPr>
          <a:xfrm>
            <a:off x="3347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Прямая соединительная линия 50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AutoShape 39"/>
          <p:cNvSpPr/>
          <p:nvPr/>
        </p:nvSpPr>
        <p:spPr>
          <a:xfrm>
            <a:off x="3492360" y="3141720"/>
            <a:ext cx="574920" cy="504720"/>
          </a:xfrm>
          <a:prstGeom prst="wedgeRectCallout">
            <a:avLst>
              <a:gd name="adj1" fmla="val -71546"/>
              <a:gd name="adj2" fmla="val 192768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40"/>
          <p:cNvSpPr/>
          <p:nvPr/>
        </p:nvSpPr>
        <p:spPr>
          <a:xfrm>
            <a:off x="4284720" y="3645000"/>
            <a:ext cx="647640" cy="504720"/>
          </a:xfrm>
          <a:prstGeom prst="wedgeRectCallout">
            <a:avLst>
              <a:gd name="adj1" fmla="val -14901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41"/>
          <p:cNvSpPr/>
          <p:nvPr/>
        </p:nvSpPr>
        <p:spPr>
          <a:xfrm>
            <a:off x="1835280" y="3933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3348000" y="5445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611280" y="3573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2987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7"/>
              <p:cNvSpPr txBox="1"/>
              <p:nvPr/>
            </p:nvSpPr>
            <p:spPr>
              <a:xfrm>
                <a:off x="4572000" y="213372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4" name="Object 4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4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Місце для нижнього колонтитула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71680" y="45716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41"/>
          <p:cNvSpPr/>
          <p:nvPr/>
        </p:nvSpPr>
        <p:spPr>
          <a:xfrm>
            <a:off x="1619280" y="314172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42"/>
          <p:cNvSpPr/>
          <p:nvPr/>
        </p:nvSpPr>
        <p:spPr>
          <a:xfrm>
            <a:off x="2556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Arc 26"/>
          <p:cNvSpPr/>
          <p:nvPr/>
        </p:nvSpPr>
        <p:spPr>
          <a:xfrm flipV="1" rot="5400000">
            <a:off x="2446920" y="2312640"/>
            <a:ext cx="2449800" cy="2521080"/>
          </a:xfrm>
          <a:custGeom>
            <a:avLst/>
            <a:gdLst>
              <a:gd name="textAreaLeft" fmla="*/ 0 w 2449800"/>
              <a:gd name="textAreaRight" fmla="*/ 2450160 w 244980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4067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Прямая соединительная линия 50"/>
          <p:cNvSpPr/>
          <p:nvPr/>
        </p:nvSpPr>
        <p:spPr>
          <a:xfrm>
            <a:off x="2556000" y="3141720"/>
            <a:ext cx="1511280" cy="1511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31"/>
          <p:cNvSpPr/>
          <p:nvPr/>
        </p:nvSpPr>
        <p:spPr>
          <a:xfrm>
            <a:off x="4572000" y="3645000"/>
            <a:ext cx="574560" cy="504720"/>
          </a:xfrm>
          <a:prstGeom prst="wedgeRectCallout">
            <a:avLst>
              <a:gd name="adj1" fmla="val -138675"/>
              <a:gd name="adj2" fmla="val 19180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32"/>
          <p:cNvSpPr/>
          <p:nvPr/>
        </p:nvSpPr>
        <p:spPr>
          <a:xfrm>
            <a:off x="3419640" y="2133720"/>
            <a:ext cx="647640" cy="504720"/>
          </a:xfrm>
          <a:prstGeom prst="wedgeRectCallout">
            <a:avLst>
              <a:gd name="adj1" fmla="val -9264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33"/>
          <p:cNvSpPr/>
          <p:nvPr/>
        </p:nvSpPr>
        <p:spPr>
          <a:xfrm>
            <a:off x="2050920" y="3213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2556000" y="5157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611280" y="2781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9" name="Object 43"/>
              <p:cNvSpPr txBox="1"/>
              <p:nvPr/>
            </p:nvSpPr>
            <p:spPr>
              <a:xfrm>
                <a:off x="4572000" y="2133720"/>
                <a:ext cx="4032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57880" y="357156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9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42"/>
          <p:cNvSpPr/>
          <p:nvPr/>
        </p:nvSpPr>
        <p:spPr>
          <a:xfrm>
            <a:off x="6659640" y="3500280"/>
            <a:ext cx="1584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0:59:14Z</dcterms:created>
  <dc:creator>ira</dc:creator>
  <dc:description/>
  <dc:language>en-US</dc:language>
  <cp:lastModifiedBy>LEGION</cp:lastModifiedBy>
  <dcterms:modified xsi:type="dcterms:W3CDTF">2016-01-04T08:19:36Z</dcterms:modified>
  <cp:revision>47</cp:revision>
  <dc:subject/>
  <dc:title>Эластичность спроса и предложения</dc:title>
</cp:coreProperties>
</file>