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5.jpeg" ContentType="image/jpeg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7.wmf" ContentType="image/x-wmf"/>
  <Override PartName="/ppt/media/image30.jpeg" ContentType="image/jpeg"/>
  <Override PartName="/ppt/media/image24.jpeg" ContentType="image/jpeg"/>
  <Override PartName="/ppt/media/image11.jpeg" ContentType="image/jpeg"/>
  <Override PartName="/ppt/media/image10.wmf" ContentType="image/x-wmf"/>
  <Override PartName="/ppt/media/image25.jpeg" ContentType="image/jpeg"/>
  <Override PartName="/ppt/media/image12.jpeg" ContentType="image/jpeg"/>
  <Override PartName="/ppt/media/image8.wmf" ContentType="image/x-wmf"/>
  <Override PartName="/ppt/media/image13.jpeg" ContentType="image/jpeg"/>
  <Override PartName="/ppt/media/image31.wmf" ContentType="image/x-wmf"/>
  <Override PartName="/ppt/media/image6.wmf" ContentType="image/x-wmf"/>
  <Override PartName="/ppt/media/image19.jpeg" ContentType="image/jpeg"/>
  <Override PartName="/ppt/media/image33.jpeg" ContentType="image/jpeg"/>
  <Override PartName="/ppt/media/image3.gif" ContentType="image/gif"/>
  <Override PartName="/ppt/media/image23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6201-E9CE-465E-88A6-521B3D029E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.Что такое    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.Что такое    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ерв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ерв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ховые» деньг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ами служили и шкуры животных – песца, белки, соболя, ку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ховые» деньг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ами служили и шкуры животных – песца, белки, соболя, ку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ушки каур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ушки каур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аллические деньги на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таллические деньги на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вну рубили на части – отсюда название «руб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ивну рубили на части – отсюда название «руб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мажные деньг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мажные деньги появились в России в 18 веке при Екатерине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жные деньг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жные деньги появились в России в 18 веке при Екатерине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мире экономики деньги выполняют три основные функции: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обм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сбере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 в мире экономики деньги выполняют три основные функции: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обм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изме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сбере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оходы и расходы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оходы и расходы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–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–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– уменьшение суммы первоначальных средств течения отчётного пери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ьные расходы зависят от индивидуальности человека и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– уменьшение суммы первоначальных средств течения отчётного пери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льные расходы зависят от индивидуальности человека и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ни бились, отлич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нил Гомера, Феокр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о читал Адама См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был глубокий экон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есть умел судить о т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государство богате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чем живет, и поч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ужно золота ем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ростой продукт им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мы ни бились, отлич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нил Гомера, Феокри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о читал Адама См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был глубокий экон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есть умел судить о т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богате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чем живет, и поч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ужно золота е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простой продукт име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рас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лате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енно-бытовые ну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личного 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комнатного уб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овая техника и приспособления для ведения домашнего 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ые и информацион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, туризм, увлечения, отд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ы расход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плате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ственно-бытовые нуж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личного поль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комнатного убр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ая техника и приспособления для ведения домашнего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е и информационные потре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, туризм, увлечения, отд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в правой колонке определения, соответствующим понятиям в левой коло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те в правой колонке определения, соответствующим понятиям в левой коло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. СЕМЕЙНЫЙ БЮДЖ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3. СЕМЕЙ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 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м бюджетом называют таблицу доходов и расходов человека, семьи за определенный период времени, чаще всего за месяц и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минимальный уровень жизни или минимальный потребительский бюджет (прожиточный минимум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м бюджетом называют таблицу доходов и расходов человека, семьи за определенный период времени, чаще всего за месяц и г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минимальный уровень жизни или минимальный потребительский бюджет (прожиточный минимум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ая корзина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ая корзина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бал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актива и пасси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 отражает состав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 указывает источники их 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актива и пасси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 отражает состав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сив указывает источники их образ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йдите правильный ответ.  Бюджет семьи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труктура всех доходов и расходов семьи за определенный промежуток време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умение правильно распределять доход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кончите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Если бюджет показывает, что расходы равны доходам, то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Если расходы превышают доходы, т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айдите в правой колонке определения, соответствующие понятиям в левой коло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оход               А  Затраты, издержки, потребление чего-либо дл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ной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ход             Б  Равновесие, сопоставление отдельных сторон какого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о явления, которые должны уравновесить друг д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аланс             В  Деньги или материальные ценности, получаемые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, отдельного лица или какого-либо 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йдите правильный ответ.  Бюджет семьи э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структура всех доходов и расходов семьи за определенный промежуток време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умение правильно распределять доход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кончите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Если бюджет показывает, что расходы равны доходам, то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Если расходы превышают доходы, т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айдите в правой колонке определения, соответствующие понятиям в левой колон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оход               А  Затраты, издержки, потребление чего-либо дл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ной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асход             Б  Равновесие, сопоставление отдельных сторон какого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о явления, которые должны уравновесить друг д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Баланс             В  Деньги или материальные ценности, получаемые о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, отдельного лица или какого-либо 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с» - дом,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омос» -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с» - дом,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мос» - зак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а обслу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щ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слу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ищн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части экономики тесно взаимосвяз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части экономики тесно взаимосвяз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38D-6597-4BD8-A2DD-21C5C5FB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5CA-DDD0-4DAD-8C11-72950D27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B521-492D-4EDA-80F6-810F39D6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8FB-1C33-4855-A72C-AA8279A7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FC3C-DDE6-49DA-A1C6-1B81E229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BA55-B711-48CD-A235-5C9F90B0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79C-B4CE-4B0E-9192-6C408C79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565D-20C8-45B3-97AF-56F3212C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E56-7449-480B-967B-C0A54E54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61A-CE6F-4AC2-AA34-0EA21CA6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653B-E3ED-4C27-ACEE-093E85E4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17C5-6C84-4B37-9F70-B6E73AEB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14E6-113F-47BC-A28A-BE13D835B0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umaine.edu/grazingguide/grazenortheast/images/animal2.jpg&amp;pageurl=http://uk.wikipedia.org/wiki/&#1050;&#1086;&#1088;&#1086;&#1074;&#1080;&amp;id=60195841&amp;iid=7&amp;imgwidth=258&amp;imgheight=181&amp;imgsize=104765&amp;images_links=b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go.mail.ru/frame.html?imgurl=http://infosite.org.ua/wp-content/uploads/2008/05/pero.jpeg&amp;pageurl=http://xakep.lv/user/tresor/news/page/1496/&amp;id=141166318&amp;iid=6&amp;imgwidth=421&amp;imgheight=500&amp;imgsize=14964&amp;images_links=b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go.mail.ru/frame.html?imgurl=http://www.respublika.info/images/602b-sm.jpg&amp;pageurl=http://www.spim.ru/info/page%5F306%5F16.html&amp;id=48172935&amp;iid=7&amp;imgwidth=150&amp;imgheight=211&amp;imgsize=22772&amp;images_links=b" TargetMode="External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hyperlink" Target="http://helpower.narod.ru/image/stockfish.jpg" TargetMode="External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332000" y="9079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Arial Unicode MS"/>
              </a:rPr>
              <a:t>1.Что такое     экономика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1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5186520" y="4035600"/>
            <a:ext cx="3549600" cy="235584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050920" y="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Первые день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http://im7-tub.mail.ru/i?id=60195841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052640"/>
            <a:ext cx="367020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Рисунок 11" descr="овца"/>
          <p:cNvPicPr/>
          <p:nvPr/>
        </p:nvPicPr>
        <p:blipFill>
          <a:blip r:embed="rId3"/>
          <a:stretch/>
        </p:blipFill>
        <p:spPr>
          <a:xfrm>
            <a:off x="179280" y="4076640"/>
            <a:ext cx="3672000" cy="246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http://im6-tub.mail.ru/i?id=141166318&amp;tov=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0360" y="1125360"/>
            <a:ext cx="2125440" cy="251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http://im7-tub.mail.ru/i?id=48172935&amp;tov=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16720" y="1125360"/>
            <a:ext cx="2158920" cy="251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Соль"/>
          <p:cNvPicPr/>
          <p:nvPr/>
        </p:nvPicPr>
        <p:blipFill>
          <a:blip r:embed="rId8"/>
          <a:srcRect l="0" t="15875" r="0" b="0"/>
          <a:stretch/>
        </p:blipFill>
        <p:spPr>
          <a:xfrm>
            <a:off x="4140360" y="4149720"/>
            <a:ext cx="1819080" cy="223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6" name="Picture 11" descr="Картинка 29 из 126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56360" y="4221000"/>
            <a:ext cx="2771640" cy="21704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http://im4-tub.mail.ru/i?id=20401381&amp;tov=4"/>
          <p:cNvPicPr/>
          <p:nvPr/>
        </p:nvPicPr>
        <p:blipFill>
          <a:blip r:embed="rId1"/>
          <a:stretch/>
        </p:blipFill>
        <p:spPr>
          <a:xfrm>
            <a:off x="1357200" y="2643120"/>
            <a:ext cx="2786040" cy="1541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&amp;S\ЮРА\Мои документы\МАРИНА\КАРТИНКИ\животные\песец2.jpg"/>
          <p:cNvPicPr/>
          <p:nvPr/>
        </p:nvPicPr>
        <p:blipFill>
          <a:blip r:embed="rId2"/>
          <a:stretch/>
        </p:blipFill>
        <p:spPr>
          <a:xfrm>
            <a:off x="5715000" y="2428920"/>
            <a:ext cx="2314440" cy="205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214200" y="4429080"/>
            <a:ext cx="1860840" cy="2265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&amp;S\ЮРА\Мои документы\МАРИНА\КАРТИНКИ\животные\соболь.jpg"/>
          <p:cNvPicPr/>
          <p:nvPr/>
        </p:nvPicPr>
        <p:blipFill>
          <a:blip r:embed="rId4"/>
          <a:stretch/>
        </p:blipFill>
        <p:spPr>
          <a:xfrm>
            <a:off x="2643120" y="4500720"/>
            <a:ext cx="3238560" cy="2206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&amp;S\ЮРА\Мои документы\МАРИНА\КАРТИНКИ\животные\куницаE.jpg"/>
          <p:cNvPicPr/>
          <p:nvPr/>
        </p:nvPicPr>
        <p:blipFill>
          <a:blip r:embed="rId5"/>
          <a:stretch/>
        </p:blipFill>
        <p:spPr>
          <a:xfrm>
            <a:off x="6286680" y="4500720"/>
            <a:ext cx="2657160" cy="21571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1332000" y="189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«Меховые» деньги на Р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50920" y="83664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ньгами служили и шкуры животных – песца, белки, соболя, кун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ракушка"/>
          <p:cNvPicPr/>
          <p:nvPr/>
        </p:nvPicPr>
        <p:blipFill>
          <a:blip r:embed="rId1"/>
          <a:stretch/>
        </p:blipFill>
        <p:spPr>
          <a:xfrm>
            <a:off x="4572000" y="4152960"/>
            <a:ext cx="4103640" cy="2705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m0-tub.mail.ru/i?id=55807633&amp;tov=0"/>
          <p:cNvPicPr/>
          <p:nvPr/>
        </p:nvPicPr>
        <p:blipFill>
          <a:blip r:embed="rId2"/>
          <a:stretch/>
        </p:blipFill>
        <p:spPr>
          <a:xfrm>
            <a:off x="395280" y="4000680"/>
            <a:ext cx="330840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Text Box 6"/>
          <p:cNvSpPr/>
          <p:nvPr/>
        </p:nvSpPr>
        <p:spPr>
          <a:xfrm>
            <a:off x="539640" y="112536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403280" y="260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Ракушки каури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4000" y="18900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Металлические деньги на Рус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Платежный слиток гривна 'черниговского' типа. XII-XIII века. Увеличить"/>
          <p:cNvPicPr/>
          <p:nvPr/>
        </p:nvPicPr>
        <p:blipFill>
          <a:blip r:embed="rId1"/>
          <a:stretch/>
        </p:blipFill>
        <p:spPr>
          <a:xfrm>
            <a:off x="3203640" y="3805200"/>
            <a:ext cx="5651280" cy="3052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Новгородские рубли - слитки. XIV-XV века. Увеличить"/>
          <p:cNvPicPr/>
          <p:nvPr/>
        </p:nvPicPr>
        <p:blipFill>
          <a:blip r:embed="rId2"/>
          <a:stretch/>
        </p:blipFill>
        <p:spPr>
          <a:xfrm>
            <a:off x="0" y="907920"/>
            <a:ext cx="7272360" cy="23576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611280" y="40464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ивну рубили на части – отсюда название «руб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Картинка 46 из 205"/>
          <p:cNvPicPr/>
          <p:nvPr/>
        </p:nvPicPr>
        <p:blipFill>
          <a:blip r:embed="rId1"/>
          <a:stretch/>
        </p:blipFill>
        <p:spPr>
          <a:xfrm>
            <a:off x="5364000" y="3543480"/>
            <a:ext cx="3953160" cy="3314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galery_1_7_2"/>
          <p:cNvPicPr/>
          <p:nvPr/>
        </p:nvPicPr>
        <p:blipFill>
          <a:blip r:embed="rId2"/>
          <a:stretch/>
        </p:blipFill>
        <p:spPr>
          <a:xfrm>
            <a:off x="0" y="1628640"/>
            <a:ext cx="5278320" cy="39592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1892 год"/>
          <p:cNvPicPr/>
          <p:nvPr/>
        </p:nvPicPr>
        <p:blipFill>
          <a:blip r:embed="rId1"/>
          <a:stretch/>
        </p:blipFill>
        <p:spPr>
          <a:xfrm>
            <a:off x="179280" y="3359160"/>
            <a:ext cx="5832720" cy="3498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!0 екат"/>
          <p:cNvPicPr/>
          <p:nvPr/>
        </p:nvPicPr>
        <p:blipFill>
          <a:blip r:embed="rId2"/>
          <a:stretch/>
        </p:blipFill>
        <p:spPr>
          <a:xfrm>
            <a:off x="6097680" y="1571760"/>
            <a:ext cx="3046320" cy="5286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1476360" y="26028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Бумажные деньги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50920" y="119700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мажные деньги появились в России в 18 веке при Екатерин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Функции ден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J0182582"/>
          <p:cNvPicPr/>
          <p:nvPr/>
        </p:nvPicPr>
        <p:blipFill>
          <a:blip r:embed="rId1"/>
          <a:stretch/>
        </p:blipFill>
        <p:spPr>
          <a:xfrm>
            <a:off x="4067280" y="3429000"/>
            <a:ext cx="4883040" cy="3263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71280" y="1413000"/>
            <a:ext cx="907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годня в мире экономики деньги выполняют три основные функции: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обм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изме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сбере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d60093"/>
                </a:solidFill>
                <a:latin typeface="Arial"/>
              </a:rPr>
              <a:t>2. Доходы и расходы семь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PE02622_"/>
          <p:cNvPicPr/>
          <p:nvPr/>
        </p:nvPicPr>
        <p:blipFill>
          <a:blip r:embed="rId1"/>
          <a:stretch/>
        </p:blipFill>
        <p:spPr>
          <a:xfrm>
            <a:off x="2340000" y="3517920"/>
            <a:ext cx="4118040" cy="33400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Arial"/>
              </a:rPr>
              <a:t>Доход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Расходы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уменьшение суммы первоначальных средств течения отчётного пери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льные расходы зависят от индивидуальности человека и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622764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ог он ямба от хоре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мы ни бились, отлич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нил Гомера, Феокри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о читал Адама См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был глубокий экон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есть умел судить о 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государство богат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чем живет, и 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нужно золота е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простой продукт им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AG00013_"/>
          <p:cNvPicPr/>
          <p:nvPr/>
        </p:nvPicPr>
        <p:blipFill>
          <a:blip r:embed="rId1"/>
          <a:stretch/>
        </p:blipFill>
        <p:spPr>
          <a:xfrm>
            <a:off x="5435640" y="549360"/>
            <a:ext cx="3301920" cy="277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BS00508_"/>
          <p:cNvPicPr/>
          <p:nvPr/>
        </p:nvPicPr>
        <p:blipFill>
          <a:blip r:embed="rId2"/>
          <a:stretch/>
        </p:blipFill>
        <p:spPr>
          <a:xfrm>
            <a:off x="6443640" y="3933720"/>
            <a:ext cx="1575000" cy="16621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Группы расхо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тельные плате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зяйственно-бытовые ну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ы личного поль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ы комнатного убр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овая техника и приспособления для ведения домашнего хозя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ые и информационные потре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, туризм, увлечения, отд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324000" y="-1080"/>
            <a:ext cx="88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в правой колонке определения, соответствующим понятиям в левой коло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1268280"/>
          <a:ext cx="8569440" cy="5211720"/>
        </p:xfrm>
        <a:graphic>
          <a:graphicData uri="http://schemas.openxmlformats.org/drawingml/2006/table">
            <a:tbl>
              <a:tblPr/>
              <a:tblGrid>
                <a:gridCol w="241200"/>
                <a:gridCol w="1865520"/>
                <a:gridCol w="303120"/>
                <a:gridCol w="61596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товаров и услуг, которые Гражданин 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я могут приобрести в определённый пери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и на свои номинальные дохо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ур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, средства, обеспечения жизни люде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нимательской деятельности, производ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ица между суммой денег от реализации товаров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 и затратами на их производство, продаж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аботная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 жизни, при котором семья вынуждена сама производить всё или почти всё, что ей нужно для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ый доход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ое вознаграждение, которое получает раб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емья за свой труд за определённый период време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о и хозяйственная деятельность т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средств, ресурсов, процессов, используемых людьми для обеспечения жизни, удовлетворения потреб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160"/>
          <p:cNvSpPr/>
          <p:nvPr/>
        </p:nvSpPr>
        <p:spPr>
          <a:xfrm>
            <a:off x="0" y="54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6920" y="33336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3429000"/>
          <a:ext cx="8075520" cy="11844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7800"/>
                <a:gridCol w="201924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3" descr="PE01460_"/>
          <p:cNvPicPr/>
          <p:nvPr/>
        </p:nvPicPr>
        <p:blipFill>
          <a:blip r:embed="rId1"/>
          <a:stretch/>
        </p:blipFill>
        <p:spPr>
          <a:xfrm>
            <a:off x="6804000" y="4456080"/>
            <a:ext cx="1932120" cy="24019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60093"/>
                </a:solidFill>
                <a:latin typeface="Arial"/>
              </a:rPr>
              <a:t>3. СЕМЕЙНЫЙ БЮДЖЕ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PE02622_"/>
          <p:cNvPicPr/>
          <p:nvPr/>
        </p:nvPicPr>
        <p:blipFill>
          <a:blip r:embed="rId1"/>
          <a:stretch/>
        </p:blipFill>
        <p:spPr>
          <a:xfrm>
            <a:off x="2484360" y="3068640"/>
            <a:ext cx="4189320" cy="33973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6372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Бюджет</a:t>
            </a: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4" descr="00007326"/>
          <p:cNvPicPr/>
          <p:nvPr/>
        </p:nvPicPr>
        <p:blipFill>
          <a:blip r:embed="rId1"/>
          <a:stretch/>
        </p:blipFill>
        <p:spPr>
          <a:xfrm>
            <a:off x="6081840" y="1989000"/>
            <a:ext cx="3062160" cy="38880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требительским бюдже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таблицу доходов и расходов человека, семьи за определенный период времени, чаще всего за месяц и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ет минимальный уровень жизни 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инимальный потребительский бюдж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житочный миниму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требительская корз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BD08911_"/>
          <p:cNvPicPr/>
          <p:nvPr/>
        </p:nvPicPr>
        <p:blipFill>
          <a:blip r:embed="rId1"/>
          <a:stretch/>
        </p:blipFill>
        <p:spPr>
          <a:xfrm>
            <a:off x="6934320" y="4778280"/>
            <a:ext cx="2209680" cy="20797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алан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лан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ива и пасси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ражает состав сред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сс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азывает источники их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72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Найдите правильный ответ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 Бюджет семьи 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структура всех доходов и расходов семьи за определенный промежуток време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умение правильно распределять доход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кончите предложени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Если бюджет показывает, что расходы равны доходам, то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Если расходы превышают доходы, то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йдите в правой колонке определения, соответствующие понятиям в левой колонке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Доход               А  Затраты, издержки, потребление чего-либо дл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ной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Расход             Б  Равновесие, сопоставление отдельных сторон какого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бо явления, которые должны уравновесить друг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Баланс             В  Деньги или материальные ценности, получаемые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риятия, отдельного лица или какого-либо 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324000" y="18900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 Unicode MS"/>
              </a:rPr>
              <a:t>Что такое эконом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50920" y="1125360"/>
            <a:ext cx="8497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Экос» - дом, хозя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номос» -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Аристотель"/>
          <p:cNvPicPr/>
          <p:nvPr/>
        </p:nvPicPr>
        <p:blipFill>
          <a:blip r:embed="rId1"/>
          <a:stretch/>
        </p:blipFill>
        <p:spPr>
          <a:xfrm>
            <a:off x="5245200" y="907920"/>
            <a:ext cx="3898800" cy="29257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24000" y="-13320"/>
            <a:ext cx="8424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-684360" y="3517920"/>
            <a:ext cx="10434960" cy="3339720"/>
            <a:chOff x="-684360" y="3517920"/>
            <a:chExt cx="10434960" cy="3339720"/>
          </a:xfrm>
        </p:grpSpPr>
        <p:sp>
          <p:nvSpPr>
            <p:cNvPr id="63" name="AutoShape 5"/>
            <p:cNvSpPr/>
            <p:nvPr/>
          </p:nvSpPr>
          <p:spPr>
            <a:xfrm>
              <a:off x="-684360" y="3517920"/>
              <a:ext cx="10434960" cy="33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3449880" y="3963240"/>
              <a:ext cx="2558880" cy="66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осудар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891000" y="5299200"/>
              <a:ext cx="1968120" cy="11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машнее хозяй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5616000" y="5521680"/>
              <a:ext cx="2362320" cy="66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едприят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1283760" y="4185360"/>
              <a:ext cx="2166120" cy="111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 flipH="1">
              <a:off x="1677960" y="4408560"/>
              <a:ext cx="1771920" cy="89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1"/>
            <p:cNvSpPr/>
            <p:nvPr/>
          </p:nvSpPr>
          <p:spPr>
            <a:xfrm>
              <a:off x="2859120" y="5744160"/>
              <a:ext cx="27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2"/>
            <p:cNvSpPr/>
            <p:nvPr/>
          </p:nvSpPr>
          <p:spPr>
            <a:xfrm flipH="1">
              <a:off x="2858760" y="5967360"/>
              <a:ext cx="27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3"/>
            <p:cNvSpPr/>
            <p:nvPr/>
          </p:nvSpPr>
          <p:spPr>
            <a:xfrm>
              <a:off x="6008760" y="4185720"/>
              <a:ext cx="1575360" cy="13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4"/>
            <p:cNvSpPr/>
            <p:nvPr/>
          </p:nvSpPr>
          <p:spPr>
            <a:xfrm flipH="1" flipV="1">
              <a:off x="5812200" y="4631040"/>
              <a:ext cx="984960" cy="89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NA00417_"/>
          <p:cNvPicPr/>
          <p:nvPr/>
        </p:nvPicPr>
        <p:blipFill>
          <a:blip r:embed="rId1"/>
          <a:stretch/>
        </p:blipFill>
        <p:spPr>
          <a:xfrm>
            <a:off x="1908000" y="333360"/>
            <a:ext cx="5472360" cy="6026040"/>
          </a:xfrm>
          <a:prstGeom prst="rect">
            <a:avLst/>
          </a:prstGeom>
          <a:ln w="0">
            <a:noFill/>
          </a:ln>
        </p:spPr>
      </p:pic>
      <p:sp>
        <p:nvSpPr>
          <p:cNvPr id="75" name="WordArt 14"/>
          <p:cNvSpPr txBox="1"/>
          <p:nvPr/>
        </p:nvSpPr>
        <p:spPr>
          <a:xfrm>
            <a:off x="2484360" y="6165720"/>
            <a:ext cx="38163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кономик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50920" y="4365720"/>
            <a:ext cx="2590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льск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468360" y="321300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1332000" y="1916280"/>
            <a:ext cx="2808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мыш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116000" y="69228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3564000" y="333360"/>
            <a:ext cx="2514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6300720" y="62064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ргов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5076720" y="1989000"/>
            <a:ext cx="26672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6372360" y="3284640"/>
            <a:ext cx="2590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фера обслу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6372360" y="443700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илищн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1258920" y="26028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итель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ан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J0233546"/>
          <p:cNvPicPr/>
          <p:nvPr/>
        </p:nvPicPr>
        <p:blipFill>
          <a:blip r:embed="rId1"/>
          <a:stretch/>
        </p:blipFill>
        <p:spPr>
          <a:xfrm>
            <a:off x="0" y="2276640"/>
            <a:ext cx="4033800" cy="2298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J0233548"/>
          <p:cNvPicPr/>
          <p:nvPr/>
        </p:nvPicPr>
        <p:blipFill>
          <a:blip r:embed="rId2"/>
          <a:stretch/>
        </p:blipFill>
        <p:spPr>
          <a:xfrm>
            <a:off x="5219640" y="2421000"/>
            <a:ext cx="3706920" cy="2044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250920" y="260280"/>
            <a:ext cx="8642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льское хозяй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рговл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3"/>
          <p:cNvPicPr/>
          <p:nvPr/>
        </p:nvPicPr>
        <p:blipFill>
          <a:blip r:embed="rId1"/>
          <a:stretch/>
        </p:blipFill>
        <p:spPr>
          <a:xfrm>
            <a:off x="179280" y="1557360"/>
            <a:ext cx="3662640" cy="374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000803_1071_1190_vnvv"/>
          <p:cNvPicPr/>
          <p:nvPr/>
        </p:nvPicPr>
        <p:blipFill>
          <a:blip r:embed="rId2"/>
          <a:stretch/>
        </p:blipFill>
        <p:spPr>
          <a:xfrm>
            <a:off x="5508720" y="1413000"/>
            <a:ext cx="3475080" cy="431964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0" y="1628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60093"/>
                </a:solidFill>
                <a:latin typeface="Impact"/>
              </a:rPr>
              <a:t>Все части экономики тесно взаимосвязан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5:04:16Z</dcterms:created>
  <dc:creator>Синецкая Г.Г.</dc:creator>
  <dc:description/>
  <dc:language>en-US</dc:language>
  <cp:lastModifiedBy>LEGION</cp:lastModifiedBy>
  <dcterms:modified xsi:type="dcterms:W3CDTF">2016-01-04T08:19:12Z</dcterms:modified>
  <cp:revision>19</cp:revision>
  <dc:subject>Что такое экономика</dc:subject>
  <dc:title>1.Что такое экономика</dc:title>
</cp:coreProperties>
</file>