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7.jpeg" ContentType="image/jpeg"/>
  <Override PartName="/ppt/media/image26.jpeg" ContentType="image/jpeg"/>
  <Override PartName="/ppt/media/image5.jpeg" ContentType="image/jpeg"/>
  <Override PartName="/ppt/media/image20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media/image7.wmf" ContentType="image/x-wmf"/>
  <Override PartName="/ppt/media/image30.jpeg" ContentType="image/jpeg"/>
  <Override PartName="/ppt/media/image24.jpeg" ContentType="image/jpeg"/>
  <Override PartName="/ppt/media/image11.jpeg" ContentType="image/jpeg"/>
  <Override PartName="/ppt/media/image10.wmf" ContentType="image/x-wmf"/>
  <Override PartName="/ppt/media/image25.jpeg" ContentType="image/jpeg"/>
  <Override PartName="/ppt/media/image12.jpeg" ContentType="image/jpeg"/>
  <Override PartName="/ppt/media/image8.wmf" ContentType="image/x-wmf"/>
  <Override PartName="/ppt/media/image13.jpeg" ContentType="image/jpeg"/>
  <Override PartName="/ppt/media/image31.wmf" ContentType="image/x-wmf"/>
  <Override PartName="/ppt/media/image6.wmf" ContentType="image/x-wmf"/>
  <Override PartName="/ppt/media/image19.jpeg" ContentType="image/jpeg"/>
  <Override PartName="/ppt/media/image33.jpeg" ContentType="image/jpeg"/>
  <Override PartName="/ppt/media/image3.gif" ContentType="image/gif"/>
  <Override PartName="/ppt/media/image23.jpeg" ContentType="image/jpeg"/>
  <Override PartName="/ppt/media/image34.wmf" ContentType="image/x-wmf"/>
  <Override PartName="/ppt/media/image4.wmf" ContentType="image/x-wmf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6D59-42BA-472F-A30C-EA1EA48B50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.Что такое     эконом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.Что такое     экономи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ервые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ервые день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ховые» деньги на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гами служили и шкуры животных – песца, белки, соболя, ку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ховые» деньги на Ру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ами служили и шкуры животных – песца, белки, соболя, куни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естящие, легкие, прочные, маленькие ракушки с Мальдивских островов в Индийском океане завоевали многие cтpaны Азии, Африки, Европы и с помощью арабских купцов попали на Русь, где им дали название «змеиная головк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кушки каури на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естящие, легкие, прочные, маленькие ракушки с Мальдивских островов в Индийском океане завоевали многие cтpaны Азии, Африки, Европы и с помощью арабских купцов попали на Русь, где им дали название «змеиная головк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кушки каури на Ру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таллические деньги на Ру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еталлические деньги на Рус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ивну рубили на части – отсюда название «рубл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ивну рубили на части – отсюда название «рубл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мажные деньги на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мажные деньги появились в России в 18 веке при Екатерине 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мажные деньги на Ру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мажные деньги появились в России в 18 веке при Екатерине 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в мире экономики деньги выполняют три основные функции: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редства обм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редства изме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редства сбере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дене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годня в мире экономики деньги выполняют три основные функции: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редства обм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редства изме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редства сбере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оходы и расходы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оходы и расходы семь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 – деньги или материальные ценности, получаемые от предприятия, отдельного лица или какого-либо вида деятельности. Различают совокупный и денежный доходы. Если в совокупный входят все виды доходов (зарплата, дивиденды на акции, льготы, бесплатная путёвка в дом отдыха, служебная машина), то денежный доход включает только деньги, полученные за определённый период 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 – деньги или материальные ценности, получаемые от предприятия, отдельного лица или какого-либо вида деятельности. Различают совокупный и денежный доходы. Если в совокупный входят все виды доходов (зарплата, дивиденды на акции, льготы, бесплатная путёвка в дом отдыха, служебная машина), то денежный доход включает только деньги, полученные за определённый период времен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ходы – уменьшение суммы первоначальных средств течения отчётного пери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ие расходы можно разделить на обязательные и произвольные. Обязательные расходы - это расходы на питание, квартплату и коммунальные услуги, одежду, транспорт; всё в рамках необходимого миниму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льные расходы зависят от индивидуальности человека и сем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ходы – уменьшение суммы первоначальных средств течения отчётного пери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ьские расходы можно разделить на обязательные и произвольные. Обязательные расходы - это расходы на питание, квартплату и коммунальные услуги, одежду, транспорт; всё в рамках необходимого минимум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льные расходы зависят от индивидуальности человека и семь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мог он ямба от хоре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ы ни бились, отлич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нил Гомера, Феокри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о читал Адама См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был глубокий экон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есть умел судить о т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государство богате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чем живет, и поч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ужно золота ем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простой продукт име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С. Пушк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мог он ямба от хоре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мы ни бились, отлич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нил Гомера, Феокри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о читал Адама Сми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был глубокий эконо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 есть умел судить о то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государство богатее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чем живет, и поч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нужно золота ем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простой продукт име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С. Пушк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ы расход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плате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зяйственно-бытовые нуж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ы личного 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ы комнатного убр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товая техника и приспособления для ведения домашнего 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ные и информационные потре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рт, туризм, увлечения, отд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ы расход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ные платеж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т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зяйственно-бытовые нуж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личного поль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комнатного убра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овая техника и приспособления для ведения домашнего 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ные и информационные потреб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рт, туризм, увлечения, отд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в правой колонке определения, соответствующим понятиям в левой коло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с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йдите в правой колонке определения, соответствующим понятиям в левой коло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римере своей семьи расскажите о том, из чего складывается доходы и расходы семьи в течение месяца в табличной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имере своей семьи расскажите о том, из чего складывается доходы и расходы семьи в течение месяца в табличной фор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3. СЕМЕЙНЫЙ БЮДЖ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3. СЕМЕЙ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джет – в переводе с английского означает «денежная сумка» - это смета или финансовый отчет, который суммирует доходы и расходы за определенный период времени (месяц, год). Если бюджет показывает, что расходы равны доходам, то его называют сбалансированным. Когда расходы превышают доходы, тогда говорят, что бюджет имеет дефици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 – в переводе с английского означает «денежная сумка» - это смета или финансовый отчет, который суммирует доходы и расходы за определенный период времени (месяц, год). Если бюджет показывает, что расходы равны доходам, то его называют сбалансированным. Когда расходы превышают доходы, тогда говорят, что бюджет имеет дефици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им бюджетом называют таблицу доходов и расходов человека, семьи за определенный период времени, чаще всего за месяц и г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минимальный уровень жизни или минимальный потребительский бюджет (прожиточный минимум) - это социально-экономическая категория, характеризующая минимум жизненных средств, физически необходимый для поддержания жизнедеятельности людей и восстановления их рабочей силы, т. е. тот самый минимум, который необходим человеку для существ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ьским бюджетом называют таблицу доходов и расходов человека, семьи за определенный период времени, чаще всего за месяц и го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минимальный уровень жизни или минимальный потребительский бюджет (прожиточный минимум) - это социально-экономическая категория, характеризующая минимум жизненных средств, физически необходимый для поддержания жизнедеятельности людей и восстановления их рабочей силы, т. е. тот самый минимум, который необходим человеку для существ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ая корзина - это принятый в данной стране расчетный годовой набор товаров и услуг, потребление которого обеспечивает необходимый уровень жизни населения. В потребительскую корзину входят основные продукты питания: молоко, хлеб, мясо, масло, фрукты, овощи, различные услуги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ьская корзина - это принятый в данной стране расчетный годовой набор товаров и услуг, потребление которого обеспечивает необходимый уровень жизни населения. В потребительскую корзину входят основные продукты питания: молоко, хлеб, мясо, масло, фрукты, овощи, различные услуги и т. 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, чтобы семья умела правильно распределять свой бюджет, освоила основные принципы домашней бухгалтерии, необходимые для получения навыков правильного и рационального распределения полученных доходов. Для этого семья составляет балан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– это равновесие, а точнее сопоставление отдельных сторон какого-то явления, которые должны уравновешивать друг друга, например: доходы – расходы; ресурсы – потребности и т.д. Он позволяет выявить сумму на определенную дату имеющихся в распоряжении семьи средств и раскрыть источники их образования. Баланс состоит из двух частей: актива и пасси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 отражает состав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сив указывает источники их образ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, чтобы семья умела правильно распределять свой бюджет, освоила основные принципы домашней бухгалтерии, необходимые для получения навыков правильного и рационального распределения полученных доходов. Для этого семья составляет балан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 – это равновесие, а точнее сопоставление отдельных сторон какого-то явления, которые должны уравновешивать друг друга, например: доходы – расходы; ресурсы – потребности и т.д. Он позволяет выявить сумму на определенную дату имеющихся в распоряжении семьи средств и раскрыть источники их образования. Баланс состоит из двух частей: актива и пасси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 отражает состав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сив указывает источники их образ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айдите правильный ответ.  Бюджет семьи э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деньги или материальные ценности, получаемые от предприятия, отдельного лица или какого-либо рода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журнал, где учтены все доходы семьи, имущество, ценности, долги и расходы на те или иные потреб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структура всех доходов и расходов семьи за определенный промежуток времен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умение правильно распределять доход сем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Закончите предло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Если бюджет показывает, что расходы равны доходам, то.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Если расходы превышают доходы, то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айдите в правой колонке определения, соответствующие понятиям в левой колон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Доход               А  Затраты, издержки, потребление чего-либо дл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ной 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асход             Б  Равновесие, сопоставление отдельных сторон какого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бо явления, которые должны уравновесить друг др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Баланс             В  Деньги или материальные ценности, получаемые о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, отдельного лица или какого-либо 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айдите правильный ответ.  Бюджет семьи эт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деньги или материальные ценности, получаемые от предприятия, отдельного лица или какого-либо рода деятель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журнал, где учтены все доходы семьи, имущество, ценности, долги и расходы на те или иные потреб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структура всех доходов и расходов семьи за определенный промежуток времен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умение правильно распределять доход семь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Закончите предло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Если бюджет показывает, что расходы равны доходам, то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Если расходы превышают доходы, то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Найдите в правой колонке определения, соответствующие понятиям в левой колон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Доход               А  Затраты, издержки, потребление чего-либо дл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ной 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Расход             Б  Равновесие, сопоставление отдельных сторон какого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бо явления, которые должны уравновесить друг дру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Баланс             В  Деньги или материальные ценности, получаемые о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, отдельного лица или какого-либо 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эконом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с» - дом,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омос» - зак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“экономика” ввёл в научный оборот выдающийся философ Древней Греции Аристотель (384-322г.г. до Н.Э.), составил его из двух греческих слов: “Эйкос” – “хозяйство” и “Номос” – “закон”; так что “экономика” в переводе с древнегреческого означает “законы хозяйства”. Первоначально само слово “экономика” обозначало “искусство ведения домашнего хозяйства”. Постепенно границы экономики расширялись и в последние время включали в себя всё, что относится к экономической жизни об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экономи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с» - дом,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омос» - зак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мин “экономика” ввёл в научный оборот выдающийся философ Древней Греции Аристотель (384-322г.г. до Н.Э.), составил его из двух греческих слов: “Эйкос” – “хозяйство” и “Номос” – “закон”; так что “экономика” в переводе с древнегреческого означает “законы хозяйства”. Первоначально само слово “экономика” обозначало “искусство ведения домашнего хозяйства”. Постепенно границы экономики расширялись и в последние время включали в себя всё, что относится к экономической жизни общ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ыне в России начался период активного возрождения домашних хозяйств, а вместе с ним и домашней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 – это общество в миниатюре, она развивается в основном по тем же экономическим законам, что и общ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 является важнейшим источником воспроизводства физиологического и интеллектуального потенциала государства. люди, рабочая сила – ведущая составляющая ресурсов семьи, общества. И чем выше уровень культуры, образованности членов семьи, тем выше интеллектуальный потенциал государ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 – важнейший источник социального и экономического развития общества. Она является его первичной ячейкой. Для каждого человека семья – начало начал. Не зря говорят :счастлив тот, кто счастлив в своём до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семья живёт в условиях возрастающих потребностей и ограниченности ресурсов, то есть обладает определёнными ограниченными возможност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ыне в России начался период активного возрождения домашних хозяйств, а вместе с ним и домашней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ья – это общество в миниатюре, она развивается в основном по тем же экономическим законам, что и обще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ья является важнейшим источником воспроизводства физиологического и интеллектуального потенциала государства. люди, рабочая сила – ведущая составляющая ресурсов семьи, общества. И чем выше уровень культуры, образованности членов семьи, тем выше интеллектуальный потенциал государ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ья – важнейший источник социального и экономического развития общества. Она является его первичной ячейкой. Для каждого человека семья – начало начал. Не зря говорят :счастлив тот, кто счастлив в своём до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семья живёт в условиях возрастающих потребностей и ограниченности ресурсов, то есть обладает определёнными ограниченными возможност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ие хозяйства и предприятия представляют собой основу экономического цикла, являются основными субъектами экономики. Товары и услуги, производимые на предприятиях, поступают в распоряжение домашних хозяйств, которые в свою очередь предоставляют за это капитал, осуществляя обмен товара на деньг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ие хозяйства и предприятия представляют собой основу экономического цикла, являются основными субъектами экономики. Товары и услуги, производимые на предприятиях, поступают в распоряжение домашних хозяйств, которые в свою очередь предоставляют за это капитал, осуществляя обмен товара на день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ьск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шл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ера обслу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лищн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ьск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ышл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обслу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лищн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ельск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ельск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части экономики тесно взаимосвяз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части экономики тесно взаимосвяз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8007-9F1F-4985-B497-BF117C428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4A20-79F3-4990-B884-28FAE5D8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9E92-C020-4D2E-8632-05C71C49B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C21C-C6E2-4953-AE6A-31DD5CA31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9E50-7331-4110-84A5-45097509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E47A-A763-4F5C-B363-EFB5DA43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F9F5-420C-4227-8780-3D8847A9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8296-1295-4D7C-88ED-EE88156F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FD72-025A-4A7B-86E5-0AE16917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77F8-3D78-420A-BCAF-2F2AC472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FCF1-8A83-4E2E-9216-C0187B46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4B01-4C87-478B-A14B-AAB629AC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6C4C-1922-4FED-8285-3A7A712272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umaine.edu/grazingguide/grazenortheast/images/animal2.jpg&amp;pageurl=http://uk.wikipedia.org/wiki/&#1050;&#1086;&#1088;&#1086;&#1074;&#1080;&amp;id=60195841&amp;iid=7&amp;imgwidth=258&amp;imgheight=181&amp;imgsize=104765&amp;images_links=b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hyperlink" Target="http://go.mail.ru/frame.html?imgurl=http://infosite.org.ua/wp-content/uploads/2008/05/pero.jpeg&amp;pageurl=http://xakep.lv/user/tresor/news/page/1496/&amp;id=141166318&amp;iid=6&amp;imgwidth=421&amp;imgheight=500&amp;imgsize=14964&amp;images_links=b" TargetMode="External"/><Relationship Id="rId5" Type="http://schemas.openxmlformats.org/officeDocument/2006/relationships/image" Target="../media/image13.jpeg"/><Relationship Id="rId6" Type="http://schemas.openxmlformats.org/officeDocument/2006/relationships/hyperlink" Target="http://go.mail.ru/frame.html?imgurl=http://www.respublika.info/images/602b-sm.jpg&amp;pageurl=http://www.spim.ru/info/page%5F306%5F16.html&amp;id=48172935&amp;iid=7&amp;imgwidth=150&amp;imgheight=211&amp;imgsize=22772&amp;images_links=b" TargetMode="External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hyperlink" Target="http://helpower.narod.ru/image/stockfish.jpg" TargetMode="External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332000" y="90792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d60093"/>
                </a:solidFill>
                <a:latin typeface="Arial Unicode MS"/>
              </a:rPr>
              <a:t>1.Что такое     экономика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1" descr="C:\Program Files\Common Files\Microsoft Shared\Clipart\cagcat50\PE01561_.wmf"/>
          <p:cNvPicPr/>
          <p:nvPr/>
        </p:nvPicPr>
        <p:blipFill>
          <a:blip r:embed="rId1"/>
          <a:stretch/>
        </p:blipFill>
        <p:spPr>
          <a:xfrm>
            <a:off x="5186520" y="4035600"/>
            <a:ext cx="3549600" cy="235584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2050920" y="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60093"/>
                </a:solidFill>
                <a:latin typeface="Arial"/>
              </a:rPr>
              <a:t>Первые деньг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http://im7-tub.mail.ru/i?id=60195841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052640"/>
            <a:ext cx="3670200" cy="257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Рисунок 11" descr="овца"/>
          <p:cNvPicPr/>
          <p:nvPr/>
        </p:nvPicPr>
        <p:blipFill>
          <a:blip r:embed="rId3"/>
          <a:stretch/>
        </p:blipFill>
        <p:spPr>
          <a:xfrm>
            <a:off x="179280" y="4076640"/>
            <a:ext cx="3672000" cy="2465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8" descr="http://im6-tub.mail.ru/i?id=141166318&amp;tov=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140360" y="1125360"/>
            <a:ext cx="2125440" cy="2519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0" descr="http://im7-tub.mail.ru/i?id=48172935&amp;tov=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16720" y="1125360"/>
            <a:ext cx="2158920" cy="251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Соль"/>
          <p:cNvPicPr/>
          <p:nvPr/>
        </p:nvPicPr>
        <p:blipFill>
          <a:blip r:embed="rId8"/>
          <a:srcRect l="0" t="15875" r="0" b="0"/>
          <a:stretch/>
        </p:blipFill>
        <p:spPr>
          <a:xfrm>
            <a:off x="4140360" y="4149720"/>
            <a:ext cx="1819080" cy="2232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6" name="Picture 11" descr="Картинка 29 из 1264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156360" y="4221000"/>
            <a:ext cx="2771640" cy="21704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http://im4-tub.mail.ru/i?id=20401381&amp;tov=4"/>
          <p:cNvPicPr/>
          <p:nvPr/>
        </p:nvPicPr>
        <p:blipFill>
          <a:blip r:embed="rId1"/>
          <a:stretch/>
        </p:blipFill>
        <p:spPr>
          <a:xfrm>
            <a:off x="1357200" y="2643120"/>
            <a:ext cx="2786040" cy="1541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D&amp;S\ЮРА\Мои документы\МАРИНА\КАРТИНКИ\животные\песец2.jpg"/>
          <p:cNvPicPr/>
          <p:nvPr/>
        </p:nvPicPr>
        <p:blipFill>
          <a:blip r:embed="rId2"/>
          <a:stretch/>
        </p:blipFill>
        <p:spPr>
          <a:xfrm>
            <a:off x="5715000" y="2428920"/>
            <a:ext cx="2314440" cy="2057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D&amp;S\ЮРА\Мои документы\МАРИНА\КАРТИНКИ\животные\белкаE.jpg"/>
          <p:cNvPicPr/>
          <p:nvPr/>
        </p:nvPicPr>
        <p:blipFill>
          <a:blip r:embed="rId3"/>
          <a:stretch/>
        </p:blipFill>
        <p:spPr>
          <a:xfrm>
            <a:off x="214200" y="4429080"/>
            <a:ext cx="1860840" cy="2265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D&amp;S\ЮРА\Мои документы\МАРИНА\КАРТИНКИ\животные\соболь.jpg"/>
          <p:cNvPicPr/>
          <p:nvPr/>
        </p:nvPicPr>
        <p:blipFill>
          <a:blip r:embed="rId4"/>
          <a:stretch/>
        </p:blipFill>
        <p:spPr>
          <a:xfrm>
            <a:off x="2643120" y="4500720"/>
            <a:ext cx="3238560" cy="2206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D&amp;S\ЮРА\Мои документы\МАРИНА\КАРТИНКИ\животные\куницаE.jpg"/>
          <p:cNvPicPr/>
          <p:nvPr/>
        </p:nvPicPr>
        <p:blipFill>
          <a:blip r:embed="rId5"/>
          <a:stretch/>
        </p:blipFill>
        <p:spPr>
          <a:xfrm>
            <a:off x="6286680" y="4500720"/>
            <a:ext cx="2657160" cy="21571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9"/>
          <p:cNvSpPr/>
          <p:nvPr/>
        </p:nvSpPr>
        <p:spPr>
          <a:xfrm>
            <a:off x="1332000" y="189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Arial"/>
              </a:rPr>
              <a:t>«Меховые» деньги на Ру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250920" y="83664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ньгами служили и шкуры животных – песца, белки, соболя, куниц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ракушка"/>
          <p:cNvPicPr/>
          <p:nvPr/>
        </p:nvPicPr>
        <p:blipFill>
          <a:blip r:embed="rId1"/>
          <a:stretch/>
        </p:blipFill>
        <p:spPr>
          <a:xfrm>
            <a:off x="4572000" y="4152960"/>
            <a:ext cx="4103640" cy="2705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http://im0-tub.mail.ru/i?id=55807633&amp;tov=0"/>
          <p:cNvPicPr/>
          <p:nvPr/>
        </p:nvPicPr>
        <p:blipFill>
          <a:blip r:embed="rId2"/>
          <a:stretch/>
        </p:blipFill>
        <p:spPr>
          <a:xfrm>
            <a:off x="395280" y="4000680"/>
            <a:ext cx="3308400" cy="285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8" name="Text Box 6"/>
          <p:cNvSpPr/>
          <p:nvPr/>
        </p:nvSpPr>
        <p:spPr>
          <a:xfrm>
            <a:off x="539640" y="1125360"/>
            <a:ext cx="820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естящие, легкие, прочные, маленькие ракушки с Мальдивских островов в Индийском океане завоевали многие cтpaны Азии, Африки, Европы и с помощью арабских купцов попали на Русь, где им дали название «змеиная головк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403280" y="26028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Ракушки каури на Ру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24000" y="18900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Металлические деньги на Рус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Платежный слиток гривна 'черниговского' типа. XII-XIII века. Увеличить"/>
          <p:cNvPicPr/>
          <p:nvPr/>
        </p:nvPicPr>
        <p:blipFill>
          <a:blip r:embed="rId1"/>
          <a:stretch/>
        </p:blipFill>
        <p:spPr>
          <a:xfrm>
            <a:off x="3203640" y="3805200"/>
            <a:ext cx="5651280" cy="3052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Новгородские рубли - слитки. XIV-XV века. Увеличить"/>
          <p:cNvPicPr/>
          <p:nvPr/>
        </p:nvPicPr>
        <p:blipFill>
          <a:blip r:embed="rId2"/>
          <a:stretch/>
        </p:blipFill>
        <p:spPr>
          <a:xfrm>
            <a:off x="0" y="907920"/>
            <a:ext cx="7272360" cy="235764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5"/>
          <p:cNvSpPr/>
          <p:nvPr/>
        </p:nvSpPr>
        <p:spPr>
          <a:xfrm>
            <a:off x="611280" y="40464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ивну рубили на части – отсюда название «руб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" descr="Картинка 46 из 205"/>
          <p:cNvPicPr/>
          <p:nvPr/>
        </p:nvPicPr>
        <p:blipFill>
          <a:blip r:embed="rId1"/>
          <a:stretch/>
        </p:blipFill>
        <p:spPr>
          <a:xfrm>
            <a:off x="5364000" y="3543480"/>
            <a:ext cx="3953160" cy="3314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galery_1_7_2"/>
          <p:cNvPicPr/>
          <p:nvPr/>
        </p:nvPicPr>
        <p:blipFill>
          <a:blip r:embed="rId2"/>
          <a:stretch/>
        </p:blipFill>
        <p:spPr>
          <a:xfrm>
            <a:off x="0" y="1628640"/>
            <a:ext cx="5278320" cy="39592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1892 год"/>
          <p:cNvPicPr/>
          <p:nvPr/>
        </p:nvPicPr>
        <p:blipFill>
          <a:blip r:embed="rId1"/>
          <a:stretch/>
        </p:blipFill>
        <p:spPr>
          <a:xfrm>
            <a:off x="179280" y="3359160"/>
            <a:ext cx="5832720" cy="3498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!0 екат"/>
          <p:cNvPicPr/>
          <p:nvPr/>
        </p:nvPicPr>
        <p:blipFill>
          <a:blip r:embed="rId2"/>
          <a:stretch/>
        </p:blipFill>
        <p:spPr>
          <a:xfrm>
            <a:off x="6097680" y="1571760"/>
            <a:ext cx="3046320" cy="52862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1476360" y="260280"/>
            <a:ext cx="69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Бумажные деньги на Ру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250920" y="1197000"/>
            <a:ext cx="57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умажные деньги появились в России в 18 веке при Екатерине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Функции дене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J0182582"/>
          <p:cNvPicPr/>
          <p:nvPr/>
        </p:nvPicPr>
        <p:blipFill>
          <a:blip r:embed="rId1"/>
          <a:stretch/>
        </p:blipFill>
        <p:spPr>
          <a:xfrm>
            <a:off x="4067280" y="3429000"/>
            <a:ext cx="4883040" cy="3263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"/>
          <p:cNvSpPr/>
          <p:nvPr/>
        </p:nvSpPr>
        <p:spPr>
          <a:xfrm>
            <a:off x="71280" y="1413000"/>
            <a:ext cx="907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годня в мире экономики деньги выполняют три основные функции: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редства обм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редства изме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редства сбере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d60093"/>
                </a:solidFill>
                <a:latin typeface="Arial"/>
              </a:rPr>
              <a:t>2. Доходы и расходы семь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PE02622_"/>
          <p:cNvPicPr/>
          <p:nvPr/>
        </p:nvPicPr>
        <p:blipFill>
          <a:blip r:embed="rId1"/>
          <a:stretch/>
        </p:blipFill>
        <p:spPr>
          <a:xfrm>
            <a:off x="2340000" y="3517920"/>
            <a:ext cx="4118040" cy="334008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Arial"/>
              </a:rPr>
              <a:t>Доход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еньги или материальные ценности, получаемые от предприятия, отдельного лица или какого-либо вида деятельности. Различают совокупный и денежный доходы. Если в совокупный входят все виды доходов (зарплата, дивиденды на акции, льготы, бесплатная путёвка в дом отдыха, служебная машина), то денежный доход включает только деньги, полученные за определённый период време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11280" y="62028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Расходы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уменьшение суммы первоначальных средств течения отчётного пери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ребительские расходы можно разделить на обязательные и произвольные. Обязательные расходы - это расходы на питание, квартплату и коммунальные услуги, одежду, транспорт; всё в рамках необходимого миниму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ольные расходы зависят от индивидуальности человека и сем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6227640" cy="579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мог он ямба от хоре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мы ни бились, отлич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нил Гомера, Феокри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то читал Адама См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был глубокий экон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есть умел судить о т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государство богате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чем живет, и поч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нужно золота ем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простой продукт име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С. Пуш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AG00013_"/>
          <p:cNvPicPr/>
          <p:nvPr/>
        </p:nvPicPr>
        <p:blipFill>
          <a:blip r:embed="rId1"/>
          <a:stretch/>
        </p:blipFill>
        <p:spPr>
          <a:xfrm>
            <a:off x="5435640" y="549360"/>
            <a:ext cx="3301920" cy="2773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BS00508_"/>
          <p:cNvPicPr/>
          <p:nvPr/>
        </p:nvPicPr>
        <p:blipFill>
          <a:blip r:embed="rId2"/>
          <a:stretch/>
        </p:blipFill>
        <p:spPr>
          <a:xfrm>
            <a:off x="6443640" y="3933720"/>
            <a:ext cx="1575000" cy="16621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Arial"/>
              </a:rPr>
              <a:t>Группы расход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язательные плате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зяйственно-бытовые нуж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меты личного поль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меты комнатного убра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товая техника и приспособления для ведения домашнего хозя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льтурные и информационные потреб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рт, туризм, увлечения, отд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ч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324000" y="-1080"/>
            <a:ext cx="882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дите в правой колонке определения, соответствующим понятиям в левой коло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95280" y="1268280"/>
          <a:ext cx="8569440" cy="5211720"/>
        </p:xfrm>
        <a:graphic>
          <a:graphicData uri="http://schemas.openxmlformats.org/drawingml/2006/table">
            <a:tbl>
              <a:tblPr/>
              <a:tblGrid>
                <a:gridCol w="241200"/>
                <a:gridCol w="1865520"/>
                <a:gridCol w="303120"/>
                <a:gridCol w="615960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457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457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номика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товаров и услуг, которые Гражданин и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ья могут приобрести в определённый пери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ени на свои номинальные доход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162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туральное хозяй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чники, средства, обеспечения жизни людей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ринимательской деятельности, производст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ы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ица между суммой денег от реализации товаров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уг и затратами на их производство, продаж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аботная пл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62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 жизни, при котором семья вынуждена сама производить всё или почти всё, что ей нужно для жиз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ьный доход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ежное вознаграждение, которое получает работ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семья за свой труд за определённый период време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ур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зяйство и хозяйственная деятельность т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окупность средств, ресурсов, процессов, используемых людьми для обеспечения жизни, удовлетворения потребнос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160"/>
          <p:cNvSpPr/>
          <p:nvPr/>
        </p:nvSpPr>
        <p:spPr>
          <a:xfrm>
            <a:off x="0" y="543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26920" y="33336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римере своей семьи расскажите о том, из чего складывается доходы и расходы семьи в течение месяца в табличной фор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11280" y="3429000"/>
          <a:ext cx="8075520" cy="11844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  <a:gridCol w="2017800"/>
                <a:gridCol w="2019240"/>
              </a:tblGrid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" name="Picture 3" descr="PE01460_"/>
          <p:cNvPicPr/>
          <p:nvPr/>
        </p:nvPicPr>
        <p:blipFill>
          <a:blip r:embed="rId1"/>
          <a:stretch/>
        </p:blipFill>
        <p:spPr>
          <a:xfrm>
            <a:off x="6804000" y="4456080"/>
            <a:ext cx="1932120" cy="240192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d60093"/>
                </a:solidFill>
                <a:latin typeface="Arial"/>
              </a:rPr>
              <a:t>3. СЕМЕЙНЫЙ БЮДЖЕ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PE02622_"/>
          <p:cNvPicPr/>
          <p:nvPr/>
        </p:nvPicPr>
        <p:blipFill>
          <a:blip r:embed="rId1"/>
          <a:stretch/>
        </p:blipFill>
        <p:spPr>
          <a:xfrm>
            <a:off x="2484360" y="3068640"/>
            <a:ext cx="4189320" cy="339732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637236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Arial"/>
              </a:rPr>
              <a:t>Бюджет</a:t>
            </a:r>
            <a:r>
              <a:rPr b="0" lang="ru-RU" sz="32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в переводе с английского означает «денежная сумка» - это смета или финансовый отчет, который суммирует доходы и расходы за определенный период времени (месяц, год). Если бюджет показывает, что расходы равны доходам, то его называют сбалансированным. Когда расходы превышают доходы, тогда говорят, что бюджет имеет дефици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4" descr="00007326"/>
          <p:cNvPicPr/>
          <p:nvPr/>
        </p:nvPicPr>
        <p:blipFill>
          <a:blip r:embed="rId1"/>
          <a:stretch/>
        </p:blipFill>
        <p:spPr>
          <a:xfrm>
            <a:off x="6081840" y="1989000"/>
            <a:ext cx="3062160" cy="38880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-360" y="333000"/>
            <a:ext cx="8893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требительским бюдже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зывают таблицу доходов и расходов человека, семьи за определенный период времени, чаще всего за месяц и г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ует минимальный уровень жизни ил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инимальный потребительский бюдж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житочный миниму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- это социально-экономическая категория, характеризующая минимум жизненных средств, физически необходимый для поддержания жизнедеятельности людей и восстановления их рабочей силы, т. е. тот самый минимум, который необходим человеку для существ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требительская корз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это принятый в данной стране расчетный годовой набор товаров и услуг, потребление которого обеспечивает необходимый уровень жизни населения. В потребительскую корзину входят основные продукты питания: молоко, хлеб, мясо, масло, фрукты, овощи, различные услуги и т. 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BD08911_"/>
          <p:cNvPicPr/>
          <p:nvPr/>
        </p:nvPicPr>
        <p:blipFill>
          <a:blip r:embed="rId1"/>
          <a:stretch/>
        </p:blipFill>
        <p:spPr>
          <a:xfrm>
            <a:off x="6934320" y="4778280"/>
            <a:ext cx="2209680" cy="20797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, чтобы семья умела правильно распределять свой бюджет, освоила основные принципы домашней бухгалтерии, необходимые для получения навыков правильного и рационального распределения полученных доходов. Для этого семья составляе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алан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аланс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равновесие, а точнее сопоставление отдельных сторон какого-то явления, которые должны уравновешивать друг друга, например: доходы – расходы; ресурсы – потребности и т.д. Он позволяет выявить сумму на определенную дату имеющихся в распоряжении семьи средств и раскрыть источники их образования. Баланс состоит из двух частей: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ктива и пасси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кти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тражает состав сред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асси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казывает источники их образ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72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 Найдите правильный ответ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  Бюджет семьи э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деньги или материальные ценности, получаемые от предприятия, отдельного лица или какого-либо рода деятельн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журнал, где учтены все доходы семьи, имущество, ценности, долги и расходы на те или иные потребн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структура всех доходов и расходов семьи за определенный промежуток времен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) умение правильно распределять доход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2.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кончите предложения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Если бюджет показывает, что расходы равны доходам, то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Если расходы превышают доходы, то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3.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йдите в правой колонке определения, соответствующие понятиям в левой колонке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Доход               А  Затраты, издержки, потребление чего-либо дл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енной ц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Расход             Б  Равновесие, сопоставление отдельных сторон какого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бо явления, которые должны уравновесить друг д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Баланс             В  Деньги или материальные ценности, получаемые 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приятия, отдельного лица или какого-либо 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7"/>
          <p:cNvSpPr/>
          <p:nvPr/>
        </p:nvSpPr>
        <p:spPr>
          <a:xfrm>
            <a:off x="324000" y="18900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Arial Unicode MS"/>
              </a:rPr>
              <a:t>Что такое экономи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50920" y="1125360"/>
            <a:ext cx="84978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Экос» - дом, хозяй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номос» - за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рмин “экономика” ввёл в научный оборот выдающийся философ Древней Греции Аристотель (384-322г.г. до Н.Э.), составил его из двух греческих слов: “Эйкос” – “хозяйство” и “Номос” – “закон”; так что “экономика” в переводе с древнегреческого означает “законы хозяйства”. Первоначально само слово “экономика” обозначало “искусство ведения домашнего хозяйства”. Постепенно границы экономики расширялись и в последние время включали в себя всё, что относится к экономической жизни обществ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Аристотель"/>
          <p:cNvPicPr/>
          <p:nvPr/>
        </p:nvPicPr>
        <p:blipFill>
          <a:blip r:embed="rId1"/>
          <a:stretch/>
        </p:blipFill>
        <p:spPr>
          <a:xfrm>
            <a:off x="5245200" y="907920"/>
            <a:ext cx="3898800" cy="292572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324000" y="-13320"/>
            <a:ext cx="84247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ыне в России начался период активного возрождения домашних хозяйств, а вместе с ним и домашней эконом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ья – это общество в миниатюре, она развивается в основном по тем же экономическим законам, что и общ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ья является важнейшим источником воспроизводства физиологического и интеллектуального потенциала государства. люди, рабочая сила – ведущая составляющая ресурсов семьи, общества. И чем выше уровень культуры, образованности членов семьи, тем выше интеллектуальный потенциал государ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ья – важнейший источник социального и экономического развития общества. Она является его первичной ячейкой. Для каждого человека семья – начало начал. Не зря говорят :счастлив тот, кто счастлив в своём до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ая семья живёт в условиях возрастающих потребностей и ограниченности ресурсов, то есть обладает определёнными ограниченными возможност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ашние хозяйства и предприятия представляют собой основу экономического цикла, являются основными субъектами экономики. Товары и услуги, производимые на предприятиях, поступают в распоряжение домашних хозяйств, которые в свою очередь предоставляют за это капитал, осуществляя обмен товара на деньг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-684360" y="3517920"/>
            <a:ext cx="10434960" cy="3339720"/>
            <a:chOff x="-684360" y="3517920"/>
            <a:chExt cx="10434960" cy="3339720"/>
          </a:xfrm>
        </p:grpSpPr>
        <p:sp>
          <p:nvSpPr>
            <p:cNvPr id="63" name="AutoShape 5"/>
            <p:cNvSpPr/>
            <p:nvPr/>
          </p:nvSpPr>
          <p:spPr>
            <a:xfrm>
              <a:off x="-684360" y="3517920"/>
              <a:ext cx="10434960" cy="33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3449880" y="3963240"/>
              <a:ext cx="2558880" cy="66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Государ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7"/>
            <p:cNvSpPr/>
            <p:nvPr/>
          </p:nvSpPr>
          <p:spPr>
            <a:xfrm>
              <a:off x="891000" y="5299200"/>
              <a:ext cx="1968120" cy="111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омашнее хозяй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8"/>
            <p:cNvSpPr/>
            <p:nvPr/>
          </p:nvSpPr>
          <p:spPr>
            <a:xfrm>
              <a:off x="5616000" y="5521680"/>
              <a:ext cx="2362320" cy="66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едприят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"/>
            <p:cNvSpPr/>
            <p:nvPr/>
          </p:nvSpPr>
          <p:spPr>
            <a:xfrm flipV="1">
              <a:off x="1283760" y="4185360"/>
              <a:ext cx="2166120" cy="111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 flipH="1">
              <a:off x="1677960" y="4408560"/>
              <a:ext cx="1771920" cy="89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1"/>
            <p:cNvSpPr/>
            <p:nvPr/>
          </p:nvSpPr>
          <p:spPr>
            <a:xfrm>
              <a:off x="2859120" y="5744160"/>
              <a:ext cx="275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2"/>
            <p:cNvSpPr/>
            <p:nvPr/>
          </p:nvSpPr>
          <p:spPr>
            <a:xfrm flipH="1">
              <a:off x="2858760" y="5967360"/>
              <a:ext cx="275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3"/>
            <p:cNvSpPr/>
            <p:nvPr/>
          </p:nvSpPr>
          <p:spPr>
            <a:xfrm>
              <a:off x="6008760" y="4185720"/>
              <a:ext cx="1575360" cy="133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4"/>
            <p:cNvSpPr/>
            <p:nvPr/>
          </p:nvSpPr>
          <p:spPr>
            <a:xfrm flipH="1" flipV="1">
              <a:off x="5812200" y="4631040"/>
              <a:ext cx="984960" cy="89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NA00417_"/>
          <p:cNvPicPr/>
          <p:nvPr/>
        </p:nvPicPr>
        <p:blipFill>
          <a:blip r:embed="rId1"/>
          <a:stretch/>
        </p:blipFill>
        <p:spPr>
          <a:xfrm>
            <a:off x="1908000" y="333360"/>
            <a:ext cx="5472360" cy="6026040"/>
          </a:xfrm>
          <a:prstGeom prst="rect">
            <a:avLst/>
          </a:prstGeom>
          <a:ln w="0">
            <a:noFill/>
          </a:ln>
        </p:spPr>
      </p:pic>
      <p:sp>
        <p:nvSpPr>
          <p:cNvPr id="75" name="WordArt 14"/>
          <p:cNvSpPr txBox="1"/>
          <p:nvPr/>
        </p:nvSpPr>
        <p:spPr>
          <a:xfrm>
            <a:off x="2484360" y="6165720"/>
            <a:ext cx="381636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Экономика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250920" y="4365720"/>
            <a:ext cx="2590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ельское хозя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468360" y="3213000"/>
            <a:ext cx="228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роитель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1332000" y="1916280"/>
            <a:ext cx="28083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мышл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1116000" y="692280"/>
            <a:ext cx="228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ан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3564000" y="333360"/>
            <a:ext cx="2514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диц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6300720" y="620640"/>
            <a:ext cx="228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ргов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5076720" y="1989000"/>
            <a:ext cx="26672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1"/>
          <p:cNvSpPr/>
          <p:nvPr/>
        </p:nvSpPr>
        <p:spPr>
          <a:xfrm>
            <a:off x="6372360" y="3284640"/>
            <a:ext cx="2590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фера обслуж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6372360" y="4437000"/>
            <a:ext cx="228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илищное хозя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2"/>
          <p:cNvSpPr txBox="1"/>
          <p:nvPr/>
        </p:nvSpPr>
        <p:spPr>
          <a:xfrm>
            <a:off x="1258920" y="26028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оитель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WordArt 3"/>
          <p:cNvSpPr txBox="1"/>
          <p:nvPr/>
        </p:nvSpPr>
        <p:spPr>
          <a:xfrm>
            <a:off x="1042920" y="566100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анспор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3995640" y="1413000"/>
            <a:ext cx="1368360" cy="3960720"/>
          </a:xfrm>
          <a:prstGeom prst="upDownArrow">
            <a:avLst>
              <a:gd name="adj1" fmla="val 50000"/>
              <a:gd name="adj2" fmla="val 57622"/>
            </a:avLst>
          </a:prstGeom>
          <a:solidFill>
            <a:srgbClr val="66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J0233546"/>
          <p:cNvPicPr/>
          <p:nvPr/>
        </p:nvPicPr>
        <p:blipFill>
          <a:blip r:embed="rId1"/>
          <a:stretch/>
        </p:blipFill>
        <p:spPr>
          <a:xfrm>
            <a:off x="0" y="2276640"/>
            <a:ext cx="4033800" cy="2298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J0233548"/>
          <p:cNvPicPr/>
          <p:nvPr/>
        </p:nvPicPr>
        <p:blipFill>
          <a:blip r:embed="rId2"/>
          <a:stretch/>
        </p:blipFill>
        <p:spPr>
          <a:xfrm>
            <a:off x="5219640" y="2421000"/>
            <a:ext cx="3706920" cy="204480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250920" y="260280"/>
            <a:ext cx="8642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льское хозяй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WordArt 3"/>
          <p:cNvSpPr txBox="1"/>
          <p:nvPr/>
        </p:nvSpPr>
        <p:spPr>
          <a:xfrm>
            <a:off x="1042920" y="566100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орговл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3995640" y="1413000"/>
            <a:ext cx="1368360" cy="3960720"/>
          </a:xfrm>
          <a:prstGeom prst="upDownArrow">
            <a:avLst>
              <a:gd name="adj1" fmla="val 50000"/>
              <a:gd name="adj2" fmla="val 57622"/>
            </a:avLst>
          </a:prstGeom>
          <a:solidFill>
            <a:srgbClr val="66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3"/>
          <p:cNvPicPr/>
          <p:nvPr/>
        </p:nvPicPr>
        <p:blipFill>
          <a:blip r:embed="rId1"/>
          <a:stretch/>
        </p:blipFill>
        <p:spPr>
          <a:xfrm>
            <a:off x="179280" y="1557360"/>
            <a:ext cx="3662640" cy="3743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000803_1071_1190_vnvv"/>
          <p:cNvPicPr/>
          <p:nvPr/>
        </p:nvPicPr>
        <p:blipFill>
          <a:blip r:embed="rId2"/>
          <a:stretch/>
        </p:blipFill>
        <p:spPr>
          <a:xfrm>
            <a:off x="5508720" y="1413000"/>
            <a:ext cx="3475080" cy="431964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5"/>
          <p:cNvSpPr/>
          <p:nvPr/>
        </p:nvSpPr>
        <p:spPr>
          <a:xfrm>
            <a:off x="0" y="16286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60093"/>
                </a:solidFill>
                <a:latin typeface="Impact"/>
              </a:rPr>
              <a:t>Все части экономики тесно взаимосвязаны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15:04:16Z</dcterms:created>
  <dc:creator>Синецкая Г.Г.</dc:creator>
  <dc:description/>
  <dc:language>en-US</dc:language>
  <cp:lastModifiedBy>LEGION</cp:lastModifiedBy>
  <dcterms:modified xsi:type="dcterms:W3CDTF">2016-01-04T08:19:12Z</dcterms:modified>
  <cp:revision>19</cp:revision>
  <dc:subject>Что такое экономика</dc:subject>
  <dc:title>1.Что такое экономика</dc:title>
</cp:coreProperties>
</file>