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EA201-0AC0-498E-9E6E-318138D0A0B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ожени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ластичность предло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выполн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ем экономики МОУ СОШ №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 Сосновый Б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фимовой Е.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едложение.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Эластичность предложе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бота выполнен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чителем экономики МОУ СОШ № 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. Сосновый Бор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Ефимовой Е.В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- есть мера изменения зависимой переменной в ответ на изменение независимой перемен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исимость величины предложения от изменения величины цены говорит об эластичности предложения по це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предложения по цене – это масштаб изменения величины предложения (в %) при изменении цены на 1 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такой эластичности (коэффициента эластичности) определяют путем деления разницы (в %) в величинах предложения до и после изменения цены на величину изменения цены (в %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ластичность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ластичность - есть мера изменения зависимой переменной в ответ на изменение независимой переменно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висимость величины предложения от изменения величины цены говорит об эластичности предложения по цен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ластичность предложения по цене – это масштаб изменения величины предложения (в %) при изменении цены на 1 %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тепень такой эластичности (коэффициента эластичности) определяют путем деления разницы (в %) в величинах предложения до и после изменения цены на величину изменения цены (в %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оэффициент эластич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Коэффициент эластичност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 времени и эластич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ое значение имеет фактор времени для характеристики эластичности предложения: прежде чем предложение полностью приспособится к новому уровню цен, должен пройти определённый промежуток времени, т.е. по способности производителя реагировать на рыночную ситуацию выделяют три периода: краткосрочный, среднесрочный, долгосроч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раткосрочном периоде у фирмы нет времени, чтобы изменить предложение. Это значит, что в этом периоде предложение абсолютно неэластич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реднесрочный период фирма использует резервы и увеличивает производство. Предложение может быть увеличено, несмотря на неизменность числа фирм и объема принадлежащего им капитала.Эластичность предложения становится положительной, больше ну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олгосрочный период фирма может перестроить производство путём замены старого оборудования новым, расширить производственные мощности. Эластичность предложения становится максималь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актор времени и эластичность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ольшое значение имеет фактор времени для характеристики эластичности предложения: прежде чем предложение полностью приспособится к новому уровню цен, должен пройти определённый промежуток времени, т.е. по способности производителя реагировать на рыночную ситуацию выделяют три периода: краткосрочный, среднесрочный, долгосрочны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краткосрочном периоде у фирмы нет времени, чтобы изменить предложение. Это значит, что в этом периоде предложение абсолютно неэластично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среднесрочный период фирма использует резервы и увеличивает производство. Предложение может быть увеличено, несмотря на неизменность числа фирм и объема принадлежащего им капитала.Эластичность предложения становится положительной, больше нул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долгосрочный период фирма может перестроить производство путём замены старого оборудования новым, расширить производственные мощности. Эластичность предложения становится максимально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ценовой эластичности предлож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ожение эластично, если при изменении цены на 1% его величина изменится более чем 1% (Es &gt; 1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иды ценовой эластичности предложения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едложение эластично, если при изменении цены на 1% его величина изменится более чем 1% (Es &gt; 1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ожение неэластично , если при изменении цены товара на 1% величина его предложения изменится менее чем на 1% (Es &lt; 1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едложение неэластично , если при изменении цены товара на 1% величина его предложения изменится менее чем на 1% (Es &lt; 1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бсолютно (совершенно) эластичное предложение имеет место тогда, когда величина предложения бесконечно изменяется при малом изменении це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Es = ~). Эта форма эластичности предложения свойственна долгому пери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бсолютно (совершенно) эластичное предложение имеет место тогда, когда величина предложения бесконечно изменяется при малом изменении цены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Es = ~). Эта форма эластичности предложения свойственна долгому периоду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бсолютно неэластичное предл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ет место тогда, когда величина предложения равна нулю (Е = 0), т. е. величина предложения абсолютно не меняется при изменении цены (для  текущего период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бсолютно неэластичное предложен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меет место тогда, когда величина предложения равна нулю (Е = 0), т. е. величина предложения абсолютно не меняется при изменении цены (для  текущего периода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задач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Что произойдет с кривой предложения пшеницы при увеличении цен на минеральные удобр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У вас завод по производству автомобилей. Вы внедрили новую технологию сборки, которая обеспечивает экономию затрат. Что случится с предложением на рынке автомобил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шение задач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 Что произойдет с кривой предложения пшеницы при увеличении цен на минеральные удобрения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. У вас завод по производству автомобилей. Вы внедрили новую технологию сборки, которая обеспечивает экономию затрат. Что случится с предложением на рынке автомобилей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Если цена выросла на 8 %, а величина предложения увеличилась на 10%, предложение эластично по цене? Изобразите на графи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Цена на морковь выросла с 5р. до 8 р., величина предложения моркови в среднесрочном периоде изменилась с 30 кг. до 60 кг. Каков характер предложения моркови в среднесрочном период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. Если цена выросла на 8 %, а величина предложения увеличилась на 10%, предложение эластично по цене? Изобразите на график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4. Цена на морковь выросла с 5р. до 8 р., величина предложения моркови в среднесрочном периоде изменилась с 30 кг. до 60 кг. Каков характер предложения моркови в среднесрочном периоде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ь себя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Ценовая эластичность предложения находится в прямой зависимости о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временного пери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изменений количества покупа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налоговой политики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Ценовая эластичность вертикально расположенной кривой предлож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равна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равна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больше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Если цена снизилась на 5%, а величина предложения уменьшилась на 3%, предложе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эластично по це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не эластично по це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абсолютно эластично по це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Повышение налога на прибыль предприятий приведет к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увеличению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увеличению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сокращению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верь себя-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Ценовая эластичность предложения находится в прямой зависимости от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временного период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изменений количества покупател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налоговой политики государств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. Ценовая эластичность вертикально расположенной кривой предложения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равна 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равна 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больше 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. Если цена снизилась на 5%, а величина предложения уменьшилась на 3%, предложение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эластично по цен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не эластично по цен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абсолютно эластично по цен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4. Повышение налога на прибыль предприятий приведет к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увеличению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увеличению спрос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сокращению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предло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чина предложения - количество товаров, которые предлагают к продаже продавцы на рынок в течение определенного периода времени и при определенном уровне рыночной це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ожение - это количество товаров, предлагаемых производителем для продажи на рын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нятие предложе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еличина предложения - количество товаров, которые предлагают к продаже продавцы на рынок в течение определенного периода времени и при определенном уровне рыночной цен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едложение - это количество товаров, предлагаемых производителем для продажи на рынк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В соответствии с законом предлож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покупатели купят больше товаров  по низким ценам, чем по высок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покупатели купят больше товаров по высоким ценам, чем по низк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продавцы будут предлагать больше товаров, если цены на них станут выше, а не ниж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Если коэффициент предложения равен нулю, т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предложение абсолютно неэластич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предложение эластич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кривая предложения имеет отрицательный накл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Если коэффициент предложения равен 4, т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предложение товара является эластич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величина предложения равна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предложение является неэластич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Факторы, вызывающие изменение предложения и сдвиг кривой предлож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детерминанты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закон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субститу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5. В соответствии с законом предложения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покупатели купят больше товаров  по низким ценам, чем по высоки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покупатели купят больше товаров по высоким ценам, чем по низки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продавцы будут предлагать больше товаров, если цены на них станут выше, а не ниже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6. Если коэффициент предложения равен нулю, то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предложение абсолютно неэластичн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предложение эластичн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кривая предложения имеет отрицательный наклон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7. Если коэффициент предложения равен 4, то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предложение товара является эластичны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величина предложения равна 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предложение является неэластичны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8. Факторы, вызывающие изменение предложения и сдвиг кривой предложения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детерминанты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закон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субститут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ы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тветы - 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Б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Б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4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6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7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8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Разбор конспект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Решить задачу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изменении цены на розы с 10р. до 20 р. за штуку величина их предложения увеличилась с 200 тыс. штук до 250 тыс. штук. Эластично или неэластично по цене предложение роз? Решение задачи представьте графичес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омашнее задание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 Разбор конспекта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. Решить задачу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и изменении цены на розы с 10р. до 20 р. за штуку величина их предложения увеличилась с 200 тыс. штук до 250 тыс. штук. Эластично или неэластично по цене предложение роз? Решение задачи представьте графическ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ала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исимость величины предложения от уровня цены называется шкалой предло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Шкала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висимость величины предложения от уровня цены называется шкалой предложе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вая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ая из точек крив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ображает зависим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чины предложения от уровня це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ВАЯ ПРЕДЛОЖЕНИЯ  ( в графической форме) -зависимость между величиной предложения товара на рынке (количеством предлагаемого по данной цене товара) и ценой этого товара при неизменных неценовых факторах, влияющих на предлож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ривая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ждая из точек кривой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тображает зависимость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еличины предложения от уровня цен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РИВАЯ ПРЕДЛОЖЕНИЯ  ( в графической форме) -зависимость между величиной предложения товара на рынке (количеством предлагаемого по данной цене товара) и ценой этого товара при неизменных неценовых факторах, влияющих на предложение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ПРЕДЛОЖЕН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цен обычно ведет к увеличению величины предложения, а снижение цен – к ее уменьшению  И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чина предложения находится в прямой зависимости от цен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выше ц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ше величина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же величина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ниже ц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КОН ПРЕДЛОЖЕНИЯ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вышение цен обычно ведет к увеличению величины предложения, а снижение цен – к ее уменьшению  ИЛ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еличина предложения находится в прямой зависимости от цены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чем выше цен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ыше величина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иже величина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чем ниже цен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ценов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ов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цены ведет к изменению величины предложения, что графически изображается движением вдоль кривой предло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ут к изменению предложения, что графически изображается сдвигом кривой предложения(вправо или влево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актор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еценовы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ново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зменение цены ведет к изменению величины предложения, что графически изображается движением вдоль кривой предложе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едут к изменению предложения, что графически изображается сдвигом кривой предложения(вправо или влево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ь себя 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Ценовые факторы спроса зависят 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вкусов покупателей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цены на данный товар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от времени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Закон предложения гласит - чем выше цена, т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меньше продавцов на рынке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меньше величина спроса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больше продавцов на рын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Закон предложения выража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) обратную связь между ценой и количеством продаваемого това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. )связь между эластичными и неэластичными товар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) прямую связь между ценой и количеством продаваемого това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) меру эластичности каждого това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верь себя -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 Ценовые факторы спроса зависят о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вкусов покупателей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цены на данный товар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от времени год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. Закон предложения гласит - чем выше цена, те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меньше продавцов на рынке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меньше величина спроса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больше продавцов на рынк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. Закон предложения выражает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.) обратную связь между ценой и количеством продаваемого товар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. )связь между эластичными и неэластичными товарам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.) прямую связь между ценой и количеством продаваемого товар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.) меру эластичности каждого товар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Что случится с кривой предложения йогуртов, если цена йогурта снизится в 2 раза при прочих равных условия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) кривая предложения сместится в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.) кривая предложения сместится вле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)кривая предложения не изменит своего по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) ничто из вышеперечисленного не подход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Величина предложения показыва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)количество продавцов на рын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количество предлагаемого товара на рынке при данной це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) зависимость между ценой и количеством предлагаемого това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верно 1 и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Ценовые факторы предложения зависят 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вкусов покупателей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цены на данный товар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от времени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Причиной увеличения предложения видеотехники стал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) снижение цены на тов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.) снижение таможенных пошлин на ввозимую видеотехни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) снижение цен на комплектующие издел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4. Что случится с кривой предложения йогуртов, если цена йогурта снизится в 2 раза при прочих равных условиях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.) кривая предложения сместится вправ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.) кривая предложения сместится влев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.)кривая предложения не изменит своего по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.) ничто из вышеперечисленного не подходи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5. Величина предложения показывает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.)количество продавцов на рынк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количество предлагаемого товара на рынке при данной цен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.) зависимость между ценой и количеством предлагаемого товар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) верно 1 и 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6. Ценовые факторы предложения зависят о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вкусов покупателей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цены на данный товар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от времени год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7. Причиной увеличения предложения видеотехники стало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.) снижение цены на товар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.) снижение таможенных пошлин на ввозимую видеотехник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.) снижение цен на комплектующие издел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2F38-CF6B-4F62-B723-99381C193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E6DB-8E7E-4C0F-BA52-A8E7D5BB4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0C71-FB5D-4DC6-96E4-474B9EA51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E2D6-B970-4BB7-8EEC-56626E1D6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38199-B6B1-47CE-8787-F1BFC042B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6205C-C399-4B58-BB06-D6E2E9CFA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5BF43-F480-4948-B56F-87A2EBB6B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95612-A54B-4141-9A13-790A8FB34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7D115-6C9E-4272-9CF0-AB60B8E37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2E635-B604-4C37-90C1-8B6253324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70D3F-F2B6-4595-915A-12271042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548E-6756-4EB4-9349-7E708E133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60798-821D-466C-9836-641B895B7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CF07F-CE8D-4AF2-851C-0A3E8F9FA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B93DB-ACC8-4046-8074-5466EAC9E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71886-1D4D-4A27-A118-30BB403A5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D4995-80BA-4094-8BBF-10C09E5B3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2D85-700B-47FB-A1CC-5A4358B75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F025-739D-4ABA-AFD3-4EE35B36F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1809-4476-4829-B850-494503680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34D5-5659-45EC-B8E6-904D135D0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34D3-B70E-4B24-9940-D7A10DE7F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B759-B3F3-4EB1-A39C-5B7CE7488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E3BA-FFA0-4A68-B83C-BFE02F538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4E613-3248-4D5B-A260-C4A9E47C540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78037-CFF8-4596-B37C-3FCF6353738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Предложение. </a:t>
            </a:r>
            <a:br>
              <a:rPr sz="4800"/>
            </a:b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 Эластичность предложения.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219640" y="5013360"/>
            <a:ext cx="3673440" cy="103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Работа выполнен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учителем экономики МОУ СОШ № 4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Г. Сосновый Бор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Ефимовой Е.В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Эластичность предложения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66"/>
                </a:solidFill>
                <a:latin typeface="Tahoma"/>
              </a:rPr>
              <a:t>Эластичность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- есть мера изменения зависимой переменной в ответ на изменение независимой переменно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висимость величины предложения от изменения величины цены говорит об эластичности предложения по цен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ahoma"/>
              </a:rPr>
              <a:t>Эластичность предложения по цене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это масштаб изменения величины предложения (в %) при изменении цены на 1 %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тепень такой эластичности (коэффициента эластичности) определяют путем деления разницы (в %) в величинах предложения до и после изменения цены на величину изменения цены (в %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Коэффициент эластичност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7" name="Picture 6" descr="f3"/>
          <p:cNvPicPr/>
          <p:nvPr/>
        </p:nvPicPr>
        <p:blipFill>
          <a:blip r:embed="rId1"/>
          <a:stretch/>
        </p:blipFill>
        <p:spPr>
          <a:xfrm>
            <a:off x="2340000" y="1628640"/>
            <a:ext cx="3960720" cy="1089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9" descr="Рисунок1"/>
          <p:cNvPicPr/>
          <p:nvPr/>
        </p:nvPicPr>
        <p:blipFill>
          <a:blip r:embed="rId2"/>
          <a:stretch/>
        </p:blipFill>
        <p:spPr>
          <a:xfrm>
            <a:off x="826920" y="3357720"/>
            <a:ext cx="7361280" cy="240012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Фактор времени и эластичность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ольшое значение имеет фактор времени для характеристики эластичности предложения: прежде чем предложение полностью приспособится к новому уровню цен, должен пройти определённый промежуток времени, т.е. по способности производителя реагировать на рыночную ситуацию выделяют три периода: краткосрочный, среднесрочный, долгосрочный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краткосрочном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ериоде у фирмы нет времени, чтобы изменить предложение. Это значит, что в этом периоде предложение абсолютно неэластично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среднесрочный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период фирма использует резервы и увеличивает производство. Предложение может быть увеличено, несмотря на неизменность числа фирм и объема принадлежащего им капитала.Эластичность предложения становится положительной, больше нуля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долгосрочный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ериод фирма может перестроить производство путём замены старого оборудования новым, расширить производственные мощности. Эластичность предложения становится максимальной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3300"/>
                </a:solidFill>
                <a:latin typeface="Tahoma"/>
              </a:rPr>
              <a:t>Виды ценовой эластичности предложения:</a:t>
            </a:r>
            <a:endParaRPr b="0" lang="en-US" sz="31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редложение эластично,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сли при изменении цены на 1% его величина изменится более чем 1% (Es &gt; 1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5" name="Picture 6" descr="microecon-051"/>
          <p:cNvPicPr/>
          <p:nvPr/>
        </p:nvPicPr>
        <p:blipFill>
          <a:blip r:embed="rId1"/>
          <a:stretch/>
        </p:blipFill>
        <p:spPr>
          <a:xfrm>
            <a:off x="5292720" y="3213000"/>
            <a:ext cx="3200400" cy="308628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редложение неэластично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, если при изменении цены товара на 1% величина его предложения изменится менее чем на 1% (Es &lt; 1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Picture 4" descr="microecon-051"/>
          <p:cNvPicPr/>
          <p:nvPr/>
        </p:nvPicPr>
        <p:blipFill>
          <a:blip r:embed="rId1"/>
          <a:stretch/>
        </p:blipFill>
        <p:spPr>
          <a:xfrm>
            <a:off x="6156360" y="2997360"/>
            <a:ext cx="2663640" cy="308592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915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Абсолютно (совершенно) эластичное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дложение имеет место тогда, когда величина предложения бесконечно изменяется при малом изменении цен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Es = ~). Эта форма эластичности предложения свойственна долгому период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91" name="Group 6"/>
          <p:cNvGrpSpPr/>
          <p:nvPr/>
        </p:nvGrpSpPr>
        <p:grpSpPr>
          <a:xfrm>
            <a:off x="5076720" y="3429000"/>
            <a:ext cx="3132360" cy="2390760"/>
            <a:chOff x="5076720" y="3429000"/>
            <a:chExt cx="3132360" cy="2390760"/>
          </a:xfrm>
        </p:grpSpPr>
        <p:sp>
          <p:nvSpPr>
            <p:cNvPr id="192" name="AutoShape 7"/>
            <p:cNvSpPr/>
            <p:nvPr/>
          </p:nvSpPr>
          <p:spPr>
            <a:xfrm>
              <a:off x="5076720" y="3429000"/>
              <a:ext cx="3132360" cy="23907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3" name="Line 8"/>
            <p:cNvSpPr/>
            <p:nvPr/>
          </p:nvSpPr>
          <p:spPr>
            <a:xfrm flipV="1">
              <a:off x="5567760" y="3814560"/>
              <a:ext cx="0" cy="154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4" name="Line 9"/>
            <p:cNvSpPr/>
            <p:nvPr/>
          </p:nvSpPr>
          <p:spPr>
            <a:xfrm>
              <a:off x="5567760" y="5357160"/>
              <a:ext cx="116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5" name="Line 10"/>
            <p:cNvSpPr/>
            <p:nvPr/>
          </p:nvSpPr>
          <p:spPr>
            <a:xfrm flipV="1">
              <a:off x="5567760" y="4431240"/>
              <a:ext cx="1044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6" name="Text Box 11"/>
            <p:cNvSpPr/>
            <p:nvPr/>
          </p:nvSpPr>
          <p:spPr>
            <a:xfrm>
              <a:off x="6673680" y="5357160"/>
              <a:ext cx="613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560" rIns="61560" tIns="30600" bIns="30600" anchor="t">
              <a:normAutofit fontScale="93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Q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7" name="Text Box 12"/>
            <p:cNvSpPr/>
            <p:nvPr/>
          </p:nvSpPr>
          <p:spPr>
            <a:xfrm>
              <a:off x="5322240" y="3660120"/>
              <a:ext cx="2451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560" rIns="61560" tIns="30600" bIns="306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P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8" name="Text Box 13"/>
            <p:cNvSpPr/>
            <p:nvPr/>
          </p:nvSpPr>
          <p:spPr>
            <a:xfrm>
              <a:off x="6673680" y="4354200"/>
              <a:ext cx="30672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560" rIns="61560" tIns="30600" bIns="306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S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Абсолютно неэластичное предлож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меет место тогда, когда величина предложения равна нулю (Е = 0), т. е. величина предложения абсолютно не меняется при изменении цены (для  текущего периода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01" name="Group 14"/>
          <p:cNvGrpSpPr/>
          <p:nvPr/>
        </p:nvGrpSpPr>
        <p:grpSpPr>
          <a:xfrm>
            <a:off x="2700360" y="4005360"/>
            <a:ext cx="3360600" cy="2563560"/>
            <a:chOff x="2700360" y="4005360"/>
            <a:chExt cx="3360600" cy="2563560"/>
          </a:xfrm>
        </p:grpSpPr>
        <p:sp>
          <p:nvSpPr>
            <p:cNvPr id="202" name="AutoShape 15"/>
            <p:cNvSpPr/>
            <p:nvPr/>
          </p:nvSpPr>
          <p:spPr>
            <a:xfrm>
              <a:off x="2700360" y="4005360"/>
              <a:ext cx="3360600" cy="256356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3" name="Line 16"/>
            <p:cNvSpPr/>
            <p:nvPr/>
          </p:nvSpPr>
          <p:spPr>
            <a:xfrm flipV="1">
              <a:off x="3319560" y="4103640"/>
              <a:ext cx="0" cy="167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4" name="Line 17"/>
            <p:cNvSpPr/>
            <p:nvPr/>
          </p:nvSpPr>
          <p:spPr>
            <a:xfrm>
              <a:off x="3319560" y="5779800"/>
              <a:ext cx="118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5" name="Line 18"/>
            <p:cNvSpPr/>
            <p:nvPr/>
          </p:nvSpPr>
          <p:spPr>
            <a:xfrm flipV="1">
              <a:off x="3912840" y="4300560"/>
              <a:ext cx="0" cy="147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6" name="Text Box 19"/>
            <p:cNvSpPr/>
            <p:nvPr/>
          </p:nvSpPr>
          <p:spPr>
            <a:xfrm>
              <a:off x="4439880" y="5719680"/>
              <a:ext cx="395280" cy="65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8480" rIns="78480" tIns="39240" bIns="392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Tahoma"/>
                </a:rPr>
                <a:t>Q</a:t>
              </a:r>
              <a:endParaRPr b="0" lang="en-US" sz="17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7" name="Text Box 20"/>
            <p:cNvSpPr/>
            <p:nvPr/>
          </p:nvSpPr>
          <p:spPr>
            <a:xfrm>
              <a:off x="3055680" y="4005360"/>
              <a:ext cx="197640" cy="49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8480" rIns="78480" tIns="39240" bIns="392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Tahoma"/>
                </a:rPr>
                <a:t>P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8" name="Text Box 21"/>
            <p:cNvSpPr/>
            <p:nvPr/>
          </p:nvSpPr>
          <p:spPr>
            <a:xfrm>
              <a:off x="3978720" y="4300920"/>
              <a:ext cx="3294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8480" rIns="78480" tIns="39240" bIns="392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Tahoma"/>
                </a:rPr>
                <a:t>S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9" name="Text Box 22"/>
            <p:cNvSpPr/>
            <p:nvPr/>
          </p:nvSpPr>
          <p:spPr>
            <a:xfrm>
              <a:off x="3774600" y="5719680"/>
              <a:ext cx="799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8480" rIns="78480" tIns="39240" bIns="392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Tahoma"/>
                </a:rPr>
                <a:t>Q</a:t>
              </a:r>
              <a:r>
                <a:rPr b="1" lang="en-US" sz="1500" spc="-1" strike="noStrike" baseline="-25000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Решение задач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 Что произойдет с кривой предложения пшеницы при увеличении цен на минеральные удобрения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 У вас завод по производству автомобилей. Вы внедрили новую технологию сборки, которая обеспечивает экономию затрат. Что случится с предложением на рынке автомобилей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Если цена выросла на 8 %, а величина предложения увеличилась на 10%, предложение эластично по цене? Изобразите на график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Цена на морковь выросла с 5р. до 8 р., величина предложения моркови в среднесрочном периоде изменилась с 30 кг. до 60 кг. Каков характер предложения моркови в среднесрочном период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Проверь себя-2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1.Ценовая эластичность предложения находится в прямой зависимости от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) временного период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) изменений количества покупателе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) налоговой политики государств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2. Ценовая эластичность вертикально расположенной кривой предложения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) равна 1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) равна 0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) больше 1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3. Если цена снизилась на 5%, а величина предложения уменьшилась на 3%, предложение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) эластично по цен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) не эластично по цен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) абсолютно эластично по цен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4. Повышение налога на прибыль предприятий приведет к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) увеличению предложе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) увеличению спрос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) сокращению предложе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Понятие предложения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еличина предложени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- количество товаров, которые предлагают к продаже продавцы на рынок в течение определенного периода времени и при определенном уровне рыночной цен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редложение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это количество товаров, предлагаемых производителем для продажи на рынк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5. В соответствии с законом предложения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) покупатели купят больше товаров  по низким ценам, чем по высоки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) покупатели купят больше товаров по высоким ценам, чем по низки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)продавцы будут предлагать больше товаров, если цены на них станут выше, а не ниже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Если коэффициент предложения равен нулю, то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) предложение абсолютно неэластичн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) предложение эластичн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) кривая предложения имеет отрицательный наклон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7. Если коэффициент предложения равен 4, то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) предложение товара является эластичны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) величина предложения равна 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) предложение является неэластичны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8. Факторы, вызывающие изменение предложения и сдвиг кривой предложения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) детерминанты предлож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) закон предлож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) субститут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Ответы - 2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ahoma"/>
              </a:rPr>
              <a:t>1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ahoma"/>
              </a:rPr>
              <a:t>2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ahoma"/>
              </a:rPr>
              <a:t>3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ahoma"/>
              </a:rPr>
              <a:t>4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ahoma"/>
              </a:rPr>
              <a:t>6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ahoma"/>
              </a:rPr>
              <a:t>7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ahoma"/>
              </a:rPr>
              <a:t>8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Домашнее задание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25" name="Picture 4" descr="i"/>
          <p:cNvPicPr/>
          <p:nvPr/>
        </p:nvPicPr>
        <p:blipFill>
          <a:blip r:embed="rId1"/>
          <a:stretch/>
        </p:blipFill>
        <p:spPr>
          <a:xfrm>
            <a:off x="7238880" y="0"/>
            <a:ext cx="1905120" cy="12826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3"/>
          <p:cNvPicPr/>
          <p:nvPr/>
        </p:nvPicPr>
        <p:blipFill>
          <a:blip r:embed="rId2"/>
          <a:stretch/>
        </p:blipFill>
        <p:spPr>
          <a:xfrm>
            <a:off x="0" y="4668840"/>
            <a:ext cx="2173320" cy="218916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6"/>
          <p:cNvSpPr/>
          <p:nvPr/>
        </p:nvSpPr>
        <p:spPr>
          <a:xfrm>
            <a:off x="555480" y="1700280"/>
            <a:ext cx="249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. Разбор конспекта</a:t>
            </a: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755640" y="2421000"/>
            <a:ext cx="69850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 Решить задачу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 изменении цены на розы с 10р. до 20 р. за штуку величина их предложения увеличилась с 200 тыс. штук до 250 тыс. штук. Эластично или неэластично по цене предложение роз? Решение задачи представьте графическ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Шкала предложен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ahoma"/>
              </a:rPr>
              <a:t>Зависимость величины предложения от уровня цены называется </a:t>
            </a:r>
            <a:r>
              <a:rPr b="1" lang="ru-RU" sz="1500" spc="-1" strike="noStrike" u="sng">
                <a:solidFill>
                  <a:srgbClr val="ff9900"/>
                </a:solidFill>
                <a:uFillTx/>
                <a:latin typeface="Tahoma"/>
              </a:rPr>
              <a:t>шкалой предложения.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530440" y="2421000"/>
          <a:ext cx="4038480" cy="385596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2355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Цена, руб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еличина предложения, шт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4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3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45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4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2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Кривая предложен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аждая из точек кривой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тображает зависимость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еличины предложения от уровня цен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4" descr="microecon-004"/>
          <p:cNvPicPr/>
          <p:nvPr/>
        </p:nvPicPr>
        <p:blipFill>
          <a:blip r:embed="rId1"/>
          <a:stretch/>
        </p:blipFill>
        <p:spPr>
          <a:xfrm>
            <a:off x="611280" y="3284640"/>
            <a:ext cx="3171600" cy="24858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5"/>
          <p:cNvSpPr/>
          <p:nvPr/>
        </p:nvSpPr>
        <p:spPr>
          <a:xfrm>
            <a:off x="4859280" y="1268280"/>
            <a:ext cx="3816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КРИВАЯ ПРЕДЛОЖЕНИ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( в графической форме) -зависимость между величиной предложения товара на рынке (количеством предлагаемого по данной цене товара) и ценой этого товара при неизменных неценовых факторах, влияющих на предложени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ЗАКОН ПРЕДЛОЖЕНИЯ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вышение цен обычно ведет к увеличению величины предложения, а снижение цен – к ее уменьшению  ИЛ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2286000" y="3213000"/>
            <a:ext cx="5381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еличина предложения находится в прямой зависимости от цены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чем выше це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ыше величина предлож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иже величина предлож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чем ниже це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AutoShape 5"/>
          <p:cNvSpPr/>
          <p:nvPr/>
        </p:nvSpPr>
        <p:spPr>
          <a:xfrm>
            <a:off x="3564000" y="4365720"/>
            <a:ext cx="50328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AutoShape 6"/>
          <p:cNvSpPr/>
          <p:nvPr/>
        </p:nvSpPr>
        <p:spPr>
          <a:xfrm>
            <a:off x="3348000" y="5516640"/>
            <a:ext cx="432000" cy="504720"/>
          </a:xfrm>
          <a:prstGeom prst="upArrow">
            <a:avLst>
              <a:gd name="adj1" fmla="val 50000"/>
              <a:gd name="adj2" fmla="val 29208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Фактор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7236000" y="189000"/>
            <a:ext cx="180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7380360" y="692280"/>
            <a:ext cx="17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неценовы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0" y="765000"/>
            <a:ext cx="20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ценово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AutoShape 10"/>
          <p:cNvSpPr/>
          <p:nvPr/>
        </p:nvSpPr>
        <p:spPr>
          <a:xfrm>
            <a:off x="6012000" y="620640"/>
            <a:ext cx="1295280" cy="6476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AutoShape 11"/>
          <p:cNvSpPr/>
          <p:nvPr/>
        </p:nvSpPr>
        <p:spPr>
          <a:xfrm>
            <a:off x="2050920" y="620640"/>
            <a:ext cx="1152720" cy="647640"/>
          </a:xfrm>
          <a:prstGeom prst="leftArrow">
            <a:avLst>
              <a:gd name="adj1" fmla="val 50000"/>
              <a:gd name="adj2" fmla="val 4449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AutoShape 12"/>
          <p:cNvSpPr/>
          <p:nvPr/>
        </p:nvSpPr>
        <p:spPr>
          <a:xfrm>
            <a:off x="395280" y="1341360"/>
            <a:ext cx="647640" cy="935280"/>
          </a:xfrm>
          <a:prstGeom prst="downArrow">
            <a:avLst>
              <a:gd name="adj1" fmla="val 50000"/>
              <a:gd name="adj2" fmla="val 36103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Rectangle 13"/>
          <p:cNvSpPr/>
          <p:nvPr/>
        </p:nvSpPr>
        <p:spPr>
          <a:xfrm>
            <a:off x="324000" y="2421000"/>
            <a:ext cx="2592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зменение цены ведет к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изменению величины предложени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что графически изображается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движением вдоль кривой предложени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AutoShape 14"/>
          <p:cNvSpPr/>
          <p:nvPr/>
        </p:nvSpPr>
        <p:spPr>
          <a:xfrm>
            <a:off x="8172360" y="1197000"/>
            <a:ext cx="720720" cy="1440000"/>
          </a:xfrm>
          <a:prstGeom prst="downArrow">
            <a:avLst>
              <a:gd name="adj1" fmla="val 50000"/>
              <a:gd name="adj2" fmla="val 4995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Rectangle 16"/>
          <p:cNvSpPr/>
          <p:nvPr/>
        </p:nvSpPr>
        <p:spPr>
          <a:xfrm>
            <a:off x="6156360" y="2697120"/>
            <a:ext cx="280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едут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к изменению предложения,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то графически изображается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двигом кривой предложения(вправо или влево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250920" y="189000"/>
          <a:ext cx="8734320" cy="6408720"/>
        </p:xfrm>
        <a:graphic>
          <a:graphicData uri="http://schemas.openxmlformats.org/drawingml/2006/table">
            <a:tbl>
              <a:tblPr/>
              <a:tblGrid>
                <a:gridCol w="4367160"/>
                <a:gridCol w="4367160"/>
              </a:tblGrid>
              <a:tr h="1704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3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еличина предложения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3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едложение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меняется, если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86080">
                <a:tc>
                  <a:txBody>
                    <a:bodyPr lIns="90000" rIns="90000" anchor="t">
                      <a:noAutofit/>
                    </a:bodyPr>
                    <a:p>
                      <a:pPr lvl="4" marL="2171880" indent="-343080">
                        <a:lnSpc>
                          <a:spcPct val="100000"/>
                        </a:lnSpc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buClr>
                          <a:srgbClr val="ffcc66"/>
                        </a:buClr>
                        <a:buSzPct val="80000"/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меняется цена данного товара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buClr>
                          <a:srgbClr val="ffffff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меняются затраты на производств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buClr>
                          <a:srgbClr val="ffffff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спользуется новая техника и технолог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buClr>
                          <a:srgbClr val="ffffff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водятся или отменяются налог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buClr>
                          <a:srgbClr val="ffffff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меняются цены на товары, производимые в аналогичных условия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buClr>
                          <a:srgbClr val="ffffff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жидается изменение цены производимого товар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buClr>
                          <a:srgbClr val="ffffff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величивается количество продавц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8" name="Group 364"/>
          <p:cNvGrpSpPr/>
          <p:nvPr/>
        </p:nvGrpSpPr>
        <p:grpSpPr>
          <a:xfrm>
            <a:off x="5292720" y="4365720"/>
            <a:ext cx="2446200" cy="1944720"/>
            <a:chOff x="5292720" y="4365720"/>
            <a:chExt cx="2446200" cy="1944720"/>
          </a:xfrm>
        </p:grpSpPr>
        <p:sp>
          <p:nvSpPr>
            <p:cNvPr id="129" name="AutoShape 365"/>
            <p:cNvSpPr/>
            <p:nvPr/>
          </p:nvSpPr>
          <p:spPr>
            <a:xfrm>
              <a:off x="5292720" y="4365720"/>
              <a:ext cx="2446200" cy="194472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" name="Line 366"/>
            <p:cNvSpPr/>
            <p:nvPr/>
          </p:nvSpPr>
          <p:spPr>
            <a:xfrm flipV="1">
              <a:off x="5668920" y="4365720"/>
              <a:ext cx="360" cy="156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" name="Line 367"/>
            <p:cNvSpPr/>
            <p:nvPr/>
          </p:nvSpPr>
          <p:spPr>
            <a:xfrm flipV="1">
              <a:off x="5668920" y="5934240"/>
              <a:ext cx="175644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2" name="Text Box 368"/>
            <p:cNvSpPr/>
            <p:nvPr/>
          </p:nvSpPr>
          <p:spPr>
            <a:xfrm>
              <a:off x="7425360" y="5871600"/>
              <a:ext cx="31356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25560" bIns="25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Tahoma"/>
                </a:rPr>
                <a:t>Q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3" name="Text Box 369"/>
            <p:cNvSpPr/>
            <p:nvPr/>
          </p:nvSpPr>
          <p:spPr>
            <a:xfrm>
              <a:off x="5292720" y="4365720"/>
              <a:ext cx="25056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25560" bIns="25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Tahoma"/>
                </a:rPr>
                <a:t>P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" name="Line 370"/>
            <p:cNvSpPr/>
            <p:nvPr/>
          </p:nvSpPr>
          <p:spPr>
            <a:xfrm flipV="1">
              <a:off x="5919480" y="4929840"/>
              <a:ext cx="941040" cy="69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5" name="Line 371"/>
            <p:cNvSpPr/>
            <p:nvPr/>
          </p:nvSpPr>
          <p:spPr>
            <a:xfrm flipV="1">
              <a:off x="6107760" y="5055480"/>
              <a:ext cx="941040" cy="69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6" name="Line 372"/>
            <p:cNvSpPr/>
            <p:nvPr/>
          </p:nvSpPr>
          <p:spPr>
            <a:xfrm flipV="1">
              <a:off x="5794200" y="4804200"/>
              <a:ext cx="941040" cy="69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" name="Text Box 373"/>
            <p:cNvSpPr/>
            <p:nvPr/>
          </p:nvSpPr>
          <p:spPr>
            <a:xfrm>
              <a:off x="6860520" y="4804560"/>
              <a:ext cx="31356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25560" bIns="25560" anchor="t">
              <a:normAutofit fontScale="82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Tahoma"/>
                </a:rPr>
                <a:t>S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" name="Text Box 374"/>
            <p:cNvSpPr/>
            <p:nvPr/>
          </p:nvSpPr>
          <p:spPr>
            <a:xfrm>
              <a:off x="7111800" y="4992840"/>
              <a:ext cx="25056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25560" bIns="25560" anchor="t">
              <a:normAutofit fontScale="82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Tahoma"/>
                </a:rPr>
                <a:t>S</a:t>
              </a: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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" name="Text Box 375"/>
            <p:cNvSpPr/>
            <p:nvPr/>
          </p:nvSpPr>
          <p:spPr>
            <a:xfrm>
              <a:off x="6735600" y="4616280"/>
              <a:ext cx="31356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25560" bIns="25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Tahoma"/>
                </a:rPr>
                <a:t>S</a:t>
              </a:r>
              <a:r>
                <a:rPr b="1" lang="en-US" sz="1100" spc="-1" strike="noStrike" baseline="-25000">
                  <a:solidFill>
                    <a:srgbClr val="ffffff"/>
                  </a:solidFill>
                  <a:latin typeface="Tahoma"/>
                </a:rPr>
                <a:t>2</a:t>
              </a: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0" name="Line 376"/>
            <p:cNvSpPr/>
            <p:nvPr/>
          </p:nvSpPr>
          <p:spPr>
            <a:xfrm>
              <a:off x="6359040" y="5369400"/>
              <a:ext cx="18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1" name="Line 377"/>
            <p:cNvSpPr/>
            <p:nvPr/>
          </p:nvSpPr>
          <p:spPr>
            <a:xfrm flipH="1">
              <a:off x="6421320" y="5055840"/>
              <a:ext cx="25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" name="Line 378"/>
            <p:cNvSpPr/>
            <p:nvPr/>
          </p:nvSpPr>
          <p:spPr>
            <a:xfrm>
              <a:off x="5668920" y="5181120"/>
              <a:ext cx="119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3" name="Line 379"/>
            <p:cNvSpPr/>
            <p:nvPr/>
          </p:nvSpPr>
          <p:spPr>
            <a:xfrm>
              <a:off x="6233400" y="5181120"/>
              <a:ext cx="0" cy="75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" name="Line 380"/>
            <p:cNvSpPr/>
            <p:nvPr/>
          </p:nvSpPr>
          <p:spPr>
            <a:xfrm>
              <a:off x="6484320" y="51811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" name="Line 381"/>
            <p:cNvSpPr/>
            <p:nvPr/>
          </p:nvSpPr>
          <p:spPr>
            <a:xfrm>
              <a:off x="6860520" y="5181120"/>
              <a:ext cx="0" cy="75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Line 382"/>
            <p:cNvSpPr/>
            <p:nvPr/>
          </p:nvSpPr>
          <p:spPr>
            <a:xfrm>
              <a:off x="6546960" y="5181120"/>
              <a:ext cx="0" cy="75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" name="Text Box 383"/>
            <p:cNvSpPr/>
            <p:nvPr/>
          </p:nvSpPr>
          <p:spPr>
            <a:xfrm>
              <a:off x="5292720" y="5118480"/>
              <a:ext cx="31356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25560" bIns="25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1" lang="en-US" sz="1100" spc="-1" strike="noStrike">
                  <a:solidFill>
                    <a:srgbClr val="ffffff"/>
                  </a:solidFill>
                  <a:latin typeface="Tahoma"/>
                </a:rPr>
                <a:t>P</a:t>
              </a:r>
              <a:r>
                <a:rPr b="1" lang="en-US" sz="1100" spc="-1" strike="noStrike" baseline="-25000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Text Box 384"/>
            <p:cNvSpPr/>
            <p:nvPr/>
          </p:nvSpPr>
          <p:spPr>
            <a:xfrm>
              <a:off x="6735240" y="5997240"/>
              <a:ext cx="37620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25560" bIns="25560" anchor="t">
              <a:normAutofit fontScale="88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Tahoma"/>
                </a:rPr>
                <a:t>Q</a:t>
              </a:r>
              <a:r>
                <a:rPr b="1" lang="en-US" sz="900" spc="-1" strike="noStrike" baseline="-25000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Text Box 385"/>
            <p:cNvSpPr/>
            <p:nvPr/>
          </p:nvSpPr>
          <p:spPr>
            <a:xfrm>
              <a:off x="6383880" y="5997240"/>
              <a:ext cx="28872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25560" bIns="25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Tahoma"/>
                </a:rPr>
                <a:t>Q</a:t>
              </a:r>
              <a:r>
                <a:rPr b="1" lang="en-US" sz="900" spc="-1" strike="noStrike" baseline="-25000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" name="Text Box 386"/>
            <p:cNvSpPr/>
            <p:nvPr/>
          </p:nvSpPr>
          <p:spPr>
            <a:xfrm>
              <a:off x="6133320" y="5997240"/>
              <a:ext cx="25056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25560" bIns="25560" anchor="t">
              <a:normAutofit fontScale="88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Tahoma"/>
                </a:rPr>
                <a:t>Q</a:t>
              </a:r>
              <a:r>
                <a:rPr b="1" lang="en-US" sz="900" spc="-1" strike="noStrike" baseline="-25000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51" name="Group 403"/>
          <p:cNvGrpSpPr/>
          <p:nvPr/>
        </p:nvGrpSpPr>
        <p:grpSpPr>
          <a:xfrm>
            <a:off x="971640" y="3645000"/>
            <a:ext cx="2984400" cy="2636640"/>
            <a:chOff x="971640" y="3645000"/>
            <a:chExt cx="2984400" cy="2636640"/>
          </a:xfrm>
        </p:grpSpPr>
        <p:sp>
          <p:nvSpPr>
            <p:cNvPr id="152" name="AutoShape 404"/>
            <p:cNvSpPr/>
            <p:nvPr/>
          </p:nvSpPr>
          <p:spPr>
            <a:xfrm>
              <a:off x="971640" y="3645000"/>
              <a:ext cx="2984400" cy="263664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" name="Line 405"/>
            <p:cNvSpPr/>
            <p:nvPr/>
          </p:nvSpPr>
          <p:spPr>
            <a:xfrm flipV="1">
              <a:off x="1468800" y="3984840"/>
              <a:ext cx="0" cy="153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Line 406"/>
            <p:cNvSpPr/>
            <p:nvPr/>
          </p:nvSpPr>
          <p:spPr>
            <a:xfrm>
              <a:off x="1468800" y="5516280"/>
              <a:ext cx="1575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" name="Text Box 407"/>
            <p:cNvSpPr/>
            <p:nvPr/>
          </p:nvSpPr>
          <p:spPr>
            <a:xfrm>
              <a:off x="2961360" y="5516280"/>
              <a:ext cx="994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640" rIns="53640" tIns="26640" bIns="26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Tahoma"/>
                </a:rPr>
                <a:t>Q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" name="Text Box 408"/>
            <p:cNvSpPr/>
            <p:nvPr/>
          </p:nvSpPr>
          <p:spPr>
            <a:xfrm>
              <a:off x="1054080" y="3815280"/>
              <a:ext cx="3315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640" rIns="53640" tIns="26640" bIns="26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Tahoma"/>
                </a:rPr>
                <a:t>P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7" name="Line 409"/>
            <p:cNvSpPr/>
            <p:nvPr/>
          </p:nvSpPr>
          <p:spPr>
            <a:xfrm flipV="1">
              <a:off x="1717920" y="4154760"/>
              <a:ext cx="1242720" cy="119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8" name="Text Box 410"/>
            <p:cNvSpPr/>
            <p:nvPr/>
          </p:nvSpPr>
          <p:spPr>
            <a:xfrm>
              <a:off x="2961360" y="3984840"/>
              <a:ext cx="829080" cy="51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640" rIns="53640" tIns="26640" bIns="26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" name="Line 411"/>
            <p:cNvSpPr/>
            <p:nvPr/>
          </p:nvSpPr>
          <p:spPr>
            <a:xfrm>
              <a:off x="1468800" y="4920480"/>
              <a:ext cx="662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" name="Line 412"/>
            <p:cNvSpPr/>
            <p:nvPr/>
          </p:nvSpPr>
          <p:spPr>
            <a:xfrm>
              <a:off x="1468800" y="4495680"/>
              <a:ext cx="1161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" name="Line 413"/>
            <p:cNvSpPr/>
            <p:nvPr/>
          </p:nvSpPr>
          <p:spPr>
            <a:xfrm>
              <a:off x="2131920" y="4920480"/>
              <a:ext cx="0" cy="59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" name="Line 414"/>
            <p:cNvSpPr/>
            <p:nvPr/>
          </p:nvSpPr>
          <p:spPr>
            <a:xfrm>
              <a:off x="2630160" y="4495680"/>
              <a:ext cx="0" cy="102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" name="Text Box 415"/>
            <p:cNvSpPr/>
            <p:nvPr/>
          </p:nvSpPr>
          <p:spPr>
            <a:xfrm>
              <a:off x="1136880" y="4750920"/>
              <a:ext cx="2487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640" rIns="53640" tIns="26640" bIns="26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Tahoma"/>
                </a:rPr>
                <a:t>P</a:t>
              </a:r>
              <a:r>
                <a:rPr b="1" lang="en-US" sz="700" spc="-1" strike="noStrike" baseline="-25000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7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" name="Text Box 416"/>
            <p:cNvSpPr/>
            <p:nvPr/>
          </p:nvSpPr>
          <p:spPr>
            <a:xfrm>
              <a:off x="1220400" y="4410360"/>
              <a:ext cx="24840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640" rIns="53640" tIns="26640" bIns="26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Tahoma"/>
                </a:rPr>
                <a:t>P</a:t>
              </a:r>
              <a:r>
                <a:rPr b="1" lang="en-US" sz="700" spc="-1" strike="noStrike" baseline="-25000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7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" name="Text Box 417"/>
            <p:cNvSpPr/>
            <p:nvPr/>
          </p:nvSpPr>
          <p:spPr>
            <a:xfrm>
              <a:off x="2049120" y="5516280"/>
              <a:ext cx="33156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640" rIns="53640" tIns="26640" bIns="26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Tahoma"/>
                </a:rPr>
                <a:t>Q</a:t>
              </a:r>
              <a:r>
                <a:rPr b="1" lang="en-US" sz="700" spc="-1" strike="noStrike" baseline="-25000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7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" name="Text Box 418"/>
            <p:cNvSpPr/>
            <p:nvPr/>
          </p:nvSpPr>
          <p:spPr>
            <a:xfrm>
              <a:off x="2546640" y="5601240"/>
              <a:ext cx="3315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640" rIns="53640" tIns="26640" bIns="26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Tahoma"/>
                </a:rPr>
                <a:t>Q</a:t>
              </a:r>
              <a:r>
                <a:rPr b="1" lang="en-US" sz="700" spc="-1" strike="noStrike" baseline="-25000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7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роверь себя -1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Ценовые факторы спроса зависят от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) вкусов покупателей;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) цены на данный товар;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) от времени год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2. Закон предложения гласит - чем выше цена, те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) меньше продавцов на рынке;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) меньше величина спроса;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) больше продавцов на рынк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Закон предложения выражает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.) обратную связь между ценой и количеством продаваемого товар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. )связь между эластичными и неэластичными товарам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.) прямую связь между ценой и количеством продаваемого товар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г.) меру эластичности каждого товар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4. Что случится с кривой предложения йогуртов, если цена йогурта снизится в 2 раза при прочих равных условиях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.) кривая предложения сместится вправ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.) кривая предложения сместится влев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.)кривая предложения не изменит своего положе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г.) ничто из вышеперечисленного не подходит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5. Величина предложения показывает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.)количество продавцов на рынк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)количество предлагаемого товара на рынке при данной цен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.) зависимость между ценой и количеством предлагаемого товар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г) верно 1 и 2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6. Ценовые факторы предложения зависят от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) вкусов покупателей;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) цены на данный товар;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) от времени год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7. Причиной увеличения предложения видеотехники стало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.) снижение цены на товар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.) снижение таможенных пошлин на ввозимую видеотехнику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.) снижение цен на комплектующие издел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9T06:18:57Z</dcterms:created>
  <dc:creator>USER</dc:creator>
  <dc:description/>
  <dc:language>en-US</dc:language>
  <cp:lastModifiedBy>LEGION</cp:lastModifiedBy>
  <dcterms:modified xsi:type="dcterms:W3CDTF">2016-01-04T08:19:27Z</dcterms:modified>
  <cp:revision>15</cp:revision>
  <dc:subject/>
  <dc:title>Предложение</dc:title>
</cp:coreProperties>
</file>