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36A8-2AA3-4CBF-A871-554B7C28195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астичность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ем экономики МО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Сосновый 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фимовой Е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Эластичность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а выполн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ителем экономики МОУ СОШ №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 Сосновый Бо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фимовой Е.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- есть мера изменения зависимой переменной в ответ на изменение независимой перем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 – это масштаб изменения величины предложения (в %) при изменении цены на 1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- есть мера изменения зависимой переменной в ответ на изменение независимой переменн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по цене – это масштаб изменения величины предложения (в %) при изменении цены на 1 %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эффициент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Коэффициент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времени и эласт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раткосрочном 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реднесрочный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олгосрочный 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 времени и эластич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раткосрочном 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реднесрочный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долгосрочный 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ценовой эластичности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эластично, если при изменении цены на 1% его величина изменится более чем 1% (Es &gt;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ценовой эластичности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эластично, если при изменении цены на 1% его величина изменится более чем 1% (Es &gt; 1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неэластично , если при изменении цены товара на 1% величина его предложения изменится менее чем на 1% (Es &lt;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неэластично , если при изменении цены товара на 1% величина его предложения изменится менее чем на 1% (Es &lt; 1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(совершенно) эластичное предложение имеет место тогда, когда величина предложения бесконечно изменяется при малом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Es = ~). Эта форма эластичности предложения свойственна долгому пери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о (совершенно) эластичное предложение имеет место тогда, когда величина предложения бесконечно изменяется при малом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Es = ~). Эта форма эластичности предложения свойственна долгому период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шение задач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новая эластичность предложения находится в прямой зависимост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ременн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зменений количества покуп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алоговой политик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новая эластичность вертикально расположенной кривой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равн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равна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льш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сли цена снизилась на 5%, а величина предложения уменьшилась на 3%,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бсолютно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вышение налога на прибыль предприятий приведет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увеличению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увеличению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окращению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верь себя-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Ценовая эластичность предложения находится в прямой зависимости о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ременного пери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зменений количества покупа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алоговой политики государ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Ценовая эластичность вертикально расположенной кривой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равна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равна 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больше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Если цена снизилась на 5%, а величина предложения уменьшилась на 3%,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не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абсолютно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Повышение налога на прибыль предприятий приведет к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увеличению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увеличению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сокращению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- это количество товаров, предлагаемых производителем для продажи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- это количество товаров, предлагаемых производителем для продажи на рын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соответствии с законом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купатели купят больше товаров  по низким ценам, чем по высо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купатели купят больше товаров по высоким ценам, чем по низ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продавцы будут предлагать больше товаров, если цены на них станут выше, а не ниж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Если коэффициент предложения равен нулю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едложение абсолютно неэласт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едложение эласт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ивая предложения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Если коэффициент предложения равен 4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едложение товара является эластич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еличина предложения равна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едложение является неэластич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Факторы, вызывающие изменение предложения и сдвиг кривой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терминант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кон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убститу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В соответствии с законом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окупатели купят больше товаров  по низким ценам, чем по высок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окупатели купят больше товаров по высоким ценам, чем по низк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продавцы будут предлагать больше товаров, если цены на них станут выше, а не ниж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Если коэффициент предложения равен нулю, т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едложение абсолютно неэластич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редложение эластич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кривая предложения имеет отрицательный накл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Если коэффициент предложения равен 4, т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едложение товара является эластич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величина предложения равна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редложение является неэластич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Факторы, вызывающие изменение предложения и сдвиг кривой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детерминант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закон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субститу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ы -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Б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Б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збор конспек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ить задач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Разбор конспекта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Решить задачу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предложения от уровня цены называется шкалой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ал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уровня цены называется шкалой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точек кри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ает зависим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ы предложения от уровня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ПРЕДЛОЖЕНИЯ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ждая из точек крив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ображает зависим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ы предложения от уровня це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ПРЕДЛОЖЕНИЯ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величин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величин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ниж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ше величин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иже величин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ниже ц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ы ведет к изменению величины предложения, что графически изображается движением вдоль кривой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т к изменению предложения, что графически изображается сдвигом кривой предложения(вправо или влев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ов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ы ведет к изменению величины предложения, что графически изображается движением вдоль кривой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дут к изменению предложения, что графически изображается сдвигом кривой предложения(вправо или влево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Ценовые факторы спроса завися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т времени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 предложения гласит - чем выше цена, 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меньше продавцов на рынк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еньше величина спро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льше продавц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он предложения выраж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обратную связь между ценой и количеством продав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)связь между эластичными и неэластичными това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прямую связь между ценой и количеством продав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) меру эластичности кажд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верь себя -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Ценовые факторы спроса зависят 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т времени г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кон предложения гласит - чем выше цена, 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меньше продавцов на рынке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меньше величина спрос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больше продавцов на рын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Закон предложения выраж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обратную связь между ценой и количеством продав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 )связь между эластичными и неэластичными товарам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прямую связь между ценой и количеством продав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) меру эластичности кажд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кривая предложения сместится в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) кривая предложения сместится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кривая предложения не изменит своего по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) ничто из вышеперечисленного не под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еличина предложения показы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количество продавц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количество предлагаемого товара на рынке при данной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зависимость между ценой и количеством предлаг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ерно 1 и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Ценовые факторы предложения завися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т времени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ичиной увеличения предложения видеотехники ста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снижение цены на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) снижение таможенных пошлин на ввозимую видеотехн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снижение цен на комплектующие изд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кривая предложения сместится впра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) кривая предложения сместится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кривая предложения не изменит своего по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) ничто из вышеперечисленного не подход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Величина предложения показыв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количество продавцов на рын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количество предлагаемого товара на рынке при данной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зависимость между ценой и количеством предлаг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верно 1 и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Ценовые факторы предложения зависят 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т времени г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Причиной увеличения предложения видеотехники стал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снижение цены на това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) снижение таможенных пошлин на ввозимую видеотехник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снижение цен на комплектующие издел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8C0-300D-45E8-8DD3-E5C69BA5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7F4-AA13-4C0B-BB30-ECE30FB2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A1D4-D36F-49F9-BA55-967904B4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EA6-0768-4990-8005-BDA497BF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93E6-F612-423E-85D5-B6AAACF6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8529-4B5A-41C3-8E8A-93847AE6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8DC1-A4F2-407B-AB74-70E17823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71E8-53E4-40C6-9740-92240A6D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D524-410C-45E0-8A6C-A2AA34A4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ECF7-21A3-472E-B6E9-223BAEF5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9BC7-FB88-4AB3-988D-904A03EA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82E-ACF7-4193-B876-7637A2FB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2DC6-0ADF-4343-8695-96D8E21C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3F91-5C29-4A18-883C-02EEC044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3C9F-96D2-4D8F-94B6-C7D419DB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1C07-8941-4D2F-AE18-CE1A349D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60F8-B5EB-4387-BF8F-8B03946B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AC7-ADFC-482A-8D4C-CE152D66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CF7-D583-4B52-A251-B65EFACF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019-B9FD-493F-8BC1-C9D3AC23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69A-E328-4650-A80A-4F85221E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82F-E2D4-4F22-8C58-A80DD52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156-F6D9-4497-846B-216F915C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85D-BFE0-412C-BC46-9BAC68EB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4A47-C794-4B4E-98EE-722D59C6E07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C972-42B8-46B8-99CE-32C5301A00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едложение. 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Эластичность предложения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640" y="5013360"/>
            <a:ext cx="367344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бота выполне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чителем экономики МОУ СОШ № 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 Сосновый Бо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фимовой Е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ластичность пред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ahoma"/>
              </a:rPr>
              <a:t>Эластичност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есть мера изменения зависимой переменной в ответ на изменение независимой перемен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Эластичность предложения по цен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это масштаб изменения величины предложения (в %) при изменении цены на 1 %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эффициент эластично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6" descr="f3"/>
          <p:cNvPicPr/>
          <p:nvPr/>
        </p:nvPicPr>
        <p:blipFill>
          <a:blip r:embed="rId1"/>
          <a:stretch/>
        </p:blipFill>
        <p:spPr>
          <a:xfrm>
            <a:off x="2340000" y="1628640"/>
            <a:ext cx="3960720" cy="108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Рисунок1"/>
          <p:cNvPicPr/>
          <p:nvPr/>
        </p:nvPicPr>
        <p:blipFill>
          <a:blip r:embed="rId2"/>
          <a:stretch/>
        </p:blipFill>
        <p:spPr>
          <a:xfrm>
            <a:off x="826920" y="3357720"/>
            <a:ext cx="7361280" cy="24001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Фактор времени и эластичность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раткосрочном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реднесрочны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лгосрочны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3300"/>
                </a:solidFill>
                <a:latin typeface="Tahoma"/>
              </a:rPr>
              <a:t>Виды ценовой эластичности предложения: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эластично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ри изменении цены на 1% его величина изменится более чем 1% (Es &gt; 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6" descr="microecon-051"/>
          <p:cNvPicPr/>
          <p:nvPr/>
        </p:nvPicPr>
        <p:blipFill>
          <a:blip r:embed="rId1"/>
          <a:stretch/>
        </p:blipFill>
        <p:spPr>
          <a:xfrm>
            <a:off x="5292720" y="3213000"/>
            <a:ext cx="3200400" cy="3086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неэластичн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, если при изменении цены товара на 1% величина его предложения изменится менее чем на 1% (Es &lt; 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microecon-051"/>
          <p:cNvPicPr/>
          <p:nvPr/>
        </p:nvPicPr>
        <p:blipFill>
          <a:blip r:embed="rId1"/>
          <a:stretch/>
        </p:blipFill>
        <p:spPr>
          <a:xfrm>
            <a:off x="6156360" y="2997360"/>
            <a:ext cx="2663640" cy="30859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бсолютно (совершенно) эластичн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ложение имеет место тогда, когда величина предложения бесконечно изменяется при малом изменении це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Es = ~). Эта форма эластичности предложения свойственна долгому пери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1" name="Group 6"/>
          <p:cNvGrpSpPr/>
          <p:nvPr/>
        </p:nvGrpSpPr>
        <p:grpSpPr>
          <a:xfrm>
            <a:off x="5076720" y="3429000"/>
            <a:ext cx="3132360" cy="2390760"/>
            <a:chOff x="5076720" y="3429000"/>
            <a:chExt cx="3132360" cy="2390760"/>
          </a:xfrm>
        </p:grpSpPr>
        <p:sp>
          <p:nvSpPr>
            <p:cNvPr id="192" name="AutoShape 7"/>
            <p:cNvSpPr/>
            <p:nvPr/>
          </p:nvSpPr>
          <p:spPr>
            <a:xfrm>
              <a:off x="5076720" y="3429000"/>
              <a:ext cx="3132360" cy="2390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 flipV="1">
              <a:off x="5567760" y="3814560"/>
              <a:ext cx="0" cy="154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>
              <a:off x="5567760" y="5357160"/>
              <a:ext cx="11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V="1">
              <a:off x="5567760" y="4431240"/>
              <a:ext cx="1044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6673680" y="5357160"/>
              <a:ext cx="61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 fontScale="93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5322240" y="3660120"/>
              <a:ext cx="2451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6673680" y="4354200"/>
              <a:ext cx="3067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бсолютно неэластичное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1" name="Group 14"/>
          <p:cNvGrpSpPr/>
          <p:nvPr/>
        </p:nvGrpSpPr>
        <p:grpSpPr>
          <a:xfrm>
            <a:off x="2700360" y="4005360"/>
            <a:ext cx="3360600" cy="2563560"/>
            <a:chOff x="2700360" y="4005360"/>
            <a:chExt cx="3360600" cy="2563560"/>
          </a:xfrm>
        </p:grpSpPr>
        <p:sp>
          <p:nvSpPr>
            <p:cNvPr id="202" name="AutoShape 15"/>
            <p:cNvSpPr/>
            <p:nvPr/>
          </p:nvSpPr>
          <p:spPr>
            <a:xfrm>
              <a:off x="2700360" y="4005360"/>
              <a:ext cx="3360600" cy="25635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Line 16"/>
            <p:cNvSpPr/>
            <p:nvPr/>
          </p:nvSpPr>
          <p:spPr>
            <a:xfrm flipV="1">
              <a:off x="3319560" y="410364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Line 17"/>
            <p:cNvSpPr/>
            <p:nvPr/>
          </p:nvSpPr>
          <p:spPr>
            <a:xfrm>
              <a:off x="3319560" y="5779800"/>
              <a:ext cx="11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 flipV="1">
              <a:off x="3912840" y="4300560"/>
              <a:ext cx="0" cy="14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4439880" y="5719680"/>
              <a:ext cx="3952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Text Box 20"/>
            <p:cNvSpPr/>
            <p:nvPr/>
          </p:nvSpPr>
          <p:spPr>
            <a:xfrm>
              <a:off x="3055680" y="4005360"/>
              <a:ext cx="19764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3978720" y="4300920"/>
              <a:ext cx="329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3774600" y="5719680"/>
              <a:ext cx="79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15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шение задач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верь себя-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Ценовая эластичность предложения находится в прямой зависимости о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временного пери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изменений количества покупател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налоговой политики государ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Ценовая эластичность вертикально расположенной кривой предложе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равна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равна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больше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Если цена снизилась на 5%, а величина предложения уменьшилась на 3%, предложени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не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абсолютно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Повышение налога на прибыль предприятий приведет к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увеличению пред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увеличению спро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сокращению пред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нятие предложения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это количество товаров, предлагаемых производителем для продажи на рын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. В соответствии с законом предложе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покупатели купят больше товаров  по низким ценам, чем по высок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покупатели купят больше товаров по высоким ценам, чем по низк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продавцы будут предлагать больше товаров, если цены на них станут выше, а не ниж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Если коэффициент предложения равен нулю, т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предложение абсолютно неэластич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предложение эластич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кривая предложения имеет отрицательный накл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 Если коэффициент предложения равен 4, 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предложение товара является эластич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величина предложения равна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предложение является неэластич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8. Факторы, вызывающие изменение предложения и сдвиг кривой предложен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детерминанты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закон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субститу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тветы -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1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2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3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4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6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7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8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5" name="Picture 4" descr="i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28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3"/>
          <p:cNvPicPr/>
          <p:nvPr/>
        </p:nvPicPr>
        <p:blipFill>
          <a:blip r:embed="rId2"/>
          <a:stretch/>
        </p:blipFill>
        <p:spPr>
          <a:xfrm>
            <a:off x="0" y="4668840"/>
            <a:ext cx="2173320" cy="2189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555480" y="170028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Разбор конспекта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55640" y="2421000"/>
            <a:ext cx="698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Решить задачу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Шкала 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уровня цены называется </a:t>
            </a:r>
            <a:r>
              <a:rPr b="1" lang="ru-RU" sz="1500" spc="-1" strike="noStrike" u="sng">
                <a:solidFill>
                  <a:srgbClr val="ff9900"/>
                </a:solidFill>
                <a:uFillTx/>
                <a:latin typeface="Tahoma"/>
              </a:rPr>
              <a:t>шкалой предложения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30440" y="2421000"/>
          <a:ext cx="4038480" cy="38559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235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а, руб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чина предложения, шт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ивая 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ждая из точек крив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ображает зависимост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личины предложения от уровн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microecon-004"/>
          <p:cNvPicPr/>
          <p:nvPr/>
        </p:nvPicPr>
        <p:blipFill>
          <a:blip r:embed="rId1"/>
          <a:stretch/>
        </p:blipFill>
        <p:spPr>
          <a:xfrm>
            <a:off x="611280" y="3284640"/>
            <a:ext cx="3171600" cy="2485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859280" y="126828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РИВАЯ ПРЕДЛОЖ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КОН ПРЕДЛОЖЕНИЯ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286000" y="3213000"/>
            <a:ext cx="538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личина предложения находится в прямой зависимости от цены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ем выше ц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ше величина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иже величина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ем ниже ц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564000" y="4365720"/>
            <a:ext cx="5032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348000" y="5516640"/>
            <a:ext cx="432000" cy="504720"/>
          </a:xfrm>
          <a:prstGeom prst="upArrow">
            <a:avLst>
              <a:gd name="adj1" fmla="val 50000"/>
              <a:gd name="adj2" fmla="val 2920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акто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236000" y="18900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380360" y="6922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неценов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0" y="7650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цено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6012000" y="620640"/>
            <a:ext cx="129528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2050920" y="620640"/>
            <a:ext cx="1152720" cy="647640"/>
          </a:xfrm>
          <a:prstGeom prst="leftArrow">
            <a:avLst>
              <a:gd name="adj1" fmla="val 50000"/>
              <a:gd name="adj2" fmla="val 4449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95280" y="1341360"/>
            <a:ext cx="647640" cy="935280"/>
          </a:xfrm>
          <a:prstGeom prst="downArrow">
            <a:avLst>
              <a:gd name="adj1" fmla="val 50000"/>
              <a:gd name="adj2" fmla="val 3610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24000" y="2421000"/>
            <a:ext cx="25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е цены ведет к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менению величины 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что графически изображ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жением вдоль кривой 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8172360" y="1197000"/>
            <a:ext cx="720720" cy="144000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156360" y="269712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дут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к изменению предложения,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графически изображ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двигом кривой предложения(вправо или влев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50920" y="189000"/>
          <a:ext cx="8734320" cy="6408720"/>
        </p:xfrm>
        <a:graphic>
          <a:graphicData uri="http://schemas.openxmlformats.org/drawingml/2006/table">
            <a:tbl>
              <a:tblPr/>
              <a:tblGrid>
                <a:gridCol w="4367160"/>
                <a:gridCol w="4367160"/>
              </a:tblGrid>
              <a:tr h="170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чина предложения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ложение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ется, есл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080">
                <a:tc>
                  <a:txBody>
                    <a:bodyPr lIns="90000" rIns="90000" anchor="t">
                      <a:noAutofit/>
                    </a:bodyPr>
                    <a:p>
                      <a:pPr lvl="4" marL="21718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ffcc66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ется цена данного това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ются затраты на производ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уется новая техника и 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водятся или отменяются нало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ются цены на товары, производимые в аналогичных услов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жидается изменение цены производимого това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величивается количество продавц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8" name="Group 364"/>
          <p:cNvGrpSpPr/>
          <p:nvPr/>
        </p:nvGrpSpPr>
        <p:grpSpPr>
          <a:xfrm>
            <a:off x="5292720" y="4365720"/>
            <a:ext cx="2446200" cy="1944720"/>
            <a:chOff x="5292720" y="4365720"/>
            <a:chExt cx="2446200" cy="1944720"/>
          </a:xfrm>
        </p:grpSpPr>
        <p:sp>
          <p:nvSpPr>
            <p:cNvPr id="129" name="AutoShape 365"/>
            <p:cNvSpPr/>
            <p:nvPr/>
          </p:nvSpPr>
          <p:spPr>
            <a:xfrm>
              <a:off x="5292720" y="4365720"/>
              <a:ext cx="2446200" cy="19447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Line 366"/>
            <p:cNvSpPr/>
            <p:nvPr/>
          </p:nvSpPr>
          <p:spPr>
            <a:xfrm flipV="1">
              <a:off x="5668920" y="4365720"/>
              <a:ext cx="360" cy="156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Line 367"/>
            <p:cNvSpPr/>
            <p:nvPr/>
          </p:nvSpPr>
          <p:spPr>
            <a:xfrm flipV="1">
              <a:off x="5668920" y="5934240"/>
              <a:ext cx="17564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Text Box 368"/>
            <p:cNvSpPr/>
            <p:nvPr/>
          </p:nvSpPr>
          <p:spPr>
            <a:xfrm>
              <a:off x="7425360" y="5871600"/>
              <a:ext cx="3135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Text Box 369"/>
            <p:cNvSpPr/>
            <p:nvPr/>
          </p:nvSpPr>
          <p:spPr>
            <a:xfrm>
              <a:off x="5292720" y="4365720"/>
              <a:ext cx="2505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Line 370"/>
            <p:cNvSpPr/>
            <p:nvPr/>
          </p:nvSpPr>
          <p:spPr>
            <a:xfrm flipV="1">
              <a:off x="5919480" y="492984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Line 371"/>
            <p:cNvSpPr/>
            <p:nvPr/>
          </p:nvSpPr>
          <p:spPr>
            <a:xfrm flipV="1">
              <a:off x="6107760" y="505548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372"/>
            <p:cNvSpPr/>
            <p:nvPr/>
          </p:nvSpPr>
          <p:spPr>
            <a:xfrm flipV="1">
              <a:off x="5794200" y="480420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Text Box 373"/>
            <p:cNvSpPr/>
            <p:nvPr/>
          </p:nvSpPr>
          <p:spPr>
            <a:xfrm>
              <a:off x="6860520" y="4804560"/>
              <a:ext cx="313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Text Box 374"/>
            <p:cNvSpPr/>
            <p:nvPr/>
          </p:nvSpPr>
          <p:spPr>
            <a:xfrm>
              <a:off x="7111800" y="4992840"/>
              <a:ext cx="250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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Text Box 375"/>
            <p:cNvSpPr/>
            <p:nvPr/>
          </p:nvSpPr>
          <p:spPr>
            <a:xfrm>
              <a:off x="6735600" y="4616280"/>
              <a:ext cx="313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11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Line 376"/>
            <p:cNvSpPr/>
            <p:nvPr/>
          </p:nvSpPr>
          <p:spPr>
            <a:xfrm>
              <a:off x="6359040" y="5369400"/>
              <a:ext cx="18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Line 377"/>
            <p:cNvSpPr/>
            <p:nvPr/>
          </p:nvSpPr>
          <p:spPr>
            <a:xfrm flipH="1">
              <a:off x="6421320" y="50558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Line 378"/>
            <p:cNvSpPr/>
            <p:nvPr/>
          </p:nvSpPr>
          <p:spPr>
            <a:xfrm>
              <a:off x="5668920" y="5181120"/>
              <a:ext cx="119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Line 379"/>
            <p:cNvSpPr/>
            <p:nvPr/>
          </p:nvSpPr>
          <p:spPr>
            <a:xfrm>
              <a:off x="623340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Line 380"/>
            <p:cNvSpPr/>
            <p:nvPr/>
          </p:nvSpPr>
          <p:spPr>
            <a:xfrm>
              <a:off x="6484320" y="5181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Line 381"/>
            <p:cNvSpPr/>
            <p:nvPr/>
          </p:nvSpPr>
          <p:spPr>
            <a:xfrm>
              <a:off x="686052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2"/>
            <p:cNvSpPr/>
            <p:nvPr/>
          </p:nvSpPr>
          <p:spPr>
            <a:xfrm>
              <a:off x="654696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Text Box 383"/>
            <p:cNvSpPr/>
            <p:nvPr/>
          </p:nvSpPr>
          <p:spPr>
            <a:xfrm>
              <a:off x="5292720" y="5118480"/>
              <a:ext cx="3135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11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384"/>
            <p:cNvSpPr/>
            <p:nvPr/>
          </p:nvSpPr>
          <p:spPr>
            <a:xfrm>
              <a:off x="6735240" y="5997240"/>
              <a:ext cx="3762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385"/>
            <p:cNvSpPr/>
            <p:nvPr/>
          </p:nvSpPr>
          <p:spPr>
            <a:xfrm>
              <a:off x="6383880" y="5997240"/>
              <a:ext cx="2887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Text Box 386"/>
            <p:cNvSpPr/>
            <p:nvPr/>
          </p:nvSpPr>
          <p:spPr>
            <a:xfrm>
              <a:off x="6133320" y="5997240"/>
              <a:ext cx="250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1" name="Group 403"/>
          <p:cNvGrpSpPr/>
          <p:nvPr/>
        </p:nvGrpSpPr>
        <p:grpSpPr>
          <a:xfrm>
            <a:off x="971640" y="3645000"/>
            <a:ext cx="2984400" cy="2636640"/>
            <a:chOff x="971640" y="3645000"/>
            <a:chExt cx="2984400" cy="2636640"/>
          </a:xfrm>
        </p:grpSpPr>
        <p:sp>
          <p:nvSpPr>
            <p:cNvPr id="152" name="AutoShape 404"/>
            <p:cNvSpPr/>
            <p:nvPr/>
          </p:nvSpPr>
          <p:spPr>
            <a:xfrm>
              <a:off x="971640" y="3645000"/>
              <a:ext cx="2984400" cy="26366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405"/>
            <p:cNvSpPr/>
            <p:nvPr/>
          </p:nvSpPr>
          <p:spPr>
            <a:xfrm flipV="1">
              <a:off x="1468800" y="3984840"/>
              <a:ext cx="0" cy="15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406"/>
            <p:cNvSpPr/>
            <p:nvPr/>
          </p:nvSpPr>
          <p:spPr>
            <a:xfrm>
              <a:off x="1468800" y="5516280"/>
              <a:ext cx="157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Text Box 407"/>
            <p:cNvSpPr/>
            <p:nvPr/>
          </p:nvSpPr>
          <p:spPr>
            <a:xfrm>
              <a:off x="2961360" y="5516280"/>
              <a:ext cx="99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Text Box 408"/>
            <p:cNvSpPr/>
            <p:nvPr/>
          </p:nvSpPr>
          <p:spPr>
            <a:xfrm>
              <a:off x="1054080" y="3815280"/>
              <a:ext cx="331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409"/>
            <p:cNvSpPr/>
            <p:nvPr/>
          </p:nvSpPr>
          <p:spPr>
            <a:xfrm flipV="1">
              <a:off x="1717920" y="4154760"/>
              <a:ext cx="1242720" cy="11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Text Box 410"/>
            <p:cNvSpPr/>
            <p:nvPr/>
          </p:nvSpPr>
          <p:spPr>
            <a:xfrm>
              <a:off x="2961360" y="3984840"/>
              <a:ext cx="829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411"/>
            <p:cNvSpPr/>
            <p:nvPr/>
          </p:nvSpPr>
          <p:spPr>
            <a:xfrm>
              <a:off x="1468800" y="4920480"/>
              <a:ext cx="6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412"/>
            <p:cNvSpPr/>
            <p:nvPr/>
          </p:nvSpPr>
          <p:spPr>
            <a:xfrm>
              <a:off x="1468800" y="4495680"/>
              <a:ext cx="116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413"/>
            <p:cNvSpPr/>
            <p:nvPr/>
          </p:nvSpPr>
          <p:spPr>
            <a:xfrm>
              <a:off x="2131920" y="4920480"/>
              <a:ext cx="0" cy="5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Line 414"/>
            <p:cNvSpPr/>
            <p:nvPr/>
          </p:nvSpPr>
          <p:spPr>
            <a:xfrm>
              <a:off x="2630160" y="4495680"/>
              <a:ext cx="0" cy="10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Text Box 415"/>
            <p:cNvSpPr/>
            <p:nvPr/>
          </p:nvSpPr>
          <p:spPr>
            <a:xfrm>
              <a:off x="1136880" y="4750920"/>
              <a:ext cx="2487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Text Box 416"/>
            <p:cNvSpPr/>
            <p:nvPr/>
          </p:nvSpPr>
          <p:spPr>
            <a:xfrm>
              <a:off x="1220400" y="4410360"/>
              <a:ext cx="2484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Text Box 417"/>
            <p:cNvSpPr/>
            <p:nvPr/>
          </p:nvSpPr>
          <p:spPr>
            <a:xfrm>
              <a:off x="2049120" y="5516280"/>
              <a:ext cx="3315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Text Box 418"/>
            <p:cNvSpPr/>
            <p:nvPr/>
          </p:nvSpPr>
          <p:spPr>
            <a:xfrm>
              <a:off x="2546640" y="5601240"/>
              <a:ext cx="331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ь себя -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еновые факторы спроса зависят 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вкусов покупателе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цены на данный товар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от времени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. Закон предложения гласит - чем выше цена, те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меньше продавцов на рынке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меньше величина спрос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больше продавцов на рынк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кон предложения выража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обратную связь между ценой и количеством продав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 )связь между эластичными и неэластичными товара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прямую связь между ценой и количеством продав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) меру эластичности кажд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кривая предложения сместится впра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) кривая предложения сместится вле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кривая предложения не изменит своего по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) ничто из вышеперечисленного не подходи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5. Величина предложения показыва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количество продавцов на рынк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количество предлагаемого товара на рынке при данной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зависимость между ценой и количеством предлаг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верно 1 и 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Ценовые факторы предложения зависят 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вкусов покупателе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цены на данный товар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от времени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7. Причиной увеличения предложения видеотехники стал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снижение цены на тов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) снижение таможенных пошлин на ввозимую видеотехник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снижение цен на комплектующие издел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6:18:57Z</dcterms:created>
  <dc:creator>USER</dc:creator>
  <dc:description/>
  <dc:language>en-US</dc:language>
  <cp:lastModifiedBy>LEGION</cp:lastModifiedBy>
  <dcterms:modified xsi:type="dcterms:W3CDTF">2016-01-04T08:19:27Z</dcterms:modified>
  <cp:revision>15</cp:revision>
  <dc:subject/>
  <dc:title>Предложение</dc:title>
</cp:coreProperties>
</file>