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gif" ContentType="image/gif"/>
  <Override PartName="/ppt/media/image14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12.jpeg" ContentType="image/jpeg"/>
  <Override PartName="/ppt/media/image5.gif" ContentType="image/gif"/>
  <Override PartName="/ppt/media/image7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6745-3779-46A3-9081-CC34A0E16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B63-E27C-4DC3-8F40-65A965A8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068-C130-4756-9121-78802C8D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991-2738-4B7E-A1DF-01AB02A5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A35-FD63-464A-B56F-532E87E5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899F-EE9E-41CE-8091-FC2C2919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83CE-CC20-4D68-BD33-3E77B37C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D99F-A8C3-495C-B24D-0E96183A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9D72-AAC7-47F6-A078-1E906C5C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DFD6-0C22-48BC-AAC5-37E1D3C8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9521-07FE-4F00-9752-8CDCC0B9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5DC0-1075-487C-87AE-7AD219A7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AB9-25B2-4ABD-9418-DF9FD94C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A57F-B41D-480B-8F5D-3990EA0D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77CD-0D6A-4766-9B7F-666390B0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480F-58A5-47A9-B946-362B382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33A7-7E02-46DF-B3B4-4D30670C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954-459E-4EB4-B27F-F3B3BCB5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D47-E2D3-4EFB-88FC-392B9E2C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228-13E3-4954-B13B-5F316458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06D-47F3-4D2D-AD01-3F632DB7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477-146A-4BBC-A034-F2F7A4BE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FEA-53C8-4F04-8C26-79D2477B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F28-2217-4F8F-A604-84BFA68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532-E52A-4CEE-998A-BFCA0D11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96DB-4F67-4FA8-9D9A-5EA304E924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C18-2EB4-4248-9E83-B59FEAF7B7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auralom.net/images/news/6434_1_produt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klama-mama.ru/media/odej-01-1564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Добрый день, ребята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1" lang="ru-RU" sz="9000" spc="-1" strike="noStrike">
                <a:solidFill>
                  <a:srgbClr val="996666"/>
                </a:solidFill>
                <a:latin typeface="Arial"/>
              </a:rPr>
              <a:t>Что? Где? Когда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76" descr="Девочка машет"/>
          <p:cNvPicPr/>
          <p:nvPr/>
        </p:nvPicPr>
        <p:blipFill>
          <a:blip r:embed="rId1"/>
          <a:stretch/>
        </p:blipFill>
        <p:spPr>
          <a:xfrm>
            <a:off x="611280" y="16286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77" descr="девочка с бантом"/>
          <p:cNvPicPr/>
          <p:nvPr/>
        </p:nvPicPr>
        <p:blipFill>
          <a:blip r:embed="rId2"/>
          <a:stretch/>
        </p:blipFill>
        <p:spPr>
          <a:xfrm>
            <a:off x="7308720" y="162864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78" descr="Девочка с ранцем"/>
          <p:cNvPicPr/>
          <p:nvPr/>
        </p:nvPicPr>
        <p:blipFill>
          <a:blip r:embed="rId3"/>
          <a:stretch/>
        </p:blipFill>
        <p:spPr>
          <a:xfrm>
            <a:off x="1835280" y="1484280"/>
            <a:ext cx="1441440" cy="128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80" descr="Мальчик плачет"/>
          <p:cNvPicPr/>
          <p:nvPr/>
        </p:nvPicPr>
        <p:blipFill>
          <a:blip r:embed="rId4"/>
          <a:stretch/>
        </p:blipFill>
        <p:spPr>
          <a:xfrm>
            <a:off x="7093080" y="4437000"/>
            <a:ext cx="115092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81" descr="Мальчик"/>
          <p:cNvPicPr/>
          <p:nvPr/>
        </p:nvPicPr>
        <p:blipFill>
          <a:blip r:embed="rId5"/>
          <a:stretch/>
        </p:blipFill>
        <p:spPr>
          <a:xfrm>
            <a:off x="1187280" y="4365720"/>
            <a:ext cx="1152720" cy="1511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9290052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464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т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Картинка 4 из 62124"/>
          <p:cNvPicPr/>
          <p:nvPr/>
        </p:nvPicPr>
        <p:blipFill>
          <a:blip r:embed="rId1"/>
          <a:stretch/>
        </p:blipFill>
        <p:spPr>
          <a:xfrm>
            <a:off x="1332000" y="1773360"/>
            <a:ext cx="611964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Постоянно - действующий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066"/>
          <p:cNvPicPr/>
          <p:nvPr/>
        </p:nvPicPr>
        <p:blipFill>
          <a:blip r:embed="rId1"/>
          <a:stretch/>
        </p:blipFill>
        <p:spPr>
          <a:xfrm>
            <a:off x="1116000" y="1844640"/>
            <a:ext cx="6769080" cy="410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50206_2"/>
          <p:cNvPicPr/>
          <p:nvPr/>
        </p:nvPicPr>
        <p:blipFill>
          <a:blip r:embed="rId1"/>
          <a:stretch/>
        </p:blipFill>
        <p:spPr>
          <a:xfrm>
            <a:off x="1619280" y="1628640"/>
            <a:ext cx="5113440" cy="4464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тов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944376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51134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нова 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Картинка 19 из 109132"/>
          <p:cNvPicPr/>
          <p:nvPr/>
        </p:nvPicPr>
        <p:blipFill>
          <a:blip r:embed="rId1"/>
          <a:stretch/>
        </p:blipFill>
        <p:spPr>
          <a:xfrm>
            <a:off x="1258920" y="1628640"/>
            <a:ext cx="7058160" cy="43149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hop_items_catalog_image8185"/>
          <p:cNvPicPr/>
          <p:nvPr/>
        </p:nvPicPr>
        <p:blipFill>
          <a:blip r:embed="rId1"/>
          <a:stretch/>
        </p:blipFill>
        <p:spPr>
          <a:xfrm>
            <a:off x="1692360" y="2205000"/>
            <a:ext cx="63370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бегущая девочка"/>
          <p:cNvPicPr/>
          <p:nvPr/>
        </p:nvPicPr>
        <p:blipFill>
          <a:blip r:embed="rId2"/>
          <a:stretch/>
        </p:blipFill>
        <p:spPr>
          <a:xfrm>
            <a:off x="7093080" y="198900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иды рынков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Organization Chart 16"/>
          <p:cNvGrpSpPr/>
          <p:nvPr/>
        </p:nvGrpSpPr>
        <p:grpSpPr>
          <a:xfrm>
            <a:off x="576360" y="1568520"/>
            <a:ext cx="7920720" cy="4391280"/>
            <a:chOff x="576360" y="1568520"/>
            <a:chExt cx="7920720" cy="4391280"/>
          </a:xfrm>
        </p:grpSpPr>
        <p:cxnSp>
          <p:nvCxnSpPr>
            <p:cNvPr id="168" name="_s1028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484600" y="2378160"/>
              <a:ext cx="878760" cy="277056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29"/>
            <p:cNvCxnSpPr>
              <a:stCxn id="172" idx="0"/>
              <a:endCxn id="170" idx="2"/>
            </p:cNvCxnSpPr>
            <p:nvPr/>
          </p:nvCxnSpPr>
          <p:spPr>
            <a:xfrm flipV="1">
              <a:off x="4539240" y="3324240"/>
              <a:ext cx="3600" cy="87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30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712600" y="2376000"/>
              <a:ext cx="878760" cy="277560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31"/>
            <p:cNvSpPr/>
            <p:nvPr/>
          </p:nvSpPr>
          <p:spPr>
            <a:xfrm>
              <a:off x="3348720" y="156852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одук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ещево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32"/>
            <p:cNvSpPr/>
            <p:nvPr/>
          </p:nvSpPr>
          <p:spPr>
            <a:xfrm>
              <a:off x="57636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остоянн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действующ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ременн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3"/>
            <p:cNvSpPr/>
            <p:nvPr/>
          </p:nvSpPr>
          <p:spPr>
            <a:xfrm>
              <a:off x="334872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т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612108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мелко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 от зрителей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это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Картинка 1 из 29662"/>
          <p:cNvPicPr/>
          <p:nvPr/>
        </p:nvPicPr>
        <p:blipFill>
          <a:blip r:embed="rId1"/>
          <a:stretch/>
        </p:blipFill>
        <p:spPr>
          <a:xfrm>
            <a:off x="1042920" y="1700280"/>
            <a:ext cx="6769080" cy="42368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ясните сами – это 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Картинка 3 из 2351"/>
          <p:cNvPicPr/>
          <p:nvPr/>
        </p:nvPicPr>
        <p:blipFill>
          <a:blip r:embed="rId1"/>
          <a:stretch/>
        </p:blipFill>
        <p:spPr>
          <a:xfrm>
            <a:off x="900000" y="1628640"/>
            <a:ext cx="7129440" cy="40323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ой рынок вспомнили …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Картинка 7 из 29662"/>
          <p:cNvPicPr/>
          <p:nvPr/>
        </p:nvPicPr>
        <p:blipFill>
          <a:blip r:embed="rId1"/>
          <a:stretch/>
        </p:blipFill>
        <p:spPr>
          <a:xfrm>
            <a:off x="1042920" y="1773360"/>
            <a:ext cx="6624720" cy="410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вы видит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57"/>
          <p:cNvPicPr/>
          <p:nvPr/>
        </p:nvPicPr>
        <p:blipFill>
          <a:blip r:embed="rId1"/>
          <a:stretch/>
        </p:blipFill>
        <p:spPr>
          <a:xfrm>
            <a:off x="971640" y="1413000"/>
            <a:ext cx="74041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рынок? Объясните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22 из 2351"/>
          <p:cNvPicPr/>
          <p:nvPr/>
        </p:nvPicPr>
        <p:blipFill>
          <a:blip r:embed="rId1"/>
          <a:stretch/>
        </p:blipFill>
        <p:spPr>
          <a:xfrm>
            <a:off x="1116000" y="1628640"/>
            <a:ext cx="6264360" cy="43149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это рынок, расскажите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Картинка 27 из 2351"/>
          <p:cNvPicPr/>
          <p:nvPr/>
        </p:nvPicPr>
        <p:blipFill>
          <a:blip r:embed="rId1"/>
          <a:stretch/>
        </p:blipFill>
        <p:spPr>
          <a:xfrm>
            <a:off x="1476360" y="1700280"/>
            <a:ext cx="5869080" cy="40989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аш вывод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20070211_64974"/>
          <p:cNvPicPr/>
          <p:nvPr/>
        </p:nvPicPr>
        <p:blipFill>
          <a:blip r:embed="rId1"/>
          <a:stretch/>
        </p:blipFill>
        <p:spPr>
          <a:xfrm>
            <a:off x="755640" y="1461960"/>
            <a:ext cx="7848720" cy="47037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Дайте правильный ответ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Картинка 37 из 13715"/>
          <p:cNvPicPr/>
          <p:nvPr/>
        </p:nvPicPr>
        <p:blipFill>
          <a:blip r:embed="rId1"/>
          <a:stretch/>
        </p:blipFill>
        <p:spPr>
          <a:xfrm>
            <a:off x="1258920" y="1844640"/>
            <a:ext cx="6408720" cy="417672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е слово узнали, где видели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IMG_9312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4243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черкни парные букв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словиц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думайт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девочка с бантом"/>
          <p:cNvPicPr/>
          <p:nvPr/>
        </p:nvPicPr>
        <p:blipFill>
          <a:blip r:embed="rId1"/>
          <a:stretch/>
        </p:blipFill>
        <p:spPr>
          <a:xfrm>
            <a:off x="5580000" y="234936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Аплодисменты"/>
          <p:cNvPicPr/>
          <p:nvPr/>
        </p:nvPicPr>
        <p:blipFill>
          <a:blip r:embed="rId2"/>
          <a:stretch/>
        </p:blipFill>
        <p:spPr>
          <a:xfrm>
            <a:off x="1547640" y="2997360"/>
            <a:ext cx="1295640" cy="151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Мо – лод - 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new_year_001[1]"/>
          <p:cNvPicPr/>
          <p:nvPr/>
        </p:nvPicPr>
        <p:blipFill>
          <a:blip r:embed="rId1"/>
          <a:stretch/>
        </p:blipFill>
        <p:spPr>
          <a:xfrm>
            <a:off x="1763640" y="2276640"/>
            <a:ext cx="6264360" cy="360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звонок"/>
          <p:cNvPicPr/>
          <p:nvPr/>
        </p:nvPicPr>
        <p:blipFill>
          <a:blip r:embed="rId2"/>
          <a:stretch/>
        </p:blipFill>
        <p:spPr>
          <a:xfrm>
            <a:off x="7236000" y="256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40176"/>
          <p:cNvPicPr/>
          <p:nvPr/>
        </p:nvPicPr>
        <p:blipFill>
          <a:blip r:embed="rId1"/>
          <a:stretch/>
        </p:blipFill>
        <p:spPr>
          <a:xfrm>
            <a:off x="1332000" y="256536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Картинка 56 из 768"/>
          <p:cNvPicPr/>
          <p:nvPr/>
        </p:nvPicPr>
        <p:blipFill>
          <a:blip r:embed="rId2"/>
          <a:stretch/>
        </p:blipFill>
        <p:spPr>
          <a:xfrm>
            <a:off x="3851280" y="2060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готовились юноши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1245304075_3"/>
          <p:cNvPicPr/>
          <p:nvPr/>
        </p:nvPicPr>
        <p:blipFill>
          <a:blip r:embed="rId1"/>
          <a:stretch/>
        </p:blipFill>
        <p:spPr>
          <a:xfrm>
            <a:off x="1042920" y="1700280"/>
            <a:ext cx="6842160" cy="417672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лушаем девушек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Картинка 17 из 487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5370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равочное бюро по тем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рт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став и соотношение видов (сортов) товаров,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м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ловой человек, предприним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ения –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ыно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дуктовый или продовольствен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 по реализации продовольственного сырья и пищевых продуктов промышленного изгот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щев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где реализуют вещи и другие промышленные тов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ы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ынок, который имеет закрыто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крыт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который находится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стоянно – действующий рынок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ятельность которого основана на долгосрочном договоре аренды земельного уча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рем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ынок, деятельность которого основана на краткосрочном договоре аренды земельного уча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тов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где продают товар в большом количестве, пар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лкоопт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 котором реализуют разный товар(всё что мож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Торговля – это работ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уч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ые средства, полученные предприятием, фирмой, предпринимателем от продажи товаров или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нежные или иные ценности, получаемые в результате какой-либо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лицо, группа лиц, фирма, предприятие, соперничающие в достижении одних и тех же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ое соперничество за право получения большей доли определённого вида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ая торговл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ый торговец-посредн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покупает товар большими партиями у изготовителя и продаёт их малыми партиями розничным торговц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быль- 1)разница между выруч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р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плата товаров и услуг не в разовом порядке, не в полной сумме, а по част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13107299b8b5fef79e629c4b8d07131c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464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473040"/>
            <a:ext cx="80168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Рын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440000"/>
            <a:ext cx="79930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едующие определе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рос, предложение и ц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родуктовый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-main-pic" descr="Картинка 5 из 1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76244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зови, какой вид рынк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img1.liveinternet.ru/images/foto/b/3/94/2480094/f_14500222.jpg"/>
          <p:cNvPicPr/>
          <p:nvPr/>
        </p:nvPicPr>
        <p:blipFill>
          <a:blip r:embed="rId1"/>
          <a:stretch/>
        </p:blipFill>
        <p:spPr>
          <a:xfrm>
            <a:off x="2050920" y="1920960"/>
            <a:ext cx="5400720" cy="4052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ещево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1 из 2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40100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2:38Z</dcterms:created>
  <dc:creator>Admin</dc:creator>
  <dc:description/>
  <dc:language>en-US</dc:language>
  <cp:lastModifiedBy>LEGION</cp:lastModifiedBy>
  <dcterms:modified xsi:type="dcterms:W3CDTF">2016-01-04T13:41:12Z</dcterms:modified>
  <cp:revision>97</cp:revision>
  <dc:subject/>
  <dc:title>         Торговля</dc:title>
</cp:coreProperties>
</file>