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6.jpeg" ContentType="image/jpeg"/>
  <Override PartName="/ppt/media/image33.jpeg" ContentType="image/jpeg"/>
  <Override PartName="/ppt/media/image4.gif" ContentType="image/gif"/>
  <Override PartName="/ppt/media/image22.jpeg" ContentType="image/jpeg"/>
  <Override PartName="/ppt/media/image27.gif" ContentType="image/gif"/>
  <Override PartName="/ppt/media/image29.jpeg" ContentType="image/jpeg"/>
  <Override PartName="/ppt/media/image8.jpeg" ContentType="image/jpeg"/>
  <Override PartName="/ppt/media/image10.jpeg" ContentType="image/jpeg"/>
  <Override PartName="/ppt/media/image13.jpeg" ContentType="image/jpeg"/>
  <Override PartName="/ppt/media/image28.gif" ContentType="image/gif"/>
  <Override PartName="/ppt/media/image14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3.gif" ContentType="image/gif"/>
  <Override PartName="/ppt/media/image32.jpeg" ContentType="image/jpeg"/>
  <Override PartName="/ppt/media/image12.jpeg" ContentType="image/jpeg"/>
  <Override PartName="/ppt/media/image5.gif" ContentType="image/gif"/>
  <Override PartName="/ppt/media/image7.jpeg" ContentType="image/jpeg"/>
  <Override PartName="/ppt/media/image11.jpeg" ContentType="image/jpeg"/>
  <Override PartName="/ppt/media/image1.gif" ContentType="image/gif"/>
  <Override PartName="/ppt/media/image15.jpeg" ContentType="image/jpeg"/>
  <Override PartName="/ppt/media/image16.gif" ContentType="image/gif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EA83-AE9C-468D-B50E-5F38E0EF828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брый день, ребята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а:            Что? Где? Когд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- действующ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нова 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рынк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т зрител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эт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е сами – это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 вспомнили 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ы види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рынок? Объясн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й это рынок, расскажите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ш вывод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йте правильный ответ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е слово узнали, где виде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черкни парные букв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овиц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омн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умайт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 – лод - цы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готовились юнош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шаем девушек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очное бюро по т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ссортимент – состав и соотношение видов (сортов) товаров,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изнесмен – деловой человек, предпринимател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ения –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 или продовольственный – рынок по реализации продовольственного сырья и пищевых продуктов промышленного изгото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 – рынок, где реализуют вещи и другие промышленные товар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ытый – рынок, который имеет закрытое помещ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рытый – рынок, который находится на улиц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оянно – действующий рынок, деятельность которого основана на долг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 – рынок, деятельность которого основана на краткосрочном договоре аренды земельного участ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рынок – где продают товар в большом количестве, парт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ализированный рынок – на котором реализуют разный товар(всё что можно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это рабо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ручка – денежные средства, полученные предприятием, фирмой, предпринимателем от продажи товаров или услу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ход – денежные или иные ценности, получаемые в результате какой-либо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т – лицо, группа лиц, фирма, предприятие, соперничающие в достижении одних и тех же ц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куренция – экономическое соперничество за право получения большей доли определённого вида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ая торговля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овый торговец-посредник, который покупает товар большими партиями у изготовителя и продаёт их малыми партиями розничным торговц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быль- 1)разница между выру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рочка - оплата товаров и услуг не в разовом порядке, не в полной сумме, а по частя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ремен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едующие определ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спрос, предложение и це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дуктов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, какой вид ры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в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97AD-AF06-407F-84B3-1676A2F71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8121-2577-49F2-9E2C-3A1FE4AC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84B7-A6C9-470E-9288-3F7081D19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9770-5EAC-4F5C-A95D-8F67150CF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5E005-EB80-4900-A98C-F4CC11AC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D1881-256C-40BC-A620-F538B341A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5B73-624A-49F2-AB57-7F226B725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00431-1D32-433B-B5DA-87F3439F6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8C94-6AFB-45B7-9E8F-3AE27063D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DAD61-B480-4EF1-A844-6B05B674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05AE8-F00A-4D5E-99D2-19315E49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C534-1C82-456A-BBD9-649BB8FC7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7009-DEC7-44A5-9AFB-29EE52C7D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645F9-89DF-4DB7-B439-9ED76E7C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E57B5-DDBF-4AC8-8E18-82BCDC3D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959C6-DE8C-4318-B558-E37A4DFFC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B9E36-46BB-4217-B083-1915991BA4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86B4-2064-436D-8CA2-522DAAA9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C5CB-167F-4E68-95CC-ED0C5FECD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9EB40-9F37-43AE-B473-810B102C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564F-1235-4F9B-BCD1-23316094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F85E-92AB-4D48-B06C-6D1F6A37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3F26-5B89-40BD-B447-9966BEE3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B5F8-917F-4144-898C-283490AB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33BDB-7F31-4BC2-93B8-6E2AE2802D0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94107-E283-47E8-A299-9EDD1C8CB34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zauralom.net/images/news/6434_1_produtky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klama-mama.ru/media/odej-01-15649.jpg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200" spc="-1" strike="noStrike">
                <a:solidFill>
                  <a:srgbClr val="ffffff"/>
                </a:solidFill>
                <a:latin typeface="Arial"/>
              </a:rPr>
              <a:t>Добрый день, ребята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000" spc="-1" strike="noStrike">
                <a:solidFill>
                  <a:srgbClr val="000000"/>
                </a:solidFill>
                <a:latin typeface="Arial"/>
              </a:rPr>
              <a:t>Игра</a:t>
            </a: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:            </a:t>
            </a:r>
            <a:r>
              <a:rPr b="1" lang="ru-RU" sz="9000" spc="-1" strike="noStrike">
                <a:solidFill>
                  <a:srgbClr val="996666"/>
                </a:solidFill>
                <a:latin typeface="Arial"/>
              </a:rPr>
              <a:t>Что? Где? Когда?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76" descr="Девочка машет"/>
          <p:cNvPicPr/>
          <p:nvPr/>
        </p:nvPicPr>
        <p:blipFill>
          <a:blip r:embed="rId1"/>
          <a:stretch/>
        </p:blipFill>
        <p:spPr>
          <a:xfrm>
            <a:off x="611280" y="1628640"/>
            <a:ext cx="1296720" cy="1295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77" descr="девочка с бантом"/>
          <p:cNvPicPr/>
          <p:nvPr/>
        </p:nvPicPr>
        <p:blipFill>
          <a:blip r:embed="rId2"/>
          <a:stretch/>
        </p:blipFill>
        <p:spPr>
          <a:xfrm>
            <a:off x="7308720" y="1628640"/>
            <a:ext cx="695520" cy="12193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378" descr="Девочка с ранцем"/>
          <p:cNvPicPr/>
          <p:nvPr/>
        </p:nvPicPr>
        <p:blipFill>
          <a:blip r:embed="rId3"/>
          <a:stretch/>
        </p:blipFill>
        <p:spPr>
          <a:xfrm>
            <a:off x="1835280" y="1484280"/>
            <a:ext cx="1441440" cy="12873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380" descr="Мальчик плачет"/>
          <p:cNvPicPr/>
          <p:nvPr/>
        </p:nvPicPr>
        <p:blipFill>
          <a:blip r:embed="rId4"/>
          <a:stretch/>
        </p:blipFill>
        <p:spPr>
          <a:xfrm>
            <a:off x="7093080" y="4437000"/>
            <a:ext cx="1150920" cy="1368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81" descr="Мальчик"/>
          <p:cNvPicPr/>
          <p:nvPr/>
        </p:nvPicPr>
        <p:blipFill>
          <a:blip r:embed="rId5"/>
          <a:stretch/>
        </p:blipFill>
        <p:spPr>
          <a:xfrm>
            <a:off x="1187280" y="4365720"/>
            <a:ext cx="1152720" cy="1511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P9290052"/>
          <p:cNvPicPr/>
          <p:nvPr/>
        </p:nvPicPr>
        <p:blipFill>
          <a:blip r:embed="rId1"/>
          <a:stretch/>
        </p:blipFill>
        <p:spPr>
          <a:xfrm>
            <a:off x="971640" y="1700280"/>
            <a:ext cx="7129440" cy="4464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Открыты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Картинка 4 из 62124"/>
          <p:cNvPicPr/>
          <p:nvPr/>
        </p:nvPicPr>
        <p:blipFill>
          <a:blip r:embed="rId1"/>
          <a:stretch/>
        </p:blipFill>
        <p:spPr>
          <a:xfrm>
            <a:off x="1332000" y="1773360"/>
            <a:ext cx="6119640" cy="42480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ffffff"/>
                </a:solidFill>
                <a:latin typeface="Arial"/>
              </a:rPr>
              <a:t>Постоянно - действующий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5" descr="2066"/>
          <p:cNvPicPr/>
          <p:nvPr/>
        </p:nvPicPr>
        <p:blipFill>
          <a:blip r:embed="rId1"/>
          <a:stretch/>
        </p:blipFill>
        <p:spPr>
          <a:xfrm>
            <a:off x="1116000" y="1844640"/>
            <a:ext cx="6769080" cy="4105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5" descr="50206_2"/>
          <p:cNvPicPr/>
          <p:nvPr/>
        </p:nvPicPr>
        <p:blipFill>
          <a:blip r:embed="rId1"/>
          <a:stretch/>
        </p:blipFill>
        <p:spPr>
          <a:xfrm>
            <a:off x="1619280" y="1628640"/>
            <a:ext cx="5113440" cy="446436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Оптов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7944376"/>
          <p:cNvPicPr/>
          <p:nvPr/>
        </p:nvPicPr>
        <p:blipFill>
          <a:blip r:embed="rId1"/>
          <a:stretch/>
        </p:blipFill>
        <p:spPr>
          <a:xfrm>
            <a:off x="971640" y="1484280"/>
            <a:ext cx="7416720" cy="511344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Снова 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5" descr="Картинка 19 из 109132"/>
          <p:cNvPicPr/>
          <p:nvPr/>
        </p:nvPicPr>
        <p:blipFill>
          <a:blip r:embed="rId1"/>
          <a:stretch/>
        </p:blipFill>
        <p:spPr>
          <a:xfrm>
            <a:off x="1258920" y="1628640"/>
            <a:ext cx="7058160" cy="431496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7" descr="shop_items_catalog_image8185"/>
          <p:cNvPicPr/>
          <p:nvPr/>
        </p:nvPicPr>
        <p:blipFill>
          <a:blip r:embed="rId1"/>
          <a:stretch/>
        </p:blipFill>
        <p:spPr>
          <a:xfrm>
            <a:off x="1692360" y="2205000"/>
            <a:ext cx="6337080" cy="33847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бегущая девочка"/>
          <p:cNvPicPr/>
          <p:nvPr/>
        </p:nvPicPr>
        <p:blipFill>
          <a:blip r:embed="rId2"/>
          <a:stretch/>
        </p:blipFill>
        <p:spPr>
          <a:xfrm>
            <a:off x="7093080" y="1989000"/>
            <a:ext cx="857160" cy="9907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иды рынков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7" name="Organization Chart 16"/>
          <p:cNvGrpSpPr/>
          <p:nvPr/>
        </p:nvGrpSpPr>
        <p:grpSpPr>
          <a:xfrm>
            <a:off x="576360" y="1568520"/>
            <a:ext cx="7920720" cy="4391280"/>
            <a:chOff x="576360" y="1568520"/>
            <a:chExt cx="7920720" cy="4391280"/>
          </a:xfrm>
        </p:grpSpPr>
        <p:cxnSp>
          <p:nvCxnSpPr>
            <p:cNvPr id="168" name="_s1028"/>
            <p:cNvCxnSpPr>
              <a:stCxn id="169" idx="0"/>
              <a:endCxn id="170" idx="2"/>
            </p:cNvCxnSpPr>
            <p:nvPr/>
          </p:nvCxnSpPr>
          <p:spPr>
            <a:xfrm flipV="1" rot="16200000">
              <a:off x="5484600" y="2378160"/>
              <a:ext cx="878760" cy="277056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1029"/>
            <p:cNvCxnSpPr>
              <a:stCxn id="172" idx="0"/>
              <a:endCxn id="170" idx="2"/>
            </p:cNvCxnSpPr>
            <p:nvPr/>
          </p:nvCxnSpPr>
          <p:spPr>
            <a:xfrm flipV="1">
              <a:off x="4539240" y="3324240"/>
              <a:ext cx="3600" cy="878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1030"/>
            <p:cNvCxnSpPr>
              <a:stCxn id="174" idx="0"/>
              <a:endCxn id="170" idx="2"/>
            </p:cNvCxnSpPr>
            <p:nvPr/>
          </p:nvCxnSpPr>
          <p:spPr>
            <a:xfrm flipH="1" flipV="1" rot="5400000">
              <a:off x="2712600" y="2376000"/>
              <a:ext cx="878760" cy="277560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0" name="_s1031"/>
            <p:cNvSpPr/>
            <p:nvPr/>
          </p:nvSpPr>
          <p:spPr>
            <a:xfrm>
              <a:off x="3348720" y="156852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родук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ещево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_s1032"/>
            <p:cNvSpPr/>
            <p:nvPr/>
          </p:nvSpPr>
          <p:spPr>
            <a:xfrm>
              <a:off x="57636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Постоянно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действующи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временн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1033"/>
            <p:cNvSpPr/>
            <p:nvPr/>
          </p:nvSpPr>
          <p:spPr>
            <a:xfrm>
              <a:off x="334872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ткрыт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_s1034"/>
            <p:cNvSpPr/>
            <p:nvPr/>
          </p:nvSpPr>
          <p:spPr>
            <a:xfrm>
              <a:off x="6121080" y="4203360"/>
              <a:ext cx="2376000" cy="1756440"/>
            </a:xfrm>
            <a:prstGeom prst="roundRect">
              <a:avLst>
                <a:gd name="adj" fmla="val 16667"/>
              </a:avLst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Arial"/>
                </a:rPr>
                <a:t>мелкооптовый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 от зрителей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Какой рынок находится в нашем селе?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25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Назовите определения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это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5" descr="Картинка 1 из 29662"/>
          <p:cNvPicPr/>
          <p:nvPr/>
        </p:nvPicPr>
        <p:blipFill>
          <a:blip r:embed="rId1"/>
          <a:stretch/>
        </p:blipFill>
        <p:spPr>
          <a:xfrm>
            <a:off x="1042920" y="1700280"/>
            <a:ext cx="6769080" cy="423684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опрос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Где можно купить хороший подарок и недорого?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Объясните сами – это …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7" descr="Картинка 3 из 2351"/>
          <p:cNvPicPr/>
          <p:nvPr/>
        </p:nvPicPr>
        <p:blipFill>
          <a:blip r:embed="rId1"/>
          <a:stretch/>
        </p:blipFill>
        <p:spPr>
          <a:xfrm>
            <a:off x="900000" y="1628640"/>
            <a:ext cx="7129440" cy="403236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ой рынок вспомнили …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5" descr="Картинка 7 из 29662"/>
          <p:cNvPicPr/>
          <p:nvPr/>
        </p:nvPicPr>
        <p:blipFill>
          <a:blip r:embed="rId1"/>
          <a:stretch/>
        </p:blipFill>
        <p:spPr>
          <a:xfrm>
            <a:off x="1042920" y="1773360"/>
            <a:ext cx="6624720" cy="410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Что вы видите?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5" descr="157"/>
          <p:cNvPicPr/>
          <p:nvPr/>
        </p:nvPicPr>
        <p:blipFill>
          <a:blip r:embed="rId1"/>
          <a:stretch/>
        </p:blipFill>
        <p:spPr>
          <a:xfrm>
            <a:off x="971640" y="1413000"/>
            <a:ext cx="7404120" cy="46800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рынок? Объясните …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5" descr="Картинка 22 из 2351"/>
          <p:cNvPicPr/>
          <p:nvPr/>
        </p:nvPicPr>
        <p:blipFill>
          <a:blip r:embed="rId1"/>
          <a:stretch/>
        </p:blipFill>
        <p:spPr>
          <a:xfrm>
            <a:off x="1116000" y="1628640"/>
            <a:ext cx="6264360" cy="431496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й это рынок, расскажите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5" descr="Картинка 27 из 2351"/>
          <p:cNvPicPr/>
          <p:nvPr/>
        </p:nvPicPr>
        <p:blipFill>
          <a:blip r:embed="rId1"/>
          <a:stretch/>
        </p:blipFill>
        <p:spPr>
          <a:xfrm>
            <a:off x="1476360" y="1700280"/>
            <a:ext cx="5869080" cy="4098960"/>
          </a:xfrm>
          <a:prstGeom prst="rect">
            <a:avLst/>
          </a:prstGeom>
          <a:ln w="0">
            <a:noFill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Ваш вывод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20070211_64974"/>
          <p:cNvPicPr/>
          <p:nvPr/>
        </p:nvPicPr>
        <p:blipFill>
          <a:blip r:embed="rId1"/>
          <a:stretch/>
        </p:blipFill>
        <p:spPr>
          <a:xfrm>
            <a:off x="755640" y="1461960"/>
            <a:ext cx="7848720" cy="470376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Дайте правильный ответ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5" descr="Картинка 37 из 13715"/>
          <p:cNvPicPr/>
          <p:nvPr/>
        </p:nvPicPr>
        <p:blipFill>
          <a:blip r:embed="rId1"/>
          <a:stretch/>
        </p:blipFill>
        <p:spPr>
          <a:xfrm>
            <a:off x="1258920" y="1844640"/>
            <a:ext cx="6408720" cy="417672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ое слово узнали, где видели 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5" descr="IMG_9312"/>
          <p:cNvPicPr/>
          <p:nvPr/>
        </p:nvPicPr>
        <p:blipFill>
          <a:blip r:embed="rId1"/>
          <a:stretch/>
        </p:blipFill>
        <p:spPr>
          <a:xfrm>
            <a:off x="971640" y="1844640"/>
            <a:ext cx="7056360" cy="424332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черкни парные буквы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МРВУЫВНОМУ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Рынок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Пословица: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Твои деньги, твои и глаза: гляди сам, что покупаешь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ru-RU" sz="8000" spc="-1" strike="noStrike">
                <a:solidFill>
                  <a:srgbClr val="ffffff"/>
                </a:solidFill>
                <a:latin typeface="Arial"/>
              </a:rPr>
              <a:t>Торговля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Arial"/>
              </a:rPr>
              <a:t>Рынки.              Виды рынков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Запомни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Торговля,   Рынок –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Кого выручит,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000" spc="-1" strike="noStrike">
                <a:solidFill>
                  <a:srgbClr val="000000"/>
                </a:solidFill>
                <a:latin typeface="Arial"/>
              </a:rPr>
              <a:t>А кого выучит.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одумайте!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4" descr="девочка с бантом"/>
          <p:cNvPicPr/>
          <p:nvPr/>
        </p:nvPicPr>
        <p:blipFill>
          <a:blip r:embed="rId1"/>
          <a:stretch/>
        </p:blipFill>
        <p:spPr>
          <a:xfrm>
            <a:off x="5580000" y="2349360"/>
            <a:ext cx="1584360" cy="2808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Аплодисменты"/>
          <p:cNvPicPr/>
          <p:nvPr/>
        </p:nvPicPr>
        <p:blipFill>
          <a:blip r:embed="rId2"/>
          <a:stretch/>
        </p:blipFill>
        <p:spPr>
          <a:xfrm>
            <a:off x="1547640" y="2997360"/>
            <a:ext cx="1295640" cy="1512720"/>
          </a:xfrm>
          <a:prstGeom prst="rect">
            <a:avLst/>
          </a:prstGeom>
          <a:ln w="0">
            <a:noFill/>
          </a:ln>
        </p:spPr>
      </p:pic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ffff"/>
                </a:solidFill>
                <a:latin typeface="Arial"/>
              </a:rPr>
              <a:t>Мо – лод - цы!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ольшое спасибо за работу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new_year_001[1]"/>
          <p:cNvPicPr/>
          <p:nvPr/>
        </p:nvPicPr>
        <p:blipFill>
          <a:blip r:embed="rId1"/>
          <a:stretch/>
        </p:blipFill>
        <p:spPr>
          <a:xfrm>
            <a:off x="1763640" y="2276640"/>
            <a:ext cx="6264360" cy="36003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5" descr="звонок"/>
          <p:cNvPicPr/>
          <p:nvPr/>
        </p:nvPicPr>
        <p:blipFill>
          <a:blip r:embed="rId2"/>
          <a:stretch/>
        </p:blipFill>
        <p:spPr>
          <a:xfrm>
            <a:off x="7236000" y="2565360"/>
            <a:ext cx="1008000" cy="8636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Мелкооптовый рынок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5" descr="40176"/>
          <p:cNvPicPr/>
          <p:nvPr/>
        </p:nvPicPr>
        <p:blipFill>
          <a:blip r:embed="rId1"/>
          <a:stretch/>
        </p:blipFill>
        <p:spPr>
          <a:xfrm>
            <a:off x="1332000" y="2565360"/>
            <a:ext cx="2114640" cy="2819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9" descr="Картинка 56 из 768"/>
          <p:cNvPicPr/>
          <p:nvPr/>
        </p:nvPicPr>
        <p:blipFill>
          <a:blip r:embed="rId2"/>
          <a:stretch/>
        </p:blipFill>
        <p:spPr>
          <a:xfrm>
            <a:off x="3851280" y="206064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2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Приготовились юноши …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5" descr="1245304075_3"/>
          <p:cNvPicPr/>
          <p:nvPr/>
        </p:nvPicPr>
        <p:blipFill>
          <a:blip r:embed="rId1"/>
          <a:stretch/>
        </p:blipFill>
        <p:spPr>
          <a:xfrm>
            <a:off x="1042920" y="1700280"/>
            <a:ext cx="6842160" cy="4176720"/>
          </a:xfrm>
          <a:prstGeom prst="rect">
            <a:avLst/>
          </a:prstGeom>
          <a:ln w="0">
            <a:noFill/>
          </a:ln>
        </p:spPr>
      </p:pic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Слушаем девушек …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Picture 5" descr="Картинка 17 из 487"/>
          <p:cNvPicPr/>
          <p:nvPr/>
        </p:nvPicPr>
        <p:blipFill>
          <a:blip r:embed="rId1"/>
          <a:stretch/>
        </p:blipFill>
        <p:spPr>
          <a:xfrm>
            <a:off x="1042920" y="1628640"/>
            <a:ext cx="7058160" cy="453708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правочное бюро по теме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ссортимен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состав и соотношение видов (сортов) товаров,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инициативная экономическая деятельность, ставящая главными целями получение прибыли и развитие собственного де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знесмен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ловой человек, предпринимател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Определения –</a:t>
            </a:r>
            <a:br>
              <a:rPr sz="3800"/>
            </a:b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Рынок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- имущественный комплекс, состоящий из земельного участка, изолированного от прилегающей территории, расположенном на нём объектов торговли, предназначенный для свободных торгов между продавцами и покупат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родуктовый или продовольственн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 по реализации продовольственного сырья и пищевых продуктов промышленного изготов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Вещево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где реализуют вещи и другие промышленные това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Крытый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– рынок, который имеет закрытое помещ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Открытый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– рынок, который находится на улиц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Arial"/>
              </a:rPr>
              <a:t>Постоянно – действующий рынок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деятельность которого основана на долгосрочном договоре аренды земельного участ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озничная торговля – торговля товарами поштучно или в небольших количествах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уги – блага, предоставляемые не в виде вещей, а в форме деятельн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ая деятельность, результаты которой в удовлетворении потребностей насел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Временный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рынок, деятельность которого основана на краткосрочном договоре аренды земельного участ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птов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где продают товар в большом количестве, партия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Мелкооптовы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рынок, на котором осуществляется реализация товаров потребительского назначения маленькими партиями и штучно(в розниц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пециализированный рыно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на котором реализуют разный товар(всё что можно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Arial"/>
              </a:rPr>
              <a:t>Торговля – это работ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Хозяйственная деятельность по обороту товаров, купле и продаж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000000"/>
                </a:solidFill>
                <a:latin typeface="Arial"/>
              </a:rPr>
              <a:t>Торговля связана с собственным производством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лкооптовый рынок – это розничный сбытч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озничный – товар продаётся штучно, по одном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ополия – отрасль, защищена юридически от конкуренции, обычно это государственное предприятие. Монополия относится к экономике рынка, при естественной монополии достигается эффективное использование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учка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денежные средства, полученные предприятием, фирмой, предпринимателем от продажи товаров или услу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ги – особый товар, выражающий стоимость всех других товаров и обмениваемый на любой из них; металлические или бумажные знаки, являющиеся мерой стоимости при купле-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хо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денежные или иные ценности, получаемые в результате какой-либо дея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т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лицо, группа лиц, фирма, предприятие, соперничающие в достижении одних и тех же цел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нкуренци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кономическое соперничество за право получения большей доли определённого вида ресурс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ая торговля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– торговля крупными партиями товара, потребляемого в значительном количестве или продаваемого затем в розниц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Оптовый торговец-посредник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, который покупает товар большими партиями у изготовителя и продаёт их малыми партиями розничным торговца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Прибыль- 1)разница между выруч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й от продажи товаров (услуг) и затратами, необходимыми для производства и организации продажи этих товаров (услуг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превышение доходами расхо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ссрочк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плата товаров и услуг не в разовом порядке, не в полной сумме, а по част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спорт – вывоз за границу товаров, проданных иностранным покупател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Временный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5" descr="13107299b8b5fef79e629c4b8d07131c"/>
          <p:cNvPicPr/>
          <p:nvPr/>
        </p:nvPicPr>
        <p:blipFill>
          <a:blip r:embed="rId1"/>
          <a:stretch/>
        </p:blipFill>
        <p:spPr>
          <a:xfrm>
            <a:off x="1042920" y="1628640"/>
            <a:ext cx="6842160" cy="4464360"/>
          </a:xfrm>
          <a:prstGeom prst="rect">
            <a:avLst/>
          </a:prstGeom>
          <a:ln w="0">
            <a:noFill/>
          </a:ln>
        </p:spPr>
      </p:pic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473040"/>
            <a:ext cx="8016840" cy="4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6000" spc="-1" strike="noStrike">
                <a:solidFill>
                  <a:srgbClr val="ffffff"/>
                </a:solidFill>
                <a:latin typeface="Arial"/>
              </a:rPr>
              <a:t>Рынок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0920" y="1440000"/>
            <a:ext cx="7993080" cy="50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- это сотрудничество людей, в результате которого продавцы могут продавать, а покупатели - купить товары и услуг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Следующие определения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000000"/>
                </a:solidFill>
                <a:latin typeface="Arial"/>
              </a:rPr>
              <a:t>Место купли-продажи товаров и услуг, заключения торговых сделок;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отношения, связанные с обменом товаров и услуг, в результате которых формируются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прос, предложение и цен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Arial"/>
              </a:rPr>
              <a:t>Продуктовый</a:t>
            </a:r>
            <a:endParaRPr b="0" lang="en-US" sz="5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i-main-pic" descr="Картинка 5 из 18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773360"/>
            <a:ext cx="4762440" cy="41148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0" y="41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Назови, какой вид рынка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http://img1.liveinternet.ru/images/foto/b/3/94/2480094/f_14500222.jpg"/>
          <p:cNvPicPr/>
          <p:nvPr/>
        </p:nvPicPr>
        <p:blipFill>
          <a:blip r:embed="rId1"/>
          <a:stretch/>
        </p:blipFill>
        <p:spPr>
          <a:xfrm>
            <a:off x="2050920" y="1920960"/>
            <a:ext cx="5400720" cy="40528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6"/>
          <p:cNvSpPr/>
          <p:nvPr/>
        </p:nvSpPr>
        <p:spPr>
          <a:xfrm>
            <a:off x="0" y="535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ещевой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5" descr="Картинка 1 из 235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1773360"/>
            <a:ext cx="7272360" cy="4010040"/>
          </a:xfrm>
          <a:prstGeom prst="rect">
            <a:avLst/>
          </a:prstGeom>
          <a:ln w="0">
            <a:noFill/>
          </a:ln>
        </p:spPr>
      </p:pic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0T14:12:38Z</dcterms:created>
  <dc:creator>Admin</dc:creator>
  <dc:description/>
  <dc:language>en-US</dc:language>
  <cp:lastModifiedBy>LEGION</cp:lastModifiedBy>
  <dcterms:modified xsi:type="dcterms:W3CDTF">2016-01-04T13:41:12Z</dcterms:modified>
  <cp:revision>97</cp:revision>
  <dc:subject/>
  <dc:title>         Торговля</dc:title>
</cp:coreProperties>
</file>