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6.jpeg" ContentType="image/jpeg"/>
  <Override PartName="/ppt/media/image33.jpeg" ContentType="image/jpeg"/>
  <Override PartName="/ppt/media/image4.gif" ContentType="image/gif"/>
  <Override PartName="/ppt/media/image22.jpeg" ContentType="image/jpeg"/>
  <Override PartName="/ppt/media/image27.gif" ContentType="image/gif"/>
  <Override PartName="/ppt/media/image29.jpeg" ContentType="image/jpeg"/>
  <Override PartName="/ppt/media/image8.jpeg" ContentType="image/jpeg"/>
  <Override PartName="/ppt/media/image10.jpeg" ContentType="image/jpeg"/>
  <Override PartName="/ppt/media/image13.jpeg" ContentType="image/jpeg"/>
  <Override PartName="/ppt/media/image28.gif" ContentType="image/gif"/>
  <Override PartName="/ppt/media/image14.jpeg" ContentType="image/jpeg"/>
  <Override PartName="/ppt/media/image9.jpeg" ContentType="image/jpeg"/>
  <Override PartName="/ppt/media/image30.jpeg" ContentType="image/jpeg"/>
  <Override PartName="/ppt/media/image31.png" ContentType="image/png"/>
  <Override PartName="/ppt/media/image3.gif" ContentType="image/gif"/>
  <Override PartName="/ppt/media/image32.jpeg" ContentType="image/jpeg"/>
  <Override PartName="/ppt/media/image12.jpeg" ContentType="image/jpeg"/>
  <Override PartName="/ppt/media/image5.gif" ContentType="image/gif"/>
  <Override PartName="/ppt/media/image7.jpeg" ContentType="image/jpeg"/>
  <Override PartName="/ppt/media/image11.jpeg" ContentType="image/jpeg"/>
  <Override PartName="/ppt/media/image1.gif" ContentType="image/gif"/>
  <Override PartName="/ppt/media/image15.jpeg" ContentType="image/jpeg"/>
  <Override PartName="/ppt/media/image16.gif" ContentType="image/gif"/>
  <Override PartName="/ppt/media/image17.jpeg" ContentType="image/jpeg"/>
  <Override PartName="/ppt/media/image18.jpeg" ContentType="image/jpeg"/>
  <Override PartName="/ppt/media/image2.gif" ContentType="image/gif"/>
  <Override PartName="/ppt/media/image19.jpeg" ContentType="image/jpe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85D9-3399-420F-B5F1-B669D4A965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рый день, ребят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ра:            Что? Где? Ког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рый день, ребят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ра:            Что? Где? Ког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рыт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ыт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ткрыт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стоянно - действующ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о - действующ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ремен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пт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нова опт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ова опт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елкоопт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опт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иды рын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рын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 от зрител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рынок находится в нашем сел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овите определения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 от зрител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рынок находится в нашем сел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овите определения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Что э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э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можно купить хороший подарок и недорог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можно купить хороший подарок и недорог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бъясните сами – это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ите сами – это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акой рынок вспомнили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рынок вспомнили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Что вы види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ы види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акой рынок? Объясните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рынок? Объясните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акой это рынок, расскажите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это рынок, расскажите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аш вывод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ш вывод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айте правильный ответ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йте правильный ответ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е слово узнали, где видели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е слово узнали, где видели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черкни парные бук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ВУЫВНОМ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черкни парные бук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ВУЫВНОМ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овиц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вои деньги, твои и глаза: гляди сам, что покупаеш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овиц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вои деньги, твои и глаза: гляди сам, что покупаеш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ынки.              Виды рын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.              Виды рын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омн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,   Рынок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о выручи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кого выуч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омн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,   Рынок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о выручи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кого выуч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думайт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умайт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 – лод - цы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ое спасибо за работ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 – лод - цы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ое спасибо за работ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елкоопт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опт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иготовились юноши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готовились юноши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лушаем девушек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шаем девушек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очное бюро по те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сортимент – состав и соотношение видов (сортов) товаров,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 – инициативная экономическая деятельность, ставящая главными целями получение прибыли и развитие собственного де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мен – деловой человек, предпринимат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очное бюро по те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сортимент – состав и соотношение видов (сортов) товаров,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 – инициативная экономическая деятельность, ставящая главными целями получение прибыли и развитие собственного де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мен – деловой человек, предпринимат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 –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- имущественный комплекс, состоящий из земельного участка, изолированного от прилегающей территории, расположенном на нём объектов торговли, предназначенный для свободных торгов между продавцами и покупате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овый или продовольственный – рынок по реализации продовольственного сырья и пищевых продуктов промышленного изгото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вой – рынок, где реализуют вещи и другие промышленные това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ытый – рынок, который имеет закрытое помещ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ый – рынок, который находится на улиц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о – действующий рынок, деятельность которого основана на долгосрочном договоре аренды земельного участ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 –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- имущественный комплекс, состоящий из земельного участка, изолированного от прилегающей территории, расположенном на нём объектов торговли, предназначенный для свободных торгов между продавцами и покупате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овый или продовольственный – рынок по реализации продовольственного сырья и пищевых продуктов промышленного изгото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вой – рынок, где реализуют вещи и другие промышленные това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ытый – рынок, который имеет закрытое помещ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ый – рынок, который находится на улиц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о – действующий рынок, деятельность которого основана на долгосрочном договоре аренды земельного участ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зничная торговля – торговля товарами поштучно или в небольших количествах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и – блага, предоставляемые не в виде вещей, а в форме деятель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деятельность, результаты которой в удовлетворении потребностей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зничная торговля – торговля товарами поштучно или в небольших количествах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и – блага, предоставляемые не в виде вещей, а в форме деятель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деятельность, результаты которой в удовлетворении потребностей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ый – рынок, деятельность которого основана на краткосрочном договоре аренды земельного участ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ый рынок – где продают товар в большом количестве, парт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оптовый – рынок, на котором осуществляется реализация товаров потребительского назначения маленькими партиями и штучно(в розниц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ированный рынок – на котором реализуют разный товар(всё что можно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ый – рынок, деятельность которого основана на краткосрочном договоре аренды земельного участ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ый рынок – где продают товар в большом количестве, парт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оптовый – рынок, на котором осуществляется реализация товаров потребительского назначения маленькими партиями и штучно(в розниц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ированный рынок – на котором реализуют разный товар(всё что можно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– это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зяйственная деятельность по обороту товаров, купле и продаж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связана с собственным производ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– это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зяйственная деятельность по обороту товаров, купле и продаж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связана с собственным производ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оптовый рынок – это розничный сбытч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зничный – товар продаётся штучно, по од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ополия – отрасль, защищена юридически от конкуренции, обычно это государственное предприятие. Монополия относится к экономике рынка, при естественной монополии достигается эффективное использование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оптовый рынок – это розничный сбытч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зничный – товар продаётся штучно, по од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ополия – отрасль, защищена юридически от конкуренции, обычно это государственное предприятие. Монополия относится к экономике рынка, при естественной монополии достигается эффективное использование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учка – денежные средства, полученные предприятием, фирмой, предпринимателем от продажи товаров или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 – особый товар, выражающий стоимость всех других товаров и обмениваемый на любой из них; металлические или бумажные знаки, являющиеся мерой стоимости при купле-продаж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учка – денежные средства, полученные предприятием, фирмой, предпринимателем от продажи товаров или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 – особый товар, выражающий стоимость всех других товаров и обмениваемый на любой из них; металлические или бумажные знаки, являющиеся мерой стоимости при купле-продаж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 – денежные или иные ценности, получаемые в результате какой-либо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 – лицо, группа лиц, фирма, предприятие, соперничающие в достижении одних и тех же ц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ция – экономическое соперничество за право получения большей доли определённого вида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 – денежные или иные ценности, получаемые в результате какой-либо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 – лицо, группа лиц, фирма, предприятие, соперничающие в достижении одних и тех же ц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ция – экономическое соперничество за право получения большей доли определённого вида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ая торговля – торговля крупными партиями товара, потребляемого в значительном количестве или продаваемого затем в розниц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ый торговец-посредник, который покупает товар большими партиями у изготовителя и продаёт их малыми партиями розничным торговц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ая торговля – торговля крупными партиями товара, потребляемого в значительном количестве или продаваемого затем в розниц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ый торговец-посредник, который покупает товар большими партиями у изготовителя и продаёт их малыми партиями розничным торговц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ыль- 1)разница между выру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й от продажи товаров (услуг) и затратами, необходимыми для производства и организации продажи этих товаров (услуг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превышение доходами рас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рочка - оплата товаров и услуг не в разовом порядке, не в полной сумме, а по част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ыль- 1)разница между выру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й от продажи товаров (услуг) и затратами, необходимыми для производства и организации продажи этих товаров (услуг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превышение доходами рас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рочка - оплата товаров и услуг не в разовом порядке, не в полной сумме, а по част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орт – вывоз за границу товаров, проданных иностранным покупател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орт – вывоз за границу товаров, проданных иностранным покупател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ремен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о сотрудничество людей, в результате которого продавцы могут продавать, а покупатели - купить товары 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о сотрудничество людей, в результате которого продавцы могут продавать, а покупатели - купить товары 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ующие опреде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купли-продажи товаров и услуг, заключения торговых сдел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отношения, связанные с обменом товаров и услуг, в результате которых формируются спрос, предложение и ц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ующие опреде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купли-продажи товаров и услуг, заключения торговых сдел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отношения, связанные с обменом товаров и услуг, в результате которых формируются спрос, предложение и ц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дукт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зови, какой вид рын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ови, какой вид рын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еще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6316-C0D4-4F9A-983D-5294C6F5E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FEC8-BD74-4C24-B46D-08F21C88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6579-59E4-4CD2-B412-01B56A94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7A7A-F659-49C8-ABAF-6A516D93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F74B-E384-4975-9EB5-8DDB7A026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CDFF-73E4-442A-80B0-3142AB25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441A-F695-4054-AC84-220775C3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4D62-A789-4B28-95D6-0A1A60E3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1DE9-9D3B-4645-9D8C-54A8956D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5141-80D1-4FE2-816D-1F3C0100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5C6E-871B-417A-9CF4-B2EF67FD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E9E5-6925-4A87-97F9-3DD9F1AD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4938-5AD7-4ABC-A23D-8FE6B5C5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945A-1158-4263-B92B-F4C80E43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B2BB-DCD0-4C38-B024-3DC08740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4599-0EBF-4BD3-9389-73287786A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30AC-A7A2-4E1C-A297-0801FA844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9846-8E64-4DFB-96E5-316E002E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C7A2-9104-4B60-AAC8-91BBC76D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ACE4-0595-4537-99C8-852C88D6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2147-5FD9-4E6A-8003-2A75FC54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4BD0-0264-40B8-AC82-891FA9CF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E4AC-9D93-4203-B0CA-CFA80DE0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0D92-741C-471C-A67B-E0C95860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4A28-D5B9-4E4C-8136-07E83789CAF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1A00-5FB1-4D74-BFBE-958FAC302FA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zauralom.net/images/news/6434_1_produtky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eklama-mama.ru/media/odej-01-15649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Arial"/>
              </a:rPr>
              <a:t>Добрый день, ребята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000" spc="-1" strike="noStrike">
                <a:solidFill>
                  <a:srgbClr val="000000"/>
                </a:solidFill>
                <a:latin typeface="Arial"/>
              </a:rPr>
              <a:t>Игра</a:t>
            </a: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:            </a:t>
            </a:r>
            <a:r>
              <a:rPr b="1" lang="ru-RU" sz="9000" spc="-1" strike="noStrike">
                <a:solidFill>
                  <a:srgbClr val="996666"/>
                </a:solidFill>
                <a:latin typeface="Arial"/>
              </a:rPr>
              <a:t>Что? Где? Когда?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76" descr="Девочка машет"/>
          <p:cNvPicPr/>
          <p:nvPr/>
        </p:nvPicPr>
        <p:blipFill>
          <a:blip r:embed="rId1"/>
          <a:stretch/>
        </p:blipFill>
        <p:spPr>
          <a:xfrm>
            <a:off x="611280" y="1628640"/>
            <a:ext cx="1296720" cy="1295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77" descr="девочка с бантом"/>
          <p:cNvPicPr/>
          <p:nvPr/>
        </p:nvPicPr>
        <p:blipFill>
          <a:blip r:embed="rId2"/>
          <a:stretch/>
        </p:blipFill>
        <p:spPr>
          <a:xfrm>
            <a:off x="7308720" y="1628640"/>
            <a:ext cx="695520" cy="1219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78" descr="Девочка с ранцем"/>
          <p:cNvPicPr/>
          <p:nvPr/>
        </p:nvPicPr>
        <p:blipFill>
          <a:blip r:embed="rId3"/>
          <a:stretch/>
        </p:blipFill>
        <p:spPr>
          <a:xfrm>
            <a:off x="1835280" y="1484280"/>
            <a:ext cx="1441440" cy="1287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80" descr="Мальчик плачет"/>
          <p:cNvPicPr/>
          <p:nvPr/>
        </p:nvPicPr>
        <p:blipFill>
          <a:blip r:embed="rId4"/>
          <a:stretch/>
        </p:blipFill>
        <p:spPr>
          <a:xfrm>
            <a:off x="7093080" y="4437000"/>
            <a:ext cx="1150920" cy="1368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81" descr="Мальчик"/>
          <p:cNvPicPr/>
          <p:nvPr/>
        </p:nvPicPr>
        <p:blipFill>
          <a:blip r:embed="rId5"/>
          <a:stretch/>
        </p:blipFill>
        <p:spPr>
          <a:xfrm>
            <a:off x="1187280" y="4365720"/>
            <a:ext cx="1152720" cy="15112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Крытый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P9290052"/>
          <p:cNvPicPr/>
          <p:nvPr/>
        </p:nvPicPr>
        <p:blipFill>
          <a:blip r:embed="rId1"/>
          <a:stretch/>
        </p:blipFill>
        <p:spPr>
          <a:xfrm>
            <a:off x="971640" y="1700280"/>
            <a:ext cx="7129440" cy="4464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Открытый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Картинка 4 из 62124"/>
          <p:cNvPicPr/>
          <p:nvPr/>
        </p:nvPicPr>
        <p:blipFill>
          <a:blip r:embed="rId1"/>
          <a:stretch/>
        </p:blipFill>
        <p:spPr>
          <a:xfrm>
            <a:off x="1332000" y="1773360"/>
            <a:ext cx="6119640" cy="42480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Постоянно - действующий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2066"/>
          <p:cNvPicPr/>
          <p:nvPr/>
        </p:nvPicPr>
        <p:blipFill>
          <a:blip r:embed="rId1"/>
          <a:stretch/>
        </p:blipFill>
        <p:spPr>
          <a:xfrm>
            <a:off x="1116000" y="1844640"/>
            <a:ext cx="6769080" cy="41054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Временный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50206_2"/>
          <p:cNvPicPr/>
          <p:nvPr/>
        </p:nvPicPr>
        <p:blipFill>
          <a:blip r:embed="rId1"/>
          <a:stretch/>
        </p:blipFill>
        <p:spPr>
          <a:xfrm>
            <a:off x="1619280" y="1628640"/>
            <a:ext cx="5113440" cy="446436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Оптовы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7944376"/>
          <p:cNvPicPr/>
          <p:nvPr/>
        </p:nvPicPr>
        <p:blipFill>
          <a:blip r:embed="rId1"/>
          <a:stretch/>
        </p:blipFill>
        <p:spPr>
          <a:xfrm>
            <a:off x="971640" y="1484280"/>
            <a:ext cx="7416720" cy="511344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Снова оптовый рынок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Картинка 19 из 109132"/>
          <p:cNvPicPr/>
          <p:nvPr/>
        </p:nvPicPr>
        <p:blipFill>
          <a:blip r:embed="rId1"/>
          <a:stretch/>
        </p:blipFill>
        <p:spPr>
          <a:xfrm>
            <a:off x="1258920" y="1628640"/>
            <a:ext cx="7058160" cy="43149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Мелкооптовый рынок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shop_items_catalog_image8185"/>
          <p:cNvPicPr/>
          <p:nvPr/>
        </p:nvPicPr>
        <p:blipFill>
          <a:blip r:embed="rId1"/>
          <a:stretch/>
        </p:blipFill>
        <p:spPr>
          <a:xfrm>
            <a:off x="1692360" y="2205000"/>
            <a:ext cx="6337080" cy="3384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бегущая девочка"/>
          <p:cNvPicPr/>
          <p:nvPr/>
        </p:nvPicPr>
        <p:blipFill>
          <a:blip r:embed="rId2"/>
          <a:stretch/>
        </p:blipFill>
        <p:spPr>
          <a:xfrm>
            <a:off x="7093080" y="1989000"/>
            <a:ext cx="857160" cy="9907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Виды рынков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Organization Chart 16"/>
          <p:cNvGrpSpPr/>
          <p:nvPr/>
        </p:nvGrpSpPr>
        <p:grpSpPr>
          <a:xfrm>
            <a:off x="576360" y="1568520"/>
            <a:ext cx="7920720" cy="4391280"/>
            <a:chOff x="576360" y="1568520"/>
            <a:chExt cx="7920720" cy="4391280"/>
          </a:xfrm>
        </p:grpSpPr>
        <p:cxnSp>
          <p:nvCxnSpPr>
            <p:cNvPr id="168" name="_s1028"/>
            <p:cNvCxnSpPr>
              <a:stCxn id="169" idx="0"/>
              <a:endCxn id="170" idx="2"/>
            </p:cNvCxnSpPr>
            <p:nvPr/>
          </p:nvCxnSpPr>
          <p:spPr>
            <a:xfrm flipV="1" rot="16200000">
              <a:off x="5484600" y="2378160"/>
              <a:ext cx="878760" cy="2770560"/>
            </a:xfrm>
            <a:prstGeom prst="bentConnector3">
              <a:avLst>
                <a:gd name="adj1" fmla="val 129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1029"/>
            <p:cNvCxnSpPr>
              <a:stCxn id="172" idx="0"/>
              <a:endCxn id="170" idx="2"/>
            </p:cNvCxnSpPr>
            <p:nvPr/>
          </p:nvCxnSpPr>
          <p:spPr>
            <a:xfrm flipV="1">
              <a:off x="4539240" y="3324240"/>
              <a:ext cx="3600" cy="878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1030"/>
            <p:cNvCxnSpPr>
              <a:stCxn id="174" idx="0"/>
              <a:endCxn id="170" idx="2"/>
            </p:cNvCxnSpPr>
            <p:nvPr/>
          </p:nvCxnSpPr>
          <p:spPr>
            <a:xfrm flipH="1" flipV="1" rot="5400000">
              <a:off x="2712600" y="2376000"/>
              <a:ext cx="878760" cy="2775600"/>
            </a:xfrm>
            <a:prstGeom prst="bentConnector3">
              <a:avLst>
                <a:gd name="adj1" fmla="val 129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0" name="_s1031"/>
            <p:cNvSpPr/>
            <p:nvPr/>
          </p:nvSpPr>
          <p:spPr>
            <a:xfrm>
              <a:off x="3348720" y="1568520"/>
              <a:ext cx="2376000" cy="1756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Продуктовы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Вещево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032"/>
            <p:cNvSpPr/>
            <p:nvPr/>
          </p:nvSpPr>
          <p:spPr>
            <a:xfrm>
              <a:off x="576360" y="4203360"/>
              <a:ext cx="2376000" cy="1756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Постоянно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действующи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временны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033"/>
            <p:cNvSpPr/>
            <p:nvPr/>
          </p:nvSpPr>
          <p:spPr>
            <a:xfrm>
              <a:off x="3348720" y="4203360"/>
              <a:ext cx="2376000" cy="1756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Крыты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Открыты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034"/>
            <p:cNvSpPr/>
            <p:nvPr/>
          </p:nvSpPr>
          <p:spPr>
            <a:xfrm>
              <a:off x="6121080" y="4203360"/>
              <a:ext cx="2376000" cy="1756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Оптовы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мелкооптовы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опрос от зрителей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2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Какой рынок находится в нашем селе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Назовите определения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Что это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Картинка 1 из 29662"/>
          <p:cNvPicPr/>
          <p:nvPr/>
        </p:nvPicPr>
        <p:blipFill>
          <a:blip r:embed="rId1"/>
          <a:stretch/>
        </p:blipFill>
        <p:spPr>
          <a:xfrm>
            <a:off x="1042920" y="1700280"/>
            <a:ext cx="6769080" cy="423684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опрос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Где можно купить хороший подарок и недорого?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бъясните сами – это …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" descr="Картинка 3 из 2351"/>
          <p:cNvPicPr/>
          <p:nvPr/>
        </p:nvPicPr>
        <p:blipFill>
          <a:blip r:embed="rId1"/>
          <a:stretch/>
        </p:blipFill>
        <p:spPr>
          <a:xfrm>
            <a:off x="900000" y="1628640"/>
            <a:ext cx="7129440" cy="403236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акой рынок вспомнили …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Картинка 7 из 29662"/>
          <p:cNvPicPr/>
          <p:nvPr/>
        </p:nvPicPr>
        <p:blipFill>
          <a:blip r:embed="rId1"/>
          <a:stretch/>
        </p:blipFill>
        <p:spPr>
          <a:xfrm>
            <a:off x="1042920" y="1773360"/>
            <a:ext cx="6624720" cy="410184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Что вы видите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157"/>
          <p:cNvPicPr/>
          <p:nvPr/>
        </p:nvPicPr>
        <p:blipFill>
          <a:blip r:embed="rId1"/>
          <a:stretch/>
        </p:blipFill>
        <p:spPr>
          <a:xfrm>
            <a:off x="971640" y="1413000"/>
            <a:ext cx="7404120" cy="468000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ой рынок? Объясните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Картинка 22 из 2351"/>
          <p:cNvPicPr/>
          <p:nvPr/>
        </p:nvPicPr>
        <p:blipFill>
          <a:blip r:embed="rId1"/>
          <a:stretch/>
        </p:blipFill>
        <p:spPr>
          <a:xfrm>
            <a:off x="1116000" y="1628640"/>
            <a:ext cx="6264360" cy="431496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Какой это рынок, расскажите …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Картинка 27 из 2351"/>
          <p:cNvPicPr/>
          <p:nvPr/>
        </p:nvPicPr>
        <p:blipFill>
          <a:blip r:embed="rId1"/>
          <a:stretch/>
        </p:blipFill>
        <p:spPr>
          <a:xfrm>
            <a:off x="1476360" y="1700280"/>
            <a:ext cx="5869080" cy="409896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Ваш вывод …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20070211_64974"/>
          <p:cNvPicPr/>
          <p:nvPr/>
        </p:nvPicPr>
        <p:blipFill>
          <a:blip r:embed="rId1"/>
          <a:stretch/>
        </p:blipFill>
        <p:spPr>
          <a:xfrm>
            <a:off x="755640" y="1461960"/>
            <a:ext cx="7848720" cy="470376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Дайте правильный ответ 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Картинка 37 из 13715"/>
          <p:cNvPicPr/>
          <p:nvPr/>
        </p:nvPicPr>
        <p:blipFill>
          <a:blip r:embed="rId1"/>
          <a:stretch/>
        </p:blipFill>
        <p:spPr>
          <a:xfrm>
            <a:off x="1258920" y="1844640"/>
            <a:ext cx="6408720" cy="417672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Какое слово узнали, где видели …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IMG_9312"/>
          <p:cNvPicPr/>
          <p:nvPr/>
        </p:nvPicPr>
        <p:blipFill>
          <a:blip r:embed="rId1"/>
          <a:stretch/>
        </p:blipFill>
        <p:spPr>
          <a:xfrm>
            <a:off x="971640" y="1844640"/>
            <a:ext cx="7056360" cy="42433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черкни парные букв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МРВУЫВНОМУК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Рынок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Пословица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Твои деньги, твои и глаза: гляди сам, что покупаеш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Торговля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000000"/>
                </a:solidFill>
                <a:latin typeface="Arial"/>
              </a:rPr>
              <a:t>Рынки.              Виды рынков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Запомни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Торговля,   Рынок –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Кого выручит,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А кого выучит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одумайте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девочка с бантом"/>
          <p:cNvPicPr/>
          <p:nvPr/>
        </p:nvPicPr>
        <p:blipFill>
          <a:blip r:embed="rId1"/>
          <a:stretch/>
        </p:blipFill>
        <p:spPr>
          <a:xfrm>
            <a:off x="5580000" y="2349360"/>
            <a:ext cx="1584360" cy="2808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Аплодисменты"/>
          <p:cNvPicPr/>
          <p:nvPr/>
        </p:nvPicPr>
        <p:blipFill>
          <a:blip r:embed="rId2"/>
          <a:stretch/>
        </p:blipFill>
        <p:spPr>
          <a:xfrm>
            <a:off x="1547640" y="2997360"/>
            <a:ext cx="1295640" cy="151272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Мо – лод - цы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ольшое спасибо за работу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new_year_001[1]"/>
          <p:cNvPicPr/>
          <p:nvPr/>
        </p:nvPicPr>
        <p:blipFill>
          <a:blip r:embed="rId1"/>
          <a:stretch/>
        </p:blipFill>
        <p:spPr>
          <a:xfrm>
            <a:off x="1763640" y="2276640"/>
            <a:ext cx="6264360" cy="3600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звонок"/>
          <p:cNvPicPr/>
          <p:nvPr/>
        </p:nvPicPr>
        <p:blipFill>
          <a:blip r:embed="rId2"/>
          <a:stretch/>
        </p:blipFill>
        <p:spPr>
          <a:xfrm>
            <a:off x="7236000" y="2565360"/>
            <a:ext cx="1008000" cy="86364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Мелкооптовый рынок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40176"/>
          <p:cNvPicPr/>
          <p:nvPr/>
        </p:nvPicPr>
        <p:blipFill>
          <a:blip r:embed="rId1"/>
          <a:stretch/>
        </p:blipFill>
        <p:spPr>
          <a:xfrm>
            <a:off x="1332000" y="2565360"/>
            <a:ext cx="2114640" cy="2819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Картинка 56 из 768"/>
          <p:cNvPicPr/>
          <p:nvPr/>
        </p:nvPicPr>
        <p:blipFill>
          <a:blip r:embed="rId2"/>
          <a:stretch/>
        </p:blipFill>
        <p:spPr>
          <a:xfrm>
            <a:off x="3851280" y="206064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риготовились юноши 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5" descr="1245304075_3"/>
          <p:cNvPicPr/>
          <p:nvPr/>
        </p:nvPicPr>
        <p:blipFill>
          <a:blip r:embed="rId1"/>
          <a:stretch/>
        </p:blipFill>
        <p:spPr>
          <a:xfrm>
            <a:off x="1042920" y="1700280"/>
            <a:ext cx="6842160" cy="417672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Слушаем девушек …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Картинка 17 из 487"/>
          <p:cNvPicPr/>
          <p:nvPr/>
        </p:nvPicPr>
        <p:blipFill>
          <a:blip r:embed="rId1"/>
          <a:stretch/>
        </p:blipFill>
        <p:spPr>
          <a:xfrm>
            <a:off x="1042920" y="1628640"/>
            <a:ext cx="7058160" cy="453708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правочное бюро по тем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сортимен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состав и соотношение видов (сортов) товаров, услу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зне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инициативная экономическая деятельность, ставящая главными целями получение прибыли и развитие собственного д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знесмен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деловой человек, предпринимат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Определения –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ынок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имущественный комплекс, состоящий из земельного участка, изолированного от прилегающей территории, расположенном на нём объектов торговли, предназначенный для свободных торгов между продавцами и покупате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одуктовый или продовольственны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рынок по реализации продовольственного сырья и пищевых продуктов промышленного изгото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ещево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рынок, где реализуют вещи и другие промышленные това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рыты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рынок, который имеет закрытое помещ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ткрыты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рынок, который находится на ули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стоянно – действующий рынок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деятельность которого основана на долгосрочном договоре аренды земельного участ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зничная торговля – торговля товарами поштучно или в небольших количества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уги – блага, предоставляемые не в виде вещей, а в форме деяте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номическая деятельность, результаты которой в удовлетворении потребностей насе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ременны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рынок, деятельность которого основана на краткосрочном договоре аренды земельного участ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птовый рын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где продают товар в большом количестве, парт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елкооптов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рынок, на котором осуществляется реализация товаров потребительского назначения маленькими партиями и штучно(в розниц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пециализированный рын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на котором реализуют разный товар(всё что мож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Торговля – это работ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озяйственная деятельность по обороту товаров, купле и продаж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Торговля связана с собственным производством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лкооптовый рынок – это розничный сбытч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зничный – товар продаётся штучно, по одн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нополия – отрасль, защищена юридически от конкуренции, обычно это государственное предприятие. Монополия относится к экономике рынка, при естественной монополии достигается эффективное использование ресур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руч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денежные средства, полученные предприятием, фирмой, предпринимателем от продажи товаров или услу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ньги – особый товар, выражающий стоимость всех других товаров и обмениваемый на любой из них; металлические или бумажные знаки, являющиеся мерой стоимости при купле-прода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х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денежные или иные ценности, получаемые в результате какой-либо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курен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лицо, группа лиц, фирма, предприятие, соперничающие в достижении одних и тех же ц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курен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кономическое соперничество за право получения большей доли определённого вида ресур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товая торговл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торговля крупными партиями товара, потребляемого в значительном количестве или продаваемого затем в розниц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товый торговец-посредник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который покупает товар большими партиями у изготовителя и продаёт их малыми партиями розничным торговца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Прибыль- 1)разница между выруч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й от продажи товаров (услуг) и затратами, необходимыми для производства и организации продажи этих товаров (услуг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превышение доходами расх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роч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плата товаров и услуг не в разовом порядке, не в полной сумме, а по частя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орт – вывоз за границу товаров, проданных иностранным покупател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Временны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5" descr="13107299b8b5fef79e629c4b8d07131c"/>
          <p:cNvPicPr/>
          <p:nvPr/>
        </p:nvPicPr>
        <p:blipFill>
          <a:blip r:embed="rId1"/>
          <a:stretch/>
        </p:blipFill>
        <p:spPr>
          <a:xfrm>
            <a:off x="1042920" y="1628640"/>
            <a:ext cx="6842160" cy="446436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473040"/>
            <a:ext cx="801684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Рынок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0920" y="1440000"/>
            <a:ext cx="7993080" cy="50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11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- это сотрудничество людей, в результате которого продавцы могут продавать, а покупатели - купить товары и услуг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ледующие определе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Место купли-продажи товаров и услуг, заключения торговых сделок;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номические отношения, связанные с обменом товаров и услуг, в результате которых формируются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рос, предложение и це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ffff"/>
                </a:solidFill>
                <a:latin typeface="Arial"/>
              </a:rPr>
              <a:t>Продуктовый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i-main-pic" descr="Картинка 5 из 18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1773360"/>
            <a:ext cx="4762440" cy="41148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Назови, какой вид рынка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http://img1.liveinternet.ru/images/foto/b/3/94/2480094/f_14500222.jpg"/>
          <p:cNvPicPr/>
          <p:nvPr/>
        </p:nvPicPr>
        <p:blipFill>
          <a:blip r:embed="rId1"/>
          <a:stretch/>
        </p:blipFill>
        <p:spPr>
          <a:xfrm>
            <a:off x="2050920" y="1920960"/>
            <a:ext cx="5400720" cy="40528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0" y="535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ещевой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Картинка 1 из 235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773360"/>
            <a:ext cx="7272360" cy="401004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14:12:38Z</dcterms:created>
  <dc:creator>Admin</dc:creator>
  <dc:description/>
  <dc:language>en-US</dc:language>
  <cp:lastModifiedBy>LEGION</cp:lastModifiedBy>
  <dcterms:modified xsi:type="dcterms:W3CDTF">2016-01-04T13:41:12Z</dcterms:modified>
  <cp:revision>97</cp:revision>
  <dc:subject/>
  <dc:title>         Торговля</dc:title>
</cp:coreProperties>
</file>