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B30C-7160-44AE-9B27-85F79D11585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– 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: 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: вы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для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ные ресурсы – значение для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(2,19%) сосредоточен в полярных и горных ледниках (1,74%) и в пресных водах рек, озер и болот (0,45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льзование - это порядок, условия и формы использования водных ресурсов, включающее в себ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опотребление 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вый - опреснение соленой морской воды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торой - опреснение засолённых пресных подземных вод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тоды «производства» пресной в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ретий - утилизация воды в твёрдой фаз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своевременное удовлетворение потребностей в пресной воде необходимого количества и качеств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дное хозяйст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реальных потребностей в производстве сельхозпродукции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 - природно-климатических условий (от среднегодовой температуры - в США она равна +100, а в России - +50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емельные рес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 - уровня развития сельскохозяйственных технологи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зация земель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логизация земельных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762-86A2-4953-AD00-8A252F4F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841-4DB7-43F5-84DA-AD7D00C1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192-A88F-416C-AC71-E772C620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F609-9249-41CD-8D88-5D972F75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29E7-B357-4D08-A9C0-58E5DBD1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6F4A-C49F-48B5-AF59-552B8072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2A57-CA22-4625-84C7-122765F8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C6DE-50D7-4018-9D63-0FE2A6EC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2E1F-8F8D-4D77-9585-3BFD9496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4680-C377-4036-83AA-7E46EB90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A771-E4C2-44FE-9356-69C9287A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432-5D67-4F85-B6E9-B0D5397C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9444-FE71-4A15-BEC0-2A5BFD86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2FF4-6856-458D-83AB-4F0F1E6D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78C1-8982-497A-A392-5BC22C73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5960-7A93-4261-8FA5-FBCADE00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D919-922F-4EE6-BA87-4C0B33FA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FA3-0422-4B5B-ACE8-7CB8A4C8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5A3A-05AB-4005-A1F4-C18F499B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757A-621A-4CBE-A8F9-56C53890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B7F-A5A9-43CA-92D3-4209C191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2B8-CC7D-4917-AB95-DF34754F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D24-6A54-4524-943B-B4E80CC8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300-B608-489C-9104-8308B28E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3AF8-01DB-43DB-A087-E8C4183826B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8067-F0D6-4CE3-A879-4CBCC7182E2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8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ahoma"/>
              </a:rPr>
              <a:t>Под земельными ресурсами понимаются определенные площади поверхности суши с различными ландшафтами, почвами, климатическими условиями и рядом других свойств. Эти ресурсы занимают часть поверхности суши (около 150 млн. кв. км) нашей планеты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езкое ограничение влияния отраслей промышленности и коммунально-бытового хозяйства на сельское хозяйство (при открытой добыче полезных ископаемых нарушены более 2 млн. га сельхозугодий)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 - поиск и использование новых земель пригодных для сельхозпроизводств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 - оптимизация использования земельного фонда с точки зрения конечных результатов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уществует три способа восстановления сельскохозяйственных земель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ый способ - неполное воспроизводство естественного плодород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торой способ - простое воспроизводство (природоохранный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етий способ - расширенное воспроизводство (природоулучающий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cc"/>
                </a:solidFill>
                <a:latin typeface="Tahoma"/>
              </a:rPr>
              <a:t>Рассмотрим теперь землю с позиций общей экономической теории.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качестве средства производства земля (по сравнению с искусственно создаваемыми средствами производства) имеет специфические черты (рассматривая которые важно иметь в виду региональные и географические особенности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1-х - она продукт Природы (значит, она не имеет стоимости, т.к. нет затраты труда на её создание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-2-х - период естественного восстановления почвенного покрова значительно выше периода искусственного восстановления “обычных” средств производства(сотни лет: на восстановление 2,5 см требуется 300 лет, 20 см - до 5-7 тысяч лет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значит, что земля, требует свербережного отношения к себ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отивном случае всемирный голод неизбежен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3-х – она обладает присущими только ей одной свойствами воспроизводства. При научно-обоснованных подходах возможен значительный рост плодородия земл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4-х - земля совмещает в себе функции предмета и средства труд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5-х - земля на сегодняшний день является незаменимым ресурсо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емельные ресурсы: вывод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чит, отношение к земельным ресурсам предопределяет переход на эколого-экономическую траекторию разви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этого следует, что сохранение природных свойств почв, поддержание и восстановление их плодородия, контроль за качественным состоянием, проведение мероприятий по рациональному использованию и охране являются основными задачами государства в вопросах использования земельного фон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ес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2184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для экономик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первых, это важный конструкционный материал для строительного комплекс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-вторых, это основное сырьё для целлюлозно-бумажной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-третьих, - лес используется для производства мебел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ahoma"/>
              </a:rPr>
              <a:t>Лесные ресурсы – значение для экологи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водорегулирующий - это лес, растущий у истоков рек и по берегам водоемов, а также занимающий те места на водосборах, которые определяют водность данного бассейна. Такой лес регулирует водный сток и защищает водоем от подмыва берег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почвозащитный - естественные или посаженные лесные полосы предназначенные для создания благоприятных климатических условий развития культурных растений и защиты полей от эрозии и пыльных бур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екреационный - естественный или посаженный, используемый для различных видов отдыха и санаторно-курортного ле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с рыбоохранный - естественная или посаженная лесная растительность по берегам водоемов, которая создает необходимые условия для жизни и размножения ценных видов рыб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России все леса государственного значения делятся на три группы (по различным категориям защищенности)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ервая (площадь 20% от всей площади лесов) - леса в населённых пунктах, вдоль рек, трасс и т.д. - вырубка разрешена с согласия федеральных или местных властей;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вторая (10%) - ограниченная эксплуатационной ценностью: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третья (70%) - промышленная вырубка - должны быть неистощимыми.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Если всю поверхность нашей планеты принять за 100%, то вода покрывает 71% этой поверхности Земли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этом 96,5% всего объёма гидросферы занимают моря и океаны. Этой воды очень много, но она не пригодна для хозяйственных нуж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развития экономики и биосферы огромное значение имеет пресная вода, потенциал которо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(2,19%)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осредоточен в полярных и горных ледниках (1,74%) и в пресных водах рек, озер и болот (0,45%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бщей структуре земельных ресурсов важнейшим компонентом окружающей природной среды и центральным связующим звеном биосферы, обладающим способностью преобразования и накопления солнечной энергии, плодородием, служащим основным источником получения продуктов питания, средой существования растительного и животного мира, базой социально-экономического развития и стратегическим природным ресурсом, являются почв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С точки зрения вовлечения водных ресурсов в хозяйственный оборот следует различать водопользование и водопотребление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льзование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- это порядок, условия и формы использования водных ресурсов, включающее в себя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первых, использование водных объектов для удовлетворения любых нужд населения и народного хозяйства; и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о-вторых, использование воды в хозяйственных или бытовых целях без отвода ее из водотока, путем «пропускания ее через себя" (гидроэлектростанция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90000"/>
              </a:lnSpc>
              <a:spcBef>
                <a:spcPts val="67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Tahoma"/>
              </a:rPr>
              <a:t>Водопотребление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- это потребление воды из водного объекта или систем водоснабжения. Различают возвратное (с возвращением забранной воды в водотоки) и безвозвратное водопотреблени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8013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Первый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- опреснение соленой морской вод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граничение - себестоимость опреснения в 100 и более раз выше забора вод из открытых водных систе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торо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опреснение засолённых пресных подземных вод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Факторы,  лимитирующие подземный водозабор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- неравномерность их распределения по Земл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2 - трудность переработки засоленных пресных вод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 - быстро снижающиеся темпы их естественного возобновления с одновременным ростом глубины залегания водоносных плас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Методы «производства» пресной вод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Третий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- утилизация воды в твёрдой фаз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первых - водоотдача горных ледник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о-вторых - транспорт льда из полярных рай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бе эти возможности считаются потенциально негативными по отдалённым экологическим последствия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69796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Если рассматривать водное хозяйство как отрасль, то её цель -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Tahoma"/>
              </a:rPr>
              <a:t>своевременное удовлетворение потребностей в пресной воде необходимого количества и качеств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её материально-техническую базу входя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75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- гидротехнические сооружения (плотины, дамбы и т.д.), т.е. все основные фонды, обеспечивающие потребителей водными ресурсами на данном участке водоснабжения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дное хозяйств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- инфраструктура, доставляющая воду потребителям (водопроводы, насосы и т.д.);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- водо-охранные основные фонды (очистные сооружения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чвенная составляющая служит естественным базисом, на котором строится практически вся сельскохозяйственная деятельность человека, поставляющая населению основную массу продовольствия и значительную часть технического сырья для промышленност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брабатываемые земли дают 88% продуктов питания (в энергетическом эквиваленте) для современного человечества, 10% получают с естественных пастбищ и лесных угодий и лишь 2% - из ресурсов Мирового океа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Рассматривая землю с "прикладных" экономических позиций отметим, что для экономического развития особую ценность представляют земли сельскохозяйственного назначения, которые занимают примерно треть поверхности суш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вою очередь, все сельхозугодия делятся на пашню (27%), а также пастбища и сенокосы(73%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дельный вес сельскохозяйственных земель различается по странам. Например, в России он составляет 25%, Китае - 40%, Индии -60; США - 53%, Японии - 7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 проценты зависят в частности от следующих основных факторов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льных потребностей в производстве сельхозпродукц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родно-климатических условий (от среднегодовой температуры - в США она равна +10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в России - +5</a:t>
            </a:r>
            <a:r>
              <a:rPr b="0" lang="ru-RU" sz="3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среднегодовой величины осадков (в России в зонах со среднегодовым количеством осадков более 700 мм находится 1% пашни, а в США - 60%)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Земельные ресурс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ровня развития сельскохозяйственных технологи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 всём мире как тенденция наблюдается снижение удельного веса пашни. Нивелировать это можно за счёт более высокой урожайности, которая (по зерновым и зернобобовым культурам) в 2000 году составляла (в ц/га): Япония - 60; США - 50; Китай - 40; Россия - 20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Экологизация земельных ресурсов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егодня в России единственный путь к росту социо-эколого-экономической эффективности сельскохозяйственного производства - его экологизаци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бычно выделяют четыре нап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 - борьба с эрозией почв (надо переходить с химических на биотехнологи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8:39:14Z</dcterms:created>
  <dc:creator>user</dc:creator>
  <dc:description/>
  <dc:language>en-US</dc:language>
  <cp:lastModifiedBy>LEGION</cp:lastModifiedBy>
  <dcterms:modified xsi:type="dcterms:W3CDTF">2016-01-04T13:41:19Z</dcterms:modified>
  <cp:revision>25</cp:revision>
  <dc:subject/>
  <dc:title>Земельные ресурсы</dc:title>
</cp:coreProperties>
</file>