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065E-178A-4E7D-8DBC-A11A313F1A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4400-8329-44B5-9B62-62F53962B2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DEFD-2044-4F63-9CFE-B7B7FDB040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F6A7-87A6-43F8-B362-555A1DCFFD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0DE8-9187-4469-A3B3-9D5DD8EC58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EC32-35E1-4AFE-99D8-3ADB1087E5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2A4B-6291-4457-939B-457533CFA2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5E86-5164-4C85-9948-9339C67696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9816-441F-4746-A7A2-7D2DF07D2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4AD1-0419-4271-93FF-2C09F15F9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A923-FA58-4656-AFF7-762104AD00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3B6E-BC09-4CF6-B01F-BBA48E56D1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CF25-3AEF-4877-A9B1-E1E4BDE205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A182-3155-4C37-911F-ACE3B5057B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122B-1F80-430A-A908-415E44B3AA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D09A-5A46-4956-A08B-953087EA0D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A3FF-FC64-4E12-9F9B-2528026AB7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72EE-E92E-4177-A02A-D29F990F2C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13F1-9048-43B3-9E08-C133AA87D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4855-FC7F-4DD8-9044-D8E636B103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3F79-DE1D-4FF8-9562-6AB5F160A0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3F46-69AC-470D-94EB-1C3021F85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40B-E75C-4D18-AFC8-944236FD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D09-9E0A-4EE3-AF7A-65184E07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6B9-5346-4FF8-A548-BEE0FF5F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8C06-0414-4AA3-ADF4-E1529A6B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D5F-7B87-4115-8B26-E05D667C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799-40D3-4A63-A09B-7A2AE875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D11-EAF4-4464-B21E-249BBB35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C1D-C623-46FF-9EC8-FA1D7E55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A6E-FDB3-4FEA-A34F-D34CC22F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D1B-31E5-4306-BE95-F29B1F28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CC4-032C-4211-84A1-FB819221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ECA-20A7-4C04-AF33-99738C4E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82E1-0654-4756-9E05-4549C622C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28760" y="249984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уга В. С. Соловьё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е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138560" y="3057480"/>
            <a:ext cx="48578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осозерцание Вл. Соловьё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мира в древнерусской иконопис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рение в краск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ческие предположения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Трубецкой Е (1)"/>
          <p:cNvPicPr/>
          <p:nvPr/>
        </p:nvPicPr>
        <p:blipFill>
          <a:blip r:embed="rId1"/>
          <a:stretch/>
        </p:blipFill>
        <p:spPr>
          <a:xfrm>
            <a:off x="46656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8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ы круга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798200"/>
            <a:ext cx="323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 Лопат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Трубецко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3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Лопатин (3)"/>
          <p:cNvPicPr/>
          <p:nvPr/>
        </p:nvPicPr>
        <p:blipFill>
          <a:blip r:embed="rId1"/>
          <a:stretch/>
        </p:blipFill>
        <p:spPr>
          <a:xfrm>
            <a:off x="3778200" y="1619280"/>
            <a:ext cx="1971720" cy="252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5" descr="Трубецкой С (2)"/>
          <p:cNvPicPr/>
          <p:nvPr/>
        </p:nvPicPr>
        <p:blipFill>
          <a:blip r:embed="rId2"/>
          <a:stretch/>
        </p:blipFill>
        <p:spPr>
          <a:xfrm>
            <a:off x="5307120" y="2787480"/>
            <a:ext cx="2076480" cy="25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6" descr="Трубецкой Е (1)"/>
          <p:cNvPicPr/>
          <p:nvPr/>
        </p:nvPicPr>
        <p:blipFill>
          <a:blip r:embed="rId3"/>
          <a:stretch/>
        </p:blipFill>
        <p:spPr>
          <a:xfrm>
            <a:off x="6837480" y="3957480"/>
            <a:ext cx="1971720" cy="25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абсолютного с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лигиозный материализ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позна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челове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 Лопатин (1855-1920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Лопат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33800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Rectangle 5"/>
          <p:cNvSpPr/>
          <p:nvPr/>
        </p:nvSpPr>
        <p:spPr>
          <a:xfrm>
            <a:off x="4317840" y="3057480"/>
            <a:ext cx="457056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задачи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2-х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ласть умозрительных вопрос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й связи как основа умозрительного знания действи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1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спири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3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едение в философскую систему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ы философ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ри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номе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нт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в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я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ская система Л. М. Лопа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ая субстанция (монада) как базисное онтологическое понят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причинности как базисный онтологический принци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учение о свободе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Трубецкой (1862-190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4317840" y="3057480"/>
            <a:ext cx="4499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в Древней Гре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9-189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я идеал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 Логосе в его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Трубецкой С (1)"/>
          <p:cNvPicPr/>
          <p:nvPr/>
        </p:nvPicPr>
        <p:blipFill>
          <a:blip r:embed="rId1"/>
          <a:stretch/>
        </p:blipFill>
        <p:spPr>
          <a:xfrm>
            <a:off x="466560" y="1798560"/>
            <a:ext cx="3627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4894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носе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орность созн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убъективистских интерпретаций сознания в западной философ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сть с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коллективная функция человеческого 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 как живой и конкретный универсальный проце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ушевлённость Вселен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Закон универсальной соотносительно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Метафизический социализм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ый идеализм С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Трубецкого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оборность созн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8:38:31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37:41Z</dcterms:modified>
  <cp:revision>21</cp:revision>
  <dc:subject>История русской философии - Лекция 8</dc:subject>
  <dc:title>Философы круга В. С. Соловьёва</dc:title>
</cp:coreProperties>
</file>