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C795-5729-43EA-BFC0-F06DFA453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F413-C1A4-4A09-A192-3BAEF2939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8CA8-5A08-4692-9C87-9C97B0980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B764-DCEC-4057-9864-A9658604F4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0790-690C-4A88-8F7C-040DF17860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A64D-1320-49B7-BC93-636CB5715D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E64C-D415-43E5-9B74-2C44C1BE1F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0AA0-066B-45EF-A41E-3C5CA0EB68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38A7-0B21-4890-B537-D07F2FCC0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099D-CC9F-4AA4-8BA7-11A98EDCE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0305-D2E3-4A7E-BC58-BC727A970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6D35-F3A2-4C18-B066-302A13CE44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23EC-AAA2-408A-A05D-8B82C5CA1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0804-1160-475C-BF9A-21BA53BDC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71F3-D042-45EF-8D19-69239ED93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C9FB-750B-4487-AED3-87341F7447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5C94-85EB-4DFA-945F-AF8E03900C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C692-24A6-4438-B802-356719A2E6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125-A365-41CC-AD7A-6DE7EAB2A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CCA3-E630-4347-977A-2A18F8DEFE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CE54-9D42-4B21-AE56-B5739C776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2B46-44ED-4057-84EF-A4D55AF77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B1B-5578-45B7-AF85-07542B13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CC2-0E3D-48BB-B7FD-0BBDD3A5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EFE-F842-450E-81ED-64E9AE7A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FD6-3B1C-488F-B491-BA1803BE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7D0-F817-4779-BB5C-3B3D28FC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CB6-3C6B-41BB-B129-8FA69763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23E-A41A-4747-A050-B53B4B98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284-2BF2-482B-9145-CA0AD371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BC2-F01B-436D-A424-6AF351D0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B0C-3554-41D3-9C2A-C51D1F93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07C-DD99-4A62-BBE7-29CC363A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7A1-3894-4693-B4EA-8AFDE955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10CA-8785-461A-A72C-75E2018B9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249984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138560" y="3057480"/>
            <a:ext cx="4857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осозерцание Вл. Соловьё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мира в древнерусской иконопис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рение в краск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ческие предположения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Трубецкой Е (1)"/>
          <p:cNvPicPr/>
          <p:nvPr/>
        </p:nvPicPr>
        <p:blipFill>
          <a:blip r:embed="rId1"/>
          <a:stretch/>
        </p:blipFill>
        <p:spPr>
          <a:xfrm>
            <a:off x="46656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200"/>
            <a:ext cx="323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опатин (3)"/>
          <p:cNvPicPr/>
          <p:nvPr/>
        </p:nvPicPr>
        <p:blipFill>
          <a:blip r:embed="rId1"/>
          <a:stretch/>
        </p:blipFill>
        <p:spPr>
          <a:xfrm>
            <a:off x="3778200" y="1619280"/>
            <a:ext cx="19717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Трубецкой С (2)"/>
          <p:cNvPicPr/>
          <p:nvPr/>
        </p:nvPicPr>
        <p:blipFill>
          <a:blip r:embed="rId2"/>
          <a:stretch/>
        </p:blipFill>
        <p:spPr>
          <a:xfrm>
            <a:off x="5307120" y="2787480"/>
            <a:ext cx="2076480" cy="25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Трубецкой Е (1)"/>
          <p:cNvPicPr/>
          <p:nvPr/>
        </p:nvPicPr>
        <p:blipFill>
          <a:blip r:embed="rId3"/>
          <a:stretch/>
        </p:blipFill>
        <p:spPr>
          <a:xfrm>
            <a:off x="6837480" y="3957480"/>
            <a:ext cx="1971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Лопат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317840" y="3057480"/>
            <a:ext cx="4570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задачи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2-х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ь умозрительных вопрос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й связи как основа умозрительного знания действи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1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317840" y="3057480"/>
            <a:ext cx="449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в Древней Гре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-189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иде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Логосе в его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Трубецкой С (1)"/>
          <p:cNvPicPr/>
          <p:nvPr/>
        </p:nvPicPr>
        <p:blipFill>
          <a:blip r:embed="rId1"/>
          <a:stretch/>
        </p:blipFill>
        <p:spPr>
          <a:xfrm>
            <a:off x="466560" y="1798560"/>
            <a:ext cx="3627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38:31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37:41Z</dcterms:modified>
  <cp:revision>21</cp:revision>
  <dc:subject>История русской философии - Лекция 8</dc:subject>
  <dc:title>Философы круга В. С. Соловьёва</dc:title>
</cp:coreProperties>
</file>