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2E06-69BA-4450-B23B-0CA9BE5FC5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занятости (биржа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ый 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лужба занятости (биржа труд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ый 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милия   Имя   От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от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м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кц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сферы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оварн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Ярмарк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укцион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торгов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сферы услу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машин и механизм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 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сырь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энерги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машин и механизмов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ов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редитны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ондов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ложение рабочей си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ро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ы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C4E-C9A6-47E2-BC27-6F5FD05C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AEC-7E19-45FA-BA2D-3BF655EB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6AF-77FC-44B4-AD88-6638DEE9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DF0-9210-4960-B785-233E45FF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9A2B-2DC5-41F8-B45E-BDCB4023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3BA-0722-45BF-ACED-7877F63B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5F7C-B97D-4F18-916D-C35631E0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1BD5-C6FF-4B4B-93FF-FD0106C8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83A9-E163-417A-B3F0-237D37B7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6446-6DCC-4E75-9CC9-3F50702F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90C5-86C4-429A-95CA-E05A330F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8F9-62CC-4FBC-9C95-E744827B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DC2E-7FBF-4BC7-895D-BC3D5D41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578B-4467-4BF2-A0D2-DDD26D8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0FEF-306C-4B84-8809-0FB33691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CB88-0633-4385-ADDF-5AAAA0A0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9D22-2887-4B44-AEF7-2F34293C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69A-E739-46B9-A295-53EC8D1F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D0F-058D-43F4-8A3A-F0486770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E47-EB12-49EE-865E-8608784A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4D4-1183-4F1D-95F6-6E7A0C88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B2D-D7B7-4893-A888-DA6D36E8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34B-3FF4-4788-9EF2-BE4C510E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761-D5A4-4481-997D-B8C6EFEE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98AB-8313-4C17-A088-68CB9E215E7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F504-A65F-448C-9197-CDBC6F9109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раструктура рынка.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ок труда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392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информационны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5195880" y="6550920"/>
            <a:ext cx="32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56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иск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37032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ужба занятости (биржа труд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2852640"/>
            <a:ext cx="392436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ый поиск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7640" y="7617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ю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2781000"/>
            <a:ext cx="63946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5"/>
          <p:cNvGrpSpPr/>
          <p:nvPr/>
        </p:nvGrpSpPr>
        <p:grpSpPr>
          <a:xfrm>
            <a:off x="0" y="-378000"/>
            <a:ext cx="571680" cy="343080"/>
            <a:chOff x="0" y="-378000"/>
            <a:chExt cx="571680" cy="343080"/>
          </a:xfrm>
        </p:grpSpPr>
        <p:sp>
          <p:nvSpPr>
            <p:cNvPr id="165" name="AutoShape 6"/>
            <p:cNvSpPr/>
            <p:nvPr/>
          </p:nvSpPr>
          <p:spPr>
            <a:xfrm>
              <a:off x="0" y="-378000"/>
              <a:ext cx="571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Text Box 7"/>
          <p:cNvSpPr/>
          <p:nvPr/>
        </p:nvSpPr>
        <p:spPr>
          <a:xfrm>
            <a:off x="179280" y="476280"/>
            <a:ext cx="4572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то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92360" y="333360"/>
            <a:ext cx="53722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-37800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89000"/>
          <a:ext cx="754200" cy="1074600"/>
        </p:xfrm>
        <a:graphic>
          <a:graphicData uri="http://schemas.openxmlformats.org/drawingml/2006/table">
            <a:tbl>
              <a:tblPr/>
              <a:tblGrid>
                <a:gridCol w="75420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8"/>
          <p:cNvSpPr/>
          <p:nvPr/>
        </p:nvSpPr>
        <p:spPr>
          <a:xfrm>
            <a:off x="1403280" y="404640"/>
            <a:ext cx="741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85"/>
          <p:cNvSpPr/>
          <p:nvPr/>
        </p:nvSpPr>
        <p:spPr>
          <a:xfrm>
            <a:off x="0" y="724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836640"/>
          <a:ext cx="7666200" cy="5943600"/>
        </p:xfrm>
        <a:graphic>
          <a:graphicData uri="http://schemas.openxmlformats.org/drawingml/2006/table">
            <a:tbl>
              <a:tblPr/>
              <a:tblGrid>
                <a:gridCol w="2473200"/>
                <a:gridCol w="5193000"/>
              </a:tblGrid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едения о себ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нтактные телефон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-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ожидаемые должности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знания, навыки, ум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ыт работы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за последние 5 ле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полнительные сведения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читаю себ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ыно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2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раструктура ры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505320" y="2514600"/>
            <a:ext cx="2438280" cy="99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042920" y="4076640"/>
            <a:ext cx="1873440" cy="10810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1" action="ppaction://hlinksldjump"/>
              </a:rPr>
              <a:t>Потребительск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2" action="ppaction://hlinksldjump"/>
              </a:rPr>
              <a:t> 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2987640" y="4869000"/>
            <a:ext cx="173664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3" action="ppaction://hlinksldjump"/>
              </a:rPr>
              <a:t>Рынок фактор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4" action="ppaction://hlinksldjump"/>
              </a:rPr>
              <a:t> производст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003640" y="4797360"/>
            <a:ext cx="172908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5" action="ppaction://hlinksldjump"/>
              </a:rPr>
              <a:t>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6" action="ppaction://hlinksldjump"/>
              </a:rPr>
              <a:t> капитал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6804000" y="4292640"/>
            <a:ext cx="194472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3809520" y="3505320"/>
            <a:ext cx="3812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5364000" y="3500280"/>
            <a:ext cx="38124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2050920" y="3284640"/>
            <a:ext cx="1441440" cy="766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5940360" y="3213000"/>
            <a:ext cx="172728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700740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требительский рын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708280"/>
            <a:ext cx="5616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варные бирж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рмар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торгов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сферы усл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1640" y="6381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факторов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2514600"/>
            <a:ext cx="57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ем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сы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энер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машин и механизмов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67640" y="6165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4000" y="83628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капита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337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й ры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н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учреждения, сосредотачивающие своих руках денежные средства клиентов и предоставляющие зай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360" y="2421000"/>
            <a:ext cx="35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ынок ценных бум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ндовые бир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кц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ценные бумаги, указывающие на принадлежность их собственнику доли в том или ином предприя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виденд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аво владельца акции на часть прибыли предприят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26920" y="63086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524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тру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особый товар – рабочая си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E01838_"/>
          <p:cNvPicPr/>
          <p:nvPr/>
        </p:nvPicPr>
        <p:blipFill>
          <a:blip r:embed="rId1"/>
          <a:stretch/>
        </p:blipFill>
        <p:spPr>
          <a:xfrm>
            <a:off x="762120" y="2362320"/>
            <a:ext cx="220968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D07153_"/>
          <p:cNvPicPr/>
          <p:nvPr/>
        </p:nvPicPr>
        <p:blipFill>
          <a:blip r:embed="rId2"/>
          <a:stretch/>
        </p:blipFill>
        <p:spPr>
          <a:xfrm>
            <a:off x="7497720" y="505620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>
            <a:off x="2484360" y="3573360"/>
            <a:ext cx="5639040" cy="169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 flipH="1" flipV="1">
            <a:off x="1547280" y="4508280"/>
            <a:ext cx="603900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 rot="1024200">
            <a:off x="2851200" y="3230640"/>
            <a:ext cx="519732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5e00"/>
                    </a:gs>
                    <a:gs pos="50000">
                      <a:srgbClr val="ffcc00"/>
                    </a:gs>
                    <a:gs pos="100000">
                      <a:srgbClr val="765e00"/>
                    </a:gs>
                  </a:gsLst>
                  <a:lin ang="16794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Times New Roman"/>
              </a:rPr>
              <a:t>Предложение рабочей сил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5e00"/>
                  </a:gs>
                  <a:gs pos="50000">
                    <a:srgbClr val="ffcc00"/>
                  </a:gs>
                  <a:gs pos="100000">
                    <a:srgbClr val="765e00"/>
                  </a:gs>
                </a:gsLst>
                <a:lin ang="16794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1"/>
          <p:cNvSpPr txBox="1"/>
          <p:nvPr/>
        </p:nvSpPr>
        <p:spPr>
          <a:xfrm rot="1068600">
            <a:off x="3924000" y="465264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552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спр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552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826920" y="5084640"/>
            <a:ext cx="27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Заработная плата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084720" y="2421000"/>
            <a:ext cx="288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бочая сил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физические и умственные возможности, умения, навыки позволяющие человеку выполнять определённые работ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езработ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997000"/>
            <a:ext cx="367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5940360" y="2781360"/>
            <a:ext cx="1656000" cy="72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4788000" y="4038480"/>
            <a:ext cx="1384200" cy="9032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5435640" y="5157720"/>
            <a:ext cx="1359000" cy="9352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6948360" y="5157720"/>
            <a:ext cx="1511280" cy="9208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7543800" y="4038480"/>
            <a:ext cx="1349280" cy="830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5651640" y="3500280"/>
            <a:ext cx="47448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6227280" y="3645000"/>
            <a:ext cx="320760" cy="1419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238880" y="3505320"/>
            <a:ext cx="9144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6877080" y="3645000"/>
            <a:ext cx="50328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3:14Z</dcterms:created>
  <dc:creator>Ивановец</dc:creator>
  <dc:description/>
  <dc:language>en-US</dc:language>
  <cp:lastModifiedBy>LEGION</cp:lastModifiedBy>
  <dcterms:modified xsi:type="dcterms:W3CDTF">2016-01-04T13:41:26Z</dcterms:modified>
  <cp:revision>27</cp:revision>
  <dc:subject/>
  <dc:title>Инфраструктура рынка</dc:title>
</cp:coreProperties>
</file>