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A1CF-FDF6-4E1E-B39D-9531AEE65D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занятости (биржа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ый 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лужба занятости (биржа труд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ый 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милия   Имя   От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от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м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кц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сферы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оварн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Ярмарк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укцион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торгов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сферы услу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машин и механизм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 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сырь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энерги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машин и механизмов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ов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редитны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ондов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ложение рабочей си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ро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E04-B222-4FC8-9812-F1630865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9A4-5034-4110-BBD5-B8FDD0CD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0DE-7196-4175-A22C-2D39AAED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794-AC3D-4497-A819-3E1A14A2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1238-F962-4CF5-B638-8C1E20F4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3F5C-104C-42CF-8AEB-83EE43D1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F637-CD84-4D24-AAB2-A1395466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9479-0512-4502-8412-E918DE29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4134-B2E4-41ED-A7F9-6209E01D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137D-AB2B-4A6A-94B6-B11DD270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90FD-053D-4089-B78F-8B30F5D6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6BB-B424-4410-B387-B637C49B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DD4B-59AB-4472-BD97-F9284E16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EA2F-7032-442F-9708-DC1AC0BB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C00F-9989-4B64-BB19-B2C768B9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2A44-A8D8-42CF-9ADA-185E52D9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33F5-6D34-402B-8DFF-3943CEED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BFB-F9A5-46B5-BCB6-533AF58C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A28-4ECF-4F80-961F-8978CA8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4D0-9842-49AD-8E0D-D16BE1F1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DDD-057E-4C67-B17F-F955DF9A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E9E-174B-4993-BFB6-C2DC86E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835-9A64-4FAC-8D5D-C2CED87A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2E6-B17C-4FA5-BE17-CBA7768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DB63-0557-4626-A947-F62248D60C9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7B8F-67E8-4B60-AB52-8085C99B76E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раструктура рынка.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ок труда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392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информационны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5195880" y="6550920"/>
            <a:ext cx="32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3703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ба занятости (биржа труд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285264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ый поиск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640" y="7617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ю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63946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5"/>
          <p:cNvGrpSpPr/>
          <p:nvPr/>
        </p:nvGrpSpPr>
        <p:grpSpPr>
          <a:xfrm>
            <a:off x="0" y="-378000"/>
            <a:ext cx="571680" cy="343080"/>
            <a:chOff x="0" y="-378000"/>
            <a:chExt cx="571680" cy="343080"/>
          </a:xfrm>
        </p:grpSpPr>
        <p:sp>
          <p:nvSpPr>
            <p:cNvPr id="165" name="AutoShape 6"/>
            <p:cNvSpPr/>
            <p:nvPr/>
          </p:nvSpPr>
          <p:spPr>
            <a:xfrm>
              <a:off x="0" y="-378000"/>
              <a:ext cx="571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Text Box 7"/>
          <p:cNvSpPr/>
          <p:nvPr/>
        </p:nvSpPr>
        <p:spPr>
          <a:xfrm>
            <a:off x="179280" y="476280"/>
            <a:ext cx="457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то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33360"/>
            <a:ext cx="53722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-37800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89000"/>
          <a:ext cx="754200" cy="107460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8"/>
          <p:cNvSpPr/>
          <p:nvPr/>
        </p:nvSpPr>
        <p:spPr>
          <a:xfrm>
            <a:off x="1403280" y="40464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0" y="724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836640"/>
          <a:ext cx="7666200" cy="5943600"/>
        </p:xfrm>
        <a:graphic>
          <a:graphicData uri="http://schemas.openxmlformats.org/drawingml/2006/table">
            <a:tbl>
              <a:tblPr/>
              <a:tblGrid>
                <a:gridCol w="2473200"/>
                <a:gridCol w="5193000"/>
              </a:tblGrid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едения о себ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тактные телефон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-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ожидаемые должности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знания, навыки, у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ыт работы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за последние 5 ле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полнительные сведения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читаю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ыно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2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раструктура ры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505320" y="2514600"/>
            <a:ext cx="2438280" cy="99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042920" y="4076640"/>
            <a:ext cx="1873440" cy="10810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Потребительск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87640" y="4869000"/>
            <a:ext cx="173664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Рынок фактор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4" action="ppaction://hlinksldjump"/>
              </a:rPr>
              <a:t> производ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003640" y="4797360"/>
            <a:ext cx="172908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5" action="ppaction://hlinksldjump"/>
              </a:rPr>
              <a:t>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6" action="ppaction://hlinksldjump"/>
              </a:rPr>
              <a:t> капитал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6804000" y="4292640"/>
            <a:ext cx="194472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3809520" y="3505320"/>
            <a:ext cx="3812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5364000" y="3500280"/>
            <a:ext cx="38124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2050920" y="3284640"/>
            <a:ext cx="1441440" cy="76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940360" y="3213000"/>
            <a:ext cx="172728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00740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требительский рын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708280"/>
            <a:ext cx="5616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варные бирж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рмар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торгов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сферы усл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1640" y="6381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факторов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514600"/>
            <a:ext cx="57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ем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сы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энер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машин и механизмов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67640" y="6165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капит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33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й ры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н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учреждения, сосредотачивающие своих руках денежные средства клиентов и предоставляющие зай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360" y="2421000"/>
            <a:ext cx="35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ынок ценных бум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ндовые бир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к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ценные бумаги, указывающие на принадлежность их собственнику доли в том или ином предпри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виден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аво владельца акции на часть прибыли предприят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26920" y="6308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524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тру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особый товар – рабочая с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E01838_"/>
          <p:cNvPicPr/>
          <p:nvPr/>
        </p:nvPicPr>
        <p:blipFill>
          <a:blip r:embed="rId1"/>
          <a:stretch/>
        </p:blipFill>
        <p:spPr>
          <a:xfrm>
            <a:off x="762120" y="2362320"/>
            <a:ext cx="220968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D07153_"/>
          <p:cNvPicPr/>
          <p:nvPr/>
        </p:nvPicPr>
        <p:blipFill>
          <a:blip r:embed="rId2"/>
          <a:stretch/>
        </p:blipFill>
        <p:spPr>
          <a:xfrm>
            <a:off x="749772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2484360" y="3573360"/>
            <a:ext cx="5639040" cy="169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H="1" flipV="1">
            <a:off x="1547280" y="4508280"/>
            <a:ext cx="603900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024200">
            <a:off x="2851200" y="3230640"/>
            <a:ext cx="51973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5e00"/>
                    </a:gs>
                    <a:gs pos="50000">
                      <a:srgbClr val="ffcc00"/>
                    </a:gs>
                    <a:gs pos="100000">
                      <a:srgbClr val="765e00"/>
                    </a:gs>
                  </a:gsLst>
                  <a:lin ang="16794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Times New Roman"/>
              </a:rPr>
              <a:t>Предложение рабочей сил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16794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 rot="1068600">
            <a:off x="3924000" y="465264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552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спр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552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26920" y="5084640"/>
            <a:ext cx="27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Заработная плата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084720" y="2421000"/>
            <a:ext cx="28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бочая сил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физические и умственные возможности, умения, навыки позволяющие человеку выполнять определённые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езработ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997000"/>
            <a:ext cx="367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5940360" y="2781360"/>
            <a:ext cx="1656000" cy="72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4788000" y="4038480"/>
            <a:ext cx="1384200" cy="9032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5435640" y="5157720"/>
            <a:ext cx="1359000" cy="9352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6948360" y="5157720"/>
            <a:ext cx="1511280" cy="9208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7543800" y="4038480"/>
            <a:ext cx="1349280" cy="830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651640" y="3500280"/>
            <a:ext cx="4744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6227280" y="3645000"/>
            <a:ext cx="320760" cy="1419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238880" y="3505320"/>
            <a:ext cx="9144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6877080" y="3645000"/>
            <a:ext cx="50328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3:14Z</dcterms:created>
  <dc:creator>Ивановец</dc:creator>
  <dc:description/>
  <dc:language>en-US</dc:language>
  <cp:lastModifiedBy>LEGION</cp:lastModifiedBy>
  <dcterms:modified xsi:type="dcterms:W3CDTF">2016-01-04T13:41:26Z</dcterms:modified>
  <cp:revision>27</cp:revision>
  <dc:subject/>
  <dc:title>Инфраструктура рынка</dc:title>
</cp:coreProperties>
</file>