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0DC75-74F4-4294-9087-EB37C6D6FDDB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раструктура рынка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 труда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тегрированный урок обществознания и информационных технологи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 клас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Инфраструктура рынка. </a:t>
            </a:r>
            <a:br>
              <a:rPr sz="1200"/>
            </a:b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Рынок труда.</a:t>
            </a:r>
            <a:br>
              <a:rPr sz="1200"/>
            </a:b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Интегрированный урок обществознания и информационных технологий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9 класс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иск рабо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ужба занятости (биржа труд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Резюм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Анке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Собесед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Тестирова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остоятельный поиск рабо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Резюм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Анке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Собесед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Тестирова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Поиск работы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Служба занятости (биржа труда)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      </a:t>
            </a: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- Резюме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      </a:t>
            </a: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- Анкеты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      </a:t>
            </a: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- Собеседования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      </a:t>
            </a: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- Тестирования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Самостоятельный поиск работы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     </a:t>
            </a: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- Резюме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     </a:t>
            </a: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- Анкеты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     </a:t>
            </a: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- Собеседования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     </a:t>
            </a: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- Тестирования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зюм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кумент, в котором содержаться сведения о работнике: общие сведения, цели поиска работы, образование, опыт работы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Резюме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Документ, в котором содержаться сведения о работнике: общие сведения, цели поиска работы, образование, опыт работы и др.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фот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-----------------------------------------------------------------------------------------------------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Фамилия   Имя   Отче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uk-UA" sz="1200" spc="-1" strike="noStrike">
                <a:solidFill>
                  <a:srgbClr val="003366"/>
                </a:solidFill>
                <a:latin typeface="Times New Roman"/>
              </a:rPr>
              <a:t>фото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3366"/>
                </a:solidFill>
                <a:latin typeface="Times New Roman"/>
              </a:rPr>
              <a:t>------------------------------------------------------------------------------------------------------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3366"/>
                </a:solidFill>
                <a:latin typeface="Times New Roman"/>
              </a:rPr>
              <a:t>Фамилия   Имя   Отчество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ецифический способ организации экономической деятельности, где хозяйственные отношения между людьми выступают как отношения между товарами, причём между производителями и потребителями нет никаких промежуточных планирующих, управляющих и других административных учреждений, а всеобщим эквивалентом является товар особого рода – деньг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Рынок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Специфический способ организации экономической деятельности, где хозяйственные отношения между людьми выступают как отношения между товарами, причём между производителями и потребителями нет никаких промежуточных планирующих, управляющих и других административных учреждений, а всеобщим эквивалентом является товар особого рода – деньги.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раструктура рын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требитель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 фактор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звод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питал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у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Инфраструктура рынка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Рынок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Потребительский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рынок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Рынок факторов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производства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Рынок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капиталов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Рынок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труда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требительский рын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варные бирж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рмар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укцио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риятия торгов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риятия сферы услу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за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Потребительский рынок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Товарные биржи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Ярмарки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Аукционы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Предприятия торговли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Предприятия сферы услуг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Назад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 факторов производ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 зем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 сырь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 энер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 машин и механизмов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за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Рынок факторов производства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Рынок земли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Рынок сырья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Рынок энергии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Рынок машин и механизмов 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Назад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 капитал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едитный рын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нки – учреждения, сосредотачивающие своих руках денежные средства клиентов и предоставляющие зай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 ценных бума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ндовые бирж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ции – ценные бумаги, указывающие на принадлежность их собственнику доли в том или ином предприят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виденд – право владельца акции на часть прибыли предприят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за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Рынок капиталов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Кредитный рынок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  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Банки – учреждения, сосредотачивающие своих руках денежные средства клиентов и предоставляющие займы.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Рынок ценных бумаг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     </a:t>
            </a: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Фондовые биржи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   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Акции – ценные бумаги, указывающие на принадлежность их собственнику доли в том или ином предприятии.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     </a:t>
            </a: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Дивиденд – право владельца акции на часть прибыли предприятия.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Назад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 тру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а общественных механизмов, при которых одни члены общества (работники) имеют возможности найти работу, а другие- работодатели- могут нанять работник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рынке труда продается и покупается особый товар – рабочая си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Рынок труда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   </a:t>
            </a: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Система общественных механизмов, при которых одни члены общества (работники) имеют возможности найти работу, а другие- работодатели- могут нанять работников.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  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   </a:t>
            </a: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На рынке труда продается и покупается особый товар – рабочая сила.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ложение рабочей сил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о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работная плата – величина денежного вознаграждения, которое выплачивает работодатель работнику за выполнение определенного объема рабо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чая сила- физические и умственные возможности, умения, навыки позволяющие человеку выполнять определённые рабо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Предложение рабочей силы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спрос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Заработная плата – величина денежного вознаграждения, которое выплачивает работодатель работнику за выполнение определенного объема работ.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Рабочая сила- физические и умственные возможности, умения, навыки позволяющие человеку выполнять определённые работы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зработиц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такая ситуация в экономике, при  которой часть способных и желающих трудиться людей не могут найти работу, соответствующую их способностя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зработиц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рикцион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уктур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иклическ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крыт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Безработица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- такая ситуация в экономике, при  которой часть способных и желающих трудиться людей не могут найти работу, соответствующую их способностям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безработица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фрикционная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структурная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циклическая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скрытая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DB8E4-C0DF-495E-B569-263D02965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AA8D5-062D-4E57-A1F5-A0F5A1FE0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99130-8686-4F54-BE55-9E823043E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9AA45-BD29-40D1-A407-7A37194A1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0D546-BC01-4EBB-AF0F-A76D16D10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948F1-77B5-4CB6-889E-30F2C88AA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ED5E7-FFB1-4F84-8DD0-027BD18A5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A9A86-7CBB-4E4C-BC07-1EB0BBD62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6ED78-9689-4B89-A01F-7F1695A7B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8C1B9-A358-46B1-A81A-AE4E01C4E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07C37-E171-42B7-A5BC-284955B4A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134FB-19B8-4954-B038-09A5201B0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7E526-2F59-4E5B-96A0-2DF042AEE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77A3E-11A1-4731-9632-841D525AC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9CEBE-498A-4C74-8FE2-48F13091E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1AAF4-5C0D-4DEA-BF48-00250B0C9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AC1E7-A48D-41A0-8EFD-39B6514AA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F4FD2-D03A-4304-A10B-A9D21DFC8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7B940-4EF0-4EB2-B1B3-DFA092F93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BE51A-4FBD-45C4-AF93-78F5690AC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62D39-C673-41C5-B4CB-8F1DBAA9B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635B9-A640-48E5-A780-C90AE400D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D5403-9682-4982-A601-FC872666C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41EAE-8969-4CE8-82D1-B07C992F7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685800" y="0"/>
              <a:ext cx="2514600" cy="106668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" name="AutoShape 5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88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080C4-E640-496A-8488-3E9951B5D405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" name="Group 11"/>
          <p:cNvGrpSpPr/>
          <p:nvPr/>
        </p:nvGrpSpPr>
        <p:grpSpPr>
          <a:xfrm>
            <a:off x="228600" y="1981080"/>
            <a:ext cx="7391520" cy="319320"/>
            <a:chOff x="228600" y="1981080"/>
            <a:chExt cx="7391520" cy="319320"/>
          </a:xfrm>
        </p:grpSpPr>
        <p:sp>
          <p:nvSpPr>
            <p:cNvPr id="10" name="AutoShape 12"/>
            <p:cNvSpPr/>
            <p:nvPr/>
          </p:nvSpPr>
          <p:spPr>
            <a:xfrm>
              <a:off x="609480" y="1981080"/>
              <a:ext cx="701064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" name="AutoShape 13"/>
            <p:cNvSpPr/>
            <p:nvPr/>
          </p:nvSpPr>
          <p:spPr>
            <a:xfrm flipH="1">
              <a:off x="228600" y="1981080"/>
              <a:ext cx="393840" cy="31932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" name="AutoShape 3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50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1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2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9360" y="6358320"/>
            <a:ext cx="58752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8A428-1129-4B9A-BD38-785B0EA3211B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6.xm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-457200"/>
            <a:ext cx="8153280" cy="556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Инфраструктура рынка. </a:t>
            </a:r>
            <a:br>
              <a:rPr sz="3600"/>
            </a:b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Рынок труда.</a:t>
            </a:r>
            <a:br>
              <a:rPr sz="3600"/>
            </a:b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572000" y="2924280"/>
            <a:ext cx="439272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66"/>
                </a:solidFill>
                <a:latin typeface="Arial"/>
              </a:rPr>
              <a:t>Интегрированный урок обществознания и информационных технологий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6666"/>
                </a:solidFill>
                <a:latin typeface="Arial"/>
              </a:rPr>
              <a:t>9 класс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Місце для нижнього колонтитула 1"/>
          <p:cNvSpPr/>
          <p:nvPr/>
        </p:nvSpPr>
        <p:spPr>
          <a:xfrm>
            <a:off x="5195880" y="6550920"/>
            <a:ext cx="3279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763280" y="764640"/>
            <a:ext cx="56739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Поиск работы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00000" y="2923920"/>
            <a:ext cx="3370320" cy="279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Служба занятости (биржа труда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- Резюме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- Анкеты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- Собеседования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- Тестирования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932000" y="2852640"/>
            <a:ext cx="3924360" cy="28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Самостоятельный поиск работы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- Резюме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- Анкеты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- Собеседования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- Тестирования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0" name="Місце для нижнього колонтитула 1"/>
          <p:cNvSpPr/>
          <p:nvPr/>
        </p:nvSpPr>
        <p:spPr>
          <a:xfrm>
            <a:off x="2936880" y="6527160"/>
            <a:ext cx="289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987640" y="761760"/>
            <a:ext cx="43927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Резюме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86920" y="2781000"/>
            <a:ext cx="6394680" cy="229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Документ, в котором содержаться сведения о работнике: общие сведения, цели поиска работы, образование, опыт работы и др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3" name="Місце для нижнього колонтитула 1"/>
          <p:cNvSpPr/>
          <p:nvPr/>
        </p:nvSpPr>
        <p:spPr>
          <a:xfrm>
            <a:off x="2936880" y="6527160"/>
            <a:ext cx="289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4" name="Group 5"/>
          <p:cNvGrpSpPr/>
          <p:nvPr/>
        </p:nvGrpSpPr>
        <p:grpSpPr>
          <a:xfrm>
            <a:off x="0" y="-378000"/>
            <a:ext cx="571680" cy="343080"/>
            <a:chOff x="0" y="-378000"/>
            <a:chExt cx="571680" cy="343080"/>
          </a:xfrm>
        </p:grpSpPr>
        <p:sp>
          <p:nvSpPr>
            <p:cNvPr id="165" name="AutoShape 6"/>
            <p:cNvSpPr/>
            <p:nvPr/>
          </p:nvSpPr>
          <p:spPr>
            <a:xfrm>
              <a:off x="0" y="-378000"/>
              <a:ext cx="57168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166" name="Text Box 7"/>
          <p:cNvSpPr/>
          <p:nvPr/>
        </p:nvSpPr>
        <p:spPr>
          <a:xfrm>
            <a:off x="179280" y="476280"/>
            <a:ext cx="457200" cy="44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ru-RU" sz="1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фото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7" name="Text Box 4"/>
          <p:cNvSpPr/>
          <p:nvPr/>
        </p:nvSpPr>
        <p:spPr>
          <a:xfrm>
            <a:off x="3492360" y="333360"/>
            <a:ext cx="5372280" cy="62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------------------------------------------------------------------------------------------------------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Фамилия   Имя   Отчество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8" name="Rectangle 8"/>
          <p:cNvSpPr/>
          <p:nvPr/>
        </p:nvSpPr>
        <p:spPr>
          <a:xfrm>
            <a:off x="0" y="-378000"/>
            <a:ext cx="7542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0" y="189000"/>
          <a:ext cx="754200" cy="1074600"/>
        </p:xfrm>
        <a:graphic>
          <a:graphicData uri="http://schemas.openxmlformats.org/drawingml/2006/table">
            <a:tbl>
              <a:tblPr/>
              <a:tblGrid>
                <a:gridCol w="754200"/>
              </a:tblGrid>
              <a:tr h="1074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0" name="Rectangle 18"/>
          <p:cNvSpPr/>
          <p:nvPr/>
        </p:nvSpPr>
        <p:spPr>
          <a:xfrm>
            <a:off x="1403280" y="404640"/>
            <a:ext cx="7416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1" name="Rectangle 85"/>
          <p:cNvSpPr/>
          <p:nvPr/>
        </p:nvSpPr>
        <p:spPr>
          <a:xfrm>
            <a:off x="0" y="7248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1116000" y="836640"/>
          <a:ext cx="7666200" cy="5943600"/>
        </p:xfrm>
        <a:graphic>
          <a:graphicData uri="http://schemas.openxmlformats.org/drawingml/2006/table">
            <a:tbl>
              <a:tblPr/>
              <a:tblGrid>
                <a:gridCol w="2473200"/>
                <a:gridCol w="5193000"/>
              </a:tblGrid>
              <a:tr h="459720">
                <a:tc row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Сведения о себе: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Дата рожден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Место рожден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Контактные телефон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Е-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mail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Семейное положение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Цели: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(ожидаемые должности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Образование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Профессиональные знания, навыки, умен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Опыт работы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(за последние 5 лет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Дополнительные сведения: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Считаю себ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Профессиональные кач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3" name="Місце для нижнього колонтитула 1"/>
          <p:cNvSpPr/>
          <p:nvPr/>
        </p:nvSpPr>
        <p:spPr>
          <a:xfrm>
            <a:off x="2936880" y="6527160"/>
            <a:ext cx="289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6666"/>
                </a:solidFill>
                <a:latin typeface="Arial"/>
              </a:rPr>
              <a:t>Рынок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Специфический способ организации экономической деятельности, где хозяйственные отношения между людьми выступают как отношения между товарами, причём между производителями и потребителями нет никаких промежуточных планирующих, управляющих и других административных учреждений, а всеобщим эквивалентом является товар особого рода – деньги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2936880" y="6527160"/>
            <a:ext cx="289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03280" y="836280"/>
            <a:ext cx="6321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Инфраструктура рынк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Oval 13"/>
          <p:cNvSpPr/>
          <p:nvPr/>
        </p:nvSpPr>
        <p:spPr>
          <a:xfrm>
            <a:off x="3505320" y="2514600"/>
            <a:ext cx="2438280" cy="990720"/>
          </a:xfrm>
          <a:prstGeom prst="ellipse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Рынок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9" name="Oval 14"/>
          <p:cNvSpPr/>
          <p:nvPr/>
        </p:nvSpPr>
        <p:spPr>
          <a:xfrm>
            <a:off x="1042920" y="4076640"/>
            <a:ext cx="1873440" cy="1081080"/>
          </a:xfrm>
          <a:prstGeom prst="ellipse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333399"/>
                </a:solidFill>
                <a:uFillTx/>
                <a:latin typeface="Times New Roman"/>
                <a:hlinkClick r:id="rId1" action="ppaction://hlinksldjump"/>
              </a:rPr>
              <a:t>Потребительский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333399"/>
                </a:solidFill>
                <a:uFillTx/>
                <a:latin typeface="Times New Roman"/>
                <a:hlinkClick r:id="rId2" action="ppaction://hlinksldjump"/>
              </a:rPr>
              <a:t> рынок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Oval 16"/>
          <p:cNvSpPr/>
          <p:nvPr/>
        </p:nvSpPr>
        <p:spPr>
          <a:xfrm>
            <a:off x="2987640" y="4869000"/>
            <a:ext cx="1736640" cy="914400"/>
          </a:xfrm>
          <a:prstGeom prst="ellipse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333399"/>
                </a:solidFill>
                <a:uFillTx/>
                <a:latin typeface="Times New Roman"/>
                <a:hlinkClick r:id="rId3" action="ppaction://hlinksldjump"/>
              </a:rPr>
              <a:t>Рынок факторов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333399"/>
                </a:solidFill>
                <a:uFillTx/>
                <a:latin typeface="Times New Roman"/>
                <a:hlinkClick r:id="rId4" action="ppaction://hlinksldjump"/>
              </a:rPr>
              <a:t> производства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1" name="Oval 17"/>
          <p:cNvSpPr/>
          <p:nvPr/>
        </p:nvSpPr>
        <p:spPr>
          <a:xfrm>
            <a:off x="5003640" y="4797360"/>
            <a:ext cx="1729080" cy="914400"/>
          </a:xfrm>
          <a:prstGeom prst="ellipse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333399"/>
                </a:solidFill>
                <a:uFillTx/>
                <a:latin typeface="Times New Roman"/>
                <a:hlinkClick r:id="rId5" action="ppaction://hlinksldjump"/>
              </a:rPr>
              <a:t>Рынок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333399"/>
                </a:solidFill>
                <a:uFillTx/>
                <a:latin typeface="Times New Roman"/>
                <a:hlinkClick r:id="rId6" action="ppaction://hlinksldjump"/>
              </a:rPr>
              <a:t> капиталов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2" name="Oval 18"/>
          <p:cNvSpPr/>
          <p:nvPr/>
        </p:nvSpPr>
        <p:spPr>
          <a:xfrm>
            <a:off x="6804000" y="4292640"/>
            <a:ext cx="1944720" cy="914400"/>
          </a:xfrm>
          <a:prstGeom prst="ellipse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Times New Roman"/>
              </a:rPr>
              <a:t>Рынок</a:t>
            </a: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Times New Roman"/>
              </a:rPr>
              <a:t>труда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" name="Line 19"/>
          <p:cNvSpPr/>
          <p:nvPr/>
        </p:nvSpPr>
        <p:spPr>
          <a:xfrm flipH="1">
            <a:off x="3809520" y="3505320"/>
            <a:ext cx="381240" cy="129528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Line 20"/>
          <p:cNvSpPr/>
          <p:nvPr/>
        </p:nvSpPr>
        <p:spPr>
          <a:xfrm>
            <a:off x="5364000" y="3500280"/>
            <a:ext cx="381240" cy="129564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5" name="Line 22"/>
          <p:cNvSpPr/>
          <p:nvPr/>
        </p:nvSpPr>
        <p:spPr>
          <a:xfrm flipH="1">
            <a:off x="2050920" y="3284640"/>
            <a:ext cx="1441440" cy="76680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Line 23"/>
          <p:cNvSpPr/>
          <p:nvPr/>
        </p:nvSpPr>
        <p:spPr>
          <a:xfrm>
            <a:off x="5940360" y="3213000"/>
            <a:ext cx="1727280" cy="100800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2936880" y="6527160"/>
            <a:ext cx="289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86920" y="692280"/>
            <a:ext cx="7007400" cy="1226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Потребительский рынок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979640" y="2708280"/>
            <a:ext cx="561672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Товарные биржи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Ярмарки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Аукционы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Предприятия торговли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Предприятия сферы услуг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7451640" y="638172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Times New Roman"/>
              </a:rPr>
              <a:t>Назад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2936880" y="6527160"/>
            <a:ext cx="289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26560" y="764640"/>
            <a:ext cx="77137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Рынок факторов производств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514240" y="2514600"/>
            <a:ext cx="57294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Рынок земли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Рынок сырья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Рынок энергии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Рынок машин и механизмов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Rectangle 4"/>
          <p:cNvSpPr/>
          <p:nvPr/>
        </p:nvSpPr>
        <p:spPr>
          <a:xfrm>
            <a:off x="7667640" y="616572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Times New Roman"/>
              </a:rPr>
              <a:t>Назад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5" name="Місце для нижнього колонтитула 1"/>
          <p:cNvSpPr/>
          <p:nvPr/>
        </p:nvSpPr>
        <p:spPr>
          <a:xfrm>
            <a:off x="2936880" y="6527160"/>
            <a:ext cx="289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124000" y="836280"/>
            <a:ext cx="45943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Рынок капиталов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42920" y="2420640"/>
            <a:ext cx="337032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3366"/>
                </a:solidFill>
                <a:uFillTx/>
                <a:latin typeface="Arial"/>
              </a:rPr>
              <a:t>Кредитный рынок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Банки 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– учреждения, сосредотачивающие своих руках денежные средства клиентов и предоставляющие займы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932360" y="2421000"/>
            <a:ext cx="35640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3366"/>
                </a:solidFill>
                <a:uFillTx/>
                <a:latin typeface="Arial"/>
              </a:rPr>
              <a:t>Рынок ценных бумаг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Фондовые биржи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Акции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– ценные бумаги, указывающие на принадлежность их собственнику доли в том или ином предприятии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Дивиденд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– право владельца акции на часть прибыли предприятия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9" name="Rectangle 5"/>
          <p:cNvSpPr/>
          <p:nvPr/>
        </p:nvSpPr>
        <p:spPr>
          <a:xfrm>
            <a:off x="826920" y="63086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Times New Roman"/>
              </a:rPr>
              <a:t>Назад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2936880" y="6527160"/>
            <a:ext cx="289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47280" y="691920"/>
            <a:ext cx="52419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Рынок труд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99640" y="285264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Система общественных механизмов, при которых одни члены общества (работники) имеют возможности найти работу, а другие- работодатели- могут нанять работников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На рынке труда продается и покупается </a:t>
            </a:r>
            <a:r>
              <a:rPr b="0" lang="ru-RU" sz="2800" spc="-1" strike="noStrike" u="sng">
                <a:solidFill>
                  <a:srgbClr val="003366"/>
                </a:solidFill>
                <a:uFillTx/>
                <a:latin typeface="Times New Roman"/>
              </a:rPr>
              <a:t>особый товар – рабочая сила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219280" y="2361960"/>
            <a:ext cx="392436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2936880" y="6527160"/>
            <a:ext cx="289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4" descr="PE01838_"/>
          <p:cNvPicPr/>
          <p:nvPr/>
        </p:nvPicPr>
        <p:blipFill>
          <a:blip r:embed="rId1"/>
          <a:stretch/>
        </p:blipFill>
        <p:spPr>
          <a:xfrm>
            <a:off x="762120" y="2362320"/>
            <a:ext cx="2209680" cy="21193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5" descr="BD07153_"/>
          <p:cNvPicPr/>
          <p:nvPr/>
        </p:nvPicPr>
        <p:blipFill>
          <a:blip r:embed="rId2"/>
          <a:stretch/>
        </p:blipFill>
        <p:spPr>
          <a:xfrm>
            <a:off x="7497720" y="5056200"/>
            <a:ext cx="1646280" cy="1801800"/>
          </a:xfrm>
          <a:prstGeom prst="rect">
            <a:avLst/>
          </a:prstGeom>
          <a:ln w="0">
            <a:noFill/>
          </a:ln>
        </p:spPr>
      </p:pic>
      <p:sp>
        <p:nvSpPr>
          <p:cNvPr id="137" name="Line 6"/>
          <p:cNvSpPr/>
          <p:nvPr/>
        </p:nvSpPr>
        <p:spPr>
          <a:xfrm>
            <a:off x="2484360" y="3573360"/>
            <a:ext cx="5639040" cy="169704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Line 7"/>
          <p:cNvSpPr/>
          <p:nvPr/>
        </p:nvSpPr>
        <p:spPr>
          <a:xfrm flipH="1" flipV="1">
            <a:off x="1547280" y="4508280"/>
            <a:ext cx="6039000" cy="187308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9" name="WordArt 10"/>
          <p:cNvSpPr txBox="1"/>
          <p:nvPr/>
        </p:nvSpPr>
        <p:spPr>
          <a:xfrm rot="1024200">
            <a:off x="2851200" y="3230640"/>
            <a:ext cx="5197320" cy="11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65e00"/>
                    </a:gs>
                    <a:gs pos="50000">
                      <a:srgbClr val="ffcc00"/>
                    </a:gs>
                    <a:gs pos="100000">
                      <a:srgbClr val="765e00"/>
                    </a:gs>
                  </a:gsLst>
                  <a:lin ang="16794000"/>
                </a:gradFill>
                <a:effectLst>
                  <a:outerShdw dist="17819" dir="2700000" blurRad="0" rotWithShape="0">
                    <a:srgbClr val="ffffff"/>
                  </a:outerShdw>
                </a:effectLst>
                <a:latin typeface="Times New Roman"/>
              </a:rPr>
              <a:t>Предложение рабочей силы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65e00"/>
                  </a:gs>
                  <a:gs pos="50000">
                    <a:srgbClr val="ffcc00"/>
                  </a:gs>
                  <a:gs pos="100000">
                    <a:srgbClr val="765e00"/>
                  </a:gs>
                </a:gsLst>
                <a:lin ang="16794000"/>
              </a:gradFill>
              <a:effectLst>
                <a:outerShdw dist="17819" dir="2700000" blurRad="0" rotWithShape="0">
                  <a:srgbClr val="ffff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40" name="WordArt 11"/>
          <p:cNvSpPr txBox="1"/>
          <p:nvPr/>
        </p:nvSpPr>
        <p:spPr>
          <a:xfrm rot="1068600">
            <a:off x="3924000" y="4652640"/>
            <a:ext cx="19810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76"/>
                    </a:gs>
                    <a:gs pos="50000">
                      <a:srgbClr val="0000ff"/>
                    </a:gs>
                    <a:gs pos="100000">
                      <a:srgbClr val="000076"/>
                    </a:gs>
                  </a:gsLst>
                  <a:lin ang="552000"/>
                </a:gradFill>
                <a:effectLst>
                  <a:outerShdw dist="17819" dir="2700000" blurRad="0" rotWithShape="0">
                    <a:srgbClr val="ffffff"/>
                  </a:outerShdw>
                </a:effectLst>
                <a:latin typeface="Arial"/>
              </a:rPr>
              <a:t>спрос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76"/>
                  </a:gs>
                  <a:gs pos="50000">
                    <a:srgbClr val="0000ff"/>
                  </a:gs>
                  <a:gs pos="100000">
                    <a:srgbClr val="000076"/>
                  </a:gs>
                </a:gsLst>
                <a:lin ang="552000"/>
              </a:gradFill>
              <a:effectLst>
                <a:outerShdw dist="17819" dir="2700000" blurRad="0" rotWithShape="0">
                  <a:srgbClr val="ffff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41" name="Text Box 12"/>
          <p:cNvSpPr/>
          <p:nvPr/>
        </p:nvSpPr>
        <p:spPr>
          <a:xfrm>
            <a:off x="1219320" y="54864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" name="Text Box 13"/>
          <p:cNvSpPr/>
          <p:nvPr/>
        </p:nvSpPr>
        <p:spPr>
          <a:xfrm>
            <a:off x="826920" y="5084640"/>
            <a:ext cx="27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3366"/>
                </a:solidFill>
                <a:uFillTx/>
                <a:latin typeface="Times New Roman"/>
              </a:rPr>
              <a:t>Заработная плата</a:t>
            </a:r>
            <a:r>
              <a:rPr b="1" lang="ru-RU" sz="1600" spc="-1" strike="noStrike">
                <a:solidFill>
                  <a:srgbClr val="003366"/>
                </a:solidFill>
                <a:latin typeface="Times New Roman"/>
              </a:rPr>
              <a:t> –</a:t>
            </a:r>
            <a:r>
              <a:rPr b="0" lang="ru-RU" sz="1600" spc="-1" strike="noStrike">
                <a:solidFill>
                  <a:srgbClr val="003366"/>
                </a:solidFill>
                <a:latin typeface="Times New Roman"/>
              </a:rPr>
              <a:t> величина денежного вознаграждения, которое выплачивает работодатель работнику за выполнение определенного объема работ.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Text Box 15"/>
          <p:cNvSpPr/>
          <p:nvPr/>
        </p:nvSpPr>
        <p:spPr>
          <a:xfrm>
            <a:off x="6084720" y="2421000"/>
            <a:ext cx="2880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3366"/>
                </a:solidFill>
                <a:uFillTx/>
                <a:latin typeface="Times New Roman"/>
              </a:rPr>
              <a:t>Рабочая сила</a:t>
            </a:r>
            <a:r>
              <a:rPr b="0" lang="ru-RU" sz="1600" spc="-1" strike="noStrike">
                <a:solidFill>
                  <a:srgbClr val="003366"/>
                </a:solidFill>
                <a:latin typeface="Times New Roman"/>
              </a:rPr>
              <a:t>- физические и умственные возможности, умения, навыки позволяющие человеку выполнять определённые работы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" name="Місце для нижнього колонтитула 1"/>
          <p:cNvSpPr/>
          <p:nvPr/>
        </p:nvSpPr>
        <p:spPr>
          <a:xfrm>
            <a:off x="2936880" y="6527160"/>
            <a:ext cx="289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66"/>
                </a:solidFill>
                <a:latin typeface="Arial"/>
              </a:rPr>
              <a:t>Безработица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26560" y="2997000"/>
            <a:ext cx="367380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- 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такая ситуация в экономике, при  которой часть способных и желающих трудиться людей не могут найти работу, соответствующую их способностям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7" name="Oval 6"/>
          <p:cNvSpPr/>
          <p:nvPr/>
        </p:nvSpPr>
        <p:spPr>
          <a:xfrm>
            <a:off x="5940360" y="2781360"/>
            <a:ext cx="1656000" cy="720720"/>
          </a:xfrm>
          <a:prstGeom prst="ellipse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Times New Roman"/>
              </a:rPr>
              <a:t>безработица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8" name="Oval 7"/>
          <p:cNvSpPr/>
          <p:nvPr/>
        </p:nvSpPr>
        <p:spPr>
          <a:xfrm>
            <a:off x="4788000" y="4038480"/>
            <a:ext cx="1384200" cy="903240"/>
          </a:xfrm>
          <a:prstGeom prst="ellipse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Times New Roman"/>
              </a:rPr>
              <a:t>фрикционная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9" name="Oval 9"/>
          <p:cNvSpPr/>
          <p:nvPr/>
        </p:nvSpPr>
        <p:spPr>
          <a:xfrm>
            <a:off x="5435640" y="5157720"/>
            <a:ext cx="1359000" cy="935280"/>
          </a:xfrm>
          <a:prstGeom prst="ellipse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Times New Roman"/>
              </a:rPr>
              <a:t>структурная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0" name="Oval 10"/>
          <p:cNvSpPr/>
          <p:nvPr/>
        </p:nvSpPr>
        <p:spPr>
          <a:xfrm>
            <a:off x="6948360" y="5157720"/>
            <a:ext cx="1511280" cy="920880"/>
          </a:xfrm>
          <a:prstGeom prst="ellipse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Times New Roman"/>
              </a:rPr>
              <a:t>циклическая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1" name="Oval 11"/>
          <p:cNvSpPr/>
          <p:nvPr/>
        </p:nvSpPr>
        <p:spPr>
          <a:xfrm>
            <a:off x="7543800" y="4038480"/>
            <a:ext cx="1349280" cy="830520"/>
          </a:xfrm>
          <a:prstGeom prst="ellipse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Times New Roman"/>
              </a:rPr>
              <a:t>скрытая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2" name="Line 12"/>
          <p:cNvSpPr/>
          <p:nvPr/>
        </p:nvSpPr>
        <p:spPr>
          <a:xfrm flipH="1">
            <a:off x="5651640" y="3500280"/>
            <a:ext cx="474480" cy="50508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3" name="Line 14"/>
          <p:cNvSpPr/>
          <p:nvPr/>
        </p:nvSpPr>
        <p:spPr>
          <a:xfrm flipH="1">
            <a:off x="6227280" y="3645000"/>
            <a:ext cx="320760" cy="141912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4" name="Line 15"/>
          <p:cNvSpPr/>
          <p:nvPr/>
        </p:nvSpPr>
        <p:spPr>
          <a:xfrm>
            <a:off x="7238880" y="3505320"/>
            <a:ext cx="914400" cy="53316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5" name="Line 18"/>
          <p:cNvSpPr/>
          <p:nvPr/>
        </p:nvSpPr>
        <p:spPr>
          <a:xfrm>
            <a:off x="6877080" y="3645000"/>
            <a:ext cx="503280" cy="143964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6" name="Місце для нижнього колонтитула 1"/>
          <p:cNvSpPr/>
          <p:nvPr/>
        </p:nvSpPr>
        <p:spPr>
          <a:xfrm>
            <a:off x="2936880" y="6527160"/>
            <a:ext cx="289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7T07:03:14Z</dcterms:created>
  <dc:creator>Ивановец</dc:creator>
  <dc:description/>
  <dc:language>en-US</dc:language>
  <cp:lastModifiedBy>LEGION</cp:lastModifiedBy>
  <dcterms:modified xsi:type="dcterms:W3CDTF">2016-01-04T13:41:26Z</dcterms:modified>
  <cp:revision>27</cp:revision>
  <dc:subject/>
  <dc:title>Инфраструктура рынка</dc:title>
</cp:coreProperties>
</file>