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1731-3189-4FF7-9951-FC36C76DB3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капита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ц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1. Сущность и формы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2. Ссудный процент. Номинальная и реальная ставка проц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3Дисконтированная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оц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1. Сущность и формы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2. Ссудный процент. Номинальная и реальная ставка проц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3Дисконтированная сто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жидаемый уровень дохо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жидаемый уровень доход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= rK. Капитал воспроизвод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&gt; rK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бразования капитала, средства проед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&lt; rK. Процесс образования капитала резко активизир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= rK. Капитал воспроизводи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&gt; rK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образования капитала, средства проед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&lt; rK. Процесс образования капитала резко активизиру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капитал (DК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капитала (SК) имеет положительный наклон. Такое положение обусловлено тем, что, чем большую сумму капитала вы предлагае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капитал (DК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капитала (SК) имеет положительный наклон. Такое положение обусловлено тем, что, чем большую сумму капитала вы предлагае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в узком смысле слова – ценность, приносящая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в узком смысле слова – ценность, приносящая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Ы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Ы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ие функции процентной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сбережения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мулирующие функции процентной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оцентной ставки стимулирует сбережения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ая ставка – это процентная ставка, выраженная в рублях по текущему курс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ая ставка – это процентная ставка, выраженная в неизменных рублях или с поправкой на инфля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ая ставка – это процентная ставка, выраженная в рублях по текущему курс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ая ставка – это процентная ставка, выраженная в неизменных рублях или с поправкой на инфля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+i) x (1+P) = 1+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– реальная ставка процен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 – темп инфля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номинальная ставка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+i) x (1+P) = 1+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реальная ставка процен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 – темп инфля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номинальная ставка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вестиции.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вестиции.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капитала 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капитала 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V – текущая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ожидаемый в будущем дох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ставка дисконтирования (ставка ссудного процен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 – период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V – текущая стоим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ожидаемый в будущем доход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ставка дисконтирования (ставка ссудного процент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 – период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ая 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PV = П1 /(1 + r) + П2/(1+ r)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…+ Пn/(1+ r)n —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PV - чистая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 — прибыль, получаемая в n-м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– величина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PV = П1 /(1 + r) + П2/(1+ r)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…+ Пn/(1+ r)n —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PV - чистая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 — прибыль, получаемая в n-м г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величина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тивный капитал  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тивный капитал  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иссионная ценная бума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щается выпус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иссионная ценная бумаг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щается выпуск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щность капитала как фактора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ется уровень доходности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реальную ставку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инвестиционный проект будет прин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щность капитала как фактора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ется уровень доходности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ить реальную ставку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инвестиционный проект будет приня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 - материально-вещественный капитал: машины, здания, сооружения, сырье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капитал – акции и другие ценные бумаги, счета в банках, патенты и т.д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- материально-вещественный капитал: машины, здания, сооружения, сырье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капитал – акции и другие ценные бумаги, счета в банках, патенты и т.д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капитал - реальные активы длительного пользования, такие, как здания, сооружения, машины, обору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ый капитал - 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капитал - реальные активы длительного пользования, такие, как здания, сооружения, машины,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ый капитал - 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капитал служит в течение нескольких лет и подлежит замене (возмещению) лишь по мере физического или морального изн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ый капитал 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капитал служит в течение нескольких лет и подлежит замене (возмещению) лишь по мере физического или морального изн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ый капитал 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капитала — 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— деньги, Рс — рабочая сила, Сп — средства производства, П— производство…Т 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гооборот капитала — 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— деньги, Рс — рабочая сила, Сп — средства производства, П— производство…Т 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 капитала - такое движение капитала, при котором авансированная стоимость полностью возмещ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 капитала - такое движение капитала, при котором авансированная стоимость полностью возмеща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9B4-6374-4DD0-828C-9C339C1D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A60D-EEE4-4C2D-B6AA-F769147A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71B-3EFF-4648-B2BE-E700AAB6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400-78E4-482B-9211-2C2D8115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14E6-9A76-48F6-8F42-A5047D9D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69EA-DC14-4F6E-8A88-3D1089E6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1F05-DBB5-4401-99E3-587A2E9A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9A63-C6F6-4465-A34D-0B6E116C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834C-A711-4ECA-B2DB-686B509F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574D-4FFE-4F66-9F08-FE6BE557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36C4-D939-4728-8243-767C03F0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81F-5016-4A1F-8EDC-CF29FB75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F6C6-EDD4-48E7-A414-70574469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6C6F-D80F-49D9-8A17-2BE5D866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C6ED-5DAC-487C-8065-28AE8A52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F62C-ACEC-4D37-98D2-A9AC323B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7891-0674-445E-85A8-ABE350C5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1C8-6F7E-4735-9B68-2B7C4A51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464-3445-4C04-A49C-59C628F5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D876-A548-488D-AF61-F2F20571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5131-C88B-4570-AC38-C903865B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BE2-9CE8-45D9-87D3-A9F2110C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5B36-2E07-4769-9A98-80639CE3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9778-5D7B-4EBE-81DB-F6F17E69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35B6-D5B7-4E9D-B389-F1ED5E5CCFE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65B4-EFF9-4377-808E-1AA02EB7BF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E174-2B26-4987-A8AE-9BA91434DEF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25AD-3CCA-4344-AD48-62571D13A2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projects\экономическая теория\PSD\6.jpg"/>
          <p:cNvPicPr/>
          <p:nvPr/>
        </p:nvPicPr>
        <p:blipFill>
          <a:blip r:embed="rId1"/>
          <a:stretch/>
        </p:blipFill>
        <p:spPr>
          <a:xfrm>
            <a:off x="0" y="-243000"/>
            <a:ext cx="9828360" cy="7863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149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Тема 6. </a:t>
            </a: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Рынок капитала </a:t>
            </a: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и процен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826920" y="4149720"/>
            <a:ext cx="58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1. Сущность и формы капит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2. Ссудный процент. Номинальная и реальная ставка процен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3Дисконтированная сто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а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инансовые, портфе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в покупку акций, других ценных бума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бщее увеличение запаса капитал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учитывают затраты на возмещение (амортизацию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мортизац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роцесс замены изношенного основного капит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т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за вычетом средств, идущих на возмещ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 Амортизация + Чистые инвестиции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контируем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приведённая (текущая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1619280" y="2133720"/>
                <a:ext cx="507348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2000" y="259920"/>
            <a:ext cx="86425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ожидаемый уровень доход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819000" y="3213000"/>
                <a:ext cx="757728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Уровень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доходности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капитала</m:t>
                          </m:r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рирост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родукции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 будущем</m:t>
                              </m:r>
                            </m:e>
                          </m:mr>
                        </m: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сокращение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отребления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 настоящем</m:t>
                              </m:r>
                            </m:e>
                          </m:mr>
                        </m: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здание капитал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Капитал воспроизводи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gt;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т образования капитала, средства проедаю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роцесс образования капитала резко активизиру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ос на капитал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ложение капитала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имеет положительный наклон. Такое положение обусловлено тем, что, чем большую сумму капитала вы предлагает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Определение капит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итал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узком смысле слова – ценность, приносящая до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209680" y="1839960"/>
            <a:ext cx="5029200" cy="3114720"/>
          </a:xfrm>
          <a:custGeom>
            <a:avLst/>
            <a:gdLst>
              <a:gd name="textAreaLeft" fmla="*/ 0 w 5029200"/>
              <a:gd name="textAreaRight" fmla="*/ 5029200 w 5029200"/>
              <a:gd name="textAreaTop" fmla="*/ 0 h 3114720"/>
              <a:gd name="textAreaBottom" fmla="*/ 3115080 h 3114720"/>
            </a:gdLst>
            <a:ahLst/>
            <a:rect l="textAreaLeft" t="textAreaTop" r="textAreaRight" b="textAreaBottom"/>
            <a:pathLst>
              <a:path w="381" h="218">
                <a:moveTo>
                  <a:pt x="0" y="218"/>
                </a:moveTo>
                <a:lnTo>
                  <a:pt x="55" y="204"/>
                </a:lnTo>
                <a:lnTo>
                  <a:pt x="109" y="184"/>
                </a:lnTo>
                <a:lnTo>
                  <a:pt x="163" y="156"/>
                </a:lnTo>
                <a:lnTo>
                  <a:pt x="218" y="122"/>
                </a:lnTo>
                <a:lnTo>
                  <a:pt x="272" y="82"/>
                </a:lnTo>
                <a:lnTo>
                  <a:pt x="326" y="41"/>
                </a:lnTo>
                <a:lnTo>
                  <a:pt x="381" y="0"/>
                </a:lnTo>
              </a:path>
            </a:pathLst>
          </a:custGeom>
          <a:noFill/>
          <a:ln w="507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374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4"/>
          <p:cNvSpPr/>
          <p:nvPr/>
        </p:nvSpPr>
        <p:spPr>
          <a:xfrm flipV="1">
            <a:off x="1476360" y="1433160"/>
            <a:ext cx="1440" cy="4311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1476360" y="5734080"/>
            <a:ext cx="6450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256400" y="563724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084320" y="513720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084320" y="466092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1084320" y="417672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1084320" y="368604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084320" y="3201840"/>
            <a:ext cx="39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1084320" y="2728800"/>
            <a:ext cx="35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1084320" y="223848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12004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285984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357876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4331160" y="582444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6411960" y="5829480"/>
            <a:ext cx="412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7143840" y="5829480"/>
            <a:ext cx="320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5006880" y="5829480"/>
            <a:ext cx="4129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5726160" y="5829480"/>
            <a:ext cx="333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22"/>
          <p:cNvSpPr/>
          <p:nvPr/>
        </p:nvSpPr>
        <p:spPr>
          <a:xfrm>
            <a:off x="2050920" y="1989000"/>
            <a:ext cx="5129280" cy="3530880"/>
          </a:xfrm>
          <a:custGeom>
            <a:avLst/>
            <a:gdLst>
              <a:gd name="textAreaLeft" fmla="*/ 0 w 5129280"/>
              <a:gd name="textAreaRight" fmla="*/ 5129640 w 5129280"/>
              <a:gd name="textAreaTop" fmla="*/ 0 h 3530880"/>
              <a:gd name="textAreaBottom" fmla="*/ 3531240 h 3530880"/>
            </a:gdLst>
            <a:ahLst/>
            <a:rect l="textAreaLeft" t="textAreaTop" r="textAreaRight" b="textAreaBottom"/>
            <a:pathLst>
              <a:path w="381" h="261">
                <a:moveTo>
                  <a:pt x="0" y="0"/>
                </a:moveTo>
                <a:lnTo>
                  <a:pt x="55" y="49"/>
                </a:lnTo>
                <a:lnTo>
                  <a:pt x="109" y="98"/>
                </a:lnTo>
                <a:lnTo>
                  <a:pt x="163" y="146"/>
                </a:lnTo>
                <a:lnTo>
                  <a:pt x="218" y="187"/>
                </a:lnTo>
                <a:lnTo>
                  <a:pt x="272" y="220"/>
                </a:lnTo>
                <a:lnTo>
                  <a:pt x="326" y="244"/>
                </a:lnTo>
                <a:lnTo>
                  <a:pt x="381" y="261"/>
                </a:lnTo>
              </a:path>
            </a:pathLst>
          </a:custGeom>
          <a:noFill/>
          <a:ln w="507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3"/>
          <p:cNvSpPr/>
          <p:nvPr/>
        </p:nvSpPr>
        <p:spPr>
          <a:xfrm>
            <a:off x="4299120" y="3998880"/>
            <a:ext cx="141120" cy="127080"/>
          </a:xfrm>
          <a:prstGeom prst="ellipse">
            <a:avLst/>
          </a:prstGeom>
          <a:solidFill>
            <a:srgbClr val="00ff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2916360" y="2997360"/>
            <a:ext cx="0" cy="273672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5"/>
          <p:cNvSpPr/>
          <p:nvPr/>
        </p:nvSpPr>
        <p:spPr>
          <a:xfrm flipH="1" flipV="1">
            <a:off x="5094360" y="4579920"/>
            <a:ext cx="1440" cy="11160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>
            <a:off x="1494000" y="4052880"/>
            <a:ext cx="2869920" cy="1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 flipH="1" flipV="1">
            <a:off x="4373640" y="4062240"/>
            <a:ext cx="1440" cy="16560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1471680" y="3003480"/>
            <a:ext cx="4249800" cy="0"/>
          </a:xfrm>
          <a:prstGeom prst="line">
            <a:avLst/>
          </a:prstGeom>
          <a:ln w="255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 flipV="1">
            <a:off x="5824440" y="2978280"/>
            <a:ext cx="0" cy="273816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 flipH="1" flipV="1">
            <a:off x="3642840" y="4468680"/>
            <a:ext cx="1800" cy="124488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>
            <a:off x="1474920" y="4562640"/>
            <a:ext cx="3638520" cy="1440"/>
          </a:xfrm>
          <a:prstGeom prst="line">
            <a:avLst/>
          </a:prstGeom>
          <a:ln w="255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2"/>
          <p:cNvSpPr/>
          <p:nvPr/>
        </p:nvSpPr>
        <p:spPr>
          <a:xfrm>
            <a:off x="7853400" y="5753160"/>
            <a:ext cx="3906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1042920" y="119700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837400" y="5033880"/>
            <a:ext cx="534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  <a:ea typeface="Arial"/>
              </a:rPr>
              <a:t>D</a:t>
            </a:r>
            <a:r>
              <a:rPr b="1" i="1" lang="ru-RU" sz="2800" spc="-1" strike="noStrike" baseline="-25000">
                <a:solidFill>
                  <a:srgbClr val="c0504d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5"/>
          <p:cNvSpPr/>
          <p:nvPr/>
        </p:nvSpPr>
        <p:spPr>
          <a:xfrm>
            <a:off x="2050920" y="2513160"/>
            <a:ext cx="506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  <a:ea typeface="Arial"/>
              </a:rPr>
              <a:t>D</a:t>
            </a:r>
            <a:r>
              <a:rPr b="1" i="1" lang="ru-RU" sz="2800" spc="-1" strike="noStrike" baseline="-25000">
                <a:solidFill>
                  <a:srgbClr val="c0504d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6"/>
          <p:cNvSpPr/>
          <p:nvPr/>
        </p:nvSpPr>
        <p:spPr>
          <a:xfrm>
            <a:off x="1085760" y="1670040"/>
            <a:ext cx="25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7"/>
          <p:cNvSpPr/>
          <p:nvPr/>
        </p:nvSpPr>
        <p:spPr>
          <a:xfrm>
            <a:off x="2009880" y="4262400"/>
            <a:ext cx="474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</a:t>
            </a:r>
            <a:r>
              <a:rPr b="1" i="1" lang="ru-RU" sz="2800" spc="-1" strike="noStrike" baseline="-25000">
                <a:solidFill>
                  <a:srgbClr val="7030a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8"/>
          <p:cNvSpPr/>
          <p:nvPr/>
        </p:nvSpPr>
        <p:spPr>
          <a:xfrm>
            <a:off x="6402240" y="1670040"/>
            <a:ext cx="474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</a:t>
            </a:r>
            <a:r>
              <a:rPr b="1" i="1" lang="ru-RU" sz="2800" spc="-1" strike="noStrike" baseline="-25000">
                <a:solidFill>
                  <a:srgbClr val="7030a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9"/>
          <p:cNvSpPr/>
          <p:nvPr/>
        </p:nvSpPr>
        <p:spPr>
          <a:xfrm rot="16200000">
            <a:off x="4284360" y="3931560"/>
            <a:ext cx="142920" cy="14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0"/>
          <p:cNvSpPr/>
          <p:nvPr/>
        </p:nvSpPr>
        <p:spPr>
          <a:xfrm>
            <a:off x="3348000" y="5084640"/>
            <a:ext cx="2016000" cy="426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ДЕФИЦ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1"/>
          <p:cNvSpPr/>
          <p:nvPr/>
        </p:nvSpPr>
        <p:spPr>
          <a:xfrm flipV="1" rot="5400000">
            <a:off x="4285440" y="1482480"/>
            <a:ext cx="142920" cy="288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74880 h 2881080"/>
              <a:gd name="textAreaBottom" fmla="*/ 2806200 h 28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2"/>
          <p:cNvSpPr/>
          <p:nvPr/>
        </p:nvSpPr>
        <p:spPr>
          <a:xfrm>
            <a:off x="3564000" y="2133720"/>
            <a:ext cx="2016000" cy="426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ИЗБЫ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3"/>
          <p:cNvSpPr/>
          <p:nvPr/>
        </p:nvSpPr>
        <p:spPr>
          <a:xfrm>
            <a:off x="4315680" y="3500280"/>
            <a:ext cx="174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имулирующие функции процентной став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ffcc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800"/>
              </a:spcBef>
              <a:buClr>
                <a:srgbClr val="ffcc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сбережения насел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уществую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минальная став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процентная ставка, выраженная в рублях по текущему курс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альная став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процентная ставка, выраженная в неизменных рублях или с поправкой на инфляц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(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 = 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альная ставка процент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мп инфляци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– номинальная ставка процен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Tahoma"/>
                <a:ea typeface="Tahoma"/>
              </a:rPr>
              <a:t>Инвестиции. Дисконтированная стоим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вложения финансовых средств в различные виды эк деятельности с целью сохранения и увеличения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коне РФ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а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инансовые, портфе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в покупку акций, других ценных бума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бщее увеличение запаса капитал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учитывают затраты на возмещение (амортизацию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мортизац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роцесс замены изношенного основного капит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т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за вычетом средств, идущих на возмещ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 Амортизация + Чистые инвестиции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щность капита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контируем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приведённая (текущая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PV – текущая стоимост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R – ожидаемый в будущем доход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r – ставка дисконтирования (ставка ссудного процента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t – период времен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341360" y="981000"/>
                <a:ext cx="602928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192240" y="3213000"/>
                <a:ext cx="868968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 00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 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9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истая дисконтированная стоимость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PV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= П1 /(1 +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) + П2/(1+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/(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r)n —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PV 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чистая дисконтированная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прибыль, получаемая 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величина инвести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ктивный капитал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Эмиссионная ценная бумаг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мещается выпуска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чем сущность капитала как фактора произво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пределяется уровень доходности капит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пределить реальную ставку проц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дисконтированная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инвестиционный проект будет приня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ы капит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еский - материально-вещественный капитал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шины, здания, сооружения, сырье и т.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овый капитал – акции и другие ценные бумаги, счета в банках, патенты и т.д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ческий капит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ой капитал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ьные активы длительного пользования, такие, как здания, сооружения, машины, оборуд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оротный капитал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сновной капита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ужит в течение нескольких лет и подлежит замене (возмещению) лишь по мере физического или морального износ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боротный капита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ругооборот капитала —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деньги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рабочая сила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средства производства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производство…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 - 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борот капита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такое движение капитала, при котором авансированная стоимость полностью возмещает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вложения финансовых средств в различные виды эк деятельности с целью сохранения и увеличения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коне РФ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ublic access user</dc:creator>
  <dc:description/>
  <dc:language>en-US</dc:language>
  <cp:lastModifiedBy>LEGION</cp:lastModifiedBy>
  <dcterms:modified xsi:type="dcterms:W3CDTF">2016-01-04T13:41:35Z</dcterms:modified>
  <cp:revision>4</cp:revision>
  <dc:subject/>
  <dc:title>Тема 6.  Рынок капитала  и процент</dc:title>
</cp:coreProperties>
</file>