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4DBF-8E8C-4DC8-B77B-6B8816CB14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9DD-90A1-4901-8757-2B12274C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7F8-C25D-4E0C-BFF6-D09FEA2D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F55-5898-49A1-8656-3B90FE79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468-1FF6-465D-8B75-4F92282A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FA37-57EE-4546-9E01-7B81125C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A852-98B3-4AF1-805C-829163DF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F5DE-D61A-42D2-AE37-04D6E7E1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781E-A291-4974-B9E6-E46DEDA8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C7E9-82B4-4936-AD14-F8EF6A6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07B9-7A3A-4C3B-BC92-64C0B05A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E329-7240-461E-BC55-FDF2379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3F9-6DCE-4F9C-9400-BC795FA6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7CA8-F303-42C3-A51D-557F318C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2203-2D9C-48CC-870A-F79F921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4BDE-68B6-4D16-A840-AAE5CDF0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9ECB-933A-4BB7-9CE4-0C77FE4E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A36F-827A-4C4B-9EAA-9A59FD55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46A-0E0E-48B9-957B-B4D5EADB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F41-34B9-4577-BD3C-91784F8D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392-1D01-4699-BA58-058C551A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DA5-33AD-474F-8DD9-2862B929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022-5DC2-4EA6-AA51-7C418E97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59A-FB66-467C-98D4-B74C7534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D67-C548-477A-8C87-E9254AA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65D1-8EFE-4D36-9F93-CFF6E04E4B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4128-D713-4020-9EDF-CDD229259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D5B1-3601-4699-A4F1-3A5E1C7E75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7DFD-3047-4790-9FAF-66B3AE939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rojects\экономическая теория\PSD\6.jpg"/>
          <p:cNvPicPr/>
          <p:nvPr/>
        </p:nvPicPr>
        <p:blipFill>
          <a:blip r:embed="rId1"/>
          <a:stretch/>
        </p:blipFill>
        <p:spPr>
          <a:xfrm>
            <a:off x="0" y="-24300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6.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Рынок капитал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и проц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26920" y="4149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1. Сущность и формы капит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2. Ссудный процент. Номинальная и реальная ставка проц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3Дисконтированная сто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19280" y="2133720"/>
                <a:ext cx="5073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2000" y="259920"/>
            <a:ext cx="8642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819000" y="3213000"/>
                <a:ext cx="757728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Уровень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доходности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капитала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ирост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одукции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буду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окращение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отребления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настоя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капитал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итал воспроизвод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оцесс образования капитала резко активиз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ос на капитал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капитал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положительный наклон. Такое положение обусловлено тем, что, чем большую сумму капитала вы предлагает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узком смысле слова – ценность, приносящая до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09680" y="1839960"/>
            <a:ext cx="5029200" cy="3114720"/>
          </a:xfrm>
          <a:custGeom>
            <a:avLst/>
            <a:gdLst>
              <a:gd name="textAreaLeft" fmla="*/ 0 w 5029200"/>
              <a:gd name="textAreaRight" fmla="*/ 5029200 w 5029200"/>
              <a:gd name="textAreaTop" fmla="*/ 0 h 3114720"/>
              <a:gd name="textAreaBottom" fmla="*/ 3115080 h 3114720"/>
            </a:gdLst>
            <a:ahLst/>
            <a:rect l="textAreaLeft" t="textAreaTop" r="textAreaRight" b="textAreaBottom"/>
            <a:pathLst>
              <a:path w="381" h="218">
                <a:moveTo>
                  <a:pt x="0" y="218"/>
                </a:moveTo>
                <a:lnTo>
                  <a:pt x="55" y="204"/>
                </a:lnTo>
                <a:lnTo>
                  <a:pt x="109" y="184"/>
                </a:lnTo>
                <a:lnTo>
                  <a:pt x="163" y="156"/>
                </a:lnTo>
                <a:lnTo>
                  <a:pt x="218" y="122"/>
                </a:lnTo>
                <a:lnTo>
                  <a:pt x="272" y="82"/>
                </a:lnTo>
                <a:lnTo>
                  <a:pt x="326" y="41"/>
                </a:lnTo>
                <a:lnTo>
                  <a:pt x="381" y="0"/>
                </a:lnTo>
              </a:path>
            </a:pathLst>
          </a:custGeom>
          <a:noFill/>
          <a:ln w="507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1476360" y="1433160"/>
            <a:ext cx="1440" cy="431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476360" y="5734080"/>
            <a:ext cx="645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6400" y="56372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084320" y="513720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84320" y="46609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084320" y="41767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084320" y="368604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084320" y="3201840"/>
            <a:ext cx="39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084320" y="2728800"/>
            <a:ext cx="35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084320" y="223848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1200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8598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57876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4331160" y="58244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6411960" y="5829480"/>
            <a:ext cx="41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7143840" y="5829480"/>
            <a:ext cx="320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006880" y="5829480"/>
            <a:ext cx="412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726160" y="5829480"/>
            <a:ext cx="333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2050920" y="1989000"/>
            <a:ext cx="5129280" cy="3530880"/>
          </a:xfrm>
          <a:custGeom>
            <a:avLst/>
            <a:gdLst>
              <a:gd name="textAreaLeft" fmla="*/ 0 w 5129280"/>
              <a:gd name="textAreaRight" fmla="*/ 5129640 w 5129280"/>
              <a:gd name="textAreaTop" fmla="*/ 0 h 3530880"/>
              <a:gd name="textAreaBottom" fmla="*/ 3531240 h 3530880"/>
            </a:gdLst>
            <a:ahLst/>
            <a:rect l="textAreaLeft" t="textAreaTop" r="textAreaRight" b="textAreaBottom"/>
            <a:pathLst>
              <a:path w="381" h="261">
                <a:moveTo>
                  <a:pt x="0" y="0"/>
                </a:moveTo>
                <a:lnTo>
                  <a:pt x="55" y="49"/>
                </a:lnTo>
                <a:lnTo>
                  <a:pt x="109" y="98"/>
                </a:lnTo>
                <a:lnTo>
                  <a:pt x="163" y="146"/>
                </a:lnTo>
                <a:lnTo>
                  <a:pt x="218" y="187"/>
                </a:lnTo>
                <a:lnTo>
                  <a:pt x="272" y="220"/>
                </a:lnTo>
                <a:lnTo>
                  <a:pt x="326" y="244"/>
                </a:lnTo>
                <a:lnTo>
                  <a:pt x="381" y="261"/>
                </a:lnTo>
              </a:path>
            </a:pathLst>
          </a:custGeom>
          <a:noFill/>
          <a:ln w="507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4299120" y="3998880"/>
            <a:ext cx="141120" cy="127080"/>
          </a:xfrm>
          <a:prstGeom prst="ellipse">
            <a:avLst/>
          </a:prstGeom>
          <a:solidFill>
            <a:srgbClr val="00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916360" y="2997360"/>
            <a:ext cx="0" cy="273672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 flipV="1">
            <a:off x="5094360" y="4579920"/>
            <a:ext cx="1440" cy="111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494000" y="4052880"/>
            <a:ext cx="2869920" cy="1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 flipH="1" flipV="1">
            <a:off x="4373640" y="4062240"/>
            <a:ext cx="1440" cy="165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1471680" y="3003480"/>
            <a:ext cx="4249800" cy="0"/>
          </a:xfrm>
          <a:prstGeom prst="line">
            <a:avLst/>
          </a:prstGeom>
          <a:ln w="255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5824440" y="2978280"/>
            <a:ext cx="0" cy="27381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H="1" flipV="1">
            <a:off x="3642840" y="4468680"/>
            <a:ext cx="1800" cy="12448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1474920" y="4562640"/>
            <a:ext cx="3638520" cy="14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7853400" y="5753160"/>
            <a:ext cx="390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1042920" y="1197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837400" y="5033880"/>
            <a:ext cx="53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2050920" y="2513160"/>
            <a:ext cx="50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1085760" y="1670040"/>
            <a:ext cx="25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2009880" y="4262400"/>
            <a:ext cx="474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6402240" y="1670040"/>
            <a:ext cx="474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9"/>
          <p:cNvSpPr/>
          <p:nvPr/>
        </p:nvSpPr>
        <p:spPr>
          <a:xfrm rot="16200000">
            <a:off x="4284360" y="3931560"/>
            <a:ext cx="142920" cy="14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3348000" y="508464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ДЕФИЦ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1"/>
          <p:cNvSpPr/>
          <p:nvPr/>
        </p:nvSpPr>
        <p:spPr>
          <a:xfrm flipV="1" rot="5400000">
            <a:off x="4285440" y="1482480"/>
            <a:ext cx="142920" cy="28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3564000" y="213372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ИЗБ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4315680" y="3500280"/>
            <a:ext cx="174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минальная ста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процентная ставка, выраженная в рублях по текущему курс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альная ста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центная ставка, выраженная в неизменных рублях или с поправкой на инфля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альная ставка процен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п инфляци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номинальная ставка проц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ahoma"/>
                <a:ea typeface="Tahoma"/>
              </a:rPr>
              <a:t>Инвестиции. Дисконтированная сто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щность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341360" y="981000"/>
                <a:ext cx="60292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240" y="3213000"/>
                <a:ext cx="86896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П1 /(1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 + П2/(1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/(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r)n —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V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истая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быль, получаемая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еличина инвести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ктивный капитал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миссионная ценная бумаг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, здания, сооружения, сырье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ьные активы длительного пользования, такие, как здания, сооружения, машины, 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ротны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сновно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ит в течение нескольких лет и подлежит замене (возмещению) лишь по мере физического или морального изно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оротны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ругооборот капитала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деньг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рабочая сил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средства производств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роизводство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 - 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орот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кое движение капитала, при котором авансированная стоимость полностью возмещае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1:35Z</dcterms:modified>
  <cp:revision>4</cp:revision>
  <dc:subject/>
  <dc:title>Тема 6.  Рынок капитала  и процент</dc:title>
</cp:coreProperties>
</file>