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4B6C-9DF5-4131-A6EB-E36AAEBDAC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23A-548D-4F2A-B287-2EF6CFBE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43C-C7AB-46F0-A147-711333B0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FA6-0CE8-46C3-8F12-37808DA0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D2A-8927-442A-8CBA-4054D208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977-96DD-4D73-9F48-E6DD91FE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765-2602-4009-B35A-A7859C57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6AC-1C21-429A-92D7-B56FA256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946-BB90-4C32-8BCE-DC1B78A3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B16-5642-4153-8395-DA7C3E25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4B6-BA5D-4443-B7EB-6FD004B2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51C-E9D5-47A5-BF19-E3177D7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FD3-76D4-4751-B09B-C6898A17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BCB4-549D-4C6B-9DBF-2F1C62DDFB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13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хт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редставляет собой вознаграждение, выплачиваемое перевозчику за безопасную и сохранную доставку груз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80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фрахтовым рынк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понимается рынок морских транспортной продукции, рынок услуг по перевозке товаров мор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перевозимых груз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рыно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ухо-грузных судов и рынок танкерного тоннаж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собственности на суда и условий конкурен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крытый и закрытый ры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 географической направл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лится на 9 секций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оевропейский, Средиземноморский; Североамериканский, Южноамериканский, Тихоокеанский, Индийский, Дальневосточ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тралийский и Африканский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989000"/>
          <a:ext cx="8713800" cy="4535640"/>
        </p:xfrm>
        <a:graphic>
          <a:graphicData uri="http://schemas.openxmlformats.org/drawingml/2006/table">
            <a:tbl>
              <a:tblPr/>
              <a:tblGrid>
                <a:gridCol w="3384360"/>
                <a:gridCol w="1728720"/>
                <a:gridCol w="36007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расход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срок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антии доставки (надежность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у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транспорт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еревозч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52"/>
          <p:cNvSpPr/>
          <p:nvPr/>
        </p:nvSpPr>
        <p:spPr>
          <a:xfrm>
            <a:off x="370836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3"/>
          <p:cNvSpPr/>
          <p:nvPr/>
        </p:nvSpPr>
        <p:spPr>
          <a:xfrm flipH="1">
            <a:off x="3635280" y="40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6093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404640"/>
          <a:ext cx="8785440" cy="5472360"/>
        </p:xfrm>
        <a:graphic>
          <a:graphicData uri="http://schemas.openxmlformats.org/drawingml/2006/table">
            <a:tbl>
              <a:tblPr/>
              <a:tblGrid>
                <a:gridCol w="3168720"/>
                <a:gridCol w="1008000"/>
                <a:gridCol w="936720"/>
                <a:gridCol w="934920"/>
                <a:gridCol w="936720"/>
                <a:gridCol w="936720"/>
                <a:gridCol w="863640"/>
              </a:tblGrid>
              <a:tr h="98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ы, влияющие на выбор вида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нодоро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оби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бопро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424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рынком транспортных услуг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онимается рынок транспортной продукции, или рынок услуг по международным перевозкам груз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состоит в том, что грузоотправители и грузополучатели прежде всего выступают как продавцы и покупатели товаров, а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евозчик –  промежуточным звеном, без которого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делка купли - продаж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е может быть осуществлен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2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ранспортный факт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общественно необходимых затрат на доставку товар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от поставщика к потребителю, при этом оценивается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ая характеристика транспортного обслужи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на всем маршру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7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взаимной выг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тный принц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пределя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доход от продажи товар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издержки товародви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556000" y="2492280"/>
                <a:ext cx="41036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Э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278136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56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42Z</dcterms:modified>
  <cp:revision>7</cp:revision>
  <dc:subject/>
  <dc:title>Мировой рынок транспортных услуг</dc:title>
</cp:coreProperties>
</file>