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E5D0-7E21-4106-89A6-61545401FF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57F-6E33-4EB6-B01F-03BE1137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5B2-846F-43D2-8D2E-D59D6808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1DF-CB9B-4DCF-8F01-D40C6A74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378-2930-42D3-AF3C-94A98515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5A4-7799-4DBF-9A93-ED3B80C1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8CD-EF45-4C9A-92B5-F1305238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651-AD36-4A63-9AF3-7CC295F8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6FD-45CF-4DCC-A9E7-ACDC9C08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2AA-9F18-42A5-86C9-62A44326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26D-971C-4B10-8CFD-E25151F2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B5C-172B-45E0-BDA6-5B080881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349-1E7D-4B95-AA19-EB2F33AE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984F-580E-4E11-BA8C-2E4C157605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13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хт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едставляет собой вознаграждение, выплачиваемое перевозчику за безопасную и сохранную доставку груз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80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фрахтовым рынк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понимается рынок морских транспортной продукции, рынок услуг по перевозке товаров мор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перевозимых груз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рыно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ухо-грузных судов и рынок танкерного тонна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собственности на суда и условий конкурен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крытый и закрытый ры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 географической направл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лится на 9 секций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европейский, Средиземноморский; Североамериканский, Южноамериканский, Тихоокеанский, Индийский, Дальневосточ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тралийский и Африкански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989000"/>
          <a:ext cx="8713800" cy="4535640"/>
        </p:xfrm>
        <a:graphic>
          <a:graphicData uri="http://schemas.openxmlformats.org/drawingml/2006/table">
            <a:tbl>
              <a:tblPr/>
              <a:tblGrid>
                <a:gridCol w="3384360"/>
                <a:gridCol w="1728720"/>
                <a:gridCol w="36007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расход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срок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антии доставки (надежност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у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транспорт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еревозч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52"/>
          <p:cNvSpPr/>
          <p:nvPr/>
        </p:nvSpPr>
        <p:spPr>
          <a:xfrm>
            <a:off x="370836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3"/>
          <p:cNvSpPr/>
          <p:nvPr/>
        </p:nvSpPr>
        <p:spPr>
          <a:xfrm flipH="1">
            <a:off x="3635280" y="40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6093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404640"/>
          <a:ext cx="8785440" cy="5472360"/>
        </p:xfrm>
        <a:graphic>
          <a:graphicData uri="http://schemas.openxmlformats.org/drawingml/2006/table">
            <a:tbl>
              <a:tblPr/>
              <a:tblGrid>
                <a:gridCol w="3168720"/>
                <a:gridCol w="1008000"/>
                <a:gridCol w="936720"/>
                <a:gridCol w="934920"/>
                <a:gridCol w="936720"/>
                <a:gridCol w="936720"/>
                <a:gridCol w="863640"/>
              </a:tblGrid>
              <a:tr h="98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ы, влияющие на выбор вида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нодоро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оби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бопро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424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рынком транспортных услуг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онимается рынок транспортной продукции, или рынок услуг по международным перевозкам груз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остоит в том, что грузоотправители и грузополучатели прежде всего выступают как продавцы и покупатели товаров, а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евозчик –  промежуточным звеном, без которого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делка купли - продаж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е может быть осуществле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портный факт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общественно необходимых затрат на доставку това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от поставщика к потребителю, при этом оценивается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ая характеристика транспортного обслужи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на всем маршру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взаимной выг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тный принц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пределя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доход от продажи това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издержки товародви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556000" y="2492280"/>
                <a:ext cx="4103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Э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56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42Z</dcterms:modified>
  <cp:revision>7</cp:revision>
  <dc:subject/>
  <dc:title>Мировой рынок транспортных услуг</dc:title>
</cp:coreProperties>
</file>