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17280" y="735120"/>
            <a:ext cx="490068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F418-2275-4A42-9E8F-63DF0B9ACA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A463-A86D-4D6B-916C-DBB8A14C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234-5F6F-426F-BFDC-9BB8C834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C8F-0E71-458E-A9A7-2507D664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904-9C02-4B2F-8245-D4AF9C99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34EA-911C-4229-A1E8-42EA8FB8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EFF8-93E0-413A-8376-FB0E8C97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9C39-4B93-4368-856D-824E4C81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3019-F205-4791-834C-6A5BA5D9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3490-9250-4314-BBBF-6CD82241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AE09-1110-4F80-A0FB-F6902B81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00F3-9725-4EBC-93B1-440ABA44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EA5-CE94-4671-A9C7-ABAF9A55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2330-39E6-4D5F-8774-EDCCDBDD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6F88-4301-4EB9-A5A6-2626F33F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12CD-4789-4F8C-B2F2-AE55F47F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C1FE-F77B-445A-92C9-D61B4742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2BAB-9D2F-4D8E-87A3-B50804DF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8286-FFED-4E3F-BFF9-9347C2E1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F13-1836-4531-9D32-29F40DA5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31E-E425-4F67-A564-02052F4B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DEA-6422-43AA-BEC9-A3CFB953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9A1-258D-459D-B29F-D9DF67AD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55B-2B9F-4494-9E9F-AC215C6B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016-2D85-4823-A364-5E2EEC0C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4AD1-EA6D-4D38-8E35-1738FD8BCD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5332-2E7C-4E5F-ACA5-F1672174889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94;&#1077;&#1085;&#1072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73;&#1072;&#1085;&#1082;&#108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1"/>
          <p:cNvSpPr/>
          <p:nvPr/>
        </p:nvSpPr>
        <p:spPr>
          <a:xfrm>
            <a:off x="3557520" y="6021360"/>
            <a:ext cx="2895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6986520" y="6021360"/>
            <a:ext cx="1905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8401-28B5-4328-92A9-3FBD1152BB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108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ые отношения в экономик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71080" y="2976480"/>
            <a:ext cx="766764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Экономические систем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чные структур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нкуренция и монополия.</a:t>
            </a:r>
            <a:fld id="{044189C3-FB70-449A-8E02-9654ADFB7268}" type="slidenum">
              <a:rPr b="0" lang="ru-RU" sz="2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овременный рынок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тановление рыночной экономики в Росси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6C0D-0415-4779-BE01-1282BACD4C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свободного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4A17-28DF-45C1-AA8C-CDFEB8D598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Взаимовлияние спроса и предложения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371600" y="2209680"/>
            <a:ext cx="152280" cy="152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838080" y="2133720"/>
            <a:ext cx="4343400" cy="2057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Спрос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общественная потребность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выраженная в денежной форме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обеспеченная платежными средствам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азмеры спроса зависят от уровн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денежных доходов населения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сумм, выделяемых производителям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на приобретение средств производст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715000" y="2514600"/>
            <a:ext cx="3429000" cy="15238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Предложение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совокуп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товаров и услуг, котор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могут быть реализованы 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ынк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6248520" y="4038480"/>
            <a:ext cx="2590560" cy="16765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Влияет на спро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(формирует его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утем формирова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ассортимента  товар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и услуг, и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4419720" y="1676520"/>
            <a:ext cx="2438280" cy="990360"/>
          </a:xfrm>
          <a:custGeom>
            <a:avLst/>
            <a:gdLst>
              <a:gd name="textAreaLeft" fmla="*/ 356760 w 2438280"/>
              <a:gd name="textAreaRight" fmla="*/ 2081520 w 2438280"/>
              <a:gd name="textAreaTop" fmla="*/ 144720 h 990360"/>
              <a:gd name="textAreaBottom" fmla="*/ 845640 h 990360"/>
            </a:gdLst>
            <a:ahLst/>
            <a:rect l="textAreaLeft" t="textAreaTop" r="textAreaRight" b="textAreaBottom"/>
            <a:pathLst>
              <a:path w="21600" h="21600">
                <a:moveTo>
                  <a:pt x="15458" y="11353"/>
                </a:moveTo>
                <a:cubicBezTo>
                  <a:pt x="15480" y="11170"/>
                  <a:pt x="15491" y="10985"/>
                  <a:pt x="15491" y="10800"/>
                </a:cubicBezTo>
                <a:cubicBezTo>
                  <a:pt x="15491" y="8209"/>
                  <a:pt x="13390" y="6109"/>
                  <a:pt x="10800" y="6109"/>
                </a:cubicBezTo>
                <a:cubicBezTo>
                  <a:pt x="8209" y="6109"/>
                  <a:pt x="6109" y="8209"/>
                  <a:pt x="6109" y="10800"/>
                </a:cubicBezTo>
                <a:cubicBezTo>
                  <a:pt x="6108" y="10837"/>
                  <a:pt x="6109" y="10874"/>
                  <a:pt x="6110" y="10912"/>
                </a:cubicBezTo>
                <a:lnTo>
                  <a:pt x="3" y="11058"/>
                </a:lnTo>
                <a:cubicBezTo>
                  <a:pt x="1" y="10972"/>
                  <a:pt x="0" y="1088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226"/>
                  <a:pt x="21574" y="11652"/>
                  <a:pt x="21524" y="12075"/>
                </a:cubicBezTo>
                <a:lnTo>
                  <a:pt x="24205" y="12394"/>
                </a:lnTo>
                <a:lnTo>
                  <a:pt x="17812" y="17428"/>
                </a:lnTo>
                <a:lnTo>
                  <a:pt x="12777" y="11035"/>
                </a:lnTo>
                <a:lnTo>
                  <a:pt x="15458" y="1135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16"/>
          <p:cNvSpPr/>
          <p:nvPr/>
        </p:nvSpPr>
        <p:spPr>
          <a:xfrm flipH="1" flipV="1">
            <a:off x="4419720" y="3048120"/>
            <a:ext cx="1828800" cy="21333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312120 h 2133360"/>
              <a:gd name="textAreaBottom" fmla="*/ 1821240 h 2133360"/>
            </a:gdLst>
            <a:ahLst/>
            <a:rect l="textAreaLeft" t="textAreaTop" r="textAreaRight" b="textAreaBottom"/>
            <a:pathLst>
              <a:path w="21600" h="21600">
                <a:moveTo>
                  <a:pt x="15392" y="6203"/>
                </a:moveTo>
                <a:cubicBezTo>
                  <a:pt x="14174" y="4985"/>
                  <a:pt x="12522" y="4302"/>
                  <a:pt x="10800" y="4302"/>
                </a:cubicBezTo>
                <a:cubicBezTo>
                  <a:pt x="7211" y="4302"/>
                  <a:pt x="4302" y="7211"/>
                  <a:pt x="4302" y="10800"/>
                </a:cubicBezTo>
                <a:cubicBezTo>
                  <a:pt x="4301" y="10985"/>
                  <a:pt x="4309" y="11170"/>
                  <a:pt x="4325" y="11354"/>
                </a:cubicBezTo>
                <a:lnTo>
                  <a:pt x="39" y="11721"/>
                </a:lnTo>
                <a:cubicBezTo>
                  <a:pt x="13" y="11415"/>
                  <a:pt x="0" y="11107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62" y="-1"/>
                  <a:pt x="16408" y="1136"/>
                  <a:pt x="18433" y="3159"/>
                </a:cubicBezTo>
                <a:lnTo>
                  <a:pt x="20341" y="1249"/>
                </a:lnTo>
                <a:lnTo>
                  <a:pt x="20345" y="8110"/>
                </a:lnTo>
                <a:lnTo>
                  <a:pt x="13484" y="8113"/>
                </a:lnTo>
                <a:lnTo>
                  <a:pt x="15392" y="620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143000" y="4191120"/>
            <a:ext cx="2971800" cy="2286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Определяет предлож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через готовность оплати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имые товары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услуги. Чем больше спрос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тем больше цена товар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и устойчив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ств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99DD-4191-4631-99DA-D76D82A8B0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акторы, определяющие спрос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овой фактор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цена товара или услуги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ff"/>
                </a:solidFill>
                <a:uFillTx/>
                <a:latin typeface="Arial Narrow"/>
                <a:hlinkClick r:id="rId1"/>
              </a:rPr>
              <a:t>Цена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оличество денег, других товаров и услуг, уплачиваемое и получаемое за единицу товара или услуг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еценовые факторы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Численность потенциальных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еличина дохода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аличие заменителей товара или услуг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жидаемое поведение цен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енная политик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EDEC-AE0B-4B48-A605-E33E7C6CA21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ильные стороны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8483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ациональное распределение ресурсов между различными сферами деятель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вобода выбора и действий производителей и потреби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вышение качества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тимулирование внедрения достижений научно-технического прогресс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Бездефицитность рынка, удовлетворение разнообразных потребност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8EE7-354C-48C0-AF54-8FE232D2FC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лабые стороны (“изъяны”)</a:t>
            </a:r>
            <a:br>
              <a:rPr sz="3600"/>
            </a:b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1668-9028-4A4C-9910-7D34BA867F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Государственное регулировани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ожет компенсировать изъяны рыночного регулирован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Прямое(административное)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Косвенное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регулирование объемов денег в обращении, политика в области налогообложения, таможенных пошлин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084A-43C2-4E2A-963E-F40AF2C89E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Критерии характеристики рыночной структур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объекта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товаров и услуг, труда и капитала, информации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убъектам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покупателей, продавцов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географическому положению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местный, регион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тепени ограниченности конкуренци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свободный, монополистически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оответствию законодательству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легальный, нелег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B422-6EB6-40BF-8FA2-62E647A94A4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99840" y="1202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ый рынок</a:t>
            </a:r>
            <a:br>
              <a:rPr sz="4400"/>
            </a:b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(Рынок ценных бумаг)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овар – эмиссионные бумаг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Эмиссия (выпуск ценных бумаг)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Частная(выпуск акций и облигаций акционерными компаниям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Государственная (выпуск облигаций государственных займов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8A5F-5AEF-4382-80BA-C57AE14D3B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Финансовые документы, в которых зафиксированы права их владельца или предъявител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0217-E5E1-44DD-8807-D0EED1F555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        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EAA2-BCF5-48C8-AF08-C4712256C5F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Экономические систем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радицио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Рыночна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меша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69DA-51F2-47C9-BF4B-42151F9A51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Облигация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7568-F0F6-40F1-A18A-4E7FF99D76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азначейские обязательства государ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ексел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берегательные сертификат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Чек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кредитив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олговые расписк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вещани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2DC1-23F8-469F-9D01-9B6B7FA48B9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ункции рынка ценных бумаг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здание условий для передела собственност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существление покрытия дефицита текущего бюджет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0205-209D-4EAD-B48A-4350915D59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ая бирж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6814-FE71-41FA-92BC-C99A83179C0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Инфраструктура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овокупность институтов, служб, предприятий, обслуживающих рынок, особую роль в которой играют </a:t>
            </a:r>
            <a:r>
              <a:rPr b="0" lang="ru-RU" sz="3200" spc="-1" strike="noStrike" u="sng">
                <a:solidFill>
                  <a:srgbClr val="6666ff"/>
                </a:solidFill>
                <a:uFillTx/>
                <a:latin typeface="Arial Black"/>
                <a:hlinkClick r:id="rId1"/>
              </a:rPr>
              <a:t>банки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4F89-3900-4476-8D1F-E399295799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соперничество фирм покупателей и продавцов на рынк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онополистическ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лигополистическ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совершенн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Ценов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ценов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452D-38CA-4CFD-9A7C-3DDE2D4294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Недобросовестная 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7E20-18C8-4630-AAA8-DCFFAC57E7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Чистая конкуренц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(совершенная, идеаль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4D2F-D051-4D8B-9BDD-93D20204C9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Причины возникновения монополии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 Black"/>
              </a:rPr>
              <a:t>Монопольная цена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92B3-6F62-47E3-96BD-199735BB5A8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Взаимодействие рынка и государств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Является обязательной составляющей механизма возникновения монополи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219320" y="2895480"/>
          <a:ext cx="7924680" cy="3645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пуститель-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ощрение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евосходство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Установление естественных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не противостоит возникновению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о поощряет возникновение монополий путем установления тарифов, патентов, при реализации политики протекцион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допускает превосходство монополиста в технологиях, вт.ч. управленческих, что ведет к разорению остальных продавц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ление государственных монополий (на пользование или добычу сырья, выпуск денег и т.п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AD11-C66A-4BCE-8D55-766FD05EF4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Традиционная экономика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изводство обмен, распределение доходов базируются на освященных временем обычая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0CAF-0C29-47E2-BCCB-C3BFB13498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55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ом средств производства и ресурсов является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полностью регулирует все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определяется государством, есть черный рынок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CA84-4BDF-47A0-90BB-81295787A67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еобладает частная собственность на ресурс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Существует конкурентная сред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Цены и уровень зарплаты складываются стихийно,  под влиянием спроса и предлож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Государство выступает в роли частной фирм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82AE-7BB4-4F86-8BBC-BFD42217894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Смешан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в основном регулирует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8B1C-CE91-4AE9-BC44-732BF8455E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           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к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тдельная сфера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Место для осуществления торговых операци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9DFB-7481-4147-A9EB-E7D43BCB30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ое предложение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роизводитель свободно решает, что, как, сколько, для кого производить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ый спрос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отребитель сам решает, что, где, как, сколько покупать)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ая (свободная) цена зависит от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5F33-E152-468D-978D-B2EFE5ECC6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219320" y="2209680"/>
            <a:ext cx="167616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Финансовы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809880" y="2209680"/>
            <a:ext cx="167652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ова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и услу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553080" y="2209680"/>
            <a:ext cx="182880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факто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219320" y="3429000"/>
            <a:ext cx="11430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дене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2819520" y="3581280"/>
            <a:ext cx="129528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апитал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5181480" y="3581280"/>
            <a:ext cx="12956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зем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7543800" y="3657600"/>
            <a:ext cx="13716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ру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AutoShape 19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AutoShape 20"/>
          <p:cNvCxnSpPr>
            <a:stCxn id="172" idx="2"/>
            <a:endCxn id="176" idx="0"/>
          </p:cNvCxnSpPr>
          <p:nvPr/>
        </p:nvCxnSpPr>
        <p:spPr>
          <a:xfrm>
            <a:off x="2057400" y="3047760"/>
            <a:ext cx="14104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AutoShape 21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22"/>
          <p:cNvCxnSpPr>
            <a:stCxn id="174" idx="2"/>
            <a:endCxn id="177" idx="0"/>
          </p:cNvCxnSpPr>
          <p:nvPr/>
        </p:nvCxnSpPr>
        <p:spPr>
          <a:xfrm flipH="1">
            <a:off x="5829120" y="3124080"/>
            <a:ext cx="16387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AutoShape 23"/>
          <p:cNvCxnSpPr>
            <a:stCxn id="174" idx="2"/>
            <a:endCxn id="178" idx="0"/>
          </p:cNvCxnSpPr>
          <p:nvPr/>
        </p:nvCxnSpPr>
        <p:spPr>
          <a:xfrm>
            <a:off x="7467120" y="3124080"/>
            <a:ext cx="76284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Rectangle 24"/>
          <p:cNvSpPr/>
          <p:nvPr/>
        </p:nvSpPr>
        <p:spPr>
          <a:xfrm>
            <a:off x="1523880" y="4876920"/>
            <a:ext cx="14479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ценных бума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3505320" y="4876920"/>
            <a:ext cx="13716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реди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400800" y="4724280"/>
            <a:ext cx="1371600" cy="10670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средст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7" name="AutoShape 28"/>
          <p:cNvCxnSpPr>
            <a:stCxn id="174" idx="2"/>
            <a:endCxn id="186" idx="0"/>
          </p:cNvCxnSpPr>
          <p:nvPr/>
        </p:nvCxnSpPr>
        <p:spPr>
          <a:xfrm flipH="1">
            <a:off x="7086240" y="3123720"/>
            <a:ext cx="381600" cy="1600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1"/>
          <p:cNvCxnSpPr>
            <a:stCxn id="176" idx="2"/>
            <a:endCxn id="184" idx="0"/>
          </p:cNvCxnSpPr>
          <p:nvPr/>
        </p:nvCxnSpPr>
        <p:spPr>
          <a:xfrm flipH="1">
            <a:off x="2247120" y="4267080"/>
            <a:ext cx="122004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2"/>
          <p:cNvCxnSpPr>
            <a:stCxn id="176" idx="2"/>
            <a:endCxn id="185" idx="0"/>
          </p:cNvCxnSpPr>
          <p:nvPr/>
        </p:nvCxnSpPr>
        <p:spPr>
          <a:xfrm>
            <a:off x="3466800" y="4267080"/>
            <a:ext cx="7246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0" name="Rectangle 33"/>
          <p:cNvSpPr/>
          <p:nvPr/>
        </p:nvSpPr>
        <p:spPr>
          <a:xfrm>
            <a:off x="3200400" y="457200"/>
            <a:ext cx="2819520" cy="1143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1932"/>
                </a:solidFill>
                <a:latin typeface="Arial Black"/>
              </a:rPr>
              <a:t>Рын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1" name="AutoShape 39"/>
          <p:cNvCxnSpPr>
            <a:stCxn id="190" idx="2"/>
            <a:endCxn id="172" idx="0"/>
          </p:cNvCxnSpPr>
          <p:nvPr/>
        </p:nvCxnSpPr>
        <p:spPr>
          <a:xfrm flipH="1">
            <a:off x="2057040" y="1599840"/>
            <a:ext cx="25531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2" name="AutoShape 40"/>
          <p:cNvCxnSpPr>
            <a:stCxn id="190" idx="2"/>
            <a:endCxn id="174" idx="0"/>
          </p:cNvCxnSpPr>
          <p:nvPr/>
        </p:nvCxnSpPr>
        <p:spPr>
          <a:xfrm>
            <a:off x="4609800" y="1599840"/>
            <a:ext cx="285804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0" idx="2"/>
          </p:cNvCxnSpPr>
          <p:nvPr/>
        </p:nvCxnSpPr>
        <p:spPr>
          <a:xfrm>
            <a:off x="4609800" y="15998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56Z</dcterms:modified>
  <cp:revision>35</cp:revision>
  <dc:subject/>
  <dc:title>PowerPoint Presentation</dc:title>
</cp:coreProperties>
</file>