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B0E5-6350-47F7-9691-8A6FE34AD1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знаний и современные технологии обмена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поненко А.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едующий кафедрой менеджмента РАГС при Президенте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знаний и современные технологии обмена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апоненко А.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ведующий кафедрой менеджмента РАГС при Президенте РФ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овые и индивиду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ные и неявны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разных вид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иды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рупповые и индивидуальны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Явные и неявные зн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разных вид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ь не только получает готовые знания, но и участвует в создании необходимого зн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ирование по поводу разработки стратегии предприятия: совместная деятельность является главным условием передачи накопленных знаний и производства нового 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ь должен изначально обладать необходимым уровнем контекстуальных зн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тех или иных знаний зависит от подготовки реципиента. Перенос новых наукоемких технологий требует соответствующей подготов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обенности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упатель не только получает готовые знания, но и участвует в создании необходимого знания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сультирование по поводу разработки стратегии предприятия: совместная деятельность является главным условием передачи накопленных знаний и производства нового знан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упатель должен изначально обладать необходимым уровнем контекстуальных знаний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ность тех или иных знаний зависит от подготовки реципиента. Перенос новых наукоемких технологий требует соответствующей подготов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екты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, при которых рыночные механизмы не способны обеспечить эффективное распределение  ресур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 эффе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опольная вла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имметричная информ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ефекты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словия, при которых рыночные механизмы не способны обеспечить эффективное распределение  ресурсов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щественные бла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нешние эффекты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онопольная власть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симметричная информац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о на рынка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екты рынка требуют соответствующего государственного  вмеш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общественных благ финансируется через 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гувианские налоги на производителей благ, обладающих внешними эфф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дательные ограничения на предоставление ложной информации, снижающие асимметричный характе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ентное право, регулирование интеллектуальной собственности, формирование монополий по использованию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осударство на рынках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ефекты рынка требуют соответствующего государственного  вмешательств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оизводство общественных благ финансируется через налог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игувианские налоги на производителей благ, обладающих внешними эффектам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конодательные ограничения на предоставление ложной информации, снижающие асимметричный характер информ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атентное право, регулирование интеллектуальной собственности, формирование монополий по использованию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истемы охраны интеллектуальной 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Росс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интеллектуальной собственности, созданные при государственном финансировании, принадлежат государств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СШ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Байя-Доула (1980). Права собственности на изобретения, созданные за счет бюджетных средств, переданы тем организациям, где эти изобретения созд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закона Байя-Доула привело к расширению сотрудничества между исследовательскими институтами, университетами, лабораториями и промышленност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азвитие системы охраны интеллектуальной собственност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ыт России: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ъекты интеллектуальной собственности, созданные при государственном финансировании, принадлежат государству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ыт США: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кон Байя-Доула (1980). Права собственности на изобретения, созданные за счет бюджетных средств, переданы тем организациям, где эти изобретения созданы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нятие закона Байя-Доула привело к расширению сотрудничества между исследовательскими институтами, университетами, лабораториями и промышленностью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удсорсинг на рынке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удсорсинг: «crowd» – толпа, «source» – источн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удсорсинг - передача задания по созданию нового знания большой группе людей в форме открытого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краудсорсинг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й техноло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го продукта (в виде операционной системы, энциклопед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большого количеств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аудсорсинг на рынке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аудсорсинг: «crowd» – толпа, «source» – источник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аудсорсинг - передача задания по созданию нового знания большой группе людей в форме открытого предложения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меты краудсорсинг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здание новой технологи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здание нового продукта (в виде операционной системы, энциклопедии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работка большого количества данных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кипед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циклопедия, авторами которой стали тысячи пользователей Интер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InnoCentive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исследований в разнообразных областях – от инженерии до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диняет более 125 000 исследователей, предлагающих свои решения для конкретных комп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Amazon Mechanical Turk» - интеллектуальная бир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интересованные фирмы и организации выставляют на всеобщее обозрение интеллектуальные за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может предложить собственные решения в расчете на вознагра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икипед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нциклопедия, авторами которой стали тысячи пользователей Интерне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InnoCentive»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оведение исследований в разнообразных областях – от инженерии до менеджмент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ъединяет более 125 000 исследователей, предлагающих свои решения для конкретных комп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Amazon Mechanical Turk» - интеллектуальная бирж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интересованные фирмы и организации выставляют на всеобщее обозрение интеллектуальные задач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аждый может предложить собственные решения в расчете на вознаграждени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Goldcorp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ла более 400 мегабайт данных геологоразведки на своем участке в штате Онтари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ила приз в 575 000 долларов тому, кто проанализирует лучшим образом эти данные и укажет места залегания зол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конкурса  указали на 110 мест  залегания золота на сумму более 3 млрд. до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 выиграла небольшая австралийская консалтинговая компания «Fractal Graphics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Goldcorp»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брала более 400 мегабайт данных геологоразведки на своем участке в штате Онтарио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ложила приз в 575 000 долларов тому, кто проанализирует лучшим образом эти данные и укажет места залегания золот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частники конкурса  указали на 110 мест  залегания золота на сумму более 3 млрд. дол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з выиграла небольшая австралийская консалтинговая компания «Fractal Graphics»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nnovation J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0 000 людей из 104 стран участвовали в виртуальном мозговом штурме по поводу новых идей в транспорте, в охране окружающей среды, в финансах, коммер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ей IBM сформировано 10 масштабных проектов с начальными инвестициями в 100 млн. долл. кажд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еренция ООН по городам в 2006 году (Value Ja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совое участие в выработке новых ид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ое осуществление IB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nnovation Ja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50 000 людей из 104 стран участвовали в виртуальном мозговом штурме по поводу новых идей в транспорте, в охране окружающей среды, в финансах, коммерци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мпанией IBM сформировано 10 масштабных проектов с начальными инвестициями в 100 млн. долл. кажды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ференция ООН по городам в 2006 году (Value Jam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ассовое участие в выработке новых идей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хнологическое осуществление IB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знаниями и распространение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и распространение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и обмен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лат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бесплат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знаний – одна из форм обмена и распространен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мен знаниями и распространение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мен и распространение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нутри организ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не организ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аспространение и обмен знаний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 платной основ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 бесплатной основ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знаний – одна из форм обмена и распространения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 – доказанное истинное убеждение (Плато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– осведомленность о чем-либо, приобретенная из опыта (Оксфордский словар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– отражение внешнего и внутреннего мира в сознании человека в форме представлений, понятий, суждений, теорий (Википед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 деятельности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потреб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тезав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купли-продаж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только предмет трансакций, но и средство транс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е  – доказанное истинное убеждение (Платон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– осведомленность о чем-либо, приобретенная из опыта (Оксфордский словарь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– отражение внешнего и внутреннего мира в сознании человека в форме представлений, понятий, суждений, теорий (Википедия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одукт деятельности люде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мет потреблен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редство тезавр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мет купли-продажи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 только предмет трансакций, но и средство трансакц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ыночные формы обмена зна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ыночные формы обмена внутр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зговые ата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ране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почт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ща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товня в каф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ыночные формы обмена вне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ерен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опыт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профессиональных сообществ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удсорс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рыночные формы обмена знаниям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рыночные формы обмена внутри организ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озговые атаки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нтранет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лектронная почта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вещания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олтовня в каф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рыночные формы обмена вне организ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ференции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мен опытом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частие в профессиональных сообществах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аудсорсинг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механизмы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ются не знания, а рекламные возмож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ент – бесплатно, а за рекламу платя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не продаются, а распространяются на бесплатной основе с целью укрепления брен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ача на бесплатной основе для построения бренда (семинар, открытые лек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кционные и конкурсные прода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единичные трансакции, а связанные цепочки трансакций с элементами рыночного и нерыночного взаимо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овые механизмы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одаются не знания, а рекламные возможност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тент – бесплатно, а за рекламу платя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не продаются, а распространяются на бесплатной основе с целью укрепления бренд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аздача на бесплатной основе для построения бренда (семинар, открытые лекции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укционные и конкурсные продаж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 единичные трансакции, а связанные цепочки трансакций с элементами рыночного и нерыночного взаимодейств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знаний в России: степень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поданных заявок на изобретения  на 1 млн. населения в России в 3 - 4 раза ниже, чем в США и Германии, в 18 - 19 раз ниже, чем в Япо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очно развиты процедуры коммерциализации результатов интеллектуально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бо развиты институты рынка знаний, способствующие распространению знаний в инновационной сфере (венчурные фонды, фонды, финансирующие прикладные исследования, корпоративные университеты и п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бо развиты современные формы обмена знаниями (краудсорсинг, бло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в полной мере используется мировой опыт в сфере государственного регулирования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знаний в России: степень развит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личество поданных заявок на изобретения  на 1 млн. населения в России в 3 - 4 раза ниже, чем в США и Германии, в 18 - 19 раз ниже, чем в Япон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достаточно развиты процедуры коммерциализации результатов интеллектуальной деятельност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лабо развиты институты рынка знаний, способствующие распространению знаний в инновационной сфере (венчурные фонды, фонды, финансирующие прикладные исследования, корпоративные университеты и пр.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лабо развиты современные формы обмена знаниями (краудсорсинг, блоги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 в полной мере используется мировой опыт в сфере государственного регулирования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в свернутом виде присутствует в любом товаре и услу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ный галстук, реактивный истребитель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вместе со своими носителями становятся основой конкурентоспособности того или ин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олог винодельческого хозяйства, шеф-повар ресторана, главный конструктор предприятия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трудно отделить от носителя (чело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ст (менеджер, хирург, специалист по инвестированию), предлагая свои услуги, фактически предлагает свои зн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в свернутом виде присутствует в любом товаре и услуг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одный галстук, реактивный истребитель, …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вместе со своими носителями становятся основой конкурентоспособности того или иного предприят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нолог винодельческого хозяйства, шеф-повар ресторана, главный конструктор предприятия, …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трудно отделить от носителя (человека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ециалист (менеджер, хирург, специалист по инвестированию), предлагая свои услуги, фактически предлагает свои знания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страктное или реальное пространство, в котором происходит купля-продажа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условий, благодаря которым покупатели и продавцы вступают в контакт друг с друг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ырья, материалов, средст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вижимости, потребительских това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, капитала, валюты, рабочей с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бстрактное или реальное пространство, в котором происходит купля-продажа товаров и услуг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вокупность условий, благодаря которым покупатели и продавцы вступают в контакт друг с другом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ырья, материалов, средств производств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движимости, потребительских товаров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слуг, капитала, валюты, рабочей силы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…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кладной науке - рынки результатов научных исследований и разработо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разовании - рынки образовательных услуг (услуг по передаче знани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редствах массовой информации - рынки новост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иблиотечном и архивном деле - рынки услуг по хранению, поиску и предоставлению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ры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прикладной науке - рынки результатов научных исследований и разработок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образовании - рынки образовательных услуг (услуг по передаче знаний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средствах массовой информации - рынки новостной информ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библиотечном и архивном деле - рынки услуг по хранению, поиску и предоставлению информ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рынков предметов, услуг 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заимосвязь рынков предметов, услуг и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покупки и продаж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ка кодифицированных знаний – передача информации устно или на носите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цессе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ем сотрудников, обладающих знаниями и опыт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партнерских отношений с другой организацией, сотрудники которой обладают соответствующими знаниями и опы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цессе слияний и погло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ка консультационных услу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особы покупки и продажи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упка кодифицированных знаний – передача информации устно или на носител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процессе обуче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ем сотрудников, обладающих знаниями и опытом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еализация партнерских отношений с другой организацией, сотрудники которой обладают соответствующими знаниями и опытом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процессе слияний и поглоще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упка консультационных услуг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е, информация и знания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в широком и узком смы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анные, информация и знания:</a:t>
            </a:r>
            <a:br>
              <a:rPr sz="1200"/>
            </a:b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в широком и узком смысл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данных, информации 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е о биржевых сделк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е об опытах на сложном оборудовании (например, на синхрофазотрон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информ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жный рын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удио и видеопродук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научно-технической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новостной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шпионских свед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промышленных секр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онсалтинг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университетского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управленческих кад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пециалистов различных сфер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данных, информации и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данных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анные о биржевых сделках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анные об опытах на сложном оборудовании (например, на синхрофазотроне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информаци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нижный рынок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аудио и видеопродук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научно-технической информа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новостной информа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шпионских сведений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промышленных секре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консалтинговых услуг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университетского образов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управленческих кадров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специалистов различных сфер деятельн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176C-5F93-4D3A-A874-EAFC5A2A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8506-613A-4037-BA0D-38CD4D9F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8ABC-3178-4F99-82F7-2DD288B9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1A52-A3F9-4924-935B-7BAE1DB1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6C6E-AD8E-4369-9B10-FCBD8B12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70E4-5DEB-4CE5-A9B9-82155E40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8802-3583-4CA9-9E9B-9702D535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0BB5-9339-4CB4-83CF-9F7550C0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AC0D-B221-4458-8B21-F660384E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6F69-580F-4C01-B0C0-D8CD20C7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1B09-A734-4DD7-8B27-D43E1026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84BE-3F3A-4AB5-A51D-36F55335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B764-647B-4A97-AC40-B24E67EB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CE92-B9D8-406F-83B7-587E1BAE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A651-5B9D-4A67-B129-353BEF5F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34BD-610F-43C1-A61A-ED9C96D4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6A67-14D1-4B10-B551-3F55DB2EC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3111-AB9C-4A19-8A00-F84E87BE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F2B8-6988-43AD-81B1-8C3D046A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0AA5-9614-475E-BD20-CDC624BC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5282-1163-4FB2-9704-7606D2B7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52FA-60B1-427A-830C-BCF4826E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07A8-D4AC-4075-85D0-BB9B328E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66F2-2687-4F85-A363-6037C4F1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91B3-B356-4692-9835-7636D8B096E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DB31-F119-4A7D-9F5E-EA05F56FE09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mazon_Mechanical_Turk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oldcor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ынки знаний и современные технологии обмена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Гапоненко А.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заведующий кафедрой менеджмента РАГС при Президенте Р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иды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рупповые и индивидуальны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вные и неявные зн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ынки разных видов зна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9" name="Group 32"/>
          <p:cNvGrpSpPr/>
          <p:nvPr/>
        </p:nvGrpSpPr>
        <p:grpSpPr>
          <a:xfrm>
            <a:off x="2124000" y="3933720"/>
            <a:ext cx="5756400" cy="2317320"/>
            <a:chOff x="2124000" y="3933720"/>
            <a:chExt cx="5756400" cy="2317320"/>
          </a:xfrm>
        </p:grpSpPr>
        <p:grpSp>
          <p:nvGrpSpPr>
            <p:cNvPr id="150" name="Group 33"/>
            <p:cNvGrpSpPr/>
            <p:nvPr/>
          </p:nvGrpSpPr>
          <p:grpSpPr>
            <a:xfrm>
              <a:off x="2124000" y="3933720"/>
              <a:ext cx="5756400" cy="2317320"/>
              <a:chOff x="2124000" y="3933720"/>
              <a:chExt cx="5756400" cy="2317320"/>
            </a:xfrm>
          </p:grpSpPr>
          <p:sp>
            <p:nvSpPr>
              <p:cNvPr id="151" name="WordArt 34"/>
              <p:cNvSpPr txBox="1"/>
              <p:nvPr/>
            </p:nvSpPr>
            <p:spPr>
              <a:xfrm>
                <a:off x="4257360" y="3933720"/>
                <a:ext cx="1072080" cy="2275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2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Знания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grpSp>
            <p:nvGrpSpPr>
              <p:cNvPr id="152" name="Group 35"/>
              <p:cNvGrpSpPr/>
              <p:nvPr/>
            </p:nvGrpSpPr>
            <p:grpSpPr>
              <a:xfrm>
                <a:off x="2124000" y="4023360"/>
                <a:ext cx="5756400" cy="2227680"/>
                <a:chOff x="2124000" y="4023360"/>
                <a:chExt cx="5756400" cy="2227680"/>
              </a:xfrm>
            </p:grpSpPr>
            <p:sp>
              <p:nvSpPr>
                <p:cNvPr id="153" name="AutoShape 36"/>
                <p:cNvSpPr/>
                <p:nvPr/>
              </p:nvSpPr>
              <p:spPr>
                <a:xfrm>
                  <a:off x="2124000" y="4023360"/>
                  <a:ext cx="5756400" cy="222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4" name="Oval 37"/>
                <p:cNvSpPr/>
                <p:nvPr/>
              </p:nvSpPr>
              <p:spPr>
                <a:xfrm>
                  <a:off x="3703680" y="4598280"/>
                  <a:ext cx="2258640" cy="1293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5" name="Line 38"/>
                <p:cNvSpPr/>
                <p:nvPr/>
              </p:nvSpPr>
              <p:spPr>
                <a:xfrm>
                  <a:off x="4832640" y="4598280"/>
                  <a:ext cx="0" cy="1293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39"/>
                <p:cNvSpPr/>
                <p:nvPr/>
              </p:nvSpPr>
              <p:spPr>
                <a:xfrm>
                  <a:off x="4042440" y="4167000"/>
                  <a:ext cx="1693080" cy="286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7" name="Line 40"/>
                <p:cNvSpPr/>
                <p:nvPr/>
              </p:nvSpPr>
              <p:spPr>
                <a:xfrm>
                  <a:off x="3365280" y="4741920"/>
                  <a:ext cx="789840" cy="28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8" name="Text Box 41"/>
                <p:cNvSpPr/>
                <p:nvPr/>
              </p:nvSpPr>
              <p:spPr>
                <a:xfrm>
                  <a:off x="2349360" y="4382640"/>
                  <a:ext cx="1692360" cy="35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8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Явные индивидуальные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42"/>
                <p:cNvSpPr/>
                <p:nvPr/>
              </p:nvSpPr>
              <p:spPr>
                <a:xfrm>
                  <a:off x="5848560" y="4454280"/>
                  <a:ext cx="1690920" cy="35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2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Явные 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групповые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43"/>
                <p:cNvSpPr/>
                <p:nvPr/>
              </p:nvSpPr>
              <p:spPr>
                <a:xfrm>
                  <a:off x="5961240" y="5676120"/>
                  <a:ext cx="1690920" cy="35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8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Неявные групповые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1" name="Text Box 44"/>
                <p:cNvSpPr/>
                <p:nvPr/>
              </p:nvSpPr>
              <p:spPr>
                <a:xfrm>
                  <a:off x="2349360" y="5676120"/>
                  <a:ext cx="1580400" cy="35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2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Неявные индивидуальные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2" name="Line 45"/>
                <p:cNvSpPr/>
                <p:nvPr/>
              </p:nvSpPr>
              <p:spPr>
                <a:xfrm flipV="1">
                  <a:off x="3252600" y="5531760"/>
                  <a:ext cx="1015200" cy="143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3" name="Line 46"/>
                <p:cNvSpPr/>
                <p:nvPr/>
              </p:nvSpPr>
              <p:spPr>
                <a:xfrm flipH="1">
                  <a:off x="5396760" y="4741920"/>
                  <a:ext cx="903240" cy="215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4" name="Line 47"/>
                <p:cNvSpPr/>
                <p:nvPr/>
              </p:nvSpPr>
              <p:spPr>
                <a:xfrm flipH="1" flipV="1">
                  <a:off x="5171400" y="5531760"/>
                  <a:ext cx="1128960" cy="143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" name="Line 48"/>
            <p:cNvSpPr/>
            <p:nvPr/>
          </p:nvSpPr>
          <p:spPr>
            <a:xfrm>
              <a:off x="3688200" y="5201280"/>
              <a:ext cx="22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обенности рынков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упатель не только получает готовые знания, но и участвует в создании необходимого знан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нсультирование по поводу разработки стратегии предприятия: совместная деятельность является главным условием передачи накопленных знаний и производства нового зн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упатель должен изначально обладать необходимым уровнем контекстуальных знан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Ценность тех или иных знаний зависит от подготовки реципиента. Перенос новых наукоемких технологий требует соответствующей подготовк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ефекты рынков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словия, при которых рыночные механизмы не способны обеспечить эффективное распределение  ресурсов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щественные благ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нешние эффек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нопольная власть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симметричная информация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осударство на рынках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Дефекты рынка требуют соответствующего государственного  вмешательст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изводство общественных благ финансируется через налог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игувианские налоги на производителей благ, обладающих внешними эффектам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аконодательные ограничения на предоставление ложной информации, снижающие асимметричный характер информац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атентное право, регулирование интеллектуальной собственности, формирование монополий по использованию зна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звитие системы охраны интеллектуальной собствен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пыт России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ъекты интеллектуальной собственности, созданные при государственном финансировании, принадлежат государству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пыт США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акон Байя-Доула (1980). Права собственности на изобретения, созданные за счет бюджетных средств, переданы тем организациям, где эти изобретения созданы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нятие закона Байя-Доула привело к расширению сотрудничества между исследовательскими институтами, университетами, лабораториями и промышленностью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раудсорсинг на рынке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удсорсинг: «crowd» – толпа, «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urce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» – источник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удсорсинг - передача задания по созданию нового знания большой группе людей в форме открытого предложен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едметы краудсорсинга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здание новой технолог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здание нового продукта (в виде операционной системы, энциклопедии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работка большого количества данны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ы краудсорсинг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икипеди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энциклопедия, авторами которой стали тысячи пользователей Интерне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InnoCentive»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ведение исследований в разнообразных областях – от инженерии до менеджмен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ъединяет более 125 000 исследователей, предлагающих свои решения для конкретных компан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Amazon Mechanical Turk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» - интеллектуальная бирж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аинтересованные фирмы и организации выставляют на всеобщее обозрение интеллектуальные задач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аждый может предложить собственные решения в расчете на вознагражде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ы краудсорсинг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Goldcorp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брала более 400 мегабайт данных геологоразведки на своем участке в штате Онтарио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едложила приз в 575 000 долларов тому, кто проанализирует лучшим образом эти данные и укажет места залегания золо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астники конкурса  указали на 110 мест  залегания золота на сумму более 3 млрд. дол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з выиграла небольшая австралийская консалтинговая компания «Fractal Graphics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ы краудсорсинг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Innovation Jam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50 000 людей из 104 стран участвовали в виртуальном мозговом штурме по поводу новых идей в транспорте, в охране окружающей среды, в финансах, коммерц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мпанией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BM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формировано 10 масштабных проектов с начальными инвестициями в 100 млн. долл. кажды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нференция ООН по городам в 2006 году (Value Jam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ассовое участие в выработке новых идей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ехнологическое осуществление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мен знаниями и распространение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мен и распространение зна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нутри орган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не орган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спространение и обмен знани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платной основ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бесплатной основ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знаний – одна из форм обмена и распространения зна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е  – доказанное истинное убеждение (Платон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– осведомленность о чем-либо, приобретенная из опыта (Оксфордский словарь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– отражение внешнего и внутреннего мира в сознании человека в форме представлений, понятий, суждений, теорий (Википедия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дукт деятельности люде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дмет потреблени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редство тезаврац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дмет купли-продажи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 только предмет трансакций, но и средство трансакц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ерыночные формы обмена знаниям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рыночные формы обмена внутри орган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озговые атаки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транет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лектронная почта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вещания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олтовня в каф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рыночные формы обмена вне орган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нференции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мен опытом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астие в профессиональных сообществах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раудсорсин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овые механизмы рынков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даются не знания, а рекламные возможност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нтент – бесплатно, а за рекламу платя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ния не продаются, а распространяются на бесплатной основе с целью укрепления брен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дача на бесплатной основе для построения бренда (семинар, открытые лекции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укционные и конкурсные продаж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Не единичные трансакции, а связанные цепочки трансакций с элементами рыночного и нерыночного взаимодейств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ынки знаний в России: степень развит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личество поданных заявок на изобретения  на 1 млн. населения в России в 3 - 4 раза ниже, чем в США и Германии, в 18 - 19 раз ниже, чем в Япон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достаточно развиты процедуры коммерциализации результатов интеллектуальной деятельност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лабо развиты институты рынка знаний, способствующие распространению знаний в инновационной сфере (венчурные фонды, фонды, финансирующие прикладные исследования, корпоративные университеты и пр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лабо развиты современные формы обмена знаниями (краудсорсинг, блоги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 в полной мере используется мировой опыт в сфере государственного регулирования рынков зна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в свернутом виде присутствует в любом товаре и услуг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дный галстук, реактивный истребитель, …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вместе со своими носителями становятся основой конкурентоспособности того или иного предприят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энолог винодельческого хозяйства, шеф-повар ресторана, главный конструктор предприятия, …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трудно отделить от носителя (человека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пециалист (менеджер, хирург, специалист по инвестированию), предлагая свои услуги, фактически предлагает свои знания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ынок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бстрактное или реальное пространство, в котором происходит купля-продажа товаров и услу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вокупность условий, благодаря которым покупатели и продавцы вступают в контакт друг с другом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ынки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ырья, материалов, средств производст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движимости, потребительских товаров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слуг, капитала, валюты, рабочей сил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зна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…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ы рынков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прикладной науке - рынки результатов научных исследований и разработок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образовании - рынки образовательных услуг (услуг по передаче знаний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средствах массовой информации - рынки новостной информ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библиотечном и архивном деле - рынки услуг по хранению, поиску и предоставлению информ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заимосвязь рынков предметов, услуг и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179280" y="1700280"/>
            <a:ext cx="8425080" cy="5162400"/>
            <a:chOff x="179280" y="1700280"/>
            <a:chExt cx="8425080" cy="5162400"/>
          </a:xfrm>
        </p:grpSpPr>
        <p:sp>
          <p:nvSpPr>
            <p:cNvPr id="119" name="AutoShape 4"/>
            <p:cNvSpPr/>
            <p:nvPr/>
          </p:nvSpPr>
          <p:spPr>
            <a:xfrm>
              <a:off x="179280" y="1700280"/>
              <a:ext cx="8425080" cy="51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Oval 5"/>
            <p:cNvSpPr/>
            <p:nvPr/>
          </p:nvSpPr>
          <p:spPr>
            <a:xfrm>
              <a:off x="1170360" y="2533320"/>
              <a:ext cx="3468240" cy="216396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Oval 6"/>
            <p:cNvSpPr/>
            <p:nvPr/>
          </p:nvSpPr>
          <p:spPr>
            <a:xfrm>
              <a:off x="3978360" y="2533320"/>
              <a:ext cx="3799080" cy="216396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Oval 7"/>
            <p:cNvSpPr/>
            <p:nvPr/>
          </p:nvSpPr>
          <p:spPr>
            <a:xfrm>
              <a:off x="2325960" y="3531960"/>
              <a:ext cx="3965760" cy="216540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1666080" y="3032640"/>
              <a:ext cx="214704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Рын</a:t>
              </a: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ки</a:t>
              </a: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 предметов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4969800" y="3032640"/>
              <a:ext cx="247824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Рынки услуг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>
              <a:off x="3152520" y="4864680"/>
              <a:ext cx="247788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Рынки знаний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пособы покупки и продажи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упка кодифицированных знаний – передача информации устно или на носител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процессе обу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ем сотрудников, обладающих знаниями и опытом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ализация партнерских отношений с другой организацией, сотрудники которой обладают соответствующими знаниями и опыт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процессе слияний и поглощ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упка консультационных услуг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анные, информация и знания: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ния в широком и узком смысл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536840" y="2276640"/>
            <a:ext cx="5829120" cy="4586040"/>
            <a:chOff x="1536840" y="2276640"/>
            <a:chExt cx="5829120" cy="4586040"/>
          </a:xfrm>
        </p:grpSpPr>
        <p:sp>
          <p:nvSpPr>
            <p:cNvPr id="132" name="AutoShape 5"/>
            <p:cNvSpPr/>
            <p:nvPr/>
          </p:nvSpPr>
          <p:spPr>
            <a:xfrm>
              <a:off x="1536840" y="2276640"/>
              <a:ext cx="5829120" cy="45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Rectangle 6"/>
            <p:cNvSpPr/>
            <p:nvPr/>
          </p:nvSpPr>
          <p:spPr>
            <a:xfrm>
              <a:off x="2679840" y="2471760"/>
              <a:ext cx="3886200" cy="683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Rectangle 7"/>
            <p:cNvSpPr/>
            <p:nvPr/>
          </p:nvSpPr>
          <p:spPr>
            <a:xfrm>
              <a:off x="2679840" y="5984640"/>
              <a:ext cx="3886200" cy="682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2679840" y="4228200"/>
              <a:ext cx="3886200" cy="68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3251520" y="2666520"/>
              <a:ext cx="2742840" cy="29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</a:rPr>
                <a:t>З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нания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Text Box 10"/>
            <p:cNvSpPr/>
            <p:nvPr/>
          </p:nvSpPr>
          <p:spPr>
            <a:xfrm>
              <a:off x="2908080" y="4422960"/>
              <a:ext cx="3314520" cy="29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</a:rPr>
                <a:t>Информация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3022200" y="6180120"/>
              <a:ext cx="3200040" cy="29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</a:rPr>
                <a:t>Данные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AutoShape 12"/>
            <p:cNvSpPr/>
            <p:nvPr/>
          </p:nvSpPr>
          <p:spPr>
            <a:xfrm>
              <a:off x="2679840" y="4911120"/>
              <a:ext cx="3886200" cy="1073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AutoShape 13"/>
            <p:cNvSpPr/>
            <p:nvPr/>
          </p:nvSpPr>
          <p:spPr>
            <a:xfrm>
              <a:off x="2679840" y="3154680"/>
              <a:ext cx="3886200" cy="1073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3823200" y="5106240"/>
              <a:ext cx="1599480" cy="68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3366"/>
                  </a:solidFill>
                  <a:latin typeface="Arial"/>
                </a:rPr>
                <a:t>контекстуализация, категоризация,  подсчет, коррекция,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3366"/>
                  </a:solidFill>
                  <a:latin typeface="Arial"/>
                </a:rPr>
                <a:t>сжатие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Text Box 15"/>
            <p:cNvSpPr/>
            <p:nvPr/>
          </p:nvSpPr>
          <p:spPr>
            <a:xfrm>
              <a:off x="3823200" y="3350160"/>
              <a:ext cx="1599480" cy="77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3366"/>
                  </a:solidFill>
                  <a:latin typeface="Arial"/>
                </a:rPr>
                <a:t>сравнение, оценка, определение области применения,</a:t>
              </a:r>
              <a:r>
                <a:rPr b="0" lang="ru-RU" sz="12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3366"/>
                  </a:solidFill>
                  <a:latin typeface="Arial"/>
                </a:rPr>
                <a:t>установление связей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913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ынки данных, информации и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ынки данных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анные о биржевых сделках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анные об опытах на сложном оборудовании (например, на синхрофазотроне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ынки информации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книжный рынок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аудио и видеопродукции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научно-технической информации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новостной информации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шпионских сведений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промышленных секретов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ынки знаний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консалтинговых услуг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университетского образова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управленческих кадр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специалистов различных сфер деятельност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05:48:52Z</dcterms:created>
  <dc:creator>gapon</dc:creator>
  <dc:description/>
  <dc:language>en-US</dc:language>
  <cp:lastModifiedBy>LEGION</cp:lastModifiedBy>
  <dcterms:modified xsi:type="dcterms:W3CDTF">2016-01-04T13:42:12Z</dcterms:modified>
  <cp:revision>14</cp:revision>
  <dc:subject/>
  <dc:title>Рынки знаний и современные технологии обмена знаний</dc:title>
</cp:coreProperties>
</file>