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2B547-5E1C-4F7F-87CF-F4949BD72B8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 знаний и современные технологии обмена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поненко А.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едующий кафедрой менеджмента РАГС при Президенте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ки знаний и современные технологии обмена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Гапоненко А.Л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аведующий кафедрой менеджмента РАГС при Президенте РФ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овые и индивиду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ные и неявные 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 разных видов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иды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Групповые и индивидуальные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Явные и неявные знания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ки разных видов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рынков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ь не только получает готовые знания, но и участвует в создании необходимого зн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ультирование по поводу разработки стратегии предприятия: совместная деятельность является главным условием передачи накопленных знаний и производства нового зн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ь должен изначально обладать необходимым уровнем контекстуальных зна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ность тех или иных знаний зависит от подготовки реципиента. Перенос новых наукоемких технологий требует соответствующей подготов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собенности рынков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окупатель не только получает готовые знания, но и участвует в создании необходимого знания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онсультирование по поводу разработки стратегии предприятия: совместная деятельность является главным условием передачи накопленных знаний и производства нового знания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окупатель должен изначально обладать необходимым уровнем контекстуальных знаний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Ценность тех или иных знаний зависит от подготовки реципиента. Перенос новых наукоемких технологий требует соответствующей подготовк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фекты рынков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я, при которых рыночные механизмы не способны обеспечить эффективное распределение  ресурс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ственные бла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ие эффек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нопольная вла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симметричная информа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Дефекты рынков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Условия, при которых рыночные механизмы не способны обеспечить эффективное распределение  ресурсов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бщественные благ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нешние эффекты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монопольная власть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асимметричная информация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о на рынках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фекты рынка требуют соответствующего государственного  вмеш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общественных благ финансируется через нало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гувианские налоги на производителей благ, обладающих внешними эффект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одательные ограничения на предоставление ложной информации, снижающие асимметричный характер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тентное право, регулирование интеллектуальной собственности, формирование монополий по использованию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Государство на рынках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Дефекты рынка требуют соответствующего государственного  вмешательств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оизводство общественных благ финансируется через налог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игувианские налоги на производителей благ, обладающих внешними эффектам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аконодательные ограничения на предоставление ложной информации, снижающие асимметричный характер информаци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атентное право, регулирование интеллектуальной собственности, формирование монополий по использованию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системы охраны интеллектуальной собств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ыт Росси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 интеллектуальной собственности, созданные при государственном финансировании, принадлежат государств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ыт СШ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Байя-Доула (1980). Права собственности на изобретения, созданные за счет бюджетных средств, переданы тем организациям, где эти изобретения созда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ятие закона Байя-Доула привело к расширению сотрудничества между исследовательскими институтами, университетами, лабораториями и промышленность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азвитие системы охраны интеллектуальной собственност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пыт России: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бъекты интеллектуальной собственности, созданные при государственном финансировании, принадлежат государству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пыт США: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акон Байя-Доула (1980). Права собственности на изобретения, созданные за счет бюджетных средств, переданы тем организациям, где эти изобретения созданы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инятие закона Байя-Доула привело к расширению сотрудничества между исследовательскими институтами, университетами, лабораториями и промышленностью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удсорсинг на рынке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удсорсинг: «crowd» – толпа, «source» – источни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удсорсинг - передача задания по созданию нового знания большой группе людей в форме открытого предлож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ы краудсорсинг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овой технолог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ового продукта (в виде операционной системы, энциклопед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ботка большого количества да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раудсорсинг на рынке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раудсорсинг: «crowd» – толпа, «source» – источник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раудсорсинг - передача задания по созданию нового знания большой группе людей в форме открытого предложения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едметы краудсорсинга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оздание новой технологии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оздание нового продукта (в виде операционной системы, энциклопедии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бработка большого количества данных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ы краудсорсин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кипед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циклопедия, авторами которой стали тысячи пользователей Интер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InnoCentive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дение исследований в разнообразных областях – от инженерии до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диняет более 125 000 исследователей, предлагающих свои решения для конкретных комп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Amazon Mechanical Turk» - интеллектуальная бирж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интересованные фирмы и организации выставляют на всеобщее обозрение интеллектуальные зада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ый может предложить собственные решения в расчете на вознаграж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имеры краудсорсинг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икипедия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энциклопедия, авторами которой стали тысячи пользователей Интернет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«InnoCentive»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оведение исследований в разнообразных областях – от инженерии до менеджмент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бъединяет более 125 000 исследователей, предлагающих свои решения для конкретных комп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«Amazon Mechanical Turk» - интеллектуальная бирж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аинтересованные фирмы и организации выставляют на всеобщее обозрение интеллектуальные задач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аждый может предложить собственные решения в расчете на вознаграждение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ы краудсорсин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Goldcorp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рала более 400 мегабайт данных геологоразведки на своем участке в штате Онтари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ила приз в 575 000 долларов тому, кто проанализирует лучшим образом эти данные и укажет места залегания зол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ники конкурса  указали на 110 мест  залегания золота на сумму более 3 млрд. до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 выиграла небольшая австралийская консалтинговая компания «Fractal Graphics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имеры краудсорсинг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«Goldcorp»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обрала более 400 мегабайт данных геологоразведки на своем участке в штате Онтарио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едложила приз в 575 000 долларов тому, кто проанализирует лучшим образом эти данные и укажет места залегания золот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участники конкурса  указали на 110 мест  залегания золота на сумму более 3 млрд. дол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из выиграла небольшая австралийская консалтинговая компания «Fractal Graphics»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ы краудсорсин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nnovation J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0 000 людей из 104 стран участвовали в виртуальном мозговом штурме по поводу новых идей в транспорте, в охране окружающей среды, в финансах, коммер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анией IBM сформировано 10 масштабных проектов с начальными инвестициями в 100 млн. долл. кажд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ференция ООН по городам в 2006 году (Value Ja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ссовое участие в выработке новых ид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ческое осуществление IB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имеры краудсорсинг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Innovation Jam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50 000 людей из 104 стран участвовали в виртуальном мозговом штурме по поводу новых идей в транспорте, в охране окружающей среды, в финансах, коммерции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омпанией IBM сформировано 10 масштабных проектов с начальными инвестициями в 100 млн. долл. кажды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онференция ООН по городам в 2006 году (Value Jam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массовое участие в выработке новых идей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технологическое осуществление IBM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мен знаниями и распространение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мен и распространение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и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ространение и обмен зна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латной осно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бесплатной осно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знаний – одна из форм обмена и распространения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бмен знаниями и распространение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бмен и распространение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нутри организаци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не организаци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аспространение и обмен знаний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а платной основе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а бесплатной основе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к знаний – одна из форм обмена и распространения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 – доказанное истинное убеждение (Плато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я – осведомленность о чем-либо, приобретенная из опыта (Оксфордский словар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я – отражение внешнего и внутреннего мира в сознании человека в форме представлений, понятий, суждений, теорий (Википедия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укт деятельности лю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 потребл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о тезав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 купли-продажи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только предмет трансакций, но и средство транса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нания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нание  – доказанное истинное убеждение (Платон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нания – осведомленность о чем-либо, приобретенная из опыта (Оксфордский словарь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нания – отражение внешнего и внутреннего мира в сознании человека в форме представлений, понятий, суждений, теорий (Википедия)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нания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одукт деятельности люде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едмет потребления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редство тезавраци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едмет купли-продажи 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е только предмет трансакций, но и средство трансакц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рыночные формы обмена знания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рыночные формы обмена внутри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зговые атак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ранет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ктронная почт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щани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товня в каф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рыночные формы обмена вне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ференци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мен опытом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в профессиональных сообществах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удсорсин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ерыночные формы обмена знаниями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ерыночные формы обмена внутри организаци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мозговые атаки,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интранет,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электронная почта,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овещания,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болтовня в кафе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ерыночные формы обмена вне организаци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онференции,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бмен опытом,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участие в профессиональных сообществах,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раудсорсинг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ые механизмы рынков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аются не знания, а рекламные возмож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ент – бесплатно, а за рекламу платя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я не продаются, а распространяются на бесплатной основе с целью укрепления брен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дача на бесплатной основе для построения бренда (семинар, открытые лек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укционные и конкурсные продаж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единичные трансакции, а связанные цепочки трансакций с элементами рыночного и нерыночного взаимодей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овые механизмы рынков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одаются не знания, а рекламные возможности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онтент – бесплатно, а за рекламу платят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нания не продаются, а распространяются на бесплатной основе с целью укрепления бренд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аздача на бесплатной основе для построения бренда (семинар, открытые лекции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Аукционные и конкурсные продаж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е единичные трансакции, а связанные цепочки трансакций с элементами рыночного и нерыночного взаимодействия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 знаний в России: степень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поданных заявок на изобретения  на 1 млн. населения в России в 3 - 4 раза ниже, чем в США и Германии, в 18 - 19 раз ниже, чем в Япо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достаточно развиты процедуры коммерциализации результатов интеллектуальной деятель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бо развиты институты рынка знаний, способствующие распространению знаний в инновационной сфере (венчурные фонды, фонды, финансирующие прикладные исследования, корпоративные университеты и п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бо развиты современные формы обмена знаниями (краудсорсинг, блог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в полной мере используется мировой опыт в сфере государственного регулирования рынков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ки знаний в России: степень развития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оличество поданных заявок на изобретения  на 1 млн. населения в России в 3 - 4 раза ниже, чем в США и Германии, в 18 - 19 раз ниже, чем в Япони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едостаточно развиты процедуры коммерциализации результатов интеллектуальной деятельности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лабо развиты институты рынка знаний, способствующие распространению знаний в инновационной сфере (венчурные фонды, фонды, финансирующие прикладные исследования, корпоративные университеты и пр.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лабо развиты современные формы обмена знаниями (краудсорсинг, блоги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е в полной мере используется мировой опыт в сфере государственного регулирования рынков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я в свернутом виде присутствует в любом товаре и услу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ный галстук, реактивный истребитель, 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я вместе со своими носителями становятся основой конкурентоспособности того или иного пред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олог винодельческого хозяйства, шеф-повар ресторана, главный конструктор предприятия, 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я трудно отделить от носителя (челове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ист (менеджер, хирург, специалист по инвестированию), предлагая свои услуги, фактически предлагает свои зн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нания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нания в свернутом виде присутствует в любом товаре и услуге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модный галстук, реактивный истребитель, …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нания вместе со своими носителями становятся основой конкурентоспособности того или иного предприятия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энолог винодельческого хозяйства, шеф-повар ресторана, главный конструктор предприятия, …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нания трудно отделить от носителя (человека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пециалист (менеджер, хирург, специалист по инвестированию), предлагая свои услуги, фактически предлагает свои знания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бстрактное или реальное пространство, в котором происходит купля-продажа товаров и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ость условий, благодаря которым покупатели и продавцы вступают в контакт друг с друго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ырья, материалов, средств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движимости, потребительских товар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уг, капитала, валюты, рабочей си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к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к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абстрактное или реальное пространство, в котором происходит купля-продажа товаров и услуг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овокупность условий, благодаря которым покупатели и продавцы вступают в контакт друг с другом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ки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ырья, материалов, средств производств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едвижимости, потребительских товаров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услуг, капитала, валюты, рабочей силы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…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ы рынков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икладной науке - рынки результатов научных исследований и разработо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бразовании - рынки образовательных услуг (услуг по передаче знаний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редствах массовой информации - рынки новостной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библиотечном и архивном деле - рынки услуг по хранению, поиску и предоставлению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имеры рынков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 прикладной науке - рынки результатов научных исследований и разработок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 образовании - рынки образовательных услуг (услуг по передаче знаний)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 средствах массовой информации - рынки новостной информаци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 библиотечном и архивном деле - рынки услуг по хранению, поиску и предоставлению информаци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связь рынков предметов, услуг и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заимосвязь рынков предметов, услуг и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ы покупки и продажи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ка кодифицированных знаний – передача информации устно или на носите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оцессе обу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ем сотрудников, обладающих знаниями и опыто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изация партнерских отношений с другой организацией, сотрудники которой обладают соответствующими знаниями и опыт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оцессе слияний и поглощ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ка консультационных услуг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пособы покупки и продажи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окупка кодифицированных знаний – передача информации устно или на носителе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 процессе обучения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аем сотрудников, обладающих знаниями и опытом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еализация партнерских отношений с другой организацией, сотрудники которой обладают соответствующими знаниями и опытом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 процессе слияний и поглоще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окупка консультационных услуг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ые, информация и знания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я в широком и узком смыс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Данные, информация и знания:</a:t>
            </a:r>
            <a:br>
              <a:rPr sz="1200"/>
            </a:b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нания в широком и узком смысле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 данных, информации и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 да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ые о биржевых сделках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ые об опытах на сложном оборудовании (например, на синхрофазотроне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 информ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нижный рынок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аудио и видеопродук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научно-технической информ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новостной информ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шпионских сведе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промышленных секре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консалтинговых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университетского образ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управленческих кад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специалистов различных сфер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ки данных, информации и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ки данных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данные о биржевых сделках,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данные об опытах на сложном оборудовании (например, на синхрофазотроне)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ки информации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нижный рынок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к аудио и видеопродукции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к научно-технической информации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к новостной информации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к шпионских сведений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к промышленных секрет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ки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к консалтинговых услуг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к университетского образования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к управленческих кадров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к специалистов различных сфер деятельност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9AF1-71CC-4727-BEB0-C689FA4B8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3E24-A528-4091-AA1D-EEA9D7B66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3A8F-27A7-40CF-A586-FB124DCFB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B7BE-364B-4215-A87A-B1FF14F4A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27954-9C4E-4843-9109-D0893FD6A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1C77D-6922-4532-9FBF-A3276954C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3F27D-4BC2-4E92-AFBC-8DBCAF90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B8050-2C7E-4B99-B004-54F324E0D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61131-077A-4426-BD9F-45FC0231B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260BC-3CFF-4BAF-81B8-3CFD1F613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237A5-2466-4D9D-BD41-3BFBCAD6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DB06-216D-444C-BCAF-5B1D0A236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BB8E3-AD68-4B0A-8221-FBA34808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5D6F4-241D-445D-8ECF-17E6410E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154AF-844A-4432-B230-0F93021E1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E4D12-8A43-4971-AB4B-37559014B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39B21-7D49-4B73-8DF2-E631FAE3E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6AC6-3714-4FC6-A758-AF0ABA5D9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02DD-C0AA-42CE-AEA3-C573244E1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6440-DE32-4E49-BAF1-9AA89CD30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7784-F01B-4102-85E1-1F1626775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A0AD-F965-4DAB-B1B9-A44E2DA1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B30B-6EBB-4CF7-925A-27763AF1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AF46-E413-4CF8-BC3B-30F01F09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DDC37-B22E-4A79-965B-BE473D2DBA2F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22946-38D4-4D33-9768-B25143B985BC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Amazon_Mechanical_Turk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Goldcorp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Рынки знаний и современные технологии обмена знани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Гапоненко А.Л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заведующий кафедрой менеджмента РАГС при Президенте РФ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иды знани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рупповые и индивидуальны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Явные и неявные зна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ынки разных видов знан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49" name="Group 32"/>
          <p:cNvGrpSpPr/>
          <p:nvPr/>
        </p:nvGrpSpPr>
        <p:grpSpPr>
          <a:xfrm>
            <a:off x="2124000" y="3933720"/>
            <a:ext cx="5756400" cy="2317320"/>
            <a:chOff x="2124000" y="3933720"/>
            <a:chExt cx="5756400" cy="2317320"/>
          </a:xfrm>
        </p:grpSpPr>
        <p:grpSp>
          <p:nvGrpSpPr>
            <p:cNvPr id="150" name="Group 33"/>
            <p:cNvGrpSpPr/>
            <p:nvPr/>
          </p:nvGrpSpPr>
          <p:grpSpPr>
            <a:xfrm>
              <a:off x="2124000" y="3933720"/>
              <a:ext cx="5756400" cy="2317320"/>
              <a:chOff x="2124000" y="3933720"/>
              <a:chExt cx="5756400" cy="2317320"/>
            </a:xfrm>
          </p:grpSpPr>
          <p:sp>
            <p:nvSpPr>
              <p:cNvPr id="151" name="WordArt 34"/>
              <p:cNvSpPr txBox="1"/>
              <p:nvPr/>
            </p:nvSpPr>
            <p:spPr>
              <a:xfrm>
                <a:off x="4257360" y="3933720"/>
                <a:ext cx="1072080" cy="22752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2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"/>
                  </a:rPr>
                  <a:t>Знания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  <p:grpSp>
            <p:nvGrpSpPr>
              <p:cNvPr id="152" name="Group 35"/>
              <p:cNvGrpSpPr/>
              <p:nvPr/>
            </p:nvGrpSpPr>
            <p:grpSpPr>
              <a:xfrm>
                <a:off x="2124000" y="4023360"/>
                <a:ext cx="5756400" cy="2227680"/>
                <a:chOff x="2124000" y="4023360"/>
                <a:chExt cx="5756400" cy="2227680"/>
              </a:xfrm>
            </p:grpSpPr>
            <p:sp>
              <p:nvSpPr>
                <p:cNvPr id="153" name="AutoShape 36"/>
                <p:cNvSpPr/>
                <p:nvPr/>
              </p:nvSpPr>
              <p:spPr>
                <a:xfrm>
                  <a:off x="2124000" y="4023360"/>
                  <a:ext cx="5756400" cy="222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54" name="Oval 37"/>
                <p:cNvSpPr/>
                <p:nvPr/>
              </p:nvSpPr>
              <p:spPr>
                <a:xfrm>
                  <a:off x="3703680" y="4598280"/>
                  <a:ext cx="2258640" cy="12931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55" name="Line 38"/>
                <p:cNvSpPr/>
                <p:nvPr/>
              </p:nvSpPr>
              <p:spPr>
                <a:xfrm>
                  <a:off x="4832640" y="4598280"/>
                  <a:ext cx="0" cy="12931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56" name="Text Box 39"/>
                <p:cNvSpPr/>
                <p:nvPr/>
              </p:nvSpPr>
              <p:spPr>
                <a:xfrm>
                  <a:off x="4042440" y="4167000"/>
                  <a:ext cx="1693080" cy="286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57" name="Line 40"/>
                <p:cNvSpPr/>
                <p:nvPr/>
              </p:nvSpPr>
              <p:spPr>
                <a:xfrm>
                  <a:off x="3365280" y="4741920"/>
                  <a:ext cx="789840" cy="286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58" name="Text Box 41"/>
                <p:cNvSpPr/>
                <p:nvPr/>
              </p:nvSpPr>
              <p:spPr>
                <a:xfrm>
                  <a:off x="2349360" y="4382640"/>
                  <a:ext cx="1692360" cy="359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68000"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003366"/>
                      </a:solidFill>
                      <a:latin typeface="Arial"/>
                      <a:ea typeface="Times New Roman"/>
                    </a:rPr>
                    <a:t>Явные индивидуальные</a:t>
                  </a:r>
                  <a:endParaRPr b="0" lang="en-US" sz="1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59" name="Text Box 42"/>
                <p:cNvSpPr/>
                <p:nvPr/>
              </p:nvSpPr>
              <p:spPr>
                <a:xfrm>
                  <a:off x="5848560" y="4454280"/>
                  <a:ext cx="1690920" cy="359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62000"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003366"/>
                      </a:solidFill>
                      <a:latin typeface="Arial"/>
                      <a:ea typeface="Times New Roman"/>
                    </a:rPr>
                    <a:t>Явные </a:t>
                  </a:r>
                  <a:endParaRPr b="0" lang="en-US" sz="1400" spc="-1" strike="noStrike">
                    <a:solidFill>
                      <a:srgbClr val="003366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003366"/>
                      </a:solidFill>
                      <a:latin typeface="Arial"/>
                      <a:ea typeface="Times New Roman"/>
                    </a:rPr>
                    <a:t>групповые</a:t>
                  </a:r>
                  <a:endParaRPr b="0" lang="en-US" sz="1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0" name="Text Box 43"/>
                <p:cNvSpPr/>
                <p:nvPr/>
              </p:nvSpPr>
              <p:spPr>
                <a:xfrm>
                  <a:off x="5961240" y="5676120"/>
                  <a:ext cx="1690920" cy="359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78000"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003366"/>
                      </a:solidFill>
                      <a:latin typeface="Arial"/>
                      <a:ea typeface="Times New Roman"/>
                    </a:rPr>
                    <a:t>Неявные групповые</a:t>
                  </a:r>
                  <a:endParaRPr b="0" lang="en-US" sz="1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1" name="Text Box 44"/>
                <p:cNvSpPr/>
                <p:nvPr/>
              </p:nvSpPr>
              <p:spPr>
                <a:xfrm>
                  <a:off x="2349360" y="5676120"/>
                  <a:ext cx="1580400" cy="359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62000"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003366"/>
                      </a:solidFill>
                      <a:latin typeface="Arial"/>
                      <a:ea typeface="Times New Roman"/>
                    </a:rPr>
                    <a:t>Неявные индивидуальные</a:t>
                  </a:r>
                  <a:endParaRPr b="0" lang="en-US" sz="1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2" name="Line 45"/>
                <p:cNvSpPr/>
                <p:nvPr/>
              </p:nvSpPr>
              <p:spPr>
                <a:xfrm flipV="1">
                  <a:off x="3252600" y="5531760"/>
                  <a:ext cx="1015200" cy="143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3" name="Line 46"/>
                <p:cNvSpPr/>
                <p:nvPr/>
              </p:nvSpPr>
              <p:spPr>
                <a:xfrm flipH="1">
                  <a:off x="5396760" y="4741920"/>
                  <a:ext cx="903240" cy="215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4" name="Line 47"/>
                <p:cNvSpPr/>
                <p:nvPr/>
              </p:nvSpPr>
              <p:spPr>
                <a:xfrm flipH="1" flipV="1">
                  <a:off x="5171400" y="5531760"/>
                  <a:ext cx="1128960" cy="143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5" name="Line 48"/>
            <p:cNvSpPr/>
            <p:nvPr/>
          </p:nvSpPr>
          <p:spPr>
            <a:xfrm>
              <a:off x="3688200" y="5201280"/>
              <a:ext cx="22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6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собенности рынков знани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купатель не только получает готовые знания, но и участвует в создании необходимого знания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онсультирование по поводу разработки стратегии предприятия: совместная деятельность является главным условием передачи накопленных знаний и производства нового знани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купатель должен изначально обладать необходимым уровнем контекстуальных знаний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Ценность тех или иных знаний зависит от подготовки реципиента. Перенос новых наукоемких технологий требует соответствующей подготовк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ефекты рынков знани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словия, при которых рыночные механизмы не способны обеспечить эффективное распределение  ресурсов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бщественные благ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нешние эффект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онопольная власть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асимметричная информация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Государство на рынках знани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Дефекты рынка требуют соответствующего государственного  вмешательств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оизводство общественных благ финансируется через налог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игувианские налоги на производителей благ, обладающих внешними эффектам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Законодательные ограничения на предоставление ложной информации, снижающие асимметричный характер информаци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атентное право, регулирование интеллектуальной собственности, формирование монополий по использованию знаний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звитие системы охраны интеллектуальной собствен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пыт России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бъекты интеллектуальной собственности, созданные при государственном финансировании, принадлежат государству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пыт США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закон Байя-Доула (1980). Права собственности на изобретения, созданные за счет бюджетных средств, переданы тем организациям, где эти изобретения созданы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инятие закона Байя-Доула привело к расширению сотрудничества между исследовательскими институтами, университетами, лабораториями и промышленностью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раудсорсинг на рынке знани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раудсорсинг: «crowd» – толпа, «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ource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» – источник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раудсорсинг - передача задания по созданию нового знания большой группе людей в форме открытого предложения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едметы краудсорсинга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оздание новой технологии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оздание нового продукта (в виде операционной системы, энциклопедии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бработка большого количества данных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имеры краудсорсинг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икипедия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энциклопедия, авторами которой стали тысячи пользователей Интерне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«InnoCentive»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оведение исследований в разнообразных областях – от инженерии до менеджмент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бъединяет более 125 000 исследователей, предлагающих свои решения для конкретных компани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«</a:t>
            </a:r>
            <a:r>
              <a:rPr b="0" lang="ru-RU" sz="20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Amazon Mechanical Turk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» - интеллектуальная бирж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заинтересованные фирмы и организации выставляют на всеобщее обозрение интеллектуальные задач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каждый может предложить собственные решения в расчете на вознагражден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имеры краудсорсинг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«</a:t>
            </a: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Goldcorp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обрала более 400 мегабайт данных геологоразведки на своем участке в штате Онтарио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едложила приз в 575 000 долларов тому, кто проанализирует лучшим образом эти данные и укажет места залегания золот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участники конкурса  указали на 110 мест  залегания золота на сумму более 3 млрд. дол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из выиграла небольшая австралийская консалтинговая компания «Fractal Graphics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имеры краудсорсинг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Innovation Jam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150 000 людей из 104 стран участвовали в виртуальном мозговом штурме по поводу новых идей в транспорте, в охране окружающей среды, в финансах, коммерции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омпанией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BM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формировано 10 масштабных проектов с начальными инвестициями в 100 млн. долл. каждый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онференция ООН по городам в 2006 году (Value Jam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массовое участие в выработке новых идей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технологическое осуществление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B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бмен знаниями и распространение знани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бмен и распространение знани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нутри организац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не организац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аспространение и обмен знаний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а платной основ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а бесплатной основ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ынок знаний – одна из форм обмена и распространения знани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на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Знание  – доказанное истинное убеждение (Платон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Знания – осведомленность о чем-либо, приобретенная из опыта (Оксфордский словарь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Знания – отражение внешнего и внутреннего мира в сознании человека в форме представлений, понятий, суждений, теорий (Википедия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Знания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одукт деятельности люде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едмет потребления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средство тезавраци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едмет купли-продажи</a:t>
            </a: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е только предмет трансакций, но и средство трансакци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Нерыночные формы обмена знаниями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ерыночные формы обмена внутри организац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мозговые атаки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интранет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электронная почта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овещания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болтовня в каф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ерыночные формы обмена вне организац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онференции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бмен опытом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участие в профессиональных сообществах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раудсорсинг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Новые механизмы рынков знани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одаются не знания, а рекламные возможности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онтент – бесплатно, а за рекламу платя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нания не продаются, а распространяются на бесплатной основе с целью укрепления бренд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аздача на бесплатной основе для построения бренда (семинар, открытые лекции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укционные и конкурсные продаж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Не единичные трансакции, а связанные цепочки трансакций с элементами рыночного и нерыночного взаимодейств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ынки знаний в России: степень развит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оличество поданных заявок на изобретения  на 1 млн. населения в России в 3 - 4 раза ниже, чем в США и Германии, в 18 - 19 раз ниже, чем в Япони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едостаточно развиты процедуры коммерциализации результатов интеллектуальной деятельности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лабо развиты институты рынка знаний, способствующие распространению знаний в инновационной сфере (венчурные фонды, фонды, финансирующие прикладные исследования, корпоративные университеты и пр.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лабо развиты современные формы обмена знаниями (краудсорсинг, блоги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е в полной мере используется мировой опыт в сфере государственного регулирования рынков знаний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на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Знания в свернутом виде присутствует в любом товаре и услуг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одный галстук, реактивный истребитель, …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Знания вместе со своими носителями становятся основой конкурентоспособности того или иного предприяти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энолог винодельческого хозяйства, шеф-повар ресторана, главный конструктор предприятия, …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Знания трудно отделить от носителя (человека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специалист (менеджер, хирург, специалист по инвестированию), предлагая свои услуги, фактически предлагает свои знания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ын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ынок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абстрактное или реальное пространство, в котором происходит купля-продажа товаров и услуг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овокупность условий, благодаря которым покупатели и продавцы вступают в контакт друг с другом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ынки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ырья, материалов, средств производств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едвижимости, потребительских товаров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услуг, капитала, валюты, рабочей сил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знаний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…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имеры рынков знани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прикладной науке - рынки результатов научных исследований и разработок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образовании - рынки образовательных услуг (услуг по передаче знаний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средствах массовой информации - рынки новостной информац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библиотечном и архивном деле - рынки услуг по хранению, поиску и предоставлению информац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Взаимосвязь рынков предметов, услуг и знани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18" name="Group 3"/>
          <p:cNvGrpSpPr/>
          <p:nvPr/>
        </p:nvGrpSpPr>
        <p:grpSpPr>
          <a:xfrm>
            <a:off x="179280" y="1700280"/>
            <a:ext cx="8425080" cy="5162400"/>
            <a:chOff x="179280" y="1700280"/>
            <a:chExt cx="8425080" cy="5162400"/>
          </a:xfrm>
        </p:grpSpPr>
        <p:sp>
          <p:nvSpPr>
            <p:cNvPr id="119" name="AutoShape 4"/>
            <p:cNvSpPr/>
            <p:nvPr/>
          </p:nvSpPr>
          <p:spPr>
            <a:xfrm>
              <a:off x="179280" y="1700280"/>
              <a:ext cx="8425080" cy="51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0" name="Oval 5"/>
            <p:cNvSpPr/>
            <p:nvPr/>
          </p:nvSpPr>
          <p:spPr>
            <a:xfrm>
              <a:off x="1170360" y="2533320"/>
              <a:ext cx="3468240" cy="2163960"/>
            </a:xfrm>
            <a:prstGeom prst="ellipse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1" name="Oval 6"/>
            <p:cNvSpPr/>
            <p:nvPr/>
          </p:nvSpPr>
          <p:spPr>
            <a:xfrm>
              <a:off x="3978360" y="2533320"/>
              <a:ext cx="3799080" cy="2163960"/>
            </a:xfrm>
            <a:prstGeom prst="ellipse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2" name="Oval 7"/>
            <p:cNvSpPr/>
            <p:nvPr/>
          </p:nvSpPr>
          <p:spPr>
            <a:xfrm>
              <a:off x="2325960" y="3531960"/>
              <a:ext cx="3965760" cy="2165400"/>
            </a:xfrm>
            <a:prstGeom prst="ellipse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3" name="Text Box 8"/>
            <p:cNvSpPr/>
            <p:nvPr/>
          </p:nvSpPr>
          <p:spPr>
            <a:xfrm>
              <a:off x="1666080" y="3032640"/>
              <a:ext cx="2147040" cy="49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1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3366"/>
                  </a:solidFill>
                  <a:latin typeface="Arial"/>
                </a:rPr>
                <a:t>Рын</a:t>
              </a:r>
              <a:r>
                <a:rPr b="1" lang="en-US" sz="2000" spc="-1" strike="noStrike">
                  <a:solidFill>
                    <a:srgbClr val="003366"/>
                  </a:solidFill>
                  <a:latin typeface="Arial"/>
                </a:rPr>
                <a:t>ки</a:t>
              </a:r>
              <a:r>
                <a:rPr b="1" lang="ru-RU" sz="2000" spc="-1" strike="noStrike">
                  <a:solidFill>
                    <a:srgbClr val="003366"/>
                  </a:solidFill>
                  <a:latin typeface="Arial"/>
                </a:rPr>
                <a:t> предметов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4" name="Text Box 9"/>
            <p:cNvSpPr/>
            <p:nvPr/>
          </p:nvSpPr>
          <p:spPr>
            <a:xfrm>
              <a:off x="4969800" y="3032640"/>
              <a:ext cx="2478240" cy="49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3366"/>
                  </a:solidFill>
                  <a:latin typeface="Arial"/>
                </a:rPr>
                <a:t>Рынки услуг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5" name="Text Box 10"/>
            <p:cNvSpPr/>
            <p:nvPr/>
          </p:nvSpPr>
          <p:spPr>
            <a:xfrm>
              <a:off x="3152520" y="4864680"/>
              <a:ext cx="2477880" cy="49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3366"/>
                  </a:solidFill>
                  <a:latin typeface="Arial"/>
                </a:rPr>
                <a:t>Рынки знаний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2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пособы покупки и продажи знани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купка кодифицированных знаний – передача информации устно или на носител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процессе обуче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аем сотрудников, обладающих знаниями и опытом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еализация партнерских отношений с другой организацией, сотрудники которой обладают соответствующими знаниями и опыто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процессе слияний и поглощен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купка консультационных услуг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анные, информация и знания: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ния в широком и узком смысл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31" name="Group 4"/>
          <p:cNvGrpSpPr/>
          <p:nvPr/>
        </p:nvGrpSpPr>
        <p:grpSpPr>
          <a:xfrm>
            <a:off x="1536840" y="2276640"/>
            <a:ext cx="5829120" cy="4586040"/>
            <a:chOff x="1536840" y="2276640"/>
            <a:chExt cx="5829120" cy="4586040"/>
          </a:xfrm>
        </p:grpSpPr>
        <p:sp>
          <p:nvSpPr>
            <p:cNvPr id="132" name="AutoShape 5"/>
            <p:cNvSpPr/>
            <p:nvPr/>
          </p:nvSpPr>
          <p:spPr>
            <a:xfrm>
              <a:off x="1536840" y="2276640"/>
              <a:ext cx="5829120" cy="45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3" name="Rectangle 6"/>
            <p:cNvSpPr/>
            <p:nvPr/>
          </p:nvSpPr>
          <p:spPr>
            <a:xfrm>
              <a:off x="2679840" y="2471760"/>
              <a:ext cx="3886200" cy="683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4" name="Rectangle 7"/>
            <p:cNvSpPr/>
            <p:nvPr/>
          </p:nvSpPr>
          <p:spPr>
            <a:xfrm>
              <a:off x="2679840" y="5984640"/>
              <a:ext cx="3886200" cy="682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5" name="Rectangle 8"/>
            <p:cNvSpPr/>
            <p:nvPr/>
          </p:nvSpPr>
          <p:spPr>
            <a:xfrm>
              <a:off x="2679840" y="4228200"/>
              <a:ext cx="3886200" cy="68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6" name="Text Box 9"/>
            <p:cNvSpPr/>
            <p:nvPr/>
          </p:nvSpPr>
          <p:spPr>
            <a:xfrm>
              <a:off x="3251520" y="2666520"/>
              <a:ext cx="2742840" cy="29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66"/>
                  </a:solidFill>
                  <a:latin typeface="Arial"/>
                </a:rPr>
                <a:t>З</a:t>
              </a: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нания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7" name="Text Box 10"/>
            <p:cNvSpPr/>
            <p:nvPr/>
          </p:nvSpPr>
          <p:spPr>
            <a:xfrm>
              <a:off x="2908080" y="4422960"/>
              <a:ext cx="3314520" cy="29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66"/>
                  </a:solidFill>
                  <a:latin typeface="Arial"/>
                </a:rPr>
                <a:t>Информация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3022200" y="6180120"/>
              <a:ext cx="3200040" cy="29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66"/>
                  </a:solidFill>
                  <a:latin typeface="Arial"/>
                </a:rPr>
                <a:t>Данные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9" name="AutoShape 12"/>
            <p:cNvSpPr/>
            <p:nvPr/>
          </p:nvSpPr>
          <p:spPr>
            <a:xfrm>
              <a:off x="2679840" y="4911120"/>
              <a:ext cx="3886200" cy="10735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0" name="AutoShape 13"/>
            <p:cNvSpPr/>
            <p:nvPr/>
          </p:nvSpPr>
          <p:spPr>
            <a:xfrm>
              <a:off x="2679840" y="3154680"/>
              <a:ext cx="3886200" cy="10735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3823200" y="5106240"/>
              <a:ext cx="1599480" cy="681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3366"/>
                  </a:solidFill>
                  <a:latin typeface="Arial"/>
                </a:rPr>
                <a:t>контекстуализация, категоризация,  подсчет, коррекция,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3366"/>
                  </a:solidFill>
                  <a:latin typeface="Arial"/>
                </a:rPr>
                <a:t>сжатие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Text Box 15"/>
            <p:cNvSpPr/>
            <p:nvPr/>
          </p:nvSpPr>
          <p:spPr>
            <a:xfrm>
              <a:off x="3823200" y="3350160"/>
              <a:ext cx="1599480" cy="77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3366"/>
                  </a:solidFill>
                  <a:latin typeface="Arial"/>
                </a:rPr>
                <a:t>сравнение, оценка, определение области применения,</a:t>
              </a:r>
              <a:r>
                <a:rPr b="0" lang="ru-RU" sz="12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0" lang="ru-RU" sz="1000" spc="-1" strike="noStrike">
                  <a:solidFill>
                    <a:srgbClr val="003366"/>
                  </a:solidFill>
                  <a:latin typeface="Arial"/>
                </a:rPr>
                <a:t>установление связей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9131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ынки данных, информации и знани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ынки данных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данные о биржевых сделках,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данные об опытах на сложном оборудовании (например, на синхрофазотроне)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ынки информации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книжный рынок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рынок аудио и видеопродукции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рынок научно-технической информации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рынок новостной информации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рынок шпионских сведений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рынок промышленных секретов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ынки знаний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рынок консалтинговых услуг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рынок университетского образования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рынок управленческих кадров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рынок специалистов различных сфер деятельности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9T05:48:52Z</dcterms:created>
  <dc:creator>gapon</dc:creator>
  <dc:description/>
  <dc:language>en-US</dc:language>
  <cp:lastModifiedBy>LEGION</cp:lastModifiedBy>
  <dcterms:modified xsi:type="dcterms:W3CDTF">2016-01-04T13:42:12Z</dcterms:modified>
  <cp:revision>14</cp:revision>
  <dc:subject/>
  <dc:title>Рынки знаний и современные технологии обмена знаний</dc:title>
</cp:coreProperties>
</file>