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9B30-48B2-43B4-BDCE-3B919DA4D3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 и современные технологии обмена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поненко А.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 и современные технологии обмена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апоненко А.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ые и 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ные и неяв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разных вид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ды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упповые и индивидуальны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Явные и неявные 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разных вид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обенности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 эффе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ьная вла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имметричная информ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ефект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ественные бла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ешние эффект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нопольная власть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симметричная информац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на рынка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осударство на рынках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СШ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ыт России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ыт США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 на рынк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: «crowd» – толпа, «source» – источ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раудсорсинг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большого количеств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 на рынк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: «crowd» – толпа, «source» – источник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ы краудсорсинг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здание новой технолог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работка большого количества данных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кипед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InnoCentive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Amazon Mechanical Turk» - интеллектуальная бир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кипед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InnoCentive»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Amazon Mechanical Turk» - интеллектуальная бирж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Goldcorp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Goldcorp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nnovation J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ей IBM сформировано 10 масштабных проектов с начальными инвестициями в 100 млн. долл. кажд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я ООН по городам в 2006 году (Value Ja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совое участие в выработке новых ид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ое осуществление I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nnovation Ja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мпанией IBM сформировано 10 масштабных проектов с начальными инвестициями в 100 млн. долл. кажды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ференция ООН по городам в 2006 году (Value Ja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ссовое участие в выработке новых идей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хнологическое осуществление IB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знаниями и распространени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распространени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и обмен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лат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есплат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знаниями и распространени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и распространени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утри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е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спространение и обмен знаний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платной осн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бесплатной осн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 деятельност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тезав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купли-продаж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дукт деятельности люде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 потреблен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редство тезав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 купли-продажи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зн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внутр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ые ата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ран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щ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товня в каф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вн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опыт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офессиональных сообществ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знаниям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внутри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зговые атаки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нтранет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лектронная почта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вещания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олтовня в каф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вне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ференции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опытом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частие в профессиональных сообществах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механизм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ся не знания, а рекламные возмож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ент – бесплатно, а за рекламу платя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кционные и конкурсные прода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овые механизм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даются не знания, а рекламные возможност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тент – бесплатно, а за рекламу платя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укционные и конкурсные продаж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 в России: степень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 в России: степень развит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ный галстук, реактивный истребитель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трудно отделить от носителя (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дный галстук, реактивный истребитель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трудно отделить от носителя (человек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, материалов, 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ости, потребительских това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, капитала, валюты,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ырья, материалов, средств производ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движимости, потребительских товар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луг, капитала, валюты, рабочей сил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ынков предметов, услуг 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заимосвязь рынков предметов, услуг 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окупки и продаж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слияний и погло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консультационных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покупки и продаж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оцессе обуче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оцессе слияний и поглоще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ка консультационных услуг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, информация и 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 широком и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, информация и знания: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 широком и узком смысл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данных, информации 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о биржевых сделк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жный рын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удио и видеопроду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научно-технической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новостной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шпионских све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омышленных секр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онсалтинг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университетск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управлен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данных, информации 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данных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о биржевых сделках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информа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нижный рынок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аудио и видеопродук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научно-технической информа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новостной информа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шпионских сведен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промышленных секр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консалтинговых услу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университетского образов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управленческих кадров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94A-AD42-477A-9286-5D0B52D6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D34-60B0-476A-A77F-4A496B1A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123-E0B0-48A2-9EA3-E06A192B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C00-537B-4796-8C5B-C91867E1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9FAE-5986-4F58-9BDF-DAABCC38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5DE0-8790-4F60-A7B8-4851AE99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325A-8823-427A-A406-127A77C1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A5C7-2307-4197-B9AA-A642EB9D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4470-A9AC-41D7-B22A-17282708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01FD-6F64-4158-B6FF-7D76F659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A305-1E37-4971-A547-17540A37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71A-7CD4-4718-87AA-2D6CE029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656E-93A2-4FD9-97A7-EA49B12C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4897-5172-43C0-A036-93947A9C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DD91-D769-450D-813E-3BCB7332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1B05-20AE-4B53-B03B-EBBE74BF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0D1C-EA3E-4136-8225-E42003B8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677-DB7C-4EE9-B14F-69DE6D40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11E-654B-48AB-B18B-A4EF2F7D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D9D-3F5F-4298-BB4E-B96F7D4D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DB8A-45E8-4727-AD89-DD36C996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E9D-1139-4589-9D7A-0CB7B5CD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172-1F26-46C4-98A1-2A875B65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45F-E86C-41E8-B451-51A347BD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0B05-E25D-4789-83EF-6690D67039A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70BE-A53F-4603-A606-F0365349679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mazon_Mechanical_Tur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ldcor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ки знаний и современные технологии обмена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апоненко А.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пповые и индивидуаль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вные и неявные зн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ки разных видов зн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9" name="Group 32"/>
          <p:cNvGrpSpPr/>
          <p:nvPr/>
        </p:nvGrpSpPr>
        <p:grpSpPr>
          <a:xfrm>
            <a:off x="2124000" y="3933720"/>
            <a:ext cx="5756400" cy="2317320"/>
            <a:chOff x="2124000" y="3933720"/>
            <a:chExt cx="5756400" cy="2317320"/>
          </a:xfrm>
        </p:grpSpPr>
        <p:grpSp>
          <p:nvGrpSpPr>
            <p:cNvPr id="150" name="Group 33"/>
            <p:cNvGrpSpPr/>
            <p:nvPr/>
          </p:nvGrpSpPr>
          <p:grpSpPr>
            <a:xfrm>
              <a:off x="2124000" y="3933720"/>
              <a:ext cx="5756400" cy="2317320"/>
              <a:chOff x="2124000" y="3933720"/>
              <a:chExt cx="5756400" cy="2317320"/>
            </a:xfrm>
          </p:grpSpPr>
          <p:sp>
            <p:nvSpPr>
              <p:cNvPr id="151" name="WordArt 34"/>
              <p:cNvSpPr txBox="1"/>
              <p:nvPr/>
            </p:nvSpPr>
            <p:spPr>
              <a:xfrm>
                <a:off x="4257360" y="3933720"/>
                <a:ext cx="1072080" cy="2275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2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Знания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152" name="Group 35"/>
              <p:cNvGrpSpPr/>
              <p:nvPr/>
            </p:nvGrpSpPr>
            <p:grpSpPr>
              <a:xfrm>
                <a:off x="2124000" y="4023360"/>
                <a:ext cx="5756400" cy="2227680"/>
                <a:chOff x="2124000" y="4023360"/>
                <a:chExt cx="5756400" cy="2227680"/>
              </a:xfrm>
            </p:grpSpPr>
            <p:sp>
              <p:nvSpPr>
                <p:cNvPr id="153" name="AutoShape 36"/>
                <p:cNvSpPr/>
                <p:nvPr/>
              </p:nvSpPr>
              <p:spPr>
                <a:xfrm>
                  <a:off x="2124000" y="4023360"/>
                  <a:ext cx="5756400" cy="22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7"/>
                <p:cNvSpPr/>
                <p:nvPr/>
              </p:nvSpPr>
              <p:spPr>
                <a:xfrm>
                  <a:off x="3703680" y="4598280"/>
                  <a:ext cx="2258640" cy="1293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8"/>
                <p:cNvSpPr/>
                <p:nvPr/>
              </p:nvSpPr>
              <p:spPr>
                <a:xfrm>
                  <a:off x="4832640" y="4598280"/>
                  <a:ext cx="0" cy="129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39"/>
                <p:cNvSpPr/>
                <p:nvPr/>
              </p:nvSpPr>
              <p:spPr>
                <a:xfrm>
                  <a:off x="4042440" y="4167000"/>
                  <a:ext cx="1693080" cy="28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7" name="Line 40"/>
                <p:cNvSpPr/>
                <p:nvPr/>
              </p:nvSpPr>
              <p:spPr>
                <a:xfrm>
                  <a:off x="3365280" y="4741920"/>
                  <a:ext cx="789840" cy="28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41"/>
                <p:cNvSpPr/>
                <p:nvPr/>
              </p:nvSpPr>
              <p:spPr>
                <a:xfrm>
                  <a:off x="2349360" y="4382640"/>
                  <a:ext cx="169236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8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Явные индивидуальн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2"/>
                <p:cNvSpPr/>
                <p:nvPr/>
              </p:nvSpPr>
              <p:spPr>
                <a:xfrm>
                  <a:off x="5848560" y="4454280"/>
                  <a:ext cx="169092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2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Явные 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группов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43"/>
                <p:cNvSpPr/>
                <p:nvPr/>
              </p:nvSpPr>
              <p:spPr>
                <a:xfrm>
                  <a:off x="5961240" y="5676120"/>
                  <a:ext cx="169092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Неявные группов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44"/>
                <p:cNvSpPr/>
                <p:nvPr/>
              </p:nvSpPr>
              <p:spPr>
                <a:xfrm>
                  <a:off x="2349360" y="5676120"/>
                  <a:ext cx="158040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2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Неявные индивидуальн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2" name="Line 45"/>
                <p:cNvSpPr/>
                <p:nvPr/>
              </p:nvSpPr>
              <p:spPr>
                <a:xfrm flipV="1">
                  <a:off x="3252600" y="5531760"/>
                  <a:ext cx="101520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3" name="Line 46"/>
                <p:cNvSpPr/>
                <p:nvPr/>
              </p:nvSpPr>
              <p:spPr>
                <a:xfrm flipH="1">
                  <a:off x="5396760" y="4741920"/>
                  <a:ext cx="903240" cy="21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4" name="Line 47"/>
                <p:cNvSpPr/>
                <p:nvPr/>
              </p:nvSpPr>
              <p:spPr>
                <a:xfrm flipH="1" flipV="1">
                  <a:off x="5171400" y="5531760"/>
                  <a:ext cx="112896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Line 48"/>
            <p:cNvSpPr/>
            <p:nvPr/>
          </p:nvSpPr>
          <p:spPr>
            <a:xfrm>
              <a:off x="3688200" y="5201280"/>
              <a:ext cx="22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обенности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ефекты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ественные бла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ешние эффек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нопольная влас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симметричная информац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осударство на рынках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ыт России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ыт США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раудсорсинг на рынке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удсорсинг: «crowd» – толпа, «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urce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 – источни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меты краудсорсинг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новой технолог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ботка большого количества данны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кипед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InnoCentive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Amazon Mechanical Turk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 - интеллектуальная бирж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Goldcorp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Innovation Ja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мпанией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M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формировано 10 масштабных проектов с начальными инвестициями в 100 млн. долл. кажды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ференция ООН по городам в 2006 году (Value Ja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ассовое участие в выработке новых иде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ехнологическое осуществление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мен знаниями и распространение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мен и распространение зн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утри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е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пространение и обмен знани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пла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беспла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дукт деятельности люд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мет потребле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редство тезавра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мет купли-продажи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рыночные формы обмена знаниям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ыночные формы обмена внутри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зговые атаки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ранет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лектронная почта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ещания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олтовня в каф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ыночные формы обмена вне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ференции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мен опытом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ие в профессиональных сообществах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аудсорсин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вые механизмы рынков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даются не знания, а рекламные возможност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тент – бесплатно, а за рекламу платя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укционные и конкурсные прода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ынки знаний в России: степень развит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ный галстук, реактивный истребитель, 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трудно отделить от носителя (человек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ок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к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ырья, материалов, средств производ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вижимости, потребительских товаров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слуг, капитала, валюты, рабочей сил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заимосвязь рынков предметов, услуг 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79280" y="1700280"/>
            <a:ext cx="8425080" cy="5162400"/>
            <a:chOff x="179280" y="1700280"/>
            <a:chExt cx="8425080" cy="5162400"/>
          </a:xfrm>
        </p:grpSpPr>
        <p:sp>
          <p:nvSpPr>
            <p:cNvPr id="119" name="AutoShape 4"/>
            <p:cNvSpPr/>
            <p:nvPr/>
          </p:nvSpPr>
          <p:spPr>
            <a:xfrm>
              <a:off x="179280" y="1700280"/>
              <a:ext cx="8425080" cy="51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Oval 5"/>
            <p:cNvSpPr/>
            <p:nvPr/>
          </p:nvSpPr>
          <p:spPr>
            <a:xfrm>
              <a:off x="1170360" y="2533320"/>
              <a:ext cx="3468240" cy="21639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978360" y="2533320"/>
              <a:ext cx="3799080" cy="21639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2325960" y="3531960"/>
              <a:ext cx="3965760" cy="21654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1666080" y="3032640"/>
              <a:ext cx="21470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ки</a:t>
              </a: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 предметов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4969800" y="3032640"/>
              <a:ext cx="24782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ки услуг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3152520" y="4864680"/>
              <a:ext cx="247788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ки знаний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особы покупки и продаж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об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слияний и поглощ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ка консультационных услуг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анные, информация и знания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ния в широком и узком смысл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536840" y="2276640"/>
            <a:ext cx="5829120" cy="4586040"/>
            <a:chOff x="1536840" y="2276640"/>
            <a:chExt cx="5829120" cy="4586040"/>
          </a:xfrm>
        </p:grpSpPr>
        <p:sp>
          <p:nvSpPr>
            <p:cNvPr id="132" name="AutoShape 5"/>
            <p:cNvSpPr/>
            <p:nvPr/>
          </p:nvSpPr>
          <p:spPr>
            <a:xfrm>
              <a:off x="1536840" y="2276640"/>
              <a:ext cx="5829120" cy="45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2679840" y="2471760"/>
              <a:ext cx="3886200" cy="68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2679840" y="5984640"/>
              <a:ext cx="3886200" cy="68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679840" y="4228200"/>
              <a:ext cx="3886200" cy="68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3251520" y="2666520"/>
              <a:ext cx="27428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З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нан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2908080" y="4422960"/>
              <a:ext cx="3314520" cy="2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Информац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3022200" y="6180120"/>
              <a:ext cx="32000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Данны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2679840" y="4911120"/>
              <a:ext cx="3886200" cy="107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AutoShape 13"/>
            <p:cNvSpPr/>
            <p:nvPr/>
          </p:nvSpPr>
          <p:spPr>
            <a:xfrm>
              <a:off x="2679840" y="3154680"/>
              <a:ext cx="3886200" cy="107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3823200" y="5106240"/>
              <a:ext cx="159948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контекстуализация, категоризация,  подсчет, коррекция,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сжатие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3823200" y="3350160"/>
              <a:ext cx="1599480" cy="77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сравнение, оценка, определение области применения,</a:t>
              </a:r>
              <a:r>
                <a:rPr b="0" lang="ru-RU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установление связей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913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ынки данных, информации 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данны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о биржевых сделках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информации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нижный рынок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аудио и видеопродук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научно-технической информ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новостной информ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шпионских сведений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промышленных секрет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знани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консалтинговых услуг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университетского образ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управленческих кадр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5:48:52Z</dcterms:created>
  <dc:creator>gapon</dc:creator>
  <dc:description/>
  <dc:language>en-US</dc:language>
  <cp:lastModifiedBy>LEGION</cp:lastModifiedBy>
  <dcterms:modified xsi:type="dcterms:W3CDTF">2016-01-04T13:42:12Z</dcterms:modified>
  <cp:revision>14</cp:revision>
  <dc:subject/>
  <dc:title>Рынки знаний и современные технологии обмена знаний</dc:title>
</cp:coreProperties>
</file>