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16A7-13AB-4953-8DEE-75CCB3FCF9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C26-4BDB-4D8A-B10B-F6B37F6A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1FB-36F3-47C8-A5FC-F793BF8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235-8F1A-420D-8002-6623FE2C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4CE-69CE-4F72-AAB9-AA6282AA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FBB-C716-42FF-B7FD-5ACA5941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63D-6023-4FD5-B608-557A9E9C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E72-1676-4BD0-BB5D-BB427B22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51A-2AD5-4669-87AC-C7BE9C5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EC2-14A9-4447-9D07-95367693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80F-C4A5-4468-A665-FFAB67BF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7C3-05C7-4390-8D3E-8685B401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E95-9327-4F94-AC52-8C1BFE68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37AE-C994-4642-9A93-E32FBDD30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732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3024360"/>
            <a:ext cx="216036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720" y="3024360"/>
            <a:ext cx="194292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64000" y="1600200"/>
            <a:ext cx="2232000" cy="949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08360" y="4514760"/>
            <a:ext cx="2232000" cy="951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76360" y="4854600"/>
            <a:ext cx="184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7543800" y="2222280"/>
            <a:ext cx="0" cy="812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724360" y="2211480"/>
            <a:ext cx="187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5940360" y="5057640"/>
            <a:ext cx="1656000" cy="1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7596360" y="3836520"/>
            <a:ext cx="0" cy="12207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76360" y="3836880"/>
            <a:ext cx="0" cy="1152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476360" y="4989600"/>
            <a:ext cx="223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H="1">
            <a:off x="1476000" y="2211480"/>
            <a:ext cx="2087640" cy="14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2211480"/>
            <a:ext cx="0" cy="8128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388520" y="186516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880600" y="19368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973120" y="444672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334520" y="458964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68360" y="15336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0" y="3873600"/>
            <a:ext cx="9144000" cy="258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0"/>
            <a:ext cx="9144000" cy="301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собенности рынка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рынок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ынок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услуг факторов производ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акторы производства является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изводн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 ы н о 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ВСЕГ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е происходит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Д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Услуг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ОПРЕДЕЛЕННОГО СРОКА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ДАЮТСЯ В АРЕ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оизводный 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Верно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определение, что так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0"/>
            <a:ext cx="82296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ак вы считаете,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дет о рынке труда или услуг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ыяснить,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то общего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че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тличия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рынка факторов производства и рынка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 Понимать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обенности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рынка факторов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оходы от факторов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ы производств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(экономические ресур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товаров и услуг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62012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51120" y="160020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86200" y="16002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6631200" y="42670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АВЦ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229320" y="42670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3200400" y="3505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3200400" y="609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3429000" y="3962520"/>
            <a:ext cx="2286000" cy="190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853240" y="567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3429000" y="3962160"/>
            <a:ext cx="2438280" cy="1523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562464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200040" y="4800600"/>
            <a:ext cx="121932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2132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 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769000" y="55627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815760" y="53341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63200" y="26416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782400" y="2641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V="1">
            <a:off x="3429000" y="1447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3429000" y="3581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3657600" y="1752480"/>
            <a:ext cx="2209680" cy="1600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3240" y="308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 flipV="1">
            <a:off x="3733920" y="1752480"/>
            <a:ext cx="2209680" cy="13716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0055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4497120" y="2209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 flipH="1">
            <a:off x="3429000" y="2514600"/>
            <a:ext cx="129528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31258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609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754380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56640" y="227664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5880600" y="20574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61960" y="486900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334520" y="48769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10560" y="42670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706440" y="4267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935400" y="27176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4240" y="2717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 т л и ч и 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Товар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ынок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, труд, капит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дот М.С.</dc:creator>
  <dc:description/>
  <dc:language>en-US</dc:language>
  <cp:lastModifiedBy>LEGION</cp:lastModifiedBy>
  <dcterms:modified xsi:type="dcterms:W3CDTF">2016-01-04T13:42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