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4CEA1-3650-4991-B247-923CC0F4C2C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зентация по экономике на тему: Рынок земли и природных ресурс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зентация по экономике на тему: Рынок земли и природных ресурс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астная собственность на земл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астная собственность граждан как экономическая категория охватывает все эти формы индивидуального присвоения. Но различия между ними необходимо учитывать. Ведь частная собственность как принадлежность средств производства частным существенно меняет характер в зависимости от того, являются ли сами частные собственники одновременно работниками или нет, т. е. участвуют ли они непосредственно в процессе производ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астная собственность на земл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астная собственность граждан как экономическая категория охватывает все эти формы индивидуального присвоения. Но различия между ними необходимо учитывать. Ведь частная собственность как принадлежность средств производства частным существенно меняет характер в зависимости от того, являются ли сами частные собственники одновременно работниками или нет, т. е. участвуют ли они непосредственно в процессе производ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астная собственность и экономическое знач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м, где есть экономическая деятельность, там всегда присутствует проблема собственности. Отношения собственности пронизывают всю систему экономических отношений и сопровождают человека с момента его рождения до ухода в иной мир. Везде и всюду мы постоянно наталкиваемся на один общий коренной вопрос: кому принадлежит экономическая власть, кто присваивает материальные условия существования людей, является хозяином земли, фабрики, духовного богатства? Суды перегружены разбором отношений между супругами по разделу имущества, сосед судится с соседом из-за клочка земли, отец с сыном и брат с братом по поводу наследства. Социальная сущность этих отношений и есть выражение присущих данному обществу экономических отношений собственности. Сегодня все мы готовы судиться с государством, которое присвоило и растранжирило наши трудовые сбережения, не выплачивает нам заработанные деньги, пенсии. В этом плане цивилизация не далеко ушла от мира животных, где каждый защищает среду своего обитания, претендует на тот или иной "кусок" или территори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астная собственность и экономическое знач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м, где есть экономическая деятельность, там всегда присутствует проблема собственности. Отношения собственности пронизывают всю систему экономических отношений и сопровождают человека с момента его рождения до ухода в иной мир. Везде и всюду мы постоянно наталкиваемся на один общий коренной вопрос: кому принадлежит экономическая власть, кто присваивает материальные условия существования людей, является хозяином земли, фабрики, духовного богатства? Суды перегружены разбором отношений между супругами по разделу имущества, сосед судится с соседом из-за клочка земли, отец с сыном и брат с братом по поводу наследства. Социальная сущность этих отношений и есть выражение присущих данному обществу экономических отношений собственности. Сегодня все мы готовы судиться с государством, которое присвоило и растранжирило наши трудовые сбережения, не выплачивает нам заработанные деньги, пенсии. В этом плане цивилизация не далеко ушла от мира животных, где каждый защищает среду своего обитания, претендует на тот или иной "кусок" или территори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 природных ресурс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ссия страна, наделенная обширными природными ресурсами. И хотя немалую часть этих ресурсов мы уже использовали, но и сегодня их продажа является важнейшим источником доходов как граждан, так и государства. Вот почему важно понимать, как работает рынок природных ресурсов, какие закономерности на нем действуют и как нашей стране следует формировать свою политику в области использования этих ресурс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оит разобраться в том, какие виды природных ресурсов выделяет экономическая наука. Любой вид природных ресурсов может быть отнесен к одной из двух главных категорий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к природных ресурс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ссия страна, наделенная обширными природными ресурсами. И хотя немалую часть этих ресурсов мы уже использовали, но и сегодня их продажа является важнейшим источником доходов как граждан, так и государства. Вот почему важно понимать, как работает рынок природных ресурсов, какие закономерности на нем действуют и как нашей стране следует формировать свою политику в области использования этих ресурс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оит разобраться в том, какие виды природных ресурсов выделяет экономическая наука. Любой вид природных ресурсов может быть отнесен к одной из двух главных категорий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спроизводимые ресурсы – производственные ресурсы, которые могут быть восстановлены в силу природных процессов в обозримой перспективе (не более 1-2 поколений) и потому потенциально способны существовать на Земле вечно (ресурсы растительного и животного мира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воспроизводимые ресурсы – производственные ресурсы, предложение которых абсолютно фиксировано и которые, в случае их потребления, не могут восстановиться в обозримой перспектив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спроизводимые ресурсы – производственные ресурсы, которые могут быть восстановлены в силу природных процессов в обозримой перспективе (не более 1-2 поколений) и потому потенциально способны существовать на Земле вечно (ресурсы растительного и животного мира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воспроизводимые ресурсы – производственные ресурсы, предложение которых абсолютно фиксировано и которые, в случае их потребления, не могут восстановиться в обозримой перспектив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возвратные ресурсы – природные ресурсы, которые уничтожаются в процессе потребления, а потому не могут быть восстановлены для их дальнейшего использова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вратные ресурсы – природные ресурсы, которые после использования могут быть ценой определенных затрат и обычно с некоторыми потерями в объеме восстановлены для их дальнейшего использов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, прежде всего, топливо, которое при использовании просто сгорает, отдавая содержащуюся в нем энергию. К этой же категории можно отнести фосфор и калийносодержащие руды, из которых изготавливают минеральные удобрения. После внесения в почву эти удобрения просто растворяются и восстановить их уже невозможн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вратными являются такие ресурсы, как металлы (железо, медь, золото и др.), бумага и картон, резина, а также пластмассы. С помощью специальных технологий их можно снова восстановить и использовать для изготовления новых благ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возвратные ресурсы – природные ресурсы, которые уничтожаются в процессе потребления, а потому не могут быть восстановлены для их дальнейшего использова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звратные ресурсы – природные ресурсы, которые после использования могут быть ценой определенных затрат и обычно с некоторыми потерями в объеме восстановлены для их дальнейшего использова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, прежде всего, топливо, которое при использовании просто сгорает, отдавая содержащуюся в нем энергию. К этой же категории можно отнести фосфор и калийносодержащие руды, из которых изготавливают минеральные удобрения. После внесения в почву эти удобрения просто растворяются и восстановить их уже невозможно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звратными являются такие ресурсы, как металлы (железо, медь, золото и др.), бумага и картон, резина, а также пластмассы. С помощью специальных технологий их можно снова восстановить и использовать для изготовления новых благ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обенности рынка земл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 земли является неотъемлемой частью экономики любого развитого государства. Земля - важнейший ресурс, занимающий исключительное место в жизни и деятельности любого обществ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 земли обладает целым рядом специфических особенностей. Во-первых, земля является бесплатным даром природы, что позволяет говорить об иррациональном характере ее стоимости. Тем не менее земля является объектом купли-продажи; с ней связаны земельные арендные отнош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обенности рынка земл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к земли является неотъемлемой частью экономики любого развитого государства. Земля - важнейший ресурс, занимающий исключительное место в жизни и деятельности любого обществ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к земли обладает целым рядом специфических особенностей. Во-первых, земля является бесплатным даром природы, что позволяет говорить об иррациональном характере ее стоимости. Тем не менее земля является объектом купли-продажи; с ней связаны земельные арендные отнош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люч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родные ресурсы – основа устойчивого развития России. Природные ресурсы не беспредельны и не вечны. Это делает необходимым постоянную заботу об их сохранении и воспроизводстве. Для этого существуют следующие основные услов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-первых, необходимо бережно, рационально использовать то, что человеку дает природа (в особенности в отношении невосполнимых ресурсов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-вторых, там, где это доступно, следует принимать действенные меры к  восполнению природных ресурсов (восстанавливать и повышать естественное плодородие земли, осуществлять лесопосадки, воспроизводить запасы водоемов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-третьих, следует максимально использовать вторичное сырье и прочие отходы производ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-четвертых, необходимо всемерно поддерживать экологическую чистоту производства и природопользов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люче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родные ресурсы – основа устойчивого развития России. Природные ресурсы не беспредельны и не вечны. Это делает необходимым постоянную заботу об их сохранении и воспроизводстве. Для этого существуют следующие основные услов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-первых, необходимо бережно, рационально использовать то, что человеку дает природа (в особенности в отношении невосполнимых ресурсов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-вторых, там, где это доступно, следует принимать действенные меры к  восполнению природных ресурсов (восстанавливать и повышать естественное плодородие земли, осуществлять лесопосадки, воспроизводить запасы водоемов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-третьих, следует максимально использовать вторичное сырье и прочие отходы производ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-четвертых, необходимо всемерно поддерживать экологическую чистоту производства и природопользова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155E5-66CA-4463-B533-AF18CDB15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C2665-1032-4875-9E44-74B73D8A4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6076F-8589-4378-90BE-3C686F79D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DEEEB-2678-4750-8920-B077B32D3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1ADEF-4D3F-444C-B606-DCDACBD8D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75F57-55ED-40E7-8C25-75DF300D4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8F385-4D92-4DD4-AF1D-6C16C55BA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EC9C1-6EB7-4960-A698-1BC66CBBA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8181E-EB92-4A90-BFE6-1D8BACC60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67F46-5A5A-4B18-AA3D-E2E4BA0CD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A60BC-A939-450D-A8E3-2A2160A8E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A0ECF-4424-4E0A-919D-8C918D8C4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0C4AE-76DF-43F5-AEF5-5FB67C43522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66"/>
                </a:solidFill>
                <a:latin typeface="Arial"/>
              </a:rPr>
              <a:t>Презентация по экономике на тему: Рынок земли и природных ресурс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1000450325"/>
          <p:cNvPicPr/>
          <p:nvPr/>
        </p:nvPicPr>
        <p:blipFill>
          <a:blip r:embed="rId2"/>
          <a:stretch/>
        </p:blipFill>
        <p:spPr>
          <a:xfrm>
            <a:off x="7238880" y="4172040"/>
            <a:ext cx="1905120" cy="2685960"/>
          </a:xfrm>
          <a:prstGeom prst="rect">
            <a:avLst/>
          </a:prstGeom>
          <a:ln w="0">
            <a:noFill/>
          </a:ln>
        </p:spPr>
      </p:pic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Частная собственность на земл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1267920"/>
            <a:ext cx="5219640" cy="609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астная собственность граждан как экономическая категория охватывает все эти формы индивидуального присвоения. Но различия между ними необходимо учитывать. Ведь частная собственность как принадлежность средств производства частным существенно меняет характер в зависимости от того, являются ли сами частные собственники одновременно работниками или нет, т. е. участвуют ли они непосредственно в процессе производ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1207766582_755"/>
          <p:cNvPicPr/>
          <p:nvPr/>
        </p:nvPicPr>
        <p:blipFill>
          <a:blip r:embed="rId2"/>
          <a:stretch/>
        </p:blipFill>
        <p:spPr>
          <a:xfrm>
            <a:off x="5076720" y="1413000"/>
            <a:ext cx="3745080" cy="4249440"/>
          </a:xfrm>
          <a:prstGeom prst="rect">
            <a:avLst/>
          </a:prstGeom>
          <a:ln w="0">
            <a:noFill/>
          </a:ln>
        </p:spPr>
      </p:pic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Частная собственность и экономическое знач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8686800" cy="69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ам, где есть экономическая деятельность, там всегда присутствует проблема собственности. Отношения собственности пронизывают всю систему экономических отношений и сопровождают человека с момента его рождения до ухода в иной мир. Везде и всюду мы постоянно наталкиваемся на один общий коренной вопрос: кому принадлежит экономическая власть, кто присваивает материальные условия существования людей, является хозяином земли, фабрики, духовного богатства? Суды перегружены разбором отношений между супругами по разделу имущества, сосед судится с соседом из-за клочка земли, отец с сыном и брат с братом по поводу наследства. Социальная сущность этих отношений и есть выражение присущих данному обществу экономических отношений собственности. Сегодня все мы готовы судиться с государством, которое присвоило и растранжирило наши трудовые сбережения, не выплачивает нам заработанные деньги, пенсии. В этом плане цивилизация не далеко ушла от мира животных, где каждый защищает среду своего обитания, претендует на тот или иной "кусок" или территори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Рынок природных ресурсов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5092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оссия страна, наделенная обширными природными ресурсами. И хотя немалую часть этих ресурсов мы уже использовали, но и сегодня их продажа является важнейшим источником доходов как граждан, так и государства. Вот почему важно понимать, как работает рынок природных ресурсов, какие закономерности на нем действуют и как нашей стране следует формировать свою политику в области использования этих ресурс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оит разобраться в том, какие виды природных ресурсов выделяет экономическая наука. Любой вид природных ресурсов может быть отнесен к одной из двух главных категори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-360"/>
            <a:ext cx="478800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спроизводимые ресурс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роизводственные ресурсы, которые могут быть восстановлены в силу природных процессов в обозримой перспективе (не более 1-2 поколений) и потому потенциально способны существовать на Земле вечно (ресурсы растительного и животного мира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воспроизводимые ресурс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роизводственные ресурсы, предложение которых абсолютно фиксировано и которые, в случае их потребления, не могут восстановиться в обозримой перспективе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12305730749493540"/>
          <p:cNvPicPr/>
          <p:nvPr/>
        </p:nvPicPr>
        <p:blipFill>
          <a:blip r:embed="rId2"/>
          <a:stretch/>
        </p:blipFill>
        <p:spPr>
          <a:xfrm>
            <a:off x="4788000" y="4005360"/>
            <a:ext cx="3673440" cy="26366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Udobreniya"/>
          <p:cNvPicPr/>
          <p:nvPr/>
        </p:nvPicPr>
        <p:blipFill>
          <a:blip r:embed="rId3"/>
          <a:stretch/>
        </p:blipFill>
        <p:spPr>
          <a:xfrm>
            <a:off x="4932360" y="333360"/>
            <a:ext cx="3600360" cy="2933640"/>
          </a:xfrm>
          <a:prstGeom prst="rect">
            <a:avLst/>
          </a:prstGeom>
          <a:ln w="0">
            <a:noFill/>
          </a:ln>
        </p:spPr>
      </p:pic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0" y="259920"/>
            <a:ext cx="449568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возвратные ресурс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риродные ресурсы, которые уничтожаются в процессе потребления, а потому не могут быть восстановлены для их дальнейшего использова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звратные ресурс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риродные ресурсы, которые после использования могут быть ценой определенных затрат и обычно с некоторыми потерями в объеме восстановлены для их дальнейшего использов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48320" y="260280"/>
            <a:ext cx="4495680" cy="29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это, прежде всего, топливо, которое при использовании просто сгорает, отдавая содержащуюся в нем энергию. К этой же категории можно отнести фосфор и калийносодержащие руды, из которых изготавливают минеральные удобрения. После внесения в почву эти удобрения просто растворяются и восстановить их уже невозможно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title"/>
          </p:nvPr>
        </p:nvSpPr>
        <p:spPr>
          <a:xfrm>
            <a:off x="4572000" y="3284640"/>
            <a:ext cx="4572000" cy="292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озвратными являются такие ресурсы, как металлы (железо, медь, золото и др.), бумага и картон, резина, а также пластмассы. С помощью специальных технологий их можно снова восстановить и использовать для изготовления новых благ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Особенности рынка земли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0" y="1628280"/>
            <a:ext cx="5051520" cy="506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ынок земли является неотъемлемой частью экономики любого развитого государства. Земля - важнейший ресурс, занимающий исключительное место в жизни и деятельности любого обществ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ынок земли обладает целым рядом специфических особенностей. Во-первых, земля является бесплатным даром природы, что позволяет говорить об иррациональном характере ее стоимости. Тем не менее земля является объектом купли-продажи; с ней связаны земельные арендные отнош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623"/>
          <p:cNvPicPr/>
          <p:nvPr/>
        </p:nvPicPr>
        <p:blipFill>
          <a:blip r:embed="rId2"/>
          <a:stretch/>
        </p:blipFill>
        <p:spPr>
          <a:xfrm>
            <a:off x="4788000" y="2060640"/>
            <a:ext cx="4356000" cy="3311640"/>
          </a:xfrm>
          <a:prstGeom prst="rect">
            <a:avLst/>
          </a:prstGeom>
          <a:ln w="0">
            <a:noFill/>
          </a:ln>
        </p:spPr>
      </p:pic>
      <p:sp>
        <p:nvSpPr>
          <p:cNvPr id="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66"/>
                </a:solidFill>
                <a:latin typeface="Arial"/>
              </a:rPr>
              <a:t>Заключени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267920"/>
            <a:ext cx="83883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иродные ресурсы – основа устойчивого развития России. Природные ресурсы не беспредельны и не вечны. Это делает необходимым постоянную заботу об их сохранении и воспроизводстве. Для этого существуют следующие основные услов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о-первых, необходимо бережно, рационально использовать то, что человеку дает природа (в особенности в отношении невосполнимых ресурсов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о-вторых, там, где это доступно, следует принимать действенные меры к  восполнению природных ресурсов (восстанавливать и повышать естественное плодородие земли, осуществлять лесопосадки, воспроизводить запасы водоемов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-третьих, следует максимально использовать вторичное сырье и прочие отходы производст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-четвертых, необходимо всемерно поддерживать экологическую чистоту производства и природопользов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7T12:23:12Z</dcterms:created>
  <dc:creator>Admin</dc:creator>
  <dc:description/>
  <dc:language>en-US</dc:language>
  <cp:lastModifiedBy>LEGION</cp:lastModifiedBy>
  <dcterms:modified xsi:type="dcterms:W3CDTF">2016-01-04T13:42:26Z</dcterms:modified>
  <cp:revision>8</cp:revision>
  <dc:subject/>
  <dc:title>Презентация по экономике на тему: Рынок земли и природных ресурсов</dc:title>
</cp:coreProperties>
</file>