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D279-5AEF-4B04-98B5-3793E51F56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91B-D81C-4AB7-9011-E25FD3D3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576-BF28-40F0-BB98-6FD0F838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541-AD27-4FBC-BBB1-FAF5C5DA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45B-2D24-46A7-BA82-ABF0F911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A2C-4315-4D23-8FF0-92E61CDE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D4B-1D42-4CE7-8371-07E87EC8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238-726A-411E-90DD-E173DA8F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164-C97C-4008-866D-D65241A0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C66-2564-41BB-86C3-716DF62A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9AC-47E5-4D9F-9EBA-D7519821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4F4-54CF-4D13-9CBB-988902BE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2FB-1451-4109-A8C0-EA88AC90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298E-20EC-4CE7-A564-7FAC87A283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000450325"/>
          <p:cNvPicPr/>
          <p:nvPr/>
        </p:nvPicPr>
        <p:blipFill>
          <a:blip r:embed="rId2"/>
          <a:stretch/>
        </p:blipFill>
        <p:spPr>
          <a:xfrm>
            <a:off x="7238880" y="4172040"/>
            <a:ext cx="1905120" cy="2685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21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207766582_755"/>
          <p:cNvPicPr/>
          <p:nvPr/>
        </p:nvPicPr>
        <p:blipFill>
          <a:blip r:embed="rId2"/>
          <a:stretch/>
        </p:blipFill>
        <p:spPr>
          <a:xfrm>
            <a:off x="5076720" y="1413000"/>
            <a:ext cx="3745080" cy="42494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2305730749493540"/>
          <p:cNvPicPr/>
          <p:nvPr/>
        </p:nvPicPr>
        <p:blipFill>
          <a:blip r:embed="rId2"/>
          <a:stretch/>
        </p:blipFill>
        <p:spPr>
          <a:xfrm>
            <a:off x="4788000" y="4005360"/>
            <a:ext cx="3673440" cy="263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Udobreniya"/>
          <p:cNvPicPr/>
          <p:nvPr/>
        </p:nvPicPr>
        <p:blipFill>
          <a:blip r:embed="rId3"/>
          <a:stretch/>
        </p:blipFill>
        <p:spPr>
          <a:xfrm>
            <a:off x="4932360" y="333360"/>
            <a:ext cx="3600360" cy="29336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49568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0" y="3284640"/>
            <a:ext cx="4572000" cy="29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обенности рынка зем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50515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623"/>
          <p:cNvPicPr/>
          <p:nvPr/>
        </p:nvPicPr>
        <p:blipFill>
          <a:blip r:embed="rId2"/>
          <a:stretch/>
        </p:blipFill>
        <p:spPr>
          <a:xfrm>
            <a:off x="4788000" y="2060640"/>
            <a:ext cx="4356000" cy="33116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2:23:12Z</dcterms:created>
  <dc:creator>Admin</dc:creator>
  <dc:description/>
  <dc:language>en-US</dc:language>
  <cp:lastModifiedBy>LEGION</cp:lastModifiedBy>
  <dcterms:modified xsi:type="dcterms:W3CDTF">2016-01-04T13:42:26Z</dcterms:modified>
  <cp:revision>8</cp:revision>
  <dc:subject/>
  <dc:title>Презентация по экономике на тему: Рынок земли и природных ресурсов</dc:title>
</cp:coreProperties>
</file>