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C7A3-755E-441F-B7A1-FD403B1F8F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а урока: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Тема урока: Рын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№8, вопро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учить основные поня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граф №8, вопрос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учить основные понят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, рынок, рыночная цена, банк, вкла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- сфера товарног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определенное место, где происходит торговл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– система экономических отношений, связанных с обменом товаров и услуг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- сфера товарног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мен - это купля - продажа  товаров и услуг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туральный 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то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туральный обме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котов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й обмен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делец             ремесл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ежный обмен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леделец             ремесленни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ынок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упец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ют потребление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а – денежное выражение стоимости товаров и услуг.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лияют на поведение производи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иентируют покупателей на  совершение покупо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ивают потребление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е средство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платежа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накопления (сбере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ньг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общее средство обм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платежа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редства накопления (сбереж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анк – 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клад – денежные средства, размещаемые в целях хранения и получения дох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ро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ределить роль рынка, денег и банков в современн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134-8D07-4246-86F9-1F37FCA6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9D5-4E39-4C20-94BE-014F6CE7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A878A-AFFF-40AB-ACD2-39779C8B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5D785-15E7-47EF-8191-1394975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38B6A-F7EC-4369-A841-E9B74073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BE5BB-2BC2-4F41-9CE0-90FAEC8C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55C5-0BBC-4133-8803-995BE68D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768D1-0F61-4ADF-A045-70AF852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3C2A5-CD08-41D7-A7BC-C92A776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B64AF-0FCD-430C-8F53-5DE6112F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B6F4-151F-4439-A9C8-40C746FA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00434-1B24-4B21-A7E4-880CE717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7046-31B4-4CBC-93AE-2C099A43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A205B-BF7E-4DC4-A9E1-E53A0966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44724-1FD8-4F1E-9535-B225FC0F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9CB6C-C4C9-45E6-A182-BD5438E4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4EFC-7E78-40BB-BDC8-834FB391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CEBB7-7DAC-44D4-A4DC-19788A1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18771-59CC-4442-A461-E0A69F2C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6BC73-F344-4D1F-A6FD-307D15B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D0CFF-E59A-45B1-B69B-7B2AE496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B312E-7F00-4505-84D7-2ECCFC1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61F05-CCA1-42F5-9401-8CDC27F3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76EB-7A5A-42D1-B298-B0E15BBA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BAD61-0EFE-4C54-B13F-A421D475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C916F-F8A8-42F1-9856-7C1D3919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7A33-0365-40C4-89CE-74CF2828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12DF6-FDB9-4EC6-978B-B18CC281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122F4-6870-4A95-93A8-D2828C9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B998B-B5DB-411D-86B1-FC916129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A5A9F-5877-4D1D-9669-A5FEAFF0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74EAF-BAA6-4371-A495-9CE7BDB6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E53B2-8884-4765-A99F-E075CC06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0CF6-48F8-40AC-B6C7-51BA4B71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718-77A3-4127-9968-B93D6BE5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2829-32B3-44DD-B496-78EF6A0C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C1023-583A-431A-BD5B-AF9734A3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7010B-2A3F-4C94-B7EA-F492D635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C1D22-8005-462C-96B5-CEC96368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8DA79-1B80-43E8-B936-0AAF56F2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2E7E0-DEDF-45FA-B9E4-7D97A1C8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F58DC-9192-4284-8FA2-5FAF241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2BFFA-ED96-4A57-A1D5-6491384D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B7E16-864B-44F1-AFC8-4D21C815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4C6EF-1D6C-42F7-8FED-6D3538C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9C9-1B68-444F-884B-5449EAEB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B3F90-EB52-4AC4-9745-C7DC603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EA246-C508-4B21-8333-D6640FF0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23438F-CE60-4617-AD4A-1CC45743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FD643-D2F1-4A50-8232-F700EA8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267FB-D381-4FCB-B06E-2C87F78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82DF2-165D-4539-9B76-E6CD0DA3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45149-41B7-4E79-8E1B-6D25F31F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425B5-460A-48BF-B887-87198177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4FD2-4D77-4CFC-BA3F-A7B4071C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A4A1D-2FFF-45B4-99B9-16ED7F79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1B50-095E-47A0-A5DF-0F4760A1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45552-321F-4DF5-A3BF-3A2978D9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003FB-847B-4681-8C31-81AAAE96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91413-5D8B-4C0A-8D73-12F4D9B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4056F-D552-4A78-9DDD-0AD097CA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A9B28-CA34-4027-AB1F-DDA6105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DD1F20-0DA8-4844-B9C9-09D9BAD0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18508-F1B8-4BAC-BDF3-EDC67476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3CB0C-6802-4F3E-AF37-C99D795D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5D28B9-418E-4AC6-ADF8-63BD6834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0AD91-C58F-4501-97A9-D24AF04E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2B11-36E6-46FF-AE79-05304D7D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283B8-9A3A-4475-81F5-F01CA449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5699B-A8FB-4D4E-924C-F049B8F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87A11-D9C5-43C4-A0B3-39888E7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272A0-C2A9-4F39-979A-039EFA86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F0E06-48D2-4611-8053-E88AAB1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E108E-E332-4A9A-B374-EB8A6A90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E256C-D4EF-4A7D-803D-419D69DC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54A243-D325-4797-987B-3B94A7A27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7E4F6D-90C2-4E7C-89DB-6219882C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0690-2AD6-4BDE-9A65-A0D8654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F2C9-A81A-4CA3-A79C-B6BAD5A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49DF-F6D2-4E50-99A0-3BE1374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6D6-765B-4C8D-9BE1-34993412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6124-EE99-4D45-87D0-386A30E8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EDD9-2CB6-4E8D-A9D1-E83E48E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B43D-390E-4CD3-9533-C1BE6018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AC04-7486-4055-8060-6CE838CF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D3C-CC04-40A2-BC1E-B9F3FD64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FE1E-F2F7-4607-AA14-5E51720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71E5C-10C3-45A5-A5F5-95DB45D5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54B8-F5A9-4BB3-9D47-F9E41538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9899-1ADE-4281-A4C2-344E098D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DDCCB-35B2-4305-82C4-CF4B93CE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711-117A-4DEF-A0B8-16BC3B8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E719-8C13-48D8-943D-CE168A99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2A93-17FD-46F1-810F-23452B5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3A553-E96B-46FD-B4FA-71D87F4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ED213-CE9C-47A7-AACE-86A73FF7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54F65-D98C-47CB-8F2E-5BB5762C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C2DCD-0490-4C42-936F-81774EDA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E4B2-DA47-47D3-989F-CE9DE538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CD08-6483-40FD-8062-2CC9DECA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2EE95-D585-4AF7-9FEA-ABEF9AFB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C5517-3B18-4570-A7F2-BF1ED303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B76-E019-4719-A682-A6D8327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C162-A41E-4B32-B9EF-7433C1BE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5BDF6-3694-4B84-84B7-DD3F9FCE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729C0-58D8-4A51-9D6B-18AD1C71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6891-132A-41D8-B89D-049C8B32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5C2A-3342-4FFD-95BC-B82B5A08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A9A9C-EBD4-40C5-9F4B-1EFD0DD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3F94-0EB1-4E41-BB3B-718113B0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02DFB-BFED-4589-8C7D-DE36F0E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2B92-B99C-436E-BD8E-E3981484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6375B-309F-476A-9800-454B3ACC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3BA3-0398-48A0-B692-5E8A47C5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A027-38FC-4310-AD5E-15BC1915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BDD6-F387-4BD3-B267-FCA39675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0382D-46A6-4A10-97EE-B384D3BE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1E4B5-0057-429C-B36F-F3FB0FE8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5D60-2ABB-4B45-A7CF-6E1946E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4E01-ADD8-41ED-BAB3-A9BF5F4A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F00A6-54BF-4943-BA9B-73DEDF1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49F6-A2D0-4B90-BE07-4A964F80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4B47D-1E78-43E2-9D40-60BF9F6C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499D5-952E-43AF-A008-F1F370E3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A8A-B279-4261-9CA6-28845CB1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DBAE-DE7B-40CD-8B38-4CF51213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C3F14-41AF-42D2-A11A-CED33B75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544F4-E8EE-4E24-AC8D-60CB099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574F-5D38-4CE4-872D-D71AB302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7477-8052-4562-A787-8F502767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D88AD-E6C0-4E0C-AF83-A5F4EC2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52595-E667-41FE-897E-C43B3CBA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B3B1F-DA9B-44F7-B13D-3BBC5ADA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6CBF-3D79-46C2-8F0C-8D0EE37E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1E80B-1DE2-485D-A10F-73A83D7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7B6-E80E-49C2-9E22-6CD9393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92C9-2C16-4DFA-B29B-B682166E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A5E27-F4BB-40FA-B593-EB2F9855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19410-4535-4374-8756-DDAD1254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9F12-BFD4-4A57-971F-7988DA32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BAC28-CD0F-44C6-A0A7-AA82AA9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76A8F-2570-4BD9-9780-147B7F2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2AFF9-933C-47BC-9A84-D62CB34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C8E56-A32B-43FE-B3C1-8F672A96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D2D09-78BD-45F4-A6F3-BA120588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7CF8A-E536-4DD2-BCA0-218FC96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70D-1D80-44A7-A40C-0C6A030B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746A1-4FA6-4714-9B1F-0D6C101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14B0-A529-4EF9-A72D-A6EEA0D9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25276-116C-4E1D-A0EA-75D5C8C4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A5DA8-BECE-405B-852F-761388E4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FAD4E-6457-4589-94FC-295B3687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5BF53-C9E1-405C-B488-82BAD8B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4A388-1000-4741-90E2-BE1F0879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9FE27-366B-4931-95DB-595C9BD4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134D7-A47B-49C2-A9C5-598AD4F4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A565-EDAA-4256-9D31-286A4815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7C0-353E-4AF6-8CD4-D34E169E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D848-1BEA-46F9-83C9-A4997281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BAD26-6DC8-413D-8EC4-CD9DE747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CBAE-858C-45FE-BBC7-4638AB1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05D51-FE5F-4787-AA74-2BA7E6B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F46AD-B76D-4EB2-9555-6A75BEC4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EB1F8-CE34-42DA-A15B-FF089BD3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C852C-9193-4673-8200-2BCE5EA4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BFCFE-3A76-4CFE-B7D5-D9EE435E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CFD5A-90A5-43CB-B6E6-E0B0E614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B0FF-D455-46D9-B485-E2B9CFA0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37C5-9075-466A-BF28-86F10CF05EE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3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84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88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593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94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97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8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03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B710-B20F-44AB-90C5-AF84EDC1E4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4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718-B776-4821-8093-6CBF5AA5E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9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1439-D68C-4B9A-9D64-7EF1D7FB42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39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40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1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42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5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46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7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8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9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0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EE31-C517-4BCA-8BA3-E4EBEC83F3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9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3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3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BA6-01F2-4F55-B6D3-96FAF53330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131-83B2-4C90-9A5D-551C861ABD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F71D-431F-43FA-8A8B-8D6403D3C20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7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22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5E7-8115-48FC-9ACD-8C4870FDD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7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9BD0-9FB9-4A54-AFF2-889A11C90B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1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2696-D321-4202-B242-966FD59352A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6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0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0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C495-6BEA-4523-BD54-67FA29D513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50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B431-24FC-456B-AAA0-EAD73E2CE27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0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B49-CAE2-4D63-A19B-5D48142174B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9efee"/>
                </a:solidFill>
                <a:latin typeface="Times New Roman"/>
              </a:rPr>
              <a:t>Тема урока: Рынок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аграф №8, вопросы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учить основные понятия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мен, рынок, рыночная цена, банк, вкла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ктикум: подготовить сообщение по одной из тем: «История денег», «История торговли» -  по желанию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- определенное место, где происходит торговля;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– система экономических отношений, связанных с обменом товаров и услуг;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Рынок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- сфера товарного обме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бмен -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это купля - продажа  товаров и услуг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Натуральный обме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кото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4"/>
          <p:cNvSpPr/>
          <p:nvPr/>
        </p:nvSpPr>
        <p:spPr>
          <a:xfrm flipV="1">
            <a:off x="3635280" y="2852280"/>
            <a:ext cx="1728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Line 5"/>
          <p:cNvSpPr/>
          <p:nvPr/>
        </p:nvSpPr>
        <p:spPr>
          <a:xfrm>
            <a:off x="3635280" y="3716280"/>
            <a:ext cx="1800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Денежный обме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емледелец             ремесленни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ынок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780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пе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6"/>
          <p:cNvSpPr/>
          <p:nvPr/>
        </p:nvSpPr>
        <p:spPr>
          <a:xfrm>
            <a:off x="2484360" y="2060640"/>
            <a:ext cx="18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Line 7"/>
          <p:cNvSpPr/>
          <p:nvPr/>
        </p:nvSpPr>
        <p:spPr>
          <a:xfrm flipH="1">
            <a:off x="4858920" y="2060640"/>
            <a:ext cx="1800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Line 8"/>
          <p:cNvSpPr/>
          <p:nvPr/>
        </p:nvSpPr>
        <p:spPr>
          <a:xfrm>
            <a:off x="4572000" y="422100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а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денежное выражение стоимости товаров и услуг.                                                  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ЦЕ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лияют на поведение производителе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иентируют покупателей на  совершение покупок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граничивают потребление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 u="sng">
                <a:solidFill>
                  <a:srgbClr val="ffffff"/>
                </a:solidFill>
                <a:uFillTx/>
                <a:latin typeface="Times New Roman"/>
              </a:rPr>
              <a:t>Деньг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Всеобщее средство обмен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платежа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редства накопления (сбережения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Банк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финансовое учреждение, которое объединяет денежные средства, принимает за определённую плату вклады и предоставляет кредиты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Times New Roman"/>
              </a:rPr>
              <a:t>Вклад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– денежные средства, размещаемые в целях хранения и получения доход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bbd71"/>
                </a:solidFill>
                <a:latin typeface="Arial"/>
              </a:rPr>
              <a:t>Цель урока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определить роль рынка, денег и банков в современной экономике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0:20:48Z</dcterms:created>
  <dc:creator>Home</dc:creator>
  <dc:description/>
  <dc:language>en-US</dc:language>
  <cp:lastModifiedBy>LEGION</cp:lastModifiedBy>
  <dcterms:modified xsi:type="dcterms:W3CDTF">2016-01-04T13:42:35Z</dcterms:modified>
  <cp:revision>5</cp:revision>
  <dc:subject/>
  <dc:title>Тема урока: Рынок</dc:title>
</cp:coreProperties>
</file>