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7405-1175-404D-9748-FFE9C9372D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урока: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Тема урока: Рын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№8,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основные поня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, рынок, рыночная цена, банк, вкл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аграф №8, вопрос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учить основные понятия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мен, рынок, рыночная цена, банк, вкл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- определенное место, где происходит торгов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система экономических отношений, связанных с обменом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- сфера товар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- это купля - продажа 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- определенное место, где происходит торговл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– система экономических отношений, связанных с обменом товаров и услуг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- сфера товарного об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мен - это купля - продажа  товаров и услуг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уральный об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месл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д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то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туральный обме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меслен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леделец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котов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обмен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делец             ремесл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нежный обмен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леделец             ремеслен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упец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– денежное выражение стоимости товаров и услуг.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ют на поведение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уют покупателей на  совершение покуп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вают потребление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 – денежное выражение стоимости товаров и услуг.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лияют на поведение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иентируют покупателей на  совершение покуп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ивают потребление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ее средств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платежа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накопления (сбере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ньг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сеобщее средство об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редства платежа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редства накопления (сбереж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– 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ад – денежные средства, размещаемые в целях хранения и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анк – 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клад – денежные средства, размещаемые в целях хранения и получения дох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089-65B0-4CBD-A4AF-82B455CA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7CCA-7343-472E-9052-FCEB70A8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202C4-431F-4E91-A745-0A848A2B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B2058-12FE-4477-A918-69D31310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4B014-EC48-4BC5-AEBA-A76418A2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069D7-2ACA-4A9A-9312-EB657A18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09037-0655-47DA-B28D-0666C8C6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3CCC4-DD12-4CE0-8679-2537FBCD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14C7F-153D-41B7-9075-AD344505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13168-D65D-4F27-8B42-021A7297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D839B-DE61-4A33-84FE-B547FC34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F2361-4896-4D30-B57B-8124EABB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1F2-97AA-479D-AF59-668983B0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0E075-26E9-4D61-9CF9-7190BBA8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CCEF9-5BFB-490A-A110-8460E4B6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3A6CA-4DDD-4371-A2E5-69ECD85B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3D5B0-9636-43E7-95EC-25F53CA1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E45CB-68FC-4DCD-9A54-63F49310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6DA31-7842-44C7-A062-7A47B176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45D54-14A9-4B10-AA03-9B599AE4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C26AD-12C3-4F8D-81EA-91068435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C0037-A08E-41CF-BFA3-D36C3DD8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54722-716B-4AB0-A06B-1DEF3352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D620-8C81-4431-8B14-5B41627B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1F091-6A21-4FB9-B3B2-952DAFA0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73163-804C-4EFE-B99A-EA319E12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6422B-EECF-4D2B-B8F4-919EBB6B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8A515-F618-4D78-9854-12A280D4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50972-6B87-4D28-B7BC-8AC2425E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A7505-F760-4510-A4F7-25F4A4AA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A3BB2-7D44-4655-A39C-31836059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6139A-1168-4E9B-AB24-857913F4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1AF5A-8D9B-483F-BB22-F40165D2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B1E60-7268-4D98-AA01-5A095A74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9AD6-BE08-47F5-9580-77502A6D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A32C0-4098-4D8C-88B2-F27E556D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29454-5533-48B2-8577-F391BA23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04638-E84C-47D9-A127-49A3897F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75429-A3B5-4F8B-BEF3-EA4C9D8B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A5B7C-DEB4-41A2-979C-6DDB53CD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DCD7F-8D88-40D8-88BF-E8FF05F2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977C0-8BD7-49B6-ACB1-768BB858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0E7FB-D03A-4935-A717-D926D0AC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1701A-0D85-4EA4-A7B7-99CF3DE8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F72B6-B0A2-4E57-AE0B-D3F8DD8E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CB5B-26CC-46AD-B1C4-F14DF767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D7E22-6511-4950-954D-1B72AA1B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CA08E-7BCF-40F4-933B-AC91AD2E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89D1A-4DFD-4EAD-825E-0580D2B3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764DB-6D71-4412-8D71-2003002C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B0D1F-62CE-4173-9462-778340BE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9C4F6-AD75-4550-8625-EB2CC2FA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3B8F0-7920-4825-B3AF-85D95C27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7AB18-2303-4E39-AA22-202B2F5D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074749-529E-4A09-AB2A-7AB09E8E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519033-431D-4696-8C33-FEAF40D7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BB3B-2A60-415B-9370-2FEFCABC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D96BA-1E60-49F7-BCB2-119FE566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242340-09C0-4E17-8AB0-3F7E6768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67A88-A6A6-4358-92ED-A2204414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DA308-148E-4918-A037-890372A0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15633F-ABD5-4BC4-9E45-FBC45D77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3F254-4F25-4F59-A89C-DFC63ECF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58B4E4-F721-4D01-A5E2-F0B5621E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4E205E-DC3A-42F9-A906-57142731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417B8-A29C-4DFE-AA81-5AE77822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EEE53B-A678-48EB-8597-8B66D50F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1BDC-CFEB-4712-AFDB-73EE995A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BF2196-A9AB-4F8D-839C-A6E3556E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082176-F83C-40F4-88F7-41E94A4F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D3442-5747-4326-AE6F-379500A0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151D4-0B71-41C4-8CAF-D7DBC796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72C7CA-45BB-4C6B-B0F3-F8663017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25675-AE9A-4055-A876-F680DFC2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74E715-4B44-4FFF-8406-E0FA8DE4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57BE2C-55BF-402F-A8EC-B19CFD44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93CEC0-AC18-42A2-A898-C258C18E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29E7-FC47-436D-A3F2-2B86FA18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5E31-52F7-415C-8977-58DEAC68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23E3-3BE1-44EB-8EE5-4CD6F914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245-8E55-4AD3-A68D-931426A0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961B-38E8-4605-BE48-B18B1F57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296D-76A5-46BE-9A04-8CCCA872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E8B8-ECAC-4D38-9394-F2778850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51DC-5294-41CF-8D05-6290FC8F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9C9C-1C25-4703-863E-23091589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2505-2DCC-48BC-8C66-80A7D66B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79C73-980A-40AE-9F83-99D18C98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C9577-C53E-4CEA-82C0-122DBA17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A9938-0C5E-42C2-B5DE-2909504F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F9AA8-448D-4841-A36F-8739DF43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FBE0-53A8-4A6A-B60C-B424710B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F4CC1-B07C-492B-A085-1EC309DA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B2513-C779-4465-9AD2-AC01DAAB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1D073-60B6-4344-8A4A-E0E6D06E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4A02E-0CF2-4F3B-B7D3-C96111D2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99C05-BD45-4B10-B197-68725B2B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ABD66-E3EA-4AD1-83E3-0F6A0A04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2F03F-DEDC-4234-A0DC-72867459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57BE8-B7C3-448C-972A-25640983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AF057-70A4-448F-960E-E271B06C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D9965-891B-468C-957C-1782E478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13C-5601-4790-9BD8-600F83D8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0B148-F196-4BFE-B324-276BE4C2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83CAD-20C0-429C-80B4-FD352A8A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6EAF9-AC92-45C4-8278-5E96BCB6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B618B-579A-4A77-B19B-5DB1F474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C13B1-8AD0-43D9-A29A-427C9174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CADA2-CCCA-42E9-AD01-590CECA4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26F45-52AA-41C5-9F96-ED3B2104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C70DB-2F1C-47C3-8619-31B20638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D3D1F-39CE-4D6B-8568-99FB6786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E0538-5363-43CA-B43D-C5F27226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932B-F718-4F6B-9937-F75F9D41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5867F-722A-42AE-8D7D-6343CD12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43F97-EA9C-4006-AF83-5DFAE1BD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842C7-2949-4836-9884-F9C681E8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C5670-414B-4A76-A457-E8ADCE2D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8ADDA-2C08-4F8C-B421-5D267D37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2EDCD-2312-4028-BBFA-61C0FD8B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BC278-CEA3-4542-84DE-C58AAAAE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38EB1-3A71-46DC-951E-9C9045A8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D599A-416E-466C-B4DC-FDDD02AB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EFF12-0010-4378-8258-BC193BEC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A62B-9CF7-4772-BF49-FD290B7A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407FF-B59B-4514-A73C-B433B0EE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2DBA6-C152-470D-AB2A-0AC8D6CD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276C2-CBB9-4CF4-AEED-F6B83E0F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8D05E-47DA-40C0-BB02-34A978B5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EBFDE-425E-477C-8B63-32119282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4EBD4-F24B-475C-BA87-4482AAA6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87F84-D262-4124-825D-004CD0DD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FF658-C900-419D-A3DA-0049EB42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D3CE8-D477-46BE-A3CF-FA643601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36818-D5B5-4004-B8E2-E5C39BF0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0C6-5402-4857-8B36-0DAE3619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11AEE-1FA3-46CC-AB82-B666E540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B1AE7-1C6A-48D7-B1EA-567716F2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703F6-CC3E-41E6-8AE2-3E3A3511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86A58-DA15-4C71-AA87-0C156E3E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2810E-4C1E-43D2-98DB-680E4989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6942D-F002-4E9D-8F8D-78650051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61F40-A343-4B97-8B65-2E0450E2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387C0-E2B0-44A5-9065-A7167DB2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00A78-BCF3-4B36-B297-3145340A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DE0CB-3C55-4686-85F0-6E5D2A58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E82-59E2-4F77-B824-29B08856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9B95E-FB38-4FE0-954D-1BA93A0A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0F0CB-91D8-4056-B9C3-4A8D5B8A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D1993-16EB-4D6B-AB10-74B4C9E2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E1A18-8350-45DA-B020-F8F2A78F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AD43C-8D57-44CA-A446-013BEB15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94424-24CD-4278-8EAC-62E35BA7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967D0-D34D-4D39-8ACC-34457D63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E6F89-B629-4CD7-8C74-827C8FBB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F0CAA-D232-4FC9-AA94-0D8943C1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7DFF0-77FA-4DF0-999F-29114384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806-301F-4E7C-93E2-E635987B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382B5-FF05-45C0-929A-7BA48D9F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62B13-0C55-4264-9644-39B5E118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6EDE6-9748-4D08-92AC-56248D23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2A44E-EF97-466D-BD3C-F2AC582D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431FC-87F5-4268-8A34-D47C50A3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B1F8F-CA2B-461A-B9BC-261C6FA0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29506-42BD-461D-9106-9AA02B08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062CD-54FE-49D9-A600-CFB90213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9EDCB-50EB-4B36-A575-96C3E5CE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6B4D9-2869-4333-8F89-DA520E2C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84E4-5305-4AA1-ADC9-BBC74D512C9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8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8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8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59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9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6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9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9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0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12D3-CE70-4F60-93A8-243AAA8E18A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4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E1E6-BEBE-479B-872B-6B93FBF08F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9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4004-5BF9-4701-A19C-F0C048760B5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739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740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1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42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5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746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7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9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0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3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C2E1-3058-476A-8C56-A9DBA299AE2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9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3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3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7788-4603-4B73-9515-381E9C9F1E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F1CE-8025-4E3B-90A1-4A0B3E3152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94BC-6DC1-410F-98BF-BDAAAE8A8A3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A4CB-71E9-4B14-AF09-14E369C12B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7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2683-D89F-4317-A286-29AAF2835E4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15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17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18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986D-F450-4437-A7FB-9234DE138F3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6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0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0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3C9F-C32E-4132-867E-3B96D738B1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5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FCEF-ACF5-4DB2-B5A0-D9BA203932B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0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F07B-E131-4B98-AE75-F53F2C31E2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9efee"/>
                </a:solidFill>
                <a:latin typeface="Times New Roman"/>
              </a:rPr>
              <a:t>Тема урока: Рынок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раграф №8, вопросы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учить основные понятия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мен, рынок, рыночная цена, банк, вкла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bd71"/>
                </a:solidFill>
                <a:latin typeface="Arial"/>
              </a:rPr>
              <a:t>Цель урок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определить роль рынка, денег и банков в современной экономик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- определенное место, где происходит торговля;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– система экономических отношений, связанных с обменом товаров и услуг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Рынок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сфера товарного обме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бмен -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это купля - продажа  товаров и услуг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атуральный обме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меслен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емледе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котов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Line 4"/>
          <p:cNvSpPr/>
          <p:nvPr/>
        </p:nvSpPr>
        <p:spPr>
          <a:xfrm flipV="1">
            <a:off x="3635280" y="2852280"/>
            <a:ext cx="1728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3635280" y="3716280"/>
            <a:ext cx="1800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Денежный обме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емледелец             ремеслен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ынок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уп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Line 6"/>
          <p:cNvSpPr/>
          <p:nvPr/>
        </p:nvSpPr>
        <p:spPr>
          <a:xfrm>
            <a:off x="2484360" y="2060640"/>
            <a:ext cx="18716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Line 7"/>
          <p:cNvSpPr/>
          <p:nvPr/>
        </p:nvSpPr>
        <p:spPr>
          <a:xfrm flipH="1">
            <a:off x="4858920" y="2060640"/>
            <a:ext cx="1800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Line 8"/>
          <p:cNvSpPr/>
          <p:nvPr/>
        </p:nvSpPr>
        <p:spPr>
          <a:xfrm>
            <a:off x="4572000" y="422100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на –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енежное выражение стоимости товаров и услуг.                     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Н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лияют на поведение производител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риентируют покупателей на  совершение покуп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граничивают потребление ресурс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 u="sng">
                <a:solidFill>
                  <a:srgbClr val="ffffff"/>
                </a:solidFill>
                <a:uFillTx/>
                <a:latin typeface="Times New Roman"/>
              </a:rPr>
              <a:t>Деньг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Всеобщее средство обмен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редства платежа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редства накопления (сбережения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Банк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Вклад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– денежные средства, размещаемые в целях хранения и получения доход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bd71"/>
                </a:solidFill>
                <a:latin typeface="Arial"/>
              </a:rPr>
              <a:t>Цель урок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определить роль рынка, денег и банков в современной экономик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0:48Z</dcterms:created>
  <dc:creator>Home</dc:creator>
  <dc:description/>
  <dc:language>en-US</dc:language>
  <cp:lastModifiedBy>LEGION</cp:lastModifiedBy>
  <dcterms:modified xsi:type="dcterms:W3CDTF">2016-01-04T13:42:35Z</dcterms:modified>
  <cp:revision>5</cp:revision>
  <dc:subject/>
  <dc:title>Тема урока: Рынок</dc:title>
</cp:coreProperties>
</file>