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AC50-DE47-4C9D-BE2C-C1489173F3C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ма урока: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Тема урока: Рыно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граф №8,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учить основные понят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, рынок, рыночная цена, банк, вкл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ум: подготовить сообщение по одной из тем: «История денег», «История торговли» -  по жел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машнее зада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раграф №8, вопрос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учить основные понятия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мен, рынок, рыночная цена, банк, вкла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актикум: подготовить сообщение по одной из тем: «История денег», «История торговли» -  по желанию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роль рынка, денег и банков в современн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ь уро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пределить роль рынка, денег и банков в современной экономи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- определенное место, где происходит торговл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– система экономических отношений, связанных с обменом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- сфера товарног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 - это купля - продажа  товаров и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к - определенное место, где происходит торговля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к – система экономических отношений, связанных с обменом товаров и услуг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к - сфера товарного обм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мен - это купля - продажа  товаров и услуг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туральный обм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месле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едел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то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туральный обме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месленни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леделец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котово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й обмен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еделец             ремесле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нежный обмен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леделец             ремесленни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к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упец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– денежное выражение стоимости товаров и услуг.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ют на поведение произв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ируют покупателей на  совершение покуп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ивают потребление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а – денежное выражение стоимости товаров и услуг.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лияют на поведение производител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риентируют покупателей на  совершение покупо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граничивают потребление ресурс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общее средств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платежа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накопления (сбереж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ньг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сеобщее средство обм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редства платежа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редства накопления (сбереже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– финансовое учреждение, которое объединяет денежные средства, принимает за определённую плату вклады и предоставляет кред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ад – денежные средства, размещаемые в целях хранения и получения до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анк – финансовое учреждение, которое объединяет денежные средства, принимает за определённую плату вклады и предоставляет креди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клад – денежные средства, размещаемые в целях хранения и получения дохо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роль рынка, денег и банков в современн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ь уро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пределить роль рынка, денег и банков в современной экономи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39E1-AC81-4733-8895-CCCAB998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F0FD-08C3-494D-B25F-4F4B2049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7D743F-1893-4BD6-9994-E96A47D9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6DE8F-18C2-48F5-8E3B-99B85DAD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4D644-2015-4C24-BA78-DCF06589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EC95C-994D-48F5-BB4A-0C0E82CF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B579BF-8DF6-4A39-BF6C-111D2B5D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45AD0-B5EF-4A37-948B-BCAB8281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4DC3E-2026-439D-9726-75E8F0E0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7B8118-C124-4DB1-A338-3BC436864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E811F-4EE1-4102-B898-48CFA52CF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F51F2-F952-4CA5-B70F-32174C33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14DF-AD2C-4DD5-AC2D-853938C4C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D03B40-F67E-44D1-A355-BA191DB8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C0E0CA-CBAC-4FE1-82AF-7F6C9D22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14473-612C-4C8E-95A4-4B9A2D8D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3BDDBC-13B6-48CB-8811-D9172754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9A71E-408E-44DF-A893-B0914C73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57C404-A682-43C5-9CE0-E3E4B746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AB1B50-C891-4C76-BA73-EDF8A8EF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0264C1-E963-49FC-93F6-34A85D86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479DE9-512E-423B-B153-25428005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E00B7-2123-44AA-9B97-D2A39C845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1543-320B-4856-BAFA-0156BDF36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BF5C25-6611-4FCF-A0E8-1DA65B7E2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3D636-1296-447C-AA28-5953848FA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E4A19-F57C-4979-81E6-5BB06F06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68BE98-D274-4CE4-AEC1-A49FF4EF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642DE-0EDB-433C-BA69-0E9B20E5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9973B-0A39-4ECB-955D-FD554538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CCDAF-F23D-432B-8341-C6F51DE1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D9BC4-625D-432B-8A5A-252C03A0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7C9F5-EBBB-4711-9C53-F45F192A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92C30-124A-453A-BC1A-C321E677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1801-5206-4915-A4A7-343628B15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D8875-1E5A-4622-9E9C-208B6CDA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6DB31-19BE-48A9-AC3E-19BB9B90B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FD35A-70C5-487B-B610-FD04A8A3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FD2F80-AE39-43D4-9FDC-5F338EE7A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0B97FF-10AA-4E05-AD01-D38778A8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E0E6B-D101-42BC-A916-0943CEE9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36281-704E-40B3-BE5B-3C3B3BB0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A66D86-7B96-480E-8218-72FAE8B1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88F98-0F78-440E-AB51-EF552008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D2BFEC-80B6-4312-98AD-52868480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1C01-67E7-4153-BA87-DF25C11A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3FFDF5-BD0C-4AF2-BE09-428CBD96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296BF7-F13F-48EB-B813-4F728DD0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97030-31E1-4A78-8ED0-7E24CECD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7137B5-3BE9-486C-923D-B3C5CCD61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EC2EB9-8363-44BA-BF86-9A1B636D1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EAF75F-5DD8-455D-9721-0A30CC9B4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1FDB8A-9250-4340-B4E5-5CCC2B13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94F7E1-2CE2-4388-A90E-4D664C5F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213450-563E-418A-956F-FE0A983D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28CB09-8FA8-4FEB-A35F-72E706B7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8B71-F710-432E-96C8-2ABE84F9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C8CE46-7254-457F-B99A-9FA87F27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319454-3C0C-4933-B3C2-E34A7F1A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082631-DDC1-4925-A406-C050419B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A90D50-3792-4030-88DE-8499647F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9C96C1-E35B-453D-B5DD-75460839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6D795D-03FA-47BE-A274-724EBA4CC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31B2D2-D85F-41E0-BBB4-8572D5907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C2255D-84FA-4D18-89B7-666B522C7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BE819F-AC77-4F37-9F59-6656B8AF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817792-D877-4D53-9340-C131AE27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D208-AF19-4181-B72C-CB33F24C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2BFA0D-F01A-4FBA-8B4C-EF116DE9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ACC1D5-7687-448E-931B-97BA4761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BC203A-F9FB-44A0-9C75-D14885DA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C44B50-F464-444A-B5F5-F6E9B80E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ABC00A-355F-48CF-9B5D-E03AD9B5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FDD141-0F33-47DC-A6F5-0D7ED422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99785D-4818-4413-8E62-937E35CD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C064EA-DA2A-471F-9799-410C7C1AE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7948A5-A468-4EB9-9C65-D3C58C176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C18A-0EC7-4E0B-9649-3620BD90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B00A-95A1-48F4-BC20-3ADC64EC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7300-B25E-4817-B99A-D187208F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C56D-0435-49D1-AEAD-15FC4891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EE41-762A-43DC-8ABE-FD4AB3C3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1802-C836-41A5-93BA-7FD080F2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38D7-7BD6-4AFF-B3B3-24C16103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0037-0F8D-4E30-A912-251D26755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D2C3-8839-4925-AEA1-4384C62EC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3C2D7-A1E8-4083-8AAB-D83513167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635C0-C886-4F73-A0AB-4C5A1A7D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FB528-EA30-46BB-82FD-7CF931AE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26611-0410-4550-8FDC-A3F3BD6B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1A069-9BBC-4421-81DF-3EE522F8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7A43-1C74-4E9D-A95F-506B87DD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79918-065B-4758-94F4-E7676E0A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969D6-27E7-4F79-87EF-A72CB27F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BFAD4-FA68-4C84-9B4A-6676B79F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96449-4818-45FD-AEE6-C8CEFFEF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F2A52-A19C-4231-ABFC-519931D7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A9A96-1E59-4E6C-9388-4644EB90A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C0CD0-7207-4821-A5B3-C90D24D1F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B5D04-9B2C-4B79-ACDB-C904B9AA6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2E1A6-D2E9-48A6-AC06-71080864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C509A-D64F-4974-B5D4-D33659BF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F1BD-1B82-476F-8FC0-9A66B6B7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C6E16-E882-4DDE-8553-C050C23C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2C8EC-E587-48F4-BEF7-33FA649B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4B45B-C5F5-4CA6-AD57-9BD52536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5303B-9268-4E40-87D6-DFF69492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BB8D1-6EAF-46DD-B5E1-15998E77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5A7BC-E0DF-414D-BFB5-C3D66EB5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FBD2E-7073-4FEB-9CAB-43D134A3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A13A7-3F98-4798-90E9-33076C734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7B6C4-D069-4F3A-82B7-996313239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173A1-65A0-44C5-A715-ED03003A9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123C-9AB5-4C89-8A40-1A1E0946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BA8C8-DF98-4DE1-8B53-FA577256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9E038-E1BA-49A0-94B3-664A5969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112F8-3145-45EC-8B16-C7D6C5B2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C5FE5-C929-49AB-ABC1-09BC128D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B5ED8-6313-419C-B8BB-3B453EF9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95826-4086-47FB-9555-7D1B27BC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9CD7B-4FFE-4AF4-A495-45A97BD5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47D05-5686-420F-9C51-53137AEC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02E3A-A9F9-402F-A1FE-F4FD7C34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AC6F4-9E81-4586-AE98-BDD6F77DE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0F73-3FF9-494B-A45C-77261E80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2EEFF-578D-45A5-B359-52432018C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37460-3801-4853-A09C-301432D03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F8330-0D4C-4B37-A356-4429FC92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7636F-7D80-4B24-9218-724A8D3C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9F6A8-E2EF-4349-94DF-E476B689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6B1BE-3500-4516-849F-236068D3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33300-8811-425D-9032-DC3B3458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DE328-ACA1-463F-8351-9D55D8A3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5BDBC-B7DE-4AC2-92A2-3619CA75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4CFB1-1C86-46D0-9050-3F0BEB12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0B5E-1492-458E-A901-B22BC0DC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C582B-E9FB-4024-8FF7-41A501B6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F0E64-3761-41D0-B14F-008C7A02B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53ABD-D371-4064-9D9A-1E9094EB3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BE8F0-695B-4DA5-AC20-C75174E78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83333-558F-465F-B209-FDCFA66E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6CA3D-2906-4129-9473-52B2BA1C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12D29-9360-40F6-AE96-0DEC7A37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274F0-EA78-41DD-B959-E2695AA8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36CF7-99F9-478C-A4DC-53252ADC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B322F-E21B-4027-A3E0-D20A8519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1177-A51E-46C9-93B6-96E5B5B9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0F90E-7DA2-4894-9F57-771B2F61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7583A-E2ED-460F-8D29-F220FBFE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D3A93-0EAF-4E13-AF16-EAB65C70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E4CB1-0EFB-4151-ADE8-94B93772B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EF511-3A93-4CA8-9533-F8ADBB684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5B4F9-22B0-43E1-B797-7798F3E01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DDD8F-CD74-440E-9824-24EA065E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911FA-CBB1-4150-AB75-BB46D5AA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C8FE9-6C57-49F2-9025-D7D30214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B01CC-DA42-45F1-916C-312A91D4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2B17-333D-4A09-86A2-ADF9B2EB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CDE9B-FE61-41CE-99A0-41B01F2A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CAD0D-02E7-4CE2-994C-09369859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7B49E-E29C-45CC-82B6-56EF155D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63CC4-E4F1-4D4A-A0AB-E2558901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844BC-BCCB-4B91-B233-E3410638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C2294-A096-47C0-AFD5-9BEC48A5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12276-BA1F-491B-BA8F-1E42D0437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2880C-B3D9-40C6-BAC4-B7C6D447A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5672C-F4CD-4A86-9874-ACEFB96C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0EABAF-EBC2-437E-961F-823EE8AD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DB30-CAE2-496A-9C94-FD5D0D6F118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83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84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5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6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87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88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9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0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1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2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593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94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5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6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97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98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9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0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1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2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03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CBDF-CC0B-4FD5-B879-C238DDD5FD0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4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3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3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9B3E-BE88-494C-9E5B-B75E4E7A69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9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5888-AFCE-46D4-AC7D-C7D82D17C2E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739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740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1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42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3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4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45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746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7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8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9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0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1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dt" idx="3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ftr" idx="3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 type="sldNum" idx="3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6BA6-130B-4CF2-BF18-3F8179EAED3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94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5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6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7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8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9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0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1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2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3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4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5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6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7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8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9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0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1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2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3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4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5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6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7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8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9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0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1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2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3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4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5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6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7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8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9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3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831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4F26-F35D-4FEE-BE41-95755730123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7B0E-BA22-43CB-B000-21E054A9A6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555D-3A65-4B82-A96A-772C70DEA8B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5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5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6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6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7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7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7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7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8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2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698B-A319-4D48-BBB8-F7E7BF9A68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7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161F-A951-464E-89EE-6A84395C7D5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315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6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17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318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2B4D-461A-4C1C-859E-3ADCF312570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69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0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1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2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3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4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5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6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7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8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9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0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1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2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3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4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5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6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7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8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9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0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1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2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3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4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5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6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7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9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0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1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2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3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4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05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06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D1F0-58F5-42EA-B7E3-A6282B40717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50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1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7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8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9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0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1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2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3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4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9FFE-0AE9-47CA-9DAD-9B6BF493F0F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0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789D-9FEA-48B1-AB4C-556796C35B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6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b9efee"/>
                </a:solidFill>
                <a:latin typeface="Times New Roman"/>
              </a:rPr>
              <a:t>Тема урока: Рынок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араграф №8, вопросы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учить основные понятия: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мен, рынок, рыночная цена, банк, вклад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актикум: подготовить сообщение по одной из тем: «История денег», «История торговли» -  по желанию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bbd71"/>
                </a:solidFill>
                <a:latin typeface="Arial"/>
              </a:rPr>
              <a:t>Цель урока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определить роль рынка, денег и банков в современной экономике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- определенное место, где происходит торговля;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– система экономических отношений, связанных с обменом товаров и услуг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Рынок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- сфера товарного обме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Обмен -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это купля - продажа  товаров и услуг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атуральный обме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месленни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емледеле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котово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Line 4"/>
          <p:cNvSpPr/>
          <p:nvPr/>
        </p:nvSpPr>
        <p:spPr>
          <a:xfrm flipV="1">
            <a:off x="3635280" y="2852280"/>
            <a:ext cx="1728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Line 5"/>
          <p:cNvSpPr/>
          <p:nvPr/>
        </p:nvSpPr>
        <p:spPr>
          <a:xfrm>
            <a:off x="3635280" y="3716280"/>
            <a:ext cx="1800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Денежный обме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емледелец             ремесленни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ынок                                    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упе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Line 6"/>
          <p:cNvSpPr/>
          <p:nvPr/>
        </p:nvSpPr>
        <p:spPr>
          <a:xfrm>
            <a:off x="2484360" y="2060640"/>
            <a:ext cx="187164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Line 7"/>
          <p:cNvSpPr/>
          <p:nvPr/>
        </p:nvSpPr>
        <p:spPr>
          <a:xfrm flipH="1">
            <a:off x="4858920" y="2060640"/>
            <a:ext cx="180036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Line 8"/>
          <p:cNvSpPr/>
          <p:nvPr/>
        </p:nvSpPr>
        <p:spPr>
          <a:xfrm>
            <a:off x="4572000" y="422100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Цена –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денежное выражение стоимости товаров и услуг.                                                          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ЦЕН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лияют на поведение производителе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Ориентируют покупателей на  совершение покупо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Ограничивают потребление ресурс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 u="sng">
                <a:solidFill>
                  <a:srgbClr val="ffffff"/>
                </a:solidFill>
                <a:uFillTx/>
                <a:latin typeface="Times New Roman"/>
              </a:rPr>
              <a:t>Деньг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Всеобщее средство обмен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Средства платежа        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Средства накопления (сбережения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Times New Roman"/>
              </a:rPr>
              <a:t>Банк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финансовое учреждение, которое объединяет денежные средства, принимает за определённую плату вклады и предоставляет кредиты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Times New Roman"/>
              </a:rPr>
              <a:t>Вклад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– денежные средства, размещаемые в целях хранения и получения доход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bbd71"/>
                </a:solidFill>
                <a:latin typeface="Arial"/>
              </a:rPr>
              <a:t>Цель урока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определить роль рынка, денег и банков в современной экономике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0:20:48Z</dcterms:created>
  <dc:creator>Home</dc:creator>
  <dc:description/>
  <dc:language>en-US</dc:language>
  <cp:lastModifiedBy>LEGION</cp:lastModifiedBy>
  <dcterms:modified xsi:type="dcterms:W3CDTF">2016-01-04T13:42:35Z</dcterms:modified>
  <cp:revision>5</cp:revision>
  <dc:subject/>
  <dc:title>Тема урока: Рынок</dc:title>
</cp:coreProperties>
</file>