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AE47-11A6-40EE-B470-48A5168F5D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у подготовила Кириакова Ди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аркова Юлия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б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у подготовила Кириакова Диа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итель Маркова Юлия Викто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б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ень склонности к сбережениям различаются по семьям в зависимости о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Уже достигнут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и уровн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состоя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Уровня получаемых денежн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ходов и его соотнош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прожиточным минимум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Жизненной ориента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оспитание членов семь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лонность к сбережения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склонности к сбережениям различаются по семьям в зависимости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же достигнут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и уров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состо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Уровня получаемых денеж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его со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рожиточным минимум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Жизненной ориент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оспитание членов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ость к сбере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купке товара с полным взносом их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 и погашения долга за товары, купленные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купке товара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окупки товаров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окупки товаров с немедленным внесением их полной сто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окупке товара с полным взносом их це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 и погашения долга за товары, купленные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окупке товара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покупки товаров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покупки товаров с немедленным внесением их полной стоим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и потреб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денег на приобретение дополнительного капитала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авление денег на приобретение дополнительного капитала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од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год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дежност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ревращения доходов семей в капитал фир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 превращения доходов семей в капитал фирм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рынк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ойство рынка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ит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емный капитал(кредит) – 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й капитал – 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ые сред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емный капитал(кредит) – 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бственный капитал – 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ежные сред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й рынок (краткая характерист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ют коммерческие бан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носит характер заемного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источники средств – сбережения сем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ряд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итный рынок (краткая характеристик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служивают коммерческие банки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 носит характер заемного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источники средств – сбережения семей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ряд пробл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гация – 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- заем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 сла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лигация – 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 - заемны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 слаб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инвести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 как заемный, так и собствен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 является не только активным, но и крупнейшим инвест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 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инвестиц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, как заемный, так и собственны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о является не только активным, но и крупнейшим инвестор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и их превращение в 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рынка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цен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держ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и их превращение в капита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ойство рынка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цен на рынке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контирова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обствен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я – 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собственного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я – 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а ак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компания разориться, к владельцу акций нельзя предъявить никаких претенз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чества акци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компания разориться, к владельцу акций нельзя предъявить никаких претенз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ыкно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легир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право на участие в управлен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ым обществом и полу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 его чистой прибы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право на дивиден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сирова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ой независимо 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о, сколь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й прибыли фирма получ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о, но не имеет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овать в управлении е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иденды – часть чистой прибы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й фирмы, кото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лачивается ее акционер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онально стоим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адлежащих им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акций – рыночная стоимость акц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ющаяся при их свобод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продаже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ыкно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илегирова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право на участие в управлен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ным обществом и полу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и его чистой прибыли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право на дивиденд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ксирован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личиной независимо о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го, скольк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стой прибыли фирма получил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ально, но не имеет пра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вовать в управлении ею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виденды – часть чистой прибы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ной фирмы, котор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плачивается ее акционера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порционально стоим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адлежащих им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рс акций – рыночная стоимость акци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ладывающаяся при их свобод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продаже на рынке ценных бума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курса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ой будущей доходности фир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а регулирования рын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станет слишком опасным из-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кторы изменения курса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жидаемой будущей доходности фирм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чина регулирования рын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он станет слишком опасным из-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ичное размещение (эмиссия) акций, приносящий фирмам дополнительный собственный капи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ичное обращение ценных бумаг, 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сделок на фондовом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ичное размещение (эмиссия) акций, приносящий фирмам дополнительный собственный капитал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торичное обращение ценных бумаг, 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пы сделок на фондовом рын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капитал – это спрос фирм на физический капитал, позволяющий фирмам реализовать свои инвестиционные прое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на капитал – 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ос на капитал – это спрос фирм на физический капитал, позволяющий фирмам реализовать свои инвестиционные проек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ие на капитал – 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ормирование рыночной цен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рыночной цены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оценку прибыльност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лителен процесс получения результатов от реализации инвестиционны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кторы, влияющие на оценку прибыльности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Длителен процесс получения результатов от реализации инвестиционных процесс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из финансиста и бизнесме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бль, полученный сегодн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т больше, чем рубл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ый завтр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виз финансиста и бизнесме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бль, полученный сегодн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ит больше, чем рубль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енный завтра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 диско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ная формула. Показывает будущую стоимость вкла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V – стоимость вклада, PV – текущая ценность вкла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 – период времени, k- величина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 дисконтир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тная формула. Показывает будущую стоимость вкла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FV – стоимость вклада, PV – текущая ценность вклад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n – период времени, k- величина дох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контир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 - рынок, на котором продаются финансовые ресурсы, необходимые для организации коммерческой деятельности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 - рынок, на котором продаются финансовые ресурсы, необходимые для организации коммерческой деятельности фи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отвлечения средств – 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вестирования – поддающаяся оценке вероятность потери инвестированных средств или неполучение по ним ожидаем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отвлечения средств – 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ск инвестирования – поддающаяся оценке вероятность потери инвестированных средств или неполучение по ним ожидаемого дох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предлож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на рынке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ие на рынке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езное правило рынка капит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рис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больш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о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т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елезное правило рынка капитал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м выше риск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 больш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ход он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жн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ть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В.Липсиц «Экономика», книга 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. Вита пресс Москва 200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К.Журавлева «Экономика» изд. Юристъ 2004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.В.Липсиц «Экономика», книга 2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д. Вита пресс Москва 2006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.К.Журавлева «Экономика» изд. Юристъ 2004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капит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капитал- 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ещественный (незримый) капитал – знания, умения и информация, которые могут быть длительно использованы для производства благ и их прода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и их превращение в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капитал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зический капитал- 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ещественный (незримый) капитал – знания, умения и информация, которые могут быть длительно использованы для производства благ и их продаж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и их превращение в капита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 - рынка денежного капитала, или рынка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 - рынка денежного капитала, или рынка капитал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д капиталом понимать физический капитал (станки, здания, запасы, и т.д.), то рынок капитала – это часть рынка факторов производства наряду с рынком труда и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д капиталом на рынке финансов понимать денежный капитал, то рынок капитала выступает составной частью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ы трактовки рынк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под капиталом понимать физический капитал (станки, здания, запасы, и т.д.), то рынок капитала – это часть рынка факторов производства наряду с рынком труда и зем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под капиталом на рынке финансов понимать денежный капитал, то рынок капитала выступает составной частью рынка ссудных капитал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арианты трактовки рынка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судного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потеч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ссудного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еж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потеч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нансов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как выбор между текущим и будущи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ями потреб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вая сбережения, семьи ограничивают свое текущее потребление, ради увеличения потребления в будущ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как выбор между текущим и будущ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ями потреб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вая сбережения, семьи ограничивают свое текущее потребление, ради увеличения потребления в будущ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A8CE8-1192-4A7A-924E-D2E46A32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6D24C-14B2-4C9B-B63B-B66502DF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6A9BF-E399-4E09-954B-F0603C31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E830C-0682-43C4-8907-474884EA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AD62-FF1E-41CC-80A7-98FD3A35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C58D-AB73-4109-B6FB-2D09EF33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A5DB-679C-417E-A7A2-03A14A62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9CA0-2B22-462A-95F4-27822FD2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8AC5-44C6-4DE5-B8EE-649583F6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A599-83D3-4B88-93BE-CAEFF9D2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0A38-EFC2-4EFE-979D-373528CD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5D573-085E-4B74-940E-2CE79472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7414-A668-44E1-95E7-644D074D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29C0-E8FD-4574-A3F7-85B67015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0419-2846-42DE-83FE-5D66C1A2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21DC-99E0-4DB3-B969-B42F5AF7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094C-2656-4590-9660-76FC67DD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629E7-5313-449E-8868-393C8703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4C959-5696-4E59-9501-9A3F4270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97841-2BF9-4B53-8E43-A0FA4DE0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DAEE6-D05B-4F27-8A07-B574757A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C083-A5F9-4CF1-9F3F-3E1BF8CA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7921E-F486-4E92-97B1-2622CC21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414CF-8495-450E-99D4-53602A36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27A7-6FFA-48CB-B8F5-AC64974873A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75A9-3C84-4C05-BB14-C8E3385E3A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8;&#1053;&#1042;&#1045;&#1057;&#1058;&#1048;&#1062;&#1048;&#1048;.&#1076;&#1086;&#1087;&#1086;&#1083;&#1085;&#1077;&#1085;&#1080;&#1077;%20&#1082;%20&#1088;&#1099;&#1085;&#1082;&#1091;%20&#1082;&#1072;&#1087;&#1080;&#1090;&#1072;&#1083;&#1072;.ppt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26.xml"/><Relationship Id="rId6" Type="http://schemas.openxmlformats.org/officeDocument/2006/relationships/slide" Target="slide29.xml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elvis - a little less conversation.mp3" descr=""/>
          <p:cNvPicPr/>
          <p:nvPr/>
        </p:nvPicPr>
        <p:blipFill>
          <a:blip r:embed="rId1"/>
          <a:stretch/>
        </p:blipFill>
        <p:spPr>
          <a:xfrm>
            <a:off x="4427640" y="4694400"/>
            <a:ext cx="298440" cy="298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692360" y="5821200"/>
            <a:ext cx="575928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8616"/>
                </a:solidFill>
                <a:latin typeface="Garamond"/>
              </a:rPr>
              <a:t>Работу подготовила </a:t>
            </a:r>
            <a:r>
              <a:rPr b="1" lang="ru-RU" sz="2000" spc="-1" strike="noStrike">
                <a:solidFill>
                  <a:srgbClr val="f68616"/>
                </a:solidFill>
                <a:latin typeface="Monotype Corsiva"/>
              </a:rPr>
              <a:t>Кириакова Диа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8616"/>
                </a:solidFill>
                <a:latin typeface="Garamond"/>
              </a:rPr>
              <a:t>Учитель </a:t>
            </a:r>
            <a:r>
              <a:rPr b="1" lang="ru-RU" sz="2000" spc="-1" strike="noStrike">
                <a:solidFill>
                  <a:srgbClr val="f68616"/>
                </a:solidFill>
                <a:latin typeface="Monotype Corsiva"/>
              </a:rPr>
              <a:t>Маркова Юлия Викторов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684360" y="2016000"/>
            <a:ext cx="777240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42282"/>
                  </a:outerShdw>
                </a:effectLst>
                <a:latin typeface="Impact"/>
              </a:rPr>
              <a:t>Рынок капита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042282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6" descr="j0222015"/>
          <p:cNvPicPr/>
          <p:nvPr/>
        </p:nvPicPr>
        <p:blipFill>
          <a:blip r:embed="rId2"/>
          <a:stretch/>
        </p:blipFill>
        <p:spPr>
          <a:xfrm>
            <a:off x="684360" y="3989520"/>
            <a:ext cx="1741320" cy="1747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j0222019"/>
          <p:cNvPicPr/>
          <p:nvPr/>
        </p:nvPicPr>
        <p:blipFill>
          <a:blip r:embed="rId3"/>
          <a:stretch/>
        </p:blipFill>
        <p:spPr>
          <a:xfrm>
            <a:off x="3635280" y="184320"/>
            <a:ext cx="1743120" cy="1749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j0222021"/>
          <p:cNvPicPr/>
          <p:nvPr/>
        </p:nvPicPr>
        <p:blipFill>
          <a:blip r:embed="rId4"/>
          <a:stretch/>
        </p:blipFill>
        <p:spPr>
          <a:xfrm>
            <a:off x="6804000" y="3919680"/>
            <a:ext cx="1743120" cy="17478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6"/>
          <p:cNvSpPr txBox="1"/>
          <p:nvPr/>
        </p:nvSpPr>
        <p:spPr>
          <a:xfrm rot="591600">
            <a:off x="3710160" y="4411800"/>
            <a:ext cx="1726920" cy="85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4206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Руб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4206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evt="end">
                                        <p:tn val="8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747720" indent="-747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Уровень склонности к сбережениям различаются по семьям в зависимости о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1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же достигнутог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ми уровн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лагосостоя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2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ровня получаемых денежны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оходов и его соотношен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 прожиточным минимум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3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Жизненной ориентаци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 воспитание членов семь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WordArt 5"/>
          <p:cNvSpPr txBox="1"/>
          <p:nvPr/>
        </p:nvSpPr>
        <p:spPr>
          <a:xfrm rot="336000">
            <a:off x="1258920" y="0"/>
            <a:ext cx="590220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704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клонность к сбережения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704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AutoShape 7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1"/>
          <p:cNvSpPr/>
          <p:nvPr/>
        </p:nvSpPr>
        <p:spPr>
          <a:xfrm>
            <a:off x="1116000" y="6338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476360" y="5229360"/>
            <a:ext cx="6048360" cy="7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4861080" y="5229360"/>
            <a:ext cx="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454400" y="537228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b6f6"/>
                </a:solidFill>
                <a:latin typeface="Garamond"/>
              </a:rPr>
              <a:t>Период накопления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4518360" y="537228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Garamond"/>
              </a:rPr>
              <a:t>Период жизни в комфо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1584360" y="472428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Срок взрослой жизни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587960" y="601992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Garamond"/>
              </a:rPr>
              <a:t>При покупке товара с полным взносом их ц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476360" y="3070080"/>
            <a:ext cx="6048360" cy="7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2700360" y="30700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5940360" y="30700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1332000" y="2997360"/>
            <a:ext cx="14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b6f6"/>
                </a:solidFill>
                <a:latin typeface="Garamond"/>
              </a:rPr>
              <a:t>Период накопления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6156360" y="2997360"/>
            <a:ext cx="12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Garamond"/>
              </a:rPr>
              <a:t>Период жизни в комфо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2413080" y="2997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Период жизни в комфорте и погашения долга за товары, купленные в рассроч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1584360" y="256536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Срок взрослой жизни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2401560" y="3862440"/>
            <a:ext cx="39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Garamond"/>
              </a:rPr>
              <a:t>При покупке товара в рассроч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-737280" y="1434960"/>
            <a:ext cx="1023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cc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Garamond"/>
              </a:rPr>
              <a:t>Модель покупки товаров в расср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cc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Garamond"/>
              </a:rPr>
              <a:t>Модель покупки товаров с немедленным внесением их полной сто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WordArt 35"/>
          <p:cNvSpPr txBox="1"/>
          <p:nvPr/>
        </p:nvSpPr>
        <p:spPr>
          <a:xfrm>
            <a:off x="1042920" y="404640"/>
            <a:ext cx="698508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дели потреблени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AutoShape 37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cc00"/>
                </a:solidFill>
                <a:uFillTx/>
                <a:latin typeface="Comic Sans MS"/>
                <a:hlinkClick r:id="rId1"/>
              </a:rPr>
              <a:t>Инвестиции.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аправление денег на приобретение дополнительного капитала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fd0f"/>
                </a:solidFill>
                <a:latin typeface="Monotype Corsiva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AutoShape 4">
            <a:hlinkClick r:id="rId2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5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861a"/>
                </a:solidFill>
                <a:latin typeface="Comic Sans MS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00ff00"/>
                </a:solidFill>
                <a:latin typeface="Monotype Corsiva"/>
              </a:rPr>
              <a:t>Выгодност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00ff00"/>
                </a:solidFill>
                <a:latin typeface="Monotype Corsiva"/>
              </a:rPr>
              <a:t>Надежность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AutoShape 5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7480"/>
                            </p:stCondLst>
                            <p:childTnLst>
                              <p:par>
                                <p:cTn id="446" nodeType="afterEffect" fill="hold" presetClass="exit" presetID="4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980"/>
                            </p:stCondLst>
                            <p:childTnLst>
                              <p:par>
                                <p:cTn id="4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62 -0.04769 L -0.04862 -0.38102 E">
                                      <p:cBhvr>
                                        <p:cTn id="454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1980"/>
                            </p:stCondLst>
                            <p:childTnLst>
                              <p:par>
                                <p:cTn id="456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04"/>
                                      </p:to>
                                    </p:animClr>
                                    <p:animClr clrSpc="rgb">
                                      <p:cBhvr>
                                        <p:cTn id="4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04"/>
                                      </p:to>
                                    </p:animClr>
                                    <p:set>
                                      <p:cBhvr>
                                        <p:cTn id="4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3980"/>
                            </p:stCondLst>
                            <p:childTnLst>
                              <p:par>
                                <p:cTn id="46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25 0.15023 L 0.01025 -0.1831 E">
                                      <p:cBhvr>
                                        <p:cTn id="465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5980"/>
                            </p:stCondLst>
                            <p:childTnLst>
                              <p:par>
                                <p:cTn id="46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0101"/>
                                      </p:to>
                                    </p:animClr>
                                    <p:animClr clrSpc="rgb">
                                      <p:cBhvr>
                                        <p:cTn id="4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0101"/>
                                      </p:to>
                                    </p:animClr>
                                    <p:set>
                                      <p:cBhvr>
                                        <p:cTn id="4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67"/>
          <p:cNvGrpSpPr/>
          <p:nvPr/>
        </p:nvGrpSpPr>
        <p:grpSpPr>
          <a:xfrm>
            <a:off x="1402920" y="981000"/>
            <a:ext cx="6628320" cy="5688000"/>
            <a:chOff x="1402920" y="981000"/>
            <a:chExt cx="6628320" cy="5688000"/>
          </a:xfrm>
        </p:grpSpPr>
        <p:sp>
          <p:nvSpPr>
            <p:cNvPr id="212" name="Rectangle 6"/>
            <p:cNvSpPr/>
            <p:nvPr/>
          </p:nvSpPr>
          <p:spPr>
            <a:xfrm>
              <a:off x="4067280" y="1846080"/>
              <a:ext cx="158436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Семь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Group 47"/>
            <p:cNvGrpSpPr/>
            <p:nvPr/>
          </p:nvGrpSpPr>
          <p:grpSpPr>
            <a:xfrm>
              <a:off x="1402920" y="1846080"/>
              <a:ext cx="1874880" cy="865080"/>
              <a:chOff x="1402920" y="1846080"/>
              <a:chExt cx="1874880" cy="865080"/>
            </a:xfrm>
          </p:grpSpPr>
          <p:sp>
            <p:nvSpPr>
              <p:cNvPr id="214" name="Rectangle 8"/>
              <p:cNvSpPr/>
              <p:nvPr/>
            </p:nvSpPr>
            <p:spPr>
              <a:xfrm rot="5400000">
                <a:off x="1656360" y="1592640"/>
                <a:ext cx="865080" cy="13719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Text Box 9"/>
              <p:cNvSpPr/>
              <p:nvPr/>
            </p:nvSpPr>
            <p:spPr>
              <a:xfrm>
                <a:off x="1460520" y="1933200"/>
                <a:ext cx="181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Текущие проблем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12"/>
            <p:cNvGrpSpPr/>
            <p:nvPr/>
          </p:nvGrpSpPr>
          <p:grpSpPr>
            <a:xfrm>
              <a:off x="3996000" y="3141360"/>
              <a:ext cx="1800000" cy="649440"/>
              <a:chOff x="3996000" y="3141360"/>
              <a:chExt cx="1800000" cy="649440"/>
            </a:xfrm>
          </p:grpSpPr>
          <p:sp>
            <p:nvSpPr>
              <p:cNvPr id="217" name="Rectangle 10"/>
              <p:cNvSpPr/>
              <p:nvPr/>
            </p:nvSpPr>
            <p:spPr>
              <a:xfrm>
                <a:off x="3996000" y="3141360"/>
                <a:ext cx="1800000" cy="6494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11"/>
              <p:cNvSpPr/>
              <p:nvPr/>
            </p:nvSpPr>
            <p:spPr>
              <a:xfrm>
                <a:off x="4148280" y="3284280"/>
                <a:ext cx="159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Сбережени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18"/>
            <p:cNvGrpSpPr/>
            <p:nvPr/>
          </p:nvGrpSpPr>
          <p:grpSpPr>
            <a:xfrm>
              <a:off x="1474920" y="3214440"/>
              <a:ext cx="1368360" cy="1152360"/>
              <a:chOff x="1474920" y="3214440"/>
              <a:chExt cx="1368360" cy="1152360"/>
            </a:xfrm>
          </p:grpSpPr>
          <p:sp>
            <p:nvSpPr>
              <p:cNvPr id="220" name="Rectangle 13"/>
              <p:cNvSpPr/>
              <p:nvPr/>
            </p:nvSpPr>
            <p:spPr>
              <a:xfrm>
                <a:off x="1474920" y="3214440"/>
                <a:ext cx="1368360" cy="11523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Text Box 17"/>
              <p:cNvSpPr/>
              <p:nvPr/>
            </p:nvSpPr>
            <p:spPr>
              <a:xfrm>
                <a:off x="1474920" y="3430080"/>
                <a:ext cx="1368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Деньги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на руках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46"/>
            <p:cNvGrpSpPr/>
            <p:nvPr/>
          </p:nvGrpSpPr>
          <p:grpSpPr>
            <a:xfrm>
              <a:off x="6515280" y="3141360"/>
              <a:ext cx="1515960" cy="858600"/>
              <a:chOff x="6515280" y="3141360"/>
              <a:chExt cx="1515960" cy="858600"/>
            </a:xfrm>
          </p:grpSpPr>
          <p:sp>
            <p:nvSpPr>
              <p:cNvPr id="223" name="Rectangle 14"/>
              <p:cNvSpPr/>
              <p:nvPr/>
            </p:nvSpPr>
            <p:spPr>
              <a:xfrm>
                <a:off x="6515280" y="3141360"/>
                <a:ext cx="1436760" cy="7923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Text Box 19"/>
              <p:cNvSpPr/>
              <p:nvPr/>
            </p:nvSpPr>
            <p:spPr>
              <a:xfrm>
                <a:off x="6515280" y="3357360"/>
                <a:ext cx="151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Инвестици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44"/>
            <p:cNvGrpSpPr/>
            <p:nvPr/>
          </p:nvGrpSpPr>
          <p:grpSpPr>
            <a:xfrm>
              <a:off x="5505120" y="5951520"/>
              <a:ext cx="1875240" cy="647640"/>
              <a:chOff x="5505120" y="5951520"/>
              <a:chExt cx="1875240" cy="647640"/>
            </a:xfrm>
          </p:grpSpPr>
          <p:sp>
            <p:nvSpPr>
              <p:cNvPr id="226" name="Rectangle 15"/>
              <p:cNvSpPr/>
              <p:nvPr/>
            </p:nvSpPr>
            <p:spPr>
              <a:xfrm>
                <a:off x="5580000" y="5951520"/>
                <a:ext cx="1726920" cy="6476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ext Box 21"/>
              <p:cNvSpPr/>
              <p:nvPr/>
            </p:nvSpPr>
            <p:spPr>
              <a:xfrm>
                <a:off x="5505120" y="6094440"/>
                <a:ext cx="187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Капитал фир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45"/>
            <p:cNvGrpSpPr/>
            <p:nvPr/>
          </p:nvGrpSpPr>
          <p:grpSpPr>
            <a:xfrm>
              <a:off x="1906560" y="5373720"/>
              <a:ext cx="1820880" cy="1295280"/>
              <a:chOff x="1906560" y="5373720"/>
              <a:chExt cx="1820880" cy="1295280"/>
            </a:xfrm>
          </p:grpSpPr>
          <p:sp>
            <p:nvSpPr>
              <p:cNvPr id="229" name="Rectangle 16"/>
              <p:cNvSpPr/>
              <p:nvPr/>
            </p:nvSpPr>
            <p:spPr>
              <a:xfrm>
                <a:off x="2122560" y="5373720"/>
                <a:ext cx="1368360" cy="129528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22"/>
              <p:cNvSpPr/>
              <p:nvPr/>
            </p:nvSpPr>
            <p:spPr>
              <a:xfrm>
                <a:off x="1906560" y="5516640"/>
                <a:ext cx="1820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Рынок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физического капитал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43"/>
            <p:cNvGrpSpPr/>
            <p:nvPr/>
          </p:nvGrpSpPr>
          <p:grpSpPr>
            <a:xfrm>
              <a:off x="3996000" y="4222440"/>
              <a:ext cx="1439640" cy="1681200"/>
              <a:chOff x="3996000" y="4222440"/>
              <a:chExt cx="1439640" cy="1681200"/>
            </a:xfrm>
          </p:grpSpPr>
          <p:sp>
            <p:nvSpPr>
              <p:cNvPr id="232" name="AutoShape 40"/>
              <p:cNvSpPr/>
              <p:nvPr/>
            </p:nvSpPr>
            <p:spPr>
              <a:xfrm>
                <a:off x="3996000" y="4222440"/>
                <a:ext cx="1439640" cy="1368360"/>
              </a:xfrm>
              <a:custGeom>
                <a:avLst/>
                <a:gdLst>
                  <a:gd name="textAreaLeft" fmla="*/ 210960 w 1439640"/>
                  <a:gd name="textAreaRight" fmla="*/ 1228680 w 1439640"/>
                  <a:gd name="textAreaTop" fmla="*/ 199800 h 1368360"/>
                  <a:gd name="textAreaBottom" fmla="*/ 116856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02" y="10800"/>
                    </a:moveTo>
                    <a:cubicBezTo>
                      <a:pt x="802" y="16322"/>
                      <a:pt x="5278" y="20798"/>
                      <a:pt x="10800" y="20798"/>
                    </a:cubicBezTo>
                    <a:cubicBezTo>
                      <a:pt x="16322" y="20798"/>
                      <a:pt x="20798" y="16322"/>
                      <a:pt x="20798" y="10800"/>
                    </a:cubicBezTo>
                    <a:cubicBezTo>
                      <a:pt x="20798" y="5278"/>
                      <a:pt x="16322" y="802"/>
                      <a:pt x="10800" y="802"/>
                    </a:cubicBezTo>
                    <a:cubicBezTo>
                      <a:pt x="5278" y="802"/>
                      <a:pt x="802" y="5278"/>
                      <a:pt x="802" y="10800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41"/>
              <p:cNvSpPr/>
              <p:nvPr/>
            </p:nvSpPr>
            <p:spPr>
              <a:xfrm>
                <a:off x="4066920" y="4438080"/>
                <a:ext cx="1244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Рынок денежного капитал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" name="AutoShape 48"/>
            <p:cNvSpPr/>
            <p:nvPr/>
          </p:nvSpPr>
          <p:spPr>
            <a:xfrm>
              <a:off x="3419640" y="2062080"/>
              <a:ext cx="647640" cy="503280"/>
            </a:xfrm>
            <a:prstGeom prst="leftArrow">
              <a:avLst>
                <a:gd name="adj1" fmla="val 50000"/>
                <a:gd name="adj2" fmla="val 32171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AutoShape 49"/>
            <p:cNvSpPr/>
            <p:nvPr/>
          </p:nvSpPr>
          <p:spPr>
            <a:xfrm rot="16200000">
              <a:off x="4752000" y="2529360"/>
              <a:ext cx="216000" cy="5763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53"/>
            <p:cNvSpPr/>
            <p:nvPr/>
          </p:nvSpPr>
          <p:spPr>
            <a:xfrm>
              <a:off x="3922920" y="981000"/>
              <a:ext cx="1871640" cy="5032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Доход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55"/>
            <p:cNvSpPr/>
            <p:nvPr/>
          </p:nvSpPr>
          <p:spPr>
            <a:xfrm>
              <a:off x="4859280" y="14857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56"/>
            <p:cNvSpPr/>
            <p:nvPr/>
          </p:nvSpPr>
          <p:spPr>
            <a:xfrm flipH="1">
              <a:off x="2987280" y="3430440"/>
              <a:ext cx="100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57"/>
            <p:cNvSpPr/>
            <p:nvPr/>
          </p:nvSpPr>
          <p:spPr>
            <a:xfrm>
              <a:off x="5796000" y="3430440"/>
              <a:ext cx="57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60"/>
            <p:cNvSpPr/>
            <p:nvPr/>
          </p:nvSpPr>
          <p:spPr>
            <a:xfrm flipH="1">
              <a:off x="3635640" y="5518080"/>
              <a:ext cx="50472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61"/>
            <p:cNvSpPr/>
            <p:nvPr/>
          </p:nvSpPr>
          <p:spPr>
            <a:xfrm>
              <a:off x="3635640" y="6381720"/>
              <a:ext cx="172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62"/>
            <p:cNvSpPr/>
            <p:nvPr/>
          </p:nvSpPr>
          <p:spPr>
            <a:xfrm flipH="1">
              <a:off x="5506920" y="4006800"/>
              <a:ext cx="71892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416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565f1"/>
                </a:solidFill>
                <a:uFillTx/>
                <a:latin typeface="Garamond"/>
              </a:rPr>
              <a:t>Процесс превращения доходов семей в капитал фирм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AutoShape 72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00cc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5574b"/>
                </a:solidFill>
                <a:latin typeface="Garamond"/>
              </a:rPr>
              <a:t>Устройство рынка капитал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AutoShape 38"/>
          <p:cNvSpPr/>
          <p:nvPr/>
        </p:nvSpPr>
        <p:spPr>
          <a:xfrm>
            <a:off x="1763640" y="1341360"/>
            <a:ext cx="5184720" cy="4869000"/>
          </a:xfrm>
          <a:prstGeom prst="flowChartOr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39"/>
          <p:cNvSpPr/>
          <p:nvPr/>
        </p:nvSpPr>
        <p:spPr>
          <a:xfrm>
            <a:off x="3203640" y="2637000"/>
            <a:ext cx="2376360" cy="22334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Рынок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2"/>
          <p:cNvSpPr/>
          <p:nvPr/>
        </p:nvSpPr>
        <p:spPr>
          <a:xfrm rot="19493400">
            <a:off x="1815480" y="231012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Кредитный ры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3"/>
          <p:cNvSpPr/>
          <p:nvPr/>
        </p:nvSpPr>
        <p:spPr>
          <a:xfrm rot="2761200">
            <a:off x="4622400" y="2295000"/>
            <a:ext cx="198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Рынок ак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4"/>
          <p:cNvSpPr/>
          <p:nvPr/>
        </p:nvSpPr>
        <p:spPr>
          <a:xfrm rot="2608800">
            <a:off x="1497600" y="4478040"/>
            <a:ext cx="322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Государств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инвести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45"/>
          <p:cNvSpPr/>
          <p:nvPr/>
        </p:nvSpPr>
        <p:spPr>
          <a:xfrm rot="19275600">
            <a:off x="4032720" y="4652280"/>
            <a:ext cx="32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Рынок облиг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4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Garamond"/>
              </a:rPr>
              <a:t>Заемный капитал(кредит)</a:t>
            </a: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7c80"/>
                </a:solidFill>
                <a:latin typeface="Calligraph421 BT"/>
              </a:rPr>
              <a:t>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Garamond"/>
              </a:rPr>
              <a:t>Собственный капитал</a:t>
            </a: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7c80"/>
                </a:solidFill>
                <a:latin typeface="Garamond"/>
              </a:rPr>
              <a:t>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1835280" y="333360"/>
            <a:ext cx="5616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енежные средств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Кредитный рынок (краткая характеристика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Обслуживают коммерческие банки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Капитал носит характер </a:t>
            </a:r>
            <a:r>
              <a:rPr b="0" lang="ru-RU" sz="2400" spc="-1" strike="noStrike">
                <a:solidFill>
                  <a:srgbClr val="ffcc00"/>
                </a:solidFill>
                <a:latin typeface="Comic Sans MS"/>
              </a:rPr>
              <a:t>заемного</a:t>
            </a: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Основные источники средств – сбережения семей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уществуют ряд пробле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5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5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583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59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4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4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Рынок облигац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Облигация –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Капитал - заемны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Развит слаб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5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Государственные инвести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1042920" y="1700280"/>
          <a:ext cx="6056280" cy="40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605628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6"/>
          <p:cNvSpPr/>
          <p:nvPr/>
        </p:nvSpPr>
        <p:spPr>
          <a:xfrm>
            <a:off x="2340360" y="1125360"/>
            <a:ext cx="637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ed47"/>
                </a:solidFill>
                <a:latin typeface="Arial"/>
              </a:rPr>
              <a:t>Структура инвестиц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ed47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24600" y="5397480"/>
            <a:ext cx="85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Comic Sans MS"/>
              </a:rPr>
              <a:t>Капитал, как заемный, так и собственный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5ded"/>
                </a:solidFill>
                <a:latin typeface="Comic Sans MS"/>
              </a:rPr>
              <a:t>Государство является не только активным, но и крупнейшим инвесто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68360" y="623736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9"/>
          <p:cNvSpPr txBox="1"/>
          <p:nvPr/>
        </p:nvSpPr>
        <p:spPr>
          <a:xfrm>
            <a:off x="2268360" y="476280"/>
            <a:ext cx="489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1fd55"/>
                </a:solid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Содерж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1fd55"/>
              </a:solid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611280" y="1557360"/>
            <a:ext cx="8137440" cy="52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Сбережения и их превращение в капит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Инвести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Устройство рынка капит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Рынок ак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Формирование цен на рынке капит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Дисконти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Список литера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24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ff"/>
                </a:solidFill>
                <a:latin typeface="Monotype Corsiva"/>
              </a:rPr>
              <a:t>Рынок акций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Рынок собственного капит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Акция –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e579dd"/>
                </a:solidFill>
                <a:latin typeface="Comic Sans MS"/>
              </a:rPr>
              <a:t>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6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6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cc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e85d"/>
                </a:solidFill>
                <a:latin typeface="Garamond"/>
              </a:rPr>
              <a:t>Качества акций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4949"/>
                </a:solidFill>
                <a:latin typeface="Monotype Corsiva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Monotype Corsiva"/>
              </a:rPr>
              <a:t>Если компания разориться, к владельцу акций нельзя предъявить никаких претенз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4949"/>
                </a:solidFill>
                <a:latin typeface="Monotype Corsiva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Monotype Corsiva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16" nodeType="after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722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9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729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9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3780000" y="1197000"/>
            <a:ext cx="151272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971640" y="1989000"/>
            <a:ext cx="18730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ыкнов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796000" y="1989000"/>
            <a:ext cx="2305080" cy="71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илегиров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H="1">
            <a:off x="1834920" y="1413000"/>
            <a:ext cx="187308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5364000" y="1413000"/>
            <a:ext cx="165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304560" y="2728800"/>
            <a:ext cx="43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(ценная бумага, владелец котор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имеет право на участие в управлен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акционерным обществом и полу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части его чистой прибыл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5272920" y="2728800"/>
            <a:ext cx="395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(ценная бумага, владелец котор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имеет право на дивиден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фиксирова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величиной независимо 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того, сколь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чистой прибыли фирма получ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реально, но не имеет пра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участвовать в управлении ею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-26280" y="4467240"/>
            <a:ext cx="51645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Arial"/>
              </a:rPr>
              <a:t>Дивиденды </a:t>
            </a:r>
            <a:r>
              <a:rPr b="0" lang="ru-RU" sz="2000" spc="-1" strike="noStrike">
                <a:solidFill>
                  <a:srgbClr val="00ff99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часть чистой прибы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акционерной фирмы, котор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выплачивается ее акционера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ропорционально стоим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ринадлежащих им ак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3785760" y="5451480"/>
            <a:ext cx="56761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Arial"/>
              </a:rPr>
              <a:t>Курс акций</a:t>
            </a:r>
            <a:r>
              <a:rPr b="0" lang="ru-RU" sz="2000" spc="-1" strike="noStrike">
                <a:solidFill>
                  <a:srgbClr val="00ff99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рыночная стоимость акци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складывающаяся при их свобод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ерепродаже на рынке ценных бума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WordArt 15"/>
          <p:cNvSpPr txBox="1"/>
          <p:nvPr/>
        </p:nvSpPr>
        <p:spPr>
          <a:xfrm>
            <a:off x="1547640" y="260280"/>
            <a:ext cx="619308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eee41e"/>
                  </a:outerShdw>
                </a:effectLst>
                <a:latin typeface="Impact"/>
              </a:rPr>
              <a:t>Виды акц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eee41e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7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127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810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207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Garamond"/>
              </a:rPr>
              <a:t>Факторы изменения курса акци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Ожидаемой будущей доходности фирм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Comic Sans MS"/>
              </a:rPr>
              <a:t>Причина регулирования рынк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Если он станет слишком опасным из-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77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0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2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e41e"/>
                </a:solidFill>
                <a:latin typeface="Calligraph421 BT"/>
              </a:rPr>
              <a:t>Первичное размещение (эмиссия) акций</a:t>
            </a:r>
            <a:r>
              <a:rPr b="0" i="1" lang="ru-RU" sz="3200" spc="-1" strike="noStrike">
                <a:solidFill>
                  <a:srgbClr val="eee41e"/>
                </a:solidFill>
                <a:latin typeface="Calligraph421 BT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cd6cf"/>
                </a:solidFill>
                <a:latin typeface="Comic Sans MS"/>
              </a:rPr>
              <a:t>приносящий фирмам дополнительный собственный капитал</a:t>
            </a:r>
            <a:r>
              <a:rPr b="0" lang="ru-RU" sz="3200" spc="-1" strike="noStrike">
                <a:solidFill>
                  <a:srgbClr val="3cd6cf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e41e"/>
                </a:solidFill>
                <a:latin typeface="Calligraph421 BT"/>
              </a:rPr>
              <a:t>Вторичное обращение ценных бумаг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cd6cf"/>
                </a:solidFill>
                <a:latin typeface="Comic Sans MS"/>
              </a:rPr>
              <a:t>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WordArt 5"/>
          <p:cNvSpPr txBox="1"/>
          <p:nvPr/>
        </p:nvSpPr>
        <p:spPr>
          <a:xfrm>
            <a:off x="1042920" y="404640"/>
            <a:ext cx="698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ипы сделок на фондовом рынк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0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e71b"/>
                </a:solidFill>
                <a:latin typeface="Garamond"/>
              </a:rPr>
              <a:t>Спрос на капитал</a:t>
            </a:r>
            <a:r>
              <a:rPr b="0" lang="ru-RU" sz="3200" spc="-1" strike="noStrike">
                <a:solidFill>
                  <a:srgbClr val="4ce71b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то спрос фирм на физический капитал, позволяющий фирмам реализовать свои инвестиционные проекты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e71b"/>
                </a:solidFill>
                <a:latin typeface="Garamond"/>
              </a:rPr>
              <a:t>Предложение на капитал</a:t>
            </a:r>
            <a:r>
              <a:rPr b="0" lang="ru-RU" sz="3200" spc="-1" strike="noStrike">
                <a:solidFill>
                  <a:srgbClr val="4ce71b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WordArt 6"/>
          <p:cNvSpPr txBox="1"/>
          <p:nvPr/>
        </p:nvSpPr>
        <p:spPr>
          <a:xfrm rot="207000">
            <a:off x="1263600" y="-9360"/>
            <a:ext cx="6121440" cy="15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56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прос и предло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56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AutoShape 8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3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8"/>
          <p:cNvGrpSpPr/>
          <p:nvPr/>
        </p:nvGrpSpPr>
        <p:grpSpPr>
          <a:xfrm>
            <a:off x="1165680" y="1526760"/>
            <a:ext cx="6480000" cy="4646880"/>
            <a:chOff x="1165680" y="1526760"/>
            <a:chExt cx="6480000" cy="4646880"/>
          </a:xfrm>
        </p:grpSpPr>
        <p:grpSp>
          <p:nvGrpSpPr>
            <p:cNvPr id="307" name="Group 11"/>
            <p:cNvGrpSpPr/>
            <p:nvPr/>
          </p:nvGrpSpPr>
          <p:grpSpPr>
            <a:xfrm>
              <a:off x="1690200" y="1526760"/>
              <a:ext cx="5688360" cy="4276800"/>
              <a:chOff x="1690200" y="1526760"/>
              <a:chExt cx="5688360" cy="4276800"/>
            </a:xfrm>
          </p:grpSpPr>
          <p:grpSp>
            <p:nvGrpSpPr>
              <p:cNvPr id="308" name="Group 10"/>
              <p:cNvGrpSpPr/>
              <p:nvPr/>
            </p:nvGrpSpPr>
            <p:grpSpPr>
              <a:xfrm>
                <a:off x="1868400" y="1526760"/>
                <a:ext cx="4800240" cy="3891600"/>
                <a:chOff x="1868400" y="1526760"/>
                <a:chExt cx="4800240" cy="3891600"/>
              </a:xfrm>
            </p:grpSpPr>
            <p:sp>
              <p:nvSpPr>
                <p:cNvPr id="309" name="Arc 4"/>
                <p:cNvSpPr/>
                <p:nvPr/>
              </p:nvSpPr>
              <p:spPr>
                <a:xfrm rot="10800000">
                  <a:off x="2402640" y="2058480"/>
                  <a:ext cx="3529080" cy="3203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3552">
                      <a:moveTo>
                        <a:pt x="2650" y="0"/>
                      </a:moveTo>
                      <a:cubicBezTo>
                        <a:pt x="13472" y="1338"/>
                        <a:pt x="21600" y="10532"/>
                        <a:pt x="21600" y="21437"/>
                      </a:cubicBezTo>
                      <a:cubicBezTo>
                        <a:pt x="21600" y="22143"/>
                        <a:pt x="21565" y="22849"/>
                        <a:pt x="21496" y="23552"/>
                      </a:cubicBezTo>
                    </a:path>
                    <a:path stroke="0" w="21600" h="23552">
                      <a:moveTo>
                        <a:pt x="2650" y="0"/>
                      </a:moveTo>
                      <a:cubicBezTo>
                        <a:pt x="13472" y="1338"/>
                        <a:pt x="21600" y="10532"/>
                        <a:pt x="21600" y="21437"/>
                      </a:cubicBezTo>
                      <a:cubicBezTo>
                        <a:pt x="21600" y="22143"/>
                        <a:pt x="21565" y="22849"/>
                        <a:pt x="21496" y="23552"/>
                      </a:cubicBezTo>
                      <a:lnTo>
                        <a:pt x="0" y="21437"/>
                      </a:lnTo>
                      <a:lnTo>
                        <a:pt x="265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Arc 5"/>
                <p:cNvSpPr/>
                <p:nvPr/>
              </p:nvSpPr>
              <p:spPr>
                <a:xfrm flipH="1" rot="9641400">
                  <a:off x="2192760" y="2137320"/>
                  <a:ext cx="4151160" cy="2669760"/>
                </a:xfrm>
                <a:custGeom>
                  <a:avLst/>
                  <a:gdLst/>
                  <a:ahLst/>
                  <a:rect l="l" t="t" r="r" b="b"/>
                  <a:pathLst>
                    <a:path fill="none" w="23421" h="21600">
                      <a:moveTo>
                        <a:pt x="-1" y="106"/>
                      </a:moveTo>
                      <a:cubicBezTo>
                        <a:pt x="712" y="35"/>
                        <a:pt x="1428" y="-1"/>
                        <a:pt x="2145" y="0"/>
                      </a:cubicBezTo>
                      <a:cubicBezTo>
                        <a:pt x="12636" y="0"/>
                        <a:pt x="21610" y="7538"/>
                        <a:pt x="23420" y="17872"/>
                      </a:cubicBezTo>
                    </a:path>
                    <a:path stroke="0" w="23421" h="21600">
                      <a:moveTo>
                        <a:pt x="-1" y="106"/>
                      </a:moveTo>
                      <a:cubicBezTo>
                        <a:pt x="712" y="35"/>
                        <a:pt x="1428" y="-1"/>
                        <a:pt x="2145" y="0"/>
                      </a:cubicBezTo>
                      <a:cubicBezTo>
                        <a:pt x="12636" y="0"/>
                        <a:pt x="21610" y="7538"/>
                        <a:pt x="23420" y="17872"/>
                      </a:cubicBezTo>
                      <a:lnTo>
                        <a:pt x="2145" y="21600"/>
                      </a:lnTo>
                      <a:lnTo>
                        <a:pt x="-1" y="10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Line 6"/>
              <p:cNvSpPr/>
              <p:nvPr/>
            </p:nvSpPr>
            <p:spPr>
              <a:xfrm flipV="1">
                <a:off x="1690560" y="1987560"/>
                <a:ext cx="0" cy="38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1690560" y="5803560"/>
                <a:ext cx="5688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8"/>
              <p:cNvSpPr/>
              <p:nvPr/>
            </p:nvSpPr>
            <p:spPr>
              <a:xfrm flipH="1">
                <a:off x="1690200" y="4866840"/>
                <a:ext cx="23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9"/>
              <p:cNvSpPr/>
              <p:nvPr/>
            </p:nvSpPr>
            <p:spPr>
              <a:xfrm>
                <a:off x="4066920" y="4866840"/>
                <a:ext cx="0" cy="93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Text Box 12"/>
            <p:cNvSpPr/>
            <p:nvPr/>
          </p:nvSpPr>
          <p:spPr>
            <a:xfrm>
              <a:off x="4409280" y="5805360"/>
              <a:ext cx="315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умма денежных средст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13"/>
            <p:cNvSpPr/>
            <p:nvPr/>
          </p:nvSpPr>
          <p:spPr>
            <a:xfrm rot="16200000">
              <a:off x="367920" y="27504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1165680" y="472428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Garamond"/>
                </a:rPr>
                <a:t>R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5"/>
            <p:cNvSpPr/>
            <p:nvPr/>
          </p:nvSpPr>
          <p:spPr>
            <a:xfrm>
              <a:off x="3763440" y="5805360"/>
              <a:ext cx="5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Garamond"/>
                </a:rPr>
                <a:t>Q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Text Box 16"/>
            <p:cNvSpPr/>
            <p:nvPr/>
          </p:nvSpPr>
          <p:spPr>
            <a:xfrm>
              <a:off x="2293200" y="1916280"/>
              <a:ext cx="20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прос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на инвестици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5861880" y="191628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Предлож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инвести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WordArt 19"/>
          <p:cNvSpPr txBox="1"/>
          <p:nvPr/>
        </p:nvSpPr>
        <p:spPr>
          <a:xfrm rot="20622000">
            <a:off x="1619280" y="259920"/>
            <a:ext cx="799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4606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7338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Формирование рыночной цены 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7338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AutoShape 22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0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b0fe"/>
                </a:solidFill>
                <a:latin typeface="Century Gothic"/>
              </a:rPr>
              <a:t>Факторы, влияющие на оценку прибыльности фирмы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d9e22c"/>
                </a:solidFill>
                <a:latin typeface="Garamond"/>
              </a:rPr>
              <a:t>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82ed47"/>
                </a:solidFill>
                <a:latin typeface="Garamond"/>
              </a:rPr>
              <a:t>Длителен процесс получения результатов от реализации инвестиционных процес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79dd"/>
                </a:solidFill>
                <a:latin typeface="Garamond"/>
              </a:rPr>
              <a:t>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0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Monotype Corsiva"/>
              </a:rPr>
              <a:t>Девиз финансиста и бизнесмен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WordArt 24"/>
          <p:cNvSpPr txBox="1"/>
          <p:nvPr/>
        </p:nvSpPr>
        <p:spPr>
          <a:xfrm rot="21009000">
            <a:off x="2228760" y="1963800"/>
            <a:ext cx="597708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47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Рубль, полученный сегодня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тоит больше, чем рубль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полученный завтра.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0" name="AutoShape 26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0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61" nodeType="after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88 L -0.125 0.288 L 0 0 Z">
                                      <p:cBhvr>
                                        <p:cTn id="962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9"/>
          <p:cNvSpPr/>
          <p:nvPr/>
        </p:nvSpPr>
        <p:spPr>
          <a:xfrm>
            <a:off x="611280" y="1413000"/>
            <a:ext cx="7705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1f715"/>
                </a:solidFill>
                <a:latin typeface="Monotype Corsiva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68616"/>
                </a:solidFill>
                <a:latin typeface="Garamond"/>
              </a:rPr>
              <a:t>дисконтиров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Group 11"/>
          <p:cNvGrpSpPr/>
          <p:nvPr/>
        </p:nvGrpSpPr>
        <p:grpSpPr>
          <a:xfrm>
            <a:off x="1692360" y="3051720"/>
            <a:ext cx="5761080" cy="882000"/>
            <a:chOff x="1692360" y="3051720"/>
            <a:chExt cx="5761080" cy="882000"/>
          </a:xfrm>
        </p:grpSpPr>
        <p:grpSp>
          <p:nvGrpSpPr>
            <p:cNvPr id="334" name="Group 8"/>
            <p:cNvGrpSpPr/>
            <p:nvPr/>
          </p:nvGrpSpPr>
          <p:grpSpPr>
            <a:xfrm>
              <a:off x="2511360" y="3051720"/>
              <a:ext cx="4322880" cy="804240"/>
              <a:chOff x="2511360" y="3051720"/>
              <a:chExt cx="4322880" cy="804240"/>
            </a:xfrm>
          </p:grpSpPr>
          <p:sp>
            <p:nvSpPr>
              <p:cNvPr id="335" name="Text Box 5"/>
              <p:cNvSpPr/>
              <p:nvPr/>
            </p:nvSpPr>
            <p:spPr>
              <a:xfrm>
                <a:off x="2511360" y="3068640"/>
                <a:ext cx="43228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Garamond"/>
                  </a:rPr>
                  <a:t>PV=FV</a:t>
                </a:r>
                <a:r>
                  <a:rPr b="1" i="1" lang="en-US" sz="4000" spc="-1" strike="noStrike" baseline="-25000">
                    <a:solidFill>
                      <a:srgbClr val="ff0000"/>
                    </a:solidFill>
                    <a:latin typeface="Garamond"/>
                  </a:rPr>
                  <a:t>n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Garamond"/>
                  </a:rPr>
                  <a:t>   1/(1+k)</a:t>
                </a:r>
                <a:r>
                  <a:rPr b="1" i="1" lang="en-US" sz="4000" spc="-1" strike="noStrike" baseline="30000">
                    <a:solidFill>
                      <a:srgbClr val="ff0000"/>
                    </a:solidFill>
                    <a:latin typeface="Garamond"/>
                  </a:rPr>
                  <a:t>n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6"/>
              <p:cNvSpPr/>
              <p:nvPr/>
            </p:nvSpPr>
            <p:spPr>
              <a:xfrm rot="18938400">
                <a:off x="4429800" y="32126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Garamond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Rectangle 10"/>
            <p:cNvSpPr/>
            <p:nvPr/>
          </p:nvSpPr>
          <p:spPr>
            <a:xfrm>
              <a:off x="1692360" y="3068640"/>
              <a:ext cx="5761080" cy="865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14"/>
          <p:cNvGrpSpPr/>
          <p:nvPr/>
        </p:nvGrpSpPr>
        <p:grpSpPr>
          <a:xfrm>
            <a:off x="1692360" y="4941720"/>
            <a:ext cx="5688000" cy="936720"/>
            <a:chOff x="1692360" y="4941720"/>
            <a:chExt cx="5688000" cy="936720"/>
          </a:xfrm>
        </p:grpSpPr>
        <p:sp>
          <p:nvSpPr>
            <p:cNvPr id="339" name="Text Box 12"/>
            <p:cNvSpPr/>
            <p:nvPr/>
          </p:nvSpPr>
          <p:spPr>
            <a:xfrm>
              <a:off x="2858400" y="5014800"/>
              <a:ext cx="329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Garamond"/>
                </a:rPr>
                <a:t>FV=PV(1+k)</a:t>
              </a:r>
              <a:r>
                <a:rPr b="1" i="1" lang="en-US" sz="4000" spc="-1" strike="noStrike" baseline="30000">
                  <a:solidFill>
                    <a:srgbClr val="ff0000"/>
                  </a:solidFill>
                  <a:latin typeface="Garamond"/>
                </a:rPr>
                <a:t>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13"/>
            <p:cNvSpPr/>
            <p:nvPr/>
          </p:nvSpPr>
          <p:spPr>
            <a:xfrm>
              <a:off x="1692360" y="4941720"/>
              <a:ext cx="5688000" cy="936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Text Box 15"/>
          <p:cNvSpPr/>
          <p:nvPr/>
        </p:nvSpPr>
        <p:spPr>
          <a:xfrm>
            <a:off x="-627120" y="4149720"/>
            <a:ext cx="10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f715"/>
                </a:solidFill>
                <a:latin typeface="Garamond"/>
              </a:rPr>
              <a:t>Обратная формула. Показывает будущую стоимость вкла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1036800" y="6073920"/>
            <a:ext cx="699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FV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стоимость вклада, </a:t>
            </a: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PV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текущая ценность вкла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n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период времени,</a:t>
            </a: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 k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- величина дох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WordArt 17"/>
          <p:cNvSpPr txBox="1"/>
          <p:nvPr/>
        </p:nvSpPr>
        <p:spPr>
          <a:xfrm rot="20707200">
            <a:off x="2268000" y="333000"/>
            <a:ext cx="47469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Дисконтиров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AutoShape 20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0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258920" y="1197000"/>
            <a:ext cx="662616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Comic Sans MS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95280" y="4365720"/>
            <a:ext cx="8424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Impact"/>
              </a:rPr>
              <a:t>Рынок капитала -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ff00"/>
                </a:solidFill>
                <a:latin typeface="Comic Sans MS"/>
              </a:rPr>
              <a:t>рынок, на котором продаются финансовые ресурсы, необходимые для организации коммерческой деятельности фир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2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f741"/>
                </a:solidFill>
                <a:latin typeface="Garamond"/>
              </a:rPr>
              <a:t>Срок отвлечения средств</a:t>
            </a:r>
            <a:r>
              <a:rPr b="0" i="1" lang="ru-RU" sz="2800" spc="-1" strike="noStrike">
                <a:solidFill>
                  <a:srgbClr val="a5f741"/>
                </a:solidFill>
                <a:latin typeface="Garamond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eb0fe"/>
                </a:solidFill>
                <a:latin typeface="Garamond"/>
              </a:rPr>
              <a:t>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f741"/>
                </a:solidFill>
                <a:latin typeface="Garamond"/>
              </a:rPr>
              <a:t>Риск инвестирования</a:t>
            </a:r>
            <a:r>
              <a:rPr b="0" i="1" lang="ru-RU" sz="2800" spc="-1" strike="noStrike">
                <a:solidFill>
                  <a:srgbClr val="a5f741"/>
                </a:solidFill>
                <a:latin typeface="Garamond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eb0fe"/>
                </a:solidFill>
                <a:latin typeface="Garamond"/>
              </a:rPr>
              <a:t>поддающаяся оценке вероятность потери инвестированных средств или неполучение по ним ожидаемого дохо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WordArt 5"/>
          <p:cNvSpPr txBox="1"/>
          <p:nvPr/>
        </p:nvSpPr>
        <p:spPr>
          <a:xfrm>
            <a:off x="1476360" y="404640"/>
            <a:ext cx="596916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514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ормирование предложения</a:t>
            </a:r>
            <a:endParaRPr b="0" lang="en-US" sz="1800" spc="1" strike="noStrike">
              <a:ln w="12600">
                <a:solidFill>
                  <a:srgbClr val="000514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2"/>
          <p:cNvSpPr/>
          <p:nvPr/>
        </p:nvSpPr>
        <p:spPr>
          <a:xfrm>
            <a:off x="5076720" y="1628640"/>
            <a:ext cx="30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f741"/>
                </a:solidFill>
                <a:latin typeface="Garamond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1042920" y="4869000"/>
            <a:ext cx="2900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6ae8"/>
                </a:solidFill>
                <a:latin typeface="Garamond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19"/>
          <p:cNvGrpSpPr/>
          <p:nvPr/>
        </p:nvGrpSpPr>
        <p:grpSpPr>
          <a:xfrm>
            <a:off x="539640" y="1067760"/>
            <a:ext cx="3974400" cy="3377160"/>
            <a:chOff x="539640" y="1067760"/>
            <a:chExt cx="3974400" cy="3377160"/>
          </a:xfrm>
        </p:grpSpPr>
        <p:grpSp>
          <p:nvGrpSpPr>
            <p:cNvPr id="353" name="Group 11"/>
            <p:cNvGrpSpPr/>
            <p:nvPr/>
          </p:nvGrpSpPr>
          <p:grpSpPr>
            <a:xfrm>
              <a:off x="971280" y="1125360"/>
              <a:ext cx="3168720" cy="2879640"/>
              <a:chOff x="971280" y="1125360"/>
              <a:chExt cx="3168720" cy="2879640"/>
            </a:xfrm>
          </p:grpSpPr>
          <p:sp>
            <p:nvSpPr>
              <p:cNvPr id="354" name="Line 4"/>
              <p:cNvSpPr/>
              <p:nvPr/>
            </p:nvSpPr>
            <p:spPr>
              <a:xfrm flipV="1">
                <a:off x="971280" y="1192320"/>
                <a:ext cx="0" cy="281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5"/>
              <p:cNvSpPr/>
              <p:nvPr/>
            </p:nvSpPr>
            <p:spPr>
              <a:xfrm>
                <a:off x="971280" y="4005000"/>
                <a:ext cx="316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Arc 6"/>
              <p:cNvSpPr/>
              <p:nvPr/>
            </p:nvSpPr>
            <p:spPr>
              <a:xfrm rot="5400000">
                <a:off x="1117440" y="1176840"/>
                <a:ext cx="2492280" cy="2388960"/>
              </a:xfrm>
              <a:custGeom>
                <a:avLst/>
                <a:gdLst/>
                <a:ahLst/>
                <a:rect l="l" t="t" r="r" b="b"/>
                <a:pathLst>
                  <a:path fill="none" w="21600" h="21556">
                    <a:moveTo>
                      <a:pt x="1375" y="-1"/>
                    </a:moveTo>
                    <a:cubicBezTo>
                      <a:pt x="12747" y="725"/>
                      <a:pt x="21600" y="10160"/>
                      <a:pt x="21600" y="21556"/>
                    </a:cubicBezTo>
                  </a:path>
                  <a:path stroke="0" w="21600" h="21556">
                    <a:moveTo>
                      <a:pt x="1375" y="-1"/>
                    </a:moveTo>
                    <a:cubicBezTo>
                      <a:pt x="12747" y="725"/>
                      <a:pt x="21600" y="10160"/>
                      <a:pt x="21600" y="21556"/>
                    </a:cubicBezTo>
                    <a:lnTo>
                      <a:pt x="0" y="21556"/>
                    </a:lnTo>
                    <a:lnTo>
                      <a:pt x="1375" y="-1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Text Box 14"/>
            <p:cNvSpPr/>
            <p:nvPr/>
          </p:nvSpPr>
          <p:spPr>
            <a:xfrm>
              <a:off x="1413360" y="4076640"/>
              <a:ext cx="31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рок отвлечения</a:t>
              </a: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редст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15"/>
            <p:cNvSpPr/>
            <p:nvPr/>
          </p:nvSpPr>
          <p:spPr>
            <a:xfrm rot="16200000">
              <a:off x="-350640" y="19584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Group 18"/>
          <p:cNvGrpSpPr/>
          <p:nvPr/>
        </p:nvGrpSpPr>
        <p:grpSpPr>
          <a:xfrm>
            <a:off x="4500720" y="3683160"/>
            <a:ext cx="4124880" cy="3176280"/>
            <a:chOff x="4500720" y="3683160"/>
            <a:chExt cx="4124880" cy="3176280"/>
          </a:xfrm>
        </p:grpSpPr>
        <p:grpSp>
          <p:nvGrpSpPr>
            <p:cNvPr id="360" name="Group 10"/>
            <p:cNvGrpSpPr/>
            <p:nvPr/>
          </p:nvGrpSpPr>
          <p:grpSpPr>
            <a:xfrm>
              <a:off x="4932360" y="3683160"/>
              <a:ext cx="3528720" cy="2808000"/>
              <a:chOff x="4932360" y="3683160"/>
              <a:chExt cx="3528720" cy="2808000"/>
            </a:xfrm>
          </p:grpSpPr>
          <p:sp>
            <p:nvSpPr>
              <p:cNvPr id="361" name="Line 7"/>
              <p:cNvSpPr/>
              <p:nvPr/>
            </p:nvSpPr>
            <p:spPr>
              <a:xfrm flipV="1">
                <a:off x="4932360" y="3683160"/>
                <a:ext cx="0" cy="280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8"/>
              <p:cNvSpPr/>
              <p:nvPr/>
            </p:nvSpPr>
            <p:spPr>
              <a:xfrm>
                <a:off x="4932360" y="6491160"/>
                <a:ext cx="352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Arc 9"/>
              <p:cNvSpPr/>
              <p:nvPr/>
            </p:nvSpPr>
            <p:spPr>
              <a:xfrm rot="5633400">
                <a:off x="5297760" y="3846960"/>
                <a:ext cx="2360160" cy="2285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4" name="Text Box 16"/>
            <p:cNvSpPr/>
            <p:nvPr/>
          </p:nvSpPr>
          <p:spPr>
            <a:xfrm rot="16200000">
              <a:off x="3610080" y="458892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26ae8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5893560" y="6491160"/>
              <a:ext cx="27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26ae8"/>
                  </a:solidFill>
                  <a:latin typeface="Garamond"/>
                </a:rPr>
                <a:t>Риск инвестир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7af8"/>
                </a:solidFill>
                <a:latin typeface="Comic Sans MS"/>
              </a:rPr>
              <a:t>Предложение на рынке капитал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7" name="AutoShape 2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nodeType="clickEffect" fill="hold">
                      <p:stCondLst>
                        <p:cond delay="0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6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eb0fe"/>
                </a:solidFill>
                <a:latin typeface="Monotype Corsiva"/>
              </a:rPr>
              <a:t>Железное правило рынка капитал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0" name="WordArt 16"/>
          <p:cNvSpPr txBox="1"/>
          <p:nvPr/>
        </p:nvSpPr>
        <p:spPr>
          <a:xfrm>
            <a:off x="684360" y="1844640"/>
            <a:ext cx="7559640" cy="44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Чем выше рис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инвестиций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тем больши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доход он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должн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обеспечи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1" name="AutoShape 18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0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6" dur="250" autoRev="1" fill="hold"/>
                                        <p:tgtEl>
                                          <p:spTgt spid="3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f33e"/>
                </a:solidFill>
                <a:latin typeface="Book Antiqua"/>
              </a:rPr>
              <a:t>Список литерату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И.В.Липсиц</a:t>
            </a:r>
            <a:r>
              <a:rPr b="0" lang="ru-RU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Garamond"/>
              </a:rPr>
              <a:t>«Экономика»,</a:t>
            </a:r>
            <a:r>
              <a:rPr b="0" lang="ru-RU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книга 2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изд. Вита пресс Москва 2006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Monotype Corsiva"/>
              </a:rPr>
              <a:t>Г.К.Журавлева</a:t>
            </a:r>
            <a:r>
              <a:rPr b="0" lang="ru-RU" sz="3200" spc="-1" strike="noStrike">
                <a:solidFill>
                  <a:srgbClr val="ff66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66ff"/>
                </a:solidFill>
                <a:latin typeface="Garamond"/>
              </a:rPr>
              <a:t>«Экономика»</a:t>
            </a:r>
            <a:r>
              <a:rPr b="0" lang="ru-RU" sz="3200" spc="-1" strike="noStrike">
                <a:solidFill>
                  <a:srgbClr val="ff66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66ff"/>
                </a:solidFill>
                <a:latin typeface="Comic Sans MS"/>
              </a:rPr>
              <a:t>изд. Юристъ 2004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0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WordArt 4"/>
          <p:cNvSpPr txBox="1"/>
          <p:nvPr/>
        </p:nvSpPr>
        <p:spPr>
          <a:xfrm>
            <a:off x="1042920" y="1700280"/>
            <a:ext cx="7632720" cy="25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0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xit" presetID="3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04360" y="1657440"/>
            <a:ext cx="8062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b561"/>
                </a:solidFill>
                <a:latin typeface="Jokerman LET"/>
              </a:rPr>
              <a:t>Виды капитала</a:t>
            </a:r>
            <a:r>
              <a:rPr b="0" lang="ru-RU" sz="2800" spc="-1" strike="noStrike">
                <a:solidFill>
                  <a:srgbClr val="dfb561"/>
                </a:solidFill>
                <a:latin typeface="Jokerman LET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University Roman LET"/>
              </a:rPr>
              <a:t>Физический капитал-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7afa95"/>
                </a:solidFill>
                <a:latin typeface="Comic Sans MS"/>
              </a:rPr>
              <a:t>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Cataneo BT"/>
              </a:rPr>
              <a:t>Невещественный (незримый) капитал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ru-RU" sz="2400" spc="-1" strike="noStrike">
                <a:solidFill>
                  <a:srgbClr val="7afa95"/>
                </a:solidFill>
                <a:latin typeface="Comic Sans MS"/>
              </a:rPr>
              <a:t>знания, умения и информация, которые могут быть длительно использованы для производства благ и их продаж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WordArt 41"/>
          <p:cNvSpPr txBox="1"/>
          <p:nvPr/>
        </p:nvSpPr>
        <p:spPr>
          <a:xfrm>
            <a:off x="468360" y="476280"/>
            <a:ext cx="80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b7bb1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Сбережения и их превращение в капита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b7bb11"/>
                  </a:gs>
                </a:gsLst>
                <a:lin ang="5400000"/>
              </a:grad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AutoShape 43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55280" y="1557360"/>
            <a:ext cx="78692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65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d6cf"/>
                </a:solidFill>
                <a:latin typeface="Monotype Corsiva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2800" spc="-1" strike="noStrike">
                <a:solidFill>
                  <a:srgbClr val="00ccff"/>
                </a:solidFill>
                <a:latin typeface="Comic Sans MS"/>
              </a:rPr>
              <a:t>рынка денежного капитала, или </a:t>
            </a:r>
            <a:r>
              <a:rPr b="1" lang="ru-RU" sz="3200" spc="-1" strike="noStrike">
                <a:solidFill>
                  <a:srgbClr val="00ccff"/>
                </a:solidFill>
                <a:latin typeface="Comic Sans MS"/>
              </a:rPr>
              <a:t>рынка капитала</a:t>
            </a:r>
            <a:r>
              <a:rPr b="0" lang="ru-RU" sz="3200" spc="-1" strike="noStrike">
                <a:solidFill>
                  <a:srgbClr val="00cc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5640" y="1268280"/>
            <a:ext cx="734364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6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animScale>
                                      <p:cBhvr>
                                        <p:cTn id="143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4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940"/>
                            </p:stCondLst>
                            <p:childTnLst>
                              <p:par>
                                <p:cTn id="148" nodeType="after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b561"/>
                </a:solidFill>
                <a:latin typeface="Monotype Corsiva"/>
              </a:rPr>
              <a:t>Если под капиталом понимать физический капитал (станки, здания, запасы, и т.д.), то рынок капитала –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ccff"/>
                </a:solidFill>
                <a:latin typeface="Monotype Corsiva"/>
              </a:rPr>
              <a:t>это часть рынка факторов производства наряду с рынком труда и земл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b561"/>
                </a:solidFill>
                <a:latin typeface="Monotype Corsiva"/>
              </a:rPr>
              <a:t>Если под капиталом на рынке финансов понимать денежный капитал,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ccff"/>
                </a:solidFill>
                <a:latin typeface="Monotype Corsiva"/>
              </a:rPr>
              <a:t>то рынок капитала выступает составной частью рынка ссудных капитал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90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Варианты трактовки рынка капитал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90000"/>
                </a:blip>
                <a:srcRect/>
                <a:stretch/>
              </a:blip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AutoShape 7">
            <a:hlinkClick r:id="rId3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xit" presetID="52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604960" y="1125360"/>
            <a:ext cx="3786480" cy="98136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Рынок ссудного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70000" y="3094200"/>
            <a:ext cx="35449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Денежн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5102280" y="3094200"/>
            <a:ext cx="38671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Рынок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644920" y="5234040"/>
            <a:ext cx="29797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Ипотечн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6321600" y="5234040"/>
            <a:ext cx="282240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Финансов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H="1">
            <a:off x="2744280" y="2111400"/>
            <a:ext cx="498600" cy="904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5397480" y="2104920"/>
            <a:ext cx="57312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 flipH="1">
            <a:off x="4919400" y="4280040"/>
            <a:ext cx="56196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>
            <a:off x="6742080" y="4280040"/>
            <a:ext cx="56196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2556000" y="2133720"/>
            <a:ext cx="792000" cy="863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5292720" y="2133720"/>
            <a:ext cx="647640" cy="863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4643280" y="4292640"/>
            <a:ext cx="936720" cy="936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>
            <a:off x="6877080" y="4292640"/>
            <a:ext cx="790560" cy="936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5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32"/>
          <p:cNvGrpSpPr/>
          <p:nvPr/>
        </p:nvGrpSpPr>
        <p:grpSpPr>
          <a:xfrm>
            <a:off x="1607400" y="2365560"/>
            <a:ext cx="5457960" cy="4493520"/>
            <a:chOff x="1607400" y="2365560"/>
            <a:chExt cx="5457960" cy="4493520"/>
          </a:xfrm>
        </p:grpSpPr>
        <p:sp>
          <p:nvSpPr>
            <p:cNvPr id="150" name="Text Box 17"/>
            <p:cNvSpPr/>
            <p:nvPr/>
          </p:nvSpPr>
          <p:spPr>
            <a:xfrm>
              <a:off x="1607400" y="5552640"/>
              <a:ext cx="56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8d88b"/>
                  </a:solidFill>
                  <a:latin typeface="Garamond"/>
                </a:rPr>
                <a:t>П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" name="Group 31"/>
            <p:cNvGrpSpPr/>
            <p:nvPr/>
          </p:nvGrpSpPr>
          <p:grpSpPr>
            <a:xfrm>
              <a:off x="1777680" y="2365560"/>
              <a:ext cx="5287680" cy="4493520"/>
              <a:chOff x="1777680" y="2365560"/>
              <a:chExt cx="5287680" cy="4493520"/>
            </a:xfrm>
          </p:grpSpPr>
          <p:sp>
            <p:nvSpPr>
              <p:cNvPr id="152" name="Line 11"/>
              <p:cNvSpPr/>
              <p:nvPr/>
            </p:nvSpPr>
            <p:spPr>
              <a:xfrm flipV="1">
                <a:off x="2235960" y="2664720"/>
                <a:ext cx="1800" cy="382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2235960" y="6490800"/>
                <a:ext cx="464040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Arc 13"/>
              <p:cNvSpPr/>
              <p:nvPr/>
            </p:nvSpPr>
            <p:spPr>
              <a:xfrm>
                <a:off x="2235960" y="3055680"/>
                <a:ext cx="3170520" cy="2655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14"/>
              <p:cNvSpPr/>
              <p:nvPr/>
            </p:nvSpPr>
            <p:spPr>
              <a:xfrm>
                <a:off x="2235960" y="5710680"/>
                <a:ext cx="425340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15"/>
              <p:cNvSpPr/>
              <p:nvPr/>
            </p:nvSpPr>
            <p:spPr>
              <a:xfrm rot="16200000">
                <a:off x="331200" y="3811680"/>
                <a:ext cx="326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Потребление в настоя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16"/>
              <p:cNvSpPr/>
              <p:nvPr/>
            </p:nvSpPr>
            <p:spPr>
              <a:xfrm>
                <a:off x="4063680" y="6490800"/>
                <a:ext cx="300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Потребление в буду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18"/>
              <p:cNvSpPr/>
              <p:nvPr/>
            </p:nvSpPr>
            <p:spPr>
              <a:xfrm>
                <a:off x="2313000" y="2664720"/>
                <a:ext cx="34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Text Box 19"/>
              <p:cNvSpPr/>
              <p:nvPr/>
            </p:nvSpPr>
            <p:spPr>
              <a:xfrm>
                <a:off x="5404680" y="52423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27"/>
              <p:cNvSpPr/>
              <p:nvPr/>
            </p:nvSpPr>
            <p:spPr>
              <a:xfrm flipH="1">
                <a:off x="5330160" y="5710680"/>
                <a:ext cx="76320" cy="780120"/>
              </a:xfrm>
              <a:custGeom>
                <a:avLst/>
                <a:gdLst/>
                <a:ahLst/>
                <a:rect l="l" t="t" r="r" b="b"/>
                <a:pathLst>
                  <a:path w="1" h="453">
                    <a:moveTo>
                      <a:pt x="0" y="0"/>
                    </a:moveTo>
                    <a:cubicBezTo>
                      <a:pt x="0" y="0"/>
                      <a:pt x="0" y="226"/>
                      <a:pt x="0" y="45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29"/>
          <p:cNvSpPr/>
          <p:nvPr/>
        </p:nvSpPr>
        <p:spPr>
          <a:xfrm>
            <a:off x="4788000" y="2492280"/>
            <a:ext cx="40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d88b"/>
                </a:solidFill>
                <a:latin typeface="Cataneo BT"/>
              </a:rPr>
              <a:t>Сбережения как выбор между текущим и будущ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d88b"/>
                </a:solidFill>
                <a:latin typeface="Cataneo BT"/>
              </a:rPr>
              <a:t>уровнями потребл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324000" y="1125360"/>
            <a:ext cx="849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b6f6"/>
                </a:solidFill>
                <a:latin typeface="Century Gothic"/>
              </a:rPr>
              <a:t>Создавая сбережения, семьи ограничивают свое текущее потребление, ради увеличения потребления в будущем</a:t>
            </a:r>
            <a:r>
              <a:rPr b="0" lang="ru-RU" sz="2800" spc="-1" strike="noStrike">
                <a:solidFill>
                  <a:srgbClr val="42b6f6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34"/>
          <p:cNvSpPr txBox="1"/>
          <p:nvPr/>
        </p:nvSpPr>
        <p:spPr>
          <a:xfrm rot="210000">
            <a:off x="1187280" y="0"/>
            <a:ext cx="640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бережения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AutoShape 36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60"/>
                            </p:stCondLst>
                            <p:childTnLst>
                              <p:par>
                                <p:cTn id="2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64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65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0" y="2852280"/>
            <a:ext cx="4105440" cy="9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aramond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Garamond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-1440" y="732240"/>
            <a:ext cx="4980240" cy="4412880"/>
            <a:chOff x="-1440" y="732240"/>
            <a:chExt cx="4980240" cy="4412880"/>
          </a:xfrm>
        </p:grpSpPr>
        <p:sp>
          <p:nvSpPr>
            <p:cNvPr id="168" name="Text Box 8"/>
            <p:cNvSpPr/>
            <p:nvPr/>
          </p:nvSpPr>
          <p:spPr>
            <a:xfrm>
              <a:off x="-1440" y="391824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00"/>
                  </a:solidFill>
                  <a:latin typeface="Cataneo BT"/>
                </a:rPr>
                <a:t>П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9"/>
            <p:cNvGrpSpPr/>
            <p:nvPr/>
          </p:nvGrpSpPr>
          <p:grpSpPr>
            <a:xfrm>
              <a:off x="145440" y="732240"/>
              <a:ext cx="4833360" cy="4412880"/>
              <a:chOff x="145440" y="732240"/>
              <a:chExt cx="4833360" cy="4412880"/>
            </a:xfrm>
          </p:grpSpPr>
          <p:sp>
            <p:nvSpPr>
              <p:cNvPr id="170" name="Line 10"/>
              <p:cNvSpPr/>
              <p:nvPr/>
            </p:nvSpPr>
            <p:spPr>
              <a:xfrm flipV="1">
                <a:off x="505800" y="1266120"/>
                <a:ext cx="1440" cy="3504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1"/>
              <p:cNvSpPr/>
              <p:nvPr/>
            </p:nvSpPr>
            <p:spPr>
              <a:xfrm>
                <a:off x="505800" y="4765680"/>
                <a:ext cx="3809160" cy="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Arc 12"/>
              <p:cNvSpPr/>
              <p:nvPr/>
            </p:nvSpPr>
            <p:spPr>
              <a:xfrm>
                <a:off x="505800" y="1623600"/>
                <a:ext cx="2601720" cy="242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13"/>
              <p:cNvSpPr/>
              <p:nvPr/>
            </p:nvSpPr>
            <p:spPr>
              <a:xfrm>
                <a:off x="505800" y="4051800"/>
                <a:ext cx="34916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14"/>
              <p:cNvSpPr/>
              <p:nvPr/>
            </p:nvSpPr>
            <p:spPr>
              <a:xfrm rot="16200000">
                <a:off x="-1271520" y="2149560"/>
                <a:ext cx="320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Потребление в настоя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Text Box 15"/>
              <p:cNvSpPr/>
              <p:nvPr/>
            </p:nvSpPr>
            <p:spPr>
              <a:xfrm>
                <a:off x="2030400" y="4776840"/>
                <a:ext cx="294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Потребление в буду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Text Box 16"/>
              <p:cNvSpPr/>
              <p:nvPr/>
            </p:nvSpPr>
            <p:spPr>
              <a:xfrm>
                <a:off x="581400" y="1278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Text Box 17"/>
              <p:cNvSpPr/>
              <p:nvPr/>
            </p:nvSpPr>
            <p:spPr>
              <a:xfrm>
                <a:off x="3111120" y="36349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8"/>
              <p:cNvSpPr/>
              <p:nvPr/>
            </p:nvSpPr>
            <p:spPr>
              <a:xfrm flipH="1">
                <a:off x="3044880" y="4051800"/>
                <a:ext cx="62640" cy="718200"/>
              </a:xfrm>
              <a:custGeom>
                <a:avLst/>
                <a:gdLst/>
                <a:ahLst/>
                <a:rect l="l" t="t" r="r" b="b"/>
                <a:pathLst>
                  <a:path w="1" h="453">
                    <a:moveTo>
                      <a:pt x="0" y="0"/>
                    </a:moveTo>
                    <a:cubicBezTo>
                      <a:pt x="0" y="0"/>
                      <a:pt x="0" y="226"/>
                      <a:pt x="0" y="45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AutoShape 20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16:06:06Z</dcterms:created>
  <dc:creator>505</dc:creator>
  <dc:description/>
  <dc:language>en-US</dc:language>
  <cp:lastModifiedBy>LEGION</cp:lastModifiedBy>
  <dcterms:modified xsi:type="dcterms:W3CDTF">2016-01-04T13:42:44Z</dcterms:modified>
  <cp:revision>39</cp:revision>
  <dc:subject/>
  <dc:title>Рынок финансового капитала</dc:title>
</cp:coreProperties>
</file>