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5D08-841F-4BF9-82C3-C2ED947E2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2120-DBD1-40D3-9D9C-C6E4C9B38D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B91-6D42-4EFB-AFD9-9CC7BF9DD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AD72-F333-4928-AD90-C3D8CCB4E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5A87-921A-4076-81F6-6F123BD50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BB0F-4BBB-4082-9682-AAABFA595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3721-F9DE-448B-B829-04D4CDD31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7F83-E0FF-425C-9A55-B6F730D30B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E01F-427C-47C4-B180-B768000E4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2BE7-8347-4316-8C32-1E324B0F2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9C33-F22F-4E3A-A65A-6A6A3FD9A8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EB81-EFDB-44FF-B970-31E7C5259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9707-CF63-4427-A35D-DDD636677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0AF9-8762-440F-825F-86E7F2B7A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42DE-37E0-47A3-AAF7-DCBFF1BC90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AFC1-32E4-4DB8-9321-1C5A2C81BA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3F63-61B7-4520-83C1-D9EB2A69C2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AB8E-C4F9-469D-96A2-0098C17DF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380B-9F2A-48E0-A0B6-0A8691E33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F5B0-A951-4294-BBE0-73D71B628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1CE4-DE73-44FE-9591-6F87C2145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CECE-19B0-48C1-B46B-A0EB1BDAED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B97E-5155-417A-AF1B-6B34F32B9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A822-B688-4D5E-AA29-482900013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866C-D565-4CDD-8280-76E7968F8D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53E8-5909-473A-B57D-43E917816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3A47-147F-4E1F-8102-28C04366F8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93C6-94FB-4EB8-850A-0C50771646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795F-F80E-4D52-9237-687B00E7A8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A009-2F91-4CB7-84BC-8116374D8C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4AFF-D09C-45AC-93C3-F866F2F43E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DB14-D10C-4512-B29A-23C15C7B7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2EAD-B541-4650-8E2F-B8636E3388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0179-D3C6-4C0A-B319-F7F0337419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7845-D21E-4C7D-9471-1AE762298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B6D3-FAEE-4C74-9EF4-01698F9970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D8D-E033-44DB-91ED-A1EF65CA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139-1725-4983-9FA5-D2424CF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0367-AACB-4EDE-91AE-E903DB16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AD2-1729-41E6-854B-11B55E23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3DF-0B38-42FB-9DCC-405ED789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B58-2BD7-49FC-9723-5351547E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CE7-856F-4F11-AB01-B63A048C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81A-6E4B-4681-A77A-F95A92FB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8CE-B859-4402-8F3A-40249AB1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419-63DC-42A8-B232-97A821E0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23CF-E707-4260-9C44-4EAAF221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C069-C98B-4D4B-9917-DE359F13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D65-0880-40A7-8E1A-BBF7A3D2DE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440"/>
            <a:ext cx="85615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во врем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мея ни «начала», ни «конца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правившись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ённого прошл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воз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бы добраться до «сегодня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 же, как отправившись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егодня» в будущее, нельз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ться до «конца времё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егодня» наступил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шедшее врем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было бесконеч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мир имел начало во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1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2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3886200" y="3238560"/>
            <a:ext cx="1440000" cy="14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2 апрел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005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522960" y="5397480"/>
            <a:ext cx="218664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2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3"/>
          <p:cNvSpPr/>
          <p:nvPr/>
        </p:nvSpPr>
        <p:spPr>
          <a:xfrm flipH="1">
            <a:off x="286560" y="3778200"/>
            <a:ext cx="3598920" cy="360360"/>
          </a:xfrm>
          <a:prstGeom prst="rightArrow">
            <a:avLst>
              <a:gd name="adj1" fmla="val 50000"/>
              <a:gd name="adj2" fmla="val 2496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4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648000" y="3057480"/>
            <a:ext cx="15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рош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536400" y="449748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рошл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7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AutoShape 2"/>
          <p:cNvSpPr/>
          <p:nvPr/>
        </p:nvSpPr>
        <p:spPr>
          <a:xfrm>
            <a:off x="3151080" y="50022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/>
          <p:cNvSpPr/>
          <p:nvPr/>
        </p:nvSpPr>
        <p:spPr>
          <a:xfrm>
            <a:off x="2071800" y="3741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992160" y="2482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/>
          <p:cNvSpPr/>
          <p:nvPr/>
        </p:nvSpPr>
        <p:spPr>
          <a:xfrm>
            <a:off x="647640" y="165420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мир им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 во времен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727280" y="291456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-то должно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время, в 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не было, т.е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2806560" y="417348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 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бы то ни было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3886200" y="543384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ни одна часть та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ени не заключает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я существования, отлич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условия не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Kant_016"/>
          <p:cNvPicPr/>
          <p:nvPr/>
        </p:nvPicPr>
        <p:blipFill>
          <a:blip r:embed="rId1"/>
          <a:stretch/>
        </p:blipFill>
        <p:spPr>
          <a:xfrm>
            <a:off x="6369120" y="143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472320" y="5649840"/>
            <a:ext cx="23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й антино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3"/>
          <p:cNvSpPr/>
          <p:nvPr/>
        </p:nvSpPr>
        <p:spPr>
          <a:xfrm>
            <a:off x="287280" y="3165480"/>
            <a:ext cx="3598920" cy="158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СТОЕ 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3492720" y="5397480"/>
            <a:ext cx="2250360" cy="7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003120" y="181764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5326200" y="3778200"/>
            <a:ext cx="3598560" cy="360360"/>
          </a:xfrm>
          <a:prstGeom prst="rightArrow">
            <a:avLst>
              <a:gd name="adj1" fmla="val 50000"/>
              <a:gd name="adj2" fmla="val 2496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7126560" y="30574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будущ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09040" y="5181480"/>
            <a:ext cx="24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устом времен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зникнов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го бы то ни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3814920" y="3165480"/>
            <a:ext cx="1582560" cy="1582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чал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0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038400" y="1638360"/>
            <a:ext cx="318636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стоит 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ст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стого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1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6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0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054960" y="1638360"/>
            <a:ext cx="31543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ществую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как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ы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совершае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мире только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 закона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0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9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11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4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20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796840" y="1638360"/>
            <a:ext cx="3670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твёрт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ряду причин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а есть нек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обходима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этом ряду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т нич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обходимого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ё в нё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0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5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59" dur="5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2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20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6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2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7"/>
          <p:cNvSpPr/>
          <p:nvPr/>
        </p:nvSpPr>
        <p:spPr>
          <a:xfrm>
            <a:off x="503712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3417840" y="3849840"/>
            <a:ext cx="719280" cy="1433520"/>
          </a:xfrm>
          <a:custGeom>
            <a:avLst/>
            <a:gdLst>
              <a:gd name="textAreaLeft" fmla="*/ 96120 w 719280"/>
              <a:gd name="textAreaRight" fmla="*/ 623160 w 719280"/>
              <a:gd name="textAreaTop" fmla="*/ 250920 h 1433520"/>
              <a:gd name="textAreaBottom" fmla="*/ 1039320 h 14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358920" y="2698920"/>
            <a:ext cx="395892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первой и втор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ож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4857840" y="2698920"/>
            <a:ext cx="395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третьей и четвёрт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нтиномия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тезис, и антитезис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тин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358920" y="4497480"/>
            <a:ext cx="305892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вопрос 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остранственн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временных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ет с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9"/>
          <p:cNvSpPr/>
          <p:nvPr/>
        </p:nvSpPr>
        <p:spPr>
          <a:xfrm>
            <a:off x="5757840" y="4497480"/>
            <a:ext cx="3059280" cy="18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в себе,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титезис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с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2657880" y="1638360"/>
            <a:ext cx="394992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ешение антином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4"/>
          <p:cNvSpPr/>
          <p:nvPr/>
        </p:nvSpPr>
        <p:spPr>
          <a:xfrm>
            <a:off x="45720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Онт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3"/>
          <p:cNvSpPr/>
          <p:nvPr/>
        </p:nvSpPr>
        <p:spPr>
          <a:xfrm>
            <a:off x="457200" y="510552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ел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2"/>
          <p:cNvSpPr/>
          <p:nvPr/>
        </p:nvSpPr>
        <p:spPr>
          <a:xfrm>
            <a:off x="45720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Косм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457200" y="397512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ипоте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45720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Физикотеолог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9"/>
          <p:cNvSpPr/>
          <p:nvPr/>
        </p:nvSpPr>
        <p:spPr>
          <a:xfrm>
            <a:off x="457200" y="2843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5720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оказательства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бытия Б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7"/>
          <p:cNvSpPr/>
          <p:nvPr/>
        </p:nvSpPr>
        <p:spPr>
          <a:xfrm>
            <a:off x="457200" y="17114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иды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мо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5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6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7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8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9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0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1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62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2446200" y="1619280"/>
            <a:ext cx="42465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казательства быти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39640" y="3022560"/>
            <a:ext cx="215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348948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/>
          <p:cNvSpPr/>
          <p:nvPr/>
        </p:nvSpPr>
        <p:spPr>
          <a:xfrm>
            <a:off x="6440400" y="3022560"/>
            <a:ext cx="215892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-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179280" y="3922560"/>
            <a:ext cx="288000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анн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нам в опыт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ми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прич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8"/>
          <p:cNvSpPr/>
          <p:nvPr/>
        </p:nvSpPr>
        <p:spPr>
          <a:xfrm>
            <a:off x="313056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пыта вообщ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(неопределённ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ыта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умозаключ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уществова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6081840" y="3922560"/>
            <a:ext cx="2879640" cy="259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шей сущности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приор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одится из</a:t>
            </a:r>
            <a:br>
              <a:rPr sz="1800"/>
            </a:b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нятия 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619280" y="2770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4"/>
          <p:cNvCxnSpPr/>
          <p:nvPr/>
        </p:nvCxnSpPr>
        <p:spPr>
          <a:xfrm>
            <a:off x="4570560" y="251748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3" name="AutoShape 15"/>
          <p:cNvCxnSpPr/>
          <p:nvPr/>
        </p:nvCxnSpPr>
        <p:spPr>
          <a:xfrm>
            <a:off x="161928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84" name="AutoShape 16"/>
          <p:cNvCxnSpPr/>
          <p:nvPr/>
        </p:nvCxnSpPr>
        <p:spPr>
          <a:xfrm>
            <a:off x="4570560" y="2769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5" name="Line 17"/>
          <p:cNvSpPr/>
          <p:nvPr/>
        </p:nvSpPr>
        <p:spPr>
          <a:xfrm>
            <a:off x="4570560" y="2770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AutoShape 18"/>
          <p:cNvCxnSpPr/>
          <p:nvPr/>
        </p:nvCxnSpPr>
        <p:spPr>
          <a:xfrm>
            <a:off x="7521120" y="2769840"/>
            <a:ext cx="252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нуил Кан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 и э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логическая идея (душ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мологическая идея (ми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ческая идея (Б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ход к критике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ика практического разума (эти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11"/>
          <p:cNvSpPr/>
          <p:nvPr/>
        </p:nvSpPr>
        <p:spPr>
          <a:xfrm>
            <a:off x="6656400" y="2968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"/>
          <p:cNvSpPr/>
          <p:nvPr/>
        </p:nvSpPr>
        <p:spPr>
          <a:xfrm>
            <a:off x="1992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733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539640" y="2733840"/>
            <a:ext cx="39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льзя  выве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438200" y="3957480"/>
            <a:ext cx="39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, с логической точ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рения, существова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икат,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яз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698920" y="5181480"/>
            <a:ext cx="395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этому ни в какое </a:t>
            </a:r>
            <a:r>
              <a:rPr b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579276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737480" y="2878200"/>
            <a:ext cx="900000" cy="9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nodeType="clickEffect" fill="hold">
                      <p:stCondLst>
                        <p:cond delay="0"/>
                      </p:stCondLst>
                      <p:childTnLst>
                        <p:par>
                          <p:cTn id="116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11"/>
          <p:cNvSpPr/>
          <p:nvPr/>
        </p:nvSpPr>
        <p:spPr>
          <a:xfrm>
            <a:off x="5289480" y="2914560"/>
            <a:ext cx="1079640" cy="719280"/>
          </a:xfrm>
          <a:prstGeom prst="rightArrow">
            <a:avLst>
              <a:gd name="adj1" fmla="val 50000"/>
              <a:gd name="adj2" fmla="val 37525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1884240" y="4786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625320" y="3562200"/>
            <a:ext cx="704880" cy="116712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7120"/>
              <a:gd name="textAreaBottom" fmla="*/ 846360 h 116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1640" y="2733840"/>
            <a:ext cx="323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оединение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330200" y="3957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получ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ей вещ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2590920" y="5181480"/>
            <a:ext cx="323856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 са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щую ве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1279080" y="1638360"/>
            <a:ext cx="670968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онтологического доказ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317840" y="2770200"/>
            <a:ext cx="100836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Баб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6369120" y="2733840"/>
            <a:ext cx="2411280" cy="24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лдун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та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л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хромая («костя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ог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ущая в избушке 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на курьих нож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етающая в сту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уществующ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nodeType="clickEffect" fill="hold">
                      <p:stCondLst>
                        <p:cond delay="0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7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2"/>
          <p:cNvSpPr/>
          <p:nvPr/>
        </p:nvSpPr>
        <p:spPr>
          <a:xfrm>
            <a:off x="2424240" y="501984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985680" y="3724200"/>
            <a:ext cx="704880" cy="1166760"/>
          </a:xfrm>
          <a:custGeom>
            <a:avLst/>
            <a:gdLst>
              <a:gd name="textAreaLeft" fmla="*/ 94320 w 704880"/>
              <a:gd name="textAreaRight" fmla="*/ 610560 w 704880"/>
              <a:gd name="textAreaTop" fmla="*/ 204120 h 1166760"/>
              <a:gd name="textAreaBottom" fmla="*/ 846000 h 11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ал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11280" y="277020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невозмож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т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невозможн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см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отеологическо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казатель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1690560" y="4065480"/>
            <a:ext cx="539928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сами по себе они доказывают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если вообще доказывают!) существова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ен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й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причин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го зодче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7"/>
          <p:cNvSpPr/>
          <p:nvPr/>
        </p:nvSpPr>
        <p:spPr>
          <a:xfrm>
            <a:off x="3130560" y="5361120"/>
            <a:ext cx="5398920" cy="118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иоткуда не следует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необходимо сущая перво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азумный зодчий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енн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43880" y="1601280"/>
            <a:ext cx="8380080" cy="911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космологического и физикотеологического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оказатель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0"/>
                      </p:stCondLst>
                      <p:childTnLst>
                        <p:par>
                          <p:cTn id="131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nodeType="clickEffect" fill="hold">
                      <p:stCondLst>
                        <p:cond delay="indefinite"/>
                      </p:stCondLst>
                      <p:childTnLst>
                        <p:par>
                          <p:cTn id="1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2"/>
          <p:cNvSpPr/>
          <p:nvPr/>
        </p:nvSpPr>
        <p:spPr>
          <a:xfrm>
            <a:off x="2338560" y="1546200"/>
            <a:ext cx="4462200" cy="4462560"/>
          </a:xfrm>
          <a:custGeom>
            <a:avLst/>
            <a:gdLst>
              <a:gd name="textAreaLeft" fmla="*/ 217800 w 4462200"/>
              <a:gd name="textAreaRight" fmla="*/ 4244400 w 4462200"/>
              <a:gd name="textAreaTop" fmla="*/ 217800 h 4462560"/>
              <a:gd name="textAreaBottom" fmla="*/ 4244760 h 44625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ансцендентный мир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«вещей в себе»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стаётся за границам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чного позн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3130560" y="2338560"/>
            <a:ext cx="2879640" cy="287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опыт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явле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233640" y="620064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 как </a:t>
            </a:r>
            <a:r>
              <a:rPr b="1" lang="ru-RU" sz="2000" spc="-1" strike="noStrike" u="sng">
                <a:solidFill>
                  <a:srgbClr val="00ff00"/>
                </a:solidFill>
                <a:uFillTx/>
                <a:latin typeface="Arial"/>
              </a:rPr>
              <a:t>нау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трансцендентных сущностях невозмож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6"/>
          <p:cNvSpPr/>
          <p:nvPr/>
        </p:nvSpPr>
        <p:spPr>
          <a:xfrm>
            <a:off x="6045120" y="2698920"/>
            <a:ext cx="2879640" cy="2158920"/>
          </a:xfrm>
          <a:prstGeom prst="leftArrowCallout">
            <a:avLst>
              <a:gd name="adj1" fmla="val 25002"/>
              <a:gd name="adj2" fmla="val 25000"/>
              <a:gd name="adj3" fmla="val 22231"/>
              <a:gd name="adj4" fmla="val 66673"/>
            </a:avLst>
          </a:prstGeom>
          <a:solidFill>
            <a:srgbClr val="99ccff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ыта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у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216000" y="2698920"/>
            <a:ext cx="2879640" cy="2158920"/>
          </a:xfrm>
          <a:prstGeom prst="rightArrowCallout">
            <a:avLst>
              <a:gd name="adj1" fmla="val 25002"/>
              <a:gd name="adj2" fmla="val 25000"/>
              <a:gd name="adj3" fmla="val 22231"/>
              <a:gd name="adj4" fmla="val 66667"/>
            </a:avLst>
          </a:prstGeom>
          <a:solidFill>
            <a:srgbClr val="ccffcc"/>
          </a:solidFill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приор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ни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я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3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4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5" dur="8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5834160" y="5397480"/>
            <a:ext cx="29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Кан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итика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у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итог критики чист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переход к критике практическ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6"/>
          <p:cNvSpPr/>
          <p:nvPr/>
        </p:nvSpPr>
        <p:spPr>
          <a:xfrm rot="10800000">
            <a:off x="358560" y="1977840"/>
            <a:ext cx="557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е могу... даже допуст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,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ссмертия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ля целе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го практического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менения 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ниму у спекуляти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также его притяза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трансцендентные знания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мне пришлос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ть знание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вободить место вере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Kant_016"/>
          <p:cNvPicPr/>
          <p:nvPr/>
        </p:nvPicPr>
        <p:blipFill>
          <a:blip r:embed="rId1"/>
          <a:stretch/>
        </p:blipFill>
        <p:spPr>
          <a:xfrm>
            <a:off x="6116760" y="1978200"/>
            <a:ext cx="2616120" cy="215892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сто этики в системе философских на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662200" y="1619280"/>
            <a:ext cx="2519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илосо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4"/>
          <p:cNvCxnSpPr/>
          <p:nvPr/>
        </p:nvCxnSpPr>
        <p:spPr>
          <a:xfrm>
            <a:off x="3922200" y="251784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33" name="AutoShape 6"/>
          <p:cNvSpPr/>
          <p:nvPr/>
        </p:nvSpPr>
        <p:spPr>
          <a:xfrm>
            <a:off x="352584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6116760" y="4749840"/>
            <a:ext cx="208728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>
            <a:off x="47498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Матери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863640" y="3094200"/>
            <a:ext cx="223200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ормальная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фило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>
            <a:off x="1978200" y="2806560"/>
            <a:ext cx="38862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AutoShape 13"/>
          <p:cNvCxnSpPr/>
          <p:nvPr/>
        </p:nvCxnSpPr>
        <p:spPr>
          <a:xfrm>
            <a:off x="197820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39" name="AutoShape 14"/>
          <p:cNvCxnSpPr/>
          <p:nvPr/>
        </p:nvCxnSpPr>
        <p:spPr>
          <a:xfrm>
            <a:off x="1978200" y="417312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0" name="AutoShape 15"/>
          <p:cNvCxnSpPr/>
          <p:nvPr/>
        </p:nvCxnSpPr>
        <p:spPr>
          <a:xfrm>
            <a:off x="4570560" y="446256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41" name="AutoShape 16"/>
          <p:cNvCxnSpPr/>
          <p:nvPr/>
        </p:nvCxnSpPr>
        <p:spPr>
          <a:xfrm>
            <a:off x="5865840" y="2806200"/>
            <a:ext cx="2160" cy="28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2" name="AutoShape 24"/>
          <p:cNvSpPr/>
          <p:nvPr/>
        </p:nvSpPr>
        <p:spPr>
          <a:xfrm>
            <a:off x="934920" y="4749840"/>
            <a:ext cx="208764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25"/>
          <p:cNvCxnSpPr/>
          <p:nvPr/>
        </p:nvCxnSpPr>
        <p:spPr>
          <a:xfrm>
            <a:off x="7160760" y="446256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4" name="Line 26"/>
          <p:cNvSpPr/>
          <p:nvPr/>
        </p:nvSpPr>
        <p:spPr>
          <a:xfrm>
            <a:off x="4570560" y="4462560"/>
            <a:ext cx="259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5" name="AutoShape 27"/>
          <p:cNvCxnSpPr/>
          <p:nvPr/>
        </p:nvCxnSpPr>
        <p:spPr>
          <a:xfrm>
            <a:off x="5865840" y="4173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46" name="Rectangle 28"/>
          <p:cNvSpPr/>
          <p:nvPr/>
        </p:nvSpPr>
        <p:spPr>
          <a:xfrm>
            <a:off x="93492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9"/>
          <p:cNvSpPr/>
          <p:nvPr/>
        </p:nvSpPr>
        <p:spPr>
          <a:xfrm>
            <a:off x="3525840" y="5649840"/>
            <a:ext cx="2087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0"/>
          <p:cNvSpPr/>
          <p:nvPr/>
        </p:nvSpPr>
        <p:spPr>
          <a:xfrm>
            <a:off x="6116760" y="5649840"/>
            <a:ext cx="2087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ука о законах</a:t>
            </a:r>
            <a:br>
              <a:rPr sz="1600"/>
            </a:b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nodeType="clickEffect" fill="hold">
                      <p:stCondLst>
                        <p:cond delay="indefinite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в природе действует соглас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м, но только разум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а способны поступа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гласно представлению о зак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 воля добра, которая все прочи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уждения, включая поб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лонности и соображения пользы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яет требованиям дол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доброй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ая воля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 своим принципом не ту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ую необходимость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у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осообразность поступ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брая 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обра сама п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ебе; всё прочее, счит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м, может быть и вре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дучи соединено со зл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п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уважения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подчиня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обходим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л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2" descr="Kant_016"/>
          <p:cNvPicPr/>
          <p:nvPr/>
        </p:nvPicPr>
        <p:blipFill>
          <a:blip r:embed="rId1"/>
          <a:stretch/>
        </p:blipFill>
        <p:spPr>
          <a:xfrm>
            <a:off x="6477120" y="1295280"/>
            <a:ext cx="2400120" cy="1981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0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1040" cy="8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230560" y="1438200"/>
            <a:ext cx="4678200" cy="104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мперати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mper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велительный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бование, приказ, зак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2411280" y="2733840"/>
            <a:ext cx="4318200" cy="75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Нравственные пред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/>
          <p:cNvSpPr/>
          <p:nvPr/>
        </p:nvSpPr>
        <p:spPr>
          <a:xfrm>
            <a:off x="1943280" y="3778200"/>
            <a:ext cx="251928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Макс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6"/>
          <p:cNvSpPr/>
          <p:nvPr/>
        </p:nvSpPr>
        <p:spPr>
          <a:xfrm>
            <a:off x="4678200" y="3778200"/>
            <a:ext cx="2519640" cy="647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7"/>
          <p:cNvSpPr/>
          <p:nvPr/>
        </p:nvSpPr>
        <p:spPr>
          <a:xfrm>
            <a:off x="3309840" y="5289480"/>
            <a:ext cx="251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Гипотетические </a:t>
            </a:r>
            <a:br>
              <a:rPr sz="1600"/>
            </a:br>
            <a:r>
              <a:rPr b="1" lang="ru-RU" sz="1600" spc="-1" strike="noStrike">
                <a:solidFill>
                  <a:srgbClr val="a50021"/>
                </a:solidFill>
                <a:latin typeface="Arial"/>
              </a:rPr>
              <a:t>импера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8"/>
          <p:cNvSpPr/>
          <p:nvPr/>
        </p:nvSpPr>
        <p:spPr>
          <a:xfrm>
            <a:off x="6045120" y="5289480"/>
            <a:ext cx="251928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атегорически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мпер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9"/>
          <p:cNvSpPr/>
          <p:nvPr/>
        </p:nvSpPr>
        <p:spPr>
          <a:xfrm>
            <a:off x="3201840" y="363384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1943280" y="4425840"/>
            <a:ext cx="251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ичные принцип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678200" y="4425840"/>
            <a:ext cx="2519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езначи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едпис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3309840" y="6081840"/>
            <a:ext cx="2519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ловн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045120" y="6081840"/>
            <a:ext cx="2519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зуслов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ринцип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4"/>
          <p:cNvSpPr/>
          <p:nvPr/>
        </p:nvSpPr>
        <p:spPr>
          <a:xfrm>
            <a:off x="4570560" y="5145120"/>
            <a:ext cx="273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15"/>
          <p:cNvCxnSpPr/>
          <p:nvPr/>
        </p:nvCxnSpPr>
        <p:spPr>
          <a:xfrm>
            <a:off x="4572000" y="348912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6" name="AutoShape 16"/>
          <p:cNvCxnSpPr/>
          <p:nvPr/>
        </p:nvCxnSpPr>
        <p:spPr>
          <a:xfrm>
            <a:off x="320364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7" name="AutoShape 17"/>
          <p:cNvCxnSpPr/>
          <p:nvPr/>
        </p:nvCxnSpPr>
        <p:spPr>
          <a:xfrm>
            <a:off x="5938920" y="3633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8" name="AutoShape 18"/>
          <p:cNvCxnSpPr/>
          <p:nvPr/>
        </p:nvCxnSpPr>
        <p:spPr>
          <a:xfrm>
            <a:off x="5936760" y="500184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79" name="AutoShape 19"/>
          <p:cNvCxnSpPr/>
          <p:nvPr/>
        </p:nvCxnSpPr>
        <p:spPr>
          <a:xfrm>
            <a:off x="457200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380" name="AutoShape 20"/>
          <p:cNvCxnSpPr/>
          <p:nvPr/>
        </p:nvCxnSpPr>
        <p:spPr>
          <a:xfrm>
            <a:off x="7307280" y="514476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nodeType="clickEffect" fill="hold">
                      <p:stCondLst>
                        <p:cond delay="indefinite"/>
                      </p:stCondLst>
                      <p:childTnLst>
                        <p:par>
                          <p:cTn id="1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790560" y="2949480"/>
            <a:ext cx="7558200" cy="19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максима твоей вол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огла в то же время иметь силу принцип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го законода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1511280" y="5181480"/>
            <a:ext cx="611820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ай так, как если бы максима тво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тупка посредством твоей воли должн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а стать всеобщим законом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альная законосообраз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2625840" y="1798560"/>
            <a:ext cx="388620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формулиров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лагает запр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ступки, котор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ыслимы или невозмож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овершаем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ми людь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з ис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Thief (1)"/>
          <p:cNvPicPr/>
          <p:nvPr/>
        </p:nvPicPr>
        <p:blipFill>
          <a:blip r:embed="rId1"/>
          <a:stretch/>
        </p:blipFill>
        <p:spPr>
          <a:xfrm>
            <a:off x="7197840" y="1798560"/>
            <a:ext cx="1465200" cy="1979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8" descr="Thief (3)"/>
          <p:cNvPicPr/>
          <p:nvPr/>
        </p:nvPicPr>
        <p:blipFill>
          <a:blip r:embed="rId2"/>
          <a:stretch/>
        </p:blipFill>
        <p:spPr>
          <a:xfrm>
            <a:off x="539640" y="1798560"/>
            <a:ext cx="1320840" cy="1979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5" descr="Murder (3-ed)"/>
          <p:cNvPicPr/>
          <p:nvPr/>
        </p:nvPicPr>
        <p:blipFill>
          <a:blip r:embed="rId3"/>
          <a:stretch/>
        </p:blipFill>
        <p:spPr>
          <a:xfrm>
            <a:off x="539640" y="4497480"/>
            <a:ext cx="1979640" cy="17859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7" descr="Murder (3-ed)"/>
          <p:cNvPicPr/>
          <p:nvPr/>
        </p:nvPicPr>
        <p:blipFill>
          <a:blip r:embed="rId4"/>
          <a:stretch/>
        </p:blipFill>
        <p:spPr>
          <a:xfrm>
            <a:off x="6656400" y="4497480"/>
            <a:ext cx="1979640" cy="1757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8" descr="Cheat"/>
          <p:cNvPicPr/>
          <p:nvPr/>
        </p:nvPicPr>
        <p:blipFill>
          <a:blip r:embed="rId5"/>
          <a:stretch/>
        </p:blipFill>
        <p:spPr>
          <a:xfrm>
            <a:off x="3489480" y="4965840"/>
            <a:ext cx="2158920" cy="143352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nodeType="clickEffect" fill="hold">
                      <p:stCondLst>
                        <p:cond delay="0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1798560" y="1546200"/>
            <a:ext cx="554220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деи</a:t>
            </a:r>
            <a:br>
              <a:rPr sz="2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тегории, расширенные до безусловног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719280" y="3057480"/>
            <a:ext cx="180000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67020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6621480" y="3057480"/>
            <a:ext cx="1800360" cy="9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/>
          <p:cNvSpPr/>
          <p:nvPr/>
        </p:nvSpPr>
        <p:spPr>
          <a:xfrm>
            <a:off x="21600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слящег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316548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яда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я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9"/>
          <p:cNvSpPr/>
          <p:nvPr/>
        </p:nvSpPr>
        <p:spPr>
          <a:xfrm>
            <a:off x="6116760" y="3957480"/>
            <a:ext cx="280656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бсолют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динство услови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х предметов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ышления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3589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3309840" y="546876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ипотетичес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2"/>
          <p:cNvSpPr/>
          <p:nvPr/>
        </p:nvSpPr>
        <p:spPr>
          <a:xfrm>
            <a:off x="6261120" y="546876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аздел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тез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1619280" y="287820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14"/>
          <p:cNvCxnSpPr/>
          <p:nvPr/>
        </p:nvCxnSpPr>
        <p:spPr>
          <a:xfrm>
            <a:off x="4570560" y="269892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69" name="AutoShape 15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6"/>
          <p:cNvCxnSpPr/>
          <p:nvPr/>
        </p:nvCxnSpPr>
        <p:spPr>
          <a:xfrm>
            <a:off x="457056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1" name="Line 17"/>
          <p:cNvSpPr/>
          <p:nvPr/>
        </p:nvSpPr>
        <p:spPr>
          <a:xfrm>
            <a:off x="4570560" y="287820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8"/>
          <p:cNvCxnSpPr/>
          <p:nvPr/>
        </p:nvCxnSpPr>
        <p:spPr>
          <a:xfrm>
            <a:off x="752112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еловек как ц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790560" y="3057480"/>
            <a:ext cx="7558200" cy="280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ак, чтобы ты всегда относилс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 человечеству и в своём лице, и в лице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сякого другого также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икогда не относился бы к нему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олько как 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р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а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1" dur="indefinite" restart="never" nodeType="tmRoot">
          <p:childTnLst>
            <p:seq>
              <p:cTn id="1682" dur="indefinite" nodeType="mainSeq">
                <p:childTnLst>
                  <p:par>
                    <p:cTn id="1683" nodeType="clickEffect" fill="hold">
                      <p:stCondLst>
                        <p:cond delay="indefinite"/>
                      </p:stCondLst>
                      <p:childTnLst>
                        <p:par>
                          <p:cTn id="1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тегорический императи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номия в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"/>
          <p:cNvSpPr/>
          <p:nvPr/>
        </p:nvSpPr>
        <p:spPr>
          <a:xfrm>
            <a:off x="790560" y="3057480"/>
            <a:ext cx="755820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тупай только так, чтобы воля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лагодаря своей максиме могла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ссматривать самоё себя также как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станавливающую всеобщи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158920" y="1619280"/>
            <a:ext cx="4857840" cy="107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тья формулировка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тегорического импера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7" dur="indefinite" restart="never" nodeType="tmRoot">
          <p:childTnLst>
            <p:seq>
              <p:cTn id="1698" dur="indefinite" nodeType="mainSeq">
                <p:childTnLst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nodeType="clickEffect" fill="hold">
                      <p:stCondLst>
                        <p:cond delay="indefinite"/>
                      </p:stCondLst>
                      <p:childTnLst>
                        <p:par>
                          <p:cTn id="1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AutoShape 2"/>
          <p:cNvSpPr/>
          <p:nvPr/>
        </p:nvSpPr>
        <p:spPr>
          <a:xfrm>
            <a:off x="3489480" y="3525840"/>
            <a:ext cx="1079280" cy="503280"/>
          </a:xfrm>
          <a:prstGeom prst="righ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4570560" y="3525840"/>
            <a:ext cx="1079280" cy="503280"/>
          </a:xfrm>
          <a:prstGeom prst="leftArrow">
            <a:avLst>
              <a:gd name="adj1" fmla="val 50000"/>
              <a:gd name="adj2" fmla="val 536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тиномия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107964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5181480" y="233856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тремлени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 сч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3" dur="indefinite" restart="never" nodeType="tmRoot">
          <p:childTnLst>
            <p:seq>
              <p:cTn id="1714" dur="indefinite" nodeType="mainSeq">
                <p:childTnLst>
                  <p:par>
                    <p:cTn id="1715" nodeType="clickEffect" fill="hold">
                      <p:stCondLst>
                        <p:cond delay="0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32" dur="5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34" dur="5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7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1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20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стулаты практического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1690560" y="1798560"/>
            <a:ext cx="57578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остулаты практического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5"/>
          <p:cNvSpPr/>
          <p:nvPr/>
        </p:nvSpPr>
        <p:spPr>
          <a:xfrm>
            <a:off x="3309840" y="3454560"/>
            <a:ext cx="251964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вобод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6"/>
          <p:cNvSpPr/>
          <p:nvPr/>
        </p:nvSpPr>
        <p:spPr>
          <a:xfrm>
            <a:off x="62611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ж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3"/>
          <p:cNvSpPr/>
          <p:nvPr/>
        </p:nvSpPr>
        <p:spPr>
          <a:xfrm>
            <a:off x="1619280" y="316548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AutoShape 14"/>
          <p:cNvCxnSpPr/>
          <p:nvPr/>
        </p:nvCxnSpPr>
        <p:spPr>
          <a:xfrm>
            <a:off x="4570560" y="2877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15" name="AutoShape 15"/>
          <p:cNvCxnSpPr/>
          <p:nvPr/>
        </p:nvCxnSpPr>
        <p:spPr>
          <a:xfrm>
            <a:off x="1619280" y="3165480"/>
            <a:ext cx="216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6" name="Line 17"/>
          <p:cNvSpPr/>
          <p:nvPr/>
        </p:nvSpPr>
        <p:spPr>
          <a:xfrm>
            <a:off x="4570560" y="316548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AutoShape 18"/>
          <p:cNvCxnSpPr/>
          <p:nvPr/>
        </p:nvCxnSpPr>
        <p:spPr>
          <a:xfrm>
            <a:off x="7521120" y="3165480"/>
            <a:ext cx="2520" cy="28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8" name="AutoShape 4"/>
          <p:cNvSpPr/>
          <p:nvPr/>
        </p:nvSpPr>
        <p:spPr>
          <a:xfrm>
            <a:off x="358920" y="3454560"/>
            <a:ext cx="2519280" cy="125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смерти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9"/>
          <p:cNvSpPr/>
          <p:nvPr/>
        </p:nvSpPr>
        <p:spPr>
          <a:xfrm>
            <a:off x="3589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0"/>
          <p:cNvSpPr/>
          <p:nvPr/>
        </p:nvSpPr>
        <p:spPr>
          <a:xfrm>
            <a:off x="3309840" y="5037120"/>
            <a:ext cx="251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см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1"/>
          <p:cNvSpPr/>
          <p:nvPr/>
        </p:nvSpPr>
        <p:spPr>
          <a:xfrm>
            <a:off x="6261120" y="5037120"/>
            <a:ext cx="251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лог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015"/>
          <p:cNvPicPr/>
          <p:nvPr/>
        </p:nvPicPr>
        <p:blipFill>
          <a:blip r:embed="rId1"/>
          <a:stretch/>
        </p:blipFill>
        <p:spPr>
          <a:xfrm>
            <a:off x="1079640" y="1546200"/>
            <a:ext cx="2896920" cy="35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24" name="Picture 4" descr="ex00451b--2"/>
          <p:cNvPicPr/>
          <p:nvPr/>
        </p:nvPicPr>
        <p:blipFill>
          <a:blip r:embed="rId2"/>
          <a:stretch/>
        </p:blipFill>
        <p:spPr>
          <a:xfrm>
            <a:off x="5218200" y="1546200"/>
            <a:ext cx="2854080" cy="36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75760" y="272880"/>
            <a:ext cx="858996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практического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ий ит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/>
          <p:cNvSpPr/>
          <p:nvPr/>
        </p:nvSpPr>
        <p:spPr>
          <a:xfrm>
            <a:off x="504000" y="5176800"/>
            <a:ext cx="8136360" cy="1703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е вещи наполняют душу всегда новым и всё более силь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дивлением и благоговением, чем чаще и продолжительнее м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мышляем о них, – э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звёздное небо надо мной 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ный закон во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4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55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0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1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2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8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ая сх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6294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Идеал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0"/>
          <p:cNvSpPr/>
          <p:nvPr/>
        </p:nvSpPr>
        <p:spPr>
          <a:xfrm>
            <a:off x="45720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Антиномии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25146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аралогизмы чистого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457200" y="5167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алектические выводы раз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66294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45720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косм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25146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циональная 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457200" y="403704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етафизические на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6294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Б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45720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5146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457200" y="290520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разум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6294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45720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пот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5146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57200" y="177336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иды умозаклю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2"/>
          <p:cNvSpPr/>
          <p:nvPr/>
        </p:nvSpPr>
        <p:spPr>
          <a:xfrm>
            <a:off x="457200" y="1773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>
            <a:off x="457200" y="2905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>
            <a:off x="457200" y="4037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>
            <a:off x="457200" y="516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>
            <a:off x="457200" y="629928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7"/>
          <p:cNvSpPr/>
          <p:nvPr/>
        </p:nvSpPr>
        <p:spPr>
          <a:xfrm>
            <a:off x="4572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8"/>
          <p:cNvSpPr/>
          <p:nvPr/>
        </p:nvSpPr>
        <p:spPr>
          <a:xfrm>
            <a:off x="25146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9"/>
          <p:cNvSpPr/>
          <p:nvPr/>
        </p:nvSpPr>
        <p:spPr>
          <a:xfrm>
            <a:off x="45720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>
            <a:off x="6629400" y="177336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8686800" y="177336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лектические вывод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965840" y="2158920"/>
            <a:ext cx="341928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αντι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en-US" sz="2100" spc="-1" strike="noStrike">
                <a:solidFill>
                  <a:srgbClr val="00ff00"/>
                </a:solidFill>
                <a:latin typeface="Times New Roman"/>
              </a:rPr>
              <a:t>νο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μος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он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исключающ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е из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и доказа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790560" y="2158920"/>
            <a:ext cx="341964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100" spc="-1" strike="noStrike">
                <a:solidFill>
                  <a:srgbClr val="00ff00"/>
                </a:solidFill>
                <a:latin typeface="Times New Roman"/>
              </a:rPr>
              <a:t>παραλογισμος</a:t>
            </a:r>
            <a:r>
              <a:rPr b="1" lang="ru-RU" sz="1800" spc="-1" strike="noStrike">
                <a:solidFill>
                  <a:srgbClr val="00ff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авильное, лож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ж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ая ошиб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озаключ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сшедш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еднамерен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ледствие нару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ов и правил лог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19640" y="53323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ходящая в отношении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озможны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метам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457200" y="53323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19640" y="44276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численно-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ждествен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57200" y="44276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419640" y="3521160"/>
            <a:ext cx="52671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своему 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каче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а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57200" y="3521160"/>
            <a:ext cx="296244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419640" y="2616120"/>
            <a:ext cx="526716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ша ес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убстанция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57200" y="2616120"/>
            <a:ext cx="296244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419640" y="1711440"/>
            <a:ext cx="52671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ра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57200" y="1711440"/>
            <a:ext cx="296244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341964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6"/>
          <p:cNvSpPr/>
          <p:nvPr/>
        </p:nvSpPr>
        <p:spPr>
          <a:xfrm>
            <a:off x="5019840" y="5073480"/>
            <a:ext cx="661680" cy="1094040"/>
          </a:xfrm>
          <a:custGeom>
            <a:avLst/>
            <a:gdLst>
              <a:gd name="textAreaLeft" fmla="*/ 88560 w 661680"/>
              <a:gd name="textAreaRight" fmla="*/ 573120 w 661680"/>
              <a:gd name="textAreaTop" fmla="*/ 191520 h 1094040"/>
              <a:gd name="textAreaBottom" fmla="*/ 793440 h 109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логизмы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5002200" y="1582560"/>
            <a:ext cx="133200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"/>
          <p:cNvSpPr/>
          <p:nvPr/>
        </p:nvSpPr>
        <p:spPr>
          <a:xfrm>
            <a:off x="6837480" y="1582560"/>
            <a:ext cx="1331640" cy="13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еди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5"/>
          <p:cNvSpPr/>
          <p:nvPr/>
        </p:nvSpPr>
        <p:spPr>
          <a:xfrm>
            <a:off x="5002200" y="2733840"/>
            <a:ext cx="133200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6837480" y="2733840"/>
            <a:ext cx="1331640" cy="13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74000" y="1870200"/>
            <a:ext cx="29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тверение терм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8"/>
          <p:cNvCxnSpPr>
            <a:stCxn id="129" idx="6"/>
            <a:endCxn id="130" idx="2"/>
          </p:cNvCxnSpPr>
          <p:nvPr/>
        </p:nvCxnSpPr>
        <p:spPr>
          <a:xfrm>
            <a:off x="6334200" y="224928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135" name="AutoShape 9"/>
          <p:cNvCxnSpPr>
            <a:stCxn id="131" idx="6"/>
            <a:endCxn id="132" idx="2"/>
          </p:cNvCxnSpPr>
          <p:nvPr/>
        </p:nvCxnSpPr>
        <p:spPr>
          <a:xfrm>
            <a:off x="6334200" y="3400200"/>
            <a:ext cx="50400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36" name="Text Box 10"/>
          <p:cNvSpPr/>
          <p:nvPr/>
        </p:nvSpPr>
        <p:spPr>
          <a:xfrm>
            <a:off x="335160" y="4425840"/>
            <a:ext cx="3875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Философская ошибка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о апперцепции ест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альное условие опыта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не свойство душ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к вещи в себе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 пределами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4605480" y="4389480"/>
            <a:ext cx="305892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5684760" y="5505480"/>
            <a:ext cx="30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оянность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уши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сле смер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4893840" y="5522400"/>
            <a:ext cx="576360" cy="576720"/>
            <a:chOff x="4893840" y="5522400"/>
            <a:chExt cx="576360" cy="576720"/>
          </a:xfrm>
        </p:grpSpPr>
        <p:sp>
          <p:nvSpPr>
            <p:cNvPr id="140" name="Line 14"/>
            <p:cNvSpPr/>
            <p:nvPr/>
          </p:nvSpPr>
          <p:spPr>
            <a:xfrm flipH="1">
              <a:off x="4893840" y="552276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 flipH="1" flipV="1">
              <a:off x="4893840" y="5522400"/>
              <a:ext cx="576360" cy="5763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9436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учай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2004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57200" y="53323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д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9436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Необход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004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7200" y="44276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9436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Сло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2004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457200" y="352116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436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Бес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32004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он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457200" y="261612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3200400" y="1711440"/>
            <a:ext cx="54864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но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57200" y="1711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ды суждений и группы катего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57200" y="2616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457200" y="35211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457200" y="44276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57200" y="53323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3200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7"/>
          <p:cNvSpPr/>
          <p:nvPr/>
        </p:nvSpPr>
        <p:spPr>
          <a:xfrm>
            <a:off x="5943600" y="2616120"/>
            <a:ext cx="0" cy="362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5"/>
          <p:cNvSpPr/>
          <p:nvPr/>
        </p:nvSpPr>
        <p:spPr>
          <a:xfrm>
            <a:off x="3489480" y="4605480"/>
            <a:ext cx="1079280" cy="502920"/>
          </a:xfrm>
          <a:prstGeom prst="righ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7"/>
          <p:cNvSpPr/>
          <p:nvPr/>
        </p:nvSpPr>
        <p:spPr>
          <a:xfrm>
            <a:off x="4570560" y="4605480"/>
            <a:ext cx="1079280" cy="502920"/>
          </a:xfrm>
          <a:prstGeom prst="leftArrow">
            <a:avLst>
              <a:gd name="adj1" fmla="val 50000"/>
              <a:gd name="adj2" fmla="val 536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ансцендентальная диалек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номии чистого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028320" y="1638360"/>
            <a:ext cx="3207600" cy="5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18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ая антино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985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900760" y="2625840"/>
            <a:ext cx="1440000" cy="3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тит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1079640" y="341784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имеет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чало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(границу)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181480" y="3417840"/>
            <a:ext cx="288000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ир во времен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  в пространстве;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е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38" dur="5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0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3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19:25:27Z</dcterms:created>
  <dc:creator>Николай Бирюков / Nikolai Biryukov</dc:creator>
  <dc:description>Редакция мая 2006 г.</dc:description>
  <dc:language>en-US</dc:language>
  <cp:lastModifiedBy>LEGION</cp:lastModifiedBy>
  <dcterms:modified xsi:type="dcterms:W3CDTF">2014-11-11T12:39:01Z</dcterms:modified>
  <cp:revision>138</cp:revision>
  <dc:subject>Основы философии - Тема 14, часть 2</dc:subject>
  <dc:title>Кант: трансцендентальная диалектика и этика</dc:title>
</cp:coreProperties>
</file>