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CA1A-F5AA-40CC-9B99-FD6F5ED22C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4. Рынки ресурсов. Рынок земли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1 Рынок ресурсов и его особе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2. Оптимальное сочетание факторов производства и максимизация прибы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3. Земля как фактор производства. Рента и цена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Рынки ресурсов. Рынок земли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1 Рынок ресурсов и его особен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2. Оптимальное сочетание факторов производства и максимизация прибы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3. Земля как фактор производства. Рента и цена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использования ресурс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RC=MR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максимизировать прибыль фирма должна использовать дополнительные единицы любого данного вида ресурса до тех пор, пока каждая дополнительная единица дает прирост общего дохода фирмы, а не общих издерж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о использования ресурс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RC=MR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максимизировать прибыль фирма должна использовать дополнительные единицы любого данного вида ресурса до тех пор, пока каждая дополнительная единица дает прирост общего дохода фирмы, а не общих издерж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наименьших издержек в условиях совершенно конкурентных рынков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й рубль затраченный на каждый ресурс дает одинаковую отдачу, одинаковый предельный проду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о наименьших издержек в условиях совершенно конкурентных рынков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ний рубль затраченный на каждый ресурс дает одинаковую отдачу, одинаковый предельный проду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минимизации издержек в условиях несовершенно конкурентных рынков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о минимизации издержек в условиях несовершенно конкурентных рынков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максимизации прибыли условиях совершенно конкурентных рынков ресурсов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о максимизации прибыли условиях совершенно конкурентных рынков ресурсов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максимизации прибыли условиях несовершенно конкурентных рынков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о максимизации прибыли условиях несовершенно конкурентных рынков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на ресурс по ц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ывает степень количественного изменения величины спроса на ресурс при изменении цены на 1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ость спроса на ресурс по це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ывает степень количественного изменения величины спроса на ресурс при изменении цены на 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эластичность спроса на рес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и доступность на рынке ресурсов-замен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я ресурса в издержках фи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ируемый период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на продукт, изготавливаемый при помощи данного рес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рынка готовой прод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эластичность спроса на ресур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и доступность на рынке ресурсов-замен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я ресурса в издержках фи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ируемый период вре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ость спроса на продукт, изготавливаемый при помощи данного рес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рынка готовой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 как фактор производ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нта и цена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 как фактор производ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нта и цена зем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емля» в экономической теории - все естественные ресурсы (плодородная почва, запасы пресной воды, месторождение ископаемы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ь земли как экономического ресурса - ее огранич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Земля» в экономической теории - все естественные ресурсы (плодородная почва, запасы пресной воды, месторождение ископаемы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ь земли как экономического ресурса - ее огранич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земл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ет два основных элемента — сельскохозяйственный и несельскохозяйствен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вая сельскохозяйственного и несельскохозяйственного спроса на землю имеет отрицательный накл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зем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ает два основных элемента — сельскохозяйственный и несельскохозяйственный 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вая сельскохозяйственного и несельскохозяйственного спроса на землю имеет отрицательный накл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ресурсов и его 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ресурсов и его особ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ьскохозяйственный спрос складывается из спроса на продукцию растениеводства, животноводства 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ывает уровень плодородия почвы и возможности его повышения, а также местоположение — степень удаленности от центров потребления продовольствия и сыр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льскохозяйственный спрос складывается из спроса на продукцию растениеводства, животноводства и т. 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ывает уровень плодородия почвы и возможности его повышения, а также местоположение — степень удаленности от центров потребления продовольствия и сыр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ельскохозяйственный спрос состоит из спроса на землю для строительства жилья, объектов инфраструктуры, из промышленного спроса, из инфляционного спроса на зем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ое для несельскохозяйственного спроса — местоположение земельных участ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ельскохозяйственный спрос состоит из спроса на землю для строительства жилья, объектов инфраструктуры, из промышленного спроса, из инфляционного спроса на зем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ое для несельскохозяйственного спроса — местоположение земельных участ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нта и цена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рента  — это плата за ресурс, предложение которого строго ограниче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лучай экономической ренты – зем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ая рента — это плата за использование земли и других природных ресурсов, предложение которых строго ограниче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нта и цена зем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рента  — это плата за ресурс, предложение которого строго ограниче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ый случай экономической ренты – зем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ельная рента — это плата за использование земли и других природных ресурсов, предложение которых строго ограничен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земельной р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ая (чистая) р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ференциальная р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земельной ре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бсолютная (чистая) р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фференциальная р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ая - рента с наихудшего (предельного) участка земли. Это тот минимум, который должен уплатить всякий аренда­тор за право пользования чужим участком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бсолютная - рента с наихудшего (предельного) участка земли. Это тот минимум, который должен уплатить всякий аренда­тор за право пользования чужим участком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ференциальная рента – это доход, полученный в результате использования ресурсов (с неэластичным предложением) более высокой производительности в ситуации ранжирования этих ресурсов по плодородию и местополож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фференциальная рента – это доход, полученный в результате использования ресурсов (с неэластичным предложением) более высокой производительности в ситуации ранжирования этих ресурсов по плодородию и местополож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Графический 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R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R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D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D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Q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Графически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земельного участка представляет капитализированную ренту – ренту, превращенную в капита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земельного участка есть сегодняшняя суммарная ценность всех будущих арендных платежей, которые земельный участок способен прине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зем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земельного участка представляет капитализированную ренту – ренту, превращенную в капита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земельного участка есть сегодняшняя суммарная ценность всех будущих арендных платежей, которые земельный участок способен прине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само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едставляют собой ресурсы, и в чем отличие понятия ресурсы от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особенности формирования спроса на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м суть правила наименьших издержек и максимизации прибы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особенности рынка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ая рента называется дифференциаль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пределяется цена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самоконтр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редставляют собой ресурсы, и в чем отличие понятия ресурсы от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овите особенности формирования спроса на ресур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чем суть правила наименьших издержек и максимизации при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ы особенности рынка зем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ая рента называется дифференциаль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определяется цена зем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урсы – это природные и социальные силы, которые могут быть вовлечены в производство или использованы для удовлетворения потребностей в форме непосредственного участия в производ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 – экономическая категория, означающая уже реально вовлеченные в процесс производства ресур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сурсы – это природные и социальные силы, которые могут быть вовлечены в производство или использованы для удовлетворения потребностей в форме непосредственного участия в производ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 – экономическая категория, означающая уже реально вовлеченные в процесс производства ресур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рынка факторов производ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ющие на рынке ресурсов цены обуславливают уровень экономических издержек всех действующих пред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факторы производства являются важнейшим фактором формирования денежных доходов домохозяйст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льное функционирование рынка факторов производства способствует эффективному распределению экономических ресурсов между экономическими субъек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е рынка факторов производ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щие на рынке ресурсов цены обуславливают уровень экономических издержек всех действующих предприят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факторы производства являются важнейшим фактором формирования денежных доходов домохозяйст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льное функционирование рынка факторов производства способствует эффективному распределению экономических ресурсов между экономическими субъект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ресурсы зависит от следующих факт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а  и цен на готовую  продукцию, изготавливаемую фирмой при помощи данного ресурса, таким образом носит производ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ельности рес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 на рес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ы предельного дохода фирмы (M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 на други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ресурсы зависит от следующих фактор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а  и цен на готовую  продукцию, изготавливаемую фирмой при помощи данного ресурса, таким образом носит производн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ительности рес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 на ресур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ы предельного дохода фирмы (M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 на другие ресур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мальное сочетание факторов производства и максимизация прибы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ое сочетание факторов производства и максимизация при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ьный продукт в денежном выражении или предельная доходность ресур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ст дохода фирмы за счет дополнительной единицы данного рес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RPрес = MPрес х M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RPрес – предельная доходность ресур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Pрес – предельный продукт ресур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R – предельный доход 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ьный продукт в денежном выражении или предельная доходность ресур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ст дохода фирмы за счет дополнительной единицы данного рес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RPрес = MPрес х 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RPрес – предельная доходность ресурс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Pрес – предельный продукт ресурс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R – предельный доход 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овершенно конкурентных фир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RPрес = MPрес х 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Р – цена единицы прод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овершенно конкурентных фир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RPрес = MPрес х 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Р – цена единицы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ьные издержки ресур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ст издержек за счет введения в производство дополнительной единицы переменного рес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RC рес = MPрес х МС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RСрес – предельные издержки ресур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Pрес – предельный продукт ресур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С – предельные издержки 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ьные издержки ресур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ст издержек за счет введения в производство дополнительной единицы переменного рес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RC рес = MPрес х МС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RСрес – предельные издержки ресурс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Pрес – предельный продукт ресурс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С – предельные издержки 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EBD0-7D6F-4BCF-BC99-64FAA2E2E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85C7-A2CD-4706-A004-729D88E5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D8F4-7397-45E4-9204-C2DE194EA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BF86-E3DE-4853-B963-4A162296B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C7D9-041D-47A5-A766-846719C2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9660-B8C9-468A-8CB8-982B4FFE0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D6B7-A3D2-47B7-96D1-15B39879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D250-8BAA-4C5E-A505-6EA15A0F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6B0A-FDAE-4D11-BAF1-0BC7C838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D50E-B562-45C0-A7CF-F7FF6425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8C90-D3D8-4A1F-83A4-325D192E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49DE-479C-42F5-A6ED-64EE9487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7E94-6878-4FBF-96A6-12479D43F77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7039-9AB2-4A7E-BFD3-561E631A1F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3" descr="4.jpg"/>
          <p:cNvPicPr/>
          <p:nvPr/>
        </p:nvPicPr>
        <p:blipFill>
          <a:blip r:embed="rId1"/>
          <a:stretch/>
        </p:blipFill>
        <p:spPr>
          <a:xfrm>
            <a:off x="-1044720" y="0"/>
            <a:ext cx="10531800" cy="8424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Tahoma"/>
                <a:ea typeface="Tahoma"/>
              </a:rPr>
              <a:t>Тема 4. Рынки ресурсов. Рынок земли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324000" y="1974960"/>
            <a:ext cx="835164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76092"/>
                </a:solidFill>
                <a:latin typeface="Tahoma"/>
                <a:ea typeface="Tahoma"/>
              </a:rPr>
              <a:t>4.1 Рынок ресурсов и его особенност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76092"/>
                </a:solidFill>
                <a:latin typeface="Tahoma"/>
                <a:ea typeface="Tahoma"/>
              </a:rPr>
              <a:t>4.2. Оптимальное сочетание факторов производства и максимизация прибы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76092"/>
                </a:solidFill>
                <a:latin typeface="Tahoma"/>
                <a:ea typeface="Tahoma"/>
              </a:rPr>
              <a:t>4.3. Земля как фактор производства. Рента и цена зем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Правило использования ресурсов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М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RC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MR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Чтобы максимизировать прибыль фирма должна использовать дополнительные единицы любого данного вида ресурса до тех пор, пока каждая дополнительная единица дает прирост общего дохода фирмы, а не общих издержек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равило наименьших издержек в условиях совершенно конкурентных рынков ресур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9640" y="1988640"/>
            <a:ext cx="81360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едний рубль затраченный на каждый ресурс дает одинаковую отдачу, одинаковый предельный проду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2"/>
              <p:cNvSpPr txBox="1"/>
              <p:nvPr/>
            </p:nvSpPr>
            <p:spPr>
              <a:xfrm>
                <a:off x="1692360" y="3933720"/>
                <a:ext cx="5456160" cy="232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Правило минимизации издержек в условиях несовершенно конкурентных рынков ресурс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2"/>
              <p:cNvSpPr txBox="1"/>
              <p:nvPr/>
            </p:nvSpPr>
            <p:spPr>
              <a:xfrm>
                <a:off x="1727280" y="2781360"/>
                <a:ext cx="5653080" cy="24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C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равило максимизации прибыли условиях совершенно конкурентных рынков ресурсов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2"/>
              <p:cNvSpPr txBox="1"/>
              <p:nvPr/>
            </p:nvSpPr>
            <p:spPr>
              <a:xfrm>
                <a:off x="1332000" y="2781360"/>
                <a:ext cx="6092640" cy="24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равило максимизации прибыли условиях несовершенно конкурентных рынков ресур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000" y="2133720"/>
            <a:ext cx="821844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2"/>
              <p:cNvSpPr txBox="1"/>
              <p:nvPr/>
            </p:nvSpPr>
            <p:spPr>
              <a:xfrm>
                <a:off x="1763640" y="2781360"/>
                <a:ext cx="5904000" cy="23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C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Эластичность спроса на ресурс по цен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казывает степень количественного изменения величины спроса на ресурс при изменении цены на 1%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2"/>
              <p:cNvSpPr txBox="1"/>
              <p:nvPr/>
            </p:nvSpPr>
            <p:spPr>
              <a:xfrm>
                <a:off x="1476360" y="3429000"/>
                <a:ext cx="6167520" cy="18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: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Факторы, влияющие на эластичность спроса на ресур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ahoma"/>
              </a:rPr>
              <a:t>Наличие и доступность на рынке ресурсов-замен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ahoma"/>
              </a:rPr>
              <a:t>Доля ресурса в издержках фир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ahoma"/>
              </a:rPr>
              <a:t>Анализируемый период врем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ahoma"/>
              </a:rPr>
              <a:t>Эластичность спроса на продукт, изготавливаемый при помощи данного рес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ahoma"/>
              </a:rPr>
              <a:t>Структура рынка готовой продук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Tahoma"/>
                <a:ea typeface="Tahoma"/>
              </a:rPr>
              <a:t>Земля как фактор производства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Tahoma"/>
                <a:ea typeface="Tahoma"/>
              </a:rPr>
              <a:t>Рента и цена зем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39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Земля» в экономической теории - все естественные ресурсы (плодородная почва, запасы пресной воды, месторождение ископаемых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обенность земли как экономического ресурса - ее ограничен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  <a:ea typeface="Tahoma"/>
              </a:rPr>
              <a:t>Спрос на земл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ключает два основных элемента — сельскохозяйственный и несельскохозяйственный спро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ивая сельскохозяйственного и несельскохозяйственного спроса на землю имеет отрицательный накл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Tahoma"/>
                <a:ea typeface="Tahoma"/>
              </a:rPr>
              <a:t>Рынок ресурсов и его особен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льскохозяйственный спрос складывается из спроса на продукцию растениеводства, животноводства и т. д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ывает уровень плодородия почвы и возможности его повышения, а также местоположение — степень удаленности от центров потребления продовольствия и сырь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39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сельскохозяйственный спрос состоит из спроса на землю для строительства жилья, объектов инфраструктуры, из промышленного спроса, из инфляционного спроса на земл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ое для несельскохозяйственного спроса — местоположение земельных участ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  <a:ea typeface="Tahoma"/>
              </a:rPr>
              <a:t>Рента и цена зем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кономическая рента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— это плата за ресурс, предложение которого строго ограниче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астный случай экономической ренты – земель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емельная рент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— это плата за использование земли и других природных ресурсов, предложение которых строго ограничен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  <a:ea typeface="Tahoma"/>
              </a:rPr>
              <a:t>Формы земельной рен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абсолютная (чистая) рент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дифференциальная рент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-2700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бсолютная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рента с наихудшего (предельного) участка земли. Это тот минимум, который должен уплатить всякий аренда­тор за право пользования чужим участком земл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ифференциальная рент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это доход, полученный в результате использования ресурсов (с неэластичным предложением) более высокой производительности в ситуации ранжирования этих ресурсов по плодородию и местоположен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  <a:ea typeface="Tahoma"/>
              </a:rPr>
              <a:t>Графический анали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1" name="Прямая со стрелкой 4"/>
          <p:cNvCxnSpPr/>
          <p:nvPr/>
        </p:nvCxnSpPr>
        <p:spPr>
          <a:xfrm>
            <a:off x="2626920" y="5229360"/>
            <a:ext cx="5041080" cy="2160"/>
          </a:xfrm>
          <a:prstGeom prst="straightConnector1">
            <a:avLst/>
          </a:prstGeom>
          <a:ln w="3168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162" name="Прямая со стрелкой 6"/>
          <p:cNvCxnSpPr/>
          <p:nvPr/>
        </p:nvCxnSpPr>
        <p:spPr>
          <a:xfrm flipV="1">
            <a:off x="2626200" y="1773000"/>
            <a:ext cx="2520" cy="3456720"/>
          </a:xfrm>
          <a:prstGeom prst="straightConnector1">
            <a:avLst/>
          </a:prstGeom>
          <a:ln w="3168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163" name="Прямая соединительная линия 16"/>
          <p:cNvSpPr/>
          <p:nvPr/>
        </p:nvSpPr>
        <p:spPr>
          <a:xfrm>
            <a:off x="4716360" y="1916280"/>
            <a:ext cx="0" cy="3313080"/>
          </a:xfrm>
          <a:prstGeom prst="line">
            <a:avLst/>
          </a:prstGeom>
          <a:ln w="316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ая соединительная линия 30"/>
          <p:cNvSpPr/>
          <p:nvPr/>
        </p:nvSpPr>
        <p:spPr>
          <a:xfrm>
            <a:off x="3348000" y="2060640"/>
            <a:ext cx="3024360" cy="15843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ая соединительная линия 32"/>
          <p:cNvSpPr/>
          <p:nvPr/>
        </p:nvSpPr>
        <p:spPr>
          <a:xfrm>
            <a:off x="3059280" y="2637000"/>
            <a:ext cx="3097080" cy="15127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4"/>
          <p:cNvSpPr/>
          <p:nvPr/>
        </p:nvSpPr>
        <p:spPr>
          <a:xfrm>
            <a:off x="2843280" y="3213000"/>
            <a:ext cx="3024000" cy="1440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40"/>
          <p:cNvSpPr/>
          <p:nvPr/>
        </p:nvSpPr>
        <p:spPr>
          <a:xfrm>
            <a:off x="2916360" y="4653000"/>
            <a:ext cx="1726920" cy="8064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2"/>
          <p:cNvSpPr/>
          <p:nvPr/>
        </p:nvSpPr>
        <p:spPr>
          <a:xfrm>
            <a:off x="2198520" y="17002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44"/>
          <p:cNvSpPr/>
          <p:nvPr/>
        </p:nvSpPr>
        <p:spPr>
          <a:xfrm>
            <a:off x="2198880" y="256536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R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5"/>
          <p:cNvSpPr/>
          <p:nvPr/>
        </p:nvSpPr>
        <p:spPr>
          <a:xfrm>
            <a:off x="2198880" y="386064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R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6"/>
          <p:cNvSpPr/>
          <p:nvPr/>
        </p:nvSpPr>
        <p:spPr>
          <a:xfrm>
            <a:off x="2198880" y="321300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R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48"/>
          <p:cNvSpPr/>
          <p:nvPr/>
        </p:nvSpPr>
        <p:spPr>
          <a:xfrm>
            <a:off x="5799600" y="2997360"/>
            <a:ext cx="4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D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50"/>
          <p:cNvSpPr/>
          <p:nvPr/>
        </p:nvSpPr>
        <p:spPr>
          <a:xfrm>
            <a:off x="5799600" y="3645000"/>
            <a:ext cx="4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D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51"/>
          <p:cNvSpPr/>
          <p:nvPr/>
        </p:nvSpPr>
        <p:spPr>
          <a:xfrm>
            <a:off x="5728320" y="4292640"/>
            <a:ext cx="4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D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52"/>
          <p:cNvSpPr/>
          <p:nvPr/>
        </p:nvSpPr>
        <p:spPr>
          <a:xfrm>
            <a:off x="3924360" y="4653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D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53"/>
          <p:cNvSpPr/>
          <p:nvPr/>
        </p:nvSpPr>
        <p:spPr>
          <a:xfrm>
            <a:off x="4790160" y="191628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54"/>
          <p:cNvSpPr/>
          <p:nvPr/>
        </p:nvSpPr>
        <p:spPr>
          <a:xfrm>
            <a:off x="7455240" y="530064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56"/>
          <p:cNvSpPr/>
          <p:nvPr/>
        </p:nvSpPr>
        <p:spPr>
          <a:xfrm flipH="1">
            <a:off x="2627280" y="4149720"/>
            <a:ext cx="2016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60"/>
          <p:cNvSpPr/>
          <p:nvPr/>
        </p:nvSpPr>
        <p:spPr>
          <a:xfrm flipH="1">
            <a:off x="2626920" y="3500280"/>
            <a:ext cx="208908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62"/>
          <p:cNvSpPr/>
          <p:nvPr/>
        </p:nvSpPr>
        <p:spPr>
          <a:xfrm flipH="1">
            <a:off x="2626920" y="2781360"/>
            <a:ext cx="208908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67"/>
          <p:cNvSpPr/>
          <p:nvPr/>
        </p:nvSpPr>
        <p:spPr>
          <a:xfrm>
            <a:off x="4647960" y="522936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Q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69"/>
          <p:cNvSpPr/>
          <p:nvPr/>
        </p:nvSpPr>
        <p:spPr>
          <a:xfrm>
            <a:off x="4719960" y="3789360"/>
            <a:ext cx="4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79646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70"/>
          <p:cNvSpPr/>
          <p:nvPr/>
        </p:nvSpPr>
        <p:spPr>
          <a:xfrm>
            <a:off x="4791600" y="3068640"/>
            <a:ext cx="4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79646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71"/>
          <p:cNvSpPr/>
          <p:nvPr/>
        </p:nvSpPr>
        <p:spPr>
          <a:xfrm>
            <a:off x="4719960" y="2421000"/>
            <a:ext cx="4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79646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  <a:ea typeface="Tahoma"/>
              </a:rPr>
              <a:t>Цена зем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на земельного участк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ставляет капитализированную ренту – ренту, превращенную в капита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на земельного участ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есть сегодняшняя суммарная ценность всех будущих арендных платежей, которые земельный участок способен прине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2"/>
              <p:cNvSpPr txBox="1"/>
              <p:nvPr/>
            </p:nvSpPr>
            <p:spPr>
              <a:xfrm>
                <a:off x="611280" y="1773360"/>
                <a:ext cx="808344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земли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рента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годовая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ставка ссудног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процента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3"/>
              <p:cNvSpPr txBox="1"/>
              <p:nvPr/>
            </p:nvSpPr>
            <p:spPr>
              <a:xfrm>
                <a:off x="684360" y="4221000"/>
                <a:ext cx="792000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земли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размер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арендной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латы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величина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ссудног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процента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  <a:ea typeface="Tahoma"/>
              </a:rPr>
              <a:t>Вопросы для самоконтрол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то представляют собой ресурсы, и в чем отличие понятия ресурсы от факторов производст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зовите особенности формирования спроса на ресурс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чем суть правила наименьших издержек и максимизации прибыл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овы особенности рынка земл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ая рента называется дифференциально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 определяется цена земл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Ресурсы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это природные и социальные силы, которые могут быть вовлечены в производство или использованы для удовлетворения потребностей в форме непосредственного участия в производств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Факторы производств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экономическая категория, означающая уже реально вовлеченные в процесс производства ресурс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Значение рынка факторов производств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ществующие на рынке ресурсов цены обуславливают уровень экономических издержек всех действующих предприят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ны на факторы производства являются важнейшим фактором формирования денежных доходов домохозяйст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рмальное функционирование рынка факторов производства способствует эффективному распределению экономических ресурсов между экономическими субъект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прос на ресурсы зависит от следующих фактор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проса  и цен на готовую  продукцию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изготавливаемую фирмой при помощи данного ресурса, таким образом носит производный характ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роизводительности ресур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цен на ресур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еличины предельного дохода фирмы (M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цен на другие ресур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Tahoma"/>
                <a:ea typeface="Tahoma"/>
              </a:rPr>
              <a:t> </a:t>
            </a:r>
            <a:r>
              <a:rPr b="1" lang="ru-RU" sz="4400" spc="-1" strike="noStrike">
                <a:solidFill>
                  <a:srgbClr val="376092"/>
                </a:solidFill>
                <a:latin typeface="Tahoma"/>
                <a:ea typeface="Tahoma"/>
              </a:rPr>
              <a:t>Оптимальное сочетание факторов производства и максимизация прибы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Предельный продукт в денежном выражении или предельная доходность ресурс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рост дохода фирмы за счет дополнительной единицы данного рес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R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рес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рес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х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P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ре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редельная доходность ресурс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P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ре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редельный продукт ресурс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редельный доход фирм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совершенно конкурентных фир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R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рес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рес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х 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где Р – цена единицы продук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едельные издержки ресурс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рост издержек за счет введения в производство дополнительной единицы переменного рес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RC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 рес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=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M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рес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х МС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ре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редельные издержки ресурс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P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ре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редельный продукт ресурс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– предельные издержки фирм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ublic access user</dc:creator>
  <dc:description/>
  <dc:language>en-US</dc:language>
  <cp:lastModifiedBy>LEGION</cp:lastModifiedBy>
  <dcterms:modified xsi:type="dcterms:W3CDTF">2016-01-04T13:42:51Z</dcterms:modified>
  <cp:revision>4</cp:revision>
  <dc:subject/>
  <dc:title>Тема 4. Рынки ресурсов. Рынок земли</dc:title>
</cp:coreProperties>
</file>