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2D41-7236-4A40-B2FC-8FE888AA0AB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мплексное исследование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ма 5. Комплексное исследование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исследования рынка может быть сформулировано как ответы на следующие вопро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ы продаем ( или анализ товаров ил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у продаем (или анализ покуп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и что мешает нам продавать (или изучение и анализ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вы условия и случайности, с которыми мы можем столкнуть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можно увеличить сбыт товаров (или изучение путей и средств расширения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одержание исследования рынка может быть сформулировано как ответы на следующие вопрос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что мы продаем ( или анализ товаров ил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му продаем (или анализ покупателе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то и что мешает нам продавать (или изучение и анализ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овы условия и случайности, с которыми мы можем столкнутьс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как и любое маркетинговое, состоит из основных этап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ыявление проблемы и формулирование целей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тбор источников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бор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из собран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едставление получен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хема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как и любое маркетинговое, состоит из основных этап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выявление проблемы и формулирование целей исследовани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отбор источников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сбор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анализ собранной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представление полученных результа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ющие методы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ц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риминант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тер -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омерное шкал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уществующие методы анализ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ариац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искриминант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Фактор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ластер -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ногомерное шкалировани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ды прогноза классифицируются по различным критер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и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траполяция трен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ы на основе инд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ьфи-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цена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Методы прогноза классифицируются по различным критерия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ли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Экстраполяция тренд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огнозы на основе индикато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ельфи-метод</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ценар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тносится к  маркетинговым исслед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может быть по двум направл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тносится к  маркетинговым исследова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может быть по двум направле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направление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роцессов, протекающих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ребителя и его требований к тов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ъюнктуры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емкости рынка и дол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ервое направление включает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роцессов, протекающих на рынк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вар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ребителя и его требований к товару</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ъюнктуры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пределение емкости рынка и доли фирм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е направление включа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условий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енциальных партн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рговых шан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торое направление включает:</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условий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енциальных партне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рговых шанс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63CD7-2650-4347-829D-54E5105BB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5BCC1-70A6-49F0-9663-48F6FD91A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57F85-EB69-4F90-8C80-BC4107A66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883E5-1499-4531-8E48-E71C3352F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07AFD-5D7E-4FB8-A0F0-2096C2B61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96621-2AE6-42D1-9524-57290CA84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549AC-0925-44D1-9E2D-1AE7F3035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1A429-5EC0-4B3D-A231-0EBFE8D91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671D0-AEF2-4AAA-A533-6BD154E68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C9511-F06F-4C06-AC0B-B6C1A4632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4D264-1AC4-490F-9D53-DF82E7E61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FC480-EFC9-4F02-A46A-16CD006F6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6CAC9-6510-473C-A24C-65E4E7398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5423E-759A-4F9E-9DEB-8460DE4C8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C7C57-7BA9-42C6-B32B-2E891C37B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41553-B57A-4BEE-ABCD-67A99624D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72BDB-9E4E-4A7F-94E7-52E8BDE45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06517-BEEB-4C38-93F1-3082F4F5D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8CCEB-6AD8-40A2-AE11-8BA86F08E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DBC93-2947-482F-A30C-65040821D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05E15-1E8E-4EE7-BCAA-3AC6598EB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144D3-9AB1-409E-9857-B56519DFD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78E4B-B821-409B-9016-708950BBD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3281A-6787-46E3-BA5E-B05350FB1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AC74-3C60-4E7A-8AD1-3CA9F8A6A094}"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Times New Roman"/>
              </a:rPr>
              <a:t>www.sliderpoint.or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9314-EAC8-4B98-970B-821FFA5B0774}"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Arial"/>
              </a:rPr>
              <a:t>Тема 5. Комплексное исследование рынка товаров и услуг</a:t>
            </a:r>
            <a:r>
              <a:rPr b="1" lang="ru-RU" sz="3600" spc="-1" strike="noStrike">
                <a:solidFill>
                  <a:srgbClr val="003366"/>
                </a:solidFill>
                <a:latin typeface="Arial"/>
              </a:rPr>
              <a:t> </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6666"/>
              </a:solidFill>
              <a:latin typeface="Arial"/>
            </a:endParaRPr>
          </a:p>
        </p:txBody>
      </p:sp>
      <p:sp>
        <p:nvSpPr>
          <p:cNvPr id="10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одержание исследования рынка может быть сформулировано как ответы на следующие вопросы</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что мы продаем ( или анализ товаров или услуг)</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ому продаем (или анализ покупателей)</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то и что мешает нам продавать (или изучение и анализ конкурентов)</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овы условия и случайности, с которыми мы можем столкнутьс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2000" spc="-1" strike="noStrike">
              <a:solidFill>
                <a:srgbClr val="003366"/>
              </a:solidFill>
              <a:latin typeface="Arial"/>
            </a:endParaRPr>
          </a:p>
        </p:txBody>
      </p:sp>
      <p:sp>
        <p:nvSpPr>
          <p:cNvPr id="131"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Схема исследования рынка</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a:t>
            </a:r>
            <a:r>
              <a:rPr b="0" lang="en-US" sz="2400" spc="-1" strike="noStrike">
                <a:solidFill>
                  <a:srgbClr val="003366"/>
                </a:solidFill>
                <a:latin typeface="Arial"/>
              </a:rPr>
              <a:t>,</a:t>
            </a:r>
            <a:r>
              <a:rPr b="0" lang="ru-RU" sz="2400" spc="-1" strike="noStrike">
                <a:solidFill>
                  <a:srgbClr val="003366"/>
                </a:solidFill>
                <a:latin typeface="Arial"/>
              </a:rPr>
              <a:t> как и любое маркетинговое, состоит из основных этапов</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ru-RU" sz="2400" spc="-1" strike="noStrike">
                <a:solidFill>
                  <a:srgbClr val="003366"/>
                </a:solidFill>
                <a:latin typeface="Arial"/>
              </a:rPr>
              <a:t>выявление проблемы и формулирование целей исследования</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отбор источников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сбор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анализ собранной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представление полученных результатов</a:t>
            </a:r>
            <a:endParaRPr b="0" lang="en-US" sz="2400" spc="-1" strike="noStrike">
              <a:solidFill>
                <a:srgbClr val="003366"/>
              </a:solidFill>
              <a:latin typeface="Arial"/>
            </a:endParaRPr>
          </a:p>
        </p:txBody>
      </p:sp>
      <p:sp>
        <p:nvSpPr>
          <p:cNvPr id="13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Существующие методы анализа</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егресс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ариац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Дискриминант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Фактор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Кластер - анали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Многомерное шкалирование</a:t>
            </a:r>
            <a:endParaRPr b="0" lang="en-US" sz="2800" spc="-1" strike="noStrike">
              <a:solidFill>
                <a:srgbClr val="003366"/>
              </a:solidFill>
              <a:latin typeface="Arial"/>
            </a:endParaRPr>
          </a:p>
        </p:txBody>
      </p:sp>
      <p:sp>
        <p:nvSpPr>
          <p:cNvPr id="13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Методы прогноза классифицируются по различным критериям</a:t>
            </a:r>
            <a:r>
              <a:rPr b="0" lang="en-US" sz="2400" spc="-1" strike="noStrike">
                <a:solidFill>
                  <a:srgbClr val="003366"/>
                </a:solidFill>
                <a:latin typeface="Arial"/>
              </a:rPr>
              <a:t>:</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ли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Экстраполяция тренд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огнозы на основе индикаторов</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Регрессионный анализ</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Дельфи-метод</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ценарии</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сследование рынка</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относится к  маркетинговым исследованиям</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может быть по двум направлениям.</a:t>
            </a:r>
            <a:endParaRPr b="0" lang="en-US" sz="2800" spc="-1" strike="noStrike">
              <a:solidFill>
                <a:srgbClr val="003366"/>
              </a:solidFill>
              <a:latin typeface="Arial"/>
            </a:endParaRPr>
          </a:p>
        </p:txBody>
      </p:sp>
      <p:sp>
        <p:nvSpPr>
          <p:cNvPr id="10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ервое направление включает </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роцессов, протекающих на рынке</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товар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отребителя и его требований к товару</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конъюнктуры рынк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Определение емкости рынка и доли фирмы</a:t>
            </a:r>
            <a:endParaRPr b="0" lang="en-US" sz="2400" spc="-1" strike="noStrike">
              <a:solidFill>
                <a:srgbClr val="003366"/>
              </a:solidFill>
              <a:latin typeface="Arial"/>
            </a:endParaRPr>
          </a:p>
        </p:txBody>
      </p:sp>
      <p:sp>
        <p:nvSpPr>
          <p:cNvPr id="11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торое направление включает</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условий рынка</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конкурент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потенциальных партнер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торговых шансов</a:t>
            </a:r>
            <a:endParaRPr b="0" lang="en-US" sz="2800" spc="-1" strike="noStrike">
              <a:solidFill>
                <a:srgbClr val="003366"/>
              </a:solidFill>
              <a:latin typeface="Arial"/>
            </a:endParaRPr>
          </a:p>
        </p:txBody>
      </p:sp>
      <p:sp>
        <p:nvSpPr>
          <p:cNvPr id="11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endParaRPr b="1" lang="en-US" sz="24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2000" spc="-1" strike="noStrike">
              <a:solidFill>
                <a:srgbClr val="003366"/>
              </a:solidFill>
              <a:latin typeface="Arial"/>
            </a:endParaRPr>
          </a:p>
        </p:txBody>
      </p:sp>
      <p:sp>
        <p:nvSpPr>
          <p:cNvPr id="119"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2400" spc="-1" strike="noStrike">
              <a:solidFill>
                <a:srgbClr val="003366"/>
              </a:solidFill>
              <a:latin typeface="Arial"/>
            </a:endParaRPr>
          </a:p>
        </p:txBody>
      </p:sp>
      <p:sp>
        <p:nvSpPr>
          <p:cNvPr id="122"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 </a:t>
            </a:r>
            <a:r>
              <a:rPr b="1" lang="ru-RU" sz="18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800" spc="-1" strike="noStrike">
              <a:solidFill>
                <a:srgbClr val="003366"/>
              </a:solidFill>
              <a:latin typeface="Arial"/>
            </a:endParaRPr>
          </a:p>
        </p:txBody>
      </p:sp>
      <p:sp>
        <p:nvSpPr>
          <p:cNvPr id="12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2000" spc="-1" strike="noStrike">
              <a:solidFill>
                <a:srgbClr val="003366"/>
              </a:solidFill>
              <a:latin typeface="Arial"/>
            </a:endParaRPr>
          </a:p>
        </p:txBody>
      </p:sp>
      <p:sp>
        <p:nvSpPr>
          <p:cNvPr id="128"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7T20:12:38Z</dcterms:created>
  <dc:creator>ToXa</dc:creator>
  <dc:description/>
  <dc:language>en-US</dc:language>
  <cp:lastModifiedBy>LEGION</cp:lastModifiedBy>
  <dcterms:modified xsi:type="dcterms:W3CDTF">2016-01-04T13:42:57Z</dcterms:modified>
  <cp:revision>6</cp:revision>
  <dc:subject/>
  <dc:title>Тема 5. Комплексное исследование рынка товаров и услуг</dc:title>
</cp:coreProperties>
</file>