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EE33-F946-4D8F-A5D0-A49A238621B8}"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мплексное исследование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ма 5. Комплексное исследование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держание исследования рынка может быть сформулировано как ответы на следующие вопро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мы продаем ( или анализ товаров ил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у продаем (или анализ покуп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и что мешает нам продавать (или изучение и анализ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вы условия и случайности, с которыми мы можем столкну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ожно увеличить сбыт товаров (или изучение путей и средств расширения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одержание исследования рынка может быть сформулировано как ответы на следующие вопрос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что мы продаем ( или анализ товаров ил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му продаем (или анализ покупателе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то и что мешает нам продавать (или изучение и анализ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овы условия и случайности, с которыми мы можем столкнутьс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ема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как и любое маркетинговое, состоит из основных этап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выявление проблемы и формулирование целей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отбор источников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бор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из собран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едставление полученных результа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хема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как и любое маркетинговое, состоит из основных этап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выявление проблемы и формулирование целей исследования</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отбор источников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сбор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анализ собранной информац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представление полученных результа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ющие методы анали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цио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скриминант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тер -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ногомерное шкал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уществующие методы анализ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ариацион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искриминант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Факторный</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ластер -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ногомерное шкалировани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анализа и прогнозирования развит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ды прогноза классифицируются по различным критер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и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страполяция трен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нозы на основе инд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рессионный анали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чествен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льфи-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цена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Методы анализа и прогнозирования развит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Методы прогноза классифицируются по различным критерия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оли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Экстраполяция тренд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огнозы на основе индикато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Регрессионный анализ</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Качественны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Дельфи-метод</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сценарии</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тносится к  маркетинговым исслед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может быть по двум направл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тносится к  маркетинговым исследова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может быть по двум направлениям.</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ое направление включа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роцессов, протекающих на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ребителя и его требований к товар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ъюнктуры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ределение емкости рынка и доли фи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ервое направление включает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роцессов, протекающих на рынке</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вар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ребителя и его требований к товару</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ъюнктуры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пределение емкости рынка и доли фирмы</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я исследова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е направление включа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условий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конкур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отенциальных партне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торговых шан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правления исследования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торое направление включает:</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условий рынка</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конкурент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потенциальных партнер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зучение торговых шансов</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й и зарубежный опыт проведения исследования рынка товаров и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Отечественный и зарубежный опыт проведения исследования рынка товаров и услуг.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и организация сбора необходимой  информ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Планирование и организация сбора необходимой  информаци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 </a:t>
            </a:r>
            <a:r>
              <a:rPr b="0" lang="ru-RU" sz="12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ка исследования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Техника исследования рынка.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1200" spc="-1" strike="noStrike">
              <a:solidFill>
                <a:srgbClr val="00336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29E58A-8EC8-440F-8417-788433A7F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DD84E-54F8-4106-8409-A353F039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38911-D7A9-4E3F-B16F-290C2ECD9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280DB-1FC6-4ACF-A793-2EF30B08E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FFBC9-BF43-43D3-BA1B-266157928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43767-3905-40EA-85B1-BFC0337E3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8D28C-5D62-4550-B06F-D7F860955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58912-91E3-4D8E-93F6-9EE144675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1E53C-9B61-442C-B4DC-0718ED702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D98D2-1143-4824-8B57-7C4DB1664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A9122-8690-4B33-8115-B163ADD87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F576-ED93-4D85-B88F-6EBE6ACDD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12A62-7B04-4DD0-9603-3765BB5AF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D702-EB50-4884-8BFF-ABAF8D703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7C3F6-2D73-44DE-88CF-8B6C97088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AF026-F289-4523-B4E6-13DE08A37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FE756-0E37-4875-8A09-A3552F15F0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6F26E-2EDE-49D8-A7E0-712545B3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EEB6F-6B2B-43CB-A608-939C576AA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694C4-ED70-4B13-870F-AD48D39D1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91203-B534-4D77-97AE-3231D707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097C0-2EF0-487C-92B1-35E3F760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7AF6-EDA0-4992-A560-FF4399CB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19E88-7267-44AA-A294-9A3EA8CA8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7DB0-F46F-4D62-AC69-3DB830DD28DE}"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Times New Roman"/>
              </a:rPr>
              <a:t>www.sliderpoint.org</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C469B-AA52-470C-AC09-74C72FA60056}"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3366"/>
                </a:solidFill>
                <a:latin typeface="Arial"/>
              </a:rPr>
              <a:t>Тема 5. Комплексное исследование рынка товаров и услуг</a:t>
            </a:r>
            <a:r>
              <a:rPr b="1" lang="ru-RU" sz="3600" spc="-1" strike="noStrike">
                <a:solidFill>
                  <a:srgbClr val="003366"/>
                </a:solidFill>
                <a:latin typeface="Arial"/>
              </a:rPr>
              <a:t> </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6666"/>
              </a:solidFill>
              <a:latin typeface="Arial"/>
            </a:endParaRPr>
          </a:p>
        </p:txBody>
      </p:sp>
      <p:sp>
        <p:nvSpPr>
          <p:cNvPr id="10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Содержание исследования рынка может быть сформулировано как ответы на следующие вопросы</a:t>
            </a:r>
            <a:r>
              <a:rPr b="1"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что мы продаем ( или анализ товаров или услуг)</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ому продаем (или анализ покупателей)</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то и что мешает нам продавать (или изучение и анализ конкурентов)</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овы условия и случайности, с которыми мы можем столкнутьс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как можно увеличить сбыт товаров (или изучение путей и средств расширения деятельности)</a:t>
            </a:r>
            <a:endParaRPr b="0" lang="en-US" sz="2000" spc="-1" strike="noStrike">
              <a:solidFill>
                <a:srgbClr val="003366"/>
              </a:solidFill>
              <a:latin typeface="Arial"/>
            </a:endParaRPr>
          </a:p>
        </p:txBody>
      </p:sp>
      <p:sp>
        <p:nvSpPr>
          <p:cNvPr id="131"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Схема исследования рынка</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a:t>
            </a:r>
            <a:r>
              <a:rPr b="0" lang="en-US" sz="2400" spc="-1" strike="noStrike">
                <a:solidFill>
                  <a:srgbClr val="003366"/>
                </a:solidFill>
                <a:latin typeface="Arial"/>
              </a:rPr>
              <a:t>,</a:t>
            </a:r>
            <a:r>
              <a:rPr b="0" lang="ru-RU" sz="2400" spc="-1" strike="noStrike">
                <a:solidFill>
                  <a:srgbClr val="003366"/>
                </a:solidFill>
                <a:latin typeface="Arial"/>
              </a:rPr>
              <a:t> как и любое маркетинговое, состоит из основных этапов</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ru-RU" sz="2400" spc="-1" strike="noStrike">
                <a:solidFill>
                  <a:srgbClr val="003366"/>
                </a:solidFill>
                <a:latin typeface="Arial"/>
              </a:rPr>
              <a:t>выявление проблемы и формулирование целей исследования</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отбор источников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сбор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анализ собранной информации</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едставление полученных результатов</a:t>
            </a:r>
            <a:endParaRPr b="0" lang="en-US" sz="2400" spc="-1" strike="noStrike">
              <a:solidFill>
                <a:srgbClr val="003366"/>
              </a:solidFill>
              <a:latin typeface="Arial"/>
            </a:endParaRPr>
          </a:p>
        </p:txBody>
      </p:sp>
      <p:sp>
        <p:nvSpPr>
          <p:cNvPr id="134"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	</a:t>
            </a:r>
            <a:r>
              <a:rPr b="0" lang="ru-RU" sz="2800" spc="-1" strike="noStrike">
                <a:solidFill>
                  <a:srgbClr val="003366"/>
                </a:solidFill>
                <a:latin typeface="Arial"/>
              </a:rPr>
              <a:t>Существующие методы анализа</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Регресс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ариацион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Дискриминант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Факторны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Кластер - анали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Многомерное шкалирование</a:t>
            </a:r>
            <a:endParaRPr b="0" lang="en-US" sz="2800" spc="-1" strike="noStrike">
              <a:solidFill>
                <a:srgbClr val="003366"/>
              </a:solidFill>
              <a:latin typeface="Arial"/>
            </a:endParaRPr>
          </a:p>
        </p:txBody>
      </p:sp>
      <p:sp>
        <p:nvSpPr>
          <p:cNvPr id="13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Методы анализа и прогнозирования развития рынка товаров и услуг.</a:t>
            </a:r>
            <a:endParaRPr b="1" lang="en-US" sz="28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Методы прогноза классифицируются по различным критериям</a:t>
            </a:r>
            <a:r>
              <a:rPr b="0" lang="en-US" sz="2400" spc="-1" strike="noStrike">
                <a:solidFill>
                  <a:srgbClr val="003366"/>
                </a:solidFill>
                <a:latin typeface="Arial"/>
              </a:rPr>
              <a:t>:</a:t>
            </a:r>
            <a:r>
              <a:rPr b="0" lang="ru-RU"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оли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Экстраполяция тренда</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огнозы на основе индикаторов</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Регрессионный анализ</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Качественные</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Дельфи-метод</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сценарии</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Исследование рынка</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относится к  маркетинговым исследования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сследование рынка может быть по двум направлениям.</a:t>
            </a:r>
            <a:endParaRPr b="0" lang="en-US" sz="2800" spc="-1" strike="noStrike">
              <a:solidFill>
                <a:srgbClr val="003366"/>
              </a:solidFill>
              <a:latin typeface="Arial"/>
            </a:endParaRPr>
          </a:p>
        </p:txBody>
      </p:sp>
      <p:sp>
        <p:nvSpPr>
          <p:cNvPr id="10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ервое направление включает </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роцессов, протекающих на рынке</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товар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потребителя и его требований к товару</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зучение конъюнктуры рынка</a:t>
            </a:r>
            <a:endParaRPr b="0" lang="en-US" sz="2400" spc="-1" strike="noStrike">
              <a:solidFill>
                <a:srgbClr val="003366"/>
              </a:solidFill>
              <a:latin typeface="Arial"/>
            </a:endParaRPr>
          </a:p>
          <a:p>
            <a:pPr marL="343080" indent="-3430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Определение емкости рынка и доли фирмы</a:t>
            </a:r>
            <a:endParaRPr b="0" lang="en-US" sz="2400" spc="-1" strike="noStrike">
              <a:solidFill>
                <a:srgbClr val="003366"/>
              </a:solidFill>
              <a:latin typeface="Arial"/>
            </a:endParaRPr>
          </a:p>
        </p:txBody>
      </p:sp>
      <p:sp>
        <p:nvSpPr>
          <p:cNvPr id="110"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Направления исследования рынка</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Второе направление включает</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условий рынка</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конкурент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потенциальных партнеров</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Изучение торговых шансов</a:t>
            </a:r>
            <a:endParaRPr b="0" lang="en-US" sz="2800" spc="-1" strike="noStrike">
              <a:solidFill>
                <a:srgbClr val="003366"/>
              </a:solidFill>
              <a:latin typeface="Arial"/>
            </a:endParaRPr>
          </a:p>
        </p:txBody>
      </p:sp>
      <p:sp>
        <p:nvSpPr>
          <p:cNvPr id="11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endParaRPr b="1" lang="en-US" sz="24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Исследование рынка охватывает собой анализ всех условий, имеющих значение для успешной реализации товара.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этом анализируется не только способ производства, потребление продукции, срок службы, правила пользования, упаковка и стайлинг изделия, но и такие аспекты, как объем оборота, прибыль от продажи, конкурентоспособность, скорость реализации.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Отечественный и зарубежный опыт проведения исследования рынка товаров и услуг.</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рынка включает в себя также всесторонний анализ потребителя, его мотиваций и потребностей, сезонных колебаний спроса, эффективности сбытовой организации, рекламы, деятельности конкурентов. </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На Западе, где рынок всех товаров фактически перенасыщен, завоевание новых сегментов рынков в области товаров широкого потребления возможно только за счет прямых или косвенных конкурентов. Здесь реклама и изучение рынка играют часто решающую роль поскольку товары обычно отличаются друг от друга не качеством, а только названием и упаковкой. </a:t>
            </a:r>
            <a:endParaRPr b="0" lang="en-US" sz="2000" spc="-1" strike="noStrike">
              <a:solidFill>
                <a:srgbClr val="003366"/>
              </a:solidFill>
              <a:latin typeface="Arial"/>
            </a:endParaRPr>
          </a:p>
        </p:txBody>
      </p:sp>
      <p:sp>
        <p:nvSpPr>
          <p:cNvPr id="119"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При исследовании рынка товаров широкого потребления анализ всех факторов, влияющих на принятие решения клиентом, в том числе психологический, является основой для составления сбытовых программ фирм. Исследование рынка этих товаров стало сферой деятельности специализированных фирм. В них работают опытные психологи, и поэтому даже крупные предприятия прибегают к их услугам. </a:t>
            </a:r>
            <a:endParaRPr b="0" lang="en-US" sz="2400" spc="-1" strike="noStrike">
              <a:solidFill>
                <a:srgbClr val="003366"/>
              </a:solidFill>
              <a:latin typeface="Arial"/>
            </a:endParaRPr>
          </a:p>
        </p:txBody>
      </p:sp>
      <p:sp>
        <p:nvSpPr>
          <p:cNvPr id="122"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Планирование и организация сбора необходимой  информации.</a:t>
            </a:r>
            <a:r>
              <a:rPr b="1" lang="ru-RU" sz="3200" spc="-1" strike="noStrike">
                <a:solidFill>
                  <a:srgbClr val="006666"/>
                </a:solidFill>
                <a:latin typeface="Arial"/>
              </a:rPr>
              <a:t> </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fontScale="92000"/>
          </a:bodyPr>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Анализ рынка основных средств производства часто требует специфических технических знаний этих товаров. Число потенциальных потребителей здесь более ограничено, чем на рынке товаров широкого потребления. Вот почему исследования таких рынков чаще всего проводятся самими изготовителями продукции. В отделах маркетинга этим обычно занимаются подотделы исследования рынка и рекламы совместно со сбытовой организацией фирм, которые лучше остальных знают рынок.</a:t>
            </a:r>
            <a:endParaRPr b="0" lang="en-US" sz="1800" spc="-1" strike="noStrike">
              <a:solidFill>
                <a:srgbClr val="003366"/>
              </a:solidFill>
              <a:latin typeface="Arial"/>
            </a:endParaRPr>
          </a:p>
          <a:p>
            <a:pPr marL="315360" indent="-31536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rPr>
              <a:t> </a:t>
            </a:r>
            <a:r>
              <a:rPr b="1" lang="ru-RU" sz="1800" spc="-1" strike="noStrike">
                <a:solidFill>
                  <a:srgbClr val="003366"/>
                </a:solidFill>
                <a:latin typeface="Arial"/>
              </a:rPr>
              <a:t>Составляющие анализа рынка основных средств производства: - общая емкость рынка; - рациональное распределение спроса; - собственная доля рынка; - число конкурентов и их доли на рынке; - рекламные средства и меры, принимаемые конкурентами; - сбытовая организация конкурентов; - определение мотивации постоянных клиентов у конкурентов; - конструктивные и другие особенности продукции конкурентов; - сопоставление собственной продукции с товарами конкурентов по качеству, рентабельности . </a:t>
            </a:r>
            <a:endParaRPr b="0" lang="en-US" sz="1800" spc="-1" strike="noStrike">
              <a:solidFill>
                <a:srgbClr val="003366"/>
              </a:solidFill>
              <a:latin typeface="Arial"/>
            </a:endParaRPr>
          </a:p>
        </p:txBody>
      </p:sp>
      <p:sp>
        <p:nvSpPr>
          <p:cNvPr id="12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Техника исследования рынка.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В методике изучения рынка и разработки концепции маркетинга в последнее время все большую роль играют психологические методы, методы изучения мотивации покупателей, другими словами - почему покупатели охотнее покупают один товар и отказываются от другого, хотя с технической точки зрения оба товара одинаково удовлетворяют его потребности.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66"/>
                </a:solidFill>
                <a:latin typeface="Arial"/>
              </a:rPr>
              <a:t>Исследование мотиваций покупателей идет по двум направлениям. В одном случае изучаются мотивы поведения человека (его поступков) при выборе и покупке товара. В другом - усилия направляются на то, чтобы найти способы эффективного воздействия на эти решения покупателей. </a:t>
            </a:r>
            <a:endParaRPr b="0" lang="en-US" sz="2000" spc="-1" strike="noStrike">
              <a:solidFill>
                <a:srgbClr val="003366"/>
              </a:solidFill>
              <a:latin typeface="Arial"/>
            </a:endParaRPr>
          </a:p>
        </p:txBody>
      </p:sp>
      <p:sp>
        <p:nvSpPr>
          <p:cNvPr id="128"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3366"/>
                </a:solidFill>
                <a:latin typeface="Arial"/>
              </a:rPr>
              <a:t>www.sliderpoint.org</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7T20:12:38Z</dcterms:created>
  <dc:creator>ToXa</dc:creator>
  <dc:description/>
  <dc:language>en-US</dc:language>
  <cp:lastModifiedBy>LEGION</cp:lastModifiedBy>
  <dcterms:modified xsi:type="dcterms:W3CDTF">2016-01-04T13:42:57Z</dcterms:modified>
  <cp:revision>6</cp:revision>
  <dc:subject/>
  <dc:title>Тема 5. Комплексное исследование рынка товаров и услуг</dc:title>
</cp:coreProperties>
</file>