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75DD-1956-4642-A353-855DDCA6D78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5. Комплексное исследование рынка товаров и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ма 5. Комплексное исследование рынка товаров и услуг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ка исследования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исследования рынка может быть сформулировано как ответы на следующие вопро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мы продаем ( или анализ товаров ил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у продаем (или анализ покуп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и что мешает нам продавать (или изучение и анализ конкур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вы условия и случайности, с которыми мы можем столкнуть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можно увеличить сбыт товаров (или изучение путей и средств расширения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хника исследования рынк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одержание исследования рынка может быть сформулировано как ответы на следующие вопросы:</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что мы продаем ( или анализ товаров ил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ому продаем (или анализ покупателе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то и что мешает нам продавать (или изучение и анализ конкурен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ковы условия и случайности, с которыми мы можем столкнуться</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к можно увеличить сбыт товаров (или изучение путей и средств расширения деятельност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как и любое маркетинговое, состоит из основных этап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ыявление проблемы и формулирование целей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отбор источников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бор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из собранной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едставление получен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хема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как и любое маркетинговое, состоит из основных этап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выявление проблемы и формулирование целей исследования</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отбор источников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сбор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анализ собранной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представление полученных результа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анализа и прогнозирования развит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ющие методы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рессио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цио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криминант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тер -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омерное шкал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етоды анализа и прогнозирования развит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Существующие методы анализ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Регрессион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ариацион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искриминант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Фактор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ластер - анализ</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ногомерное шкалировани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анализа и прогнозирования развит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ды прогноза классифицируются по различным критер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ичестве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траполяция трен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ы на основе индика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рессионный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честве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ьфи-мет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цена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етоды анализа и прогнозирования развит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Методы прогноза классифицируются по различным критериям: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оличественны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Экстраполяция тренд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огнозы на основе индикатор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Регрессионный анализ</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чественны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ельфи-метод</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ценар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относится к  маркетинговым исследова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может быть по двум направл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относится к  маркетинговым исследованиям</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может быть по двум направлениям.</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направление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роцессов, протекающих на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отребителя и его требований к тов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конъюнктуры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емкости рынка и дол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правления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ервое направление включает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роцессов, протекающих на рынк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товар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отребителя и его требований к товару</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конъюнктуры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пределение емкости рынка и доли фирмы</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е направление включа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условий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конкур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отенциальных партн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торговых шан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правления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торое направление включает:</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условий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конкурен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отенциальных партнер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торговых шанс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й и зарубежный опыт проведения исследован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охватывает собой анализ всех условий, имеющих значение для успешной реализации това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течественный и зарубежный опыт проведения исследован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охватывает собой анализ всех условий, имеющих значение для успешной реализации товар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й и зарубежный опыт проведения исследования рынка товаров и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течественный и зарубежный опыт проведения исследования рынка товаров и услуг.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организация сбора необходимой  информ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анирование и организация сбора необходимой  информ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организация сбора необходимой  информ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анирование и организация сбора необходимой  информ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ка исследования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хника исследования рынк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690A2-3960-4F95-8B95-ECE16C879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09212-BC0C-49FB-92D2-519B8D7C0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A5B5A-99F1-44B2-8A89-921D6C514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1D25E-A160-4124-9AAC-353E49505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54802-765D-4128-8D39-2ECB02766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CE170-0F45-447D-86BC-D62D9469E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3F3A9-8E01-476F-B062-993032EF0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57C48-55F7-4F76-B511-3B07C0266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7CC12-CF3E-4A3F-BE31-447C19951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FD0F6-1076-4895-B417-24CCF9457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C2B0F-260C-46D4-B439-AC55476FC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D5372-C919-42C5-8F08-5FBE42C0E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A9002-FDC6-453F-8CAF-AB85460E1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FB6A9-73CA-41EE-BB3B-E75D748B2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F65D1-26B3-4B84-9426-7778A6501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319AA-C7D5-4CB5-A33F-ECFFF8EF5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FD352-79E2-47EC-8D70-F2C7048F86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3C51F-E457-4228-8AE4-2C41651B0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11F23-EF65-4EAF-99AD-1A2D891C9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00D6A-9467-462B-8C5C-BC50CAA24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972D5-F685-4B0F-ADA6-A7FEA10E6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D1DDF-E182-402A-A405-0FE2C23D9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8F436-EC8A-4352-A648-C3AB1AD68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5A1BD-5CE8-4758-80CD-FFD31B2D1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9F96-DF53-4520-8368-D0D334400466}"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Times New Roman"/>
              </a:rPr>
              <a:t>www.sliderpoint.org</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CAE9-2C82-4DF6-B8DA-3DAAD609C9C7}"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66"/>
                </a:solidFill>
                <a:latin typeface="Arial"/>
              </a:rPr>
              <a:t>Тема 5. Комплексное исследование рынка товаров и услуг</a:t>
            </a:r>
            <a:r>
              <a:rPr b="1" lang="ru-RU" sz="3600" spc="-1" strike="noStrike">
                <a:solidFill>
                  <a:srgbClr val="003366"/>
                </a:solidFill>
                <a:latin typeface="Arial"/>
              </a:rPr>
              <a:t> </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6666"/>
              </a:solidFill>
              <a:latin typeface="Arial"/>
            </a:endParaRPr>
          </a:p>
        </p:txBody>
      </p:sp>
      <p:sp>
        <p:nvSpPr>
          <p:cNvPr id="104"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хника исследования рынка. </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Содержание исследования рынка может быть сформулировано как ответы на следующие вопросы</a:t>
            </a:r>
            <a:r>
              <a:rPr b="1"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что мы продаем ( или анализ товаров или услуг)</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ому продаем (или анализ покупателей)</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то и что мешает нам продавать (или изучение и анализ конкурентов)</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аковы условия и случайности, с которыми мы можем столкнутьс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ак можно увеличить сбыт товаров (или изучение путей и средств расширения деятельности)</a:t>
            </a:r>
            <a:endParaRPr b="0" lang="en-US" sz="2000" spc="-1" strike="noStrike">
              <a:solidFill>
                <a:srgbClr val="003366"/>
              </a:solidFill>
              <a:latin typeface="Arial"/>
            </a:endParaRPr>
          </a:p>
        </p:txBody>
      </p:sp>
      <p:sp>
        <p:nvSpPr>
          <p:cNvPr id="131"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Схема исследования рынка</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сследование рынка</a:t>
            </a:r>
            <a:r>
              <a:rPr b="0" lang="en-US" sz="2400" spc="-1" strike="noStrike">
                <a:solidFill>
                  <a:srgbClr val="003366"/>
                </a:solidFill>
                <a:latin typeface="Arial"/>
              </a:rPr>
              <a:t>,</a:t>
            </a:r>
            <a:r>
              <a:rPr b="0" lang="ru-RU" sz="2400" spc="-1" strike="noStrike">
                <a:solidFill>
                  <a:srgbClr val="003366"/>
                </a:solidFill>
                <a:latin typeface="Arial"/>
              </a:rPr>
              <a:t> как и любое маркетинговое, состоит из основных этапов</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ru-RU" sz="2400" spc="-1" strike="noStrike">
                <a:solidFill>
                  <a:srgbClr val="003366"/>
                </a:solidFill>
                <a:latin typeface="Arial"/>
              </a:rPr>
              <a:t>выявление проблемы и формулирование целей исследования</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отбор источников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сбор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анализ собранной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представление полученных результатов</a:t>
            </a:r>
            <a:endParaRPr b="0" lang="en-US" sz="2400" spc="-1" strike="noStrike">
              <a:solidFill>
                <a:srgbClr val="003366"/>
              </a:solidFill>
              <a:latin typeface="Arial"/>
            </a:endParaRPr>
          </a:p>
        </p:txBody>
      </p:sp>
      <p:sp>
        <p:nvSpPr>
          <p:cNvPr id="134"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Методы анализа и прогнозирования развития рынка товаров и услуг.</a:t>
            </a:r>
            <a:endParaRPr b="1" lang="en-US" sz="28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Существующие методы анализа</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Регрессион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ариацион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Дискриминант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Фактор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Кластер - анали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Многомерное шкалирование</a:t>
            </a:r>
            <a:endParaRPr b="0" lang="en-US" sz="2800" spc="-1" strike="noStrike">
              <a:solidFill>
                <a:srgbClr val="003366"/>
              </a:solidFill>
              <a:latin typeface="Arial"/>
            </a:endParaRPr>
          </a:p>
        </p:txBody>
      </p:sp>
      <p:sp>
        <p:nvSpPr>
          <p:cNvPr id="13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Методы анализа и прогнозирования развития рынка товаров и услуг.</a:t>
            </a:r>
            <a:endParaRPr b="1" lang="en-US" sz="28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Методы прогноза классифицируются по различным критериям</a:t>
            </a:r>
            <a:r>
              <a:rPr b="0" lang="en-US" sz="2400" spc="-1" strike="noStrike">
                <a:solidFill>
                  <a:srgbClr val="003366"/>
                </a:solidFill>
                <a:latin typeface="Arial"/>
              </a:rPr>
              <a:t>:</a:t>
            </a:r>
            <a:r>
              <a:rPr b="0" lang="ru-RU"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оличественны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Экстраполяция тренда</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огнозы на основе индикаторов</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Регрессионный анализ</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ачественны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Дельфи-метод</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сценарии</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Исследование рынка</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сследование рынка относится к  маркетинговым исследованиям</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сследование рынка может быть по двум направлениям.</a:t>
            </a:r>
            <a:endParaRPr b="0" lang="en-US" sz="2800" spc="-1" strike="noStrike">
              <a:solidFill>
                <a:srgbClr val="003366"/>
              </a:solidFill>
              <a:latin typeface="Arial"/>
            </a:endParaRPr>
          </a:p>
        </p:txBody>
      </p:sp>
      <p:sp>
        <p:nvSpPr>
          <p:cNvPr id="10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аправления исследования рынка</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ервое направление включает </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процессов, протекающих на рынке</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товара</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потребителя и его требований к товару</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конъюнктуры рынка</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Определение емкости рынка и доли фирмы</a:t>
            </a:r>
            <a:endParaRPr b="0" lang="en-US" sz="2400" spc="-1" strike="noStrike">
              <a:solidFill>
                <a:srgbClr val="003366"/>
              </a:solidFill>
              <a:latin typeface="Arial"/>
            </a:endParaRPr>
          </a:p>
        </p:txBody>
      </p:sp>
      <p:sp>
        <p:nvSpPr>
          <p:cNvPr id="110"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аправления исследования рынка</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торое направление включает</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условий рынка</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конкурентов</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потенциальных партнеров</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торговых шансов</a:t>
            </a:r>
            <a:endParaRPr b="0" lang="en-US" sz="2800" spc="-1" strike="noStrike">
              <a:solidFill>
                <a:srgbClr val="003366"/>
              </a:solidFill>
              <a:latin typeface="Arial"/>
            </a:endParaRPr>
          </a:p>
        </p:txBody>
      </p:sp>
      <p:sp>
        <p:nvSpPr>
          <p:cNvPr id="113"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течественный и зарубежный опыт проведения исследования рынка товаров и услуг.</a:t>
            </a:r>
            <a:endParaRPr b="1" lang="en-US" sz="24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сследование рынка охватывает собой анализ всех условий, имеющих значение для успешной реализации товара.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течественный и зарубежный опыт проведения исследования рынка товаров и услуг.</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2000" spc="-1" strike="noStrike">
              <a:solidFill>
                <a:srgbClr val="003366"/>
              </a:solidFill>
              <a:latin typeface="Arial"/>
            </a:endParaRPr>
          </a:p>
        </p:txBody>
      </p:sp>
      <p:sp>
        <p:nvSpPr>
          <p:cNvPr id="119"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ланирование и организация сбора необходимой  информации.</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2400" spc="-1" strike="noStrike">
              <a:solidFill>
                <a:srgbClr val="003366"/>
              </a:solidFill>
              <a:latin typeface="Arial"/>
            </a:endParaRPr>
          </a:p>
        </p:txBody>
      </p:sp>
      <p:sp>
        <p:nvSpPr>
          <p:cNvPr id="122"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ланирование и организация сбора необходимой  информации.</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fontScale="92000"/>
          </a:bodyPr>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 </a:t>
            </a:r>
            <a:r>
              <a:rPr b="1" lang="ru-RU" sz="1800" spc="-1" strike="noStrike">
                <a:solidFill>
                  <a:srgbClr val="003366"/>
                </a:solidFill>
                <a:latin typeface="Arial"/>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800" spc="-1" strike="noStrike">
              <a:solidFill>
                <a:srgbClr val="003366"/>
              </a:solidFill>
              <a:latin typeface="Arial"/>
            </a:endParaRPr>
          </a:p>
        </p:txBody>
      </p:sp>
      <p:sp>
        <p:nvSpPr>
          <p:cNvPr id="125"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хника исследования рынка.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2000" spc="-1" strike="noStrike">
              <a:solidFill>
                <a:srgbClr val="003366"/>
              </a:solidFill>
              <a:latin typeface="Arial"/>
            </a:endParaRPr>
          </a:p>
        </p:txBody>
      </p:sp>
      <p:sp>
        <p:nvSpPr>
          <p:cNvPr id="128"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7T20:12:38Z</dcterms:created>
  <dc:creator>ToXa</dc:creator>
  <dc:description/>
  <dc:language>en-US</dc:language>
  <cp:lastModifiedBy>LEGION</cp:lastModifiedBy>
  <dcterms:modified xsi:type="dcterms:W3CDTF">2016-01-04T13:42:57Z</dcterms:modified>
  <cp:revision>6</cp:revision>
  <dc:subject/>
  <dc:title>Тема 5. Комплексное исследование рынка товаров и услуг</dc:title>
</cp:coreProperties>
</file>