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5.gif" ContentType="image/gif"/>
  <Override PartName="/ppt/media/image6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2565-E79B-419D-962C-C23D63C8722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ьте, что мы случайно услышали спор двух людей в общественном транспорте. Представитель старшего поколения весьма отрицательно говорил о рыночной экономике. Он приводил примеры обнищания населения, непомерно высоких цен, неуверенности в завтрашнем дне. В его словах звучала горечь об изменении нравственного облика людей, которые только и думают о деньгах… Ему возражал молодой человек, утверждавший, что только рынок способен удовлетворить потребности человека и, что будущее страны за рыночной эконом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же из них пра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о бы вы поддержали в этом споре? А может быть, у вас иное мнение на этот сч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об этих вопросах и пойдет речь на нашем заня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ставьте, что мы случайно услышали спор двух людей в общественном транспорте. Представитель старшего поколения весьма отрицательно говорил о рыночной экономике. Он приводил примеры обнищания населения, непомерно высоких цен, неуверенности в завтрашнем дне. В его словах звучала горечь об изменении нравственного облика людей, которые только и думают о деньгах… Ему возражал молодой человек, утверждавший, что только рынок способен удовлетворить потребности человека и, что будущее страны за рыночной экономик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то же из них прав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го бы вы поддержали в этом споре? А может быть, у вас иное мнение на этот счет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менно об этих вопросах и пойдет речь на нашем занят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вшись на творческие группы, обсудите тезисы для табл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ыночная экономи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бившись на творческие группы, обсудите тезисы для таблиц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«Рыночная экономика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еньги и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егодня убеждены во всесильности денег в современном мире. Обсудим, насколько верно это утвер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ереходом к рыночной экономике деньги стали играть все большую роль в нашем общест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что мы знаем о том, как они возникли и какую роль играли и играют в жизни человеч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ем разобраться в этих очень непростых вопросах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Деньги и эконом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ногие сегодня убеждены во всесильности денег в современном мире. Обсудим, насколько верно это утвержде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переходом к рыночной экономике деньги стали играть все большую роль в нашем обществ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 что мы знаем о том, как они возникли и какую роль играли и играют в жизни человечества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пробуем разобраться в этих очень непростых вопросах.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дополнительный материал, расскажите об истории возникновения де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спользуя дополнительный материал, расскажите об истории возникновения дене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к тексту: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впервые ввел понятие «деньги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было введено данное понят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материал предлагает использовать Аристотель в виде денег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ам философ относился к деньг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просы к тексту:      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то впервые ввел понятие «деньги»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чему было введено данное понятие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ой материал предлагает использовать Аристотель в виде денег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чему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сам философ относился к деньгам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же функции выполняют деньги? Посмотрите и прокомментируйте табл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ие же функции выполняют деньги? Посмотрите и прокомментируйте таблиц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ункции денег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предлагаю вам познакомиться с высказываниями известных деятелей истории, науки, полит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 сгруппировать сходные м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Я предлагаю вам познакомиться с высказываниями известных деятелей истории, науки, политик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пробуйте сгруппировать сходные мн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ая пробле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у многих людей создается впечатление, что деньги всесильны. Они рассуждают примерно так: «Были бы деньги – остальное купим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относитесь к подобному высказыванию? Свое мнение аргументируй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ельзя купить за деньги? Обоснуйте свой отв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ктуальная проблем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у многих людей создается впечатление, что деньги всесильны. Они рассуждают примерно так: «Были бы деньги – остальное купим»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вы относитесь к подобному высказыванию? Свое мнение аргументируйт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нельзя купить за деньги? Обоснуйте свой отве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Банки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банк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они появили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играют в экономик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 обсудим эти вопросы, работая с 3 пунктом § 8 учебника и с дополнительными материа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 Банки в эконом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такое банки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гда они появились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ую роль играют в экономике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  обсудим эти вопросы, работая с 3 пунктом § 8 учебника и с дополнительными материал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к класс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то такое бан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гда впервые появились бан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ова история их поя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овите и охарактеризуйте функции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ова роль банков в жизни современного общ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ле событий 1998 г. доверие к банковским системам в России оказалось серьезно подорвано. Отношение простых людей к банкам сегодня скорее настороженное, чем положительное. Нужно ли, с вашей точки зрения, хранить деньги в бан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просы к классу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Что такое бан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Когда впервые появились бан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Какова история их появлени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Назовите и охарактеризуйте функции банк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Какова роль банков в жизни современного общества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После событий 1998 г. доверие к банковским системам в России оказалось серьезно подорвано. Отношение простых людей к банкам сегодня скорее настороженное, чем положительное. Нужно ли, с вашей точки зрения, хранить деньги в банках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сегодня на уроке мы узнали, что рынок представляет собой систему экономических отношений, связанных с обменом товаров и услуг, процесс купли-продажи. Продажа и покупка товаров и услуг осуществляется  при помощи дене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ведение итогов занят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так, сегодня на уроке мы узнали, что рынок представляет собой систему экономических отношений, связанных с обменом товаров и услуг, процесс купли-продажи. Продажа и покупка товаров и услуг осуществляется  при помощи денег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№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 «Рын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рок № 10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ма урока: «Рынок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но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греческий ученый Пифагор говорил: «Законодатель! Не пиши законов торговле: она не терпит их, как океан, носящий корабл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думаете, нужны ли четкие законы, регулирующие торговлю, и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блемное задание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ревнегреческий ученый Пифагор говорил: «Законодатель! Не пиши законов торговле: она не терпит их, как океан, носящий корабли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вы думаете, нужны ли четкие законы, регулирующие торговлю, и почему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учить § 8, ответить на вопросы к параграф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ь творческое задание:  вам необходимо выступить на конференции с докладом на тему «Зачем нужны деньги и можно ли без них прожить?» Подготовьте тезисы-аргументы для докл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машнее задание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учить § 8, ответить на вопросы к параграф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полнить творческое задание:  вам необходимо выступить на конференции с докладом на тему «Зачем нужны деньги и можно ли без них прожить?» Подготовьте тезисы-аргументы для докла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Желаю удач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Желаю удачи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понятия «рынок», «торговля», «деньги», «банки», «рыночная цена», «вклад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 роль и значение рынка в развитии экономики; показать на примерах, как торговля помогает производству, а деньги служат людям; познакомиться с историей появлением банков, обсудить их роль в развитии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учиться делать сравнительный анализ, решать проблемы, участвовать в дискуссии, оценивать события и явления с разных точек з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урока постараться выразить свое отношение к капиталу и задуматься над соотношением материальных и нравственных интересов в области рыноч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и и задач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ъяснить понятия «рынок», «торговля», «деньги», «банки», «рыночная цена», «вклад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яснить роль и значение рынка в развитии экономики; показать на примерах, как торговля помогает производству, а деньги служат людям; познакомиться с историей появлением банков, обсудить их роль в развитии экономик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олжить учиться делать сравнительный анализ, решать проблемы, участвовать в дискуссии, оценивать события и явления с разных точек зр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ходе урока постараться выразить свое отношение к капиталу и задуматься над соотношением материальных и нравственных интересов в области рыночных отно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нового материа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то такое рын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еньги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Банки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 изучения нового материал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Что такое рынок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Деньги в эконом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Банки в эконом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 в новый матери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недавнего времени у нас не существовало рыночной экономики. Как же развивалось производство? Почему нашему государству пришлось перейти на рыночные рельсы? В чем плюсы и минусы подобного шаг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обсудим эти вопросы на нашем ур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ведение в новый материа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 недавнего времени у нас не существовало рыночной экономики. Как же развивалось производство? Почему нашему государству пришлось перейти на рыночные рельсы? В чем плюсы и минусы подобного шага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авайте обсудим эти вопросы на нашем уро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мы довольно часто слышим это понятие «рыно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оно появило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обой представляли первые рын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ни выглядят сегодн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Рын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мы довольно часто слышим это понятие «рынок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гда оно появилось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собой представляли первые рын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они выглядят сегодн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м итоги рассуждени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рынок представляет собой систему экономических отношений, связанных с обменом товаров и услуг между продавцами и покупа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– это место встречи продавцов и покупателей, где сталкиваются их интересы и возникает торг. Предметом спора между ними является цена.  От чего она зависи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ведем итоги рассуждений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аким образом, рынок представляет собой систему экономических отношений, связанных с обменом товаров и услуг между продавцами и покупател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– это место встречи продавцов и покупателей, где сталкиваются их интересы и возникает торг. Предметом спора между ними является цена.  От чего она зависит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ем сх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цена опреде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еде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ом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еден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е. желанием и возможност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сти тов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нализируем схе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чная цена определяетс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личеством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еденных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вар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ом н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еденны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вар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.е. желанием и возможностям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обрести това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 имеет ряд особенно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частной форме соб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инициативе, свободе и предприимчивости  производ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товары и услуги складываются в зависимости от спроса и предложения на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 и прогнозирование носит только рекомендатель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за результаты производственной деятельности несет сам производит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чная экономика имеет ряд особенностей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ана на частной форме собствен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ана на инициативе, свободе и предприимчивости  производите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товары и услуги складываются в зависимости от спроса и предложения на рын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ирование  и прогнозирование носит только рекомендательный характе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ветственность за результаты производственной деятельности несет сам производител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782B-796B-45E1-A662-B6CF4428A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02E4-952B-496C-9740-93907101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01B5-103C-4517-A8A4-9073DF0B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D55B-B4E2-456B-9CA4-91C1429C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FCFA-6AFE-4351-B0BF-7438175A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B7BA-1F80-4395-B551-94B50F0A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265F-206F-4CEB-83B6-41BD1DA5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FAB7-E5BF-4F39-8EA3-64C5E436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B38E-96FB-4BEF-931B-DA55955E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8480-2CB8-4A19-A02C-04885754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65EE-789C-4F53-A523-08C786C2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51B4-9F5A-45D7-8352-E2E01606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0BD9-CA67-4552-AFB0-DF2E7F0C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7435-8558-42CA-9B84-4C2D16A2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49B5-8D88-4A32-9A22-5A687969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1DAE-F260-41BB-A820-35DFC623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EC85-DF49-4420-8CFF-01BD0457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AB02-826F-42E7-92B0-4420162C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1CCE-CF42-47F5-88F9-C1EC8A8C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52EF-5C57-4489-BA53-F2F1E0E2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D450-2E6F-4506-B067-D8F8CC01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79DB-D407-46E1-954C-5F9441C5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F47A-A416-4E3A-B98D-3749A371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EE06-D81B-4FF2-8F62-2F8060DF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6C9D-647F-4329-92F3-6FBCED7CF54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DB7B-4425-4FC2-A0C6-674980D8E62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heveleva.biz/files/2009/09/70_item_pict_big-d0b1d0b8d180d0b6d0b0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324000"/>
            <a:ext cx="8507520" cy="61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ставьте, что мы случайно услышали спор двух людей в общественном транспорте. Представитель старшего поколения весьма отрицательно говорил о рыночной экономике. Он приводил примеры обнищания населения, непомерно высоких цен, неуверенности в завтрашнем дне. В его словах звучала горечь об изменении нравственного облика людей, которые только и думают о деньгах… Ему возражал молодой человек, утверждавший, что только рынок способен удовлетворить потребности человека и, что будущее страны за рыночной экономи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Кто же из них прав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о бы вы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поддержал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этом споре? А может быть, у вас иное мнение на этот счет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менно об этих вопросах и пойдет речь на нашем занят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збившись на творческие группы, обсудите тезисы для таблиц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Рыночная экономика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4005360"/>
          <a:ext cx="7848360" cy="234612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7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Преимущества</a:t>
                      </a:r>
                      <a:r>
                        <a:rPr b="0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Недостатки</a:t>
                      </a:r>
                      <a:r>
                        <a:rPr b="0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34" descr="1b3"/>
          <p:cNvPicPr/>
          <p:nvPr/>
        </p:nvPicPr>
        <p:blipFill>
          <a:blip r:embed="rId1"/>
          <a:stretch/>
        </p:blipFill>
        <p:spPr>
          <a:xfrm>
            <a:off x="6516720" y="-100080"/>
            <a:ext cx="2089080" cy="2087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2. Деньги и экономи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ие сегодня убеждены во всесильности денег в современном мире. Обсудим, насколько верно это утвержд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переходом к рыночной экономике деньги стали играть все большую роль в нашем обществ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что мы знаем о том, как они возникли и какую роль играли и играют в жизни человечеств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пробуем разобраться в этих очень непростых вопросах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i?id=50818109-02"/>
          <p:cNvPicPr/>
          <p:nvPr/>
        </p:nvPicPr>
        <p:blipFill>
          <a:blip r:embed="rId1"/>
          <a:stretch/>
        </p:blipFill>
        <p:spPr>
          <a:xfrm>
            <a:off x="7524720" y="544500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i?id=7916673-04"/>
          <p:cNvPicPr/>
          <p:nvPr/>
        </p:nvPicPr>
        <p:blipFill>
          <a:blip r:embed="rId2"/>
          <a:stretch/>
        </p:blipFill>
        <p:spPr>
          <a:xfrm>
            <a:off x="250920" y="260280"/>
            <a:ext cx="1434960" cy="10080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спользуя дополнительный материал, расскажите об истории возникновения денег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i?id=164248709-04"/>
          <p:cNvPicPr/>
          <p:nvPr/>
        </p:nvPicPr>
        <p:blipFill>
          <a:blip r:embed="rId1"/>
          <a:stretch/>
        </p:blipFill>
        <p:spPr>
          <a:xfrm>
            <a:off x="2916360" y="3284640"/>
            <a:ext cx="3097080" cy="2808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1b3"/>
          <p:cNvPicPr/>
          <p:nvPr/>
        </p:nvPicPr>
        <p:blipFill>
          <a:blip r:embed="rId2"/>
          <a:stretch/>
        </p:blipFill>
        <p:spPr>
          <a:xfrm>
            <a:off x="7308720" y="-171360"/>
            <a:ext cx="2089440" cy="20876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опросы к тексту:      </a:t>
            </a:r>
            <a:r>
              <a:rPr b="0" lang="ru-RU" sz="54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то впервые ввел понятие «деньги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 было введено данное понят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й материал предлагает использовать Аристотель в виде дене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сам философ относился к деньга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3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3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3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3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ие же функции выполняют деньги? Посмотрите и прокомментируйте таблиц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Функции дене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26920" y="3284640"/>
          <a:ext cx="7417080" cy="1612800"/>
        </p:xfrm>
        <a:graphic>
          <a:graphicData uri="http://schemas.openxmlformats.org/drawingml/2006/table">
            <a:tbl>
              <a:tblPr/>
              <a:tblGrid>
                <a:gridCol w="3708720"/>
                <a:gridCol w="3708360"/>
              </a:tblGrid>
              <a:tr h="57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унк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ущ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29" descr="1b3"/>
          <p:cNvPicPr/>
          <p:nvPr/>
        </p:nvPicPr>
        <p:blipFill>
          <a:blip r:embed="rId1"/>
          <a:stretch/>
        </p:blipFill>
        <p:spPr>
          <a:xfrm>
            <a:off x="7308720" y="-171360"/>
            <a:ext cx="2089440" cy="20876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3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4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Я предлагаю вам познакомиться с высказываниями известных деятелей истории, науки, политик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пробуйте сгруппировать сходные мне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6" descr="1b3"/>
          <p:cNvPicPr/>
          <p:nvPr/>
        </p:nvPicPr>
        <p:blipFill>
          <a:blip r:embed="rId1"/>
          <a:stretch/>
        </p:blipFill>
        <p:spPr>
          <a:xfrm>
            <a:off x="7054920" y="0"/>
            <a:ext cx="2089080" cy="208764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4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ктуальная проблема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годня у многих людей создается впечатление, что деньги всесильны. Они рассуждают примерно так: 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«Были бы деньги – остальное купим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вы относитесь к подобному высказыванию? Свое мнение аргументируй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нельзя купить за деньги? Обоснуйте свой отв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3.  Банки в экономике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такое банк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они появилис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ую роль играют в экономик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Задание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обсудим эти вопросы, работая с 3 пунктом § 8 учебника и с дополнительными материал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5" descr="i?id=117084169-03"/>
          <p:cNvPicPr/>
          <p:nvPr/>
        </p:nvPicPr>
        <p:blipFill>
          <a:blip r:embed="rId1"/>
          <a:stretch/>
        </p:blipFill>
        <p:spPr>
          <a:xfrm>
            <a:off x="6732720" y="5157720"/>
            <a:ext cx="1871640" cy="1295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i?id=73713611-07"/>
          <p:cNvPicPr/>
          <p:nvPr/>
        </p:nvPicPr>
        <p:blipFill>
          <a:blip r:embed="rId2"/>
          <a:stretch/>
        </p:blipFill>
        <p:spPr>
          <a:xfrm>
            <a:off x="6948360" y="1268280"/>
            <a:ext cx="1622520" cy="1224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опросы к классу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Что такое бан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огда впервые появились бан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акова история их появлен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азовите и охарактеризуйте функции бан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акова роль банков в жизни современного обществ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сле событий 1998 г. доверие к банковским системам в России оказалось серьезно подорвано. Отношение простых людей к банкам сегодня скорее настороженное, чем положительное. Нужно ли, с вашей точки зрения, хранить деньги в банках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5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5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5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3640"/>
                            </p:stCondLst>
                            <p:childTnLst>
                              <p:par>
                                <p:cTn id="5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4640"/>
                            </p:stCondLst>
                            <p:childTnLst>
                              <p:par>
                                <p:cTn id="5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640"/>
                            </p:stCondLst>
                            <p:childTnLst>
                              <p:par>
                                <p:cTn id="5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дведение итогов занят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так, сегодня на уроке мы узнали, что рынок представляет собой систему экономических отношений, связанных с обменом товаров и услуг, процесс купли-продажи. Продажа и покупка товаров и услуг осуществляется  при помощи дене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А 56"/>
          <p:cNvPicPr/>
          <p:nvPr/>
        </p:nvPicPr>
        <p:blipFill>
          <a:blip r:embed="rId1"/>
          <a:stretch/>
        </p:blipFill>
        <p:spPr>
          <a:xfrm>
            <a:off x="5796000" y="508464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5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рок № 10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ема урока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«Рынок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7" descr="i?id=52463039-06"/>
          <p:cNvPicPr/>
          <p:nvPr/>
        </p:nvPicPr>
        <p:blipFill>
          <a:blip r:embed="rId1"/>
          <a:stretch/>
        </p:blipFill>
        <p:spPr>
          <a:xfrm>
            <a:off x="2843280" y="2637000"/>
            <a:ext cx="3889440" cy="38876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облемное задание: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ревнегреческий ученый Пифагор говорил: «Законодатель! Не пиши законов торговле: она не терпит их, как океан, носящий корабли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вы думаете, нужны ли четкие законы, регулирующие торговлю, и поч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5" descr="i?id=38746094-02"/>
          <p:cNvPicPr/>
          <p:nvPr/>
        </p:nvPicPr>
        <p:blipFill>
          <a:blip r:embed="rId1"/>
          <a:stretch/>
        </p:blipFill>
        <p:spPr>
          <a:xfrm>
            <a:off x="3419640" y="4508640"/>
            <a:ext cx="1944360" cy="2016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омашнее задание: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ыучить § 8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ответить на вопросы к параграф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ыполнить творческое задан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  вам необходимо выступить на конференции с докладом на тему «Зачем нужны деньги и можно ли без них прожить?» Подготовьте тезисы-аргументы для докла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6" descr="AG00495_"/>
          <p:cNvPicPr/>
          <p:nvPr/>
        </p:nvPicPr>
        <p:blipFill>
          <a:blip r:embed="rId1"/>
          <a:stretch/>
        </p:blipFill>
        <p:spPr>
          <a:xfrm>
            <a:off x="7236000" y="115920"/>
            <a:ext cx="1704960" cy="16066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5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5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Желаю удачи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4" name="Picture 4" descr="H:\МАМА\Презентации\Сашина презентация\359504974.gif"/>
          <p:cNvPicPr/>
          <p:nvPr/>
        </p:nvPicPr>
        <p:blipFill>
          <a:blip r:embed="rId1"/>
          <a:stretch/>
        </p:blipFill>
        <p:spPr>
          <a:xfrm>
            <a:off x="2843280" y="1916280"/>
            <a:ext cx="3384360" cy="331308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980"/>
                            </p:stCondLst>
                            <p:childTnLst>
                              <p:par>
                                <p:cTn id="62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480"/>
                            </p:stCondLst>
                            <p:childTnLst>
                              <p:par>
                                <p:cTn id="62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63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Цели и задач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яснить понятия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«рынок», «торговля», «деньги», «банки», «рыночная цена», «вклад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снить роль и значение рынка в развитии экономики; показать на примерах, как торговля помогает производству, а деньги служат людям; познакомиться с историей появлением банков, обсудить их роль в развитии эконом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олжить учиться делать сравнительный анализ, решать проблемы, участвовать в дискуссии, оценивать события и явления с разных точек зр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ходе урока постараться выразить свое отношение к капиталу и задуматься над соотношением материальных и нравственных интересов в области рыночных отнош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Рисунок122"/>
          <p:cNvPicPr/>
          <p:nvPr/>
        </p:nvPicPr>
        <p:blipFill>
          <a:blip r:embed="rId1"/>
          <a:stretch/>
        </p:blipFill>
        <p:spPr>
          <a:xfrm>
            <a:off x="7192800" y="0"/>
            <a:ext cx="1951200" cy="194472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лан изучения нового материала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 Что такое рынок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 Деньги в экономик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. Банки в экономик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10" descr="1"/>
          <p:cNvPicPr/>
          <p:nvPr/>
        </p:nvPicPr>
        <p:blipFill>
          <a:blip r:embed="rId1"/>
          <a:stretch/>
        </p:blipFill>
        <p:spPr>
          <a:xfrm>
            <a:off x="8244000" y="0"/>
            <a:ext cx="900000" cy="20541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ведение в новый материал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 недавнего времени у нас не существовало рыночной экономики. Как же развивалось производство? Почему нашему государству пришлось перейти на рыночные рельсы? В чем плюсы и минусы подобного шаг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вайте обсудим эти вопросы на нашем уро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1. Рыно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годня мы довольно часто слышим это понятие «рынок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оно появилос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собой представляли первые рынк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они выглядят сегодн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Картинка 138 из 298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4076640"/>
            <a:ext cx="5076720" cy="25210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дведем итоги рассуждений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Таким образ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рынок представляет собой систему экономических отношений, связанных с обменом товаров и услуг между продавцами и покупател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Рынок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это место встречи продавцов и покупателей, где сталкиваются их интересы и возникает торг. Предметом спора между ними является цена.  От чего она зависит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А 56"/>
          <p:cNvPicPr/>
          <p:nvPr/>
        </p:nvPicPr>
        <p:blipFill>
          <a:blip r:embed="rId1"/>
          <a:stretch/>
        </p:blipFill>
        <p:spPr>
          <a:xfrm>
            <a:off x="6659640" y="5562720"/>
            <a:ext cx="1511280" cy="1295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нализируем схем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1042920" y="1341360"/>
            <a:ext cx="6624720" cy="647640"/>
          </a:xfrm>
          <a:prstGeom prst="bevel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Рыночная цена определя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324000" y="2565360"/>
            <a:ext cx="3311280" cy="1440000"/>
          </a:xfrm>
          <a:prstGeom prst="bevel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Количество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произведенн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това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5292720" y="2565360"/>
            <a:ext cx="3311640" cy="1440000"/>
          </a:xfrm>
          <a:prstGeom prst="bevel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Спросом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произведен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това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403280" y="4724280"/>
            <a:ext cx="5904000" cy="1368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Т.е. желанием и возможностям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приобрести тов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2050920" y="2060640"/>
            <a:ext cx="6494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6372360" y="2060640"/>
            <a:ext cx="6490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4211640" y="2276640"/>
            <a:ext cx="289080" cy="2160360"/>
          </a:xfrm>
          <a:prstGeom prst="downArrow">
            <a:avLst>
              <a:gd name="adj1" fmla="val 50000"/>
              <a:gd name="adj2" fmla="val 18683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ыночная экономика имеет ряд особенностей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ана на частной форме собств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ана на инициативе, свободе и предприимчивости  производите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ны на товары и услуги складываются в зависимости от спроса и предложения на рын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нирование  и прогнозирование носит только рекомендательный характе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ственность за результаты производственной деятельности несет сам производите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60"/>
                            </p:stCondLst>
                            <p:childTnLst>
                              <p:par>
                                <p:cTn id="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2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560"/>
                            </p:stCondLst>
                            <p:childTnLst>
                              <p:par>
                                <p:cTn id="2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560"/>
                            </p:stCondLst>
                            <p:childTnLst>
                              <p:par>
                                <p:cTn id="2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2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18:57:55Z</dcterms:created>
  <dc:creator>Paradise</dc:creator>
  <dc:description/>
  <dc:language>en-US</dc:language>
  <cp:lastModifiedBy>LEGION</cp:lastModifiedBy>
  <dcterms:modified xsi:type="dcterms:W3CDTF">2016-01-04T13:43:18Z</dcterms:modified>
  <cp:revision>9</cp:revision>
  <dc:subject/>
  <dc:title>Слайд 1</dc:title>
</cp:coreProperties>
</file>