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gif" ContentType="image/gif"/>
  <Override PartName="/ppt/media/image1.jpeg" ContentType="image/jpeg"/>
  <Override PartName="/ppt/media/image3.png" ContentType="image/pn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13.gif" ContentType="image/gif"/>
  <Override PartName="/ppt/media/image5.gif" ContentType="image/gif"/>
  <Override PartName="/ppt/media/image6.gif" ContentType="image/gif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26B05-8136-4625-A1DF-7893E1ACDEBA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ьте, что мы случайно услышали спор двух людей в общественном транспорте. Представитель старшего поколения весьма отрицательно говорил о рыночной экономике. Он приводил примеры обнищания населения, непомерно высоких цен, неуверенности в завтрашнем дне. В его словах звучала горечь об изменении нравственного облика людей, которые только и думают о деньгах… Ему возражал молодой человек, утверждавший, что только рынок способен удовлетворить потребности человека и, что будущее страны за рыночной экономи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же из них прав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о бы вы поддержали в этом споре? А может быть, у вас иное мнение на этот сче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нно об этих вопросах и пойдет речь на нашем занят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едставьте, что мы случайно услышали спор двух людей в общественном транспорте. Представитель старшего поколения весьма отрицательно говорил о рыночной экономике. Он приводил примеры обнищания населения, непомерно высоких цен, неуверенности в завтрашнем дне. В его словах звучала горечь об изменении нравственного облика людей, которые только и думают о деньгах… Ему возражал молодой человек, утверждавший, что только рынок способен удовлетворить потребности человека и, что будущее страны за рыночной экономико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то же из них прав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ого бы вы поддержали в этом споре? А может быть, у вас иное мнение на этот счет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менно об этих вопросах и пойдет речь на нашем заняти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бившись на творческие группы, обсудите тезисы для табли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Рыночная экономик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дание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збившись на творческие группы, обсудите тезисы для таблиц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«Рыночная экономика»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Деньги и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ие сегодня убеждены во всесильности денег в современном мире. Обсудим, насколько верно это утверж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переходом к рыночной экономике деньги стали играть все большую роль в нашем обществ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что мы знаем о том, как они возникли и какую роль играли и играют в жизни человечеств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робуем разобраться в этих очень непростых вопросах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. Деньги и экономик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ногие сегодня убеждены во всесильности денег в современном мире. Обсудим, насколько верно это утверждени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 переходом к рыночной экономике деньги стали играть все большую роль в нашем обществе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 что мы знаем о том, как они возникли и какую роль играли и играют в жизни человечества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пробуем разобраться в этих очень непростых вопросах.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я дополнительный материал, расскажите об истории возникновения дене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дание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спользуя дополнительный материал, расскажите об истории возникновения денег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к тексту:     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впервые ввел понятие «деньги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было введено данное понят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й материал предлагает использовать Аристотель в виде денег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сам философ относился к деньга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просы к тексту:      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то впервые ввел понятие «деньги»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чему было введено данное понятие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кой материал предлагает использовать Аристотель в виде денег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чему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к сам философ относился к деньгам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же функции выполняют деньги? Посмотрите и прокомментируйте таблиц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дене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дание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кие же функции выполняют деньги? Посмотрите и прокомментируйте таблицу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ункции денег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предлагаю вам познакомиться с высказываниями известных деятелей истории, науки, полит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робуйте сгруппировать сходные м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дание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Я предлагаю вам познакомиться с высказываниями известных деятелей истории, науки, политики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пробуйте сгруппировать сходные мне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уальная проблем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годня у многих людей создается впечатление, что деньги всесильны. Они рассуждают примерно так: «Были бы деньги – остальное купим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вы относитесь к подобному высказыванию? Свое мнение аргументируй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нельзя купить за деньги? Обоснуйте свой отв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ктуальная проблема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егодня у многих людей создается впечатление, что деньги всесильны. Они рассуждают примерно так: «Были бы деньги – остальное купим»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к вы относитесь к подобному высказыванию? Свое мнение аргументируйт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Что нельзя купить за деньги? Обоснуйте свой ответ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Банки в экономи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банк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они появились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ую роль играют в экономике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:  обсудим эти вопросы, работая с 3 пунктом § 8 учебника и с дополнительными материал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.  Банки в экономик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Что такое банки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огда они появились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кую роль играют в экономике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дание:  обсудим эти вопросы, работая с 3 пунктом § 8 учебника и с дополнительными материалам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к класс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Что такое бан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огда впервые появились бан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кова история их появл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зовите и охарактеризуйте функции бан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кова роль банков в жизни современного обществ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сле событий 1998 г. доверие к банковским системам в России оказалось серьезно подорвано. Отношение простых людей к банкам сегодня скорее настороженное, чем положительное. Нужно ли, с вашей точки зрения, хранить деньги в банка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просы к классу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 Что такое банки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 Когда впервые появились банки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 Какова история их появления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 Назовите и охарактеризуйте функции банко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 Какова роль банков в жизни современного общества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 После событий 1998 г. доверие к банковским системам в России оказалось серьезно подорвано. Отношение простых людей к банкам сегодня скорее настороженное, чем положительное. Нужно ли, с вашей точки зрения, хранить деньги в банках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ведение итогов за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ак, сегодня на уроке мы узнали, что рынок представляет собой систему экономических отношений, связанных с обменом товаров и услуг, процесс купли-продажи. Продажа и покупка товаров и услуг осуществляется  при помощи дене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дведение итогов занят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так, сегодня на уроке мы узнали, что рынок представляет собой систему экономических отношений, связанных с обменом товаров и услуг, процесс купли-продажи. Продажа и покупка товаров и услуг осуществляется  при помощи денег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№ 1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урока: «Рыно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рок № 10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ема урока: «Рынок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ное задани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негреческий ученый Пифагор говорил: «Законодатель! Не пиши законов торговле: она не терпит их, как океан, носящий корабл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вы думаете, нужны ли четкие законы, регулирующие торговлю, и 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блемное задание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ревнегреческий ученый Пифагор говорил: «Законодатель! Не пиши законов торговле: она не терпит их, как океан, носящий корабли»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к вы думаете, нужны ли четкие законы, регулирующие торговлю, и почему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учить § 8, ответить на вопросы к параграф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ть творческое задание:  вам необходимо выступить на конференции с докладом на тему «Зачем нужны деньги и можно ли без них прожить?» Подготовьте тезисы-аргументы для докла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омашнее задание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ыучить § 8, ответить на вопросы к параграфу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ыполнить творческое задание:  вам необходимо выступить на конференции с докладом на тему «Зачем нужны деньги и можно ли без них прожить?» Подготовьте тезисы-аргументы для доклад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Желаю удач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Желаю удачи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и задач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яснить понятия «рынок», «торговля», «деньги», «банки», «рыночная цена», «вклад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снить роль и значение рынка в развитии экономики; показать на примерах, как торговля помогает производству, а деньги служат людям; познакомиться с историей появлением банков, обсудить их роль в развитии эконо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ить учиться делать сравнительный анализ, решать проблемы, участвовать в дискуссии, оценивать события и явления с разных точек зр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ходе урока постараться выразить свое отношение к капиталу и задуматься над соотношением материальных и нравственных интересов в области рыночных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ли и задачи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бъяснить понятия «рынок», «торговля», «деньги», «банки», «рыночная цена», «вклад»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ыяснить роль и значение рынка в развитии экономики; показать на примерах, как торговля помогает производству, а деньги служат людям; познакомиться с историей появлением банков, обсудить их роль в развитии экономик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должить учиться делать сравнительный анализ, решать проблемы, участвовать в дискуссии, оценивать события и явления с разных точек зре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ходе урока постараться выразить свое отношение к капиталу и задуматься над соотношением материальных и нравственных интересов в области рыночных отношени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изучения нового материал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Что такое рыно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Деньги в экономи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Банки в экономи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лан изучения нового материала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 Что такое рынок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. Деньги в экономик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. Банки в экономик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ие в новый материа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недавнего времени у нас не существовало рыночной экономики. Как же развивалось производство? Почему нашему государству пришлось перейти на рыночные рельсы? В чем плюсы и минусы подобного шаг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вайте обсудим эти вопросы на нашем уро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ведение в новый материа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о недавнего времени у нас не существовало рыночной экономики. Как же развивалось производство? Почему нашему государству пришлось перейти на рыночные рельсы? В чем плюсы и минусы подобного шага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авайте обсудим эти вопросы на нашем урок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годня мы довольно часто слышим это понятие «рынок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оно появилось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собой представляли первые рын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ни выглядят сегодн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 Рыно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егодня мы довольно часто слышим это понятие «рынок»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огда оно появилось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Что собой представляли первые рынки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к они выглядят сегодня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ведем итоги рассуждений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им образом, рынок представляет собой систему экономических отношений, связанных с обменом товаров и услуг между продавцами и покупател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– это место встречи продавцов и покупателей, где сталкиваются их интересы и возникает торг. Предметом спора между ними является цена.  От чего она зависит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дведем итоги рассуждений…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аким образом, рынок представляет собой систему экономических отношений, связанных с обменом товаров и услуг между продавцами и покупателям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ынок – это место встречи продавцов и покупателей, где сталкиваются их интересы и возникает торг. Предметом спора между ними является цена.  От чего она зависит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ируем схе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чная цена определя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еден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ом 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еден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.е. желанием и возможностя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обрести тов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нализируем схем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ыночная цена определяетс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оличеством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изведенных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оваро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просом на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изведенные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овар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.е. желанием и возможностями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иобрести товар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чная экономика имеет ряд особенност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на на частной форме собств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на на инициативе, свободе и предприимчивости  производит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 на товары и услуги складываются в зависимости от спроса и предложения на рын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ирование  и прогнозирование носит только рекомендательный характ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ственность за результаты производственной деятельности несет сам производите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ыночная экономика имеет ряд особенностей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снована на частной форме собственност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снована на инициативе, свободе и предприимчивости  производител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ны на товары и услуги складываются в зависимости от спроса и предложения на рынк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ланирование  и прогнозирование носит только рекомендательный характер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тветственность за результаты производственной деятельности несет сам производитель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65C7-E8C3-4FE2-9987-0B73460DB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E0D7-71FF-4E49-A040-31204EF52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A6B5-BD33-471F-AE27-A08AF1464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89B7-35F5-4468-B8A7-C5302972E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0AEE8-AC6C-4AD6-80FE-B8A277DEF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AA17F-4B3F-4D33-9B40-04FABCBF3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5063E-FC01-4E4A-A57F-5F37AC781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BC093-4ECD-404D-9F5B-C9C786B00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E0F25-A005-409E-9EBC-63169C6A7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2A926-7539-4CA6-AA5C-93DCA7376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EE359-502D-4BA4-B816-72DBC101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4A82-DE33-4FCD-9D38-9BBA2656E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5E6F7-E1F4-499C-A36A-5D3384683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7839A-BE78-40EE-8515-AB045306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25BC6-F0B9-46C6-915D-FD1BE1084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555C4-750A-4DA4-B222-6B78C1706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E5ADB-D4E6-40C1-A165-F00ABF1B0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52C7-110F-45EE-A554-D9A8802A4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B38F-97B6-4D33-B2E8-7D5724CFE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60AF-693B-469F-903F-8808B7366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60D7-330F-4C47-9B29-8A3A4B9E1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78FD-F6DF-4DA7-9096-4C847072E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8322-DAE0-428E-A1AB-9AD26A16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748B-5728-4F10-8C76-579737917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ED9AE-BAAE-492E-BC7E-70464FFC4C7A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3C464-675F-49A2-BF1D-9F05C5077E8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heveleva.biz/files/2009/09/70_item_pict_big-d0b1d0b8d180d0b6d0b0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324000"/>
            <a:ext cx="8507520" cy="61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едставьте, что мы случайно услышали спор двух людей в общественном транспорте. Представитель старшего поколения весьма отрицательно говорил о рыночной экономике. Он приводил примеры обнищания населения, непомерно высоких цен, неуверенности в завтрашнем дне. В его словах звучала горечь об изменении нравственного облика людей, которые только и думают о деньгах… Ему возражал молодой человек, утверждавший, что только рынок способен удовлетворить потребности человека и, что будущее страны за рыночной экономик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Кто же из них прав?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го бы вы </a:t>
            </a: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поддержал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в этом споре? А может быть, у вас иное мнение на этот счет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Именно об этих вопросах и пойдет речь на нашем занят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Задание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Разбившись на творческие группы, обсудите тезисы для таблиц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«Рыночная экономика»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684360" y="4005360"/>
          <a:ext cx="7848360" cy="2346120"/>
        </p:xfrm>
        <a:graphic>
          <a:graphicData uri="http://schemas.openxmlformats.org/drawingml/2006/table">
            <a:tbl>
              <a:tblPr/>
              <a:tblGrid>
                <a:gridCol w="3924000"/>
                <a:gridCol w="3924360"/>
              </a:tblGrid>
              <a:tr h="790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Преимущества</a:t>
                      </a:r>
                      <a:r>
                        <a:rPr b="0" lang="ru-RU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Недостатки</a:t>
                      </a:r>
                      <a:r>
                        <a:rPr b="0" lang="ru-RU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6" name="Picture 34" descr="1b3"/>
          <p:cNvPicPr/>
          <p:nvPr/>
        </p:nvPicPr>
        <p:blipFill>
          <a:blip r:embed="rId1"/>
          <a:stretch/>
        </p:blipFill>
        <p:spPr>
          <a:xfrm>
            <a:off x="6516720" y="-100080"/>
            <a:ext cx="2089080" cy="208764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2. Деньги и экономик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ногие сегодня убеждены во всесильности денег в современном мире. Обсудим, насколько верно это утвержде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 переходом к рыночной экономике деньги стали играть все большую роль в нашем обществ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 что мы знаем о том, как они возникли и какую роль играли и играют в жизни человечеств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пробуем разобраться в этих очень непростых вопросах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5" descr="i?id=50818109-02"/>
          <p:cNvPicPr/>
          <p:nvPr/>
        </p:nvPicPr>
        <p:blipFill>
          <a:blip r:embed="rId1"/>
          <a:stretch/>
        </p:blipFill>
        <p:spPr>
          <a:xfrm>
            <a:off x="7524720" y="5445000"/>
            <a:ext cx="1428840" cy="10764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i?id=7916673-04"/>
          <p:cNvPicPr/>
          <p:nvPr/>
        </p:nvPicPr>
        <p:blipFill>
          <a:blip r:embed="rId2"/>
          <a:stretch/>
        </p:blipFill>
        <p:spPr>
          <a:xfrm>
            <a:off x="250920" y="260280"/>
            <a:ext cx="1434960" cy="100800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8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Задание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Используя дополнительный материал, расскажите об истории возникновения денег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5" descr="i?id=164248709-04"/>
          <p:cNvPicPr/>
          <p:nvPr/>
        </p:nvPicPr>
        <p:blipFill>
          <a:blip r:embed="rId1"/>
          <a:stretch/>
        </p:blipFill>
        <p:spPr>
          <a:xfrm>
            <a:off x="2916360" y="3284640"/>
            <a:ext cx="3097080" cy="2808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1b3"/>
          <p:cNvPicPr/>
          <p:nvPr/>
        </p:nvPicPr>
        <p:blipFill>
          <a:blip r:embed="rId2"/>
          <a:stretch/>
        </p:blipFill>
        <p:spPr>
          <a:xfrm>
            <a:off x="7308720" y="-171360"/>
            <a:ext cx="2089440" cy="208764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Вопросы к тексту:      </a:t>
            </a:r>
            <a:r>
              <a:rPr b="0" lang="ru-RU" sz="5400" spc="-1" strike="noStrike">
                <a:solidFill>
                  <a:srgbClr val="ff3300"/>
                </a:solidFill>
                <a:latin typeface="Tahoma"/>
              </a:rPr>
              <a:t>?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то впервые ввел понятие «деньги»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чему было введено данное поняти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ой материал предлагает использовать Аристотель в виде денег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чему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 сам философ относился к деньгам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680"/>
                            </p:stCondLst>
                            <p:childTnLst>
                              <p:par>
                                <p:cTn id="3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1680"/>
                            </p:stCondLst>
                            <p:childTnLst>
                              <p:par>
                                <p:cTn id="3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2680"/>
                            </p:stCondLst>
                            <p:childTnLst>
                              <p:par>
                                <p:cTn id="3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3680"/>
                            </p:stCondLst>
                            <p:childTnLst>
                              <p:par>
                                <p:cTn id="3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4680"/>
                            </p:stCondLst>
                            <p:childTnLst>
                              <p:par>
                                <p:cTn id="3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Задание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кие же функции выполняют деньги? Посмотрите и прокомментируйте таблиц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Tahoma"/>
              </a:rPr>
              <a:t>Функции дене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826920" y="3284640"/>
          <a:ext cx="7417080" cy="1612800"/>
        </p:xfrm>
        <a:graphic>
          <a:graphicData uri="http://schemas.openxmlformats.org/drawingml/2006/table">
            <a:tbl>
              <a:tblPr/>
              <a:tblGrid>
                <a:gridCol w="3708720"/>
                <a:gridCol w="3708360"/>
              </a:tblGrid>
              <a:tr h="575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ункц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ущно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4" name="Picture 29" descr="1b3"/>
          <p:cNvPicPr/>
          <p:nvPr/>
        </p:nvPicPr>
        <p:blipFill>
          <a:blip r:embed="rId1"/>
          <a:stretch/>
        </p:blipFill>
        <p:spPr>
          <a:xfrm>
            <a:off x="7308720" y="-171360"/>
            <a:ext cx="2089440" cy="208764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0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1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360"/>
                            </p:stCondLst>
                            <p:childTnLst>
                              <p:par>
                                <p:cTn id="3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1360"/>
                            </p:stCondLst>
                            <p:childTnLst>
                              <p:par>
                                <p:cTn id="4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2360"/>
                            </p:stCondLst>
                            <p:childTnLst>
                              <p:par>
                                <p:cTn id="4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Задание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Я предлагаю вам познакомиться с высказываниями известных деятелей истории, науки, политики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опробуйте сгруппировать сходные мнения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Picture 6" descr="1b3"/>
          <p:cNvPicPr/>
          <p:nvPr/>
        </p:nvPicPr>
        <p:blipFill>
          <a:blip r:embed="rId1"/>
          <a:stretch/>
        </p:blipFill>
        <p:spPr>
          <a:xfrm>
            <a:off x="7054920" y="0"/>
            <a:ext cx="2089080" cy="208764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0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7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360"/>
                            </p:stCondLst>
                            <p:childTnLst>
                              <p:par>
                                <p:cTn id="4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1360"/>
                            </p:stCondLst>
                            <p:childTnLst>
                              <p:par>
                                <p:cTn id="4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Актуальная проблема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егодня у многих людей создается впечатление, что деньги всесильны. Они рассуждают примерно так: </a:t>
            </a: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«Были бы деньги – остальное купим»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 вы относитесь к подобному высказыванию? Свое мнение аргументируйт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то нельзя купить за деньги? Обоснуйте свой отве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0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3.  Банки в экономике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то такое банки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гда они появились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ую роль играют в экономике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Задание: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обсудим эти вопросы, работая с 3 пунктом § 8 учебника и с дополнительными материала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5" descr="i?id=117084169-03"/>
          <p:cNvPicPr/>
          <p:nvPr/>
        </p:nvPicPr>
        <p:blipFill>
          <a:blip r:embed="rId1"/>
          <a:stretch/>
        </p:blipFill>
        <p:spPr>
          <a:xfrm>
            <a:off x="6732720" y="5157720"/>
            <a:ext cx="1871640" cy="12956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i?id=73713611-07"/>
          <p:cNvPicPr/>
          <p:nvPr/>
        </p:nvPicPr>
        <p:blipFill>
          <a:blip r:embed="rId2"/>
          <a:stretch/>
        </p:blipFill>
        <p:spPr>
          <a:xfrm>
            <a:off x="6948360" y="1268280"/>
            <a:ext cx="1622520" cy="122400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0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Вопросы к классу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Что такое банки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Когда впервые появились банки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Какова история их появления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Назовите и охарактеризуйте функции банк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Какова роль банков в жизни современного обществ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После событий 1998 г. доверие к банковским системам в России оказалось серьезно подорвано. Отношение простых людей к банкам сегодня скорее настороженное, чем положительное. Нужно ли, с вашей точки зрения, хранить деньги в банках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0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5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6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640"/>
                            </p:stCondLst>
                            <p:childTnLst>
                              <p:par>
                                <p:cTn id="5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1640"/>
                            </p:stCondLst>
                            <p:childTnLst>
                              <p:par>
                                <p:cTn id="5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2640"/>
                            </p:stCondLst>
                            <p:childTnLst>
                              <p:par>
                                <p:cTn id="5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3640"/>
                            </p:stCondLst>
                            <p:childTnLst>
                              <p:par>
                                <p:cTn id="5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4640"/>
                            </p:stCondLst>
                            <p:childTnLst>
                              <p:par>
                                <p:cTn id="5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5640"/>
                            </p:stCondLst>
                            <p:childTnLst>
                              <p:par>
                                <p:cTn id="5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Подведение итогов занятия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так, сегодня на уроке мы узнали, что рынок представляет собой систему экономических отношений, связанных с обменом товаров и услуг, процесс купли-продажи. Продажа и покупка товаров и услуг осуществляется  при помощи денег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Picture 5" descr="А 56"/>
          <p:cNvPicPr/>
          <p:nvPr/>
        </p:nvPicPr>
        <p:blipFill>
          <a:blip r:embed="rId1"/>
          <a:stretch/>
        </p:blipFill>
        <p:spPr>
          <a:xfrm>
            <a:off x="5796000" y="5084640"/>
            <a:ext cx="1511280" cy="129564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0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9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0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1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960"/>
                            </p:stCondLst>
                            <p:childTnLst>
                              <p:par>
                                <p:cTn id="5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Урок № 10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Тема урока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cc66"/>
                </a:solidFill>
                <a:latin typeface="Tahoma"/>
              </a:rPr>
              <a:t>«Рынок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7" descr="i?id=52463039-06"/>
          <p:cNvPicPr/>
          <p:nvPr/>
        </p:nvPicPr>
        <p:blipFill>
          <a:blip r:embed="rId1"/>
          <a:stretch/>
        </p:blipFill>
        <p:spPr>
          <a:xfrm>
            <a:off x="2843280" y="2637000"/>
            <a:ext cx="3889440" cy="388764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360"/>
                            </p:stCondLst>
                            <p:childTnLst>
                              <p:par>
                                <p:cTn id="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080"/>
                            </p:stCondLst>
                            <p:childTnLst>
                              <p:par>
                                <p:cTn id="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Проблемное задание: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ревнегреческий ученый Пифагор говорил: «Законодатель! Не пиши законов торговле: она не терпит их, как океан, носящий корабли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 вы думаете, нужны ли четкие законы, регулирующие торговлю, и почему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Picture 5" descr="i?id=38746094-02"/>
          <p:cNvPicPr/>
          <p:nvPr/>
        </p:nvPicPr>
        <p:blipFill>
          <a:blip r:embed="rId1"/>
          <a:stretch/>
        </p:blipFill>
        <p:spPr>
          <a:xfrm>
            <a:off x="3419640" y="4508640"/>
            <a:ext cx="1944360" cy="201600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0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4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5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6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760"/>
                            </p:stCondLst>
                            <p:childTnLst>
                              <p:par>
                                <p:cTn id="5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1760"/>
                            </p:stCondLst>
                            <p:childTnLst>
                              <p:par>
                                <p:cTn id="5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2760"/>
                            </p:stCondLst>
                            <p:childTnLst>
                              <p:par>
                                <p:cTn id="5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Домашнее задание: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Выучить § 8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ответить на вопросы к параграф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Выполнить творческое задание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:  вам необходимо выступить на конференции с докладом на тему «Зачем нужны деньги и можно ли без них прожить?» Подготовьте тезисы-аргументы для доклад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Picture 6" descr="AG00495_"/>
          <p:cNvPicPr/>
          <p:nvPr/>
        </p:nvPicPr>
        <p:blipFill>
          <a:blip r:embed="rId1"/>
          <a:stretch/>
        </p:blipFill>
        <p:spPr>
          <a:xfrm>
            <a:off x="7236000" y="115920"/>
            <a:ext cx="1704960" cy="160668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0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9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0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1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680"/>
                            </p:stCondLst>
                            <p:childTnLst>
                              <p:par>
                                <p:cTn id="59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1680"/>
                            </p:stCondLst>
                            <p:childTnLst>
                              <p:par>
                                <p:cTn id="5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Желаю удачи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4" name="Picture 4" descr="H:\МАМА\Презентации\Сашина презентация\359504974.gif"/>
          <p:cNvPicPr/>
          <p:nvPr/>
        </p:nvPicPr>
        <p:blipFill>
          <a:blip r:embed="rId1"/>
          <a:stretch/>
        </p:blipFill>
        <p:spPr>
          <a:xfrm>
            <a:off x="2843280" y="1916280"/>
            <a:ext cx="3384360" cy="3313080"/>
          </a:xfrm>
          <a:prstGeom prst="rect">
            <a:avLst/>
          </a:prstGeom>
          <a:ln w="0">
            <a:noFill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6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7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8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980"/>
                            </p:stCondLst>
                            <p:childTnLst>
                              <p:par>
                                <p:cTn id="620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1480"/>
                            </p:stCondLst>
                            <p:childTnLst>
                              <p:par>
                                <p:cTn id="626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2480"/>
                            </p:stCondLst>
                            <p:childTnLst>
                              <p:par>
                                <p:cTn id="632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3480"/>
                            </p:stCondLst>
                            <p:childTnLst>
                              <p:par>
                                <p:cTn id="638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Цели и задачи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907560"/>
            <a:ext cx="843588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ъяснить понятия </a:t>
            </a: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«рынок», «торговля», «деньги», «банки», «рыночная цена», «вклад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яснить роль и значение рынка в развитии экономики; показать на примерах, как торговля помогает производству, а деньги служат людям; познакомиться с историей появлением банков, обсудить их роль в развитии экономи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должить учиться делать сравнительный анализ, решать проблемы, участвовать в дискуссии, оценивать события и явления с разных точек зр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ходе урока постараться выразить свое отношение к капиталу и задуматься над соотношением материальных и нравственных интересов в области рыночных отношен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5" descr="Рисунок122"/>
          <p:cNvPicPr/>
          <p:nvPr/>
        </p:nvPicPr>
        <p:blipFill>
          <a:blip r:embed="rId1"/>
          <a:stretch/>
        </p:blipFill>
        <p:spPr>
          <a:xfrm>
            <a:off x="7192800" y="0"/>
            <a:ext cx="1951200" cy="194472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План изучения нового материала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1. Что такое рынок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2. Деньги в экономике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3. Банки в экономике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10" descr="1"/>
          <p:cNvPicPr/>
          <p:nvPr/>
        </p:nvPicPr>
        <p:blipFill>
          <a:blip r:embed="rId1"/>
          <a:stretch/>
        </p:blipFill>
        <p:spPr>
          <a:xfrm>
            <a:off x="8244000" y="0"/>
            <a:ext cx="900000" cy="205416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Введение в новый материал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о недавнего времени у нас не существовало рыночной экономики. Как же развивалось производство? Почему нашему государству пришлось перейти на рыночные рельсы? В чем плюсы и минусы подобного шага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авайте обсудим эти вопросы на нашем урок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1. Рынок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егодня мы довольно часто слышим это понятие «рынок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гда оно появилось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то собой представляли первые рынк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 они выглядят сегодня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6" descr="Картинка 138 из 298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40000" y="4076640"/>
            <a:ext cx="5076720" cy="252108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Подведем итоги рассуждений…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Таким образом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рынок представляет собой систему экономических отношений, связанных с обменом товаров и услуг между продавцами и покупателя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Рынок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– это место встречи продавцов и покупателей, где сталкиваются их интересы и возникает торг. Предметом спора между ними является цена.  От чего она зависит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5" descr="А 56"/>
          <p:cNvPicPr/>
          <p:nvPr/>
        </p:nvPicPr>
        <p:blipFill>
          <a:blip r:embed="rId1"/>
          <a:stretch/>
        </p:blipFill>
        <p:spPr>
          <a:xfrm>
            <a:off x="6659640" y="5562720"/>
            <a:ext cx="1511280" cy="129528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040"/>
                            </p:stCondLst>
                            <p:childTnLst>
                              <p:par>
                                <p:cTn id="1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2040"/>
                            </p:stCondLst>
                            <p:childTnLst>
                              <p:par>
                                <p:cTn id="1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Анализируем схему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AutoShape 4"/>
          <p:cNvSpPr/>
          <p:nvPr/>
        </p:nvSpPr>
        <p:spPr>
          <a:xfrm>
            <a:off x="1042920" y="1341360"/>
            <a:ext cx="6624720" cy="647640"/>
          </a:xfrm>
          <a:prstGeom prst="bevel">
            <a:avLst>
              <a:gd name="adj" fmla="val 125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20000"/>
                </a:solidFill>
                <a:latin typeface="Tahoma"/>
              </a:rPr>
              <a:t>Рыночная цена определяет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AutoShape 5"/>
          <p:cNvSpPr/>
          <p:nvPr/>
        </p:nvSpPr>
        <p:spPr>
          <a:xfrm>
            <a:off x="324000" y="2565360"/>
            <a:ext cx="3311280" cy="1440000"/>
          </a:xfrm>
          <a:prstGeom prst="bevel">
            <a:avLst>
              <a:gd name="adj" fmla="val 125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20000"/>
                </a:solidFill>
                <a:latin typeface="Tahoma"/>
              </a:rPr>
              <a:t>Количеством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20000"/>
                </a:solidFill>
                <a:latin typeface="Tahoma"/>
              </a:rPr>
              <a:t>произведенных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20000"/>
                </a:solidFill>
                <a:latin typeface="Tahoma"/>
              </a:rPr>
              <a:t>товар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5292720" y="2565360"/>
            <a:ext cx="3311640" cy="1440000"/>
          </a:xfrm>
          <a:prstGeom prst="bevel">
            <a:avLst>
              <a:gd name="adj" fmla="val 125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20000"/>
                </a:solidFill>
                <a:latin typeface="Tahoma"/>
              </a:rPr>
              <a:t>Спросом н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20000"/>
                </a:solidFill>
                <a:latin typeface="Tahoma"/>
              </a:rPr>
              <a:t>произведенны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20000"/>
                </a:solidFill>
                <a:latin typeface="Tahoma"/>
              </a:rPr>
              <a:t>товар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AutoShape 7"/>
          <p:cNvSpPr/>
          <p:nvPr/>
        </p:nvSpPr>
        <p:spPr>
          <a:xfrm>
            <a:off x="1403280" y="4724280"/>
            <a:ext cx="5904000" cy="136872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20000"/>
                </a:solidFill>
                <a:latin typeface="Tahoma"/>
              </a:rPr>
              <a:t>Т.е. желанием и возможностям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20000"/>
                </a:solidFill>
                <a:latin typeface="Tahoma"/>
              </a:rPr>
              <a:t>приобрести това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AutoShape 8"/>
          <p:cNvSpPr/>
          <p:nvPr/>
        </p:nvSpPr>
        <p:spPr>
          <a:xfrm>
            <a:off x="2050920" y="2060640"/>
            <a:ext cx="6494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AutoShape 9"/>
          <p:cNvSpPr/>
          <p:nvPr/>
        </p:nvSpPr>
        <p:spPr>
          <a:xfrm>
            <a:off x="6372360" y="2060640"/>
            <a:ext cx="64908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AutoShape 10"/>
          <p:cNvSpPr/>
          <p:nvPr/>
        </p:nvSpPr>
        <p:spPr>
          <a:xfrm>
            <a:off x="4211640" y="2276640"/>
            <a:ext cx="289080" cy="2160360"/>
          </a:xfrm>
          <a:prstGeom prst="downArrow">
            <a:avLst>
              <a:gd name="adj1" fmla="val 50000"/>
              <a:gd name="adj2" fmla="val 186831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Рыночная экономика имеет ряд особенностей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снована на частной форме собствен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снована на инициативе, свободе и предприимчивости  производител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Цены на товары и услуги складываются в зависимости от спроса и предложения на рынк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ланирование  и прогнозирование носит только рекомендательный характер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ветственность за результаты производственной деятельности несет сам производител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560"/>
                            </p:stCondLst>
                            <p:childTnLst>
                              <p:par>
                                <p:cTn id="2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2560"/>
                            </p:stCondLst>
                            <p:childTnLst>
                              <p:par>
                                <p:cTn id="2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3560"/>
                            </p:stCondLst>
                            <p:childTnLst>
                              <p:par>
                                <p:cTn id="2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4560"/>
                            </p:stCondLst>
                            <p:childTnLst>
                              <p:par>
                                <p:cTn id="2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5560"/>
                            </p:stCondLst>
                            <p:childTnLst>
                              <p:par>
                                <p:cTn id="2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8T18:57:55Z</dcterms:created>
  <dc:creator>Paradise</dc:creator>
  <dc:description/>
  <dc:language>en-US</dc:language>
  <cp:lastModifiedBy>LEGION</cp:lastModifiedBy>
  <dcterms:modified xsi:type="dcterms:W3CDTF">2016-01-04T13:43:18Z</dcterms:modified>
  <cp:revision>9</cp:revision>
  <dc:subject/>
  <dc:title>Слайд 1</dc:title>
</cp:coreProperties>
</file>