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4270-40DF-4CB4-93AF-9E33568FC1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его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и его фун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чем идет реч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очн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очной эконом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ите сх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ессанс мал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ое отношение к т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тизация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нессанс малого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 рамка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в рамка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вои зна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– все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1-2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– 3-4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– больше 4 оши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ьте свои знани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 – все прави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 – 1-2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 – 3-4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2» – больше 4 ошиб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цените свою работу на уро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глава 2, пункт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3-6 (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глава 2, пункт 3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3-6 (устн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ерика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вед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кциональная социализац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вед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Функциональная социализация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рыночное хозяйство Ф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 рыночное хозяйство Ф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олните сх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ополните схем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по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купли-продажи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рын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то купли-продажи тов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2A6-6D96-4B76-ADA3-FEF2EA81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89B-055A-48E3-8A1C-24384000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97E-E7B7-426B-846B-38B73017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E7B-E275-4EE9-B257-C7A0B8BD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A2CB-3560-42A1-A532-5BDD5854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8939-9E7D-4464-A194-54CCC648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DC16-DBB9-40CF-A862-A872E92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6F53-60FD-4CA7-8423-3525B9AC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F3C1-43E4-43E9-B01D-EBEE3FF3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DF74-ABC3-4865-85D3-F5BABF48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6803-F9A4-484A-8372-D6085C0F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7DD-F4F6-4E4C-AE2F-CDB147C2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2A0D-DD0A-45BC-A63C-ECFCDBAC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ED9A-D256-48E2-857C-C34ACCAD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AAE2-907E-4A9C-B9A7-98CB24F4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946E-B004-41CD-A717-8D95303E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6568-33B8-4E36-9828-D1D07C3A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FEFC5-0400-4F29-B597-C00D5C2F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6809-669C-457F-9D3E-8C32B213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01E9-5E33-4C89-9804-E190046D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DB9C-02B9-426F-B163-CD685602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A92B-871B-49EB-A698-2453B8B2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517-E708-4F2B-8EC8-CEA55312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100B-F6B1-4091-AF34-98E7C24B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1194-158C-4D40-B4BF-E0D777B4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6CD7-4A99-42E3-9D47-565E30E4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3D270-9F68-4649-BC4A-F7E4D71C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F772-F493-4532-B0A4-3A6B8BCC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C809-EED5-4595-8D13-E5D02D00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D488-7DCE-4407-A596-3C6FACBA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509E-F287-4DFC-B10F-79266DE3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F9A74-EC55-4B71-B635-ADFDCF36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02C46-4057-4D66-BC51-6E7AF230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66B-C615-4915-BB31-8A2B04F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A7113-4B1B-44D6-A3D5-06E06674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223C-EB07-4044-8B0D-877BC813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4C817-C372-4525-AA03-ACE40D09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28BBA-D32B-4126-9696-4522321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4F9EB-0797-488F-B36F-FF317B33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31B78-E60A-407C-A862-0EF0C2DF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7877-CCD0-4839-AC8E-0E9D1E37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1C079-B26E-44EB-9C0A-19FFB46E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928F-C69C-47C7-BBF3-B6383AD0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D7556-1A11-450F-83C9-0D1DBE43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DBD-86EB-4994-ADF7-391D50BB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3274E-EF1A-45EB-A97D-B23B822E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1022E-1BFF-4D88-8F84-F10D6E7B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E54F3-29B9-4AA9-B6DF-5D9A469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B74EA-F191-487C-9350-2749738E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C5A65-48DD-43DD-A190-060F1D7B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9A5D3-361C-4478-B0F6-F4E843A9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4109E-7729-4512-A11C-82AE6963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16091-21F3-447D-9B45-A02758B5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9B009-9E44-4BEA-BF76-6213B810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C3DB7-6215-4127-A850-D6A00235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749-269E-4F1E-ABE9-C1BF4958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D6D3A-93D5-476E-A25C-64589DAB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FCBBE-D983-42D2-9B56-166EAE9A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E9E52-F1F6-4F6D-9522-757233CB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6F5E-E12D-49BA-8384-FE916ABE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45558-6EE7-491F-BF19-75D14645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13780-D6D4-4371-BD39-1FE8E1C9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2AE32-4796-423A-BEC6-7A284BB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B2206-AA31-4E9C-950D-507A6AB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D71AE-0587-48B7-A98D-505AE40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B525A-6102-47EF-9AA4-F8626C7E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DF4-E9B8-4498-A579-8770AE5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A5B6-DDA0-4437-AEB1-F951582E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8C82E-7780-463B-AE23-8336EA30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10850-C708-40A3-8701-FBFE8F50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7C117-F96D-4579-9516-B13971AA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05013-2C5B-49D5-AF11-C31C9489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9DD84-C5D1-455C-B71A-18AC30F0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37323-C09D-40E8-8122-B5C331DF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05BB-3355-4AAF-97F9-45605BA8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3821B-3EE7-4945-A98A-848F1814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D5F6-EE1A-4B02-B4D7-17685716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1AC-D2B4-4EC3-BE83-FC0C3163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99561-6535-4237-A6BF-833928CA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FDBC2-7301-43E1-92D8-C231AE7D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3508-85D5-4873-A4B2-6392E1CC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E878D-6DD1-4057-B5C9-C4ADAD24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C0B90-C41C-4CFD-B8A6-5A9EA823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D7B-7DB5-4A7A-8110-68C614C4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8E2D-C991-4247-8D97-02A919C5F51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161F-DDD1-415F-B7A2-71FBAECC0A5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44EE-7D39-4A07-BCED-B50D239F0161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5D4A-9BD5-4C7A-A561-767E3AD2D8F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47CA-830D-4E91-96E1-8170381DAFD0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6203-59C9-4C0A-9F35-1873BF2BBA1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C034-2602-4ED2-8B88-52F1762F721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6703-3BDD-4F53-8D7C-57B834A3120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B184-47B4-4E2B-A4F5-6C9EDABB8AB9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C336-0314-43F2-B37E-1C3903FCFBA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9EE6-1B44-449D-B8EC-B75DFE5B28DD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8F6C-81AF-48B3-AA99-8E2AAC96643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634B-1E77-41AF-AA64-317320C35F3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96C4-2CCB-496B-8966-2D3827CC4DC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кономик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0 класс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56800" y="2714760"/>
            <a:ext cx="7944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МУЛ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2" descr="I:\Энциклопедия\Э Экономические системы\картинки\motivations_0.jpg"/>
          <p:cNvPicPr/>
          <p:nvPr/>
        </p:nvPicPr>
        <p:blipFill>
          <a:blip r:embed="rId1"/>
          <a:stretch/>
        </p:blipFill>
        <p:spPr>
          <a:xfrm>
            <a:off x="4979880" y="-103320"/>
            <a:ext cx="4260960" cy="341964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400" y="1784520"/>
            <a:ext cx="47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АН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6" name="Picture 2" descr="I:\Энциклопедия\Э Экономические системы\картинки\575cd7580e7d250c857f8dbf33e159d8_full.jpg"/>
          <p:cNvPicPr/>
          <p:nvPr/>
        </p:nvPicPr>
        <p:blipFill>
          <a:blip r:embed="rId1"/>
          <a:stretch/>
        </p:blipFill>
        <p:spPr>
          <a:xfrm>
            <a:off x="5214960" y="2071800"/>
            <a:ext cx="3809880" cy="30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17841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ведите примеры каждой из функций рынка в действ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0" name="Picture 2" descr="I:\Энциклопедия\Э Экономические системы\картинки\1.jpg"/>
          <p:cNvPicPr/>
          <p:nvPr/>
        </p:nvPicPr>
        <p:blipFill>
          <a:blip r:embed="rId1"/>
          <a:stretch/>
        </p:blipFill>
        <p:spPr>
          <a:xfrm>
            <a:off x="1066680" y="2511360"/>
            <a:ext cx="7266240" cy="63216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 чем идет речь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......... – жизнь торговли и смерть торговц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7d0e9"/>
                </a:solidFill>
                <a:latin typeface="Corbe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a1ca"/>
                </a:solidFill>
                <a:latin typeface="Corbel"/>
              </a:rPr>
              <a:t>Там, где нет .............., спится лучше, но живется хуж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КОНКУРЕНЦИЯ – жизнь торговли и смерть торговце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7d0e9"/>
                </a:solidFill>
                <a:latin typeface="Corbe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a1ca"/>
                </a:solidFill>
                <a:latin typeface="Corbel"/>
              </a:rPr>
              <a:t>Там, где нет КОНКУРЕНЦИИ, спится лучше, но живется хуж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:\Энциклопедия\Э Экономические системы\картинки\f_14765182.jpg"/>
          <p:cNvPicPr/>
          <p:nvPr/>
        </p:nvPicPr>
        <p:blipFill>
          <a:blip r:embed="rId1"/>
          <a:stretch/>
        </p:blipFill>
        <p:spPr>
          <a:xfrm>
            <a:off x="122400" y="1974960"/>
            <a:ext cx="2792160" cy="78883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99840" y="1599840"/>
            <a:ext cx="61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Задание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Выявите положительные черты конкуренц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очной эконом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ая экономика свободной конкуренции (чист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ременная рыночная экономика (современн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стиндустриальное обществ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652720" y="25200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Чистый капитализ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68" name="Picture 2" descr="I:\Энциклопедия\Э Экономические системы\картинки\capitalism_XIX_preview.jpg"/>
          <p:cNvPicPr/>
          <p:nvPr/>
        </p:nvPicPr>
        <p:blipFill>
          <a:blip r:embed="rId1"/>
          <a:stretch/>
        </p:blipFill>
        <p:spPr>
          <a:xfrm>
            <a:off x="-274680" y="-255600"/>
            <a:ext cx="6121440" cy="74055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/>
          <p:cNvSpPr/>
          <p:nvPr/>
        </p:nvSpPr>
        <p:spPr>
          <a:xfrm>
            <a:off x="5715000" y="150012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та система сложилась в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веке и прекратила свое существование в конце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первых десятилетиях ХХ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начительная часть ее элементов вошла в современную рыночную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ная собственность на экономические ресурс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временный капитализ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143320" y="1599840"/>
            <a:ext cx="3786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2" descr="I:\Энциклопедия\Э Экономические системы\картинки\295536.jpg"/>
          <p:cNvPicPr/>
          <p:nvPr/>
        </p:nvPicPr>
        <p:blipFill>
          <a:blip r:embed="rId1"/>
          <a:stretch/>
        </p:blipFill>
        <p:spPr>
          <a:xfrm>
            <a:off x="73080" y="1494000"/>
            <a:ext cx="5200560" cy="5016240"/>
          </a:xfrm>
          <a:prstGeom prst="rect">
            <a:avLst/>
          </a:prstGeom>
          <a:ln w="0">
            <a:noFill/>
          </a:ln>
        </p:spPr>
      </p:pic>
      <p:sp>
        <p:nvSpPr>
          <p:cNvPr id="57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ка домашнего зада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е черты характеризуют административно-плановую систем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олните сх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тиндустриальное обще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т уровня образования, прежде всего за счет послешкольног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овое отношение к труду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вышение внимания к окружающей сре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уманизация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форматизация обще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нессанс малого бизнес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лобализация 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экономическому назначению объектов рыночных отношений: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ынок товаров и услуг, рынок недвижимости, рынок труда, рынок ценных бумаг, денежный рынок и рынок капитал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географическому положению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стный, национальный, миро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отрасля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к зерна, хлопка, автомобилей, компьютеров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 в рамках систе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Зачем необходимо изучать национальные экономические модел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вои знания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1" name="Содержимое 2" descr=""/>
          <p:cNvPicPr/>
          <p:nvPr/>
        </p:nvPicPr>
        <p:blipFill>
          <a:blip r:embed="rId1"/>
          <a:stretch/>
        </p:blipFill>
        <p:spPr>
          <a:xfrm>
            <a:off x="878040" y="1712880"/>
            <a:ext cx="7875360" cy="464508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цените свою работу на уро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Содержимое 3" descr=""/>
          <p:cNvPicPr/>
          <p:nvPr/>
        </p:nvPicPr>
        <p:blipFill>
          <a:blip r:embed="rId1"/>
          <a:stretch/>
        </p:blipFill>
        <p:spPr>
          <a:xfrm>
            <a:off x="847800" y="1719360"/>
            <a:ext cx="7905600" cy="3004920"/>
          </a:xfrm>
          <a:prstGeom prst="rect">
            <a:avLst/>
          </a:prstGeom>
          <a:ln w="0">
            <a:noFill/>
          </a:ln>
        </p:spPr>
      </p:pic>
      <p:sp>
        <p:nvSpPr>
          <p:cNvPr id="5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о группа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арактеристика национальных моделей рыночной экономики: США, Швеция, Германия, Япо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нспе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чебник: глава 2, пункт 3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просы 3-6 (устно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мерика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714400" y="1599840"/>
            <a:ext cx="5972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1" name="Picture 2" descr="I:\Энциклопедия\Э Экономические системы\картинки\45270508_EdwardMoranUnveilingTheStatueofLiberty1886Large.jpg"/>
          <p:cNvPicPr/>
          <p:nvPr/>
        </p:nvPicPr>
        <p:blipFill>
          <a:blip r:embed="rId1"/>
          <a:stretch/>
        </p:blipFill>
        <p:spPr>
          <a:xfrm>
            <a:off x="214200" y="1357200"/>
            <a:ext cx="2214720" cy="545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Швед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642840" y="1599840"/>
            <a:ext cx="52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«Функциональная социализация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5" name="Picture 2" descr="I:\Энциклопедия\Э Экономические системы\картинки\630px-Sweden_greater_coa1908-modern.png"/>
          <p:cNvPicPr/>
          <p:nvPr/>
        </p:nvPicPr>
        <p:blipFill>
          <a:blip r:embed="rId1"/>
          <a:stretch/>
        </p:blipFill>
        <p:spPr>
          <a:xfrm>
            <a:off x="142920" y="2071800"/>
            <a:ext cx="33051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циальное рыночное хозяйство ФР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85760" y="1599840"/>
            <a:ext cx="4900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о активно влияет на цены, пошлины, технические нор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2" descr="I:\Энциклопедия\Э Экономические системы\картинки\201335_001frg8r.jpg"/>
          <p:cNvPicPr/>
          <p:nvPr/>
        </p:nvPicPr>
        <p:blipFill>
          <a:blip r:embed="rId1"/>
          <a:stretch/>
        </p:blipFill>
        <p:spPr>
          <a:xfrm>
            <a:off x="285840" y="1643040"/>
            <a:ext cx="336060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полните схему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382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383" name="AutoShape 15"/>
            <p:cNvGrpSpPr/>
            <p:nvPr/>
          </p:nvGrpSpPr>
          <p:grpSpPr>
            <a:xfrm>
              <a:off x="2160000" y="1700280"/>
              <a:ext cx="4897440" cy="855360"/>
              <a:chOff x="2160000" y="1700280"/>
              <a:chExt cx="4897440" cy="855360"/>
            </a:xfrm>
          </p:grpSpPr>
          <p:pic>
            <p:nvPicPr>
              <p:cNvPr id="384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60000" y="1700280"/>
                <a:ext cx="48974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5"/>
              <p:cNvSpPr/>
              <p:nvPr/>
            </p:nvSpPr>
            <p:spPr>
              <a:xfrm>
                <a:off x="2280240" y="1815120"/>
                <a:ext cx="465516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AutoShape 17"/>
            <p:cNvGrpSpPr/>
            <p:nvPr/>
          </p:nvGrpSpPr>
          <p:grpSpPr>
            <a:xfrm>
              <a:off x="971640" y="2819520"/>
              <a:ext cx="2120040" cy="831960"/>
              <a:chOff x="971640" y="2819520"/>
              <a:chExt cx="2120040" cy="831960"/>
            </a:xfrm>
          </p:grpSpPr>
          <p:pic>
            <p:nvPicPr>
              <p:cNvPr id="387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08000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AutoShape 18"/>
            <p:cNvGrpSpPr/>
            <p:nvPr/>
          </p:nvGrpSpPr>
          <p:grpSpPr>
            <a:xfrm>
              <a:off x="2231640" y="3845160"/>
              <a:ext cx="4825800" cy="861480"/>
              <a:chOff x="2231640" y="3845160"/>
              <a:chExt cx="4825800" cy="861480"/>
            </a:xfrm>
          </p:grpSpPr>
          <p:pic>
            <p:nvPicPr>
              <p:cNvPr id="390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1640" y="3845160"/>
                <a:ext cx="4825800" cy="8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1"/>
              <p:cNvSpPr/>
              <p:nvPr/>
            </p:nvSpPr>
            <p:spPr>
              <a:xfrm>
                <a:off x="2350440" y="3962880"/>
                <a:ext cx="4586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AutoShape 19"/>
            <p:cNvGrpSpPr/>
            <p:nvPr/>
          </p:nvGrpSpPr>
          <p:grpSpPr>
            <a:xfrm>
              <a:off x="3724920" y="2819520"/>
              <a:ext cx="2120040" cy="831960"/>
              <a:chOff x="3724920" y="2819520"/>
              <a:chExt cx="2120040" cy="831960"/>
            </a:xfrm>
          </p:grpSpPr>
          <p:pic>
            <p:nvPicPr>
              <p:cNvPr id="393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492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83112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AutoShape 20"/>
            <p:cNvGrpSpPr/>
            <p:nvPr/>
          </p:nvGrpSpPr>
          <p:grpSpPr>
            <a:xfrm>
              <a:off x="6466320" y="2807640"/>
              <a:ext cx="2138040" cy="855360"/>
              <a:chOff x="6466320" y="2807640"/>
              <a:chExt cx="2138040" cy="855360"/>
            </a:xfrm>
          </p:grpSpPr>
          <p:pic>
            <p:nvPicPr>
              <p:cNvPr id="396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6320" y="2807640"/>
                <a:ext cx="21380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"/>
              <p:cNvSpPr/>
              <p:nvPr/>
            </p:nvSpPr>
            <p:spPr>
              <a:xfrm>
                <a:off x="6582600" y="2923200"/>
                <a:ext cx="19062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AutoShape 21"/>
            <p:cNvGrpSpPr/>
            <p:nvPr/>
          </p:nvGrpSpPr>
          <p:grpSpPr>
            <a:xfrm>
              <a:off x="2231640" y="5023080"/>
              <a:ext cx="4825800" cy="855360"/>
              <a:chOff x="2231640" y="5023080"/>
              <a:chExt cx="4825800" cy="855360"/>
            </a:xfrm>
          </p:grpSpPr>
          <p:pic>
            <p:nvPicPr>
              <p:cNvPr id="399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1640" y="5023080"/>
                <a:ext cx="482580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20"/>
              <p:cNvSpPr/>
              <p:nvPr/>
            </p:nvSpPr>
            <p:spPr>
              <a:xfrm>
                <a:off x="2350080" y="5139000"/>
                <a:ext cx="45853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AutoShape 22"/>
            <p:cNvGrpSpPr/>
            <p:nvPr/>
          </p:nvGrpSpPr>
          <p:grpSpPr>
            <a:xfrm>
              <a:off x="2452680" y="2327040"/>
              <a:ext cx="364320" cy="703080"/>
              <a:chOff x="2452680" y="2327040"/>
              <a:chExt cx="364320" cy="703080"/>
            </a:xfrm>
          </p:grpSpPr>
          <p:pic>
            <p:nvPicPr>
              <p:cNvPr id="402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268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258048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AutoShape 23"/>
            <p:cNvGrpSpPr/>
            <p:nvPr/>
          </p:nvGrpSpPr>
          <p:grpSpPr>
            <a:xfrm>
              <a:off x="4423680" y="2327040"/>
              <a:ext cx="370080" cy="703080"/>
              <a:chOff x="4423680" y="2327040"/>
              <a:chExt cx="370080" cy="703080"/>
            </a:xfrm>
          </p:grpSpPr>
          <p:pic>
            <p:nvPicPr>
              <p:cNvPr id="405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3680" y="232704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4555800" y="247464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AutoShape 24"/>
            <p:cNvGrpSpPr/>
            <p:nvPr/>
          </p:nvGrpSpPr>
          <p:grpSpPr>
            <a:xfrm>
              <a:off x="6537960" y="3434760"/>
              <a:ext cx="370080" cy="697320"/>
              <a:chOff x="6537960" y="3434760"/>
              <a:chExt cx="370080" cy="697320"/>
            </a:xfrm>
          </p:grpSpPr>
          <p:pic>
            <p:nvPicPr>
              <p:cNvPr id="408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37960" y="343476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671160" y="35812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AutoShape 25"/>
            <p:cNvGrpSpPr/>
            <p:nvPr/>
          </p:nvGrpSpPr>
          <p:grpSpPr>
            <a:xfrm>
              <a:off x="4423680" y="3370320"/>
              <a:ext cx="370080" cy="697320"/>
              <a:chOff x="4423680" y="3370320"/>
              <a:chExt cx="370080" cy="697320"/>
            </a:xfrm>
          </p:grpSpPr>
          <p:pic>
            <p:nvPicPr>
              <p:cNvPr id="411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3680" y="33703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4555800" y="351252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AutoShape 26"/>
            <p:cNvGrpSpPr/>
            <p:nvPr/>
          </p:nvGrpSpPr>
          <p:grpSpPr>
            <a:xfrm>
              <a:off x="2452680" y="3434760"/>
              <a:ext cx="364320" cy="697320"/>
              <a:chOff x="2452680" y="3434760"/>
              <a:chExt cx="364320" cy="697320"/>
            </a:xfrm>
          </p:grpSpPr>
          <p:pic>
            <p:nvPicPr>
              <p:cNvPr id="414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52680" y="343476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2580480" y="35812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AutoShape 27"/>
            <p:cNvGrpSpPr/>
            <p:nvPr/>
          </p:nvGrpSpPr>
          <p:grpSpPr>
            <a:xfrm>
              <a:off x="6472440" y="2327040"/>
              <a:ext cx="364320" cy="703080"/>
              <a:chOff x="6472440" y="2327040"/>
              <a:chExt cx="364320" cy="703080"/>
            </a:xfrm>
          </p:grpSpPr>
          <p:pic>
            <p:nvPicPr>
              <p:cNvPr id="417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7244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60132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AutoShape 28"/>
            <p:cNvGrpSpPr/>
            <p:nvPr/>
          </p:nvGrpSpPr>
          <p:grpSpPr>
            <a:xfrm>
              <a:off x="2661840" y="2333160"/>
              <a:ext cx="364320" cy="703080"/>
              <a:chOff x="2661840" y="2333160"/>
              <a:chExt cx="364320" cy="703080"/>
            </a:xfrm>
          </p:grpSpPr>
          <p:pic>
            <p:nvPicPr>
              <p:cNvPr id="420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184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79216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AutoShape 29"/>
            <p:cNvGrpSpPr/>
            <p:nvPr/>
          </p:nvGrpSpPr>
          <p:grpSpPr>
            <a:xfrm>
              <a:off x="4638600" y="2333160"/>
              <a:ext cx="364320" cy="703080"/>
              <a:chOff x="4638600" y="2333160"/>
              <a:chExt cx="364320" cy="703080"/>
            </a:xfrm>
          </p:grpSpPr>
          <p:pic>
            <p:nvPicPr>
              <p:cNvPr id="423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3860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476712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AutoShape 30"/>
            <p:cNvGrpSpPr/>
            <p:nvPr/>
          </p:nvGrpSpPr>
          <p:grpSpPr>
            <a:xfrm>
              <a:off x="2799000" y="4483800"/>
              <a:ext cx="370080" cy="697320"/>
              <a:chOff x="2799000" y="4483800"/>
              <a:chExt cx="370080" cy="697320"/>
            </a:xfrm>
          </p:grpSpPr>
          <p:pic>
            <p:nvPicPr>
              <p:cNvPr id="426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9900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293184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AutoShape 31"/>
            <p:cNvGrpSpPr/>
            <p:nvPr/>
          </p:nvGrpSpPr>
          <p:grpSpPr>
            <a:xfrm>
              <a:off x="3927960" y="4483800"/>
              <a:ext cx="370080" cy="697320"/>
              <a:chOff x="3927960" y="4483800"/>
              <a:chExt cx="370080" cy="697320"/>
            </a:xfrm>
          </p:grpSpPr>
          <p:pic>
            <p:nvPicPr>
              <p:cNvPr id="429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279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06116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AutoShape 32"/>
            <p:cNvGrpSpPr/>
            <p:nvPr/>
          </p:nvGrpSpPr>
          <p:grpSpPr>
            <a:xfrm>
              <a:off x="5128560" y="4483800"/>
              <a:ext cx="370080" cy="697320"/>
              <a:chOff x="5128560" y="4483800"/>
              <a:chExt cx="370080" cy="697320"/>
            </a:xfrm>
          </p:grpSpPr>
          <p:pic>
            <p:nvPicPr>
              <p:cNvPr id="432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285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26032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AutoShape 33"/>
            <p:cNvGrpSpPr/>
            <p:nvPr/>
          </p:nvGrpSpPr>
          <p:grpSpPr>
            <a:xfrm>
              <a:off x="6191640" y="4483800"/>
              <a:ext cx="364320" cy="697320"/>
              <a:chOff x="6191640" y="4483800"/>
              <a:chExt cx="364320" cy="697320"/>
            </a:xfrm>
          </p:grpSpPr>
          <p:pic>
            <p:nvPicPr>
              <p:cNvPr id="435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1640" y="448380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6319800" y="45514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AutoShape 34"/>
            <p:cNvGrpSpPr/>
            <p:nvPr/>
          </p:nvGrpSpPr>
          <p:grpSpPr>
            <a:xfrm>
              <a:off x="6752880" y="3440520"/>
              <a:ext cx="370080" cy="697320"/>
              <a:chOff x="6752880" y="3440520"/>
              <a:chExt cx="370080" cy="697320"/>
            </a:xfrm>
          </p:grpSpPr>
          <p:pic>
            <p:nvPicPr>
              <p:cNvPr id="438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52880" y="34405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6883920" y="351180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35"/>
            <p:cNvGrpSpPr/>
            <p:nvPr/>
          </p:nvGrpSpPr>
          <p:grpSpPr>
            <a:xfrm>
              <a:off x="4638600" y="3376080"/>
              <a:ext cx="364320" cy="697320"/>
              <a:chOff x="4638600" y="3376080"/>
              <a:chExt cx="364320" cy="697320"/>
            </a:xfrm>
          </p:grpSpPr>
          <p:pic>
            <p:nvPicPr>
              <p:cNvPr id="441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38600" y="337608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4767120" y="34434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AutoShape 36"/>
            <p:cNvGrpSpPr/>
            <p:nvPr/>
          </p:nvGrpSpPr>
          <p:grpSpPr>
            <a:xfrm>
              <a:off x="2661840" y="3440520"/>
              <a:ext cx="364320" cy="697320"/>
              <a:chOff x="2661840" y="3440520"/>
              <a:chExt cx="364320" cy="697320"/>
            </a:xfrm>
          </p:grpSpPr>
          <p:pic>
            <p:nvPicPr>
              <p:cNvPr id="444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61840" y="344052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792160" y="35118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AutoShape 37"/>
            <p:cNvGrpSpPr/>
            <p:nvPr/>
          </p:nvGrpSpPr>
          <p:grpSpPr>
            <a:xfrm>
              <a:off x="6681240" y="2333160"/>
              <a:ext cx="370080" cy="703080"/>
              <a:chOff x="6681240" y="2333160"/>
              <a:chExt cx="370080" cy="703080"/>
            </a:xfrm>
          </p:grpSpPr>
          <p:pic>
            <p:nvPicPr>
              <p:cNvPr id="447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1240" y="233316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812640" y="24058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по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599840"/>
            <a:ext cx="4614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ставание уровня жизни населения от роста производительности тру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ктивная роль государства в модернизации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3" name="Picture 2" descr="I:\Энциклопедия\Э Экономические системы\картинки\862c8ce36e8e.jpg"/>
          <p:cNvPicPr/>
          <p:nvPr/>
        </p:nvPicPr>
        <p:blipFill>
          <a:blip r:embed="rId1"/>
          <a:stretch/>
        </p:blipFill>
        <p:spPr>
          <a:xfrm>
            <a:off x="5357880" y="1571760"/>
            <a:ext cx="3548160" cy="46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4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жнокорей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532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меет много общего с японской моделью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7" name="Picture 2" descr="I:\Энциклопедия\Э Экономические системы\картинки\turi_news_1239878957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05200" cy="3878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51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452" name="AutoShape 15"/>
            <p:cNvGrpSpPr/>
            <p:nvPr/>
          </p:nvGrpSpPr>
          <p:grpSpPr>
            <a:xfrm>
              <a:off x="2171160" y="1700280"/>
              <a:ext cx="4887720" cy="850680"/>
              <a:chOff x="2171160" y="1700280"/>
              <a:chExt cx="4887720" cy="850680"/>
            </a:xfrm>
          </p:grpSpPr>
          <p:pic>
            <p:nvPicPr>
              <p:cNvPr id="453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1160" y="1700280"/>
                <a:ext cx="488772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Text Box 5"/>
              <p:cNvSpPr/>
              <p:nvPr/>
            </p:nvSpPr>
            <p:spPr>
              <a:xfrm>
                <a:off x="2291040" y="1815480"/>
                <a:ext cx="4653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ea157a"/>
                    </a:solidFill>
                    <a:latin typeface="Corbel"/>
                  </a:rPr>
                  <a:t>Госпла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AutoShape 17"/>
            <p:cNvGrpSpPr/>
            <p:nvPr/>
          </p:nvGrpSpPr>
          <p:grpSpPr>
            <a:xfrm>
              <a:off x="971640" y="2809440"/>
              <a:ext cx="2136240" cy="850680"/>
              <a:chOff x="971640" y="2809440"/>
              <a:chExt cx="2136240" cy="850680"/>
            </a:xfrm>
          </p:grpSpPr>
          <p:pic>
            <p:nvPicPr>
              <p:cNvPr id="456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8"/>
              <p:cNvSpPr/>
              <p:nvPr/>
            </p:nvSpPr>
            <p:spPr>
              <a:xfrm>
                <a:off x="109152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8"/>
            <p:cNvGrpSpPr/>
            <p:nvPr/>
          </p:nvGrpSpPr>
          <p:grpSpPr>
            <a:xfrm>
              <a:off x="2242800" y="3848040"/>
              <a:ext cx="4816080" cy="856800"/>
              <a:chOff x="2242800" y="3848040"/>
              <a:chExt cx="4816080" cy="856800"/>
            </a:xfrm>
          </p:grpSpPr>
          <p:pic>
            <p:nvPicPr>
              <p:cNvPr id="459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42800" y="3848040"/>
                <a:ext cx="4816080" cy="85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"/>
              <p:cNvSpPr/>
              <p:nvPr/>
            </p:nvSpPr>
            <p:spPr>
              <a:xfrm>
                <a:off x="2361600" y="3965760"/>
                <a:ext cx="45828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AutoShape 19"/>
            <p:cNvGrpSpPr/>
            <p:nvPr/>
          </p:nvGrpSpPr>
          <p:grpSpPr>
            <a:xfrm>
              <a:off x="3722760" y="2809440"/>
              <a:ext cx="2136240" cy="850680"/>
              <a:chOff x="3722760" y="2809440"/>
              <a:chExt cx="2136240" cy="850680"/>
            </a:xfrm>
          </p:grpSpPr>
          <p:pic>
            <p:nvPicPr>
              <p:cNvPr id="462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276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14"/>
              <p:cNvSpPr/>
              <p:nvPr/>
            </p:nvSpPr>
            <p:spPr>
              <a:xfrm>
                <a:off x="384084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AutoShape 20"/>
            <p:cNvGrpSpPr/>
            <p:nvPr/>
          </p:nvGrpSpPr>
          <p:grpSpPr>
            <a:xfrm>
              <a:off x="6473880" y="2809440"/>
              <a:ext cx="2130480" cy="850680"/>
              <a:chOff x="6473880" y="2809440"/>
              <a:chExt cx="2130480" cy="85068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73880" y="2809440"/>
                <a:ext cx="21304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17"/>
              <p:cNvSpPr/>
              <p:nvPr/>
            </p:nvSpPr>
            <p:spPr>
              <a:xfrm>
                <a:off x="6590160" y="2925000"/>
                <a:ext cx="19051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2242800" y="5027760"/>
              <a:ext cx="4816080" cy="850680"/>
              <a:chOff x="2242800" y="5027760"/>
              <a:chExt cx="4816080" cy="8506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2800" y="5027760"/>
                <a:ext cx="48160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20"/>
              <p:cNvSpPr/>
              <p:nvPr/>
            </p:nvSpPr>
            <p:spPr>
              <a:xfrm>
                <a:off x="2361240" y="5144040"/>
                <a:ext cx="45831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35faa"/>
                    </a:solidFill>
                    <a:latin typeface="Corbel"/>
                  </a:rPr>
                  <a:t>Потребительский рынок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AutoShape 22"/>
            <p:cNvGrpSpPr/>
            <p:nvPr/>
          </p:nvGrpSpPr>
          <p:grpSpPr>
            <a:xfrm>
              <a:off x="2463480" y="2328120"/>
              <a:ext cx="363960" cy="704160"/>
              <a:chOff x="2463480" y="2328120"/>
              <a:chExt cx="363960" cy="704160"/>
            </a:xfrm>
          </p:grpSpPr>
          <p:pic>
            <p:nvPicPr>
              <p:cNvPr id="471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48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5912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AutoShape 23"/>
            <p:cNvGrpSpPr/>
            <p:nvPr/>
          </p:nvGrpSpPr>
          <p:grpSpPr>
            <a:xfrm>
              <a:off x="4433040" y="2328120"/>
              <a:ext cx="369720" cy="704160"/>
              <a:chOff x="4433040" y="2328120"/>
              <a:chExt cx="369720" cy="704160"/>
            </a:xfrm>
          </p:grpSpPr>
          <p:pic>
            <p:nvPicPr>
              <p:cNvPr id="474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33040" y="232812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56516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AutoShape 24"/>
            <p:cNvGrpSpPr/>
            <p:nvPr/>
          </p:nvGrpSpPr>
          <p:grpSpPr>
            <a:xfrm>
              <a:off x="6545520" y="3437280"/>
              <a:ext cx="369720" cy="698040"/>
              <a:chOff x="6545520" y="3437280"/>
              <a:chExt cx="369720" cy="698040"/>
            </a:xfrm>
          </p:grpSpPr>
          <p:pic>
            <p:nvPicPr>
              <p:cNvPr id="477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45520" y="343728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667836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AutoShape 25"/>
            <p:cNvGrpSpPr/>
            <p:nvPr/>
          </p:nvGrpSpPr>
          <p:grpSpPr>
            <a:xfrm>
              <a:off x="4433040" y="3372840"/>
              <a:ext cx="369720" cy="698040"/>
              <a:chOff x="4433040" y="3372840"/>
              <a:chExt cx="369720" cy="698040"/>
            </a:xfrm>
          </p:grpSpPr>
          <p:pic>
            <p:nvPicPr>
              <p:cNvPr id="480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33040" y="33728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5160" y="35150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AutoShape 26"/>
            <p:cNvGrpSpPr/>
            <p:nvPr/>
          </p:nvGrpSpPr>
          <p:grpSpPr>
            <a:xfrm>
              <a:off x="2463480" y="3437280"/>
              <a:ext cx="363960" cy="698040"/>
              <a:chOff x="2463480" y="3437280"/>
              <a:chExt cx="363960" cy="698040"/>
            </a:xfrm>
          </p:grpSpPr>
          <p:pic>
            <p:nvPicPr>
              <p:cNvPr id="483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63480" y="343728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259128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AutoShape 27"/>
            <p:cNvGrpSpPr/>
            <p:nvPr/>
          </p:nvGrpSpPr>
          <p:grpSpPr>
            <a:xfrm>
              <a:off x="6480000" y="2328120"/>
              <a:ext cx="363960" cy="704160"/>
              <a:chOff x="6480000" y="2328120"/>
              <a:chExt cx="363960" cy="704160"/>
            </a:xfrm>
          </p:grpSpPr>
          <p:pic>
            <p:nvPicPr>
              <p:cNvPr id="486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8000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6088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AutoShape 28"/>
            <p:cNvGrpSpPr/>
            <p:nvPr/>
          </p:nvGrpSpPr>
          <p:grpSpPr>
            <a:xfrm>
              <a:off x="2672280" y="2333880"/>
              <a:ext cx="363960" cy="704160"/>
              <a:chOff x="2672280" y="2333880"/>
              <a:chExt cx="363960" cy="704160"/>
            </a:xfrm>
          </p:grpSpPr>
          <p:pic>
            <p:nvPicPr>
              <p:cNvPr id="489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7228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280260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AutoShape 29"/>
            <p:cNvGrpSpPr/>
            <p:nvPr/>
          </p:nvGrpSpPr>
          <p:grpSpPr>
            <a:xfrm>
              <a:off x="4647600" y="2333880"/>
              <a:ext cx="363960" cy="704160"/>
              <a:chOff x="4647600" y="2333880"/>
              <a:chExt cx="363960" cy="704160"/>
            </a:xfrm>
          </p:grpSpPr>
          <p:pic>
            <p:nvPicPr>
              <p:cNvPr id="492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4760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477612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AutoShape 30"/>
            <p:cNvGrpSpPr/>
            <p:nvPr/>
          </p:nvGrpSpPr>
          <p:grpSpPr>
            <a:xfrm>
              <a:off x="2809440" y="4487760"/>
              <a:ext cx="369720" cy="698040"/>
              <a:chOff x="2809440" y="4487760"/>
              <a:chExt cx="369720" cy="698040"/>
            </a:xfrm>
          </p:grpSpPr>
          <p:pic>
            <p:nvPicPr>
              <p:cNvPr id="495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0944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29422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AutoShape 31"/>
            <p:cNvGrpSpPr/>
            <p:nvPr/>
          </p:nvGrpSpPr>
          <p:grpSpPr>
            <a:xfrm>
              <a:off x="3937680" y="4487760"/>
              <a:ext cx="369720" cy="698040"/>
              <a:chOff x="3937680" y="4487760"/>
              <a:chExt cx="369720" cy="698040"/>
            </a:xfrm>
          </p:grpSpPr>
          <p:pic>
            <p:nvPicPr>
              <p:cNvPr id="498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3768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40708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AutoShape 32"/>
            <p:cNvGrpSpPr/>
            <p:nvPr/>
          </p:nvGrpSpPr>
          <p:grpSpPr>
            <a:xfrm>
              <a:off x="5137200" y="4487760"/>
              <a:ext cx="369720" cy="698040"/>
              <a:chOff x="5137200" y="4487760"/>
              <a:chExt cx="369720" cy="698040"/>
            </a:xfrm>
          </p:grpSpPr>
          <p:pic>
            <p:nvPicPr>
              <p:cNvPr id="501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3720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52689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AutoShape 33"/>
            <p:cNvGrpSpPr/>
            <p:nvPr/>
          </p:nvGrpSpPr>
          <p:grpSpPr>
            <a:xfrm>
              <a:off x="6199560" y="4487760"/>
              <a:ext cx="363960" cy="698040"/>
              <a:chOff x="6199560" y="4487760"/>
              <a:chExt cx="363960" cy="698040"/>
            </a:xfrm>
          </p:grpSpPr>
          <p:pic>
            <p:nvPicPr>
              <p:cNvPr id="504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9560" y="448776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63273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AutoShape 34"/>
            <p:cNvGrpSpPr/>
            <p:nvPr/>
          </p:nvGrpSpPr>
          <p:grpSpPr>
            <a:xfrm>
              <a:off x="6760440" y="3443040"/>
              <a:ext cx="369720" cy="698040"/>
              <a:chOff x="6760440" y="3443040"/>
              <a:chExt cx="369720" cy="698040"/>
            </a:xfrm>
          </p:grpSpPr>
          <p:pic>
            <p:nvPicPr>
              <p:cNvPr id="507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60440" y="34430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689148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AutoShape 35"/>
            <p:cNvGrpSpPr/>
            <p:nvPr/>
          </p:nvGrpSpPr>
          <p:grpSpPr>
            <a:xfrm>
              <a:off x="4647600" y="3378600"/>
              <a:ext cx="363960" cy="698040"/>
              <a:chOff x="4647600" y="3378600"/>
              <a:chExt cx="363960" cy="698040"/>
            </a:xfrm>
          </p:grpSpPr>
          <p:pic>
            <p:nvPicPr>
              <p:cNvPr id="510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47600" y="337860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76120" y="344592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AutoShape 36"/>
            <p:cNvGrpSpPr/>
            <p:nvPr/>
          </p:nvGrpSpPr>
          <p:grpSpPr>
            <a:xfrm>
              <a:off x="2672280" y="3443040"/>
              <a:ext cx="363960" cy="698040"/>
              <a:chOff x="2672280" y="3443040"/>
              <a:chExt cx="363960" cy="698040"/>
            </a:xfrm>
          </p:grpSpPr>
          <p:pic>
            <p:nvPicPr>
              <p:cNvPr id="513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72280" y="344304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80260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AutoShape 37"/>
            <p:cNvGrpSpPr/>
            <p:nvPr/>
          </p:nvGrpSpPr>
          <p:grpSpPr>
            <a:xfrm>
              <a:off x="6688800" y="2333880"/>
              <a:ext cx="369720" cy="704160"/>
              <a:chOff x="6688800" y="2333880"/>
              <a:chExt cx="369720" cy="704160"/>
            </a:xfrm>
          </p:grpSpPr>
          <p:pic>
            <p:nvPicPr>
              <p:cNvPr id="516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8800" y="233388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681984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такое рынок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0" name="Picture 2" descr="I:\Энциклопедия\Э Экономические системы\картинки\marketingovie_skazki.jpg"/>
          <p:cNvPicPr/>
          <p:nvPr/>
        </p:nvPicPr>
        <p:blipFill>
          <a:blip r:embed="rId1"/>
          <a:stretch/>
        </p:blipFill>
        <p:spPr>
          <a:xfrm>
            <a:off x="4986360" y="4175280"/>
            <a:ext cx="4406760" cy="283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I:\Энциклопедия\Э Экономические системы\картинки\gallery_image.jpg"/>
          <p:cNvPicPr/>
          <p:nvPr/>
        </p:nvPicPr>
        <p:blipFill>
          <a:blip r:embed="rId2"/>
          <a:stretch/>
        </p:blipFill>
        <p:spPr>
          <a:xfrm>
            <a:off x="-146160" y="1047600"/>
            <a:ext cx="5340600" cy="38293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"/>
          <p:cNvSpPr/>
          <p:nvPr/>
        </p:nvSpPr>
        <p:spPr>
          <a:xfrm>
            <a:off x="5072040" y="14288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есто купли-продажи това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00040" y="478620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d0e4"/>
                </a:solidFill>
                <a:latin typeface="Corbel"/>
              </a:rPr>
              <a:t>РЫНОК</a:t>
            </a:r>
            <a:r>
              <a:rPr b="0" lang="ru-RU" sz="2000" spc="-1" strike="noStrike">
                <a:solidFill>
                  <a:srgbClr val="fbd0e4"/>
                </a:solidFill>
                <a:latin typeface="Corbel"/>
              </a:rPr>
              <a:t>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чины возникновения рыночной экономик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7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3196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71564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5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784520"/>
            <a:ext cx="52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ФОРМАЦИОННА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4" name="Picture 3" descr="I:\Энциклопедия\Э Экономические системы\картинки\dayinfo1(2).jpg"/>
          <p:cNvPicPr/>
          <p:nvPr/>
        </p:nvPicPr>
        <p:blipFill>
          <a:blip r:embed="rId1"/>
          <a:stretch/>
        </p:blipFill>
        <p:spPr>
          <a:xfrm>
            <a:off x="6000840" y="1857240"/>
            <a:ext cx="3143160" cy="398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643200" y="178452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ЕГУЛИРУЮЩАЯ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8" name="Picture 2" descr="I:\Энциклопедия\Э Экономические системы\картинки\thumb.jpg"/>
          <p:cNvPicPr/>
          <p:nvPr/>
        </p:nvPicPr>
        <p:blipFill>
          <a:blip r:embed="rId1"/>
          <a:stretch/>
        </p:blipFill>
        <p:spPr>
          <a:xfrm>
            <a:off x="115920" y="1487520"/>
            <a:ext cx="3571920" cy="452916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3:26Z</dcterms:modified>
  <cp:revision>46</cp:revision>
  <dc:subject/>
  <dc:title>Рынок и его функции</dc:title>
</cp:coreProperties>
</file>