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9.png" ContentType="image/png"/>
  <Override PartName="/ppt/media/image38.jpeg" ContentType="image/jpeg"/>
  <Override PartName="/ppt/media/image37.jpeg" ContentType="image/jpeg"/>
  <Override PartName="/ppt/media/image30.png" ContentType="image/png"/>
  <Override PartName="/ppt/media/image5.png" ContentType="image/png"/>
  <Override PartName="/ppt/media/image35.jpeg" ContentType="image/jpe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948960" y="736200"/>
            <a:ext cx="4910040" cy="368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A1F4-2017-4FAE-B1D6-3994F756BD2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и его 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и его функ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к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 клас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Щ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, не способные совершенствовать технологию, снижать затраты на производство продукции и улучшать ее качество, перестают получать прибыль и даже терпят убытки. Поэтому для частного предприятия снижение издержек является вопросом его выживаемости в условиях рыночной экономики. Рынок стимулирует технический прогре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ры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ИМУЛИРУЮЩА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ирмы, не способные совершенствовать технологию, снижать затраты на производство продукции и улучшать ее качество, перестают получать прибыль и даже терпят убытки. Поэтому для частного предприятия снижение издержек является вопросом его выживаемости в условиях рыночной экономики. Рынок стимулирует технический прогрес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РУЮЩ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очищает общественное производство от экономически неустойчивых, нежизнеспособных хозяйственных единиц и, напротив, дает зеленый свет более предприимчивым и эффектив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ры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АНИРУЮЩА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очищает общественное производство от экономически неустойчивых, нежизнеспособных хозяйственных единиц и, напротив, дает зеленый свет более предприимчивым и эффективны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групп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те примеры каждой из функций рынка в действ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а в групп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ведите примеры каждой из функций рынка в действ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чем идет реч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бы в море поступают, как люди на земле: большие поедают мал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. Шекспи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...... – жизнь торговли и смерть торгов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берт Хаббар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........ обеспечивает наилучшее качество продуктов и развивает наихудшие качества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эвид Сарноф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, где нет .............., спится лучше, но живется хуж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 чем идет реч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бы в море поступают, как люди на земле: большие поедают малых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. Шекспи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........ – жизнь торговли и смерть торговце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лберт Хаббар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.......... обеспечивает наилучшее качество продуктов и развивает наихудшие качества люд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эвид Сарноф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м, где нет .............., спится лучше, но живется хуж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бы в море поступают, как люди на земле: большие поедают мал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. Шекспи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 – жизнь торговли и смерть торгов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берт Хаббар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 обеспечивает наилучшее качество продуктов и развивает наихудшие качества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эвид Сарноф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, где нет КОНКУРЕНЦИИ, спится лучше, но живется хуж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бы в море поступают, как люди на земле: большие поедают малых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. Шекспи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ЦИЯ – жизнь торговли и смерть торговце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лберт Хаббар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ЦИЯ обеспечивает наилучшее качество продуктов и развивает наихудшие качества люд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эвид Сарноф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м, где нет КОНКУРЕНЦИИ, спится лучше, но живется хуж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борьба между производителями товаров и услуг за рынки сбыта своей продукции и за получение дохода от ее продаж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те положительные черты конкур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о борьба между производителями товаров и услуг за рынки сбыта своей продукции и за получение дохода от ее продаж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явите положительные черты конкурен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рыночной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экономика свободной конкуренции (чистый капитализ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рыночная экономика (современный капитализ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индустриаль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рыночной экономик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чная экономика свободной конкуренции (чистый капитализм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ременная рыночная экономика (современный капитализм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индустриальное обще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капит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система сложилась в XVIII веке и прекратила свое существование в конце XIX – первых десятилетиях ХХ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ельная часть ее элементов вошла в современную рыночную сист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истый капитал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 система сложилась в XVIII веке и прекратила свое существование в конце XIX – первых десятилетиях ХХ век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начительная часть ее элементов вошла в современную рыночную систем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ые че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собственность на экономические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ый механизм регулирования макроэкономической деятельности, основанный на свободной конкур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множества самостоятельно действующих покупателей и продавцов каждого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личительные чер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астная собственность на экономические ресурс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чный механизм регулирования макроэкономической деятельности, основанный на свободной конкурен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личие множества самостоятельно действующих покупателей и продавцов каждого това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капит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де длительной эволюции, преимущественно в ХХ веке, рыночная экономика свободной конкуренции превратилась в современную рыночную эконом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ременный капитал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ходе длительной эволюции, преимущественно в ХХ веке, рыночная экономика свободной конкуренции превратилась в современную рыночную экономик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черты характеризуют административно-плановую сист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административно-плановая система оказалась неэффективной, маловосприимчивой к научно-техническому прогресс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е сх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ерка домашнего зад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ие черты характеризуют административно-плановую систему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чему административно-плановая система оказалась неэффективной, маловосприимчивой к научно-техническому прогрессу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полните схем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ые че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образие форм собственности, среди которых по-прежнему ведущее место занимает частная собственность в различных ее видах (от трудовой индивидуальной до крупной, корпоративно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ертывание научно-технической революции, ускорившей создание мощной производственной и социальной инфраструк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активное воздействие государства на развитие национальной экономики и социальной сф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личительные чер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ногообразие форм собственности, среди которых по-прежнему ведущее место занимает частная собственность в различных ее видах (от трудовой индивидуальной до крупной, корпоративной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ертывание научно-технической революции, ускорившей создание мощной производственной и социальной инфраструктур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лее активное воздействие государства на развитие национальной экономики и социальной сфер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индустриаль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структуры производства и потребления, преимущественно за счет возрастания роли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уровня образования, прежде всего за счет послешколь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отношение к тру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внимания к окружающей сре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манизация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зация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ессанс малого бизн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изация хозяй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индустриальное обще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менение структуры производства и потребления, преимущественно за счет возрастания роли услуг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т уровня образования, прежде всего за счет послешкольного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вое отношение к труд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вышение внимания к окружающей сред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уманизация экономи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форматизация обще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нессанс малого бизне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обализация хозяйственной деятельно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ры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экономическому назначению объектов рыночных отношений: рынок товаров и услуг, рынок недвижимости, рынок труда, рынок ценных бумаг, денежный рынок и рынок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географическому положению: местный, национальный, мир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траслям: рынок зерна, хлопка, автомобилей, компьютер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рын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экономическому назначению объектов рыночных отношений: рынок товаров и услуг, рынок недвижимости, рынок труда, рынок ценных бумаг, денежный рынок и рынок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географическому положению: местный, национальный, мирово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отраслям: рынок зерна, хлопка, автомобилей, компьютеров и т.д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 в рамка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аждой системы характерны свои национальные модели организации хозяйства, так как страны различаются своеобразием истории, уровнем экономического развития, социальными и национальными услов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необходимо изучать национальные экономические моде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и в рамках систе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каждой системы характерны свои национальные модели организации хозяйства, так как страны различаются своеобразием истории, уровнем экономического развития, социальными и национальными условия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необходимо изучать национальные экономические модел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те свои знани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 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5» – все прави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4» – 1-2 ошиб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3» – 3-4 ошиб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2» – больше 4 ошиб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ерьте свои знания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1. 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2. н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3. н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1.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2. 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3.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5» – все правиль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4» – 1-2 ошиб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3» – 3-4 ошиб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2» – больше 4 ошиб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е свою работу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цените свою работу на уро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группам: характеристика национальных моделей рыночной экономики: США, Швеция, Германия, Япо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п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: глава 2, пункт 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3-6 (устн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группам: характеристика национальных моделей рыночной экономики: США, Швеция, Германия, Япо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спек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бник: глава 2, пункт 3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ы 3-6 (устно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ая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а на системе всемерного поощрения предпринимательской активности, обогащения наиболее активной част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на высоком уровне производительности труда и массовой ориентации на достижение личного успе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воздействие, направленное на поддержание стабильной конъюнктуры и экономического равнове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мериканская мод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роена на системе всемерного поощрения предпринимательской активности, обогащения наиболее активной части насе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ана на высоком уровне производительности труда и массовой ориентации на достижение личного успех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енное воздействие, направленное на поддержание стабильной конъюнктуры и экономического равновес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ведская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ая социальная политика, ориентированная на сокращение имущественного неравенства за счет перераспределения национального дохода в пользу наименее обеспеченных слоев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ункциональная социализац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ведская мод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льная социальная политика, ориентированная на сокращение имущественного неравенства за счет перераспределения национального дохода в пользу наименее обеспеченных слоев насе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Функциональная социализация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рыночное хозяйство Ф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формы хозяйствования получают возможность устойчивого развития. При этом особым покровительством пользуются мелкие и средние предприятия, фермерские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активно влияет на цены, пошлины, технические н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е рыночное хозяйство ФР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 формы хозяйствования получают возможность устойчивого развития. При этом особым покровительством пользуются мелкие и средние предприятия, фермерские хозяй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о активно влияет на цены, пошлины, технические нор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ополните схе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Дополните схему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понская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тавание уровня жизни населения от роста производительности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себестоимости продукции и повышение ее конкурентоспособности на мировом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ая роль государства в модернизации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Японская мод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ставание уровня жизни населения от роста производительности тру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ижение себестоимости продукции и повышение ее конкурентоспособности на мировом рынк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тивная роль государства в модернизации экономи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жнокорейская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много общего с японской модел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над ценами на ресурсы и широкий круг товаров производственного и потребительского назна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жнокорейское государство целенаправленно способствовало созданию крупных финансово-промышленных груп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мелкого и среднего предпринимательства, что способствует быстрому образованию среднего кл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Южнокорейская мод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еет много общего с японской моделью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троль над ценами на ресурсы и широкий круг товаров производственного и потребительского назнач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Южнокорейское государство целенаправленно способствовало созданию крупных финансово-промышленных групп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держка мелкого и среднего предпринимательства, что способствует быстрому образованию среднего клас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верьте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Проверьте себ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рын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купли-продажи тов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– это форма контактов между продавцами и покупателями товаров и услуг, недвижимости, ценных бумаг и валюты. На основе этих контактов совершаются сделки купли-продажи предметов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такое рынок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сто купли-продажи това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– это форма контактов между продавцами и покупателями товаров и услуг, недвижимости, ценных бумаг и валюты. На основе этих контактов совершаются сделки купли-продажи предметов торговл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чины возникновения рыноч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Причины возникновения рыноч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постоянно меняющиеся цены рынок сообщает производителям, где и какой продукции не хватает и где и какая продукция произведена с избыт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ры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ФОРМАЦИОННА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рез постоянно меняющиеся цены рынок сообщает производителям, где и какой продукции не хватает и где и какая продукция произведена с избытк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Щ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помогают устанавливать пропорциональность в развитии экономики, регулировать распределение ресурсов по отраслям и сферам хозяйства таким образом, чтобы уровень и структура производства были максимально приближены к уровню и структуре потреб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ры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ГУЛИРУЮЩА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ны помогают устанавливать пропорциональность в развитии экономики, регулировать распределение ресурсов по отраслям и сферам хозяйства таким образом, чтобы уровень и структура производства были максимально приближены к уровню и структуре потребност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DEE4-C393-49F2-B04F-DE58C58FD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069A-3D4E-4820-9DC2-2E37F4A0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D87F-6E09-435E-9C65-892CEB5FA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107D-0D7F-4786-8F64-D7692C03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59DA-974D-4D77-AEF2-448F9A12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FE4B-D08A-46AD-AD7B-F2515895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34A9-78FC-4879-85F5-8B1C9B60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8347-FEAA-4FEF-90ED-788028D9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626C-6F27-4A87-A413-8D682C0A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5774-293C-47DB-BDDC-3E9D58B1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E4E0-BB0A-4CB2-9DA3-D2CFAFE0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C43F-8F1B-4B1C-BF2C-0501BBDC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46DB-FCC9-4F09-9155-B2F866FE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4BC7-5739-4683-AEC5-C89C5BEB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0536-24F2-4611-8FC6-D31C7737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1105-FCCD-42BB-818C-A4C77E19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E42D-9EF3-48BA-97DC-164C788F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B5420-4537-498D-ABC8-4D32D5293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B6BAB-9522-4392-ABB2-5264A95F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72A7B-CF23-43F3-B85C-E208E2E6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E5393-6044-4ABC-8DFD-694CB917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BEBDB-A195-452E-81BD-89F199B5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8B54-B2D3-400E-9211-FF69E863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1D9B6-2C29-4A0F-8CA8-42A8D237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A83E1-B825-4FF3-9CB1-26C0B3B8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E69B8-86C1-47FC-9039-EC298CBD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D020B-0BD0-4E64-8682-12671064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B7147-E7AC-4550-9B65-4A86C062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57FEE-B875-416B-8211-411A04998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AC81D-44A1-4F0F-843B-7EF95E51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8E48A-DC5C-4259-8BBF-DEFB48430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35D34-BD0D-4512-B902-96AD9CA9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6B516-6F76-4E4B-A7F3-C3B97DEA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342D-42B8-46DC-9A62-6342A852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44830-38D2-458F-934A-D4E796CB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47415-6283-4141-81D3-B91420E0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214A9-3BB0-44DD-8CD5-5289D07A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3FB8F-5A05-4F14-B71A-59B82A1E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2FC79-D2D4-4978-8A7E-B1C90CA3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B8A64-66ED-46BF-A2B2-F4ABEE5A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994B6-C3D5-4AF5-BC91-F3706D86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47E6E-C176-4337-8599-E2EA171C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EA89C-DDB5-494C-AFA0-E3E9F833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3CB65-ADEA-4AE7-9B8E-09E44D3E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3583-6927-4629-A97D-FCC58371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A83F1-E258-4641-BDB4-66D58DB6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19A72-01B9-43FB-98E2-D105CD27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8481F-204C-4BA3-A516-B3117850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1B226-2CAE-4FB2-B7D9-226038E5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0C998-CC44-40C1-BBA9-69C8BAE8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158B7-FFA9-465C-9B05-07838194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727E2-32DC-4A93-82FE-28029727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57769-79DC-4B28-9274-E8E93EBB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35A49-79B0-4C2F-BEF6-1684FF9F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8F593-EFD6-46BD-A7EB-3FCBB65B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1C96-BC6C-4925-85D4-64E8711E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133B1-6DA9-4F18-BCCA-F930ECD46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BAC59-8702-41FC-9646-31DD9C227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70AB3-8385-44C4-A646-CA67FC91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D2E84-93ED-42FB-B27E-7393227B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59C56-0302-4A9A-A791-56C3CB89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986A6-91B6-4676-BB04-A420DA63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9EB56-C45F-4632-9A5E-8ECDC2C9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FD452-F6EF-4C5A-A126-F3B11D18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1B09C-E733-4D40-9A04-BB3B82F2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F0179-8E29-444C-941F-825EA61F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1EBA-2A49-4932-A480-C0A2F31C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D12DE-17B0-4A07-A900-36EC2661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6C675-13CE-47FE-94E5-238274E63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74CF4-3382-42FE-AF78-ED9F313F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3D401-490A-4C09-9F34-C589E00E8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8E31C-5AA7-45C2-A638-4EEBF868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D6E69-A538-419D-A017-D6DAC223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E2900-A292-4536-BF0C-A3EBDFFD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A826D-D8A5-4531-9C42-FD301641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EA2A9-3748-48AB-BCDF-33BD3218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ADB47-A3D7-4916-9B5C-257ECAE3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A73F-4EB1-46BC-85B8-E5943F79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5173F-14D9-411E-8827-FC4E7F93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6C6E8-5A29-4CD9-96AE-DEFF428F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37BDA-A2DA-4ACC-BC44-D301C603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6326B-2B8F-4312-B5EE-F63FD70B1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15626-C0E3-4CA6-BBC4-38BE43D78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79D4-57B0-4F4F-9317-FB956654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02DC-7FD9-4E83-9622-DD7A02D77C56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916D-DB90-4B3D-9239-B72B57D0629E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3675-1116-4AAF-8402-25AB579AD0B8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9218-C302-4CBE-855B-08E82B964C8F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580A-D6CF-43D6-AFFC-F400BE9525C1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7DA5-822F-4054-9E9C-9D8AAD79C739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DD98-BF14-4F87-A3AC-27E58A94620A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86F0-0B70-4B07-BD7E-E21E454DF0A6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DD32-B533-4DE1-BBDA-E069F1D1F736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1333-2AB7-43F1-939B-8A0978C40C7C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BE9D-EC63-438A-BBAF-652173BF752B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2253-D385-4AFF-B8A3-D8ACBC41B0AD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C6E4-08D1-4D04-ABE4-1005C6D3978B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30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F5D8-8278-4F8E-9CD1-BD405749B86A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7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4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7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4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689040" y="4243320"/>
            <a:ext cx="7997760" cy="207828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Экономика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10 класс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Функции рын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856800" y="2714760"/>
            <a:ext cx="794412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ТИМУЛИРУЮЩА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Фирмы, не способные совершенствовать технологию, снижать затраты на производство продукции и улучшать ее качество, перестают получать прибыль и даже терпят убытки. Поэтому для частного предприятия снижение издержек является вопросом его выживаемости в условиях рыночной экономики. Рынок стимулирует технический прогресс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42" name="Picture 2" descr="I:\Энциклопедия\Э Экономические системы\картинки\motivations_0.jpg"/>
          <p:cNvPicPr/>
          <p:nvPr/>
        </p:nvPicPr>
        <p:blipFill>
          <a:blip r:embed="rId1"/>
          <a:stretch/>
        </p:blipFill>
        <p:spPr>
          <a:xfrm>
            <a:off x="4979880" y="-103320"/>
            <a:ext cx="4260960" cy="3419640"/>
          </a:xfrm>
          <a:prstGeom prst="rect">
            <a:avLst/>
          </a:prstGeom>
          <a:ln w="0">
            <a:noFill/>
          </a:ln>
        </p:spPr>
      </p:pic>
      <p:sp>
        <p:nvSpPr>
          <p:cNvPr id="543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Функции рын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28400" y="1784520"/>
            <a:ext cx="47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АНИРУЮЩА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ынок очищает общественное производство от экономически неустойчивых, нежизнеспособных хозяйственных единиц и, напротив, дает зеленый свет более предприимчивым и эффективным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46" name="Picture 2" descr="I:\Энциклопедия\Э Экономические системы\картинки\575cd7580e7d250c857f8dbf33e159d8_full.jpg"/>
          <p:cNvPicPr/>
          <p:nvPr/>
        </p:nvPicPr>
        <p:blipFill>
          <a:blip r:embed="rId1"/>
          <a:stretch/>
        </p:blipFill>
        <p:spPr>
          <a:xfrm>
            <a:off x="5214960" y="2071800"/>
            <a:ext cx="3809880" cy="3038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47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Работа в группах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914400" y="17841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иведите примеры каждой из функций рынка в действии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50" name="Picture 2" descr="I:\Энциклопедия\Э Экономические системы\картинки\1.jpg"/>
          <p:cNvPicPr/>
          <p:nvPr/>
        </p:nvPicPr>
        <p:blipFill>
          <a:blip r:embed="rId1"/>
          <a:stretch/>
        </p:blipFill>
        <p:spPr>
          <a:xfrm>
            <a:off x="1066680" y="2511360"/>
            <a:ext cx="7266240" cy="6321600"/>
          </a:xfrm>
          <a:prstGeom prst="rect">
            <a:avLst/>
          </a:prstGeom>
          <a:ln w="0">
            <a:noFill/>
          </a:ln>
        </p:spPr>
      </p:pic>
      <p:sp>
        <p:nvSpPr>
          <p:cNvPr id="551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 чем идет речь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28400" y="1356840"/>
            <a:ext cx="87152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Corbel"/>
              </a:rPr>
              <a:t>Рыбы в море поступают, как люди на земле: большие поедают малых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Corbel"/>
              </a:rPr>
              <a:t>У. Шекспир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7d6ff"/>
                </a:solidFill>
                <a:latin typeface="Corbel"/>
              </a:rPr>
              <a:t>......... – жизнь торговли и смерть торговцев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7d6ff"/>
                </a:solidFill>
                <a:latin typeface="Corbel"/>
              </a:rPr>
              <a:t>Элберт Хаббард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7d0e9"/>
                </a:solidFill>
                <a:latin typeface="Corbel"/>
              </a:rPr>
              <a:t>........... обеспечивает наилучшее качество продуктов и развивает наихудшие качества людей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7d0e9"/>
                </a:solidFill>
                <a:latin typeface="Corbel"/>
              </a:rPr>
              <a:t>Дэвид Сарнофф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a1ca"/>
                </a:solidFill>
                <a:latin typeface="Corbel"/>
              </a:rPr>
              <a:t>Там, где нет .............., спится лучше, но живется хуж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4" name="TextBox 3"/>
          <p:cNvSpPr/>
          <p:nvPr/>
        </p:nvSpPr>
        <p:spPr>
          <a:xfrm>
            <a:off x="7929720" y="28584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Місце для нижнього колонтитула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Конкуренц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28400" y="1356840"/>
            <a:ext cx="87152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6ecff"/>
                </a:solidFill>
                <a:latin typeface="Corbel"/>
              </a:rPr>
              <a:t>Рыбы в море поступают, как люди на земле: большие поедают малых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6ecff"/>
                </a:solidFill>
                <a:latin typeface="Corbel"/>
              </a:rPr>
              <a:t>У. Шекспир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a7d6ff"/>
                </a:solidFill>
                <a:latin typeface="Corbel"/>
              </a:rPr>
              <a:t>КОНКУРЕНЦИЯ – жизнь торговли и смерть торговцев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a7d6ff"/>
                </a:solidFill>
                <a:latin typeface="Corbel"/>
              </a:rPr>
              <a:t>Элберт Хаббард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7d0e9"/>
                </a:solidFill>
                <a:latin typeface="Corbel"/>
              </a:rPr>
              <a:t>КОНКУРЕНЦИЯ обеспечивает наилучшее качество продуктов и развивает наихудшие качества людей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7d0e9"/>
                </a:solidFill>
                <a:latin typeface="Corbel"/>
              </a:rPr>
              <a:t>Дэвид Сарнофф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7a1ca"/>
                </a:solidFill>
                <a:latin typeface="Corbel"/>
              </a:rPr>
              <a:t>Там, где нет КОНКУРЕНЦИИ, спится лучше, но живется хуже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8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I:\Энциклопедия\Э Экономические системы\картинки\f_14765182.jpg"/>
          <p:cNvPicPr/>
          <p:nvPr/>
        </p:nvPicPr>
        <p:blipFill>
          <a:blip r:embed="rId1"/>
          <a:stretch/>
        </p:blipFill>
        <p:spPr>
          <a:xfrm>
            <a:off x="122400" y="1974960"/>
            <a:ext cx="2792160" cy="788832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Конкуренц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499840" y="1599840"/>
            <a:ext cx="6186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rbel"/>
              </a:rPr>
              <a:t>Это борьба между производителями товаров и услуг за рынки сбыта своей продукции и за получение дохода от ее продажи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rbel"/>
              </a:rPr>
              <a:t>Задание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ffff"/>
                </a:solidFill>
                <a:uFillTx/>
                <a:latin typeface="Corbel"/>
              </a:rPr>
              <a:t>Выявите положительные черты конкуренции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Виды рыночной экономики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ыночная экономика свободной конкуренции (чистый капитализм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овременная рыночная экономика (современный капитализм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стиндустриальное общество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5" name="TextBox 3"/>
          <p:cNvSpPr/>
          <p:nvPr/>
        </p:nvSpPr>
        <p:spPr>
          <a:xfrm>
            <a:off x="7929720" y="28584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V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Місце для нижнього колонтитула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652720" y="25200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Чистый капитализм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68" name="Picture 2" descr="I:\Энциклопедия\Э Экономические системы\картинки\capitalism_XIX_preview.jpg"/>
          <p:cNvPicPr/>
          <p:nvPr/>
        </p:nvPicPr>
        <p:blipFill>
          <a:blip r:embed="rId1"/>
          <a:stretch/>
        </p:blipFill>
        <p:spPr>
          <a:xfrm>
            <a:off x="-274680" y="-255600"/>
            <a:ext cx="6121440" cy="7405560"/>
          </a:xfrm>
          <a:prstGeom prst="rect">
            <a:avLst/>
          </a:prstGeom>
          <a:ln w="0">
            <a:noFill/>
          </a:ln>
        </p:spPr>
      </p:pic>
      <p:sp>
        <p:nvSpPr>
          <p:cNvPr id="569" name="TextBox 5"/>
          <p:cNvSpPr/>
          <p:nvPr/>
        </p:nvSpPr>
        <p:spPr>
          <a:xfrm>
            <a:off x="5715000" y="1500120"/>
            <a:ext cx="3286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Эта система сложилась в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XVIII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веке и прекратила свое существование в конце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XIX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– первых десятилетиях ХХ 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Значительная часть ее элементов вошла в современную рыночную систе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тличительные черт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Частная собственность на экономические ресурсы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ыночный механизм регулирования макроэкономической деятельности, основанный на свободной конкуренции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Наличие множества самостоятельно действующих покупателей и продавцов каждого товара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овременный капитализм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5143320" y="1599840"/>
            <a:ext cx="37861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 ходе длительной эволюции, преимущественно в ХХ веке, рыночная экономика свободной конкуренции превратилась в современную рыночную экономику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76" name="Picture 2" descr="I:\Энциклопедия\Э Экономические системы\картинки\295536.jpg"/>
          <p:cNvPicPr/>
          <p:nvPr/>
        </p:nvPicPr>
        <p:blipFill>
          <a:blip r:embed="rId1"/>
          <a:stretch/>
        </p:blipFill>
        <p:spPr>
          <a:xfrm>
            <a:off x="73080" y="1494000"/>
            <a:ext cx="5200560" cy="5016240"/>
          </a:xfrm>
          <a:prstGeom prst="rect">
            <a:avLst/>
          </a:prstGeom>
          <a:ln w="0">
            <a:noFill/>
          </a:ln>
        </p:spPr>
      </p:pic>
      <p:sp>
        <p:nvSpPr>
          <p:cNvPr id="577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верка домашнего задан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Какие черты характеризуют административно-плановую систему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чему административно-плановая система оказалась неэффективной, маловосприимчивой к научно-техническому прогрессу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Заполните схему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тличительные черт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Многообразие форм собственности, среди которых по-прежнему ведущее место занимает частная собственность в различных ее видах (от трудовой индивидуальной до крупной, корпоративной)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азвертывание научно-технической революции, ускорившей создание мощной производственной и социальной инфраструктуры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Более активное воздействие государства на развитие национальной экономики и социальной сферы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0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остиндустриальное общество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зменение структуры производства и потребления, преимущественно за счет возрастания роли услуг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ост уровня образования, прежде всего за счет послешкольного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Новое отношение к труду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вышение внимания к окружающей сред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уманизация экономик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нформатизация обществ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енессанс малого бизнес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лобализация хозяйственной деятельност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3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Виды рынков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7a1ca"/>
                </a:solidFill>
                <a:uFillTx/>
                <a:latin typeface="Corbel"/>
              </a:rPr>
              <a:t>По экономическому назначению объектов рыночных отношений: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рынок товаров и услуг, рынок недвижимости, рынок труда, рынок ценных бумаг, денежный рынок и рынок капитала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7a1ca"/>
                </a:solidFill>
                <a:uFillTx/>
                <a:latin typeface="Corbel"/>
              </a:rPr>
              <a:t>По географическому положению: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местный, национальный, мировой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7a1ca"/>
                </a:solidFill>
                <a:uFillTx/>
                <a:latin typeface="Corbel"/>
              </a:rPr>
              <a:t>По отраслям: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ынок зерна, хлопка, автомобилей, компьютеров и т.д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6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Модели в рамках систем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Для каждой системы характерны свои национальные модели организации хозяйства, так как страны различаются своеобразием истории, уровнем экономического развития, социальными и национальными условиям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Зачем необходимо изучать национальные экономические модели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верьте свои знания!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91" name="Содержимое 2" descr=""/>
          <p:cNvPicPr/>
          <p:nvPr/>
        </p:nvPicPr>
        <p:blipFill>
          <a:blip r:embed="rId1"/>
          <a:stretch/>
        </p:blipFill>
        <p:spPr>
          <a:xfrm>
            <a:off x="878040" y="1712880"/>
            <a:ext cx="7875360" cy="4645080"/>
          </a:xfrm>
          <a:prstGeom prst="rect">
            <a:avLst/>
          </a:prstGeom>
          <a:ln w="0">
            <a:noFill/>
          </a:ln>
        </p:spPr>
      </p:pic>
      <p:sp>
        <p:nvSpPr>
          <p:cNvPr id="592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цените свою работу на урок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94" name="Содержимое 3" descr=""/>
          <p:cNvPicPr/>
          <p:nvPr/>
        </p:nvPicPr>
        <p:blipFill>
          <a:blip r:embed="rId1"/>
          <a:stretch/>
        </p:blipFill>
        <p:spPr>
          <a:xfrm>
            <a:off x="847800" y="1719360"/>
            <a:ext cx="7905600" cy="3004920"/>
          </a:xfrm>
          <a:prstGeom prst="rect">
            <a:avLst/>
          </a:prstGeom>
          <a:ln w="0">
            <a:noFill/>
          </a:ln>
        </p:spPr>
      </p:pic>
      <p:sp>
        <p:nvSpPr>
          <p:cNvPr id="59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омашнее задани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По группам: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характеристика национальных моделей рыночной экономики: США, Швеция, Германия, Япония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Конспект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Учебник: глава 2, пункт 3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опросы 3-6 (устно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8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Американская модел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714400" y="1599840"/>
            <a:ext cx="59720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строена на системе всемерного поощрения предпринимательской активности, обогащения наиболее активной части населения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снована на высоком уровне производительности труда и массовой ориентации на достижение личного успех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осударственное воздействие, направленное на поддержание стабильной конъюнктуры и экономического равновесия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01" name="Picture 2" descr="I:\Энциклопедия\Э Экономические системы\картинки\45270508_EdwardMoranUnveilingTheStatueofLiberty1886Large.jpg"/>
          <p:cNvPicPr/>
          <p:nvPr/>
        </p:nvPicPr>
        <p:blipFill>
          <a:blip r:embed="rId1"/>
          <a:stretch/>
        </p:blipFill>
        <p:spPr>
          <a:xfrm>
            <a:off x="214200" y="1357200"/>
            <a:ext cx="2214720" cy="5457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02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Шведская модел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3642840" y="1599840"/>
            <a:ext cx="5286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ильная социальная политика, ориентированная на сокращение имущественного неравенства за счет перераспределения национального дохода в пользу наименее обеспеченных слоев населения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«Функциональная социализация»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05" name="Picture 2" descr="I:\Энциклопедия\Э Экономические системы\картинки\630px-Sweden_greater_coa1908-modern.png"/>
          <p:cNvPicPr/>
          <p:nvPr/>
        </p:nvPicPr>
        <p:blipFill>
          <a:blip r:embed="rId1"/>
          <a:stretch/>
        </p:blipFill>
        <p:spPr>
          <a:xfrm>
            <a:off x="142920" y="2071800"/>
            <a:ext cx="3305160" cy="3143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06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оциальное рыночное хозяйство ФРГ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785760" y="1599840"/>
            <a:ext cx="49006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се формы хозяйствования получают возможность устойчивого развития. При этом особым покровительством пользуются мелкие и средние предприятия, фермерские хозяйств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осударство активно влияет на цены, пошлины, технические нормы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09" name="Picture 2" descr="I:\Энциклопедия\Э Экономические системы\картинки\201335_001frg8r.jpg"/>
          <p:cNvPicPr/>
          <p:nvPr/>
        </p:nvPicPr>
        <p:blipFill>
          <a:blip r:embed="rId1"/>
          <a:stretch/>
        </p:blipFill>
        <p:spPr>
          <a:xfrm>
            <a:off x="285840" y="1643040"/>
            <a:ext cx="3360600" cy="4714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0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ополните схему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pSp>
        <p:nvGrpSpPr>
          <p:cNvPr id="382" name="Группа 25"/>
          <p:cNvGrpSpPr/>
          <p:nvPr/>
        </p:nvGrpSpPr>
        <p:grpSpPr>
          <a:xfrm>
            <a:off x="971640" y="1700280"/>
            <a:ext cx="7632720" cy="4178160"/>
            <a:chOff x="971640" y="1700280"/>
            <a:chExt cx="7632720" cy="4178160"/>
          </a:xfrm>
        </p:grpSpPr>
        <p:grpSp>
          <p:nvGrpSpPr>
            <p:cNvPr id="383" name="AutoShape 15"/>
            <p:cNvGrpSpPr/>
            <p:nvPr/>
          </p:nvGrpSpPr>
          <p:grpSpPr>
            <a:xfrm>
              <a:off x="2160000" y="1700280"/>
              <a:ext cx="4897440" cy="855360"/>
              <a:chOff x="2160000" y="1700280"/>
              <a:chExt cx="4897440" cy="855360"/>
            </a:xfrm>
          </p:grpSpPr>
          <p:pic>
            <p:nvPicPr>
              <p:cNvPr id="384" name="AutoShape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160000" y="1700280"/>
                <a:ext cx="4897440" cy="85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Text Box 5"/>
              <p:cNvSpPr/>
              <p:nvPr/>
            </p:nvSpPr>
            <p:spPr>
              <a:xfrm>
                <a:off x="2280240" y="1815120"/>
                <a:ext cx="4655160" cy="6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Corbel"/>
                  </a:rPr>
                  <a:t>?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6" name="AutoShape 17"/>
            <p:cNvGrpSpPr/>
            <p:nvPr/>
          </p:nvGrpSpPr>
          <p:grpSpPr>
            <a:xfrm>
              <a:off x="971640" y="2819520"/>
              <a:ext cx="2120040" cy="831960"/>
              <a:chOff x="971640" y="2819520"/>
              <a:chExt cx="2120040" cy="831960"/>
            </a:xfrm>
          </p:grpSpPr>
          <p:pic>
            <p:nvPicPr>
              <p:cNvPr id="387" name="AutoShape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971640" y="2819520"/>
                <a:ext cx="2120040" cy="8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8" name=""/>
              <p:cNvSpPr/>
              <p:nvPr/>
            </p:nvSpPr>
            <p:spPr>
              <a:xfrm>
                <a:off x="1080000" y="2923200"/>
                <a:ext cx="19062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Госпланы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республик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9" name="AutoShape 18"/>
            <p:cNvGrpSpPr/>
            <p:nvPr/>
          </p:nvGrpSpPr>
          <p:grpSpPr>
            <a:xfrm>
              <a:off x="2231640" y="3845160"/>
              <a:ext cx="4825800" cy="861480"/>
              <a:chOff x="2231640" y="3845160"/>
              <a:chExt cx="4825800" cy="861480"/>
            </a:xfrm>
          </p:grpSpPr>
          <p:pic>
            <p:nvPicPr>
              <p:cNvPr id="390" name="AutoShape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2231640" y="3845160"/>
                <a:ext cx="4825800" cy="86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1" name="Text Box 11"/>
              <p:cNvSpPr/>
              <p:nvPr/>
            </p:nvSpPr>
            <p:spPr>
              <a:xfrm>
                <a:off x="2350440" y="3962880"/>
                <a:ext cx="45864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Производител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(государственные предприятия и колхозы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2" name="AutoShape 19"/>
            <p:cNvGrpSpPr/>
            <p:nvPr/>
          </p:nvGrpSpPr>
          <p:grpSpPr>
            <a:xfrm>
              <a:off x="3724920" y="2819520"/>
              <a:ext cx="2120040" cy="831960"/>
              <a:chOff x="3724920" y="2819520"/>
              <a:chExt cx="2120040" cy="831960"/>
            </a:xfrm>
          </p:grpSpPr>
          <p:pic>
            <p:nvPicPr>
              <p:cNvPr id="393" name="AutoShap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3724920" y="2819520"/>
                <a:ext cx="2120040" cy="8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"/>
              <p:cNvSpPr/>
              <p:nvPr/>
            </p:nvSpPr>
            <p:spPr>
              <a:xfrm>
                <a:off x="3831120" y="2923200"/>
                <a:ext cx="19062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Плановые отделы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местных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органов власти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5" name="AutoShape 20"/>
            <p:cNvGrpSpPr/>
            <p:nvPr/>
          </p:nvGrpSpPr>
          <p:grpSpPr>
            <a:xfrm>
              <a:off x="6466320" y="2807640"/>
              <a:ext cx="2138040" cy="855360"/>
              <a:chOff x="6466320" y="2807640"/>
              <a:chExt cx="2138040" cy="855360"/>
            </a:xfrm>
          </p:grpSpPr>
          <p:pic>
            <p:nvPicPr>
              <p:cNvPr id="396" name="AutoShape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6466320" y="2807640"/>
                <a:ext cx="2138040" cy="85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 Box 17"/>
              <p:cNvSpPr/>
              <p:nvPr/>
            </p:nvSpPr>
            <p:spPr>
              <a:xfrm>
                <a:off x="6582600" y="2923200"/>
                <a:ext cx="190620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Плановые органы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министерств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и ведомств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8" name="AutoShape 21"/>
            <p:cNvGrpSpPr/>
            <p:nvPr/>
          </p:nvGrpSpPr>
          <p:grpSpPr>
            <a:xfrm>
              <a:off x="2231640" y="5023080"/>
              <a:ext cx="4825800" cy="855360"/>
              <a:chOff x="2231640" y="5023080"/>
              <a:chExt cx="4825800" cy="855360"/>
            </a:xfrm>
          </p:grpSpPr>
          <p:pic>
            <p:nvPicPr>
              <p:cNvPr id="399" name="AutoShap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2231640" y="5023080"/>
                <a:ext cx="4825800" cy="85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Text Box 20"/>
              <p:cNvSpPr/>
              <p:nvPr/>
            </p:nvSpPr>
            <p:spPr>
              <a:xfrm>
                <a:off x="2350080" y="5139000"/>
                <a:ext cx="4585320" cy="6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Corbel"/>
                  </a:rPr>
                  <a:t>?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1" name="AutoShape 22"/>
            <p:cNvGrpSpPr/>
            <p:nvPr/>
          </p:nvGrpSpPr>
          <p:grpSpPr>
            <a:xfrm>
              <a:off x="2452680" y="2327040"/>
              <a:ext cx="364320" cy="703080"/>
              <a:chOff x="2452680" y="2327040"/>
              <a:chExt cx="364320" cy="703080"/>
            </a:xfrm>
          </p:grpSpPr>
          <p:pic>
            <p:nvPicPr>
              <p:cNvPr id="402" name="AutoShape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2452680" y="2327040"/>
                <a:ext cx="36432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>
                <a:off x="2580480" y="247464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AutoShape 23"/>
            <p:cNvGrpSpPr/>
            <p:nvPr/>
          </p:nvGrpSpPr>
          <p:grpSpPr>
            <a:xfrm>
              <a:off x="4423680" y="2327040"/>
              <a:ext cx="370080" cy="703080"/>
              <a:chOff x="4423680" y="2327040"/>
              <a:chExt cx="370080" cy="703080"/>
            </a:xfrm>
          </p:grpSpPr>
          <p:pic>
            <p:nvPicPr>
              <p:cNvPr id="405" name="AutoShape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4423680" y="2327040"/>
                <a:ext cx="37008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"/>
              <p:cNvSpPr/>
              <p:nvPr/>
            </p:nvSpPr>
            <p:spPr>
              <a:xfrm>
                <a:off x="4555800" y="247464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7" name="AutoShape 24"/>
            <p:cNvGrpSpPr/>
            <p:nvPr/>
          </p:nvGrpSpPr>
          <p:grpSpPr>
            <a:xfrm>
              <a:off x="6537960" y="3434760"/>
              <a:ext cx="370080" cy="697320"/>
              <a:chOff x="6537960" y="3434760"/>
              <a:chExt cx="370080" cy="697320"/>
            </a:xfrm>
          </p:grpSpPr>
          <p:pic>
            <p:nvPicPr>
              <p:cNvPr id="408" name="AutoShape 24" descr=""/>
              <p:cNvPicPr/>
              <p:nvPr/>
            </p:nvPicPr>
            <p:blipFill>
              <a:blip r:embed="rId9"/>
              <a:stretch/>
            </p:blipFill>
            <p:spPr>
              <a:xfrm>
                <a:off x="6537960" y="343476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9" name=""/>
              <p:cNvSpPr/>
              <p:nvPr/>
            </p:nvSpPr>
            <p:spPr>
              <a:xfrm>
                <a:off x="6671160" y="35812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0" name="AutoShape 25"/>
            <p:cNvGrpSpPr/>
            <p:nvPr/>
          </p:nvGrpSpPr>
          <p:grpSpPr>
            <a:xfrm>
              <a:off x="4423680" y="3370320"/>
              <a:ext cx="370080" cy="697320"/>
              <a:chOff x="4423680" y="3370320"/>
              <a:chExt cx="370080" cy="697320"/>
            </a:xfrm>
          </p:grpSpPr>
          <p:pic>
            <p:nvPicPr>
              <p:cNvPr id="411" name="AutoShape 25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23680" y="337032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2" name=""/>
              <p:cNvSpPr/>
              <p:nvPr/>
            </p:nvSpPr>
            <p:spPr>
              <a:xfrm>
                <a:off x="4555800" y="351252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3" name="AutoShape 26"/>
            <p:cNvGrpSpPr/>
            <p:nvPr/>
          </p:nvGrpSpPr>
          <p:grpSpPr>
            <a:xfrm>
              <a:off x="2452680" y="3434760"/>
              <a:ext cx="364320" cy="697320"/>
              <a:chOff x="2452680" y="3434760"/>
              <a:chExt cx="364320" cy="697320"/>
            </a:xfrm>
          </p:grpSpPr>
          <p:pic>
            <p:nvPicPr>
              <p:cNvPr id="414" name="AutoShape 26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52680" y="3434760"/>
                <a:ext cx="36432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" name=""/>
              <p:cNvSpPr/>
              <p:nvPr/>
            </p:nvSpPr>
            <p:spPr>
              <a:xfrm>
                <a:off x="2580480" y="358128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6" name="AutoShape 27"/>
            <p:cNvGrpSpPr/>
            <p:nvPr/>
          </p:nvGrpSpPr>
          <p:grpSpPr>
            <a:xfrm>
              <a:off x="6472440" y="2327040"/>
              <a:ext cx="364320" cy="703080"/>
              <a:chOff x="6472440" y="2327040"/>
              <a:chExt cx="364320" cy="703080"/>
            </a:xfrm>
          </p:grpSpPr>
          <p:pic>
            <p:nvPicPr>
              <p:cNvPr id="417" name="AutoShape 27" descr=""/>
              <p:cNvPicPr/>
              <p:nvPr/>
            </p:nvPicPr>
            <p:blipFill>
              <a:blip r:embed="rId12"/>
              <a:stretch/>
            </p:blipFill>
            <p:spPr>
              <a:xfrm>
                <a:off x="6472440" y="2327040"/>
                <a:ext cx="36432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>
                <a:off x="6601320" y="247464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9" name="AutoShape 28"/>
            <p:cNvGrpSpPr/>
            <p:nvPr/>
          </p:nvGrpSpPr>
          <p:grpSpPr>
            <a:xfrm>
              <a:off x="2661840" y="2333160"/>
              <a:ext cx="364320" cy="703080"/>
              <a:chOff x="2661840" y="2333160"/>
              <a:chExt cx="364320" cy="703080"/>
            </a:xfrm>
          </p:grpSpPr>
          <p:pic>
            <p:nvPicPr>
              <p:cNvPr id="420" name="AutoShape 28" descr=""/>
              <p:cNvPicPr/>
              <p:nvPr/>
            </p:nvPicPr>
            <p:blipFill>
              <a:blip r:embed="rId13"/>
              <a:stretch/>
            </p:blipFill>
            <p:spPr>
              <a:xfrm>
                <a:off x="2661840" y="2333160"/>
                <a:ext cx="36432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"/>
              <p:cNvSpPr/>
              <p:nvPr/>
            </p:nvSpPr>
            <p:spPr>
              <a:xfrm>
                <a:off x="2792160" y="240588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2" name="AutoShape 29"/>
            <p:cNvGrpSpPr/>
            <p:nvPr/>
          </p:nvGrpSpPr>
          <p:grpSpPr>
            <a:xfrm>
              <a:off x="4638600" y="2333160"/>
              <a:ext cx="364320" cy="703080"/>
              <a:chOff x="4638600" y="2333160"/>
              <a:chExt cx="364320" cy="703080"/>
            </a:xfrm>
          </p:grpSpPr>
          <p:pic>
            <p:nvPicPr>
              <p:cNvPr id="423" name="AutoShape 29" descr=""/>
              <p:cNvPicPr/>
              <p:nvPr/>
            </p:nvPicPr>
            <p:blipFill>
              <a:blip r:embed="rId14"/>
              <a:stretch/>
            </p:blipFill>
            <p:spPr>
              <a:xfrm>
                <a:off x="4638600" y="2333160"/>
                <a:ext cx="36432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"/>
              <p:cNvSpPr/>
              <p:nvPr/>
            </p:nvSpPr>
            <p:spPr>
              <a:xfrm>
                <a:off x="4767120" y="240588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5" name="AutoShape 30"/>
            <p:cNvGrpSpPr/>
            <p:nvPr/>
          </p:nvGrpSpPr>
          <p:grpSpPr>
            <a:xfrm>
              <a:off x="2799000" y="4483800"/>
              <a:ext cx="370080" cy="697320"/>
              <a:chOff x="2799000" y="4483800"/>
              <a:chExt cx="370080" cy="697320"/>
            </a:xfrm>
          </p:grpSpPr>
          <p:pic>
            <p:nvPicPr>
              <p:cNvPr id="426" name="AutoShape 30" descr=""/>
              <p:cNvPicPr/>
              <p:nvPr/>
            </p:nvPicPr>
            <p:blipFill>
              <a:blip r:embed="rId15"/>
              <a:stretch/>
            </p:blipFill>
            <p:spPr>
              <a:xfrm>
                <a:off x="2799000" y="448380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7" name=""/>
              <p:cNvSpPr/>
              <p:nvPr/>
            </p:nvSpPr>
            <p:spPr>
              <a:xfrm>
                <a:off x="2931840" y="45514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8" name="AutoShape 31"/>
            <p:cNvGrpSpPr/>
            <p:nvPr/>
          </p:nvGrpSpPr>
          <p:grpSpPr>
            <a:xfrm>
              <a:off x="3927960" y="4483800"/>
              <a:ext cx="370080" cy="697320"/>
              <a:chOff x="3927960" y="4483800"/>
              <a:chExt cx="370080" cy="697320"/>
            </a:xfrm>
          </p:grpSpPr>
          <p:pic>
            <p:nvPicPr>
              <p:cNvPr id="429" name="AutoShape 31" descr=""/>
              <p:cNvPicPr/>
              <p:nvPr/>
            </p:nvPicPr>
            <p:blipFill>
              <a:blip r:embed="rId16"/>
              <a:stretch/>
            </p:blipFill>
            <p:spPr>
              <a:xfrm>
                <a:off x="3927960" y="448380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0" name=""/>
              <p:cNvSpPr/>
              <p:nvPr/>
            </p:nvSpPr>
            <p:spPr>
              <a:xfrm>
                <a:off x="4061160" y="45514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1" name="AutoShape 32"/>
            <p:cNvGrpSpPr/>
            <p:nvPr/>
          </p:nvGrpSpPr>
          <p:grpSpPr>
            <a:xfrm>
              <a:off x="5128560" y="4483800"/>
              <a:ext cx="370080" cy="697320"/>
              <a:chOff x="5128560" y="4483800"/>
              <a:chExt cx="370080" cy="697320"/>
            </a:xfrm>
          </p:grpSpPr>
          <p:pic>
            <p:nvPicPr>
              <p:cNvPr id="432" name="AutoShape 32" descr=""/>
              <p:cNvPicPr/>
              <p:nvPr/>
            </p:nvPicPr>
            <p:blipFill>
              <a:blip r:embed="rId17"/>
              <a:stretch/>
            </p:blipFill>
            <p:spPr>
              <a:xfrm>
                <a:off x="5128560" y="448380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3" name=""/>
              <p:cNvSpPr/>
              <p:nvPr/>
            </p:nvSpPr>
            <p:spPr>
              <a:xfrm>
                <a:off x="5260320" y="45514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4" name="AutoShape 33"/>
            <p:cNvGrpSpPr/>
            <p:nvPr/>
          </p:nvGrpSpPr>
          <p:grpSpPr>
            <a:xfrm>
              <a:off x="6191640" y="4483800"/>
              <a:ext cx="364320" cy="697320"/>
              <a:chOff x="6191640" y="4483800"/>
              <a:chExt cx="364320" cy="697320"/>
            </a:xfrm>
          </p:grpSpPr>
          <p:pic>
            <p:nvPicPr>
              <p:cNvPr id="435" name="AutoShape 33" descr=""/>
              <p:cNvPicPr/>
              <p:nvPr/>
            </p:nvPicPr>
            <p:blipFill>
              <a:blip r:embed="rId18"/>
              <a:stretch/>
            </p:blipFill>
            <p:spPr>
              <a:xfrm>
                <a:off x="6191640" y="4483800"/>
                <a:ext cx="36432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6" name=""/>
              <p:cNvSpPr/>
              <p:nvPr/>
            </p:nvSpPr>
            <p:spPr>
              <a:xfrm>
                <a:off x="6319800" y="455148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7" name="AutoShape 34"/>
            <p:cNvGrpSpPr/>
            <p:nvPr/>
          </p:nvGrpSpPr>
          <p:grpSpPr>
            <a:xfrm>
              <a:off x="6752880" y="3440520"/>
              <a:ext cx="370080" cy="697320"/>
              <a:chOff x="6752880" y="3440520"/>
              <a:chExt cx="370080" cy="697320"/>
            </a:xfrm>
          </p:grpSpPr>
          <p:pic>
            <p:nvPicPr>
              <p:cNvPr id="438" name="AutoShape 34" descr=""/>
              <p:cNvPicPr/>
              <p:nvPr/>
            </p:nvPicPr>
            <p:blipFill>
              <a:blip r:embed="rId19"/>
              <a:stretch/>
            </p:blipFill>
            <p:spPr>
              <a:xfrm>
                <a:off x="6752880" y="344052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9" name=""/>
              <p:cNvSpPr/>
              <p:nvPr/>
            </p:nvSpPr>
            <p:spPr>
              <a:xfrm>
                <a:off x="6883920" y="351180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0" name="AutoShape 35"/>
            <p:cNvGrpSpPr/>
            <p:nvPr/>
          </p:nvGrpSpPr>
          <p:grpSpPr>
            <a:xfrm>
              <a:off x="4638600" y="3376080"/>
              <a:ext cx="364320" cy="697320"/>
              <a:chOff x="4638600" y="3376080"/>
              <a:chExt cx="364320" cy="697320"/>
            </a:xfrm>
          </p:grpSpPr>
          <p:pic>
            <p:nvPicPr>
              <p:cNvPr id="441" name="AutoShape 35" descr=""/>
              <p:cNvPicPr/>
              <p:nvPr/>
            </p:nvPicPr>
            <p:blipFill>
              <a:blip r:embed="rId20"/>
              <a:stretch/>
            </p:blipFill>
            <p:spPr>
              <a:xfrm>
                <a:off x="4638600" y="3376080"/>
                <a:ext cx="36432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2" name=""/>
              <p:cNvSpPr/>
              <p:nvPr/>
            </p:nvSpPr>
            <p:spPr>
              <a:xfrm>
                <a:off x="4767120" y="344340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3" name="AutoShape 36"/>
            <p:cNvGrpSpPr/>
            <p:nvPr/>
          </p:nvGrpSpPr>
          <p:grpSpPr>
            <a:xfrm>
              <a:off x="2661840" y="3440520"/>
              <a:ext cx="364320" cy="697320"/>
              <a:chOff x="2661840" y="3440520"/>
              <a:chExt cx="364320" cy="697320"/>
            </a:xfrm>
          </p:grpSpPr>
          <p:pic>
            <p:nvPicPr>
              <p:cNvPr id="444" name="AutoShape 36" descr=""/>
              <p:cNvPicPr/>
              <p:nvPr/>
            </p:nvPicPr>
            <p:blipFill>
              <a:blip r:embed="rId21"/>
              <a:stretch/>
            </p:blipFill>
            <p:spPr>
              <a:xfrm>
                <a:off x="2661840" y="3440520"/>
                <a:ext cx="36432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>
                <a:off x="2792160" y="351180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6" name="AutoShape 37"/>
            <p:cNvGrpSpPr/>
            <p:nvPr/>
          </p:nvGrpSpPr>
          <p:grpSpPr>
            <a:xfrm>
              <a:off x="6681240" y="2333160"/>
              <a:ext cx="370080" cy="703080"/>
              <a:chOff x="6681240" y="2333160"/>
              <a:chExt cx="370080" cy="703080"/>
            </a:xfrm>
          </p:grpSpPr>
          <p:pic>
            <p:nvPicPr>
              <p:cNvPr id="447" name="AutoShape 37" descr=""/>
              <p:cNvPicPr/>
              <p:nvPr/>
            </p:nvPicPr>
            <p:blipFill>
              <a:blip r:embed="rId22"/>
              <a:stretch/>
            </p:blipFill>
            <p:spPr>
              <a:xfrm>
                <a:off x="6681240" y="2333160"/>
                <a:ext cx="37008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>
                <a:off x="6812640" y="24058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Японская модел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6840" y="1599840"/>
            <a:ext cx="46148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61440" indent="-3013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тставание уровня жизни населения от роста производительности труд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нижение себестоимости продукции и повышение ее конкурентоспособности на мировом рынк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Активная роль государства в модернизации экономик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13" name="Picture 2" descr="I:\Энциклопедия\Э Экономические системы\картинки\862c8ce36e8e.jpg"/>
          <p:cNvPicPr/>
          <p:nvPr/>
        </p:nvPicPr>
        <p:blipFill>
          <a:blip r:embed="rId1"/>
          <a:stretch/>
        </p:blipFill>
        <p:spPr>
          <a:xfrm>
            <a:off x="5357880" y="1571760"/>
            <a:ext cx="3548160" cy="4628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4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Южнокорейская модел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6840" y="1599840"/>
            <a:ext cx="53290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Имеет много общего с японской моделью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Контроль над ценами на ресурсы и широкий круг товаров производственного и потребительского назначения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Южнокорейское государство целенаправленно способствовало созданию крупных финансово-промышленных групп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Поддержка мелкого и среднего предпринимательства, что способствует быстрому образованию среднего класса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17" name="Picture 2" descr="I:\Энциклопедия\Э Экономические системы\картинки\turi_news_1239878957.jpg"/>
          <p:cNvPicPr/>
          <p:nvPr/>
        </p:nvPicPr>
        <p:blipFill>
          <a:blip r:embed="rId1"/>
          <a:stretch/>
        </p:blipFill>
        <p:spPr>
          <a:xfrm>
            <a:off x="6000840" y="1928880"/>
            <a:ext cx="2905200" cy="3878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8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верьте себя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pSp>
        <p:nvGrpSpPr>
          <p:cNvPr id="451" name="Группа 25"/>
          <p:cNvGrpSpPr/>
          <p:nvPr/>
        </p:nvGrpSpPr>
        <p:grpSpPr>
          <a:xfrm>
            <a:off x="971640" y="1700280"/>
            <a:ext cx="7632720" cy="4178160"/>
            <a:chOff x="971640" y="1700280"/>
            <a:chExt cx="7632720" cy="4178160"/>
          </a:xfrm>
        </p:grpSpPr>
        <p:grpSp>
          <p:nvGrpSpPr>
            <p:cNvPr id="452" name="AutoShape 15"/>
            <p:cNvGrpSpPr/>
            <p:nvPr/>
          </p:nvGrpSpPr>
          <p:grpSpPr>
            <a:xfrm>
              <a:off x="2171160" y="1700280"/>
              <a:ext cx="4887720" cy="850680"/>
              <a:chOff x="2171160" y="1700280"/>
              <a:chExt cx="4887720" cy="850680"/>
            </a:xfrm>
          </p:grpSpPr>
          <p:pic>
            <p:nvPicPr>
              <p:cNvPr id="453" name="AutoShape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171160" y="1700280"/>
                <a:ext cx="488772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4" name="Text Box 5"/>
              <p:cNvSpPr/>
              <p:nvPr/>
            </p:nvSpPr>
            <p:spPr>
              <a:xfrm>
                <a:off x="2291040" y="1815480"/>
                <a:ext cx="4653360" cy="62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ea157a"/>
                    </a:solidFill>
                    <a:latin typeface="Corbel"/>
                  </a:rPr>
                  <a:t>Госплан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5" name="AutoShape 17"/>
            <p:cNvGrpSpPr/>
            <p:nvPr/>
          </p:nvGrpSpPr>
          <p:grpSpPr>
            <a:xfrm>
              <a:off x="971640" y="2809440"/>
              <a:ext cx="2136240" cy="850680"/>
              <a:chOff x="971640" y="2809440"/>
              <a:chExt cx="2136240" cy="850680"/>
            </a:xfrm>
          </p:grpSpPr>
          <p:pic>
            <p:nvPicPr>
              <p:cNvPr id="456" name="AutoShape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971640" y="2809440"/>
                <a:ext cx="213624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Text Box 8"/>
              <p:cNvSpPr/>
              <p:nvPr/>
            </p:nvSpPr>
            <p:spPr>
              <a:xfrm>
                <a:off x="1091520" y="2925000"/>
                <a:ext cx="190476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Госпланы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республик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8" name="AutoShape 18"/>
            <p:cNvGrpSpPr/>
            <p:nvPr/>
          </p:nvGrpSpPr>
          <p:grpSpPr>
            <a:xfrm>
              <a:off x="2242800" y="3848040"/>
              <a:ext cx="4816080" cy="856800"/>
              <a:chOff x="2242800" y="3848040"/>
              <a:chExt cx="4816080" cy="856800"/>
            </a:xfrm>
          </p:grpSpPr>
          <p:pic>
            <p:nvPicPr>
              <p:cNvPr id="459" name="AutoShape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2242800" y="3848040"/>
                <a:ext cx="4816080" cy="85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Text Box 11"/>
              <p:cNvSpPr/>
              <p:nvPr/>
            </p:nvSpPr>
            <p:spPr>
              <a:xfrm>
                <a:off x="2361600" y="3965760"/>
                <a:ext cx="458280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Производител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(государственные предприятия и колхозы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1" name="AutoShape 19"/>
            <p:cNvGrpSpPr/>
            <p:nvPr/>
          </p:nvGrpSpPr>
          <p:grpSpPr>
            <a:xfrm>
              <a:off x="3722760" y="2809440"/>
              <a:ext cx="2136240" cy="850680"/>
              <a:chOff x="3722760" y="2809440"/>
              <a:chExt cx="2136240" cy="850680"/>
            </a:xfrm>
          </p:grpSpPr>
          <p:pic>
            <p:nvPicPr>
              <p:cNvPr id="462" name="AutoShap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3722760" y="2809440"/>
                <a:ext cx="213624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Text Box 14"/>
              <p:cNvSpPr/>
              <p:nvPr/>
            </p:nvSpPr>
            <p:spPr>
              <a:xfrm>
                <a:off x="3840840" y="2925000"/>
                <a:ext cx="190476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Плановые отделы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местных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органов власти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4" name="AutoShape 20"/>
            <p:cNvGrpSpPr/>
            <p:nvPr/>
          </p:nvGrpSpPr>
          <p:grpSpPr>
            <a:xfrm>
              <a:off x="6473880" y="2809440"/>
              <a:ext cx="2130480" cy="850680"/>
              <a:chOff x="6473880" y="2809440"/>
              <a:chExt cx="2130480" cy="850680"/>
            </a:xfrm>
          </p:grpSpPr>
          <p:pic>
            <p:nvPicPr>
              <p:cNvPr id="465" name="AutoShape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6473880" y="2809440"/>
                <a:ext cx="213048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6" name="Text Box 17"/>
              <p:cNvSpPr/>
              <p:nvPr/>
            </p:nvSpPr>
            <p:spPr>
              <a:xfrm>
                <a:off x="6590160" y="2925000"/>
                <a:ext cx="190512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Плановые органы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министерств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и ведомств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7" name="AutoShape 21"/>
            <p:cNvGrpSpPr/>
            <p:nvPr/>
          </p:nvGrpSpPr>
          <p:grpSpPr>
            <a:xfrm>
              <a:off x="2242800" y="5027760"/>
              <a:ext cx="4816080" cy="850680"/>
              <a:chOff x="2242800" y="5027760"/>
              <a:chExt cx="4816080" cy="850680"/>
            </a:xfrm>
          </p:grpSpPr>
          <p:pic>
            <p:nvPicPr>
              <p:cNvPr id="468" name="AutoShap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2242800" y="5027760"/>
                <a:ext cx="481608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Text Box 20"/>
              <p:cNvSpPr/>
              <p:nvPr/>
            </p:nvSpPr>
            <p:spPr>
              <a:xfrm>
                <a:off x="2361240" y="5144040"/>
                <a:ext cx="4583160" cy="62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35faa"/>
                    </a:solidFill>
                    <a:latin typeface="Corbel"/>
                  </a:rPr>
                  <a:t>Потребительский рынок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0" name="AutoShape 22"/>
            <p:cNvGrpSpPr/>
            <p:nvPr/>
          </p:nvGrpSpPr>
          <p:grpSpPr>
            <a:xfrm>
              <a:off x="2463480" y="2328120"/>
              <a:ext cx="363960" cy="704160"/>
              <a:chOff x="2463480" y="2328120"/>
              <a:chExt cx="363960" cy="704160"/>
            </a:xfrm>
          </p:grpSpPr>
          <p:pic>
            <p:nvPicPr>
              <p:cNvPr id="471" name="AutoShape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2463480" y="2328120"/>
                <a:ext cx="36396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2" name=""/>
              <p:cNvSpPr/>
              <p:nvPr/>
            </p:nvSpPr>
            <p:spPr>
              <a:xfrm>
                <a:off x="2591280" y="247572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3" name="AutoShape 23"/>
            <p:cNvGrpSpPr/>
            <p:nvPr/>
          </p:nvGrpSpPr>
          <p:grpSpPr>
            <a:xfrm>
              <a:off x="4433040" y="2328120"/>
              <a:ext cx="369720" cy="704160"/>
              <a:chOff x="4433040" y="2328120"/>
              <a:chExt cx="369720" cy="704160"/>
            </a:xfrm>
          </p:grpSpPr>
          <p:pic>
            <p:nvPicPr>
              <p:cNvPr id="474" name="AutoShape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4433040" y="2328120"/>
                <a:ext cx="36972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5" name=""/>
              <p:cNvSpPr/>
              <p:nvPr/>
            </p:nvSpPr>
            <p:spPr>
              <a:xfrm>
                <a:off x="4565160" y="247572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6" name="AutoShape 24"/>
            <p:cNvGrpSpPr/>
            <p:nvPr/>
          </p:nvGrpSpPr>
          <p:grpSpPr>
            <a:xfrm>
              <a:off x="6545520" y="3437280"/>
              <a:ext cx="369720" cy="698040"/>
              <a:chOff x="6545520" y="3437280"/>
              <a:chExt cx="369720" cy="698040"/>
            </a:xfrm>
          </p:grpSpPr>
          <p:pic>
            <p:nvPicPr>
              <p:cNvPr id="477" name="AutoShape 24" descr=""/>
              <p:cNvPicPr/>
              <p:nvPr/>
            </p:nvPicPr>
            <p:blipFill>
              <a:blip r:embed="rId9"/>
              <a:stretch/>
            </p:blipFill>
            <p:spPr>
              <a:xfrm>
                <a:off x="6545520" y="343728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"/>
              <p:cNvSpPr/>
              <p:nvPr/>
            </p:nvSpPr>
            <p:spPr>
              <a:xfrm>
                <a:off x="6678360" y="358380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9" name="AutoShape 25"/>
            <p:cNvGrpSpPr/>
            <p:nvPr/>
          </p:nvGrpSpPr>
          <p:grpSpPr>
            <a:xfrm>
              <a:off x="4433040" y="3372840"/>
              <a:ext cx="369720" cy="698040"/>
              <a:chOff x="4433040" y="3372840"/>
              <a:chExt cx="369720" cy="698040"/>
            </a:xfrm>
          </p:grpSpPr>
          <p:pic>
            <p:nvPicPr>
              <p:cNvPr id="480" name="AutoShape 25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33040" y="337284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"/>
              <p:cNvSpPr/>
              <p:nvPr/>
            </p:nvSpPr>
            <p:spPr>
              <a:xfrm>
                <a:off x="4565160" y="35150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2" name="AutoShape 26"/>
            <p:cNvGrpSpPr/>
            <p:nvPr/>
          </p:nvGrpSpPr>
          <p:grpSpPr>
            <a:xfrm>
              <a:off x="2463480" y="3437280"/>
              <a:ext cx="363960" cy="698040"/>
              <a:chOff x="2463480" y="3437280"/>
              <a:chExt cx="363960" cy="698040"/>
            </a:xfrm>
          </p:grpSpPr>
          <p:pic>
            <p:nvPicPr>
              <p:cNvPr id="483" name="AutoShape 26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63480" y="3437280"/>
                <a:ext cx="36396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"/>
              <p:cNvSpPr/>
              <p:nvPr/>
            </p:nvSpPr>
            <p:spPr>
              <a:xfrm>
                <a:off x="2591280" y="358380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5" name="AutoShape 27"/>
            <p:cNvGrpSpPr/>
            <p:nvPr/>
          </p:nvGrpSpPr>
          <p:grpSpPr>
            <a:xfrm>
              <a:off x="6480000" y="2328120"/>
              <a:ext cx="363960" cy="704160"/>
              <a:chOff x="6480000" y="2328120"/>
              <a:chExt cx="363960" cy="704160"/>
            </a:xfrm>
          </p:grpSpPr>
          <p:pic>
            <p:nvPicPr>
              <p:cNvPr id="486" name="AutoShape 27" descr=""/>
              <p:cNvPicPr/>
              <p:nvPr/>
            </p:nvPicPr>
            <p:blipFill>
              <a:blip r:embed="rId12"/>
              <a:stretch/>
            </p:blipFill>
            <p:spPr>
              <a:xfrm>
                <a:off x="6480000" y="2328120"/>
                <a:ext cx="36396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7" name=""/>
              <p:cNvSpPr/>
              <p:nvPr/>
            </p:nvSpPr>
            <p:spPr>
              <a:xfrm>
                <a:off x="6608880" y="247572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8" name="AutoShape 28"/>
            <p:cNvGrpSpPr/>
            <p:nvPr/>
          </p:nvGrpSpPr>
          <p:grpSpPr>
            <a:xfrm>
              <a:off x="2672280" y="2333880"/>
              <a:ext cx="363960" cy="704160"/>
              <a:chOff x="2672280" y="2333880"/>
              <a:chExt cx="363960" cy="704160"/>
            </a:xfrm>
          </p:grpSpPr>
          <p:pic>
            <p:nvPicPr>
              <p:cNvPr id="489" name="AutoShape 28" descr=""/>
              <p:cNvPicPr/>
              <p:nvPr/>
            </p:nvPicPr>
            <p:blipFill>
              <a:blip r:embed="rId13"/>
              <a:stretch/>
            </p:blipFill>
            <p:spPr>
              <a:xfrm>
                <a:off x="2672280" y="2333880"/>
                <a:ext cx="36396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>
                <a:off x="2802600" y="240660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1" name="AutoShape 29"/>
            <p:cNvGrpSpPr/>
            <p:nvPr/>
          </p:nvGrpSpPr>
          <p:grpSpPr>
            <a:xfrm>
              <a:off x="4647600" y="2333880"/>
              <a:ext cx="363960" cy="704160"/>
              <a:chOff x="4647600" y="2333880"/>
              <a:chExt cx="363960" cy="704160"/>
            </a:xfrm>
          </p:grpSpPr>
          <p:pic>
            <p:nvPicPr>
              <p:cNvPr id="492" name="AutoShape 29" descr=""/>
              <p:cNvPicPr/>
              <p:nvPr/>
            </p:nvPicPr>
            <p:blipFill>
              <a:blip r:embed="rId14"/>
              <a:stretch/>
            </p:blipFill>
            <p:spPr>
              <a:xfrm>
                <a:off x="4647600" y="2333880"/>
                <a:ext cx="36396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3" name=""/>
              <p:cNvSpPr/>
              <p:nvPr/>
            </p:nvSpPr>
            <p:spPr>
              <a:xfrm>
                <a:off x="4776120" y="240660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4" name="AutoShape 30"/>
            <p:cNvGrpSpPr/>
            <p:nvPr/>
          </p:nvGrpSpPr>
          <p:grpSpPr>
            <a:xfrm>
              <a:off x="2809440" y="4487760"/>
              <a:ext cx="369720" cy="698040"/>
              <a:chOff x="2809440" y="4487760"/>
              <a:chExt cx="369720" cy="698040"/>
            </a:xfrm>
          </p:grpSpPr>
          <p:pic>
            <p:nvPicPr>
              <p:cNvPr id="495" name="AutoShape 30" descr=""/>
              <p:cNvPicPr/>
              <p:nvPr/>
            </p:nvPicPr>
            <p:blipFill>
              <a:blip r:embed="rId15"/>
              <a:stretch/>
            </p:blipFill>
            <p:spPr>
              <a:xfrm>
                <a:off x="2809440" y="448776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6" name=""/>
              <p:cNvSpPr/>
              <p:nvPr/>
            </p:nvSpPr>
            <p:spPr>
              <a:xfrm>
                <a:off x="2942280" y="45554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7" name="AutoShape 31"/>
            <p:cNvGrpSpPr/>
            <p:nvPr/>
          </p:nvGrpSpPr>
          <p:grpSpPr>
            <a:xfrm>
              <a:off x="3937680" y="4487760"/>
              <a:ext cx="369720" cy="698040"/>
              <a:chOff x="3937680" y="4487760"/>
              <a:chExt cx="369720" cy="698040"/>
            </a:xfrm>
          </p:grpSpPr>
          <p:pic>
            <p:nvPicPr>
              <p:cNvPr id="498" name="AutoShape 31" descr=""/>
              <p:cNvPicPr/>
              <p:nvPr/>
            </p:nvPicPr>
            <p:blipFill>
              <a:blip r:embed="rId16"/>
              <a:stretch/>
            </p:blipFill>
            <p:spPr>
              <a:xfrm>
                <a:off x="3937680" y="448776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9" name=""/>
              <p:cNvSpPr/>
              <p:nvPr/>
            </p:nvSpPr>
            <p:spPr>
              <a:xfrm>
                <a:off x="4070880" y="45554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0" name="AutoShape 32"/>
            <p:cNvGrpSpPr/>
            <p:nvPr/>
          </p:nvGrpSpPr>
          <p:grpSpPr>
            <a:xfrm>
              <a:off x="5137200" y="4487760"/>
              <a:ext cx="369720" cy="698040"/>
              <a:chOff x="5137200" y="4487760"/>
              <a:chExt cx="369720" cy="698040"/>
            </a:xfrm>
          </p:grpSpPr>
          <p:pic>
            <p:nvPicPr>
              <p:cNvPr id="501" name="AutoShape 32" descr=""/>
              <p:cNvPicPr/>
              <p:nvPr/>
            </p:nvPicPr>
            <p:blipFill>
              <a:blip r:embed="rId17"/>
              <a:stretch/>
            </p:blipFill>
            <p:spPr>
              <a:xfrm>
                <a:off x="5137200" y="448776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>
                <a:off x="5268960" y="45554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3" name="AutoShape 33"/>
            <p:cNvGrpSpPr/>
            <p:nvPr/>
          </p:nvGrpSpPr>
          <p:grpSpPr>
            <a:xfrm>
              <a:off x="6199560" y="4487760"/>
              <a:ext cx="363960" cy="698040"/>
              <a:chOff x="6199560" y="4487760"/>
              <a:chExt cx="363960" cy="698040"/>
            </a:xfrm>
          </p:grpSpPr>
          <p:pic>
            <p:nvPicPr>
              <p:cNvPr id="504" name="AutoShape 33" descr=""/>
              <p:cNvPicPr/>
              <p:nvPr/>
            </p:nvPicPr>
            <p:blipFill>
              <a:blip r:embed="rId18"/>
              <a:stretch/>
            </p:blipFill>
            <p:spPr>
              <a:xfrm>
                <a:off x="6199560" y="4487760"/>
                <a:ext cx="36396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5" name=""/>
              <p:cNvSpPr/>
              <p:nvPr/>
            </p:nvSpPr>
            <p:spPr>
              <a:xfrm>
                <a:off x="6327360" y="45554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6" name="AutoShape 34"/>
            <p:cNvGrpSpPr/>
            <p:nvPr/>
          </p:nvGrpSpPr>
          <p:grpSpPr>
            <a:xfrm>
              <a:off x="6760440" y="3443040"/>
              <a:ext cx="369720" cy="698040"/>
              <a:chOff x="6760440" y="3443040"/>
              <a:chExt cx="369720" cy="698040"/>
            </a:xfrm>
          </p:grpSpPr>
          <p:pic>
            <p:nvPicPr>
              <p:cNvPr id="507" name="AutoShape 34" descr=""/>
              <p:cNvPicPr/>
              <p:nvPr/>
            </p:nvPicPr>
            <p:blipFill>
              <a:blip r:embed="rId19"/>
              <a:stretch/>
            </p:blipFill>
            <p:spPr>
              <a:xfrm>
                <a:off x="6760440" y="344304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8" name=""/>
              <p:cNvSpPr/>
              <p:nvPr/>
            </p:nvSpPr>
            <p:spPr>
              <a:xfrm>
                <a:off x="6891480" y="351468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9" name="AutoShape 35"/>
            <p:cNvGrpSpPr/>
            <p:nvPr/>
          </p:nvGrpSpPr>
          <p:grpSpPr>
            <a:xfrm>
              <a:off x="4647600" y="3378600"/>
              <a:ext cx="363960" cy="698040"/>
              <a:chOff x="4647600" y="3378600"/>
              <a:chExt cx="363960" cy="698040"/>
            </a:xfrm>
          </p:grpSpPr>
          <p:pic>
            <p:nvPicPr>
              <p:cNvPr id="510" name="AutoShape 35" descr=""/>
              <p:cNvPicPr/>
              <p:nvPr/>
            </p:nvPicPr>
            <p:blipFill>
              <a:blip r:embed="rId20"/>
              <a:stretch/>
            </p:blipFill>
            <p:spPr>
              <a:xfrm>
                <a:off x="4647600" y="3378600"/>
                <a:ext cx="36396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" name=""/>
              <p:cNvSpPr/>
              <p:nvPr/>
            </p:nvSpPr>
            <p:spPr>
              <a:xfrm>
                <a:off x="4776120" y="344592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2" name="AutoShape 36"/>
            <p:cNvGrpSpPr/>
            <p:nvPr/>
          </p:nvGrpSpPr>
          <p:grpSpPr>
            <a:xfrm>
              <a:off x="2672280" y="3443040"/>
              <a:ext cx="363960" cy="698040"/>
              <a:chOff x="2672280" y="3443040"/>
              <a:chExt cx="363960" cy="698040"/>
            </a:xfrm>
          </p:grpSpPr>
          <p:pic>
            <p:nvPicPr>
              <p:cNvPr id="513" name="AutoShape 36" descr=""/>
              <p:cNvPicPr/>
              <p:nvPr/>
            </p:nvPicPr>
            <p:blipFill>
              <a:blip r:embed="rId21"/>
              <a:stretch/>
            </p:blipFill>
            <p:spPr>
              <a:xfrm>
                <a:off x="2672280" y="3443040"/>
                <a:ext cx="36396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4" name=""/>
              <p:cNvSpPr/>
              <p:nvPr/>
            </p:nvSpPr>
            <p:spPr>
              <a:xfrm>
                <a:off x="2802600" y="351468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5" name="AutoShape 37"/>
            <p:cNvGrpSpPr/>
            <p:nvPr/>
          </p:nvGrpSpPr>
          <p:grpSpPr>
            <a:xfrm>
              <a:off x="6688800" y="2333880"/>
              <a:ext cx="369720" cy="704160"/>
              <a:chOff x="6688800" y="2333880"/>
              <a:chExt cx="369720" cy="704160"/>
            </a:xfrm>
          </p:grpSpPr>
          <p:pic>
            <p:nvPicPr>
              <p:cNvPr id="516" name="AutoShape 37" descr=""/>
              <p:cNvPicPr/>
              <p:nvPr/>
            </p:nvPicPr>
            <p:blipFill>
              <a:blip r:embed="rId22"/>
              <a:stretch/>
            </p:blipFill>
            <p:spPr>
              <a:xfrm>
                <a:off x="6688800" y="2333880"/>
                <a:ext cx="36972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7" name=""/>
              <p:cNvSpPr/>
              <p:nvPr/>
            </p:nvSpPr>
            <p:spPr>
              <a:xfrm>
                <a:off x="6819840" y="240660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8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Что такое рынок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20" name="Picture 2" descr="I:\Энциклопедия\Э Экономические системы\картинки\marketingovie_skazki.jpg"/>
          <p:cNvPicPr/>
          <p:nvPr/>
        </p:nvPicPr>
        <p:blipFill>
          <a:blip r:embed="rId1"/>
          <a:stretch/>
        </p:blipFill>
        <p:spPr>
          <a:xfrm>
            <a:off x="4986360" y="4175280"/>
            <a:ext cx="4406760" cy="28350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I:\Энциклопедия\Э Экономические системы\картинки\gallery_image.jpg"/>
          <p:cNvPicPr/>
          <p:nvPr/>
        </p:nvPicPr>
        <p:blipFill>
          <a:blip r:embed="rId2"/>
          <a:stretch/>
        </p:blipFill>
        <p:spPr>
          <a:xfrm>
            <a:off x="-146160" y="1047600"/>
            <a:ext cx="5340600" cy="3829320"/>
          </a:xfrm>
          <a:prstGeom prst="rect">
            <a:avLst/>
          </a:prstGeom>
          <a:ln w="0">
            <a:noFill/>
          </a:ln>
        </p:spPr>
      </p:pic>
      <p:sp>
        <p:nvSpPr>
          <p:cNvPr id="522" name="TextBox 5"/>
          <p:cNvSpPr/>
          <p:nvPr/>
        </p:nvSpPr>
        <p:spPr>
          <a:xfrm>
            <a:off x="5072040" y="142884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Место купли-продажи товар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Box 7"/>
          <p:cNvSpPr/>
          <p:nvPr/>
        </p:nvSpPr>
        <p:spPr>
          <a:xfrm>
            <a:off x="500040" y="4786200"/>
            <a:ext cx="4857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bd0e4"/>
                </a:solidFill>
                <a:latin typeface="Corbel"/>
              </a:rPr>
              <a:t>РЫНОК</a:t>
            </a:r>
            <a:r>
              <a:rPr b="0" lang="ru-RU" sz="2000" spc="-1" strike="noStrike">
                <a:solidFill>
                  <a:srgbClr val="fbd0e4"/>
                </a:solidFill>
                <a:latin typeface="Corbel"/>
              </a:rPr>
              <a:t> – это форма контактов между продавцами и покупателями товаров и услуг, недвижимости, ценных бумаг и валюты. На основе этих контактов совершаются сделки купли-продажи предметов торгов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Box 6"/>
          <p:cNvSpPr/>
          <p:nvPr/>
        </p:nvSpPr>
        <p:spPr>
          <a:xfrm>
            <a:off x="7929720" y="28584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Причины возникновения рыночной экономики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27" name="Содержимое 3" descr=""/>
          <p:cNvPicPr/>
          <p:nvPr/>
        </p:nvPicPr>
        <p:blipFill>
          <a:blip r:embed="rId1"/>
          <a:stretch/>
        </p:blipFill>
        <p:spPr>
          <a:xfrm>
            <a:off x="835200" y="1731960"/>
            <a:ext cx="7924680" cy="4632480"/>
          </a:xfrm>
          <a:prstGeom prst="rect">
            <a:avLst/>
          </a:prstGeom>
          <a:ln w="0">
            <a:noFill/>
          </a:ln>
        </p:spPr>
      </p:pic>
      <p:sp>
        <p:nvSpPr>
          <p:cNvPr id="528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Содержимое 3" descr=""/>
          <p:cNvPicPr/>
          <p:nvPr/>
        </p:nvPicPr>
        <p:blipFill>
          <a:blip r:embed="rId1"/>
          <a:stretch/>
        </p:blipFill>
        <p:spPr>
          <a:xfrm>
            <a:off x="-6480" y="-158760"/>
            <a:ext cx="9156960" cy="7156440"/>
          </a:xfrm>
          <a:prstGeom prst="rect">
            <a:avLst/>
          </a:prstGeom>
          <a:ln w="0">
            <a:noFill/>
          </a:ln>
        </p:spPr>
      </p:pic>
      <p:sp>
        <p:nvSpPr>
          <p:cNvPr id="530" name="TextBox 5"/>
          <p:cNvSpPr/>
          <p:nvPr/>
        </p:nvSpPr>
        <p:spPr>
          <a:xfrm>
            <a:off x="7929720" y="28584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Функции рын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500040" y="1784520"/>
            <a:ext cx="5286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ИНФОРМАЦИОННАЯ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Через постоянно меняющиеся цены рынок сообщает производителям, где и какой продукции не хватает и где и какая продукция произведена с избытком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34" name="Picture 3" descr="I:\Энциклопедия\Э Экономические системы\картинки\dayinfo1(2).jpg"/>
          <p:cNvPicPr/>
          <p:nvPr/>
        </p:nvPicPr>
        <p:blipFill>
          <a:blip r:embed="rId1"/>
          <a:stretch/>
        </p:blipFill>
        <p:spPr>
          <a:xfrm>
            <a:off x="6000840" y="1857240"/>
            <a:ext cx="3143160" cy="3981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3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Функции рын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643200" y="1784520"/>
            <a:ext cx="5214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РЕГУЛИРУЮЩАЯ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Цены помогают устанавливать пропорциональность в развитии экономики, регулировать распределение ресурсов по отраслям и сферам хозяйства таким образом, чтобы уровень и структура производства были максимально приближены к уровню и структуре потребностей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38" name="Picture 2" descr="I:\Энциклопедия\Э Экономические системы\картинки\thumb.jpg"/>
          <p:cNvPicPr/>
          <p:nvPr/>
        </p:nvPicPr>
        <p:blipFill>
          <a:blip r:embed="rId1"/>
          <a:stretch/>
        </p:blipFill>
        <p:spPr>
          <a:xfrm>
            <a:off x="115920" y="1487520"/>
            <a:ext cx="3571920" cy="4529160"/>
          </a:xfrm>
          <a:prstGeom prst="rect">
            <a:avLst/>
          </a:prstGeom>
          <a:ln w="0">
            <a:noFill/>
          </a:ln>
        </p:spPr>
      </p:pic>
      <p:sp>
        <p:nvSpPr>
          <p:cNvPr id="539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13:43:26Z</dcterms:modified>
  <cp:revision>46</cp:revision>
  <dc:subject/>
  <dc:title>Рынок и его функции</dc:title>
</cp:coreProperties>
</file>