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84EF-F853-4671-AED0-4933F5794D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национальный продукт и национальн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 часть ВНП, которая остаётся за вычетом амортизационных отчислений, называется чистым национальным продук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 часть ВНП, которая остаётся за вычетом амортизационных отчислений и косвенных налогов, называется национальным дох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национальный продукт и национальный до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, называется чистым национальным продук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 и косвенных налогов, называется национальным доход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онные отч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из ВНП вычесть амортизационные отчисления, то мы получим чистый национальный продукт. Если затем из чистого национального продукта вычесть косвенные налоги, то мы получим величину национального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онные отч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из ВНП вычесть амортизационные отчисления, то мы получим чистый национальный продукт. Если затем из чистого национального продукта вычесть косвенные налоги, то мы получим величину национального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внутренний продукт (ВВП) – это общая стоимость, или сумма рыночных цен, всех конечных товаров и услуг, произведённых в данной стране в течение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внутренний продукт (ВВП) – это общая стоимость, или сумма рыночных цен, всех конечных товаров и услуг, произведённых в данной стране в течение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чные товары - товары и услуги, приобретаемые на протяжении года конечными потребителями и не использующиеся в качестве промежуточных продуктов в производстве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нечным продуктам относятся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требительские товары (служат для удовлетворения личных потребностей людей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овары длительного пользования (автомобили, телерадиооборудование, бытовая техника, меб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Товары кратковременного использования (продовольствие и напитки, одежда и обувь, лекарства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ичные потребительские услуги (служат для удовлетворения личных потребностей людей и обеспечивают их жизнедеятель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се вновь построенные здания и сооружения и вновь изготовленные машины и обору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ежуточные товары -  товары, приобретаемые для перепродажи, первичной обработки или изготовления из них конечного изделия в течение данного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ые товары - товары и услуги, приобретаемые на протяжении года конечными потребителями и не использующиеся в качестве промежуточных продуктов в производстве проду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онечным продуктам относятся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требительские товары (служат для удовлетворения личных потребностей людей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Товары длительного пользования (автомобили, телерадиооборудование, бытовая техника, мебе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Товары кратковременного использования (продовольствие и напитки, одежда и обувь, лекарства и п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Личные потребительские услуги (служат для удовлетворения личных потребностей людей и обеспечивают их жизнедеятель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се вновь построенные здания и сооружения и вновь изготовленные машины и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ежуточные товары -  товары, приобретаемые для перепродажи, первичной обработки или изготовления из них конечного изделия в течение данного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инальный ВВП — Внутренний Валовой Продукт в ценах того года, на который он рассчит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ВВП — выражен в ценах предыдущего или любого другого базового года. В реальном ВВП учитывается, в какой степени рост ВВП определяется реальным ростом производства, а не ростом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лятор ВВП - это индекс цен, рассчитываемый для всех произведенных в экономике товаров и услуг, исчисляется как отношение номинального ВВП к реальному ВВ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ВП — Внутренний Валовой Продукт в ценах того года, на который он рассчит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ВП — выражен в ценах предыдущего или любого другого базового года. В реальном ВВП учитывается, в какой степени рост ВВП определяется реальным ростом производства, а не ростом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лятор ВВП - это индекс цен, рассчитываемый для всех произведенных в экономике товаров и услуг, исчисляется как отношение номинального ВВП к реальному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роисх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по измерению объёма национального производства начались в 30-ые годы XX века экономистом Саймоном Кузнецом в Департаменте Коммерци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ценки национального дохода сделаны Кузнецом в 1934 году. В этой работе впервые появились счета национального дохода и продукта. Кузнец пересчитал счета национального дохода США до 1869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1991 года базовым показателем в макроэкономических исследованиях был Валовой национальный продукт. ВВП стал основным индикатором для совместимости с Системой Национальных Счетов Организации Объединённых Н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происх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ы по измерению объёма национального производства начались в 30-ые годы XX века экономистом Саймоном Кузнецом в Департаменте Коммерци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ценки национального дохода сделаны Кузнецом в 1934 году. В этой работе впервые появились счета национального дохода и продукта. Кузнец пересчитал счета национального дохода США до 1869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1991 года базовым показателем в макроэкономических исследованиях был Валовой национальный продукт. ВВП стал основным индикатором для совместимости с Системой Национальных Счетов Организации Объединённых Н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национальный продукт (ВНП) – это общая стоимость, или сумма рыночных цен, всех конечных товаров и услуг, произведённых факторами производства данной страны как в пределах её границ, так и в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национальный продукт (ВНП) – это общая стоимость, или сумма рыночных цен, всех конечных товаров и услуг, произведённых факторами производства данной страны как в пределах её границ, так и в други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одсчёта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одсчёта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затрат состоит в суммировании личных, потребительских расходов населения, валовых внутренних инвестиций частных фирм, государственных закупок товаров и услуг и чистого экспорта товаров и услуг в течение г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потребительские рас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частных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экспорт (торговый балан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экспорт - разница между экспортом и импортом экспортируемых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 состоит в суммировании личных, потребительских расходов населения, валовых внутренних инвестиций частных фирм, государственных закупок товаров и услуг и чистого экспорта товаров и услуг в течение г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 потребительские 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 частных фир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закупки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 (торговый балан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 - разница между экспортом и импортом экспортируемых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ВВП равна добавленной стоимости, которая создана всеми отраслями экономики, или сумме факторных доходов и амортизации основного капитала во всех отраслях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счислении этим методом должны быть учтены следующие дох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 (включая отпускные, премии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, проценты, дивиденды и 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мелких предпринимателей, в частности фермеров, которые не используют наёмный труд и доход которых не распадается на заработную плату и 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онные отчисления – часть денежного дохода всех фирм, которая предназначена для того, чтобы возместить износ зданий, сооружений, машин и обору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мость ВВП равна добавленной стоимости, которая создана всеми отраслями экономики, или сумме факторных доходов и амортизации основного капитала во всех отраслях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исчислении этим методом должны быть учтены следующие дохо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ботная плата (включая отпускные, премии и п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, проценты, дивиденды и 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мелких предпринимателей, в частности фермеров, которые не используют наёмный труд и доход которых не распадается на заработную плату и прибы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онные отчисления – часть денежного дохода всех фирм, которая предназначена для того, чтобы возместить износ зданий, сооружений, машин и обору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97A0-778A-4C87-BC1E-A4AFCB7D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E3D-5CE1-4819-909D-6035B781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E372-CA75-4FD3-AA82-44E68206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3AB3-955C-404D-B651-90B3A0A3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B3B1-48D1-442A-AB76-FF76F1A9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76F9-0C1A-4667-B57D-E3A0B973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CE5D-C110-4367-9328-BFA425A5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5B0D-28E7-4C02-9A7F-D31682A1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96F2-DD2E-44E6-A261-4B07D14B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23A1-0E90-4EB3-91F3-185250A5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3A82-4217-487A-B638-6CAF18BA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BD03-4B97-4EFC-B62B-2B3DDA94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8F9C-3F57-4B36-9E8D-9137C4FF55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18aa9"/>
                </a:solidFill>
                <a:latin typeface="MS Mincho"/>
              </a:rPr>
              <a:t>вв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77920"/>
            <a:ext cx="640080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800px-GDP_nominal_per_capita_world_map_IMF_2008"/>
          <p:cNvPicPr/>
          <p:nvPr/>
        </p:nvPicPr>
        <p:blipFill>
          <a:blip r:embed="rId1"/>
          <a:srcRect l="3846" t="0" r="5386" b="0"/>
          <a:stretch/>
        </p:blipFill>
        <p:spPr>
          <a:xfrm>
            <a:off x="0" y="1978200"/>
            <a:ext cx="9126360" cy="44971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304920" y="2476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тый национальный продукт и национальный до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838080" y="2209680"/>
            <a:ext cx="7620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,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тым национальным продук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 и косвенных налогов,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циональ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ход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228600" y="457200"/>
            <a:ext cx="769608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аловой национальный продук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228600" y="1092240"/>
            <a:ext cx="769608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истый национальный продук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28600" y="1752480"/>
            <a:ext cx="693432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циональный дох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6"/>
          <p:cNvSpPr/>
          <p:nvPr/>
        </p:nvSpPr>
        <p:spPr>
          <a:xfrm>
            <a:off x="7162920" y="1066680"/>
            <a:ext cx="761760" cy="609840"/>
          </a:xfrm>
          <a:prstGeom prst="rect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7"/>
          <p:cNvSpPr/>
          <p:nvPr/>
        </p:nvSpPr>
        <p:spPr>
          <a:xfrm>
            <a:off x="6400800" y="1752480"/>
            <a:ext cx="762120" cy="609840"/>
          </a:xfrm>
          <a:prstGeom prst="rect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верх 22"/>
          <p:cNvSpPr/>
          <p:nvPr/>
        </p:nvSpPr>
        <p:spPr>
          <a:xfrm>
            <a:off x="7467480" y="1447920"/>
            <a:ext cx="152640" cy="1371600"/>
          </a:xfrm>
          <a:prstGeom prst="upArrow">
            <a:avLst>
              <a:gd name="adj1" fmla="val 50000"/>
              <a:gd name="adj2" fmla="val 499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верх 23"/>
          <p:cNvSpPr/>
          <p:nvPr/>
        </p:nvSpPr>
        <p:spPr>
          <a:xfrm>
            <a:off x="6705720" y="2133720"/>
            <a:ext cx="152280" cy="1752480"/>
          </a:xfrm>
          <a:prstGeom prst="upArrow">
            <a:avLst>
              <a:gd name="adj1" fmla="val 50000"/>
              <a:gd name="adj2" fmla="val 5002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4"/>
          <p:cNvSpPr/>
          <p:nvPr/>
        </p:nvSpPr>
        <p:spPr>
          <a:xfrm>
            <a:off x="6248520" y="38498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5"/>
          <p:cNvSpPr/>
          <p:nvPr/>
        </p:nvSpPr>
        <p:spPr>
          <a:xfrm>
            <a:off x="7086600" y="276876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мортизационные отч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6"/>
          <p:cNvSpPr/>
          <p:nvPr/>
        </p:nvSpPr>
        <p:spPr>
          <a:xfrm>
            <a:off x="533520" y="502920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сли из ВНП вычесть амортизационные отчисления, то мы получим чистый национальный продукт. Если затем из чистого национального продукта вычесть косвенные налоги, то мы получим величину национального до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ввп"/>
          <p:cNvPicPr/>
          <p:nvPr/>
        </p:nvPicPr>
        <p:blipFill>
          <a:blip r:embed="rId1"/>
          <a:stretch/>
        </p:blipFill>
        <p:spPr>
          <a:xfrm>
            <a:off x="76320" y="103320"/>
            <a:ext cx="4343400" cy="660240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4648320" y="379440"/>
            <a:ext cx="4114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ловой внутренний продук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ВП) – это общая стоимость, или сумма рыночных цен, всех конечных товаров и услуг, произведённых в данной стране в течение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28600" y="152280"/>
            <a:ext cx="861048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Конечные товары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товары и услуги, приобретаемые на протяжении года конечными потребителями и не использующиеся в качестве промежуточных продуктов в производстве продук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конечным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продуктам относятся 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. Потребительские товары (служат для удовлетворения личных потребностей людей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) Товары длительного пользования (автомобили, телерадиооборудование, бытовая техника, мебель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Б) Товары кратковременного использования (продовольствие и напитки, одежда и обувь, лекарства и пр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. Личные потребительские услуги (служат для удовлетворения личных потребностей людей и обеспечивают их жизнедеятельность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. Все вновь построенные здания и сооружения и вновь изготовленные машины и оборудова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омежуточные товары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 товары, приобретаемые для перепродажи, первичной обработки или изготовления из них конечного изделия в течение данного год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минальный ВВ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Внутренний Валовой Продукт в ценах того года, на который он рассчит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ьный ВВ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выражен в ценах предыдущего или любого другого базового года. В реальном ВВП учитывается, в какой степени рост ВВП определяется реальным ростом производства, а не ростом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флятор ВВ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индекс цен, рассчитываемый для всех произведенных в экономике товаров и услуг, исчисляется как отношение номинального ВВП к реальному ВВ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"/>
              </a:rPr>
              <a:t>История происхо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3163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867280" y="762120"/>
            <a:ext cx="3110040" cy="4572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0" y="762120"/>
            <a:ext cx="5867280" cy="60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Работы по измерению объёма национального производства начались в 30-ые годы XX века экономистом </a:t>
            </a:r>
            <a:r>
              <a:rPr b="1" lang="ru-RU" sz="2200" spc="-1" strike="noStrike">
                <a:solidFill>
                  <a:srgbClr val="000000"/>
                </a:solidFill>
                <a:latin typeface="Century"/>
              </a:rPr>
              <a:t>Саймоном Кузнецом </a:t>
            </a: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в Департаменте Коммерции СШ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Первые оценки национального дохода сделаны Кузнецом в 1934 году. В этой работе впервые появились счета национального дохода и продукта. Кузнец пересчитал счета национального дохода США до 1869 г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До 1991 года базовым показателем в макроэкономических исследованиях был Валовой национальный продукт. ВВП стал основным индикатором для совместимости с Системой Национальных Счетов Организации Объединённых На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838080" y="1336680"/>
            <a:ext cx="7772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ловой национальный продукт (ВНП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общая стоимость, или сумма рыночных цен, всех конечных товаров и услуг, произведённых факторами производства данной страны как в пределах её границ, так и в других стра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838080" y="7873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 подсчёта ВВ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Прямая со стрелкой 3"/>
          <p:cNvCxnSpPr/>
          <p:nvPr/>
        </p:nvCxnSpPr>
        <p:spPr>
          <a:xfrm flipH="1">
            <a:off x="1904760" y="1371600"/>
            <a:ext cx="167688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Прямая со стрелкой 5"/>
          <p:cNvCxnSpPr>
            <a:stCxn id="65" idx="2"/>
          </p:cNvCxnSpPr>
          <p:nvPr/>
        </p:nvCxnSpPr>
        <p:spPr>
          <a:xfrm>
            <a:off x="4380480" y="1371240"/>
            <a:ext cx="163908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TextBox 9"/>
          <p:cNvSpPr/>
          <p:nvPr/>
        </p:nvSpPr>
        <p:spPr>
          <a:xfrm>
            <a:off x="228600" y="3067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5029200" y="3067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762120" y="380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685800" y="1371600"/>
            <a:ext cx="7848720" cy="43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ит в суммировании личных, потребительских расходов населения, валовых внутренних инвестиций частных фирм, государственных закупок товаров и услуг и чистого экспорта товаров и услуг в течение 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ые потребительские рас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вестиции частных фи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е закупки товаров и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тый экспорт (торговый балан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истый экспор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- разница между экспортом и импортом экспортируемых това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685800" y="380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457200" y="1143000"/>
            <a:ext cx="8458200" cy="50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оимость ВВП равна добавленной стоимости, которая создана всеми отраслями экономики, или сумме факторных доходов и амортизации основного капитала во всех отраслях эконом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исчислении этим методом должны быть учтены следующие дох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работная плата (включая отпускные, премии и п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быль, проценты, дивиденды и р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ходы мелких предпринимателей, в частности фермеров, которые не используют наёмный труд и доход которых не распадается на заработную плату и прибы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мортизационные отчисления – часть денежного дохода всех фирм, которая предназначена для того, чтобы возместить износ зданий, сооружений, машин и обору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LEGION</cp:lastModifiedBy>
  <dcterms:modified xsi:type="dcterms:W3CDTF">2016-01-04T14:01:51Z</dcterms:modified>
  <cp:revision>23</cp:revision>
  <dc:subject/>
  <dc:title>Вв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