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BAA8-9C88-4DDF-9EAB-14BE9B3B2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EFCF-7178-4F23-B9F6-30016A319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2C8D-FCBD-44A4-8EB0-27C95F2F8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8583-169E-4225-B46F-054982859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E026B-AABC-493B-8621-1E8F00C2B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DB43F-9251-48E3-AEF5-574A1A08B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AAA96-43E6-4D11-AB37-38B84FC18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30BFE-EC13-42AD-818D-25C33A590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17167-B282-4E0A-8FBF-280E29F37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1732E-B5BE-48F0-9719-96F0E65D0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19769-C703-48C8-9450-7E86DA65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87B0-2A7B-4F02-B695-7489E4F2D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4B12B-7750-4C67-B0F1-8149B231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B9874-6EC1-4A60-9BCA-C2B0B6D1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B2B87-BA19-4863-8ABD-BA9D1EC4B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B7EE2-FDA9-4CF3-965C-487DC4F7E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79B62-0600-4D24-83C9-86352BAD9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E7A1B3-1223-4F0C-888F-802DB88D3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6D86DD-212E-405B-B9C1-8DB20AC25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6C6C8C-F2CA-4754-9AB8-72C4E44B2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6FC681-5B0B-48EB-8A1F-E7591BBF8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1DF5F5-966A-4699-BBF2-3F9C565A6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3046-7112-44A4-9BC6-8837D9037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161051-62CE-46DC-8D5E-F1E58F5BA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800776-8A18-4F17-89C1-99745078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79A328-2CCE-4B2A-A5DF-BCA8B0B1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45004E-412F-4824-8CB9-34612B42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63C05F-C8A9-4442-8E1B-56F6BEBC7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71DEB5-DE6A-4302-B6C0-16CBF527D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4DDAB9-0D72-4CE0-BB0A-48C60EFEA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B41A8A-3213-4580-A567-57157EEAC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69DF57-01DA-49C1-838B-39868F639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418F6A-CC4D-42AA-9D7B-BBCC3791C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666A-3CC9-4987-A8A6-5C7B2EC62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3C9374-B405-45B0-AB3B-85AFED71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9B216F-500A-4BD1-A6AB-C675E895A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DB0DD0-B10C-4467-A895-77719700C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222F19-3B5A-4C99-A4DE-02136E98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4B48CD-E3E5-4D02-BB06-49ADABC3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4C7B03-E0A8-46D9-BBE9-D6B6D7DD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625ADA-EFE3-431F-9613-D7A723FB4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18194C-4F2D-473B-A0A0-0154612C1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7CD9B7-9470-4531-A964-4A9FE2D84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63EF-2937-4C7E-B641-3CBC57902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4CCF-2F1E-46C2-9C1E-F1D0429DD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D410-A3C3-46C6-A230-99CBEA33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268E-F3B3-4345-84E0-B782E953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E5F5-4543-4DBD-A487-34889252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D74DA-B942-4634-82F0-A1CB1E38CE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4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5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7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3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398D4-C5B3-45D0-AD46-41CA08D1E18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E484D-A2D3-45F8-8674-A7C2DE0F62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ACBA6-72D2-4DD4-8F7D-4E635826790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Природа (39)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ГЛАВА №7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2492280"/>
            <a:ext cx="6400800" cy="31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АЛОВЫЙ ВНУТРЕННИЙ ПРОДУКТ (ВВП)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АЖНЕЙШИЙ ПОКАЗАТЕЛЬ СНС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И МЕТОДА РАСЧЕТА ВВП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Organization Chart 7"/>
          <p:cNvGrpSpPr/>
          <p:nvPr/>
        </p:nvGrpSpPr>
        <p:grpSpPr>
          <a:xfrm>
            <a:off x="431640" y="1865160"/>
            <a:ext cx="8208000" cy="4102560"/>
            <a:chOff x="431640" y="1865160"/>
            <a:chExt cx="8208000" cy="4102560"/>
          </a:xfrm>
        </p:grpSpPr>
        <p:cxnSp>
          <p:nvCxnSpPr>
            <p:cNvPr id="233" name="_s1028"/>
            <p:cNvCxnSpPr>
              <a:stCxn id="234" idx="0"/>
              <a:endCxn id="235" idx="2"/>
            </p:cNvCxnSpPr>
            <p:nvPr/>
          </p:nvCxnSpPr>
          <p:spPr>
            <a:xfrm flipV="1" rot="16200000">
              <a:off x="5230080" y="2810880"/>
              <a:ext cx="821160" cy="2210040"/>
            </a:xfrm>
            <a:prstGeom prst="bentConnector3">
              <a:avLst>
                <a:gd name="adj1" fmla="val 1390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6" name="_s1029"/>
            <p:cNvCxnSpPr>
              <a:stCxn id="237" idx="0"/>
              <a:endCxn id="235" idx="2"/>
            </p:cNvCxnSpPr>
            <p:nvPr/>
          </p:nvCxnSpPr>
          <p:spPr>
            <a:xfrm flipH="1" flipV="1" rot="5400000">
              <a:off x="3020400" y="2810520"/>
              <a:ext cx="821160" cy="2210760"/>
            </a:xfrm>
            <a:prstGeom prst="bentConnector3">
              <a:avLst>
                <a:gd name="adj1" fmla="val 1390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35" name="_s1030"/>
            <p:cNvSpPr/>
            <p:nvPr/>
          </p:nvSpPr>
          <p:spPr>
            <a:xfrm>
              <a:off x="2642040" y="1865160"/>
              <a:ext cx="3788280" cy="16408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ТИПЫ </a:t>
              </a:r>
              <a:endParaRPr b="0" lang="en-US" sz="33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ВЫПУСКА</a:t>
              </a:r>
              <a:endParaRPr b="0" lang="en-US" sz="33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7" name="_s1031"/>
            <p:cNvSpPr/>
            <p:nvPr/>
          </p:nvSpPr>
          <p:spPr>
            <a:xfrm>
              <a:off x="431640" y="4326840"/>
              <a:ext cx="3788280" cy="16408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РЫНОЧНЫЙ</a:t>
              </a:r>
              <a:endParaRPr b="0" lang="en-US" sz="33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4" name="_s1032"/>
            <p:cNvSpPr/>
            <p:nvPr/>
          </p:nvSpPr>
          <p:spPr>
            <a:xfrm>
              <a:off x="4851360" y="4326840"/>
              <a:ext cx="3788280" cy="16408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НЕРЫНОЧНЫЙ</a:t>
              </a:r>
              <a:endParaRPr b="0" lang="en-US" sz="33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Рыночный выпуск включает товары и услуги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реализуемые по экономически значимым ценам путем продажи или бартер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редоставляемые работникам в качестве оплаты труда в натуральной форм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роизводимые одним заведением предприятия и поставляемые другим заведениям того же предприятия для использования в производстве в том же или последующих периодах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готовую продукцию и незавершенное производство, поступающие в запасы материальных оборотных средств у производителя и предназначенные для рыночного использова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Нерыночный выпуск включает товары и услуги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роизводимые экономическими единицами для их собственного конечного потребления или накопле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редоставляемые бесплатно или по ценам, не имеющим экономического значения, другим институциональным единицам, включая услуги, оказываемые обществу в цело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готовую продукцию и незавершенное производство, предназначенные для нерыночного использования и поступающие в запасы материальных оборотных средств у производител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Основная цена-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цена, получаемая производителем за товары и услуги, исключая любые подлежащие уплате налоги на продукты и включая субсидии на продук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Цена производителя-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цена, получаемая производителем за товары и услуги, включая подлежащие уплате налоги на продукты и исключая субсидии на продук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Налоги на продукты-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это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налоги, взимаемые пропорционально количеству или стоимости товаров и услуг, производимых, продаваемых или импортируемых предприятиями- резидента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К ним относятся следующие наиболее распространенные налоги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1) налог на добавленную стоимость(НДС) и налоги типа НДС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2) акциз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3) налоги на продажи, покупки, налог с оборота и т.п.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4) налоги на отдельные виды услуг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5) налоги на прибыль фискальных монополи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6) налоги на импорт и экспорт, таможенные пошлин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Субсидии на продукты-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это субсидии, выплачиваемые обычно пропорционально количеству или стоимости товаров и услуг, производимых, продаваемых или импортируемых предприятиями- резидента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Расходы на промежуточное потребление-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это стоимость товаров и рыночных услуг, потребленных в течение данного периода с целью производства других товаров или услу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НИ ВКЛЮЧАЮТ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затраты сырья, материалов, топлива, энергии, семян, кормов, продуктов питания, медикаментов, канцелярских принадлежностей, спецодежды и т.п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оплату работ и услуг, предоставленных другими предприятиями и отдельными лица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расходы на командировки в части оплаты проезда и гостиниц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5" descr="Природа (10)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Валовой внутренний продукт(ВВП)- эт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один из важнейших показателей системы национальных счетов, который характеризует конечный результат производственной деятельности экономических единиц- резидентов и измеряет стоимость товаров и услуг, произведенных этими единицами для конечного использов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Метод конечного использования ВВП определяется как сумма следующих компонентов: расходы на конечное потребление товаров и услуг, валовое накопление, сальдо экспорта и импорта товаров и услу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Расходы на конечное потребление товаров и услуг —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расходы домашних хозяйств-резидентов на потребительские товары и услуги, а также расходы учреждений государственного управления (бюджетных организаций) и некоммерческих организаций, обслуживающих домашние хозяйства, на товары и услуги для индивидуального и коллективного потребления. Та­кая группировка показывает, кто финансирует расходы на конечное потребл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Расходы на конечное потребление домашних хозяйств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 u="sng">
                <a:solidFill>
                  <a:srgbClr val="ffffff"/>
                </a:solidFill>
                <a:uFillTx/>
                <a:latin typeface="Tahoma"/>
              </a:rPr>
              <a:t>включают: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расходы на покупку потребительских товаров и услуг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потребление товаров и услуг, полученных в натуральной форме в порядке оплаты труда, подарков и т. д.;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потребление товаров и услуг, произведенных домашними хозяйствами для собственного конечного потребления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11280" y="980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 1993г. ВВЕДЕН ПОКАЗАТЕЛЬ ФАКТИЧЕСКОГО КОНЕЧНОГО ПОТРЕБЛЕНИЯ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Валовое накопление-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чистое приобретение резидентами товаров и услуг, произведенных и оказанных в текущем периоде, но не потребленных в не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Валовое накопление включает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накопление основного капита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изменение запасов материальных оборотных средст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чистое приобретение ценностей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Валовое накопление основного капитала представляет собой вложение в объекты основного капитала для создания нового дохода в будущем  путем использования их в производстве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Отличие ВВП от национального дохода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ВВП-это показатель произведенного продукта, который представляет собой стоимость произведенных конечных товаров и услу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ВВП- это внутренний продукт, потому что он произведен резидентами. К резидентам относятся все экономические единицы независимо от их национальной принадлежности и гражданства, имеющий центр экономического интереса на экономической территории данной страны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ВВП- это валовой продукт, потому что он исчисляется до вычета потребления основного капитала. Потребление основного капитала представляет собой уменьшение стоимости основного капитала в течение отчетного периода в результате его физического и морального износа и случайных повреждений, не носящих катастрофического характер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СНОВНОЙ КАПИТАЛ-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это активы, являющиеся результатом производства, которые многократно используются в процессе производства: здания и сооружения, машины и оборудование; скот племенной, рабочий; сады, виноградники и другие насаждения; затраты на геологоразведочные работы; затраты на программное обеспечение; оригиналы литературных и художественных произведен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Валовое накопление основного капитала определяется как приобре­тение активов за вычетом выбытия новых и существующих основных фон­дов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Arial"/>
              </a:rPr>
              <a:t>Оценка составных элементов валового накопления основного капитала производится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ри покупке основного капитала по ценам приобретения (ценам покупателя), т. е. включая все затраты на передачу права собственности (стоимость услуг, оказанных адвокатами, агентами по операциям с недвижимостью и другими посредниками, пошлины, комиссионные, налоги и т. п.)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ри производстве основного капитала для собственного использования по основным ценам или по затратам на производство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Изменение запасов материальных оборотных средств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- это изменение стоимости произведенных запасов, незавершенного производства, готовой продукции и товаров для перепродаж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Оплата труда наемных работников представляет собой вознаграждение в денежной или натуральной форме, которое должно быть выплачено работодателем наемному работнику за работу, выполненную в отчетн­ом периоде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81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Она учитывается на основе начисленных сумм и складывается из двух основных компонентов: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2923920"/>
            <a:ext cx="40384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заработная плат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48320" y="2923920"/>
            <a:ext cx="40384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отчисления работодателей на социальное страховани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Экономическая территория- это территория, административно управляемая правительством данной страны, в пределах которой лица, товары и деньги могут свободно перемещатьс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ВВП может быть исчислен следующими тремя методами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как сумма валовой добавленной стоимости (производственный метод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как сумма компонентов конечного использования (метод конечного использования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как сумма первичных доходов (распределительный метод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При расчете производственным методом ВВП исчисляется путем суммирования валовой добавленной стоимости всех производственных единиц- резидентов, сгруппированных по отраслям или секторам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Валовая добавленная стоимость</a:t>
            </a: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- эт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разница между стоимостью произведенных товаров и оказанных услуг(выпуском) и стоимостью товаров и услуг, полностью потребленных в процессе производства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Выпуск-</a:t>
            </a: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 это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стоимость товаров и услуг, произведенных и оказанных экономическими единицами- резидентами за рассматриваемый перио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Выпуск включает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все товары независимо от их использов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услуги, предоставленные другим институциональным единицам, в частности, нерыночные услуги органов государственного управления и некоммерческих организац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услуги домашних хозяйств по проживанию в собственном жилище и домашние услуги, оказываемые оплачиваемой домашней прислуг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09:13:19Z</dcterms:created>
  <dc:creator>Лена</dc:creator>
  <dc:description/>
  <dc:language>en-US</dc:language>
  <cp:lastModifiedBy>LEGION</cp:lastModifiedBy>
  <dcterms:modified xsi:type="dcterms:W3CDTF">2016-01-04T14:02:00Z</dcterms:modified>
  <cp:revision>11</cp:revision>
  <dc:subject/>
  <dc:title>ГЛАВА №7</dc:title>
</cp:coreProperties>
</file>