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32B-3F0D-45FE-A764-B3F5BB59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BB6-6CC2-4A00-A33B-4B53A9E0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B44-1C24-486E-8A31-B8D16B36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49C-0D22-4D5E-95E9-0C7F9FD0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5609-BC31-4920-BA74-12C5B0BA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B30E-A0AA-439F-A4C9-6D90E69A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D036-282F-4AAD-BFF8-83E6ACAB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5C38-A4F5-4BCB-B284-B9971BBB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A8A6-74E1-4F4C-B63E-9AFF2279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7DE7-89CA-4EEE-A21D-36F7FC25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6D43-4931-467B-834A-A3BE791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92E-EFDC-4CCF-82AA-E8C89664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4719-1EF4-4292-9339-4CE36AFB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DEFB-CD8F-4043-AA0D-569BC21B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698C-081C-4913-96BC-85DEFCCF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D26B-B751-461B-AAB7-84C94662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7AA5-A35B-43E6-B4CD-95504F1C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2CFC2-40BC-4535-AA25-A6D69153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F5E37-F871-4DCF-8C87-2BEC7F8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E5C7D-AD94-442B-BAB9-AF84D32E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14ACB-C32F-4E57-B46E-D30956FD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5BF16-29A0-4E54-A999-C799127A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D5C-C76E-462F-9252-3FD64C14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2BF31-6A7C-4EE5-8561-17486F78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E0FCF-4756-4E01-B75C-39FCAED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40B88-B8E6-4E81-BF81-E7C4AD8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766E8-F728-4AAC-A81E-DE67D75D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D9196-8DE5-4F53-BF60-FF4E211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55B0E-41AC-4080-AF03-1C1986B7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11088-56A3-4482-8EE9-A7402C1B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F27A6-94FD-405D-BAC9-0F38EADC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E9EAE-A554-4DC8-B74D-71F5CCEA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9AE3B-BBA0-4508-9D6E-D22FFEDC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75D-9937-4DA3-8374-2E7C9CF7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10CC1-7C00-4C14-A06F-B456833E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9F557-27CE-4780-9CC9-E750DF30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812C5-411E-4907-8FCB-CEA46F54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91F71-E57D-4FB0-979B-496CFEF5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C03D9-D1FD-402D-A7C3-CAA42C5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F9539-83B0-4A7B-B4D9-C6F7BEE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29342-CC04-4818-ADE3-67BF1A03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413C5-9A9B-4801-831F-B86EDF29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22EB1-4A40-4E30-98B5-F2E7B928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A98-EF3F-441A-9799-0B5F5840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46D-A6F1-4586-B1D3-E9ACE01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36B-EB40-4A88-A686-4F3149B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4E8-2409-454A-93E6-47883F8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5D4-E318-42D2-85F3-02F223C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0315-08A1-4364-94C5-CE8E55A4D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9108-758E-42CE-BCA7-0C6F00122B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FF08-62EB-4072-84B9-F90687C80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B258-D925-43AB-93A6-7059DCBB00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Природа (39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№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ОВЫЙ ВНУТРЕННИЙ ПРОДУКТ (ВВП)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Й ПОКАЗАТЕЛЬ СН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ЕТОДА РАСЧЕТА ВВ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7"/>
          <p:cNvGrpSpPr/>
          <p:nvPr/>
        </p:nvGrpSpPr>
        <p:grpSpPr>
          <a:xfrm>
            <a:off x="431640" y="1865160"/>
            <a:ext cx="8208000" cy="4102560"/>
            <a:chOff x="431640" y="1865160"/>
            <a:chExt cx="8208000" cy="4102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30080" y="2810880"/>
              <a:ext cx="821160" cy="2210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0400" y="2810520"/>
              <a:ext cx="821160" cy="221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1030"/>
            <p:cNvSpPr/>
            <p:nvPr/>
          </p:nvSpPr>
          <p:spPr>
            <a:xfrm>
              <a:off x="2642040" y="186516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ТИП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ЫПУСКА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031"/>
            <p:cNvSpPr/>
            <p:nvPr/>
          </p:nvSpPr>
          <p:spPr>
            <a:xfrm>
              <a:off x="43164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85136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НЕ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ализуемые по экономически значимым ценам путем продажи или барт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едоставляемые работникам в качестве оплаты труда в натуральн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изводимые одним заведением предприятия и поставляемые другим заведениям того же предприятия для использования в производстве в том же или последующих период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оступающие в запасы материальных оборотных средств у производителя и предназначенные для рыночного исполь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е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изводимые экономическими единицами для их собственного конечного потребления или накоп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оставляемые бесплатно или по ценам, не имеющим экономического значения, другим институциональным единицам, включая услуги, оказываемые обществу в це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редназначенные для нерыночного использования и поступающие в запасы материальных оборотных средств у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сновная цен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исключая любые подлежащие уплате налоги на продукты и в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Цена производителя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включая подлежащие уплате налоги на продукты и ис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логи на продукты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логи, взимаемые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 ним относятся следующие наиболее распространенные нало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) налог на добавленную стоимость(НДС) и налоги типа НД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) акци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) налоги на продажи, покупки, налог с оборота и т.п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) налоги на отдельные виды услу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) налоги на прибыль фискальных монопол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) налоги на импорт и экспорт, таможенные пош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бсидии на продукты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убсидии, выплачиваемые обычно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ходы на промежуточное потребление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тоимость товаров и рыночных услуг, потребленных в течение данного периода с целью производства других товаров ил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НИ ВКЛЮЧАЮ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раты сырья, материалов, топлива, энергии, семян, кормов, продуктов питания, медикаментов, канцелярских принадлежностей, спецодежд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плату работ и услуг, предоставленных другими предприятиями и отдель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на командировки в части оплаты проезда и гостини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Природа (10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й внутренний продукт(ВВП)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дин из важнейших показателей системы национальных счетов, который характеризует конечный результат производственной деятельности экономических единиц- резидентов и измеряет стоимость товаров и услуг, произведенных этими единицами для конечного ис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етод конечного использования ВВП определяется как сумма следующих компонентов: расходы на конечное потребление товаров и услуг, валовое накопление, сальдо экспорта и импорта товаров 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асходы на конечное потребление товаров и услуг 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домашних хозяйств-резидентов на потребительские товары и услуги, а также расходы учреждений государственного управления (бюджетных организаций) и некоммерческих организаций, обслуживающих домашние хозяйства, на товары и услуги для индивидуального и коллективного потребления. Та­кая группировка показывает, кто финансирует расходы на конечное потре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асходы на конечное потребление домашних хозяйст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Tahoma"/>
              </a:rPr>
              <a:t>включают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сходы на покупку потребительских товаров и услуг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олученных в натуральной форме в порядке оплаты труда, подарков и т. д.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роизведенных домашними хозяйствами для собственного конечного потребл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1993г. ВВЕДЕН ПОКАЗАТЕЛЬ ФАКТИЧЕСКОГО КОНЕЧНОГО ПОТРЕБ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аловое накопление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резидентами товаров и услуг, произведенных и оказанных в текущем периоде, но не потребленных в 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е накопление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копление основного капит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ценнос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представляет собой вложение в объекты основного капитала для создания нового дохода в будущем  путем использования их в производств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личие ВВП от национального дохо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это показатель произведенного продукта, который представляет собой стоимость произведенных конечны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нутренний продукт, потому что он произведен резидентами. К резидентам относятся все экономические единицы независимо от их национальной принадлежности и гражданства, имеющий центр экономического интереса на экономической территории данной стра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аловой продукт, потому что он исчисляется до вычета потребления основного капитала. Потребление основного капитала представляет собой уменьшение стоимости основного капитала в течение отчетного периода в результате его физического и морального износа и случайных повреждений, не носящих катастрофического харак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ОЙ КАПИТАЛ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активы, являющиеся результатом производства, которые многократно используются в процессе производства: здания и сооружения, машины и оборудование; скот племенной, рабочий; сады, виноградники и другие насаждения; затраты на геологоразведочные работы; затраты на программное обеспечение; оригиналы литературных и художественных произве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определяется как приобре­тение активов за вычетом выбытия новых и существующих основных фон­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ценка составных элементов валового накопления основного капитала производ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окупке основного капитала по ценам приобретения (ценам покупателя), т. е. включая все затраты на передачу права собственности (стоимость услуг, оказанных адвокатами, агентами по операциям с недвижимостью и другими посредниками, пошлины, комиссионные, налоги и т. п.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роизводстве основного капитала для собственного использования по основным ценам или по затратам на производств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это изменение стоимости произведенных запасов, незавершенного производства, готовой продукции и товаров для перепрода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плата труда наемных работников представляет собой вознаграждение в денежной или натуральной форме, которое должно быть выплачено работодателем наемному работнику за работу, выполненную в отчетн­ом период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на учитывается на основе начисленных сумм и складывается из двух основных компонентов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числения работодателей на социальное страхо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кономическая территория- это территория, административно управляемая правительством данной страны, в пределах которой лица, товары и деньги могут свободно перемещ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ВП может быть исчислен следующими тремя метода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валовой добавленной стоимости (производственный метод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компонентов конечного использования (метод конечного использов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первичных доходов (распределительный мето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 расчете производственным методом ВВП исчисляется путем суммирования валовой добавленной стоимости всех производственных единиц- резидентов, сгруппированных по отраслям или сек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ловая добавленная стоимость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ница между стоимостью произведенных товаров и оказанных услуг(выпуском) и стоимостью товаров и услуг, полностью потребленных в процессе производств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пуск-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оимость товаров и услуг, произведенных и оказанных экономическими единицами- резидентами за рассматриваемый пери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ыпуск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е товары независимо от их исполь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, предоставленные другим институциональным единицам, в частности, нерыночные услуги органов государственного управления и некоммерчески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 домашних хозяйств по проживанию в собственном жилище и домашние услуги, оказываемые оплачиваемой домашней прислуг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9:13:19Z</dcterms:created>
  <dc:creator>Лена</dc:creator>
  <dc:description/>
  <dc:language>en-US</dc:language>
  <cp:lastModifiedBy>LEGION</cp:lastModifiedBy>
  <dcterms:modified xsi:type="dcterms:W3CDTF">2016-01-04T14:02:00Z</dcterms:modified>
  <cp:revision>11</cp:revision>
  <dc:subject/>
  <dc:title>ГЛАВА №7</dc:title>
</cp:coreProperties>
</file>