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6DF636-CC63-4228-9924-87A4E8020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7BE-0FCC-4E3A-A2CC-69218710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941-BFC3-44F3-9F72-7A23012C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603-8BE1-475C-A06F-AB36B61D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01E-1321-4E24-A757-84E03297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D83-ECCB-4D6C-A258-EB449A4E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291-B2DB-4D77-8DB7-CF371B86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BF7-CBD3-4586-BBE2-D93A5606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9CC-D15A-40B1-B70C-7369ACBB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D04-7A86-4386-A8AA-A3756788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9B9-9F2B-4231-BB34-B9B0F241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5EB-70F7-4F32-AA5B-2504C07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72F-FBB6-4E63-B3D7-D0AC390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EBA1-AE3F-483B-883E-E0F9F80E4F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7" descr="пре3"/>
          <p:cNvPicPr/>
          <p:nvPr/>
        </p:nvPicPr>
        <p:blipFill>
          <a:blip r:embed="rId7"/>
          <a:stretch/>
        </p:blipFill>
        <p:spPr>
          <a:xfrm>
            <a:off x="1440" y="6067440"/>
            <a:ext cx="910764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vizgalov@urbaneconomics.ru" TargetMode="External"/><Relationship Id="rId2" Type="http://schemas.openxmlformats.org/officeDocument/2006/relationships/hyperlink" Target="http://www.urbaneconomics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hanghai 2"/>
          <p:cNvPicPr/>
          <p:nvPr/>
        </p:nvPicPr>
        <p:blipFill>
          <a:blip r:embed="rId1"/>
          <a:stretch/>
        </p:blipFill>
        <p:spPr>
          <a:xfrm>
            <a:off x="7236000" y="1193760"/>
            <a:ext cx="1423800" cy="526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j0205462"/>
          <p:cNvPicPr/>
          <p:nvPr/>
        </p:nvPicPr>
        <p:blipFill>
          <a:blip r:embed="rId2"/>
          <a:stretch/>
        </p:blipFill>
        <p:spPr>
          <a:xfrm>
            <a:off x="2340000" y="5261040"/>
            <a:ext cx="569448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348000" y="4854600"/>
            <a:ext cx="4248360" cy="16002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093080" y="2008080"/>
            <a:ext cx="1800000" cy="420228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28760" y="739800"/>
            <a:ext cx="5543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кетинг территории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ссии: возмож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 технологи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спективы го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57120" y="3967200"/>
            <a:ext cx="280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05D4-D995-419A-ACE8-C604BFBDBD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Целевые группы маркетинга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 rot="3927600">
            <a:off x="-36720" y="944640"/>
            <a:ext cx="865440" cy="792000"/>
          </a:xfrm>
          <a:custGeom>
            <a:avLst/>
            <a:gdLst>
              <a:gd name="textAreaLeft" fmla="*/ 135000 w 865440"/>
              <a:gd name="textAreaRight" fmla="*/ 757440 w 865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8274800">
            <a:off x="-36000" y="4689360"/>
            <a:ext cx="865080" cy="79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 rot="5400000">
            <a:off x="754920" y="1124280"/>
            <a:ext cx="1008000" cy="172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 rot="5400000">
            <a:off x="718920" y="3465360"/>
            <a:ext cx="1079640" cy="172728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"/>
          <p:cNvSpPr/>
          <p:nvPr/>
        </p:nvSpPr>
        <p:spPr>
          <a:xfrm>
            <a:off x="785880" y="264312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785880" y="5000760"/>
            <a:ext cx="93672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755640" y="83664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Этап 1. Пози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2205000"/>
            <a:ext cx="7561440" cy="367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3933720"/>
          <a:ext cx="4506840" cy="266400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Планирование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задач маркетинга в соответствии со стратегией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целевой аудитории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3280" y="3429000"/>
          <a:ext cx="4500720" cy="1512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 имиджа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ор инструментов популяризации (рекламы)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0" y="1628640"/>
          <a:ext cx="4572000" cy="1729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овы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ологически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рейтинг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заинтересованных стор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1628640"/>
          <a:ext cx="4506840" cy="218916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тратегическое план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T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приорит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стратегических задач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5013360"/>
          <a:ext cx="4500720" cy="1773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Формирование уникального предложения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кальные объекты, инвест. площадки, проекты, идеи. Брен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332000" y="2421000"/>
            <a:ext cx="5472000" cy="28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547640" y="907920"/>
            <a:ext cx="936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844640"/>
          <a:ext cx="4578480" cy="2232000"/>
        </p:xfrm>
        <a:graphic>
          <a:graphicData uri="http://schemas.openxmlformats.org/drawingml/2006/table">
            <a:tbl>
              <a:tblPr/>
              <a:tblGrid>
                <a:gridCol w="457848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целевыми группами: маркетинговая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информационно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етодов коммун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информационных кана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4221000"/>
          <a:ext cx="4500720" cy="21891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горожа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нтер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КО-ресур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ование лид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енты вли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4286160"/>
          <a:ext cx="4427640" cy="240840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41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администраци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ановка задач подразделениям админист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 от отраслевого принципа к проектн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иторинг и оценка реализации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 города. </a:t>
            </a:r>
            <a:br>
              <a:rPr sz="3400"/>
            </a:b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Этап 2. Продвиж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716360" y="1857240"/>
          <a:ext cx="4427640" cy="222732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бизнес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ндрайз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мы частно-общественного партн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цированное продв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8429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лидеры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редпринимател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лекатель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11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музе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7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щенные города –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1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3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317080" y="1125360"/>
            <a:ext cx="82692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028000" y="1628640"/>
            <a:ext cx="79200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532720" y="2276640"/>
            <a:ext cx="61128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885080" y="3068640"/>
            <a:ext cx="93492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388360" y="3645000"/>
            <a:ext cx="755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244000" y="4508640"/>
            <a:ext cx="649080" cy="865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8675640" y="5157720"/>
            <a:ext cx="46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072200" y="285840"/>
            <a:ext cx="1500480" cy="106884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Штриховая стрелка вправо 12"/>
          <p:cNvSpPr/>
          <p:nvPr/>
        </p:nvSpPr>
        <p:spPr>
          <a:xfrm>
            <a:off x="5786280" y="0"/>
            <a:ext cx="857520" cy="1357200"/>
          </a:xfrm>
          <a:custGeom>
            <a:avLst/>
            <a:gdLst/>
            <a:ahLst/>
            <a:rect l="l" t="t" r="r" b="b"/>
            <a:pathLst>
              <a:path w="857250" h="1357313">
                <a:moveTo>
                  <a:pt x="0" y="339328"/>
                </a:moveTo>
                <a:lnTo>
                  <a:pt x="26789" y="339328"/>
                </a:lnTo>
                <a:lnTo>
                  <a:pt x="26789" y="1017985"/>
                </a:lnTo>
                <a:lnTo>
                  <a:pt x="0" y="1017985"/>
                </a:lnTo>
                <a:lnTo>
                  <a:pt x="0" y="339328"/>
                </a:lnTo>
                <a:close/>
                <a:moveTo>
                  <a:pt x="53578" y="339328"/>
                </a:moveTo>
                <a:lnTo>
                  <a:pt x="107156" y="339328"/>
                </a:lnTo>
                <a:lnTo>
                  <a:pt x="107156" y="1017985"/>
                </a:lnTo>
                <a:lnTo>
                  <a:pt x="53578" y="1017985"/>
                </a:lnTo>
                <a:lnTo>
                  <a:pt x="53578" y="339328"/>
                </a:lnTo>
                <a:close/>
                <a:moveTo>
                  <a:pt x="133945" y="339328"/>
                </a:moveTo>
                <a:lnTo>
                  <a:pt x="428625" y="339328"/>
                </a:lnTo>
                <a:lnTo>
                  <a:pt x="428625" y="0"/>
                </a:lnTo>
                <a:lnTo>
                  <a:pt x="857250" y="678657"/>
                </a:lnTo>
                <a:lnTo>
                  <a:pt x="428625" y="1357313"/>
                </a:lnTo>
                <a:lnTo>
                  <a:pt x="428625" y="1017985"/>
                </a:lnTo>
                <a:lnTo>
                  <a:pt x="133945" y="1017985"/>
                </a:lnTo>
                <a:lnTo>
                  <a:pt x="133945" y="3393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6F0D-37A0-40D5-9592-4FDA28A99C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6E8-6767-4934-B5F2-FB53491C64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439A-3E26-4243-8FB5-1DCB199F6A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9AD5-B342-4777-B88C-647C790958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DDD0-E6B0-4CCF-AD6B-B503E909EA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Маркетинг города - что это такое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255160" cy="463716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кетинг го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циально-экономическая политика города, направленная на </a:t>
            </a:r>
            <a:r>
              <a:rPr b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ПРОДВИЖЕНИЕ ИНТЕРЕСОВ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ендинг горо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дин из инструментов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B2D7-A124-421F-9200-B5ACD94EC4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AA91-85C9-4AC9-B790-DDE03921C1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23CD-4716-4D25-846F-CD4C530BC3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1 018"/>
          <p:cNvPicPr/>
          <p:nvPr/>
        </p:nvPicPr>
        <p:blipFill>
          <a:blip r:embed="rId1"/>
          <a:stretch/>
        </p:blipFill>
        <p:spPr>
          <a:xfrm>
            <a:off x="5438880" y="1916280"/>
            <a:ext cx="3705120" cy="49417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6BEB-D1DB-4AC0-B0AB-55464E5E99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Dish City"/>
          <p:cNvPicPr/>
          <p:nvPr/>
        </p:nvPicPr>
        <p:blipFill>
          <a:blip r:embed="rId1"/>
          <a:stretch/>
        </p:blipFill>
        <p:spPr>
          <a:xfrm>
            <a:off x="7451640" y="1197000"/>
            <a:ext cx="122400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6156360" y="5661000"/>
            <a:ext cx="2987640" cy="45972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Dish City_2"/>
          <p:cNvPicPr/>
          <p:nvPr/>
        </p:nvPicPr>
        <p:blipFill>
          <a:blip r:embed="rId2"/>
          <a:stretch/>
        </p:blipFill>
        <p:spPr>
          <a:xfrm>
            <a:off x="6732720" y="2492280"/>
            <a:ext cx="2124000" cy="2000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7199280" y="4292640"/>
            <a:ext cx="194472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2133360"/>
            <a:ext cx="8858160" cy="3382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4950000"/>
          </a:xfrm>
          <a:prstGeom prst="rect">
            <a:avLst/>
          </a:prstGeom>
          <a:noFill/>
          <a:ln w="31680">
            <a:solidFill>
              <a:srgbClr val="ccff66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поиск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эксклюзив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3492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упак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 смена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содерж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. Опасность дискредитации темы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00000" y="3213000"/>
            <a:ext cx="777564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59720" cy="4546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г.н., Руководит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ов Фонда «Институт экономики города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vizgalov@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/F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495) 787 45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ть в удобных городах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Р. Флорида, «Креативный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496360" cy="4105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ядра 12 февраля.jpg"/>
          <p:cNvPicPr/>
          <p:nvPr/>
        </p:nvPicPr>
        <p:blipFill>
          <a:blip r:embed="rId1"/>
          <a:stretch/>
        </p:blipFill>
        <p:spPr>
          <a:xfrm>
            <a:off x="1116000" y="2170080"/>
            <a:ext cx="6912000" cy="4687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P1010064"/>
          <p:cNvPicPr/>
          <p:nvPr/>
        </p:nvPicPr>
        <p:blipFill>
          <a:blip r:embed="rId1"/>
          <a:stretch/>
        </p:blipFill>
        <p:spPr>
          <a:xfrm>
            <a:off x="0" y="2637000"/>
            <a:ext cx="4249800" cy="318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8728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P1010065"/>
          <p:cNvPicPr/>
          <p:nvPr/>
        </p:nvPicPr>
        <p:blipFill>
          <a:blip r:embed="rId2"/>
          <a:stretch/>
        </p:blipFill>
        <p:spPr>
          <a:xfrm>
            <a:off x="4788000" y="2637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8000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smkshef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6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crowd1"/>
          <p:cNvPicPr/>
          <p:nvPr/>
        </p:nvPicPr>
        <p:blipFill>
          <a:blip r:embed="rId2"/>
          <a:stretch/>
        </p:blipFill>
        <p:spPr>
          <a:xfrm>
            <a:off x="4067280" y="2421000"/>
            <a:ext cx="3744720" cy="23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4" descr="gyukmeetparade"/>
          <p:cNvPicPr/>
          <p:nvPr/>
        </p:nvPicPr>
        <p:blipFill>
          <a:blip r:embed="rId3"/>
          <a:stretch/>
        </p:blipFill>
        <p:spPr>
          <a:xfrm>
            <a:off x="5904000" y="4429080"/>
            <a:ext cx="32400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AutoShape 9"/>
          <p:cNvSpPr/>
          <p:nvPr/>
        </p:nvSpPr>
        <p:spPr>
          <a:xfrm>
            <a:off x="1979640" y="2997360"/>
            <a:ext cx="1512720" cy="71892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63_02_2_ferropolis"/>
          <p:cNvPicPr/>
          <p:nvPr/>
        </p:nvPicPr>
        <p:blipFill>
          <a:blip r:embed="rId1"/>
          <a:stretch/>
        </p:blipFill>
        <p:spPr>
          <a:xfrm>
            <a:off x="0" y="3587760"/>
            <a:ext cx="4356000" cy="32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ferropolis1"/>
          <p:cNvPicPr/>
          <p:nvPr/>
        </p:nvPicPr>
        <p:blipFill>
          <a:blip r:embed="rId2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145280" y="333072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НЧ-сов-1"/>
          <p:cNvPicPr/>
          <p:nvPr/>
        </p:nvPicPr>
        <p:blipFill>
          <a:blip r:embed="rId1"/>
          <a:stretch/>
        </p:blipFill>
        <p:spPr>
          <a:xfrm>
            <a:off x="976320" y="1344600"/>
            <a:ext cx="151452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НЧ-сов-2"/>
          <p:cNvPicPr/>
          <p:nvPr/>
        </p:nvPicPr>
        <p:blipFill>
          <a:blip r:embed="rId2"/>
          <a:stretch/>
        </p:blipFill>
        <p:spPr>
          <a:xfrm>
            <a:off x="2627280" y="1328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330880" y="171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НЧ-соврем"/>
          <p:cNvPicPr/>
          <p:nvPr/>
        </p:nvPicPr>
        <p:blipFill>
          <a:blip r:embed="rId3"/>
          <a:stretch/>
        </p:blipFill>
        <p:spPr>
          <a:xfrm>
            <a:off x="6988320" y="128412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38360" y="3355920"/>
            <a:ext cx="2152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860640"/>
            <a:ext cx="353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5"/>
          <a:stretch/>
        </p:blipFill>
        <p:spPr>
          <a:xfrm>
            <a:off x="284328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6"/>
          <a:stretch/>
        </p:blipFill>
        <p:spPr>
          <a:xfrm>
            <a:off x="6994440" y="4487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29653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2589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183440" y="649620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5265720" y="5054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5280" y="765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6:58:50Z</dcterms:created>
  <dc:creator>1</dc:creator>
  <dc:description/>
  <dc:language>en-US</dc:language>
  <cp:lastModifiedBy>LEGION</cp:lastModifiedBy>
  <dcterms:modified xsi:type="dcterms:W3CDTF">2016-01-04T14:02:08Z</dcterms:modified>
  <cp:revision>29</cp:revision>
  <dc:subject/>
  <dc:title>Маркетинг гор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c000000000001024140</vt:lpwstr>
  </property>
</Properties>
</file>