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8.gif" ContentType="image/gif"/>
  <Override PartName="/ppt/media/image22.gif" ContentType="image/gif"/>
  <Override PartName="/ppt/media/image21.gif" ContentType="image/gif"/>
  <Override PartName="/ppt/media/image14.png" ContentType="image/png"/>
  <Override PartName="/ppt/media/image19.gif" ContentType="image/gif"/>
  <Override PartName="/ppt/media/image20.gif" ContentType="image/gif"/>
  <Override PartName="/ppt/media/image13.png" ContentType="image/png"/>
  <Override PartName="/ppt/media/image18.gif" ContentType="image/gif"/>
  <Override PartName="/ppt/media/image17.gif" ContentType="image/gif"/>
  <Override PartName="/ppt/media/image16.gif" ContentType="image/gif"/>
  <Override PartName="/ppt/media/image29.gif" ContentType="image/gif"/>
  <Override PartName="/ppt/media/image31.gif" ContentType="image/gif"/>
  <Override PartName="/ppt/media/image9.png" ContentType="image/png"/>
  <Override PartName="/ppt/media/image30.gif" ContentType="image/gif"/>
  <Override PartName="/ppt/media/image12.png" ContentType="image/png"/>
  <Override PartName="/ppt/media/image32.gif" ContentType="image/gif"/>
  <Override PartName="/ppt/media/image33.gif" ContentType="image/gif"/>
  <Override PartName="/ppt/media/image34.gif" ContentType="image/gif"/>
  <Override PartName="/ppt/media/image35.gif" ContentType="image/gif"/>
  <Override PartName="/ppt/media/image36.gif" ContentType="image/gif"/>
  <Override PartName="/ppt/media/image37.gif" ContentType="image/gif"/>
  <Override PartName="/ppt/media/image2.jpeg" ContentType="image/jpeg"/>
  <Override PartName="/ppt/media/image38.gif" ContentType="image/gif"/>
  <Override PartName="/ppt/media/image39.gif" ContentType="image/gif"/>
  <Override PartName="/ppt/media/image7.png" ContentType="image/png"/>
  <Override PartName="/ppt/media/image27.gif" ContentType="image/gif"/>
  <Override PartName="/ppt/media/image11.png" ContentType="image/png"/>
  <Override PartName="/ppt/media/image6.png" ContentType="image/png"/>
  <Override PartName="/ppt/media/image26.gif" ContentType="image/gif"/>
  <Override PartName="/ppt/media/image8.jpeg" ContentType="image/jpeg"/>
  <Override PartName="/ppt/media/image5.png" ContentType="image/png"/>
  <Override PartName="/ppt/media/image25.gif" ContentType="image/gif"/>
  <Override PartName="/ppt/media/image4.png" ContentType="image/png"/>
  <Override PartName="/ppt/media/image24.gif" ContentType="image/gif"/>
  <Override PartName="/ppt/media/image3.png" ContentType="image/png"/>
  <Override PartName="/ppt/media/image23.gif" ContentType="image/gif"/>
  <Override PartName="/ppt/media/image1.jpeg" ContentType="image/jpeg"/>
  <Override PartName="/ppt/media/image10.png" ContentType="image/png"/>
  <Override PartName="/ppt/media/image15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CA143-C317-4C04-9590-17C26F7A1B7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атериале «Услуга» уже были описаны по отдельности основные виды услуг, входящие в более общую категорию «инфраструктур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ерь нужно чуть более детально взглянуть на каждую из отраслей Инфраструктуры, показав их единство, целостность организационную, технологическую и экономическую. Все они не просто неразрывны, но и не отделимы от существующего материального производства и сферы нематериального производства. Более того общественное производство объективно прорастает в единое производство-потребл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материале «Услуга» уже были описаны по отдельности основные виды услуг, входящие в более общую категорию «инфраструктур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перь нужно чуть более детально взглянуть на каждую из отраслей Инфраструктуры, показав их единство, целостность организационную, технологическую и экономическую. Все они не просто неразрывны, но и не отделимы от существующего материального производства и сферы нематериального производства. Более того общественное производство объективно прорастает в единое производство-потребл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НЕРГЕТИКА. Функция – энергоснабжение процессов общественного производства, как в материальном секторе, так и нематериальной сфере и в самой инфраструктуре.  Работа отрасли видится принадлежащей к материальному производству, но все же потребляется ее деятельность, а не продукт. А результат деятельности отрасли (пока) невозможно отделить от процесса и обменивать свободно на друг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предмет труда – электрический ток, получаемый различными способами и передаваемый потребителя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процесс труда – генерация и распределение  энергопотоков по сет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результат труда – непрерывный процесс энергоснабжения, обеспечивающий работу оборудования, а также освещение, отопление и прочее, где необходим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цена услуги – включает затраты труда работников отрасли, материальные затраты (сырье, материалы, энергия), износ основного оборудования; стоимость в отрасли не образуется: «продуктом труда» является деятельность, потребляемая в момент производства; эта «деятельность» не может быть отчуждена от ее производителя, и обменена на другой продукт (услугу) в любой другой момент времени;  Как и в других отраслях инфраструктуры, отрасль представляет затраты для экономики  в целом, кроме случаев экспорта через границ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отношение количества техники к количеству занятых в отрасли (c/v) – дает знание о техническом уровне отрасли, о сравнимой с другими производительности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ь стоит в одном ряду с другими аналогичными, связанными со снабжением процессов производства и жизнедеятельности: водоснабжение (и канализация), газоснабжение, теплоснабжение. Все вместе они составляют жилищно-коммунальное хозяйство (куда входят еще уборка мусора, территорий и обслуживание жилых помещений), особо развитое в городских поселениях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НЕРГЕТИКА. Функция – энергоснабжение процессов общественного производства, как в материальном секторе, так и нематериальной сфере и в самой инфраструктуре.  Работа отрасли видится принадлежащей к материальному производству, но все же потребляется ее деятельность, а не продукт. А результат деятельности отрасли (пока) невозможно отделить от процесса и обменивать свободно на друг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предмет труда – электрический ток, получаемый различными способами и передаваемый потребителя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процесс труда – генерация и распределение  энергопотоков по сет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результат труда – непрерывный процесс энергоснабжения, обеспечивающий работу оборудования, а также освещение, отопление и прочее, где необходимо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цена услуги – включает затраты труда работников отрасли, материальные затраты (сырье, материалы, энергия), износ основного оборудования; стоимость в отрасли не образуется: «продуктом труда» является деятельность, потребляемая в момент производства; эта «деятельность» не может быть отчуждена от ее производителя, и обменена на другой продукт (услугу) в любой другой момент времени;  Как и в других отраслях инфраструктуры, отрасль представляет затраты для экономики  в целом, кроме случаев экспорта через границ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 отношение количества техники к количеству занятых в отрасли (c/v) – дает знание о техническом уровне отрасли, о сравнимой с другими производительности труд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сль стоит в одном ряду с другими аналогичными, связанными со снабжением процессов производства и жизнедеятельности: водоснабжение (и канализация), газоснабжение, теплоснабжение. Все вместе они составляют жилищно-коммунальное хозяйство (куда входят еще уборка мусора, территорий и обслуживание жилых помещений), особо развитое в городских поселениях люд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ЯЗЬ. Функция – обеспечение общения как между отдельными людьми, так и между всеми организациями и отраслями, участвующими в общественном воспроизводстве.  Работа данной отрасли потребляется как деятельность. А «продукт деятельности» отрасли  нельзя отделить от процесса и обменивать свободно на другие продукты и услуг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предмет труда – общение людей, организаций, предприятий, всех подразделений народного хозяйств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процесс труда – обеспечение и условий для процесса общения; передача информации, знаковой, звуковой, зрительной,  а также пересылка почтовых отправлений и информационных материал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результат труда – непрерывный процесс общения, обеспечивающий эффективную работу и жизнедеятельность всего обще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цена услуги – включает затраты труда работников отрасли, материальные затраты (материалы, энергия), износ основного оборудования; стоимость в отрасли не образуется: «продуктом труда» является деятельность, потребляемая в момент производства; эта «деятельность» не может быть свободно отчуждена от ее производителя, и обменена на другой продукт (услугу) в любой другой момент времени, как продукт материального производства;  Как и в других отраслях инфраструктуры, эта отрасль есть затраты для народного хозяйства в целом, кроме случаев продажи услуги через границ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отношение количества техники к количеству занятых в отрасли (c/v) – дает знание о техническом уровне отрасли, о сравнимой с другими, производительности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ь  настолько тесно  связана со всеми другими отраслями производства и потребления в обществе, что фактически вросла в саму ткань экономики. Без ежесекундной связи всех со всеми в реальном времени нынешняя экономика вряд ли способна работать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Ь. Функция – обеспечение общения как между отдельными людьми, так и между всеми организациями и отраслями, участвующими в общественном воспроизводстве.  Работа данной отрасли потребляется как деятельность. А «продукт деятельности» отрасли  нельзя отделить от процесса и обменивать свободно на другие продукты и услуг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предмет труда – общение людей, организаций, предприятий, всех подразделений народного хозяйств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процесс труда – обеспечение и условий для процесса общения; передача информации, знаковой, звуковой, зрительной,  а также пересылка почтовых отправлений и информационных материал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результат труда – непрерывный процесс общения, обеспечивающий эффективную работу и жизнедеятельность всего обще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цена услуги – включает затраты труда работников отрасли, материальные затраты (материалы, энергия), износ основного оборудования; стоимость в отрасли не образуется: «продуктом труда» является деятельность, потребляемая в момент производства; эта «деятельность» не может быть свободно отчуждена от ее производителя, и обменена на другой продукт (услугу) в любой другой момент времени, как продукт материального производства;  Как и в других отраслях инфраструктуры, эта отрасль есть затраты для народного хозяйства в целом, кроме случаев продажи услуги через границ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 отношение количества техники к количеству занятых в отрасли (c/v) – дает знание о техническом уровне отрасли, о сравнимой с другими, производительности труд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сль  настолько тесно  связана со всеми другими отраслями производства и потребления в обществе, что фактически вросла в саму ткань экономики. Без ежесекундной связи всех со всеми в реальном времени нынешняя экономика вряд ли способна работать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ОЕ ПРОИЗВОДСТВО. Функция – производство информационной продукции и услуг для потребления людьми и всеми организациями и отраслями  общественного воспроизводства.  Работа данной отрасли потребляется как информационный продукт.  Продукт  этой отрасли особого рода, который потребляется как информация, одноразовая или многоразова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предмет труда – информация различного вида и типа, необходимая для потребления во всех секторах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процесс труда – производство информационной продукции в свободно отчуждаемой (продукт на носителе) и неотчуждаемой форме (процесс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результат труда – информационная продукция в различном виде и на различных носителях, а также услуги предоставления информации, обеспечивающий эффективную работу и жизнедеятельность всего обще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цена услуги – включает затраты труда работников отрасли, материальные затраты (сырье, материалы, энергия), износ основного оборудования; стоимость в этой отрасли не образуется: «продуктом труда» является как деятельность, так и продукт, потребляемые в производстве – обмене – потреблении; инфо-продукты могут быть свободно отчуждены от их производителя, и обменена на другой продукт (услугу) в любой другой момент времени, но потребляются только как информация, полезно или бесполезно усваиваема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отношение количества техники к количеству занятых в отрасли (c/v) – дает знание о техническом уровне отрасли, о сравнимой с другими, производительности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ь  производит и отчасти способствует распространению информации (как и связь); двойственность – существует как продукт и как услуги – не исключает ее из инфраструктуры; как в случае с энергетикой, например, внешняя материальность «продукта» придает  ему только внешнюю товарность; инфо-продукт не может быть продуктом  в полном смысле слова. Он не равнозначен  продуктам реального секто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ОЕ ПРОИЗВОДСТВО. Функция – производство информационной продукции и услуг для потребления людьми и всеми организациями и отраслями  общественного воспроизводства.  Работа данной отрасли потребляется как информационный продукт.  Продукт  этой отрасли особого рода, который потребляется как информация, одноразовая или многоразова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предмет труда – информация различного вида и типа, необходимая для потребления во всех секторах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процесс труда – производство информационной продукции в свободно отчуждаемой (продукт на носителе) и неотчуждаемой форме (процесс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результат труда – информационная продукция в различном виде и на различных носителях, а также услуги предоставления информации, обеспечивающий эффективную работу и жизнедеятельность всего обще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цена услуги – включает затраты труда работников отрасли, материальные затраты (сырье, материалы, энергия), износ основного оборудования; стоимость в этой отрасли не образуется: «продуктом труда» является как деятельность, так и продукт, потребляемые в производстве – обмене – потреблении; инфо-продукты могут быть свободно отчуждены от их производителя, и обменена на другой продукт (услугу) в любой другой момент времени, но потребляются только как информация, полезно или бесполезно усваиваема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 отношение количества техники к количеству занятых в отрасли (c/v) – дает знание о техническом уровне отрасли, о сравнимой с другими, производительности труд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сль  производит и отчасти способствует распространению информации (как и связь); двойственность – существует как продукт и как услуги – не исключает ее из инфраструктуры; как в случае с энергетикой, например, внешняя материальность «продукта» придает  ему только внешнюю товарность; инфо-продукт не может быть продуктом  в полном смысле слова. Он не равнозначен  продуктам реального секто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ОННОЕ ПРОИЗВОДСТВО. Функция – производство организации как деятельности, ранее называемой «управлением» и осуществлявшейся как власть.  Для полезного потребления организации как деятельности  она должна иметь те же свойства товарности, что и другие отрасли инфраструктуры: товарная форма услуг бывших управленцев, которая складывается на рынке в ходе обмена на другие услуги и продукцию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предмет труда – общественное производство в целом, нуждающееся в непрерывной деятельности по организации, координации усилий всех секторов экономик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процесс труда – организационная и координирующая  деятельность соответствующих предприятий, связующих  в органичное целое   отрасли и сектора эконом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результат труда – слаженность и целостность народного хозяйства в производстве и обмене;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цена услуги – включает затраты труда работников отрасли, материальные затраты (сырье, материалы, энергия), износ основного оборудования – аналог тарифа в других отраслях; стоимость в этой отрасли не образуется: «продуктом труда» является деятельность, потребляемая в производстве – обмене – потреблен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органическое строение капитала в отрасли (С/V) – говорит о техническом уровне отрасли, о сравнимой с другими, производительности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– это реализация функции ВСЕОБЩГО ИНТЕРЕСА, так как все общество нуждается в рациональной  организации всех отраслей и секторов жизни общества; В отсутствие производственного подхода к управлению, оно превращается в желание «править» или личную корысть вместо «управления» и «организационной деятельности». Власть как таковая устарела, а процесс управления, проводимый за цену, выраженную в тарифе, основанный на ритмичности и планомерности организационного процесса, неуклонно превратится в ОРГАНИЗАЦИОННОЕ ПРОИЗВОДСТВ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ный предмет, продукт и результат управленческой деятельности совершенно изменит ее сущность. Производство организации вместо властного паразит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ОННОЕ ПРОИЗВОДСТВО. Функция – производство организации как деятельности, ранее называемой «управлением» и осуществлявшейся как власть.  Для полезного потребления организации как деятельности  она должна иметь те же свойства товарности, что и другие отрасли инфраструктуры: товарная форма услуг бывших управленцев, которая складывается на рынке в ходе обмена на другие услуги и продукцию;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предмет труда – общественное производство в целом, нуждающееся в непрерывной деятельности по организации, координации усилий всех секторов экономик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процесс труда – организационная и координирующая  деятельность соответствующих предприятий, связующих  в органичное целое   отрасли и сектора экономи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результат труда – слаженность и целостность народного хозяйства в производстве и обмене;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цена услуги – включает затраты труда работников отрасли, материальные затраты (сырье, материалы, энергия), износ основного оборудования – аналог тарифа в других отраслях; стоимость в этой отрасли не образуется: «продуктом труда» является деятельность, потребляемая в производстве – обмене – потреблени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 органическое строение капитала в отрасли (С/V) – говорит о техническом уровне отрасли, о сравнимой с другими, производительности труд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– это реализация функции ВСЕОБЩГО ИНТЕРЕСА, так как все общество нуждается в рациональной  организации всех отраслей и секторов жизни общества; В отсутствие производственного подхода к управлению, оно превращается в желание «править» или личную корысть вместо «управления» и «организационной деятельности». Власть как таковая устарела, а процесс управления, проводимый за цену, выраженную в тарифе, основанный на ритмичности и планомерности организационного процесса, неуклонно превратится в ОРГАНИЗАЦИОННОЕ ПРОИЗВОДСТВО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ученный предмет, продукт и результат управленческой деятельности совершенно изменит ее сущность. Производство организации вместо властного паразитиз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уга и товарная форма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ницы применим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материальное производство , или услуги, также составляет затраты экономики в цел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итивный буржуазный подход требует, чтобы эта отрасль была прибыльной, работала на коммерческой осно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усветная глупость – идея получать прибыль в детском саду, школе или библиотеке; здравоохранение и образование, социальное обеспечение не могут и не должны работать на прибыл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и Инфраструктуры, как правило, работают на коммерческой основ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уги данных секторов чаще всего носят товарную форму. Их деятельность обменивается на продукты и другую деятельность внутри отрасли, между отраслями, с материальным и нематериальным производством в денежной форме (или натуральной, если деньги «не работают»). Прибыль и заработная плата здесь только внешне совпадает с тем, как они создаются в МП. Инфраструктура – это затраты в экономике в цел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уга и товарная форма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ницы примени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материальное производство , или услуги, также составляет затраты экономики в цел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итивный буржуазный подход требует, чтобы эта отрасль была прибыльной, работала на коммерческой основ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усветная глупость – идея получать прибыль в детском саду, школе или библиотеке; здравоохранение и образование, социальное обеспечение не могут и не должны работать на прибыль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сли Инфраструктуры, как правило, работают на коммерческой основе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уги данных секторов чаще всего носят товарную форму. Их деятельность обменивается на продукты и другую деятельность внутри отрасли, между отраслями, с материальным и нематериальным производством в денежной форме (или натуральной, если деньги «не работают»). Прибыль и заработная плата здесь только внешне совпадает с тем, как они создаются в МП. Инфраструктура – это затраты в экономике в цел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 - единое производство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В КОНЕЦ??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.  Данная целостность в общественном производстве может сегодня существовать только как совокупность отраслей, объединяющих народное хозяйство во времени и пространстве бесцисленными цепочками перемещения вещества – энергии – информации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ая из отраслей, развиваясь все более и более способствует развитию таких же сетевых по характеру  отраслей инфраструктур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 – все ближе к крупному машинному производству. Особенно в тех отраслях, которые поднимались вместе с первой промышленной революцией. Например, транспор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 - единое производство 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В КОНЕЦ?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.  Данная целостность в общественном производстве может сегодня существовать только как совокупность отраслей, объединяющих народное хозяйство во времени и пространстве бесцисленными цепочками перемещения вещества – энергии – информации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ая из отраслей, развиваясь все более и более способствует развитию таких же сетевых по характеру  отраслей инфраструктур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 – все ближе к крупному машинному производству. Особенно в тех отраслях, которые поднимались вместе с первой промышленной революцией. Например, транспор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уга. Инфраструктура - единое производство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 – совокупность отраслей услуг, они все вместе образуют ее. Отрасль современной экономики, имеющую сетевой, протяженный в пространстве и практически непрерывный во времени характер деяте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яженность в пространстве в виде сети обусловлена самой сутью услуг, технологической особенностью отраслей инфраструктуры. Они должны быть везде одновременно. Так удобнее распределять, распространять, перемещать товары (материальные продукты) или служить люд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 самым обеспечивается максимальная (или оптимальная) скорость оборота товаров и услуг (продуктов и деятельности). Экономика движется все быстрее и быстрее (а в будущем – рациональнее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уга. Инфраструктура - единое производство 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 – совокупность отраслей услуг, они все вместе образуют ее. Отрасль современной экономики, имеющую сетевой, протяженный в пространстве и практически непрерывный во времени характер деятельн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яженность в пространстве в виде сети обусловлена самой сутью услуг, технологической особенностью отраслей инфраструктуры. Они должны быть везде одновременно. Так удобнее распределять, распространять, перемещать товары (материальные продукты) или служить люд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 самым обеспечивается максимальная (или оптимальная) скорость оборота товаров и услуг (продуктов и деятельности). Экономика движется все быстрее и быстрее (а в будущем – рациональнее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и инфраструктуры, как важнейшей части всего народного хозяйства имеют ряд объединяющих признаков. Среди ни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сетевой принцип организации отраслей (сеть услуг охватывает определенную территори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большинство отраслей работает 24 часа в сут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постоянно возрастающее взаимодействие с другими отраслями инфраструктур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растущее взаимодействие с отраслями материального производства и нематериального производ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инфраструктура это сеть, работающая круглые сутки на все общественное производства, то для нее должны быть характерны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вящается Борису Ельцин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тмич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омер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порцион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сли инфраструктуры, как важнейшей части всего народного хозяйства имеют ряд объединяющих признаков. Среди них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сетевой принцип организации отраслей (сеть услуг охватывает определенную территорию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большинство отраслей работает 24 часа в сут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постоянно возрастающее взаимодействие с другими отраслями инфраструктур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растущее взаимодействие с отраслями материального производства и нематериального производ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инфраструктура это сеть, работающая круглые сутки на все общественное производства, то для нее должны быть характерны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вящается Борису Ельцин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тмич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омер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порциона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 КАК БЫ «СШИВАЕТ» ОБЩЕСТВЕННОЕ ПРОИЗВОДСТВО В ЕДИНОЕ ЦЕЛ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ая из отраслей Инфраструктуры имеет свои Фабрики по оказанию услу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рговля – магазины; Финансы – банки и финансовые институты; Связь – передатчики, ретрансляторы и даже кабели и почтовые отделения; Энергетика – электростанции, распределительные и прочие станции, сети; ИП – телевидение, радио, издательства, киностудии; Транспорт – дороги, порты, аэропорты, водные и морские пути, трубопроводы, транспортные средств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современнее и совершеннее техника, тем больше скорость оборота товаров и услуг (скорость движения вещества, энергии и информации в мировой экономике)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ааа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 КАК БЫ «СШИВАЕТ» ОБЩЕСТВЕННОЕ ПРОИЗВОДСТВО В ЕДИНОЕ ЦЕЛ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ая из отраслей Инфраструктуры имеет свои Фабрики по оказанию услу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говля – магазины; Финансы – банки и финансовые институты; Связь – передатчики, ретрансляторы и даже кабели и почтовые отделения; Энергетика – электростанции, распределительные и прочие станции, сети; ИП – телевидение, радио, издательства, киностудии; Транспорт – дороги, порты, аэропорты, водные и морские пути, трубопроводы, транспортные средств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 современнее и совершеннее техника, тем больше скорость оборота товаров и услуг (скорость движения вещества, энергии и информации в мировой экономике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ааа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 КАК БЫ «СШИВАЕТ» ОБЩЕСТВЕННОЕ ПРОИЗВОДСТВО В ЕДИНОЕ ЦЕЛ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ая из отраслей Инфраструктуры имеет свои Фабрики по оказанию услу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рговля – магазины; Финансы – банки и финансовые институты; Связь – передатчики, ретрансляторы и даже кабели и почтовые отделения; Энергетика – электростанции, распределительные и прочие станции, сети; ИП – телевидение, радио, издательства, киностудии; Транспорт – дороги, порты, аэропорты, водные и морские пути, трубопроводы, транспортные средств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современнее и совершеннее техника, тем больше скорость оборота товаров и услуг (скорость движения вещества, энергии и информации в мировой экономике)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ааа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 КАК БЫ «СШИВАЕТ» ОБЩЕСТВЕННОЕ ПРОИЗВОДСТВО В ЕДИНОЕ ЦЕЛ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ая из отраслей Инфраструктуры имеет свои Фабрики по оказанию услу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говля – магазины; Финансы – банки и финансовые институты; Связь – передатчики, ретрансляторы и даже кабели и почтовые отделения; Энергетика – электростанции, распределительные и прочие станции, сети; ИП – телевидение, радио, издательства, киностудии; Транспорт – дороги, порты, аэропорты, водные и морские пути, трубопроводы, транспортные средств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 современнее и совершеннее техника, тем больше скорость оборота товаров и услуг (скорость движения вещества, энергии и информации в мировой экономике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ааа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 КАК БЫ «СШИВАЕТ» ОБЩЕСТВЕННОЕ ПРОИЗВОДСТВО В ЕДИНОЕ ЦЕЛ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ая из отраслей Инфраструктуры имеет свои Фабрики по оказанию услу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рговля – магазины; Финансы – банки и финансовые институты; Связь – передатчики, ретрансляторы и даже кабели и почтовые отделения; Энергетика – электростанции, распределительные и прочие станции, сети; ИП – телевидение, радио, издательства, киностудии; Транспорт – дороги, порты, аэропорты, водные и морские пути, трубопроводы, транспортные средств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современнее и совершеннее техника, тем больше скорость оборота товаров и услуг (скорость движения вещества, энергии и информации в мировой экономике)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– среда общественного организма (создается с пом. МП, И, НП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 – челов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а – условно неподвижна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– «оживляет ее , с помощью 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 – приводит в движение С с помощью Ч и НП, а также формирует Среду с помощью Ч и НП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 – основной продукт МП; МП. НП, НП – инструмен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 – основной продукт НП; МП, НП и И – инструменты «производства Ч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 КАК БЫ «СШИВАЕТ» ОБЩЕСТВЕННОЕ ПРОИЗВОДСТВО В ЕДИНОЕ ЦЕЛ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ая из отраслей Инфраструктуры имеет свои Фабрики по оказанию услу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говля – магазины; Финансы – банки и финансовые институты; Связь – передатчики, ретрансляторы и даже кабели и почтовые отделения; Энергетика – электростанции, распределительные и прочие станции, сети; ИП – телевидение, радио, издательства, киностудии; Транспорт – дороги, порты, аэропорты, водные и морские пути, трубопроводы, транспортные средств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 современнее и совершеннее техника, тем больше скорость оборота товаров и услуг (скорость движения вещества, энергии и информации в мировой экономике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– среда общественного организма (создается с пом. МП, И, НП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 – челов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а – условно неподвижна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– «оживляет ее , с помощью 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 – приводит в движение С с помощью Ч и НП, а также формирует Среду с помощью Ч и НП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 – основной продукт МП; МП. НП, НП – инструмент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 – основной продукт НП; МП, НП и И – инструменты «производства Ч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альное производ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материальное производ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риальное производ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материальное производ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ПОРТ. Функция – перемещение грузов  (сырья, полуфабрикатов, продуктов труда) или пассажиров в пространстве – от производства к потреблению и от потребления к производств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предмет труда – транспортируемое «вещество», груз или пассажир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процесс труда – перемещение, передвижение, транспортирование вещества в пространстве без изменения его структуры и свойст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результат труда – груз и/или пассажир, изменивший свое местонахождение в пространстве (как правило, на земной или водной поверхност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цена услуги – включает затраты труда работников отрасли, материальные затраты (сырье, материалы, энергия), износ основного оборудования; стоимость в отрасли не образуется: «продуктом труда» является деятельность, потребляемая в момент производства; эта деятельность не может быть отчуждена от ее производителя, как это возможно с продуктом отраслей материального производства и обменена на другой продукт (услугу) в любой другой момент времен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отношение количества оборудования к количеству занятых в отрасли (c/v) – дает представление о техническом уровне отрасли, о сравнимой с другими производительности тру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портную отрасль инфраструктуры дополняет и технологически объединяет с другими отраслями складское хозяйства и система логистики, представляющие собой стремление к целостности грузо- и пассажиропотоков, их координации во времени и пространстве для увеличения общей экономии общественного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АНСПОРТ. Функция – перемещение грузов  (сырья, полуфабрикатов, продуктов труда) или пассажиров в пространстве – от производства к потреблению и от потребления к производств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предмет труда – транспортируемое «вещество», груз или пассажир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процесс труда – перемещение, передвижение, транспортирование вещества в пространстве без изменения его структуры и свойст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результат труда – груз и/или пассажир, изменивший свое местонахождение в пространстве (как правило, на земной или водной поверхност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цена услуги – включает затраты труда работников отрасли, материальные затраты (сырье, материалы, энергия), износ основного оборудования; стоимость в отрасли не образуется: «продуктом труда» является деятельность, потребляемая в момент производства; эта деятельность не может быть отчуждена от ее производителя, как это возможно с продуктом отраслей материального производства и обменена на другой продукт (услугу) в любой другой момент времен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 отношение количества оборудования к количеству занятых в отрасли (c/v) – дает представление о техническом уровне отрасли, о сравнимой с другими производительности тр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анспортную отрасль инфраструктуры дополняет и технологически объединяет с другими отраслями складское хозяйства и система логистики, представляющие собой стремление к целостности грузо- и пассажиропотоков, их координации во времени и пространстве для увеличения общей экономии общественного труд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РГОВЛЯ (и общепит). Функция – распределение  продуктов труда (и деятельности). Исторически возникла из обмена продуктов и услуг, который осуществлялся в эпоху собственности хаотично, подчиняясь главным образом частному интересу собственника товара (продукта). Отсюда неравномерность процесса, хаотичность, кризисы торговли, затоваривание и т.д. Лечение: планирование объемов, структуры и пропорций торговых пото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предмет труда – обмениваемое, продаваемое «вещество», продукт или услуг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процесс труда – распределение товаров и услуг посредством торговых сетей, оптовых и розничных предприятий, складов и магазинов, информационных сет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результат труда – продукт или услуга, нашедшие своего потребителя; обмен состоялся, продажа/покупка совершен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цена услуги – включает затраты труда работников отрасли, материальные затраты (сырье, материалы, энергия), износ основного оборудования; стоимость в отрасли не образуется: «продуктом труда» является деятельность, потребляемая в момент производства; эта деятельность не может быть отчуждена от ее производителя, как это возможно с продуктом отраслей материального производства и обменена на другой продукт (услугу) в любой другой момент времен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отношение количества оборудования к количеству занятых в отрасли (c/v) – дает знание о техническом уровне отрасли, о сравнимой с другими производительности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 торговли, то есть ускоряющегося во времени и пространстве распределения продуктов и услуг невозможно современное эффективное развитие производства материального и нематериального; только собственность мешает преодолеть хаотичность процесса и его подчиненность только частному интересу, выгоде собственника, а не народного хозяйства в цел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ГОВЛЯ (и общепит). Функция – распределение  продуктов труда (и деятельности). Исторически возникла из обмена продуктов и услуг, который осуществлялся в эпоху собственности хаотично, подчиняясь главным образом частному интересу собственника товара (продукта). Отсюда неравномерность процесса, хаотичность, кризисы торговли, затоваривание и т.д. Лечение: планирование объемов, структуры и пропорций торговых пото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предмет труда – обмениваемое, продаваемое «вещество», продукт или услуг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процесс труда – распределение товаров и услуг посредством торговых сетей, оптовых и розничных предприятий, складов и магазинов, информационных сет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результат труда – продукт или услуга, нашедшие своего потребителя; обмен состоялся, продажа/покупка совершен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цена услуги – включает затраты труда работников отрасли, материальные затраты (сырье, материалы, энергия), износ основного оборудования; стоимость в отрасли не образуется: «продуктом труда» является деятельность, потребляемая в момент производства; эта деятельность не может быть отчуждена от ее производителя, как это возможно с продуктом отраслей материального производства и обменена на другой продукт (услугу) в любой другой момент времен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 отношение количества оборудования к количеству занятых в отрасли (c/v) – дает знание о техническом уровне отрасли, о сравнимой с другими производительности труд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з торговли, то есть ускоряющегося во времени и пространстве распределения продуктов и услуг невозможно современное эффективное развитие производства материального и нематериального; только собственность мешает преодолеть хаотичность процесса и его подчиненность только частному интересу, выгоде собственника, а не народного хозяйства в цело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Ы (банки и пр.). Функция – учет и осуществление обмена  деятельностью (продуктами труда и услугами). Возникла из нужды ускорить и упростить обмен продуктов и услуг с помощью различных инструментов (денег и других); движение финансов и/или денег – это фактическая реализация общественного разделения труда,  но хаотичная, так как подчинена частному интересу собственника инструментов обмена (денег). Неравномерность «реализации функции» усилилась. Поэтому  кризисы торговые дополнились финансовыми крахам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предмет труда – обмениваемые, продаваемые «инструменты обмена», деньги или финансовые услуг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процесс труда – распределение денег и финансовых инструментов (вместо всеобщего учета и балансирования труда во всех сферах общественного производств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результат труда – деньги, кредит или услуга, нашли своего покупателя; обмен состоялся, продажа/покупка  «обменного материала» совершен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цена услуги – включает затраты труда работников отрасли, материальные затраты (сырье, материалы, энергия), износ основного оборудования; стоимость в отрасли не образуется: «продуктом труда» является деятельность*, потребляемая в момент производства; эта «деятельность» может быть отчуждена от ее производителя, и обменена на другой продукт (услугу) в любой другой момент времени,  так как деньги стали всеобщим, универсальным обменным инструментом, «особым товаром», но не продуктом; [*деньги и т.п. – не являются предметом потребления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отношение количества оборудования к количеству занятых в отрасли (c/v) – дает знание о техническом уровне отрасли, о сравнимой с другими производительности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ь со временем обособилась и возомнила о себе, что она является  главной в производстве. Торговля «инструментами» обмена стала источником небывалых паразитических доходов (банкиров, финансистов, страховщиков – особой религии денег., не имеющих самостоятельной ц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Ы (банки и пр.). Функция – учет и осуществление обмена  деятельностью (продуктами труда и услугами). Возникла из нужды ускорить и упростить обмен продуктов и услуг с помощью различных инструментов (денег и других); движение финансов и/или денег – это фактическая реализация общественного разделения труда,  но хаотичная, так как подчинена частному интересу собственника инструментов обмена (денег). Неравномерность «реализации функции» усилилась. Поэтому  кризисы торговые дополнились финансовыми крахам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предмет труда – обмениваемые, продаваемые «инструменты обмена», деньги или финансовые услуг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процесс труда – распределение денег и финансовых инструментов (вместо всеобщего учета и балансирования труда во всех сферах общественного производства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результат труда – деньги, кредит или услуга, нашли своего покупателя; обмен состоялся, продажа/покупка  «обменного материала» совершен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цена услуги – включает затраты труда работников отрасли, материальные затраты (сырье, материалы, энергия), износ основного оборудования; стоимость в отрасли не образуется: «продуктом труда» является деятельность*, потребляемая в момент производства; эта «деятельность» может быть отчуждена от ее производителя, и обменена на другой продукт (услугу) в любой другой момент времени,  так как деньги стали всеобщим, универсальным обменным инструментом, «особым товаром», но не продуктом; [*деньги и т.п. – не являются предметом потребления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 отношение количества оборудования к количеству занятых в отрасли (c/v) – дает знание о техническом уровне отрасли, о сравнимой с другими производительности труд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сль со временем обособилась и возомнила о себе, что она является  главной в производстве. Торговля «инструментами» обмена стала источником небывалых паразитических доходов (банкиров, финансистов, страховщиков – особой религии денег., не имеющих самостоятельной ц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AEBB-EAE9-4841-BDDD-5E3C440F0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1BBE-D11F-4790-BDD9-FD4BD3958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FE28-2BF0-4E68-A93B-EA6E02372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C09C-3A6E-4516-9126-D66AA5071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43EA-FD49-43AE-909A-160FE294F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1BDD-C8AB-48D2-8D88-02EDDEB06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E372-F116-4DAA-8EDF-868F71A04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939C-FC30-4292-A8FA-9AE6EA01E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7B0E-022B-456F-AD5E-A44D20579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FE3F-D47B-4066-B035-73326FF5C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2EAC-3E53-4774-8457-26DCC870D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385D-8D45-4482-B970-A55907212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7" descr="http://farm4.static.flickr.com/3222/3018627036_aae63bc302_o.jpg"/>
          <p:cNvPicPr/>
          <p:nvPr/>
        </p:nvPicPr>
        <p:blipFill>
          <a:blip r:embed="rId2"/>
          <a:stretch/>
        </p:blipFill>
        <p:spPr>
          <a:xfrm>
            <a:off x="0" y="0"/>
            <a:ext cx="92059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E5615-AFA7-424C-9DC5-EEDC23CFFD63}" type="datetime">
              <a:rPr b="0" lang="ru-RU" sz="1100" spc="-1" strike="noStrike">
                <a:solidFill>
                  <a:srgbClr val="ffffff"/>
                </a:solidFill>
                <a:latin typeface="Calibri"/>
              </a:rPr>
              <a:t>30.07.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AF0F1-0CD1-4AD9-B665-E11D9B8F9D8A}" type="slidenum">
              <a:rPr b="0" lang="ru-RU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image" Target="../media/image18.gif"/><Relationship Id="rId5" Type="http://schemas.openxmlformats.org/officeDocument/2006/relationships/image" Target="../media/image19.gif"/><Relationship Id="rId6" Type="http://schemas.openxmlformats.org/officeDocument/2006/relationships/image" Target="../media/image20.gif"/><Relationship Id="rId7" Type="http://schemas.openxmlformats.org/officeDocument/2006/relationships/image" Target="../media/image21.gif"/><Relationship Id="rId8" Type="http://schemas.openxmlformats.org/officeDocument/2006/relationships/image" Target="../media/image22.gif"/><Relationship Id="rId9" Type="http://schemas.openxmlformats.org/officeDocument/2006/relationships/image" Target="../media/image23.gif"/><Relationship Id="rId10" Type="http://schemas.openxmlformats.org/officeDocument/2006/relationships/image" Target="../media/image24.gi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25.gif"/><Relationship Id="rId3" Type="http://schemas.openxmlformats.org/officeDocument/2006/relationships/image" Target="../media/image26.gif"/><Relationship Id="rId4" Type="http://schemas.openxmlformats.org/officeDocument/2006/relationships/image" Target="../media/image27.gif"/><Relationship Id="rId5" Type="http://schemas.openxmlformats.org/officeDocument/2006/relationships/image" Target="../media/image28.gif"/><Relationship Id="rId6" Type="http://schemas.openxmlformats.org/officeDocument/2006/relationships/image" Target="../media/image29.gif"/><Relationship Id="rId7" Type="http://schemas.openxmlformats.org/officeDocument/2006/relationships/image" Target="../media/image30.gif"/><Relationship Id="rId8" Type="http://schemas.openxmlformats.org/officeDocument/2006/relationships/image" Target="../media/image31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32.gif"/><Relationship Id="rId3" Type="http://schemas.openxmlformats.org/officeDocument/2006/relationships/image" Target="../media/image33.gif"/><Relationship Id="rId4" Type="http://schemas.openxmlformats.org/officeDocument/2006/relationships/image" Target="../media/image34.gif"/><Relationship Id="rId5" Type="http://schemas.openxmlformats.org/officeDocument/2006/relationships/image" Target="../media/image35.gif"/><Relationship Id="rId6" Type="http://schemas.openxmlformats.org/officeDocument/2006/relationships/image" Target="../media/image36.gif"/><Relationship Id="rId7" Type="http://schemas.openxmlformats.org/officeDocument/2006/relationships/image" Target="../media/image37.gif"/><Relationship Id="rId8" Type="http://schemas.openxmlformats.org/officeDocument/2006/relationships/image" Target="../media/image38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8760" y="5214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71320" y="285840"/>
            <a:ext cx="83581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Calibri"/>
              </a:rPr>
              <a:t>В материале </a:t>
            </a:r>
            <a:r>
              <a:rPr b="0" i="1" lang="ru-RU" sz="2600" spc="-1" strike="noStrike">
                <a:solidFill>
                  <a:srgbClr val="ff3300"/>
                </a:solidFill>
                <a:latin typeface="Calibri"/>
              </a:rPr>
              <a:t>«Услуга» </a:t>
            </a:r>
            <a:r>
              <a:rPr b="0" i="1" lang="ru-RU" sz="2600" spc="-1" strike="noStrike">
                <a:solidFill>
                  <a:srgbClr val="ffffff"/>
                </a:solidFill>
                <a:latin typeface="Calibri"/>
              </a:rPr>
              <a:t>уже были описаны по отдельности основные виды услуг, входящие в более общую категорию </a:t>
            </a:r>
            <a:r>
              <a:rPr b="1" i="1" lang="ru-RU" sz="2600" spc="-1" strike="noStrike">
                <a:solidFill>
                  <a:srgbClr val="ffccff"/>
                </a:solidFill>
                <a:latin typeface="Calibri"/>
              </a:rPr>
              <a:t>«инфраструктура»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Calibri"/>
              </a:rPr>
              <a:t>Теперь нужно чуть более детально взглянуть на каждую из отраслей Инфраструктуры, показав их единство, целостность организационную, технологическую и экономическую. Все они не просто неразрывны, но и не отделимы от существующего материального производства и сферы нематериального производства</a:t>
            </a:r>
            <a:r>
              <a:rPr b="0" lang="ru-RU" sz="2800" spc="-1" strike="noStrike">
                <a:solidFill>
                  <a:srgbClr val="ffff00"/>
                </a:solidFill>
                <a:latin typeface="Calibri"/>
              </a:rPr>
              <a:t>. Более того общественное производство объективно прорастает в </a:t>
            </a:r>
            <a:r>
              <a:rPr b="1" lang="ru-RU" sz="2800" spc="-1" strike="noStrike">
                <a:solidFill>
                  <a:srgbClr val="ffff00"/>
                </a:solidFill>
                <a:latin typeface="Calibri"/>
              </a:rPr>
              <a:t>единое производство-потребление</a:t>
            </a:r>
            <a:r>
              <a:rPr b="0" lang="ru-RU" sz="2800" spc="-1" strike="noStrike">
                <a:solidFill>
                  <a:srgbClr val="ffff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3840" y="6428880"/>
            <a:ext cx="7358040" cy="4287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0" y="142920"/>
            <a:ext cx="421488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buClr>
                <a:srgbClr val="8fb6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fb6e5"/>
                </a:solidFill>
                <a:latin typeface="Calibri"/>
              </a:rPr>
              <a:t>ЭНЕРГЕТИКА. </a:t>
            </a: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Функция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– </a:t>
            </a:r>
            <a:r>
              <a:rPr b="1" lang="ru-RU" sz="1700" spc="-1" strike="noStrike">
                <a:solidFill>
                  <a:srgbClr val="ff3300"/>
                </a:solidFill>
                <a:latin typeface="Calibri"/>
              </a:rPr>
              <a:t>энергоснабжение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процессов общественного производства, как в материальном секторе, так и нематериальной сфере и в самой инфраструктуре.  Работа отрасли </a:t>
            </a:r>
            <a:r>
              <a:rPr b="0" lang="ru-RU" sz="1700" spc="-1" strike="noStrike" u="sng">
                <a:solidFill>
                  <a:srgbClr val="ffffff"/>
                </a:solidFill>
                <a:uFillTx/>
                <a:latin typeface="Calibri"/>
              </a:rPr>
              <a:t>видится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 принадлежащей к материальному производству, но все же потребляется </a:t>
            </a:r>
            <a:r>
              <a:rPr b="0" lang="ru-RU" sz="1700" spc="-1" strike="noStrike" u="sng">
                <a:solidFill>
                  <a:srgbClr val="ffffff"/>
                </a:solidFill>
                <a:uFillTx/>
                <a:latin typeface="Calibri"/>
              </a:rPr>
              <a:t>ее деятельность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, а не продукт. А результат деятельности отрасли (пока) невозможно отделить от процесса и обменивать свободно на другие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1) предмет труда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электрический ток, получаемый различными способами и передаваемый потребителям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2) процесс труда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генерация и распределение  энергопотоков по сетям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3) результат труда </a:t>
            </a:r>
            <a:r>
              <a:rPr b="0" lang="ru-RU" sz="1700" spc="-1" strike="noStrike">
                <a:solidFill>
                  <a:srgbClr val="ffff00"/>
                </a:solidFill>
                <a:latin typeface="Calibri"/>
              </a:rPr>
              <a:t>–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непрерывный процесс энергоснабжения, обеспечивающий работу оборудования, а также освещение, отопление и прочее, где необходимо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857840" y="142920"/>
            <a:ext cx="428616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4) цена услуги</a:t>
            </a:r>
            <a:r>
              <a:rPr b="1" lang="ru-RU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включает затраты труда работников отрасли, материальные затраты (сырье, материалы, энергия), износ основного оборудования;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стоимость в отрасли не образуется: «продуктом труда» является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деятельность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потребляемая в момент производства; эта «деятельность»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не может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быть отчуждена от ее производителя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и обменена на другой продукт (услугу) в любой другой момент времени;  Как и в других отраслях инфраструктуры,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отрасль представляет затраты для экономики  в целом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кроме случаев экспорта через границы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5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) отношение количества техники к количеству занятых в отрасли (</a:t>
            </a:r>
            <a:r>
              <a:rPr b="1" lang="en-US" sz="1700" spc="-1" strike="noStrike">
                <a:solidFill>
                  <a:srgbClr val="ffff00"/>
                </a:solidFill>
                <a:latin typeface="Calibri"/>
              </a:rPr>
              <a:t>c/v)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дает знание о техническом уровне отрасли, о сравнимой с другими производительности труда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Отрасль стоит в одном ряду с другими аналогичными,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связанными со снабжением процессов производства и жизнедеятельности: водоснабжение (и канализация), газоснабжение, теплоснабжение. Все вместе они составляют </a:t>
            </a:r>
            <a:r>
              <a:rPr b="0" lang="ru-RU" sz="1200" spc="-1" strike="noStrike" u="sng">
                <a:solidFill>
                  <a:srgbClr val="ffff00"/>
                </a:solidFill>
                <a:uFillTx/>
                <a:latin typeface="Calibri"/>
              </a:rPr>
              <a:t>жилищно-коммунальное хозяйство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(куда входят еще уборка мусора, территорий и обслуживание жилых помещений), особо развитое в городских поселениях людей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3840" y="6428880"/>
            <a:ext cx="7358040" cy="4287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42920"/>
            <a:ext cx="421488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buClr>
                <a:srgbClr val="8fb6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fb6e5"/>
                </a:solidFill>
                <a:latin typeface="Calibri"/>
              </a:rPr>
              <a:t>СВЯЗЬ. </a:t>
            </a: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Функция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– </a:t>
            </a:r>
            <a:r>
              <a:rPr b="1" lang="ru-RU" sz="1700" spc="-1" strike="noStrike">
                <a:solidFill>
                  <a:srgbClr val="ff3300"/>
                </a:solidFill>
                <a:latin typeface="Calibri"/>
              </a:rPr>
              <a:t>обеспечение общения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как между отдельными людьми, так и между всеми организациями и отраслями, участвующими в общественном воспроизводстве.  Работа данной отрасли потребляется </a:t>
            </a:r>
            <a:r>
              <a:rPr b="0" lang="ru-RU" sz="1700" spc="-1" strike="noStrike" u="sng">
                <a:solidFill>
                  <a:srgbClr val="ffffff"/>
                </a:solidFill>
                <a:uFillTx/>
                <a:latin typeface="Calibri"/>
              </a:rPr>
              <a:t>как деятельность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. А «продукт деятельности» отрасли  нельзя отделить от процесса и обменивать свободно на другие продукты и услуги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1) предмет труда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общение людей, организаций, предприятий, всех подразделений народного хозяйства; 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2) процесс труда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обеспечение и условий для процесса общения; передача информации, знаковой, звуковой, зрительной,  а также пересылка почтовых отправлений и информационных материалов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3) результат труда </a:t>
            </a:r>
            <a:r>
              <a:rPr b="0" lang="ru-RU" sz="1700" spc="-1" strike="noStrike">
                <a:solidFill>
                  <a:srgbClr val="ffff00"/>
                </a:solidFill>
                <a:latin typeface="Calibri"/>
              </a:rPr>
              <a:t>–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непрерывный процесс общения, обеспечивающий эффективную работу и жизнедеятельность всего общества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857840" y="213840"/>
            <a:ext cx="428616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4) цена услуги</a:t>
            </a:r>
            <a:r>
              <a:rPr b="1" lang="ru-RU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включает затраты труда работников отрасли, материальные затраты (материалы, энергия), износ основного оборудования;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стоимость в отрасли не образуется: «продуктом труда» является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деятельность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потребляемая в момент производства; эта «деятельность»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не может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быть свободно отчуждена от ее производителя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и обменена на другой продукт (услугу) в любой другой момент времени, как продукт материального производства;  Как и в других отраслях инфраструктуры, эта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отрасль есть затраты для народного хозяйства в целом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кроме случаев продажи услуги через границы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5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) отношение количества техники к количеству занятых в отрасли (</a:t>
            </a:r>
            <a:r>
              <a:rPr b="1" lang="en-US" sz="1700" spc="-1" strike="noStrike">
                <a:solidFill>
                  <a:srgbClr val="ffff00"/>
                </a:solidFill>
                <a:latin typeface="Calibri"/>
              </a:rPr>
              <a:t>c/v)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дает знание о техническом уровне отрасли, о сравнимой с другими, производительности труда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Отрасль  настолько тесно 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связана со всеми другими отраслями производства и потребления в обществе, что фактически вросла в саму ткань экономики. Без ежесекундной связи всех со всеми в реальном времени нынешняя экономика вряд ли способна работать .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13840" y="6428880"/>
            <a:ext cx="7358040" cy="4287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0" y="142920"/>
            <a:ext cx="421488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25"/>
              </a:spcBef>
              <a:buClr>
                <a:srgbClr val="8fb6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fb6e5"/>
                </a:solidFill>
                <a:latin typeface="Calibri"/>
              </a:rPr>
              <a:t>ИНФОРМАЦИОННОЕ ПРОИЗВОДСТВО. </a:t>
            </a: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Функция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– </a:t>
            </a:r>
            <a:r>
              <a:rPr b="1" lang="ru-RU" sz="1700" spc="-1" strike="noStrike">
                <a:solidFill>
                  <a:srgbClr val="ff3300"/>
                </a:solidFill>
                <a:latin typeface="Calibri"/>
              </a:rPr>
              <a:t>производство информационной продукции и услуг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для потребления людьми и всеми организациями и отраслями  общественного воспроизводства.  Работа данной отрасли потребляется </a:t>
            </a:r>
            <a:r>
              <a:rPr b="0" lang="ru-RU" sz="1700" spc="-1" strike="noStrike" u="sng">
                <a:solidFill>
                  <a:srgbClr val="ffffff"/>
                </a:solidFill>
                <a:uFillTx/>
                <a:latin typeface="Calibri"/>
              </a:rPr>
              <a:t>как информационный продукт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.  Продукт </a:t>
            </a: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этой отрасли особого рода, который потребляется как информация, одноразовая или многоразовая; 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1) предмет труда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информация различного вида и типа, необходимая для потребления во всех секторах; 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2) процесс труда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производство информационной продукции в свободно отчуждаемой (продукт на носителе) и неотчуждаемой форме (процесс)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3) результат труда </a:t>
            </a:r>
            <a:r>
              <a:rPr b="0" lang="ru-RU" sz="1700" spc="-1" strike="noStrike">
                <a:solidFill>
                  <a:srgbClr val="ffff00"/>
                </a:solidFill>
                <a:latin typeface="Calibri"/>
              </a:rPr>
              <a:t>–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информационная продукция в различном виде и на различных носителях, а также услуги предоставления информации, обеспечивающий эффективную работу и жизнедеятельность всего общества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857840" y="70920"/>
            <a:ext cx="4286160" cy="621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4) цена услуги</a:t>
            </a:r>
            <a:r>
              <a:rPr b="1" lang="ru-RU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включает затраты труда работников отрасли, материальные затраты (сырье, материалы, энергия), износ основного оборудования;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стоимость в этой отрасли не образуется: «продуктом труда» является как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деятельность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так и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продукт,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отребляемые в производстве – обмене – потреблении;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инфо-продукты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могут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быть свободно отчуждены от их производителя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и обменена на другой продукт (услугу) в любой другой момент времени, но потребляются только как информация, полезно или бесполезно усваиваемая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5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) отношение количества техники к количеству занятых в отрасли (</a:t>
            </a:r>
            <a:r>
              <a:rPr b="1" lang="en-US" sz="1700" spc="-1" strike="noStrike">
                <a:solidFill>
                  <a:srgbClr val="ffff00"/>
                </a:solidFill>
                <a:latin typeface="Calibri"/>
              </a:rPr>
              <a:t>c/v)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дает знание о техническом уровне отрасли, о сравнимой с другими, производительности труда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Отрасль  производит и отчасти способствует распространению информации (как и связь); двойственность – существует как продукт и как услуги – не исключает ее из инфраструктуры;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как в случае с энергетикой, например, внешняя материальность «продукта» придает  ему только внешнюю товарность;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инфо-продукт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 не может быть </a:t>
            </a:r>
            <a:r>
              <a:rPr b="0" i="1" lang="ru-RU" sz="1200" spc="-1" strike="noStrike" u="sng">
                <a:solidFill>
                  <a:srgbClr val="ffff00"/>
                </a:solidFill>
                <a:uFillTx/>
                <a:latin typeface="Calibri"/>
              </a:rPr>
              <a:t>продуктом</a:t>
            </a:r>
            <a:r>
              <a:rPr b="0" i="1" lang="ru-RU" sz="12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 в полном смысле слова. Он не равнозначен  продуктам реального сектора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13840" y="6428880"/>
            <a:ext cx="7358040" cy="4287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0" y="142920"/>
            <a:ext cx="421488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25"/>
              </a:spcBef>
              <a:buClr>
                <a:srgbClr val="8fb6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fb6e5"/>
                </a:solidFill>
                <a:latin typeface="Calibri"/>
              </a:rPr>
              <a:t>ОРГАНИЗАЦИОННОЕ ПРОИЗВОДСТВО. </a:t>
            </a: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Функция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– </a:t>
            </a:r>
            <a:r>
              <a:rPr b="1" lang="ru-RU" sz="1700" spc="-1" strike="noStrike">
                <a:solidFill>
                  <a:srgbClr val="ff3300"/>
                </a:solidFill>
                <a:latin typeface="Calibri"/>
              </a:rPr>
              <a:t>производство </a:t>
            </a:r>
            <a:r>
              <a:rPr b="1" lang="ru-RU" sz="1700" spc="-1" strike="noStrike" u="sng">
                <a:solidFill>
                  <a:srgbClr val="ff3300"/>
                </a:solidFill>
                <a:uFillTx/>
                <a:latin typeface="Calibri"/>
              </a:rPr>
              <a:t>организации</a:t>
            </a:r>
            <a:r>
              <a:rPr b="1" lang="ru-RU" sz="1700" spc="-1" strike="noStrike">
                <a:solidFill>
                  <a:srgbClr val="ff3300"/>
                </a:solidFill>
                <a:latin typeface="Calibri"/>
              </a:rPr>
              <a:t> как деятельности, </a:t>
            </a:r>
            <a:r>
              <a:rPr b="1" lang="ru-RU" sz="1700" spc="-1" strike="noStrike">
                <a:solidFill>
                  <a:srgbClr val="ffc000"/>
                </a:solidFill>
                <a:latin typeface="Calibri"/>
              </a:rPr>
              <a:t>ранее называемой «управлением» 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и осуществлявшейся как </a:t>
            </a:r>
            <a:r>
              <a:rPr b="1" lang="ru-RU" sz="1700" spc="-1" strike="noStrike" u="sng">
                <a:solidFill>
                  <a:srgbClr val="ffff00"/>
                </a:solidFill>
                <a:uFillTx/>
                <a:latin typeface="Calibri"/>
              </a:rPr>
              <a:t>власть.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 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Для полезного потребления </a:t>
            </a:r>
            <a:r>
              <a:rPr b="0" lang="ru-RU" sz="1700" spc="-1" strike="noStrike" u="sng">
                <a:solidFill>
                  <a:srgbClr val="ffffff"/>
                </a:solidFill>
                <a:uFillTx/>
                <a:latin typeface="Calibri"/>
              </a:rPr>
              <a:t>организации как деятельности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 она должна иметь те же свойства товарности, что и другие отрасли инфраструктуры: товарная форма услуг бывших управленцев, которая складывается на рынке в ходе обмена на другие услуги и продукцию;  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1) предмет труда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общественное производство в целом, нуждающееся в непрерывной деятельности по организации, координации усилий всех секторов экономики; 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2) процесс труда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</a:t>
            </a:r>
            <a:r>
              <a:rPr b="0" lang="ru-RU" sz="1700" spc="-1" strike="noStrike">
                <a:solidFill>
                  <a:srgbClr val="d9d9d9"/>
                </a:solidFill>
                <a:latin typeface="Calibri"/>
              </a:rPr>
              <a:t>организационная и координирующая  деятельность соответствующих предприятий, связующих  в органичное целое   отрасли и сектора экономики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3) результат труда </a:t>
            </a:r>
            <a:r>
              <a:rPr b="0" lang="ru-RU" sz="1700" spc="-1" strike="noStrike">
                <a:solidFill>
                  <a:srgbClr val="ffff00"/>
                </a:solidFill>
                <a:latin typeface="Calibri"/>
              </a:rPr>
              <a:t>– </a:t>
            </a:r>
            <a:r>
              <a:rPr b="0" lang="ru-RU" sz="1700" spc="-1" strike="noStrike">
                <a:solidFill>
                  <a:srgbClr val="d9d9d9"/>
                </a:solidFill>
                <a:latin typeface="Calibri"/>
              </a:rPr>
              <a:t>слаженность и целостность народного хозяйства в </a:t>
            </a:r>
            <a:r>
              <a:rPr b="1" lang="ru-RU" sz="1700" spc="-1" strike="noStrike">
                <a:solidFill>
                  <a:srgbClr val="d9d9d9"/>
                </a:solidFill>
                <a:latin typeface="Calibri"/>
              </a:rPr>
              <a:t>производстве и обмене;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857840" y="70920"/>
            <a:ext cx="4286160" cy="621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4) цена услуги</a:t>
            </a:r>
            <a:r>
              <a:rPr b="1" lang="ru-RU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включает затраты труда работников отрасли, материальные затраты (сырье, материалы, энергия), износ основного оборудования – аналог </a:t>
            </a:r>
            <a:r>
              <a:rPr b="0" lang="ru-RU" sz="1700" spc="-1" strike="noStrike" u="sng">
                <a:solidFill>
                  <a:srgbClr val="ffffff"/>
                </a:solidFill>
                <a:uFillTx/>
                <a:latin typeface="Calibri"/>
              </a:rPr>
              <a:t>тарифа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 в других отраслях;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стоимость в этой отрасли не образуется: «продуктом труда» является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деятельность,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отребляемая в </a:t>
            </a:r>
            <a:r>
              <a:rPr b="1" lang="ru-RU" sz="1600" spc="-1" strike="noStrike">
                <a:solidFill>
                  <a:srgbClr val="d9d9d9"/>
                </a:solidFill>
                <a:latin typeface="Calibri"/>
              </a:rPr>
              <a:t>производстве – обмене – потреблении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;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5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) органическое строение капитала в отрасли (</a:t>
            </a:r>
            <a:r>
              <a:rPr b="1" lang="ru-RU" sz="1600" spc="-1" strike="noStrike">
                <a:solidFill>
                  <a:srgbClr val="ffc000"/>
                </a:solidFill>
                <a:latin typeface="Calibri"/>
              </a:rPr>
              <a:t>С</a:t>
            </a:r>
            <a:r>
              <a:rPr b="1" lang="en-US" sz="1600" spc="-1" strike="noStrike">
                <a:solidFill>
                  <a:srgbClr val="ffc000"/>
                </a:solidFill>
                <a:latin typeface="Calibri"/>
              </a:rPr>
              <a:t>/V</a:t>
            </a:r>
            <a:r>
              <a:rPr b="1" lang="en-US" sz="1700" spc="-1" strike="noStrike">
                <a:solidFill>
                  <a:srgbClr val="ffff00"/>
                </a:solidFill>
                <a:latin typeface="Calibri"/>
              </a:rPr>
              <a:t>)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говорит о техническом уровне отрасли, о сравнимой с другими, производительности труда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Управление – это реализация функции ВСЕОБЩГО ИНТЕРЕСА, так как </a:t>
            </a:r>
            <a:r>
              <a:rPr b="1" lang="ru-RU" sz="1200" spc="-1" strike="noStrike" u="sng">
                <a:solidFill>
                  <a:srgbClr val="ffff00"/>
                </a:solidFill>
                <a:uFillTx/>
                <a:latin typeface="Calibri"/>
              </a:rPr>
              <a:t>все общество нуждается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в рациональной  организации всех отраслей и секторов жизни общества; В отсутствие </a:t>
            </a:r>
            <a:r>
              <a:rPr b="1" lang="ru-RU" sz="1200" spc="-1" strike="noStrike" u="sng">
                <a:solidFill>
                  <a:srgbClr val="ffff00"/>
                </a:solidFill>
                <a:uFillTx/>
                <a:latin typeface="Calibri"/>
              </a:rPr>
              <a:t>производственного подхода к управлению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, оно превращается в желание «править» или личную корысть вместо «управления» и «организационной деятельности». Власть как таковая устарела, а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процесс управления, </a:t>
            </a:r>
            <a:r>
              <a:rPr b="0" lang="ru-RU" sz="1200" spc="-1" strike="noStrike" u="sng">
                <a:solidFill>
                  <a:srgbClr val="ffff00"/>
                </a:solidFill>
                <a:uFillTx/>
                <a:latin typeface="Calibri"/>
              </a:rPr>
              <a:t>проводимый </a:t>
            </a:r>
            <a:r>
              <a:rPr b="1" lang="ru-RU" sz="1200" spc="-1" strike="noStrike" u="sng">
                <a:solidFill>
                  <a:srgbClr val="ffff00"/>
                </a:solidFill>
                <a:uFillTx/>
                <a:latin typeface="Calibri"/>
              </a:rPr>
              <a:t>за цену</a:t>
            </a:r>
            <a:r>
              <a:rPr b="0" lang="ru-RU" sz="1200" spc="-1" strike="noStrike" u="sng">
                <a:solidFill>
                  <a:srgbClr val="ffff00"/>
                </a:solidFill>
                <a:uFillTx/>
                <a:latin typeface="Calibri"/>
              </a:rPr>
              <a:t>, выраженную в </a:t>
            </a:r>
            <a:r>
              <a:rPr b="1" lang="ru-RU" sz="1200" spc="-1" strike="noStrike" u="sng">
                <a:solidFill>
                  <a:srgbClr val="ffff00"/>
                </a:solidFill>
                <a:uFillTx/>
                <a:latin typeface="Calibri"/>
              </a:rPr>
              <a:t>тарифе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, основанный на ритмичности и планомерности организационного процесса, неуклонно превратится в ОРГАНИЗАЦИОННОЕ ПРОИЗВОДСТВО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Изученный предмет, продукт и результат управленческой деятельности совершенно изменит ее сущность. </a:t>
            </a: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Производство организации </a:t>
            </a:r>
            <a:r>
              <a:rPr b="1" lang="ru-RU" sz="1200" spc="-1" strike="noStrike">
                <a:solidFill>
                  <a:srgbClr val="bfbfbf"/>
                </a:solidFill>
                <a:latin typeface="Calibri"/>
              </a:rPr>
              <a:t>вместо властного паразитизма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Услуга и товарная форма,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границы применимости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00360" y="1356840"/>
            <a:ext cx="450036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Calibri"/>
              </a:rPr>
              <a:t>Нематериальное производство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, или услуги, также составляет затраты экономики в целом.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Примитивный буржуазный подход требует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, чтобы эта отрасль была прибыльной, работала на коммерческой основе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Несусветная глупость – идея получать прибыль в детском саду, школе или библиотеке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; здравоохранение и образование, социальное обеспечение не могут и не должны работать на прибыль;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142560" y="1357200"/>
            <a:ext cx="47862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Отрасли </a:t>
            </a:r>
            <a:r>
              <a:rPr b="1" lang="ru-RU" sz="2000" spc="-1" strike="noStrike">
                <a:solidFill>
                  <a:srgbClr val="ff6600"/>
                </a:solidFill>
                <a:latin typeface="Calibri"/>
              </a:rPr>
              <a:t>Инфраструктуры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, как правило, работают на коммерческой основе;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Услуги данных секторов чаще всего носят </a:t>
            </a: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товарную форму.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Их деятельность обменивается на продукты и другую деятельность внутри отрасли, между отраслями, с материальным и нематериальным производством </a:t>
            </a: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в денежной форме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(или натуральной, если деньги «не работают»). Прибыль и заработная плата здесь только внешне совпадает с тем, как они создаются в МП. Инфраструктура – это затраты в экономике в целом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Calibri"/>
              </a:rPr>
              <a:t>Инфраструктура - единое производство услуг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28760" y="149976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ЭТО В КОНЕЦ???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Calibri"/>
              </a:rPr>
              <a:t>Инфраструктура.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Данная целостность в общественном производстве может сегодня существовать только как совокупность отраслей, объединяющих народное хозяйство во времени и пространстве бесцисленными цепочками перемещения вещества – энергии – информации.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Каждая из отраслей, развиваясь все более и более способствует развитию таких же </a:t>
            </a:r>
            <a:r>
              <a:rPr b="0" lang="ru-RU" sz="2400" spc="-1" strike="noStrike" u="sng">
                <a:solidFill>
                  <a:srgbClr val="ffff00"/>
                </a:solidFill>
                <a:uFillTx/>
                <a:latin typeface="Calibri"/>
              </a:rPr>
              <a:t>сетевых по характеру </a:t>
            </a: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 отраслей инфраструктуры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Инфраструктура – все ближе к крупному машинному производству. Особенно в тех отраслях, которые поднимались вместе с первой промышленной революцией. Например, транспорт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8" descr="recycle"/>
          <p:cNvPicPr/>
          <p:nvPr/>
        </p:nvPicPr>
        <p:blipFill>
          <a:blip r:embed="rId1"/>
          <a:stretch/>
        </p:blipFill>
        <p:spPr>
          <a:xfrm>
            <a:off x="8215200" y="2071800"/>
            <a:ext cx="758880" cy="730080"/>
          </a:xfrm>
          <a:prstGeom prst="rect">
            <a:avLst/>
          </a:prstGeom>
          <a:ln w="0">
            <a:noFill/>
          </a:ln>
        </p:spPr>
      </p:pic>
      <p:sp>
        <p:nvSpPr>
          <p:cNvPr id="20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Услуга. </a:t>
            </a:r>
            <a:r>
              <a:rPr b="0" lang="ru-RU" sz="3600" spc="-1" strike="noStrike">
                <a:solidFill>
                  <a:srgbClr val="ffff00"/>
                </a:solidFill>
                <a:latin typeface="Calibri"/>
              </a:rPr>
              <a:t>Инфраструктура - единое производство услуг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42560" y="1341360"/>
            <a:ext cx="87152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–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совокупность отраслей услуг, они все вместе образуют ее. Отрасль современной экономики, имеющую сетевой, протяженный в пространстве и практически непрерывный во времени характер деятельности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Calibri"/>
              </a:rPr>
              <a:t>Протяженность в пространстве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в виде сети обусловлена самой сутью услуг, технологической особенностью отраслей инфраструктуры. Они должны быть везде одновременно. Так удобнее распределять, распространять, перемещать товары (материальные продукты) или служить людям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Тем самым обеспечивается </a:t>
            </a:r>
            <a:r>
              <a:rPr b="0" lang="ru-RU" sz="2400" spc="-1" strike="noStrike" u="sng">
                <a:solidFill>
                  <a:srgbClr val="ffff00"/>
                </a:solidFill>
                <a:uFillTx/>
                <a:latin typeface="Calibri"/>
              </a:rPr>
              <a:t>максимальная (или оптимальная) скорость оборота товаров и услуг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(продуктов и деятельности). Экономика движется все быстрее и быстрее (а в будущем – рациональнее)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168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85480" y="260280"/>
            <a:ext cx="864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Отрасли инфраструктуры, как важнейшей части всего народного хозяйства имеют ряд объединяющих признаков. Среди них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1) сетевой принцип организации отраслей (сеть услуг охватывает определенную территорию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2) большинство отраслей работает 24 часа в сутки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3) постоянно возрастающее взаимодействие с другими отраслями инфраструктуры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4) растущее взаимодействие с отраслями материального производства и нематериального производства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Если инфраструктура это сеть, работающая круглые сутки на все общественное производства, то для нее должны быть характерными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Левая фигурная скобка 5"/>
          <p:cNvSpPr/>
          <p:nvPr/>
        </p:nvSpPr>
        <p:spPr>
          <a:xfrm rot="16200000">
            <a:off x="4464720" y="-749880"/>
            <a:ext cx="428400" cy="8358120"/>
          </a:xfrm>
          <a:custGeom>
            <a:avLst/>
            <a:gdLst>
              <a:gd name="textAreaLeft" fmla="*/ 273600 w 428400"/>
              <a:gd name="textAreaRight" fmla="*/ 428760 w 428400"/>
              <a:gd name="textAreaTop" fmla="*/ 10800 h 8358120"/>
              <a:gd name="textAreaBottom" fmla="*/ 8347320 h 835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6"/>
                  <a:pt x="10800" y="92"/>
                </a:cubicBezTo>
                <a:lnTo>
                  <a:pt x="10800" y="10718"/>
                </a:lnTo>
                <a:cubicBezTo>
                  <a:pt x="10800" y="10764"/>
                  <a:pt x="5400" y="10810"/>
                  <a:pt x="0" y="10810"/>
                </a:cubicBezTo>
                <a:cubicBezTo>
                  <a:pt x="5400" y="10810"/>
                  <a:pt x="10800" y="10856"/>
                  <a:pt x="10800" y="10902"/>
                </a:cubicBezTo>
                <a:lnTo>
                  <a:pt x="10800" y="21508"/>
                </a:lnTo>
                <a:cubicBezTo>
                  <a:pt x="10800" y="21554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0" y="0"/>
            <a:ext cx="271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00"/>
                </a:solidFill>
                <a:latin typeface="Book Antiqua"/>
              </a:rPr>
              <a:t>Посвящается Борису Ельцин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7"/>
          <p:cNvSpPr/>
          <p:nvPr/>
        </p:nvSpPr>
        <p:spPr>
          <a:xfrm>
            <a:off x="714240" y="4857840"/>
            <a:ext cx="1785960" cy="368280"/>
          </a:xfrm>
          <a:prstGeom prst="rect">
            <a:avLst/>
          </a:prstGeom>
          <a:gradFill rotWithShape="0">
            <a:gsLst>
              <a:gs pos="0">
                <a:srgbClr val="977497"/>
              </a:gs>
              <a:gs pos="100000">
                <a:srgbClr val="ffc8ff"/>
              </a:gs>
            </a:gsLst>
            <a:lin ang="5400000"/>
          </a:gradFill>
          <a:ln w="9360">
            <a:solidFill>
              <a:srgbClr val="ffff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ритмич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8"/>
          <p:cNvSpPr/>
          <p:nvPr/>
        </p:nvSpPr>
        <p:spPr>
          <a:xfrm>
            <a:off x="3214800" y="4857840"/>
            <a:ext cx="2071440" cy="368280"/>
          </a:xfrm>
          <a:prstGeom prst="rect">
            <a:avLst/>
          </a:prstGeom>
          <a:gradFill rotWithShape="0">
            <a:gsLst>
              <a:gs pos="0">
                <a:srgbClr val="977497"/>
              </a:gs>
              <a:gs pos="100000">
                <a:srgbClr val="ffc8ff"/>
              </a:gs>
            </a:gsLst>
            <a:lin ang="5400000"/>
          </a:gradFill>
          <a:ln w="9360">
            <a:solidFill>
              <a:srgbClr val="ffff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планомер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9"/>
          <p:cNvSpPr/>
          <p:nvPr/>
        </p:nvSpPr>
        <p:spPr>
          <a:xfrm>
            <a:off x="5929200" y="4857840"/>
            <a:ext cx="2786040" cy="368280"/>
          </a:xfrm>
          <a:prstGeom prst="rect">
            <a:avLst/>
          </a:prstGeom>
          <a:gradFill rotWithShape="0">
            <a:gsLst>
              <a:gs pos="0">
                <a:srgbClr val="977497"/>
              </a:gs>
              <a:gs pos="100000">
                <a:srgbClr val="ffc8ff"/>
              </a:gs>
            </a:gsLst>
            <a:lin ang="5400000"/>
          </a:gradFill>
          <a:ln w="9360">
            <a:solidFill>
              <a:srgbClr val="ffff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пропорциона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Прямая со стрелкой 11"/>
          <p:cNvCxnSpPr>
            <a:stCxn id="58" idx="3"/>
            <a:endCxn id="59" idx="1"/>
          </p:cNvCxnSpPr>
          <p:nvPr/>
        </p:nvCxnSpPr>
        <p:spPr>
          <a:xfrm>
            <a:off x="2499840" y="5041440"/>
            <a:ext cx="715320" cy="2520"/>
          </a:xfrm>
          <a:prstGeom prst="straightConnector1">
            <a:avLst/>
          </a:prstGeom>
          <a:ln w="28440">
            <a:solidFill>
              <a:srgbClr val="ffff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2" name="Прямая со стрелкой 13"/>
          <p:cNvCxnSpPr>
            <a:stCxn id="59" idx="3"/>
            <a:endCxn id="60" idx="1"/>
          </p:cNvCxnSpPr>
          <p:nvPr/>
        </p:nvCxnSpPr>
        <p:spPr>
          <a:xfrm>
            <a:off x="5286240" y="5041440"/>
            <a:ext cx="643320" cy="2520"/>
          </a:xfrm>
          <a:prstGeom prst="straightConnector1">
            <a:avLst/>
          </a:prstGeom>
          <a:ln w="28440">
            <a:solidFill>
              <a:srgbClr val="ffff00"/>
            </a:solidFill>
            <a:miter/>
            <a:headEnd len="med" type="arrow" w="med"/>
            <a:tailEnd len="med" type="arrow" w="med"/>
          </a:ln>
        </p:spPr>
      </p:cxnSp>
      <p:sp>
        <p:nvSpPr>
          <p:cNvPr id="6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Группа 18"/>
          <p:cNvGrpSpPr/>
          <p:nvPr/>
        </p:nvGrpSpPr>
        <p:grpSpPr>
          <a:xfrm>
            <a:off x="3500280" y="142920"/>
            <a:ext cx="5643720" cy="2579760"/>
            <a:chOff x="3500280" y="142920"/>
            <a:chExt cx="5643720" cy="2579760"/>
          </a:xfrm>
        </p:grpSpPr>
        <p:pic>
          <p:nvPicPr>
            <p:cNvPr id="65" name="Рисунок 16" descr="photo_rev_oct_17.jpg"/>
            <p:cNvPicPr/>
            <p:nvPr/>
          </p:nvPicPr>
          <p:blipFill>
            <a:blip r:embed="rId1"/>
            <a:srcRect l="14064" t="0" r="9375" b="11706"/>
            <a:stretch/>
          </p:blipFill>
          <p:spPr>
            <a:xfrm>
              <a:off x="3500280" y="142920"/>
              <a:ext cx="5643720" cy="2547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6" name="Группа 10"/>
            <p:cNvGrpSpPr/>
            <p:nvPr/>
          </p:nvGrpSpPr>
          <p:grpSpPr>
            <a:xfrm>
              <a:off x="3632400" y="203040"/>
              <a:ext cx="5311080" cy="2244600"/>
              <a:chOff x="3632400" y="203040"/>
              <a:chExt cx="5311080" cy="2244600"/>
            </a:xfrm>
          </p:grpSpPr>
          <p:sp>
            <p:nvSpPr>
              <p:cNvPr id="67" name="Выгнутая вверх стрелка 5"/>
              <p:cNvSpPr/>
              <p:nvPr/>
            </p:nvSpPr>
            <p:spPr>
              <a:xfrm rot="5400000">
                <a:off x="6978240" y="482040"/>
                <a:ext cx="2109240" cy="1821240"/>
              </a:xfrm>
              <a:custGeom>
                <a:avLst/>
                <a:gdLst>
                  <a:gd name="textAreaLeft" fmla="*/ 363600 w 2109240"/>
                  <a:gd name="textAreaRight" fmla="*/ 1486800 w 2109240"/>
                  <a:gd name="textAreaTop" fmla="*/ 243720 h 1821240"/>
                  <a:gd name="textAreaBottom" fmla="*/ 1577520 h 1821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447" hR="21600" stAng="10800000" swAng="5400000"/>
                    <a:lnTo>
                      <a:pt x="11502" y="0"/>
                    </a:lnTo>
                    <a:arcTo wR="7447" hR="21600" stAng="-5400000" swAng="3190216"/>
                    <a:lnTo>
                      <a:pt x="21364" y="16200"/>
                    </a:lnTo>
                    <a:lnTo>
                      <a:pt x="16922" y="21600"/>
                    </a:lnTo>
                    <a:lnTo>
                      <a:pt x="12007" y="16200"/>
                    </a:lnTo>
                    <a:lnTo>
                      <a:pt x="14658" y="16200"/>
                    </a:lnTo>
                    <a:arcTo wR="7447" hR="21600" stAng="-2209784" swAng="-2855919"/>
                    <a:lnTo>
                      <a:pt x="9475" y="816"/>
                    </a:lnTo>
                    <a:arcTo wR="7447" hR="21600" stAng="-5734297" swAng="-5065703"/>
                    <a:close/>
                  </a:path>
                  <a:path fill="darkenLess" w="21600" h="21600">
                    <a:moveTo>
                      <a:pt x="0" y="21600"/>
                    </a:moveTo>
                    <a:arcTo wR="7447" hR="21600" stAng="10800000" swAng="5400000"/>
                    <a:lnTo>
                      <a:pt x="7447" y="0"/>
                    </a:lnTo>
                    <a:arcTo wR="7447" hR="21600" stAng="-5400000" swAng="334297"/>
                    <a:lnTo>
                      <a:pt x="9475" y="816"/>
                    </a:lnTo>
                    <a:arcTo wR="7447" hR="21600" stAng="-5734297" swAng="-5065703"/>
                    <a:close/>
                  </a:path>
                </a:pathLst>
              </a:custGeom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" name="Овал 6"/>
              <p:cNvGrpSpPr/>
              <p:nvPr/>
            </p:nvGrpSpPr>
            <p:grpSpPr>
              <a:xfrm>
                <a:off x="5360400" y="471240"/>
                <a:ext cx="1775880" cy="1713960"/>
                <a:chOff x="5360400" y="471240"/>
                <a:chExt cx="1775880" cy="1713960"/>
              </a:xfrm>
            </p:grpSpPr>
            <p:pic>
              <p:nvPicPr>
                <p:cNvPr id="69" name="Овал 6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60400" y="471240"/>
                  <a:ext cx="1775880" cy="1713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0" name=""/>
                <p:cNvSpPr/>
                <p:nvPr/>
              </p:nvSpPr>
              <p:spPr>
                <a:xfrm rot="5400000">
                  <a:off x="5648760" y="708120"/>
                  <a:ext cx="1193400" cy="123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" name="Выгнутая вверх стрелка 9"/>
              <p:cNvSpPr/>
              <p:nvPr/>
            </p:nvSpPr>
            <p:spPr>
              <a:xfrm flipH="1" flipV="1" rot="5400000">
                <a:off x="3408840" y="425880"/>
                <a:ext cx="2118600" cy="1671840"/>
              </a:xfrm>
              <a:custGeom>
                <a:avLst/>
                <a:gdLst>
                  <a:gd name="textAreaLeft" fmla="*/ 381960 w 2118600"/>
                  <a:gd name="textAreaRight" fmla="*/ 1510920 w 2118600"/>
                  <a:gd name="textAreaTop" fmla="*/ 223920 h 1671840"/>
                  <a:gd name="textAreaBottom" fmla="*/ 1447920 h 1671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800" hR="21600" stAng="10800000" swAng="5400000"/>
                    <a:lnTo>
                      <a:pt x="11506" y="0"/>
                    </a:lnTo>
                    <a:arcTo wR="7800" hR="21600" stAng="-5400000" swAng="3266086"/>
                    <a:lnTo>
                      <a:pt x="21352" y="16200"/>
                    </a:lnTo>
                    <a:lnTo>
                      <a:pt x="17453" y="21600"/>
                    </a:lnTo>
                    <a:lnTo>
                      <a:pt x="13058" y="16200"/>
                    </a:lnTo>
                    <a:lnTo>
                      <a:pt x="15352" y="16200"/>
                    </a:lnTo>
                    <a:arcTo wR="7800" hR="21600" stAng="-2133914" swAng="-2963266"/>
                    <a:lnTo>
                      <a:pt x="9653" y="618"/>
                    </a:lnTo>
                    <a:arcTo wR="7800" hR="21600" stAng="-5702820" swAng="-5097180"/>
                    <a:close/>
                  </a:path>
                  <a:path fill="darkenLess" w="21600" h="21600">
                    <a:moveTo>
                      <a:pt x="0" y="21600"/>
                    </a:moveTo>
                    <a:arcTo wR="7800" hR="21600" stAng="10800000" swAng="5400000"/>
                    <a:lnTo>
                      <a:pt x="7800" y="0"/>
                    </a:lnTo>
                    <a:arcTo wR="7800" hR="21600" stAng="-5400000" swAng="302820"/>
                    <a:lnTo>
                      <a:pt x="9653" y="618"/>
                    </a:lnTo>
                    <a:arcTo wR="7800" hR="21600" stAng="-5702820" swAng="-5097180"/>
                    <a:close/>
                  </a:path>
                </a:pathLst>
              </a:custGeom>
              <a:gradFill rotWithShape="0">
                <a:gsLst>
                  <a:gs pos="0">
                    <a:srgbClr val="ddebcf"/>
                  </a:gs>
                  <a:gs pos="100000">
                    <a:srgbClr val="156b13"/>
                  </a:gs>
                </a:gsLst>
                <a:lin ang="5400000"/>
              </a:gra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2" name="Прямоугольник 11" descr=""/>
            <p:cNvPicPr/>
            <p:nvPr/>
          </p:nvPicPr>
          <p:blipFill>
            <a:blip r:embed="rId3"/>
            <a:stretch/>
          </p:blipFill>
          <p:spPr>
            <a:xfrm>
              <a:off x="5425200" y="730080"/>
              <a:ext cx="1621440" cy="139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Прямоугольник 12" descr=""/>
            <p:cNvPicPr/>
            <p:nvPr/>
          </p:nvPicPr>
          <p:blipFill>
            <a:blip r:embed="rId4"/>
            <a:stretch/>
          </p:blipFill>
          <p:spPr>
            <a:xfrm>
              <a:off x="3834000" y="380880"/>
              <a:ext cx="1621440" cy="57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Прямоугольник 14" descr=""/>
            <p:cNvPicPr/>
            <p:nvPr/>
          </p:nvPicPr>
          <p:blipFill>
            <a:blip r:embed="rId5"/>
            <a:stretch/>
          </p:blipFill>
          <p:spPr>
            <a:xfrm>
              <a:off x="7016400" y="1711440"/>
              <a:ext cx="1926360" cy="57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Прямоугольник 17" descr=""/>
            <p:cNvPicPr/>
            <p:nvPr/>
          </p:nvPicPr>
          <p:blipFill>
            <a:blip r:embed="rId6"/>
            <a:stretch/>
          </p:blipFill>
          <p:spPr>
            <a:xfrm>
              <a:off x="4023000" y="2144880"/>
              <a:ext cx="4956480" cy="577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4200" y="6428880"/>
            <a:ext cx="328608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0" y="142560"/>
            <a:ext cx="428616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 КАК БЫ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«СШИВАЕТ» ОБЩЕСТВЕННОЕ ПРОИЗВОДСТВО В ЕДИНОЕ ЦЕЛОЕ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Каждая из отраслей Инфраструктуры имеет свои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Фабрики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по оказанию услуг.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Торговля – магазины; Финансы – банки и финансовые институты; Связь – передатчики, ретрансляторы и даже кабели и почтовые отделения; Энергетика – электростанции, распределительные и прочие станции, сети; ИП – телевидение, радио, издательства, киностудии; Транспорт – дороги, порты, аэропорты, водные и морские пути, трубопроводы, транспортные средства;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Чем современнее и совершеннее техника, тем больше скорость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оборота товаров и услуг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(</a:t>
            </a:r>
            <a:r>
              <a:rPr b="0" lang="ru-RU" sz="1800" spc="-1" strike="noStrike">
                <a:solidFill>
                  <a:srgbClr val="ff6600"/>
                </a:solidFill>
                <a:latin typeface="Calibri"/>
              </a:rPr>
              <a:t>скорость движения вещества, энергии и информации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в мировой экономике).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5071680" y="3928680"/>
            <a:ext cx="2714760" cy="2428920"/>
          </a:xfrm>
          <a:prstGeom prst="rect">
            <a:avLst/>
          </a:prstGeom>
          <a:blipFill rotWithShape="0">
            <a:blip r:embed="rId7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ааааа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Группа 18"/>
          <p:cNvGrpSpPr/>
          <p:nvPr/>
        </p:nvGrpSpPr>
        <p:grpSpPr>
          <a:xfrm>
            <a:off x="3500280" y="142920"/>
            <a:ext cx="5643720" cy="2579760"/>
            <a:chOff x="3500280" y="142920"/>
            <a:chExt cx="5643720" cy="2579760"/>
          </a:xfrm>
        </p:grpSpPr>
        <p:pic>
          <p:nvPicPr>
            <p:cNvPr id="82" name="Рисунок 16" descr="photo_rev_oct_17.jpg"/>
            <p:cNvPicPr/>
            <p:nvPr/>
          </p:nvPicPr>
          <p:blipFill>
            <a:blip r:embed="rId1"/>
            <a:srcRect l="14064" t="0" r="9375" b="11706"/>
            <a:stretch/>
          </p:blipFill>
          <p:spPr>
            <a:xfrm>
              <a:off x="3500280" y="142920"/>
              <a:ext cx="5643720" cy="2547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3" name="Группа 10"/>
            <p:cNvGrpSpPr/>
            <p:nvPr/>
          </p:nvGrpSpPr>
          <p:grpSpPr>
            <a:xfrm>
              <a:off x="3632400" y="203040"/>
              <a:ext cx="5311080" cy="2244600"/>
              <a:chOff x="3632400" y="203040"/>
              <a:chExt cx="5311080" cy="2244600"/>
            </a:xfrm>
          </p:grpSpPr>
          <p:sp>
            <p:nvSpPr>
              <p:cNvPr id="84" name="Выгнутая вверх стрелка 5"/>
              <p:cNvSpPr/>
              <p:nvPr/>
            </p:nvSpPr>
            <p:spPr>
              <a:xfrm rot="5400000">
                <a:off x="6978240" y="482040"/>
                <a:ext cx="2109240" cy="1821240"/>
              </a:xfrm>
              <a:custGeom>
                <a:avLst/>
                <a:gdLst>
                  <a:gd name="textAreaLeft" fmla="*/ 363600 w 2109240"/>
                  <a:gd name="textAreaRight" fmla="*/ 1486800 w 2109240"/>
                  <a:gd name="textAreaTop" fmla="*/ 243720 h 1821240"/>
                  <a:gd name="textAreaBottom" fmla="*/ 1577520 h 1821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447" hR="21600" stAng="10800000" swAng="5400000"/>
                    <a:lnTo>
                      <a:pt x="11502" y="0"/>
                    </a:lnTo>
                    <a:arcTo wR="7447" hR="21600" stAng="-5400000" swAng="3190216"/>
                    <a:lnTo>
                      <a:pt x="21364" y="16200"/>
                    </a:lnTo>
                    <a:lnTo>
                      <a:pt x="16922" y="21600"/>
                    </a:lnTo>
                    <a:lnTo>
                      <a:pt x="12007" y="16200"/>
                    </a:lnTo>
                    <a:lnTo>
                      <a:pt x="14658" y="16200"/>
                    </a:lnTo>
                    <a:arcTo wR="7447" hR="21600" stAng="-2209784" swAng="-2855919"/>
                    <a:lnTo>
                      <a:pt x="9475" y="816"/>
                    </a:lnTo>
                    <a:arcTo wR="7447" hR="21600" stAng="-5734297" swAng="-5065703"/>
                    <a:close/>
                  </a:path>
                  <a:path fill="darkenLess" w="21600" h="21600">
                    <a:moveTo>
                      <a:pt x="0" y="21600"/>
                    </a:moveTo>
                    <a:arcTo wR="7447" hR="21600" stAng="10800000" swAng="5400000"/>
                    <a:lnTo>
                      <a:pt x="7447" y="0"/>
                    </a:lnTo>
                    <a:arcTo wR="7447" hR="21600" stAng="-5400000" swAng="334297"/>
                    <a:lnTo>
                      <a:pt x="9475" y="816"/>
                    </a:lnTo>
                    <a:arcTo wR="7447" hR="21600" stAng="-5734297" swAng="-5065703"/>
                    <a:close/>
                  </a:path>
                </a:pathLst>
              </a:custGeom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" name="Овал 6"/>
              <p:cNvGrpSpPr/>
              <p:nvPr/>
            </p:nvGrpSpPr>
            <p:grpSpPr>
              <a:xfrm>
                <a:off x="5360400" y="471240"/>
                <a:ext cx="1775880" cy="1713960"/>
                <a:chOff x="5360400" y="471240"/>
                <a:chExt cx="1775880" cy="1713960"/>
              </a:xfrm>
            </p:grpSpPr>
            <p:pic>
              <p:nvPicPr>
                <p:cNvPr id="86" name="Овал 6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60400" y="471240"/>
                  <a:ext cx="1775880" cy="1713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" name=""/>
                <p:cNvSpPr/>
                <p:nvPr/>
              </p:nvSpPr>
              <p:spPr>
                <a:xfrm rot="5400000">
                  <a:off x="5648760" y="708120"/>
                  <a:ext cx="1193400" cy="123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" name="Выгнутая вверх стрелка 9"/>
              <p:cNvSpPr/>
              <p:nvPr/>
            </p:nvSpPr>
            <p:spPr>
              <a:xfrm flipH="1" flipV="1" rot="5400000">
                <a:off x="3408840" y="425880"/>
                <a:ext cx="2118600" cy="1671840"/>
              </a:xfrm>
              <a:custGeom>
                <a:avLst/>
                <a:gdLst>
                  <a:gd name="textAreaLeft" fmla="*/ 381960 w 2118600"/>
                  <a:gd name="textAreaRight" fmla="*/ 1510920 w 2118600"/>
                  <a:gd name="textAreaTop" fmla="*/ 223920 h 1671840"/>
                  <a:gd name="textAreaBottom" fmla="*/ 1447920 h 1671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800" hR="21600" stAng="10800000" swAng="5400000"/>
                    <a:lnTo>
                      <a:pt x="11506" y="0"/>
                    </a:lnTo>
                    <a:arcTo wR="7800" hR="21600" stAng="-5400000" swAng="3266086"/>
                    <a:lnTo>
                      <a:pt x="21352" y="16200"/>
                    </a:lnTo>
                    <a:lnTo>
                      <a:pt x="17453" y="21600"/>
                    </a:lnTo>
                    <a:lnTo>
                      <a:pt x="13058" y="16200"/>
                    </a:lnTo>
                    <a:lnTo>
                      <a:pt x="15352" y="16200"/>
                    </a:lnTo>
                    <a:arcTo wR="7800" hR="21600" stAng="-2133914" swAng="-2963266"/>
                    <a:lnTo>
                      <a:pt x="9653" y="618"/>
                    </a:lnTo>
                    <a:arcTo wR="7800" hR="21600" stAng="-5702820" swAng="-5097180"/>
                    <a:close/>
                  </a:path>
                  <a:path fill="darkenLess" w="21600" h="21600">
                    <a:moveTo>
                      <a:pt x="0" y="21600"/>
                    </a:moveTo>
                    <a:arcTo wR="7800" hR="21600" stAng="10800000" swAng="5400000"/>
                    <a:lnTo>
                      <a:pt x="7800" y="0"/>
                    </a:lnTo>
                    <a:arcTo wR="7800" hR="21600" stAng="-5400000" swAng="302820"/>
                    <a:lnTo>
                      <a:pt x="9653" y="618"/>
                    </a:lnTo>
                    <a:arcTo wR="7800" hR="21600" stAng="-5702820" swAng="-5097180"/>
                    <a:close/>
                  </a:path>
                </a:pathLst>
              </a:custGeom>
              <a:gradFill rotWithShape="0">
                <a:gsLst>
                  <a:gs pos="0">
                    <a:srgbClr val="ddebcf"/>
                  </a:gs>
                  <a:gs pos="100000">
                    <a:srgbClr val="156b13"/>
                  </a:gs>
                </a:gsLst>
                <a:lin ang="5400000"/>
              </a:gra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9" name="Прямоугольник 11" descr=""/>
            <p:cNvPicPr/>
            <p:nvPr/>
          </p:nvPicPr>
          <p:blipFill>
            <a:blip r:embed="rId3"/>
            <a:stretch/>
          </p:blipFill>
          <p:spPr>
            <a:xfrm>
              <a:off x="5425200" y="730080"/>
              <a:ext cx="1621440" cy="139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Прямоугольник 12" descr=""/>
            <p:cNvPicPr/>
            <p:nvPr/>
          </p:nvPicPr>
          <p:blipFill>
            <a:blip r:embed="rId4"/>
            <a:stretch/>
          </p:blipFill>
          <p:spPr>
            <a:xfrm>
              <a:off x="3834000" y="380880"/>
              <a:ext cx="1621440" cy="57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Прямоугольник 14" descr=""/>
            <p:cNvPicPr/>
            <p:nvPr/>
          </p:nvPicPr>
          <p:blipFill>
            <a:blip r:embed="rId5"/>
            <a:stretch/>
          </p:blipFill>
          <p:spPr>
            <a:xfrm>
              <a:off x="7016400" y="1711440"/>
              <a:ext cx="1926360" cy="57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Прямоугольник 17" descr=""/>
            <p:cNvPicPr/>
            <p:nvPr/>
          </p:nvPicPr>
          <p:blipFill>
            <a:blip r:embed="rId6"/>
            <a:stretch/>
          </p:blipFill>
          <p:spPr>
            <a:xfrm>
              <a:off x="4023000" y="2144880"/>
              <a:ext cx="4956480" cy="577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4200" y="6428880"/>
            <a:ext cx="328608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0" y="142560"/>
            <a:ext cx="428616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 КАК БЫ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«СШИВАЕТ» ОБЩЕСТВЕННОЕ ПРОИЗВОДСТВО В ЕДИНОЕ ЦЕЛОЕ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Каждая из отраслей Инфраструктуры имеет свои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Фабрики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по оказанию услуг.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Торговля – магазины; Финансы – банки и финансовые институты; Связь – передатчики, ретрансляторы и даже кабели и почтовые отделения; Энергетика – электростанции, распределительные и прочие станции, сети; ИП – телевидение, радио, издательства, киностудии; Транспорт – дороги, порты, аэропорты, водные и морские пути, трубопроводы, транспортные средства;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Чем современнее и совершеннее техника, тем больше скорость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оборота товаров и услуг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(</a:t>
            </a:r>
            <a:r>
              <a:rPr b="0" lang="ru-RU" sz="1800" spc="-1" strike="noStrike">
                <a:solidFill>
                  <a:srgbClr val="ff6600"/>
                </a:solidFill>
                <a:latin typeface="Calibri"/>
              </a:rPr>
              <a:t>скорость движения вещества, энергии и информации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в мировой экономике).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071680" y="3928680"/>
            <a:ext cx="2714760" cy="2428920"/>
          </a:xfrm>
          <a:prstGeom prst="rect">
            <a:avLst/>
          </a:prstGeom>
          <a:blipFill rotWithShape="0">
            <a:blip r:embed="rId7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ааааа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4200" y="6428880"/>
            <a:ext cx="328608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0" y="142560"/>
            <a:ext cx="428616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 КАК БЫ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«СШИВАЕТ» ОБЩЕСТВЕННОЕ ПРОИЗВОДСТВО В ЕДИНОЕ ЦЕЛОЕ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Каждая из отраслей Инфраструктуры имеет свои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Фабрики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по оказанию услуг.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Торговля – магазины; Финансы – банки и финансовые институты; Связь – передатчики, ретрансляторы и даже кабели и почтовые отделения; Энергетика – электростанции, распределительные и прочие станции, сети; ИП – телевидение, радио, издательства, киностудии; Транспорт – дороги, порты, аэропорты, водные и морские пути, трубопроводы, транспортные средства;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Чем современнее и совершеннее техника, тем больше скорость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оборота товаров и услуг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(</a:t>
            </a:r>
            <a:r>
              <a:rPr b="0" lang="ru-RU" sz="1800" spc="-1" strike="noStrike">
                <a:solidFill>
                  <a:srgbClr val="ff6600"/>
                </a:solidFill>
                <a:latin typeface="Calibri"/>
              </a:rPr>
              <a:t>скорость движения вещества, энергии и информации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в мировой экономике).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00720" y="285840"/>
            <a:ext cx="464328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 – среда общественного организма (создается с пом. МП, И, НП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Ч – человек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реда – условно неподвижнаа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И – «оживляет ее , с помощью Ч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Ч – приводит в движение С с помощью Ч и НП, а также формирует Среду с помощью Ч и НП!!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р – основной продукт МП; МП. НП, НП – инструменты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Ч – основной продукт НП; МП, НП и И – инструменты «производства Ч»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41"/>
          <p:cNvGrpSpPr/>
          <p:nvPr/>
        </p:nvGrpSpPr>
        <p:grpSpPr>
          <a:xfrm>
            <a:off x="285840" y="2000160"/>
            <a:ext cx="4200480" cy="4324320"/>
            <a:chOff x="285840" y="2000160"/>
            <a:chExt cx="4200480" cy="4324320"/>
          </a:xfrm>
        </p:grpSpPr>
        <p:sp>
          <p:nvSpPr>
            <p:cNvPr id="103" name="AutoShape 2"/>
            <p:cNvSpPr/>
            <p:nvPr/>
          </p:nvSpPr>
          <p:spPr>
            <a:xfrm>
              <a:off x="285840" y="2000160"/>
              <a:ext cx="4200480" cy="4185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2d69b"/>
                </a:gs>
                <a:gs pos="50000">
                  <a:srgbClr val="9bbb59"/>
                </a:gs>
                <a:gs pos="100000">
                  <a:srgbClr val="c2d69b"/>
                </a:gs>
              </a:gsLst>
              <a:lin ang="5400000"/>
            </a:gradFill>
            <a:ln w="12600">
              <a:solidFill>
                <a:srgbClr val="9bbb59"/>
              </a:solidFill>
              <a:miter/>
            </a:ln>
            <a:effectLst>
              <a:outerShdw dist="17819" dir="2700000" blurRad="0" rotWithShape="0">
                <a:srgbClr val="4e612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3"/>
            <p:cNvSpPr/>
            <p:nvPr/>
          </p:nvSpPr>
          <p:spPr>
            <a:xfrm>
              <a:off x="636480" y="2304720"/>
              <a:ext cx="3562560" cy="1732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9999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abf8f"/>
              </a:solidFill>
              <a:miter/>
            </a:ln>
            <a:effectLst>
              <a:outerShdw dist="17819" dir="2700000" blurRad="0" rotWithShape="0">
                <a:srgbClr val="97470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4"/>
            <p:cNvSpPr/>
            <p:nvPr/>
          </p:nvSpPr>
          <p:spPr>
            <a:xfrm>
              <a:off x="636480" y="4088160"/>
              <a:ext cx="3562560" cy="1655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5b8b7"/>
                </a:gs>
              </a:gsLst>
              <a:lin ang="5400000"/>
            </a:gradFill>
            <a:ln w="12600">
              <a:solidFill>
                <a:srgbClr val="d99594"/>
              </a:solidFill>
              <a:miter/>
            </a:ln>
            <a:effectLst>
              <a:outerShdw dist="17819" dir="2700000" blurRad="0" rotWithShape="0">
                <a:srgbClr val="6224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5"/>
            <p:cNvSpPr/>
            <p:nvPr/>
          </p:nvSpPr>
          <p:spPr>
            <a:xfrm>
              <a:off x="1954080" y="3251160"/>
              <a:ext cx="776160" cy="7185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365e8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7819" dir="2700000" blurRad="0" rotWithShape="0">
                <a:srgbClr val="243f6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6"/>
            <p:cNvSpPr/>
            <p:nvPr/>
          </p:nvSpPr>
          <p:spPr>
            <a:xfrm>
              <a:off x="2000160" y="4088160"/>
              <a:ext cx="749160" cy="738360"/>
            </a:xfrm>
            <a:prstGeom prst="ellipse">
              <a:avLst/>
            </a:prstGeom>
            <a:gradFill rotWithShape="0">
              <a:gsLst>
                <a:gs pos="0">
                  <a:srgbClr val="c0504d"/>
                </a:gs>
                <a:gs pos="100000">
                  <a:srgbClr val="9236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7819" dir="2700000" blurRad="0" rotWithShape="0">
                <a:srgbClr val="62242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7"/>
            <p:cNvSpPr/>
            <p:nvPr/>
          </p:nvSpPr>
          <p:spPr>
            <a:xfrm flipH="1" rot="10654800">
              <a:off x="1382040" y="3389400"/>
              <a:ext cx="587160" cy="1247760"/>
            </a:xfrm>
            <a:custGeom>
              <a:avLst/>
              <a:gdLst>
                <a:gd name="textAreaLeft" fmla="*/ 78480 w 587160"/>
                <a:gd name="textAreaRight" fmla="*/ 508680 w 587160"/>
                <a:gd name="textAreaTop" fmla="*/ 210960 h 1247760"/>
                <a:gd name="textAreaBottom" fmla="*/ 902160 h 1247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309" stAng="-5400000" swAng="-5400000"/>
                  <a:lnTo>
                    <a:pt x="0" y="11964"/>
                  </a:lnTo>
                  <a:arcTo wR="21600" hR="7309" stAng="10800000" swAng="-2624506"/>
                  <a:lnTo>
                    <a:pt x="14400" y="21182"/>
                  </a:lnTo>
                  <a:lnTo>
                    <a:pt x="21600" y="16945"/>
                  </a:lnTo>
                  <a:lnTo>
                    <a:pt x="14400" y="11871"/>
                  </a:lnTo>
                  <a:lnTo>
                    <a:pt x="14400" y="14199"/>
                  </a:lnTo>
                  <a:arcTo wR="21600" hR="7309" stAng="8175494" swAng="2235398"/>
                  <a:lnTo>
                    <a:pt x="1125" y="9636"/>
                  </a:lnTo>
                  <a:arcTo wR="21600" hR="7309" stAng="-10410891" swAng="5010891"/>
                  <a:close/>
                </a:path>
                <a:path fill="darkenLess" w="21600" h="21600">
                  <a:moveTo>
                    <a:pt x="21600" y="0"/>
                  </a:moveTo>
                  <a:arcTo wR="21600" hR="7309" stAng="-5400000" swAng="-5400000"/>
                  <a:lnTo>
                    <a:pt x="0" y="7309"/>
                  </a:lnTo>
                  <a:arcTo wR="21600" hR="7309" stAng="10800000" swAng="-389109"/>
                  <a:lnTo>
                    <a:pt x="1125" y="9636"/>
                  </a:lnTo>
                  <a:arcTo wR="21600" hR="7309" stAng="-10410891" swAng="5010891"/>
                  <a:close/>
                </a:path>
              </a:pathLst>
            </a:custGeom>
            <a:gradFill rotWithShape="0">
              <a:gsLst>
                <a:gs pos="0">
                  <a:srgbClr val="d99594"/>
                </a:gs>
                <a:gs pos="50000">
                  <a:srgbClr val="c0504d"/>
                </a:gs>
                <a:gs pos="100000">
                  <a:srgbClr val="d99594"/>
                </a:gs>
              </a:gsLst>
              <a:lin ang="5400000"/>
            </a:gradFill>
            <a:ln w="12600">
              <a:solidFill>
                <a:srgbClr val="c0504d"/>
              </a:solidFill>
              <a:miter/>
            </a:ln>
            <a:effectLst>
              <a:outerShdw dist="17819" dir="2700000" blurRad="0" rotWithShape="0">
                <a:srgbClr val="62242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AutoShape 8"/>
            <p:cNvSpPr/>
            <p:nvPr/>
          </p:nvSpPr>
          <p:spPr>
            <a:xfrm>
              <a:off x="2746440" y="3458880"/>
              <a:ext cx="564840" cy="1213920"/>
            </a:xfrm>
            <a:custGeom>
              <a:avLst/>
              <a:gdLst>
                <a:gd name="textAreaLeft" fmla="*/ 75600 w 564840"/>
                <a:gd name="textAreaRight" fmla="*/ 489240 w 564840"/>
                <a:gd name="textAreaTop" fmla="*/ 201960 h 1213920"/>
                <a:gd name="textAreaBottom" fmla="*/ 876600 h 1213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192" stAng="-5400000" swAng="5400000"/>
                  <a:lnTo>
                    <a:pt x="21600" y="12003"/>
                  </a:lnTo>
                  <a:arcTo wR="21600" hR="7192" stAng="0" swAng="2596805"/>
                  <a:lnTo>
                    <a:pt x="7200" y="21189"/>
                  </a:lnTo>
                  <a:lnTo>
                    <a:pt x="0" y="16789"/>
                  </a:lnTo>
                  <a:lnTo>
                    <a:pt x="7200" y="11566"/>
                  </a:lnTo>
                  <a:lnTo>
                    <a:pt x="7200" y="13972"/>
                  </a:lnTo>
                  <a:arcTo wR="21600" hR="7192" stAng="2596805" swAng="-2192432"/>
                  <a:lnTo>
                    <a:pt x="20356" y="9597"/>
                  </a:lnTo>
                  <a:arcTo wR="21600" hR="7192" stAng="-404372" swAng="-4995628"/>
                  <a:close/>
                </a:path>
                <a:path fill="darkenLess" w="21600" h="21600">
                  <a:moveTo>
                    <a:pt x="0" y="0"/>
                  </a:moveTo>
                  <a:arcTo wR="21600" hR="7192" stAng="-5400000" swAng="5400000"/>
                  <a:lnTo>
                    <a:pt x="21600" y="12003"/>
                  </a:lnTo>
                  <a:arcTo wR="21600" hR="7192" stAng="0" swAng="-404372"/>
                  <a:lnTo>
                    <a:pt x="20356" y="9597"/>
                  </a:lnTo>
                  <a:arcTo wR="21600" hR="7192" stAng="-404372" swAng="-4995628"/>
                  <a:close/>
                </a:path>
              </a:pathLst>
            </a:custGeom>
            <a:gradFill rotWithShape="0">
              <a:gsLst>
                <a:gs pos="0">
                  <a:srgbClr val="95b3d7"/>
                </a:gs>
                <a:gs pos="50000">
                  <a:srgbClr val="4f81bd"/>
                </a:gs>
                <a:gs pos="100000">
                  <a:srgbClr val="95b3d7"/>
                </a:gs>
              </a:gsLst>
              <a:lin ang="5400000"/>
            </a:gradFill>
            <a:ln w="12600">
              <a:solidFill>
                <a:srgbClr val="4f81bd"/>
              </a:solidFill>
              <a:miter/>
            </a:ln>
            <a:effectLst>
              <a:outerShdw dist="17819" dir="2700000" blurRad="0" rotWithShape="0">
                <a:srgbClr val="243f6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9"/>
            <p:cNvSpPr/>
            <p:nvPr/>
          </p:nvSpPr>
          <p:spPr>
            <a:xfrm>
              <a:off x="922320" y="2423160"/>
              <a:ext cx="2879640" cy="449280"/>
            </a:xfrm>
            <a:prstGeom prst="rect">
              <a:avLst/>
            </a:prstGeom>
            <a:gradFill rotWithShape="0">
              <a:gsLst>
                <a:gs pos="0">
                  <a:srgbClr val="d99594"/>
                </a:gs>
                <a:gs pos="50000">
                  <a:srgbClr val="f2dbdb"/>
                </a:gs>
                <a:gs pos="100000">
                  <a:srgbClr val="d99594"/>
                </a:gs>
              </a:gsLst>
              <a:lin ang="18900000"/>
            </a:gradFill>
            <a:ln w="12600">
              <a:solidFill>
                <a:srgbClr val="d99594"/>
              </a:solidFill>
              <a:miter/>
            </a:ln>
            <a:effectLst>
              <a:outerShdw dist="17819" dir="2700000" blurRad="0" rotWithShape="0">
                <a:srgbClr val="6224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Материальное производств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10"/>
            <p:cNvSpPr/>
            <p:nvPr/>
          </p:nvSpPr>
          <p:spPr>
            <a:xfrm>
              <a:off x="954000" y="5259240"/>
              <a:ext cx="2865600" cy="436680"/>
            </a:xfrm>
            <a:prstGeom prst="rect">
              <a:avLst/>
            </a:prstGeom>
            <a:gradFill rotWithShape="0">
              <a:gsLst>
                <a:gs pos="0">
                  <a:srgbClr val="95b3d7"/>
                </a:gs>
                <a:gs pos="50000">
                  <a:srgbClr val="dbe5f1"/>
                </a:gs>
                <a:gs pos="100000">
                  <a:srgbClr val="95b3d7"/>
                </a:gs>
              </a:gsLst>
              <a:lin ang="18900000"/>
            </a:gradFill>
            <a:ln w="12600">
              <a:solidFill>
                <a:srgbClr val="95b3d7"/>
              </a:solidFill>
              <a:miter/>
            </a:ln>
            <a:effectLst>
              <a:outerShdw dist="17819" dir="2700000" blurRad="0" rotWithShape="0">
                <a:srgbClr val="243f6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Нематериальное производств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" name="Прямоугольник 51" descr=""/>
            <p:cNvPicPr/>
            <p:nvPr/>
          </p:nvPicPr>
          <p:blipFill>
            <a:blip r:embed="rId1"/>
            <a:stretch/>
          </p:blipFill>
          <p:spPr>
            <a:xfrm>
              <a:off x="1652040" y="3872520"/>
              <a:ext cx="1420200" cy="150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Прямоугольник 52" descr=""/>
            <p:cNvPicPr/>
            <p:nvPr/>
          </p:nvPicPr>
          <p:blipFill>
            <a:blip r:embed="rId2"/>
            <a:stretch/>
          </p:blipFill>
          <p:spPr>
            <a:xfrm>
              <a:off x="1585080" y="2968200"/>
              <a:ext cx="1438560" cy="151236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14" name="Прямая со стрелкой 53"/>
            <p:cNvCxnSpPr/>
            <p:nvPr/>
          </p:nvCxnSpPr>
          <p:spPr>
            <a:xfrm>
              <a:off x="2310480" y="2872080"/>
              <a:ext cx="20880" cy="448200"/>
            </a:xfrm>
            <a:prstGeom prst="straightConnector1">
              <a:avLst/>
            </a:prstGeom>
            <a:ln w="38160">
              <a:solidFill>
                <a:srgbClr val="8064a2"/>
              </a:solidFill>
              <a:miter/>
              <a:tailEnd len="med" type="triangle" w="med"/>
            </a:ln>
          </p:spPr>
        </p:cxnSp>
        <p:pic>
          <p:nvPicPr>
            <p:cNvPr id="115" name="Прямоугольник 54" descr=""/>
            <p:cNvPicPr/>
            <p:nvPr/>
          </p:nvPicPr>
          <p:blipFill>
            <a:blip r:embed="rId3"/>
            <a:stretch/>
          </p:blipFill>
          <p:spPr>
            <a:xfrm>
              <a:off x="1267920" y="5698440"/>
              <a:ext cx="2426040" cy="62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AutoShape 2"/>
          <p:cNvSpPr/>
          <p:nvPr/>
        </p:nvSpPr>
        <p:spPr>
          <a:xfrm>
            <a:off x="1546200" y="709560"/>
            <a:ext cx="4200480" cy="4318200"/>
          </a:xfrm>
          <a:custGeom>
            <a:avLst/>
            <a:gdLst>
              <a:gd name="textAreaLeft" fmla="*/ 204840 w 4200480"/>
              <a:gd name="textAreaRight" fmla="*/ 3995640 w 4200480"/>
              <a:gd name="textAreaTop" fmla="*/ 204840 h 4318200"/>
              <a:gd name="textAreaBottom" fmla="*/ 4113360 h 4318200"/>
            </a:gdLst>
            <a:ahLst/>
            <a:rect l="textAreaLeft" t="textAreaTop" r="textAreaRight" b="textAreaBottom"/>
            <a:pathLst>
              <a:path w="21600" h="22205">
                <a:moveTo>
                  <a:pt x="3600" y="0"/>
                </a:moveTo>
                <a:arcTo wR="3600" hR="3600" stAng="16200000" swAng="-5400000"/>
                <a:lnTo>
                  <a:pt x="0" y="18605"/>
                </a:lnTo>
                <a:arcTo wR="3600" hR="3600" stAng="10800000" swAng="-5400000"/>
                <a:lnTo>
                  <a:pt x="18000" y="222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2d69b"/>
              </a:gs>
              <a:gs pos="50000">
                <a:srgbClr val="9bbb59"/>
              </a:gs>
              <a:gs pos="100000">
                <a:srgbClr val="c2d69b"/>
              </a:gs>
            </a:gsLst>
            <a:lin ang="5400000"/>
          </a:gradFill>
          <a:ln w="12600">
            <a:solidFill>
              <a:srgbClr val="9bbb59"/>
            </a:solidFill>
            <a:miter/>
          </a:ln>
          <a:effectLst>
            <a:outerShdw dist="17819" dir="2700000" blurRad="0" rotWithShape="0">
              <a:srgbClr val="4e6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3"/>
          <p:cNvSpPr/>
          <p:nvPr/>
        </p:nvSpPr>
        <p:spPr>
          <a:xfrm>
            <a:off x="1897200" y="1023840"/>
            <a:ext cx="3562200" cy="1787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999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abf8f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4"/>
          <p:cNvSpPr/>
          <p:nvPr/>
        </p:nvSpPr>
        <p:spPr>
          <a:xfrm>
            <a:off x="1897200" y="2863800"/>
            <a:ext cx="3562200" cy="1708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e5b8b7"/>
              </a:gs>
            </a:gsLst>
            <a:lin ang="5400000"/>
          </a:gradFill>
          <a:ln w="12600">
            <a:solidFill>
              <a:srgbClr val="d99594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5"/>
          <p:cNvSpPr/>
          <p:nvPr/>
        </p:nvSpPr>
        <p:spPr>
          <a:xfrm>
            <a:off x="3214800" y="2000160"/>
            <a:ext cx="776160" cy="741600"/>
          </a:xfrm>
          <a:prstGeom prst="ellipse">
            <a:avLst/>
          </a:prstGeom>
          <a:gradFill rotWithShape="0">
            <a:gsLst>
              <a:gs pos="0">
                <a:srgbClr val="4f81bd"/>
              </a:gs>
              <a:gs pos="100000">
                <a:srgbClr val="365e8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243f6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6"/>
          <p:cNvSpPr/>
          <p:nvPr/>
        </p:nvSpPr>
        <p:spPr>
          <a:xfrm>
            <a:off x="3260880" y="2863800"/>
            <a:ext cx="749160" cy="762120"/>
          </a:xfrm>
          <a:prstGeom prst="ellipse">
            <a:avLst/>
          </a:prstGeom>
          <a:gradFill rotWithShape="0">
            <a:gsLst>
              <a:gs pos="0">
                <a:srgbClr val="c0504d"/>
              </a:gs>
              <a:gs pos="100000">
                <a:srgbClr val="92363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6224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7"/>
          <p:cNvSpPr/>
          <p:nvPr/>
        </p:nvSpPr>
        <p:spPr>
          <a:xfrm flipH="1" rot="10654800">
            <a:off x="2643120" y="2143080"/>
            <a:ext cx="587520" cy="1287360"/>
          </a:xfrm>
          <a:custGeom>
            <a:avLst/>
            <a:gdLst>
              <a:gd name="textAreaLeft" fmla="*/ 78480 w 587520"/>
              <a:gd name="textAreaRight" fmla="*/ 509040 w 587520"/>
              <a:gd name="textAreaTop" fmla="*/ 217800 h 1287360"/>
              <a:gd name="textAreaBottom" fmla="*/ 930960 h 1287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309" stAng="-5400000" swAng="-5400000"/>
                <a:lnTo>
                  <a:pt x="0" y="11964"/>
                </a:lnTo>
                <a:arcTo wR="21600" hR="7309" stAng="10800000" swAng="-2624506"/>
                <a:lnTo>
                  <a:pt x="14400" y="21182"/>
                </a:lnTo>
                <a:lnTo>
                  <a:pt x="21600" y="16945"/>
                </a:lnTo>
                <a:lnTo>
                  <a:pt x="14400" y="11871"/>
                </a:lnTo>
                <a:lnTo>
                  <a:pt x="14400" y="14199"/>
                </a:lnTo>
                <a:arcTo wR="21600" hR="7309" stAng="8175494" swAng="2235398"/>
                <a:lnTo>
                  <a:pt x="1125" y="9636"/>
                </a:lnTo>
                <a:arcTo wR="21600" hR="7309" stAng="-10410891" swAng="5010891"/>
                <a:close/>
              </a:path>
              <a:path fill="darkenLess" w="21600" h="21600">
                <a:moveTo>
                  <a:pt x="21600" y="0"/>
                </a:moveTo>
                <a:arcTo wR="21600" hR="7309" stAng="-5400000" swAng="-5400000"/>
                <a:lnTo>
                  <a:pt x="0" y="7309"/>
                </a:lnTo>
                <a:arcTo wR="21600" hR="7309" stAng="10800000" swAng="-389109"/>
                <a:lnTo>
                  <a:pt x="1125" y="9636"/>
                </a:lnTo>
                <a:arcTo wR="21600" hR="7309" stAng="-10410891" swAng="5010891"/>
                <a:close/>
              </a:path>
            </a:pathLst>
          </a:custGeom>
          <a:gradFill rotWithShape="0">
            <a:gsLst>
              <a:gs pos="0">
                <a:srgbClr val="d99594"/>
              </a:gs>
              <a:gs pos="50000">
                <a:srgbClr val="c0504d"/>
              </a:gs>
              <a:gs pos="100000">
                <a:srgbClr val="d99594"/>
              </a:gs>
            </a:gsLst>
            <a:lin ang="5400000"/>
          </a:gradFill>
          <a:ln w="12600">
            <a:solidFill>
              <a:srgbClr val="c0504d"/>
            </a:solidFill>
            <a:miter/>
          </a:ln>
          <a:effectLst>
            <a:outerShdw dist="17819" dir="2700000" blurRad="0" rotWithShape="0">
              <a:srgbClr val="6224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8"/>
          <p:cNvSpPr/>
          <p:nvPr/>
        </p:nvSpPr>
        <p:spPr>
          <a:xfrm>
            <a:off x="4006800" y="2214720"/>
            <a:ext cx="565200" cy="1252440"/>
          </a:xfrm>
          <a:custGeom>
            <a:avLst/>
            <a:gdLst>
              <a:gd name="textAreaLeft" fmla="*/ 75600 w 565200"/>
              <a:gd name="textAreaRight" fmla="*/ 489600 w 565200"/>
              <a:gd name="textAreaTop" fmla="*/ 208440 h 1252440"/>
              <a:gd name="textAreaBottom" fmla="*/ 904680 h 125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192" stAng="-5400000" swAng="5400000"/>
                <a:lnTo>
                  <a:pt x="21600" y="12004"/>
                </a:lnTo>
                <a:arcTo wR="21600" hR="7192" stAng="0" swAng="2596805"/>
                <a:lnTo>
                  <a:pt x="7200" y="21189"/>
                </a:lnTo>
                <a:lnTo>
                  <a:pt x="0" y="16789"/>
                </a:lnTo>
                <a:lnTo>
                  <a:pt x="7200" y="11567"/>
                </a:lnTo>
                <a:lnTo>
                  <a:pt x="7200" y="13972"/>
                </a:lnTo>
                <a:arcTo wR="21600" hR="7192" stAng="2596805" swAng="-2192338"/>
                <a:lnTo>
                  <a:pt x="20355" y="9598"/>
                </a:lnTo>
                <a:arcTo wR="21600" hR="7192" stAng="-404466" swAng="-4995534"/>
                <a:close/>
              </a:path>
              <a:path fill="darkenLess" w="21600" h="21600">
                <a:moveTo>
                  <a:pt x="0" y="0"/>
                </a:moveTo>
                <a:arcTo wR="21600" hR="7192" stAng="-5400000" swAng="5400000"/>
                <a:lnTo>
                  <a:pt x="21600" y="12004"/>
                </a:lnTo>
                <a:arcTo wR="21600" hR="7192" stAng="0" swAng="-404466"/>
                <a:lnTo>
                  <a:pt x="20355" y="9598"/>
                </a:lnTo>
                <a:arcTo wR="21600" hR="7192" stAng="-404466" swAng="-4995534"/>
                <a:close/>
              </a:path>
            </a:pathLst>
          </a:custGeom>
          <a:gradFill rotWithShape="0">
            <a:gsLst>
              <a:gs pos="0">
                <a:srgbClr val="95b3d7"/>
              </a:gs>
              <a:gs pos="50000">
                <a:srgbClr val="4f81bd"/>
              </a:gs>
              <a:gs pos="100000">
                <a:srgbClr val="95b3d7"/>
              </a:gs>
            </a:gsLst>
            <a:lin ang="5400000"/>
          </a:gradFill>
          <a:ln w="12600">
            <a:solidFill>
              <a:srgbClr val="4f81bd"/>
            </a:solidFill>
            <a:miter/>
          </a:ln>
          <a:effectLst>
            <a:outerShdw dist="17819" dir="2700000" blurRad="0" rotWithShape="0">
              <a:srgbClr val="243f6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2182680" y="1146240"/>
            <a:ext cx="2880000" cy="463320"/>
          </a:xfrm>
          <a:prstGeom prst="rect">
            <a:avLst/>
          </a:prstGeom>
          <a:gradFill rotWithShape="0">
            <a:gsLst>
              <a:gs pos="0">
                <a:srgbClr val="d99594"/>
              </a:gs>
              <a:gs pos="50000">
                <a:srgbClr val="f2dbdb"/>
              </a:gs>
              <a:gs pos="100000">
                <a:srgbClr val="d99594"/>
              </a:gs>
            </a:gsLst>
            <a:lin ang="18900000"/>
          </a:gradFill>
          <a:ln w="12600">
            <a:solidFill>
              <a:srgbClr val="d99594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Материальное производ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2214720" y="4071960"/>
            <a:ext cx="2865240" cy="450720"/>
          </a:xfrm>
          <a:prstGeom prst="rect">
            <a:avLst/>
          </a:prstGeom>
          <a:gradFill rotWithShape="0">
            <a:gsLst>
              <a:gs pos="0">
                <a:srgbClr val="95b3d7"/>
              </a:gs>
              <a:gs pos="50000">
                <a:srgbClr val="dbe5f1"/>
              </a:gs>
              <a:gs pos="100000">
                <a:srgbClr val="95b3d7"/>
              </a:gs>
            </a:gsLst>
            <a:lin ang="18900000"/>
          </a:gradFill>
          <a:ln w="12600">
            <a:solidFill>
              <a:srgbClr val="95b3d7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Нематериальное производ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Прямоугольник 12" descr=""/>
          <p:cNvPicPr/>
          <p:nvPr/>
        </p:nvPicPr>
        <p:blipFill>
          <a:blip r:embed="rId1"/>
          <a:stretch/>
        </p:blipFill>
        <p:spPr>
          <a:xfrm>
            <a:off x="2914560" y="2639880"/>
            <a:ext cx="1413000" cy="1548000"/>
          </a:xfrm>
          <a:prstGeom prst="rect">
            <a:avLst/>
          </a:prstGeom>
          <a:ln w="0">
            <a:noFill/>
          </a:ln>
        </p:spPr>
      </p:pic>
      <p:pic>
        <p:nvPicPr>
          <p:cNvPr id="129" name="Прямоугольник 13" descr=""/>
          <p:cNvPicPr/>
          <p:nvPr/>
        </p:nvPicPr>
        <p:blipFill>
          <a:blip r:embed="rId2"/>
          <a:stretch/>
        </p:blipFill>
        <p:spPr>
          <a:xfrm>
            <a:off x="2846520" y="1706400"/>
            <a:ext cx="1439640" cy="1560600"/>
          </a:xfrm>
          <a:prstGeom prst="rect">
            <a:avLst/>
          </a:prstGeom>
          <a:ln w="0">
            <a:noFill/>
          </a:ln>
        </p:spPr>
      </p:pic>
      <p:cxnSp>
        <p:nvCxnSpPr>
          <p:cNvPr id="130" name="Прямая со стрелкой 21"/>
          <p:cNvCxnSpPr/>
          <p:nvPr/>
        </p:nvCxnSpPr>
        <p:spPr>
          <a:xfrm>
            <a:off x="3570840" y="1609560"/>
            <a:ext cx="20880" cy="46296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triangle" w="med"/>
          </a:ln>
        </p:spPr>
      </p:cxnSp>
      <p:cxnSp>
        <p:nvCxnSpPr>
          <p:cNvPr id="131" name="Прямая со стрелкой 23"/>
          <p:cNvCxnSpPr>
            <a:stCxn id="127" idx="0"/>
          </p:cNvCxnSpPr>
          <p:nvPr/>
        </p:nvCxnSpPr>
        <p:spPr>
          <a:xfrm flipH="1" flipV="1">
            <a:off x="3642480" y="3642480"/>
            <a:ext cx="3960" cy="42948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triangle" w="med"/>
          </a:ln>
        </p:spPr>
      </p:cxnSp>
      <p:pic>
        <p:nvPicPr>
          <p:cNvPr id="132" name="Прямоугольник 26" descr=""/>
          <p:cNvPicPr/>
          <p:nvPr/>
        </p:nvPicPr>
        <p:blipFill>
          <a:blip r:embed="rId3"/>
          <a:stretch/>
        </p:blipFill>
        <p:spPr>
          <a:xfrm>
            <a:off x="2523960" y="4522680"/>
            <a:ext cx="2426040" cy="64620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13840" y="6428880"/>
            <a:ext cx="7358040" cy="4287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-360" y="142920"/>
            <a:ext cx="414324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8fb6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fb6e5"/>
                </a:solidFill>
                <a:latin typeface="Calibri"/>
              </a:rPr>
              <a:t>ТРАНСПОРТ. </a:t>
            </a: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Функция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– </a:t>
            </a:r>
            <a:r>
              <a:rPr b="1" lang="ru-RU" sz="1800" spc="-1" strike="noStrike">
                <a:solidFill>
                  <a:srgbClr val="ff3300"/>
                </a:solidFill>
                <a:latin typeface="Calibri"/>
              </a:rPr>
              <a:t>перемещение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грузов  (сырья, полуфабрикатов, продуктов труда) или пассажиров </a:t>
            </a:r>
            <a:r>
              <a:rPr b="1" lang="ru-RU" sz="1800" spc="-1" strike="noStrike">
                <a:solidFill>
                  <a:srgbClr val="ff3300"/>
                </a:solidFill>
                <a:latin typeface="Calibri"/>
              </a:rPr>
              <a:t>в пространстве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– от производства к потреблению и от потребления к производству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1) предмет труда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транспортируемое «вещество», груз или пассажир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2) процесс труда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перемещение, передвижение, транспортирование вещества в пространстве без изменения его структуры и свойств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3) результат труда </a:t>
            </a:r>
            <a:r>
              <a:rPr b="0" lang="ru-RU" sz="1700" spc="-1" strike="noStrike">
                <a:solidFill>
                  <a:srgbClr val="ffff00"/>
                </a:solidFill>
                <a:latin typeface="Calibri"/>
              </a:rPr>
              <a:t>–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груз и/или пассажир, изменивший свое местонахождение в пространстве (как правило, на земной или водной поверхности)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857840" y="213840"/>
            <a:ext cx="428616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4) цена услуги</a:t>
            </a:r>
            <a:r>
              <a:rPr b="1" lang="ru-RU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включает затраты труда работников отрасли, материальные затраты (сырье, материалы, энергия), износ основного оборудования;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стоимость в отрасли не образуется: «продуктом труда» является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деятельность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потребляемая в момент производства; эта деятельность не может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быть отчуждена от ее производителя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как это возможно с продуктом отраслей материального производства и обменена на другой продукт (услугу) в любой другой момент времени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5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) отношение количества оборудования к количеству занятых в отрасли (</a:t>
            </a:r>
            <a:r>
              <a:rPr b="1" lang="en-US" sz="1700" spc="-1" strike="noStrike">
                <a:solidFill>
                  <a:srgbClr val="ffff00"/>
                </a:solidFill>
                <a:latin typeface="Calibri"/>
              </a:rPr>
              <a:t>c/v)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дает представление о техническом уровне отрасли, о сравнимой с другими производительности труда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Транспортную отрасль инфраструктуры дополняет и технологически объединяет с другими отраслями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складское хозяйства и система логистики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, представляющие собой стремление к целостности грузо- и пассажиропотоков, их координации во времени и пространстве для увеличения общей экономии общественного труда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Рисунок 6" descr="city traffic.gif"/>
          <p:cNvPicPr/>
          <p:nvPr/>
        </p:nvPicPr>
        <p:blipFill>
          <a:blip r:embed="rId2"/>
          <a:stretch/>
        </p:blipFill>
        <p:spPr>
          <a:xfrm>
            <a:off x="4143240" y="5857920"/>
            <a:ext cx="762120" cy="56196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7" descr="j0283503.gif"/>
          <p:cNvPicPr/>
          <p:nvPr/>
        </p:nvPicPr>
        <p:blipFill>
          <a:blip r:embed="rId3"/>
          <a:stretch/>
        </p:blipFill>
        <p:spPr>
          <a:xfrm>
            <a:off x="4191120" y="3714840"/>
            <a:ext cx="666720" cy="64764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8" descr="j0283506.gif"/>
          <p:cNvPicPr/>
          <p:nvPr/>
        </p:nvPicPr>
        <p:blipFill>
          <a:blip r:embed="rId4"/>
          <a:stretch/>
        </p:blipFill>
        <p:spPr>
          <a:xfrm>
            <a:off x="4191120" y="4429080"/>
            <a:ext cx="666720" cy="64764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9" descr="j0283504.gif"/>
          <p:cNvPicPr/>
          <p:nvPr/>
        </p:nvPicPr>
        <p:blipFill>
          <a:blip r:embed="rId5"/>
          <a:stretch/>
        </p:blipFill>
        <p:spPr>
          <a:xfrm>
            <a:off x="4191120" y="3000240"/>
            <a:ext cx="666720" cy="64800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10" descr="j0283617.gif"/>
          <p:cNvPicPr/>
          <p:nvPr/>
        </p:nvPicPr>
        <p:blipFill>
          <a:blip r:embed="rId6"/>
          <a:stretch/>
        </p:blipFill>
        <p:spPr>
          <a:xfrm>
            <a:off x="4172040" y="428760"/>
            <a:ext cx="685800" cy="64296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11" descr="j0295180.gif"/>
          <p:cNvPicPr/>
          <p:nvPr/>
        </p:nvPicPr>
        <p:blipFill>
          <a:blip r:embed="rId7"/>
          <a:stretch/>
        </p:blipFill>
        <p:spPr>
          <a:xfrm>
            <a:off x="4143240" y="1143000"/>
            <a:ext cx="800280" cy="56196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12" descr="j0295177.gif"/>
          <p:cNvPicPr/>
          <p:nvPr/>
        </p:nvPicPr>
        <p:blipFill>
          <a:blip r:embed="rId8"/>
          <a:stretch/>
        </p:blipFill>
        <p:spPr>
          <a:xfrm>
            <a:off x="4143240" y="1785960"/>
            <a:ext cx="762120" cy="56196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13" descr="j0283594.gif"/>
          <p:cNvPicPr/>
          <p:nvPr/>
        </p:nvPicPr>
        <p:blipFill>
          <a:blip r:embed="rId9"/>
          <a:stretch/>
        </p:blipFill>
        <p:spPr>
          <a:xfrm>
            <a:off x="4214880" y="51436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14" descr="j0286718.gif"/>
          <p:cNvPicPr/>
          <p:nvPr/>
        </p:nvPicPr>
        <p:blipFill>
          <a:blip r:embed="rId10"/>
          <a:stretch/>
        </p:blipFill>
        <p:spPr>
          <a:xfrm>
            <a:off x="4143240" y="2395440"/>
            <a:ext cx="762120" cy="53352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13840" y="6428880"/>
            <a:ext cx="7358040" cy="4287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142920"/>
            <a:ext cx="421488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25"/>
              </a:spcBef>
              <a:buClr>
                <a:srgbClr val="8fb6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fb6e5"/>
                </a:solidFill>
                <a:latin typeface="Calibri"/>
              </a:rPr>
              <a:t>ТОРГОВЛЯ (и общепит). </a:t>
            </a: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Функция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– </a:t>
            </a:r>
            <a:r>
              <a:rPr b="1" lang="ru-RU" sz="1700" spc="-1" strike="noStrike">
                <a:solidFill>
                  <a:srgbClr val="ff3300"/>
                </a:solidFill>
                <a:latin typeface="Calibri"/>
              </a:rPr>
              <a:t>распределение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 продуктов труда (и деятельности). Исторически возникла из обмена продуктов и услуг, который осуществлялся в эпоху собственности хаотично, подчиняясь главным образом частному интересу собственника товара (продукта). Отсюда неравномерность процесса, хаотичность, кризисы торговли, затоваривание и т.д. </a:t>
            </a:r>
            <a:r>
              <a:rPr b="1" lang="ru-RU" sz="1700" spc="-1" strike="noStrike">
                <a:solidFill>
                  <a:srgbClr val="ffffff"/>
                </a:solidFill>
                <a:latin typeface="Calibri"/>
              </a:rPr>
              <a:t>Лечение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: планирование объемов, структуры и пропорций торговых потоков.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1) предмет труда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обмениваемое, продаваемое «вещество», продукт или услуга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2) процесс труда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распределение товаров и услуг посредством торговых сетей, оптовых и розничных предприятий, складов и магазинов, информационных сетей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3) результат труда </a:t>
            </a:r>
            <a:r>
              <a:rPr b="0" lang="ru-RU" sz="1700" spc="-1" strike="noStrike">
                <a:solidFill>
                  <a:srgbClr val="ffff00"/>
                </a:solidFill>
                <a:latin typeface="Calibri"/>
              </a:rPr>
              <a:t>–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продукт или услуга, нашедшие своего потребителя; обмен состоялся, продажа/покупка совершена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857840" y="213840"/>
            <a:ext cx="428616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4) цена услуги</a:t>
            </a:r>
            <a:r>
              <a:rPr b="1" lang="ru-RU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включает затраты труда работников отрасли, материальные затраты (сырье, материалы, энергия), износ основного оборудования;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стоимость в отрасли не образуется: «продуктом труда» является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деятельность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потребляемая в момент производства; эта деятельность не может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быть отчуждена от ее производителя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как это возможно с продуктом отраслей материального производства и обменена на другой продукт (услугу) в любой другой момент времени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5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) отношение количества оборудования к количеству занятых в отрасли (</a:t>
            </a:r>
            <a:r>
              <a:rPr b="1" lang="en-US" sz="1700" spc="-1" strike="noStrike">
                <a:solidFill>
                  <a:srgbClr val="ffff00"/>
                </a:solidFill>
                <a:latin typeface="Calibri"/>
              </a:rPr>
              <a:t>c/v)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дает знание о техническом уровне отрасли, о сравнимой с другими производительности труда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Без торговли, то есть ускоряющегося во времени и пространстве распределения продуктов и услуг невозможно современное эффективное развитие производства материального и нематериального; только собственность мешает преодолеть хаотичность процесса и его подчиненность только частному интересу, выгоде собственника, а не народного хозяйства в целом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Рисунок 5" descr="торговляя.gif"/>
          <p:cNvPicPr/>
          <p:nvPr/>
        </p:nvPicPr>
        <p:blipFill>
          <a:blip r:embed="rId2"/>
          <a:stretch/>
        </p:blipFill>
        <p:spPr>
          <a:xfrm>
            <a:off x="4071960" y="571680"/>
            <a:ext cx="1014480" cy="66816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7" descr="j0283789.gif"/>
          <p:cNvPicPr/>
          <p:nvPr/>
        </p:nvPicPr>
        <p:blipFill>
          <a:blip r:embed="rId3"/>
          <a:stretch/>
        </p:blipFill>
        <p:spPr>
          <a:xfrm>
            <a:off x="4286160" y="2286000"/>
            <a:ext cx="666720" cy="64764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8" descr="j0283793.gif"/>
          <p:cNvPicPr/>
          <p:nvPr/>
        </p:nvPicPr>
        <p:blipFill>
          <a:blip r:embed="rId4"/>
          <a:stretch/>
        </p:blipFill>
        <p:spPr>
          <a:xfrm>
            <a:off x="4286160" y="3000240"/>
            <a:ext cx="666720" cy="64800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9" descr="j0283013.gif"/>
          <p:cNvPicPr/>
          <p:nvPr/>
        </p:nvPicPr>
        <p:blipFill>
          <a:blip r:embed="rId5"/>
          <a:stretch/>
        </p:blipFill>
        <p:spPr>
          <a:xfrm>
            <a:off x="4143240" y="3643200"/>
            <a:ext cx="1005120" cy="100512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10" descr="j0284164.gif"/>
          <p:cNvPicPr/>
          <p:nvPr/>
        </p:nvPicPr>
        <p:blipFill>
          <a:blip r:embed="rId6"/>
          <a:stretch/>
        </p:blipFill>
        <p:spPr>
          <a:xfrm>
            <a:off x="4214880" y="4572000"/>
            <a:ext cx="866880" cy="95256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11" descr="j0283017.gif"/>
          <p:cNvPicPr/>
          <p:nvPr/>
        </p:nvPicPr>
        <p:blipFill>
          <a:blip r:embed="rId7"/>
          <a:stretch/>
        </p:blipFill>
        <p:spPr>
          <a:xfrm>
            <a:off x="4143240" y="1357200"/>
            <a:ext cx="895320" cy="89532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12" descr="j0295157.gif"/>
          <p:cNvPicPr/>
          <p:nvPr/>
        </p:nvPicPr>
        <p:blipFill>
          <a:blip r:embed="rId8"/>
          <a:stretch/>
        </p:blipFill>
        <p:spPr>
          <a:xfrm>
            <a:off x="4286160" y="5572080"/>
            <a:ext cx="919080" cy="64440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3840" y="6428880"/>
            <a:ext cx="7358040" cy="4287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-360" y="142920"/>
            <a:ext cx="43578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00"/>
              </a:spcBef>
              <a:buClr>
                <a:srgbClr val="8fb6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fb6e5"/>
                </a:solidFill>
                <a:latin typeface="Calibri"/>
              </a:rPr>
              <a:t>ФИНАНСЫ (банки и пр.). </a:t>
            </a: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Функция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– </a:t>
            </a:r>
            <a:r>
              <a:rPr b="1" lang="ru-RU" sz="1700" spc="-1" strike="noStrike">
                <a:solidFill>
                  <a:srgbClr val="ff3300"/>
                </a:solidFill>
                <a:latin typeface="Calibri"/>
              </a:rPr>
              <a:t>учет и осуществление обмена  деятельностью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(продуктами труда и услугами).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озникла из нужды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ускорить и упростить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обмен продуктов и услуг с помощью различных инструментов (денег и других); движение финансов и/или денег – это 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фактическая реализация общественного разделения труда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но хаотичная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так как подчинена частному интересу собственника инструментов обмена (денег). Неравномерность «реализации функции» усилилась. Поэтому  кризисы торговые дополнились финансовыми крахами;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Calibri"/>
              </a:rPr>
              <a:t>1) предмет труда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– обмениваемые, продаваемые «инструменты обмена», деньги или финансовые услуги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Calibri"/>
              </a:rPr>
              <a:t>2) процесс труда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– распределение денег и финансовых инструментов (вместо всеобщего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учета и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балансирования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труда во всех сферах общественного производства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ffff00"/>
                </a:solidFill>
                <a:latin typeface="Calibri"/>
              </a:rPr>
              <a:t>3) результат труда </a:t>
            </a:r>
            <a:r>
              <a:rPr b="0" lang="ru-RU" sz="1600" spc="-1" strike="noStrike">
                <a:solidFill>
                  <a:srgbClr val="ffff00"/>
                </a:solidFill>
                <a:latin typeface="Calibri"/>
              </a:rPr>
              <a:t>–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деньги, кредит или услуга, нашли своего покупателя; обмен состоялся, продажа/покупка  «обменного материала» совершена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857840" y="70920"/>
            <a:ext cx="428616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4) цена услуги</a:t>
            </a:r>
            <a:r>
              <a:rPr b="1" lang="ru-RU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включает затраты труда работников отрасли, материальные затраты (сырье, материалы, энергия), износ основного оборудования;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стоимость в отрасли не образуется: «продуктом труда» является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деятельность*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потребляемая в момент производства; эта «деятельность»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может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быть отчуждена от ее производителя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и обменена на другой продукт (услугу) в любой другой момент времени,  так как деньги стали всеобщим, универсальным обменным инструментом, «особым товаром», но не продуктом;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*деньги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и т.п. – не являются предметом потребления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]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5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) отношение количества оборудования к количеству занятых в отрасли (</a:t>
            </a:r>
            <a:r>
              <a:rPr b="1" lang="en-US" sz="1700" spc="-1" strike="noStrike">
                <a:solidFill>
                  <a:srgbClr val="ffff00"/>
                </a:solidFill>
                <a:latin typeface="Calibri"/>
              </a:rPr>
              <a:t>c/v)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дает знание о техническом уровне отрасли, о сравнимой с другими производительности труда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Отрасль со временем обособилась и возомнила о себе, что она является  главной в производстве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. Торговля «инструментами» обмена стала источником небывалых паразитических доходов (банкиров, финансистов, страховщиков – особой религии денег., не имеющих самостоятельной ценности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Рисунок 5" descr="j0283689.gif"/>
          <p:cNvPicPr/>
          <p:nvPr/>
        </p:nvPicPr>
        <p:blipFill>
          <a:blip r:embed="rId2"/>
          <a:stretch/>
        </p:blipFill>
        <p:spPr>
          <a:xfrm>
            <a:off x="4286160" y="5857920"/>
            <a:ext cx="836640" cy="71424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6" descr="j0236256.gif"/>
          <p:cNvPicPr/>
          <p:nvPr/>
        </p:nvPicPr>
        <p:blipFill>
          <a:blip r:embed="rId3"/>
          <a:stretch/>
        </p:blipFill>
        <p:spPr>
          <a:xfrm>
            <a:off x="4500720" y="500040"/>
            <a:ext cx="566640" cy="69048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7" descr="j0283755.gif"/>
          <p:cNvPicPr/>
          <p:nvPr/>
        </p:nvPicPr>
        <p:blipFill>
          <a:blip r:embed="rId4"/>
          <a:stretch/>
        </p:blipFill>
        <p:spPr>
          <a:xfrm>
            <a:off x="4214880" y="4786200"/>
            <a:ext cx="1143000" cy="89532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8" descr="j0283587.gif"/>
          <p:cNvPicPr/>
          <p:nvPr/>
        </p:nvPicPr>
        <p:blipFill>
          <a:blip r:embed="rId5"/>
          <a:stretch/>
        </p:blipFill>
        <p:spPr>
          <a:xfrm>
            <a:off x="4319640" y="1500120"/>
            <a:ext cx="790560" cy="64296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9" descr="j0234775.gif"/>
          <p:cNvPicPr/>
          <p:nvPr/>
        </p:nvPicPr>
        <p:blipFill>
          <a:blip r:embed="rId6"/>
          <a:stretch/>
        </p:blipFill>
        <p:spPr>
          <a:xfrm>
            <a:off x="4429080" y="2286000"/>
            <a:ext cx="717480" cy="78588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10" descr="j0303404.gif"/>
          <p:cNvPicPr/>
          <p:nvPr/>
        </p:nvPicPr>
        <p:blipFill>
          <a:blip r:embed="rId7"/>
          <a:stretch/>
        </p:blipFill>
        <p:spPr>
          <a:xfrm>
            <a:off x="4143240" y="4214880"/>
            <a:ext cx="1071720" cy="47628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11" descr="j0309816.gif"/>
          <p:cNvPicPr/>
          <p:nvPr/>
        </p:nvPicPr>
        <p:blipFill>
          <a:blip r:embed="rId8"/>
          <a:stretch/>
        </p:blipFill>
        <p:spPr>
          <a:xfrm>
            <a:off x="4429080" y="3270240"/>
            <a:ext cx="657360" cy="73044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6:00:03Z</dcterms:created>
  <dc:creator>Натусик</dc:creator>
  <dc:description/>
  <dc:language>en-US</dc:language>
  <cp:lastModifiedBy>LEGION</cp:lastModifiedBy>
  <dcterms:modified xsi:type="dcterms:W3CDTF">2016-01-04T14:02:18Z</dcterms:modified>
  <cp:revision>39</cp:revision>
  <dc:subject/>
  <dc:title>Abstract Gree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41171033</vt:lpwstr>
  </property>
</Properties>
</file>