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ABE5-0123-419E-9F73-58464C3935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AB3B-F796-439C-8326-E6BA880C27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14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ческие предпосылки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природа по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28AC-3F29-4DC2-95A1-BD2A243E36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щита Лейбницем врождённого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9916-9DFD-4A90-A4C9-FF71089271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ринцип рационализма </a:t>
            </a:r>
            <a:br>
              <a:rPr sz="11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основной вывод Лейбница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90A3-9B22-426A-8AAD-65BE03677B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Онтологические предпосылки рационал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F6EF-FDEE-433E-B85E-AC6D447D4B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16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4257-2CC0-4846-8F3D-954D87856D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ffffff"/>
                </a:solidFill>
                <a:uFillTx/>
                <a:latin typeface="Arial"/>
              </a:rPr>
              <a:t>Дуализм</a:t>
            </a:r>
            <a:br>
              <a:rPr sz="1100"/>
            </a:b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ffffff"/>
                </a:solidFill>
                <a:uFillTx/>
                <a:latin typeface="Arial"/>
              </a:rPr>
              <a:t>Монизм</a:t>
            </a:r>
            <a:br>
              <a:rPr sz="1100"/>
            </a:b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ffffff"/>
                </a:solidFill>
                <a:uFillTx/>
                <a:latin typeface="Arial"/>
              </a:rPr>
              <a:t>Плюра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9C48-CD26-4862-A96B-D6E13EAF4A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E651-5C53-4969-84DA-BFCA81E153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(монадолог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479F-3621-4B12-9EC4-B2AD2D3817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(монадолог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5120-010C-4F52-98CD-3D042EA64C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ционалистическая концепция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стины разума и истины фак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FA43-F449-4CC7-840F-F8657DEC09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Онтологические предпосылки эмпир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B5DC-4A45-4351-B73C-8D8431D69C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Онтологические предпосылки и природа позна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ор о «врождённых иде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траргументы Г. Лейбница в защиту концепции «врождённых исти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ческие предпосылки рационализма и рационалистическая концепц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учение о монад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ины разума и истины ф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ческие предпосылки эмпиризма и  эмпирическая концепц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рвичные» и «вторичные»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 ощущения и идеи рефлек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56D1-A727-4ADD-9E1B-A44A1FA9D4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эмпир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997D-EDD5-43DD-AA26-2C390DB443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ческие предпосылки эмпиризма</a:t>
            </a:r>
            <a:br>
              <a:rPr sz="11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Первичные» и «вторичные» каче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6D83-CF8D-413C-83F8-9798234541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и ощущения и идеи рефлекс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9301-A744-4D30-BC63-67B6ED1AA1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стые иде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200" spc="-1" strike="noStrike">
                <a:solidFill>
                  <a:srgbClr val="66ff33"/>
                </a:solidFill>
                <a:latin typeface="Arial"/>
              </a:rPr>
              <a:t>получае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ощуще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рефлекс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оставаясь при этом пассив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ложные иде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2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утём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соедине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ескольких простых идей в одну сложну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деи отношен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2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утём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сопоставле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вух идей (простых и/или сложных)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бщие иде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2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утём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абстрагиров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.е.  обособления идей от всех других идей, сопутствующих им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действи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6225-BD0F-4524-AF12-79AE0707BA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17C9-40AE-43EB-A103-73040CBE7A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F57F-F283-4E4F-B501-DF48F97050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ческие предпосылки и природа п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Джон Лок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д. 29 августа 1632 г. в Рингт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м. 28 октября 1704 г. в Отс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Готфрид Лейбни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д. 1 июля 1646 г. в Лейпци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м. 14 ноября 1716 г. в Ганнове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5E06-7D51-4407-A57F-0A7A7427C1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жон Локк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1632-17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2C47-F931-46DB-94B2-BA7203F787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отфрид Вильгельм Лейбниц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646-171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A975-C9C4-406E-856D-B13BDC40A1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пор о «врождённых идеях»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Основные представи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латон (427-347 до 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. Декарт (1596-16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 Мальбранш (1638-17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ембриджские платоники: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. Мор (1614-1687)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. Кедворт (1617-1688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8663-63C4-498C-B2A3-A9DA350C31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817F-9C05-483E-90DA-5C867595AC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ринцип сенсуализма </a:t>
            </a:r>
            <a:br>
              <a:rPr sz="11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основной вывод Локка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D5E2-5668-4490-B457-5BB5531171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ринцип сенсуализма </a:t>
            </a:r>
            <a:br>
              <a:rPr sz="11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основной вывод Локка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7F8A-E0A5-42F3-AAFD-BDCFB1C7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D85A-083B-4D77-A1CE-F35EF1A6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33BA-9E66-4CCC-AAC0-587EAC47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0A8C-DF1B-46D2-8C47-92D391F2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6DC1-4430-4DC8-817C-1426399E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F720-EC66-484C-817A-50B5C6B3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3543-2167-416F-8EBD-B6DA619D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C5C4-8453-4E16-9F51-E5B55C9A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223F-9788-4555-BB8E-6027067C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227B-44C2-470F-8777-BF1ED18B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EE27-DA4C-4CA1-8C4E-8A577CF6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ECB3-09BF-4153-85FB-90A09BEA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7722-CD95-4F00-8BAE-176A97C20D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7120" y="2071800"/>
            <a:ext cx="8561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4000"/>
            </a:br>
            <a:br>
              <a:rPr sz="12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нтологические предпосылки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 природа позн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щита Лейбницем врождённого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431640" y="2085840"/>
            <a:ext cx="39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акого «всеобщего согласия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уществует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4749840" y="2085840"/>
            <a:ext cx="39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стов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ождённых истин основа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на всеобщем согласи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431640" y="3273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тверждение о налич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сознанного 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оречив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4749840" y="3273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сознанное знание – вовсе н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смыслица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пример, пок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спомним, мы не осознаё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о, что знали, но забыл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431640" y="446256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не можем признав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ождённым знанием всё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считаем истинны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4749840" y="446256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еется, не всякое зн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ождено, но следует призн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ождёнными истины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объяснимые из опыт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431640" y="564984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е есть результа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мозаключений из дан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енного опыт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4749840" y="564984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ила умозаключе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гут быть получены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ыт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утём умозаключе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263240" y="1474920"/>
            <a:ext cx="23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Аргументы Лок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4925520" y="1474920"/>
            <a:ext cx="361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Контраргументы Лейбниц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15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 рационализм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основной вывод Лейбниц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324000" y="2158920"/>
            <a:ext cx="413856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ет ничего в разум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его бы не было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аньше в ощущен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324000" y="5037120"/>
            <a:ext cx="4138560" cy="12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ihil est in intellectu,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quod non prius fuerit in sensu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678200" y="2158920"/>
            <a:ext cx="413892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ет ничего в разум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его бы не было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аньше в ощущении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роме самого разум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4678200" y="5037120"/>
            <a:ext cx="4138920" cy="12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ihil est in intellectu,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quod non fuerit in sensu,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isi intellectus ipse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3224160" y="4965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2144880" y="3706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1065240" y="2446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719280" y="1619280"/>
            <a:ext cx="4425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мир был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разуме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упорядочен, незакономерен), 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 бы принципиаль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постижи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1798560" y="2878200"/>
            <a:ext cx="44262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принципы нашего разум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личалис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т принцип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оустройства, мир был 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постижим для на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2878200" y="4138560"/>
            <a:ext cx="4425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 познаваем лишь потому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ы разум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ждествен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ам мир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3957480" y="5397480"/>
            <a:ext cx="4426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основные зако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ы разум мож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йти в себ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м, не обращаясь к опыту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Онтологические предпосылки рационализма</a:t>
            </a:r>
            <a:br>
              <a:rPr sz="32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3" descr="Hals, Descartes - head (c 1650, Louvre)"/>
          <p:cNvPicPr/>
          <p:nvPr/>
        </p:nvPicPr>
        <p:blipFill>
          <a:blip r:embed="rId1"/>
          <a:stretch/>
        </p:blipFill>
        <p:spPr>
          <a:xfrm>
            <a:off x="0" y="4743360"/>
            <a:ext cx="2124000" cy="2114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Leibniz (5)"/>
          <p:cNvPicPr/>
          <p:nvPr/>
        </p:nvPicPr>
        <p:blipFill>
          <a:blip r:embed="rId2"/>
          <a:stretch/>
        </p:blipFill>
        <p:spPr>
          <a:xfrm>
            <a:off x="7016760" y="1582560"/>
            <a:ext cx="2104920" cy="2160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36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720000" y="2301840"/>
            <a:ext cx="5766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зис 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умности мир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Лейбниц доводит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 логического предела – утверждения, чт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творённый Богом мир есть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лучший из возможных»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3268080" y="5037120"/>
            <a:ext cx="4479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о утверждение Лейбница будет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просту высмеян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ольтером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его философской повест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Кандид, или Оптимизм» (1758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5" descr="Вольтер (1)"/>
          <p:cNvPicPr/>
          <p:nvPr/>
        </p:nvPicPr>
        <p:blipFill>
          <a:blip r:embed="rId1"/>
          <a:stretch/>
        </p:blipFill>
        <p:spPr>
          <a:xfrm>
            <a:off x="34920" y="4425840"/>
            <a:ext cx="1940040" cy="2159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Leibniz (5)"/>
          <p:cNvPicPr/>
          <p:nvPr/>
        </p:nvPicPr>
        <p:blipFill>
          <a:blip r:embed="rId2"/>
          <a:stretch/>
        </p:blipFill>
        <p:spPr>
          <a:xfrm>
            <a:off x="7016760" y="1582560"/>
            <a:ext cx="2104920" cy="21607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9" descr="Uknown (after Hals), Descartes (c 1650, Louvre)_red-"/>
          <p:cNvPicPr/>
          <p:nvPr/>
        </p:nvPicPr>
        <p:blipFill>
          <a:blip r:embed="rId1"/>
          <a:stretch/>
        </p:blipFill>
        <p:spPr>
          <a:xfrm>
            <a:off x="4857840" y="1619280"/>
            <a:ext cx="1533600" cy="18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0" name="Text Box 3"/>
          <p:cNvSpPr/>
          <p:nvPr/>
        </p:nvSpPr>
        <p:spPr>
          <a:xfrm>
            <a:off x="4641840" y="356220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. Декар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614560" y="4821120"/>
            <a:ext cx="15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. Спиноз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6944400" y="608184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 Лейбни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3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Дуализм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онизм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люр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898560" y="2193840"/>
            <a:ext cx="161928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9"/>
          <p:cNvSpPr/>
          <p:nvPr/>
        </p:nvSpPr>
        <p:spPr>
          <a:xfrm>
            <a:off x="2517840" y="2193840"/>
            <a:ext cx="161928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898560" y="3741840"/>
            <a:ext cx="323856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, или Природ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1"/>
          <p:cNvSpPr/>
          <p:nvPr/>
        </p:nvSpPr>
        <p:spPr>
          <a:xfrm>
            <a:off x="898560" y="5289480"/>
            <a:ext cx="5396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2"/>
          <p:cNvSpPr/>
          <p:nvPr/>
        </p:nvSpPr>
        <p:spPr>
          <a:xfrm>
            <a:off x="1438200" y="5289480"/>
            <a:ext cx="54000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3"/>
          <p:cNvSpPr/>
          <p:nvPr/>
        </p:nvSpPr>
        <p:spPr>
          <a:xfrm>
            <a:off x="1978200" y="5289480"/>
            <a:ext cx="5396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4"/>
          <p:cNvSpPr/>
          <p:nvPr/>
        </p:nvSpPr>
        <p:spPr>
          <a:xfrm>
            <a:off x="2517840" y="5289480"/>
            <a:ext cx="5396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5"/>
          <p:cNvSpPr/>
          <p:nvPr/>
        </p:nvSpPr>
        <p:spPr>
          <a:xfrm>
            <a:off x="3057480" y="5289480"/>
            <a:ext cx="5396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6"/>
          <p:cNvSpPr/>
          <p:nvPr/>
        </p:nvSpPr>
        <p:spPr>
          <a:xfrm>
            <a:off x="3598920" y="5289480"/>
            <a:ext cx="5396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7" descr="spinoza1-red"/>
          <p:cNvPicPr/>
          <p:nvPr/>
        </p:nvPicPr>
        <p:blipFill>
          <a:blip r:embed="rId2"/>
          <a:stretch/>
        </p:blipFill>
        <p:spPr>
          <a:xfrm>
            <a:off x="6045120" y="2878200"/>
            <a:ext cx="1443240" cy="180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5" name="Picture 18" descr="Leibniz (5)-red"/>
          <p:cNvPicPr/>
          <p:nvPr/>
        </p:nvPicPr>
        <p:blipFill>
          <a:blip r:embed="rId3"/>
          <a:stretch/>
        </p:blipFill>
        <p:spPr>
          <a:xfrm>
            <a:off x="7232760" y="4138560"/>
            <a:ext cx="1396800" cy="1798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6840" y="12816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287280" y="1366920"/>
            <a:ext cx="413856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он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μόνος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один, единственны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ческая позиц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знающая единство мира, т.е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ципиальную сводим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х его объектов (явлений) 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ой субстанциальной основ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4713120" y="1366920"/>
            <a:ext cx="413892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люрал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pluralis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жественный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ческая позиц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знающая наличие в мир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жества принципиаль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зависимых (несводимых друг 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угу) первоначал (субстанций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2500200" y="4138560"/>
            <a:ext cx="413856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уал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dualis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войственный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новидность плюрализм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граничивающая числ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зависимых первосущност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ра двумя (обычно таки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оначалами признаются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атериально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духовно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простые сущност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монады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гут возникать или исчез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аче, как «разом» – в результат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орения или уничтоже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е множе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се он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ные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динаков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ы были бы тождественн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составляли бы одну сущность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3000"/>
            </a:b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(монадология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прерывно изменяют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ём эти изменения исходят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утреннего принципа, так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то внешнее на мона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лияет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снове мира должны лежа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стые сущн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субстанции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всё сложн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оит из простог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ы вообще не доступ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акому внешнему воздейств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«не имеют окон»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2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6" descr="leibniz10"/>
          <p:cNvPicPr/>
          <p:nvPr/>
        </p:nvPicPr>
        <p:blipFill>
          <a:blip r:embed="rId1"/>
          <a:stretch/>
        </p:blipFill>
        <p:spPr>
          <a:xfrm>
            <a:off x="7197840" y="1366920"/>
            <a:ext cx="1911240" cy="197964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0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ходящее состояние, котор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ет собой множе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дином есть не что и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рият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перцепция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т мир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ин и тот ж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о все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ах («лучший из возможных»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оспринимается по-разному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3000"/>
            </a:b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(монадология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личием перцепц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такж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ровнем апперцеп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осознания перцепций) мона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тличаются друг от друг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в монадах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всей их простоте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держи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ногоразличие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ы, таким образом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альн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ём каждая содерж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ебе весь мир, являяс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живым зеркалом универсума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2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4" descr="leibniz10"/>
          <p:cNvPicPr/>
          <p:nvPr/>
        </p:nvPicPr>
        <p:blipFill>
          <a:blip r:embed="rId1"/>
          <a:stretch/>
        </p:blipFill>
        <p:spPr>
          <a:xfrm>
            <a:off x="7197840" y="1366920"/>
            <a:ext cx="1911240" cy="197964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0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ционалистическая концепция познания </a:t>
            </a:r>
            <a:br>
              <a:rPr sz="30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Истины разума и истины факт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431640" y="1546200"/>
            <a:ext cx="4822920" cy="244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стины разум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ения, принимаемые за истинны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основании логического закона</a:t>
            </a:r>
            <a:br>
              <a:rPr sz="1800"/>
            </a:b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ccff"/>
                </a:solidFill>
                <a:latin typeface="Arial"/>
              </a:rPr>
              <a:t>запрета</a:t>
            </a: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отиворечия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х отрицание ведёт к противоречию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ываются также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ечными истинам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 как, в отличие от истин факт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ны всегда (при любых условиях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922560" y="4138560"/>
            <a:ext cx="4822920" cy="244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стины факт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ения, отрицание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заключает в себе ника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речия, верные при одни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ловиях и неверные при других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имаются за истинные лишь пр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остаточном основан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логически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достаточного основания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5510880" y="172728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мма углов треугольн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вна двум прямы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6585120" y="2733840"/>
            <a:ext cx="1079280" cy="9144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6227640" y="271620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6224760" y="3648240"/>
            <a:ext cx="1800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9" descr="Dog sitting"/>
          <p:cNvPicPr/>
          <p:nvPr/>
        </p:nvPicPr>
        <p:blipFill>
          <a:blip r:embed="rId1"/>
          <a:stretch/>
        </p:blipFill>
        <p:spPr>
          <a:xfrm>
            <a:off x="1546200" y="5218200"/>
            <a:ext cx="1123920" cy="10191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0"/>
          <p:cNvSpPr/>
          <p:nvPr/>
        </p:nvSpPr>
        <p:spPr>
          <a:xfrm>
            <a:off x="473400" y="4317840"/>
            <a:ext cx="32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крыльце сидит собач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маленькой бородко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7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7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7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2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78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77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9" dur="770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1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3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480" y="274680"/>
            <a:ext cx="9021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нтологические предпосылки эмпиризм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5"/>
          <p:cNvSpPr/>
          <p:nvPr/>
        </p:nvSpPr>
        <p:spPr>
          <a:xfrm>
            <a:off x="647640" y="1619280"/>
            <a:ext cx="14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ш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6"/>
          <p:cNvSpPr/>
          <p:nvPr/>
        </p:nvSpPr>
        <p:spPr>
          <a:xfrm>
            <a:off x="3886200" y="1619280"/>
            <a:ext cx="14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рга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7"/>
          <p:cNvSpPr/>
          <p:nvPr/>
        </p:nvSpPr>
        <p:spPr>
          <a:xfrm>
            <a:off x="3886200" y="4857840"/>
            <a:ext cx="14400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щущения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8"/>
          <p:cNvSpPr/>
          <p:nvPr/>
        </p:nvSpPr>
        <p:spPr>
          <a:xfrm>
            <a:off x="2085840" y="1889280"/>
            <a:ext cx="1800360" cy="9000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оздействуют н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0"/>
          <p:cNvSpPr/>
          <p:nvPr/>
        </p:nvSpPr>
        <p:spPr>
          <a:xfrm flipH="1" rot="16200000">
            <a:off x="3706200" y="3509280"/>
            <a:ext cx="1800000" cy="900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оизвод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1"/>
          <p:cNvSpPr/>
          <p:nvPr/>
        </p:nvSpPr>
        <p:spPr>
          <a:xfrm>
            <a:off x="7124760" y="4857840"/>
            <a:ext cx="1439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де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2"/>
          <p:cNvSpPr/>
          <p:nvPr/>
        </p:nvSpPr>
        <p:spPr>
          <a:xfrm>
            <a:off x="5326200" y="5127480"/>
            <a:ext cx="1800000" cy="90036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оставляющие </a:t>
            </a:r>
            <a:br>
              <a:rPr sz="1400"/>
            </a:b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в душе следы –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179280" y="3238560"/>
            <a:ext cx="323856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ерво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чинно-следственно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тношение связывает</a:t>
            </a:r>
            <a:br>
              <a:rPr sz="1800"/>
            </a:br>
            <a:r>
              <a:rPr b="1" i="1" lang="ru-RU" sz="1800" spc="-1" strike="noStrike">
                <a:solidFill>
                  <a:srgbClr val="66ff33"/>
                </a:solidFill>
                <a:latin typeface="Arial"/>
              </a:rPr>
              <a:t>материальные объекты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 в этом смысл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атериальн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7"/>
          <p:cNvSpPr/>
          <p:nvPr/>
        </p:nvSpPr>
        <p:spPr>
          <a:xfrm>
            <a:off x="5684760" y="2517840"/>
            <a:ext cx="323856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торо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чинно-следственно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тношение связывает</a:t>
            </a:r>
            <a:br>
              <a:rPr sz="1800"/>
            </a:br>
            <a:r>
              <a:rPr b="1" i="1" lang="ru-RU" sz="1800" spc="-1" strike="noStrike">
                <a:solidFill>
                  <a:srgbClr val="66ff33"/>
                </a:solidFill>
                <a:latin typeface="Arial"/>
              </a:rPr>
              <a:t>психические состояния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 в этом смысл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деальн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5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0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1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2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840" y="164880"/>
            <a:ext cx="89503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Онтологические предпосылки и природа позна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82296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ор о «врождённых иде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траргументы Г. Лейбница в защиту концепции «врождённых исти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ческие предпосылки рационализма и рационалистическая концепц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учение о монад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ины разума и истины ф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ческие предпосылки эмпиризма и  эмпирическая концепц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рвичные» и «вторичные»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 ощущения и идеи рефлек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480" y="274680"/>
            <a:ext cx="9021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ческие предпосылки эмпиризм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647640" y="1619280"/>
            <a:ext cx="14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ш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3886200" y="1619280"/>
            <a:ext cx="14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рга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3886200" y="4857840"/>
            <a:ext cx="14400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щущения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085840" y="1889280"/>
            <a:ext cx="1800360" cy="9000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оздействуют н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7"/>
          <p:cNvSpPr/>
          <p:nvPr/>
        </p:nvSpPr>
        <p:spPr>
          <a:xfrm flipH="1" rot="16200000">
            <a:off x="3706200" y="3509280"/>
            <a:ext cx="1800000" cy="900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оизвод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7124760" y="4857840"/>
            <a:ext cx="1439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де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9"/>
          <p:cNvSpPr/>
          <p:nvPr/>
        </p:nvSpPr>
        <p:spPr>
          <a:xfrm>
            <a:off x="5326200" y="5127480"/>
            <a:ext cx="1800000" cy="90036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оставляющие </a:t>
            </a:r>
            <a:br>
              <a:rPr sz="1400"/>
            </a:b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в душе следы –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287280" y="3778200"/>
            <a:ext cx="3238560" cy="25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ючевое знач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теории позна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мпиризма имее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тверждение, что</a:t>
            </a:r>
            <a:br>
              <a:rPr sz="1800"/>
            </a:b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изменения ощущени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гнализиру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информируют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изменении веще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5649840" y="1619280"/>
            <a:ext cx="3238560" cy="25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онтологическ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прос об отношени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лесног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психическому</a:t>
            </a:r>
            <a:br>
              <a:rPr sz="1800"/>
            </a:b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(материального</a:t>
            </a:r>
            <a:br>
              <a:rPr sz="1800"/>
            </a:b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к идеальному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таётся открыты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0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AutoShape 2"/>
          <p:cNvSpPr/>
          <p:nvPr/>
        </p:nvSpPr>
        <p:spPr>
          <a:xfrm>
            <a:off x="1079640" y="2878200"/>
            <a:ext cx="2950920" cy="136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тяжённос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форма, плотнос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движност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"/>
          <p:cNvSpPr/>
          <p:nvPr/>
        </p:nvSpPr>
        <p:spPr>
          <a:xfrm>
            <a:off x="5181480" y="2878200"/>
            <a:ext cx="2951280" cy="136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Цвет, звук, вкус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пах, тепл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ческие предпосылки эмпиризм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Первичные» и «вторичные»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934920" y="1438200"/>
            <a:ext cx="3238560" cy="12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ервичные качества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,  идеи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дны с сами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ми те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037120" y="1438200"/>
            <a:ext cx="3238560" cy="12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торичные качества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,  идеи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личаются о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родивших их фор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1079640" y="4246560"/>
            <a:ext cx="2950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надлежа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им тела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5181480" y="4246560"/>
            <a:ext cx="2951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ходятся в наш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рганах чувств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9"/>
          <p:cNvSpPr/>
          <p:nvPr/>
        </p:nvSpPr>
        <p:spPr>
          <a:xfrm>
            <a:off x="6081840" y="5218200"/>
            <a:ext cx="1214280" cy="121428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0"/>
          <p:cNvSpPr/>
          <p:nvPr/>
        </p:nvSpPr>
        <p:spPr>
          <a:xfrm>
            <a:off x="1943280" y="5218200"/>
            <a:ext cx="1214280" cy="12142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1" descr="eye (1-tr)"/>
          <p:cNvPicPr/>
          <p:nvPr/>
        </p:nvPicPr>
        <p:blipFill>
          <a:blip r:embed="rId2"/>
          <a:stretch/>
        </p:blipFill>
        <p:spPr>
          <a:xfrm>
            <a:off x="4605480" y="5110200"/>
            <a:ext cx="1266840" cy="5144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2" descr="ear"/>
          <p:cNvPicPr/>
          <p:nvPr/>
        </p:nvPicPr>
        <p:blipFill>
          <a:blip r:embed="rId3"/>
          <a:stretch/>
        </p:blipFill>
        <p:spPr>
          <a:xfrm>
            <a:off x="7448400" y="5829480"/>
            <a:ext cx="533520" cy="838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nose (1)"/>
          <p:cNvPicPr/>
          <p:nvPr/>
        </p:nvPicPr>
        <p:blipFill>
          <a:blip r:embed="rId4"/>
          <a:stretch/>
        </p:blipFill>
        <p:spPr>
          <a:xfrm>
            <a:off x="5219640" y="5757840"/>
            <a:ext cx="666720" cy="981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4" descr="fingers"/>
          <p:cNvPicPr/>
          <p:nvPr/>
        </p:nvPicPr>
        <p:blipFill>
          <a:blip r:embed="rId5"/>
          <a:stretch/>
        </p:blipFill>
        <p:spPr>
          <a:xfrm>
            <a:off x="7448400" y="5073480"/>
            <a:ext cx="1162080" cy="67644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3"/>
          <p:cNvSpPr/>
          <p:nvPr/>
        </p:nvSpPr>
        <p:spPr>
          <a:xfrm>
            <a:off x="2770200" y="1619280"/>
            <a:ext cx="3598920" cy="18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е идеи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лучаются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пыт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611280" y="4497480"/>
            <a:ext cx="3598920" cy="18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и идеи получ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я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нешни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едметов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4929120" y="4497480"/>
            <a:ext cx="3598920" cy="18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ие идеи получ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флекс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д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нутренни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ями нашег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ум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AutoShape 6"/>
          <p:cNvCxnSpPr/>
          <p:nvPr/>
        </p:nvCxnSpPr>
        <p:spPr>
          <a:xfrm>
            <a:off x="4570560" y="3417480"/>
            <a:ext cx="2160" cy="5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48" name="Line 7"/>
          <p:cNvSpPr/>
          <p:nvPr/>
        </p:nvSpPr>
        <p:spPr>
          <a:xfrm>
            <a:off x="2409840" y="3957480"/>
            <a:ext cx="2158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AutoShape 8"/>
          <p:cNvCxnSpPr/>
          <p:nvPr/>
        </p:nvCxnSpPr>
        <p:spPr>
          <a:xfrm>
            <a:off x="2409840" y="3957480"/>
            <a:ext cx="2160" cy="540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50" name="AutoShape 9"/>
          <p:cNvCxnSpPr/>
          <p:nvPr/>
        </p:nvCxnSpPr>
        <p:spPr>
          <a:xfrm>
            <a:off x="6729480" y="3957480"/>
            <a:ext cx="2160" cy="540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и ощущения и идеи рефлек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4"/>
          <p:cNvSpPr/>
          <p:nvPr/>
        </p:nvSpPr>
        <p:spPr>
          <a:xfrm>
            <a:off x="4570560" y="3957480"/>
            <a:ext cx="2158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50920" y="2499840"/>
            <a:ext cx="424656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остые иде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получа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щуще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рефлекс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оставаясь при этом пассив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62560" y="2499840"/>
            <a:ext cx="447048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ложные иде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утём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оедине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ескольких простых идей в одну сложную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деи отношени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утём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опоставле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вух идей (простых и/или сложных)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ие иде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утём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абстрагирова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.е.  обособления идей от всех других идей, сопутствующих им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682560" y="1690560"/>
            <a:ext cx="359892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ссивное состояние ум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4894200" y="1690560"/>
            <a:ext cx="359892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ктивная работа ум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3"/>
          <p:cNvSpPr/>
          <p:nvPr/>
        </p:nvSpPr>
        <p:spPr>
          <a:xfrm>
            <a:off x="3130560" y="1690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Сложные идеи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AutoShape 4"/>
          <p:cNvCxnSpPr/>
          <p:nvPr/>
        </p:nvCxnSpPr>
        <p:spPr>
          <a:xfrm>
            <a:off x="4570560" y="276984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63" name="Line 5"/>
          <p:cNvSpPr/>
          <p:nvPr/>
        </p:nvSpPr>
        <p:spPr>
          <a:xfrm>
            <a:off x="1870200" y="3130560"/>
            <a:ext cx="2698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6"/>
          <p:cNvSpPr/>
          <p:nvPr/>
        </p:nvSpPr>
        <p:spPr>
          <a:xfrm>
            <a:off x="3309840" y="3490920"/>
            <a:ext cx="251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убстанц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AutoShape 7"/>
          <p:cNvCxnSpPr/>
          <p:nvPr/>
        </p:nvCxnSpPr>
        <p:spPr>
          <a:xfrm>
            <a:off x="4570560" y="313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66" name="AutoShape 8"/>
          <p:cNvSpPr/>
          <p:nvPr/>
        </p:nvSpPr>
        <p:spPr>
          <a:xfrm>
            <a:off x="611280" y="3490920"/>
            <a:ext cx="25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Модус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AutoShape 9"/>
          <p:cNvCxnSpPr/>
          <p:nvPr/>
        </p:nvCxnSpPr>
        <p:spPr>
          <a:xfrm>
            <a:off x="1870200" y="313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68" name="Line 17"/>
          <p:cNvSpPr/>
          <p:nvPr/>
        </p:nvSpPr>
        <p:spPr>
          <a:xfrm>
            <a:off x="4570560" y="3130560"/>
            <a:ext cx="2698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AutoShape 18"/>
          <p:cNvCxnSpPr/>
          <p:nvPr/>
        </p:nvCxnSpPr>
        <p:spPr>
          <a:xfrm>
            <a:off x="7268760" y="3130200"/>
            <a:ext cx="252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70" name="AutoShape 19"/>
          <p:cNvSpPr/>
          <p:nvPr/>
        </p:nvSpPr>
        <p:spPr>
          <a:xfrm>
            <a:off x="6008760" y="3490920"/>
            <a:ext cx="25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Отноше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0"/>
          <p:cNvSpPr/>
          <p:nvPr/>
        </p:nvSpPr>
        <p:spPr>
          <a:xfrm>
            <a:off x="611280" y="4570560"/>
            <a:ext cx="251928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жные иде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означающ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й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станций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что, зависящ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них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1"/>
          <p:cNvSpPr/>
          <p:nvPr/>
        </p:nvSpPr>
        <p:spPr>
          <a:xfrm>
            <a:off x="3309840" y="4570560"/>
            <a:ext cx="251964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жные иде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ющ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стоятель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ющ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2"/>
          <p:cNvSpPr/>
          <p:nvPr/>
        </p:nvSpPr>
        <p:spPr>
          <a:xfrm>
            <a:off x="6008760" y="4570560"/>
            <a:ext cx="251928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жные иде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учаем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сопоставле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й иде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друго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nodeType="clickEffect" fill="hold">
                      <p:stCondLst>
                        <p:cond delay="0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0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47400" y="1816200"/>
            <a:ext cx="377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Джон Лок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29 августа 1632 г. в Рингт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28 октября 1704 г. в Отс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Готфрид Лейбн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1 июля 1646 г. в Лейпци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4 ноября 1716 г. в Ганнов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Онтологические предпосылки и природа позна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9" name="Oval 7"/>
          <p:cNvSpPr/>
          <p:nvPr/>
        </p:nvSpPr>
        <p:spPr>
          <a:xfrm>
            <a:off x="6012000" y="306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010840" y="2637000"/>
            <a:ext cx="1096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ингто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1"/>
          <p:cNvSpPr/>
          <p:nvPr/>
        </p:nvSpPr>
        <p:spPr>
          <a:xfrm>
            <a:off x="7740720" y="3141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7604640" y="3284640"/>
            <a:ext cx="11210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ейпциг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3"/>
          <p:cNvSpPr/>
          <p:nvPr/>
        </p:nvSpPr>
        <p:spPr>
          <a:xfrm>
            <a:off x="6440400" y="2968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6483960" y="2554200"/>
            <a:ext cx="596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5"/>
          <p:cNvSpPr/>
          <p:nvPr/>
        </p:nvSpPr>
        <p:spPr>
          <a:xfrm>
            <a:off x="7524720" y="2997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7455240" y="2554200"/>
            <a:ext cx="12610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ннове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н Локк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32-17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390720" y="615312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жон Лок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87280" y="3238560"/>
            <a:ext cx="47498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о человеческом разумен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9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а трактата о правлен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9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локк"/>
          <p:cNvPicPr/>
          <p:nvPr/>
        </p:nvPicPr>
        <p:blipFill>
          <a:blip r:embed="rId1"/>
          <a:stretch/>
        </p:blipFill>
        <p:spPr>
          <a:xfrm>
            <a:off x="5218200" y="1619280"/>
            <a:ext cx="3436920" cy="432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2" name="Text Box 8"/>
          <p:cNvSpPr/>
          <p:nvPr/>
        </p:nvSpPr>
        <p:spPr>
          <a:xfrm>
            <a:off x="898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отфрид Вильгельм Лейбниц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46-17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116680" y="6153120"/>
            <a:ext cx="35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тфрид Вильгельм Лейбни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87280" y="3057480"/>
            <a:ext cx="44989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вые опыты о человеческом разумен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0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ы теодицеи о благости Божье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надолог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Leibniz (5)"/>
          <p:cNvPicPr/>
          <p:nvPr/>
        </p:nvPicPr>
        <p:blipFill>
          <a:blip r:embed="rId1"/>
          <a:stretch/>
        </p:blipFill>
        <p:spPr>
          <a:xfrm>
            <a:off x="5218200" y="1619280"/>
            <a:ext cx="334620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8" name="Text Box 9"/>
          <p:cNvSpPr/>
          <p:nvPr/>
        </p:nvSpPr>
        <p:spPr>
          <a:xfrm>
            <a:off x="898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сновные представ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латон (427-347 до н.э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. Декарт (1596-16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 Мальбранш (1638-17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ембриджские платоники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 Мор (1614-1687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. Кедворт (1617-1688)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39640" y="1582560"/>
            <a:ext cx="3670560" cy="16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тивизм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ativus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рождённый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е о наличии в разум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рождённого зна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идей, принципов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More H (cut2)"/>
          <p:cNvPicPr/>
          <p:nvPr/>
        </p:nvPicPr>
        <p:blipFill>
          <a:blip r:embed="rId1"/>
          <a:stretch/>
        </p:blipFill>
        <p:spPr>
          <a:xfrm>
            <a:off x="5397480" y="4497480"/>
            <a:ext cx="1284480" cy="1798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4" name="Picture 9" descr="cudworth_252Cr (Thoemmes-cut, red)"/>
          <p:cNvPicPr/>
          <p:nvPr/>
        </p:nvPicPr>
        <p:blipFill>
          <a:blip r:embed="rId2"/>
          <a:stretch/>
        </p:blipFill>
        <p:spPr>
          <a:xfrm>
            <a:off x="7016760" y="4857840"/>
            <a:ext cx="1388880" cy="180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5" name="Picture 10" descr="Платон (БСЭ)"/>
          <p:cNvPicPr/>
          <p:nvPr/>
        </p:nvPicPr>
        <p:blipFill>
          <a:blip r:embed="rId3"/>
          <a:stretch/>
        </p:blipFill>
        <p:spPr>
          <a:xfrm>
            <a:off x="539640" y="3417840"/>
            <a:ext cx="1187640" cy="18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6" name="Picture 11" descr="Декарт Р (БСЭ)"/>
          <p:cNvPicPr/>
          <p:nvPr/>
        </p:nvPicPr>
        <p:blipFill>
          <a:blip r:embed="rId4"/>
          <a:stretch/>
        </p:blipFill>
        <p:spPr>
          <a:xfrm>
            <a:off x="2050920" y="3778200"/>
            <a:ext cx="1432080" cy="18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7" name="Picture 12" descr="Мальбранш Н (БСЭ)"/>
          <p:cNvPicPr/>
          <p:nvPr/>
        </p:nvPicPr>
        <p:blipFill>
          <a:blip r:embed="rId5"/>
          <a:stretch/>
        </p:blipFill>
        <p:spPr>
          <a:xfrm>
            <a:off x="3778200" y="4138560"/>
            <a:ext cx="1224000" cy="18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16"/>
          <p:cNvSpPr/>
          <p:nvPr/>
        </p:nvSpPr>
        <p:spPr>
          <a:xfrm>
            <a:off x="431640" y="564984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дификация аргумен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нтанного соглас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–</a:t>
            </a:r>
            <a:br>
              <a:rPr sz="16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ргумен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дукци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2"/>
          <p:cNvSpPr/>
          <p:nvPr/>
        </p:nvSpPr>
        <p:spPr>
          <a:xfrm>
            <a:off x="108000" y="5073480"/>
            <a:ext cx="374760" cy="820800"/>
          </a:xfrm>
          <a:custGeom>
            <a:avLst/>
            <a:gdLst>
              <a:gd name="textAreaLeft" fmla="*/ 50040 w 374760"/>
              <a:gd name="textAreaRight" fmla="*/ 324720 w 374760"/>
              <a:gd name="textAreaTop" fmla="*/ 143640 h 820800"/>
              <a:gd name="textAreaBottom" fmla="*/ 595080 h 820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4"/>
          <p:cNvSpPr/>
          <p:nvPr/>
        </p:nvSpPr>
        <p:spPr>
          <a:xfrm>
            <a:off x="431640" y="446256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дификация аргумен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атентного зна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–</a:t>
            </a:r>
            <a:br>
              <a:rPr sz="16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ргумен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понтанного соглас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1"/>
          <p:cNvSpPr/>
          <p:nvPr/>
        </p:nvSpPr>
        <p:spPr>
          <a:xfrm>
            <a:off x="108000" y="3886200"/>
            <a:ext cx="374760" cy="820800"/>
          </a:xfrm>
          <a:custGeom>
            <a:avLst/>
            <a:gdLst>
              <a:gd name="textAreaLeft" fmla="*/ 50040 w 374760"/>
              <a:gd name="textAreaRight" fmla="*/ 324720 w 374760"/>
              <a:gd name="textAreaTop" fmla="*/ 143640 h 820800"/>
              <a:gd name="textAreaBottom" fmla="*/ 595080 h 820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431640" y="3273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дификация аргумен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общего согласия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ргумен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тентного зна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0"/>
          <p:cNvSpPr/>
          <p:nvPr/>
        </p:nvSpPr>
        <p:spPr>
          <a:xfrm>
            <a:off x="108000" y="2698920"/>
            <a:ext cx="374760" cy="820440"/>
          </a:xfrm>
          <a:custGeom>
            <a:avLst/>
            <a:gdLst>
              <a:gd name="textAreaLeft" fmla="*/ 50040 w 374760"/>
              <a:gd name="textAreaRight" fmla="*/ 324720 w 374760"/>
              <a:gd name="textAreaTop" fmla="*/ 143640 h 820440"/>
              <a:gd name="textAreaBottom" fmla="*/ 595080 h 820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431640" y="2085840"/>
            <a:ext cx="39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ргумен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общего соглас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1"/>
          <p:cNvSpPr/>
          <p:nvPr/>
        </p:nvSpPr>
        <p:spPr>
          <a:xfrm>
            <a:off x="4749840" y="2085840"/>
            <a:ext cx="39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е существует истин, с которыми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действительно были бы согласны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се: даже так называемые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«общеизвестные» истины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еизвестны детям и идиотам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4749840" y="3273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«латентное» знание –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 знание, которым мож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ладать, не сознавая эт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такое знание невозможн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5"/>
          <p:cNvSpPr/>
          <p:nvPr/>
        </p:nvSpPr>
        <p:spPr>
          <a:xfrm>
            <a:off x="4749840" y="446256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Начало рассуждения не есть то время,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огда мы приходим к осознанию этих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истин; если же считать доказательством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рождённости самый факт согласия,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идётся объявить врождёнными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се истины, с которым мы соглашаемся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7"/>
          <p:cNvSpPr/>
          <p:nvPr/>
        </p:nvSpPr>
        <p:spPr>
          <a:xfrm>
            <a:off x="4749840" y="564984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нее общие исти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вестны рань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ее общих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893520" y="1474920"/>
            <a:ext cx="31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Аргументы нативист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5107680" y="1474920"/>
            <a:ext cx="310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Контраргументы Лок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15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 сенсуализм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основной вывод Лок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324000" y="2158920"/>
            <a:ext cx="413856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ет ничего в разум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его бы не было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аньше в ощущен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324000" y="5037120"/>
            <a:ext cx="4138560" cy="12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ihil est in intellectu,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quod non prius fuerit in sensu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713120" y="2698920"/>
            <a:ext cx="4210200" cy="30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abula ras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чистая доск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ин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енсуализм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обозначения состоя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я человек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щё не получивш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нешнего чувственного опыт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например, новорождённого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потому не располагающ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ими бы то ни было знаниям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3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15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 сенсуализм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основной вывод Лок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324000" y="2158920"/>
            <a:ext cx="413856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ет ничего в разум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его бы не было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аньше в ощущен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324000" y="5037120"/>
            <a:ext cx="4138560" cy="12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ihil est in intellectu,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quod non prius fuerit in sensu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4713120" y="2698920"/>
            <a:ext cx="4210200" cy="30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енсуал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sensus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увство, ощущен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носеологическая доктрин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тверждающая, чт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увственные ощущ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вляются единственны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точником и основанием знания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енсуализм долгое время бы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новной формой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эмпиризм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1:21:56Z</dcterms:created>
  <dc:creator>Николай Бирюков / Nikolai Biryukov</dc:creator>
  <dc:description>Редакция марта 2009 г.</dc:description>
  <dc:language>en-US</dc:language>
  <cp:lastModifiedBy>LEGION</cp:lastModifiedBy>
  <dcterms:modified xsi:type="dcterms:W3CDTF">2014-11-11T12:40:00Z</dcterms:modified>
  <cp:revision>123</cp:revision>
  <dc:subject>Основы философии - Тема 12</dc:subject>
  <dc:title>Локк и Лейбниц: онтологические предпосылки и природа познания</dc:title>
</cp:coreProperties>
</file>