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4C44-2DD9-43F2-BFE5-1E70DDF9AC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766C-568A-4FF2-BC44-DC7E4600EC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е предпосылк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природ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7D71-89B4-4AF7-A57E-090A1C3293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щита Лейбницем врождённ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FD13-E854-4EAC-A13F-50A680EA2C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рацион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ейбниц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F661-F8BA-462B-B58D-18DFE1BEB3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F6BC-DB10-4407-9A3C-5CECA48561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793C-0E0E-4C80-9A2C-71FC1164A7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Дуализм</a:t>
            </a: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Монизм</a:t>
            </a: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Плюр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1D18-D932-4E05-ABC2-37A24A0CA6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E3E6-53E0-4210-9AE7-6866B30B2F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ECF2-B513-488E-BC32-B42D989575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3663-FA99-40DF-A1ED-5126A3321F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ционалист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892B-1EAF-4D09-9E95-51F18C09B3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2ACD-8806-4FF8-A28F-F6ECE42EFC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раргументы Г. Лейбница в защиту концепции «врождённых ист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 и рационалист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чение о монад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 и  эмпир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12AA-DA24-4A47-8DC0-8D00B8E33B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E38E-04E1-4DDF-B41E-C6368D3E64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4664-3F8E-4911-95D1-0A04B970A6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B9B4-5F80-42EE-BFAE-03EF56C749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сты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получа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ощущ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рефлекс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оставаясь при этом пассив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ложны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оедин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скольких простых идей в одну сложну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деи отношен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опоставл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ух идей (простых и/или сложных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абстрагир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.е.  обособления идей от всех других идей, сопутствующих им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ейств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75B6-8793-48B8-8A89-D32ABAA369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67EB-3870-403A-8042-FAC6184823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AB77-1C61-4245-9075-928F9E8B48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Джон Лок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9 августа 1632 г. в Рингт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8 октября 1704 г. в От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Готфрид Лейбн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1 июля 1646 г. в Лейпци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14 ноября 1716 г. в Ганнове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6AFC-AF91-4B00-9A3D-CC00E4A7C8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632-17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DBDB-2E47-46F0-86CF-0D891B82B5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46-171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B2CD-243A-4B7D-8E08-3C818F7E26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Основные представ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латон (427-347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. Декарт (1596-16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Мальбранш (1638-17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ембриджские платоники: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Мор (1614-1687)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. Кедворт (1617-1688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3E36-EA7E-4FAF-A920-DD97C7A76D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89EE-391E-47F5-A382-1E97572ADC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DD7D-912C-4DA3-94E0-E694F15EB6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9C87-0083-4D74-844B-448192CA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293-2DA7-4F13-AEB6-3550D478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EAA-4C3B-4C8E-8A8A-611692BA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035E-2A34-4FB8-AEA8-E33E77F0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222-8960-401F-B726-84232063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22F-F5D6-471A-ADF6-43089993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BAD-1A24-42D6-BE8C-F0FA5E44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B82-E4DB-4280-9531-8F1C93DE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7179-3166-4E27-A6B8-E5229609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08D5-AA8F-47C0-B0B8-68E47A42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738D-6E2B-4D91-A1AD-46AA4BDB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EB3-81C7-4645-A8DC-C13B6F1A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7B53-63B5-41B3-B0F4-BDCF130624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2071800"/>
            <a:ext cx="856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нтологические предпосылки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 природа по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щита Лейбницем врождённого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4316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го «всеобщего согласия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уе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7498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х истин основа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а всеобщем соглас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316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верждение о налич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сознанного 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речив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47498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сознанное знание – вовсе н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смыслица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пример, пок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спомним, мы не осозна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, что знали, но забыл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316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е можем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м знанием всё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считаем истинн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47498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еется, не всякое зн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ено, но следует призн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ми истины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объяснимые из опыт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4316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есть результ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озаключений из да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опыт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7498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умозаключ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гут быть получен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тём умозаключ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263240" y="1474920"/>
            <a:ext cx="23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ргументы Лок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925520" y="1474920"/>
            <a:ext cx="36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нтраргументы Лейбниц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рацион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ейбн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78200" y="2158920"/>
            <a:ext cx="413892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оме самого разум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4678200" y="5037120"/>
            <a:ext cx="413892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fuerit in sensu,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isi intellectus ipse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3224160" y="4965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2144880" y="370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1065240" y="2446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719280" y="161928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мир бы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разум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упорядочен, незакономерен),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 бы принципиаль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остижи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798560" y="2878200"/>
            <a:ext cx="4426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принципы нашего разу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личалис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 принцип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оустройства, мир был 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остижим для на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878200" y="413856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познаваем лишь потому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 разум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ждествен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ам мир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3957480" y="5397480"/>
            <a:ext cx="4426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основные зако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разум мож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йти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м, не обращаясь к опыт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3" descr="Hals, Descartes - head (c 1650, Louvre)"/>
          <p:cNvPicPr/>
          <p:nvPr/>
        </p:nvPicPr>
        <p:blipFill>
          <a:blip r:embed="rId1"/>
          <a:stretch/>
        </p:blipFill>
        <p:spPr>
          <a:xfrm>
            <a:off x="0" y="4743360"/>
            <a:ext cx="2124000" cy="2114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Leibniz (5)"/>
          <p:cNvPicPr/>
          <p:nvPr/>
        </p:nvPicPr>
        <p:blipFill>
          <a:blip r:embed="rId2"/>
          <a:stretch/>
        </p:blipFill>
        <p:spPr>
          <a:xfrm>
            <a:off x="7016760" y="1582560"/>
            <a:ext cx="210492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6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720000" y="2301840"/>
            <a:ext cx="576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зис 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умности мир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Лейбниц доводи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 логического предела – утверждения, чт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творённый Богом мир есть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ий из возможных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3268080" y="5037120"/>
            <a:ext cx="4479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утверждение Лейбница буде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просту высмея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льтеро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его философской повест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Кандид, или Оптимизм» (1758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Вольтер (1)"/>
          <p:cNvPicPr/>
          <p:nvPr/>
        </p:nvPicPr>
        <p:blipFill>
          <a:blip r:embed="rId1"/>
          <a:stretch/>
        </p:blipFill>
        <p:spPr>
          <a:xfrm>
            <a:off x="34920" y="4425840"/>
            <a:ext cx="1940040" cy="215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Leibniz (5)"/>
          <p:cNvPicPr/>
          <p:nvPr/>
        </p:nvPicPr>
        <p:blipFill>
          <a:blip r:embed="rId2"/>
          <a:stretch/>
        </p:blipFill>
        <p:spPr>
          <a:xfrm>
            <a:off x="7016760" y="1582560"/>
            <a:ext cx="2104920" cy="21607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9" descr="Uknown (after Hals), Descartes (c 1650, Louvre)_red-"/>
          <p:cNvPicPr/>
          <p:nvPr/>
        </p:nvPicPr>
        <p:blipFill>
          <a:blip r:embed="rId1"/>
          <a:stretch/>
        </p:blipFill>
        <p:spPr>
          <a:xfrm>
            <a:off x="4857840" y="1619280"/>
            <a:ext cx="153360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0" name="Text Box 3"/>
          <p:cNvSpPr/>
          <p:nvPr/>
        </p:nvSpPr>
        <p:spPr>
          <a:xfrm>
            <a:off x="4641840" y="356220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Декар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614560" y="482112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Спиноз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944400" y="608184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Лейбни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уализм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низм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люр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898560" y="2193840"/>
            <a:ext cx="161928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2517840" y="2193840"/>
            <a:ext cx="161928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898560" y="3741840"/>
            <a:ext cx="323856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, или Приро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89856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1438200" y="5289480"/>
            <a:ext cx="5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197820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251784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5"/>
          <p:cNvSpPr/>
          <p:nvPr/>
        </p:nvSpPr>
        <p:spPr>
          <a:xfrm>
            <a:off x="305748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359892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7" descr="spinoza1-red"/>
          <p:cNvPicPr/>
          <p:nvPr/>
        </p:nvPicPr>
        <p:blipFill>
          <a:blip r:embed="rId2"/>
          <a:stretch/>
        </p:blipFill>
        <p:spPr>
          <a:xfrm>
            <a:off x="6045120" y="2878200"/>
            <a:ext cx="144324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18" descr="Leibniz (5)-red"/>
          <p:cNvPicPr/>
          <p:nvPr/>
        </p:nvPicPr>
        <p:blipFill>
          <a:blip r:embed="rId3"/>
          <a:stretch/>
        </p:blipFill>
        <p:spPr>
          <a:xfrm>
            <a:off x="7232760" y="4138560"/>
            <a:ext cx="1396800" cy="179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6840" y="12816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87280" y="1366920"/>
            <a:ext cx="413856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он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μόνος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один, единственны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ая пози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знающая единство мира, т.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ципиальную сводим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х его объектов (явлений)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ой субстанциальной основ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713120" y="1366920"/>
            <a:ext cx="413892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люр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pluralis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ый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ая пози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знающая наличие в мир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а принципиаль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зависимых (несводимых друг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гу) первоначал (субстанций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500200" y="4138560"/>
            <a:ext cx="413856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dualis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ойственный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 плюрализм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граничивающая числ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зависимых первосущно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а двумя (обычно так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началами признаются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атериальн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уховн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ростые сущност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онад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т возникать или исчез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аче, как «разом» – в результат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ения или уничтож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е множе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е о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ные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динаков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были бы тожде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составляли бы одну сущност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рерывно изменяю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ём эти изменения исходят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утреннего принципа, так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то внешнее на мона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лияе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снове мира должны леж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ые сущ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убстанци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всё слож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ит из простог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вообще не доступ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му внешнему воздейств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не имеют окон»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6" descr="leibniz10"/>
          <p:cNvPicPr/>
          <p:nvPr/>
        </p:nvPicPr>
        <p:blipFill>
          <a:blip r:embed="rId1"/>
          <a:stretch/>
        </p:blipFill>
        <p:spPr>
          <a:xfrm>
            <a:off x="7197840" y="1366920"/>
            <a:ext cx="1911240" cy="19796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ходящее состояние, котор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 собой множе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дином есть не 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перцепция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мир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ин и тот ж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 вс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ах («лучший из возможных»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оспринимается по-разном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ичием перцепц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ж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ровнем апперцеп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сознания перцепций) мона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тличаются друг от друг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в монадах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всей их просто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держи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ногоразличие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, таким образ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ём каждая содерж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ебе весь мир, являя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живым зеркалом универсума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4" descr="leibniz10"/>
          <p:cNvPicPr/>
          <p:nvPr/>
        </p:nvPicPr>
        <p:blipFill>
          <a:blip r:embed="rId1"/>
          <a:stretch/>
        </p:blipFill>
        <p:spPr>
          <a:xfrm>
            <a:off x="7197840" y="1366920"/>
            <a:ext cx="1911240" cy="19796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ционалистическая концепция познания </a:t>
            </a:r>
            <a:br>
              <a:rPr sz="30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31640" y="1546200"/>
            <a:ext cx="482292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ины разу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я, принимаемые за истин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основании логического закона</a:t>
            </a:r>
            <a:br>
              <a:rPr sz="1800"/>
            </a:b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cc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х отрицание ведёт к противоречию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ываются такж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чными истинам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как, в отличие от истин факт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ны всегда (при любых условиях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922560" y="4138560"/>
            <a:ext cx="482292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ины фак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я, отрицание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заключает в себе ника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я, верные при одни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ловиях и неверные при других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имаются за истинные лишь пр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статочном основан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логическ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достаточного основания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5510880" y="172728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мма углов треугольн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а двум прям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6585120" y="2733840"/>
            <a:ext cx="107928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6227640" y="271620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6224760" y="364824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Dog sitting"/>
          <p:cNvPicPr/>
          <p:nvPr/>
        </p:nvPicPr>
        <p:blipFill>
          <a:blip r:embed="rId1"/>
          <a:stretch/>
        </p:blipFill>
        <p:spPr>
          <a:xfrm>
            <a:off x="1546200" y="5218200"/>
            <a:ext cx="1123920" cy="10191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0"/>
          <p:cNvSpPr/>
          <p:nvPr/>
        </p:nvSpPr>
        <p:spPr>
          <a:xfrm>
            <a:off x="473400" y="431784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крыльце сидит собач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маленькой бородко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7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7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9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1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3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480" y="274680"/>
            <a:ext cx="9021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64764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6"/>
          <p:cNvSpPr/>
          <p:nvPr/>
        </p:nvSpPr>
        <p:spPr>
          <a:xfrm>
            <a:off x="388620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га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7"/>
          <p:cNvSpPr/>
          <p:nvPr/>
        </p:nvSpPr>
        <p:spPr>
          <a:xfrm>
            <a:off x="3886200" y="4857840"/>
            <a:ext cx="14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щущения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8"/>
          <p:cNvSpPr/>
          <p:nvPr/>
        </p:nvSpPr>
        <p:spPr>
          <a:xfrm>
            <a:off x="2085840" y="1889280"/>
            <a:ext cx="1800360" cy="9000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оздействуют 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 flipH="1" rot="16200000">
            <a:off x="3706200" y="3509280"/>
            <a:ext cx="1800000" cy="90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оизвод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1"/>
          <p:cNvSpPr/>
          <p:nvPr/>
        </p:nvSpPr>
        <p:spPr>
          <a:xfrm>
            <a:off x="7124760" y="4857840"/>
            <a:ext cx="14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2"/>
          <p:cNvSpPr/>
          <p:nvPr/>
        </p:nvSpPr>
        <p:spPr>
          <a:xfrm>
            <a:off x="5326200" y="5127480"/>
            <a:ext cx="1800000" cy="900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ставляющие </a:t>
            </a:r>
            <a:br>
              <a:rPr sz="1400"/>
            </a:b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душе следы –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179280" y="3238560"/>
            <a:ext cx="32385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ерв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чинно-следственн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ношение связывает</a:t>
            </a:r>
            <a:br>
              <a:rPr sz="1800"/>
            </a:b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материальные объекты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в этом смысл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атериаль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5684760" y="2517840"/>
            <a:ext cx="32385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тор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чинно-следственн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ношение связывает</a:t>
            </a:r>
            <a:br>
              <a:rPr sz="1800"/>
            </a:b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психические состояния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в этом смысл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деаль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840" y="16488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раргументы Г. Лейбница в защиту концепции «врождённых ист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 и рационалист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чение о монад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 и  эмпир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480" y="274680"/>
            <a:ext cx="9021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64764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388620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га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3886200" y="4857840"/>
            <a:ext cx="14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щущения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085840" y="1889280"/>
            <a:ext cx="1800360" cy="9000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оздействуют 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 flipH="1" rot="16200000">
            <a:off x="3706200" y="3509280"/>
            <a:ext cx="1800000" cy="90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оизвод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7124760" y="4857840"/>
            <a:ext cx="14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5326200" y="5127480"/>
            <a:ext cx="1800000" cy="900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ставляющие </a:t>
            </a:r>
            <a:br>
              <a:rPr sz="1400"/>
            </a:b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душе следы –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287280" y="3778200"/>
            <a:ext cx="323856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ючевое зна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теории позн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пиризма име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тверждение, что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изменения ощущен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гнализиру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нформируют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изменении веще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5649840" y="1619280"/>
            <a:ext cx="323856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онтологичес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прос об отношен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лесн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психическому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(материального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к идеальному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ётся открыт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0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1079640" y="2878200"/>
            <a:ext cx="295092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тяжён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орма, плот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движнос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5181480" y="2878200"/>
            <a:ext cx="295128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Цвет, звук, вкус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пах, тепл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9349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рв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ны с сам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ми те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0371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тор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одивших их фор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1079640" y="4246560"/>
            <a:ext cx="2950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адлеж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м тела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5181480" y="4246560"/>
            <a:ext cx="2951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 в на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рганах чувст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6081840" y="5218200"/>
            <a:ext cx="1214280" cy="12142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943280" y="5218200"/>
            <a:ext cx="1214280" cy="12142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1" descr="eye (1-tr)"/>
          <p:cNvPicPr/>
          <p:nvPr/>
        </p:nvPicPr>
        <p:blipFill>
          <a:blip r:embed="rId2"/>
          <a:stretch/>
        </p:blipFill>
        <p:spPr>
          <a:xfrm>
            <a:off x="4605480" y="5110200"/>
            <a:ext cx="1266840" cy="514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ear"/>
          <p:cNvPicPr/>
          <p:nvPr/>
        </p:nvPicPr>
        <p:blipFill>
          <a:blip r:embed="rId3"/>
          <a:stretch/>
        </p:blipFill>
        <p:spPr>
          <a:xfrm>
            <a:off x="7448400" y="582948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nose (1)"/>
          <p:cNvPicPr/>
          <p:nvPr/>
        </p:nvPicPr>
        <p:blipFill>
          <a:blip r:embed="rId4"/>
          <a:stretch/>
        </p:blipFill>
        <p:spPr>
          <a:xfrm>
            <a:off x="5219640" y="5757840"/>
            <a:ext cx="666720" cy="981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fingers"/>
          <p:cNvPicPr/>
          <p:nvPr/>
        </p:nvPicPr>
        <p:blipFill>
          <a:blip r:embed="rId5"/>
          <a:stretch/>
        </p:blipFill>
        <p:spPr>
          <a:xfrm>
            <a:off x="7448400" y="5073480"/>
            <a:ext cx="1162080" cy="6764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3"/>
          <p:cNvSpPr/>
          <p:nvPr/>
        </p:nvSpPr>
        <p:spPr>
          <a:xfrm>
            <a:off x="2770200" y="1619280"/>
            <a:ext cx="3598920" cy="18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е иде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лучаютс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пы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611280" y="4497480"/>
            <a:ext cx="359892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 идеи полу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нешни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едмето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4929120" y="4497480"/>
            <a:ext cx="359892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е идеи полу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с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нутренн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ями нашег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м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AutoShape 6"/>
          <p:cNvCxnSpPr/>
          <p:nvPr/>
        </p:nvCxnSpPr>
        <p:spPr>
          <a:xfrm>
            <a:off x="4570560" y="341748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48" name="Line 7"/>
          <p:cNvSpPr/>
          <p:nvPr/>
        </p:nvSpPr>
        <p:spPr>
          <a:xfrm>
            <a:off x="2409840" y="3957480"/>
            <a:ext cx="215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AutoShape 8"/>
          <p:cNvCxnSpPr/>
          <p:nvPr/>
        </p:nvCxnSpPr>
        <p:spPr>
          <a:xfrm>
            <a:off x="2409840" y="395748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50" name="AutoShape 9"/>
          <p:cNvCxnSpPr/>
          <p:nvPr/>
        </p:nvCxnSpPr>
        <p:spPr>
          <a:xfrm>
            <a:off x="6729480" y="395748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4570560" y="3957480"/>
            <a:ext cx="215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920" y="2499840"/>
            <a:ext cx="424656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сты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получа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щущ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ефлекс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оставаясь при этом пасси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62560" y="2499840"/>
            <a:ext cx="44704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ложны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един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скольких простых идей в одну сложную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деи отношен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поставл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ух идей (простых и/или сложных)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бстрагирова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 обособления идей от всех других идей, сопутствующих и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8256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ссивное состояние ум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489420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тивная работа ум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3130560" y="1690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Сложные иде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AutoShape 4"/>
          <p:cNvCxnSpPr/>
          <p:nvPr/>
        </p:nvCxnSpPr>
        <p:spPr>
          <a:xfrm>
            <a:off x="4570560" y="2769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3" name="Line 5"/>
          <p:cNvSpPr/>
          <p:nvPr/>
        </p:nvSpPr>
        <p:spPr>
          <a:xfrm>
            <a:off x="1870200" y="3130560"/>
            <a:ext cx="269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3309840" y="349092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убстан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7"/>
          <p:cNvCxnSpPr/>
          <p:nvPr/>
        </p:nvCxnSpPr>
        <p:spPr>
          <a:xfrm>
            <a:off x="457056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6" name="AutoShape 8"/>
          <p:cNvSpPr/>
          <p:nvPr/>
        </p:nvSpPr>
        <p:spPr>
          <a:xfrm>
            <a:off x="611280" y="349092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Модус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AutoShape 9"/>
          <p:cNvCxnSpPr/>
          <p:nvPr/>
        </p:nvCxnSpPr>
        <p:spPr>
          <a:xfrm>
            <a:off x="187020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8" name="Line 17"/>
          <p:cNvSpPr/>
          <p:nvPr/>
        </p:nvSpPr>
        <p:spPr>
          <a:xfrm>
            <a:off x="4570560" y="3130560"/>
            <a:ext cx="269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AutoShape 18"/>
          <p:cNvCxnSpPr/>
          <p:nvPr/>
        </p:nvCxnSpPr>
        <p:spPr>
          <a:xfrm>
            <a:off x="7268760" y="313020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0" name="AutoShape 19"/>
          <p:cNvSpPr/>
          <p:nvPr/>
        </p:nvSpPr>
        <p:spPr>
          <a:xfrm>
            <a:off x="6008760" y="349092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тнош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0"/>
          <p:cNvSpPr/>
          <p:nvPr/>
        </p:nvSpPr>
        <p:spPr>
          <a:xfrm>
            <a:off x="611280" y="4570560"/>
            <a:ext cx="251928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означа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й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й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что, завися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них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1"/>
          <p:cNvSpPr/>
          <p:nvPr/>
        </p:nvSpPr>
        <p:spPr>
          <a:xfrm>
            <a:off x="3309840" y="4570560"/>
            <a:ext cx="251964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стоя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2"/>
          <p:cNvSpPr/>
          <p:nvPr/>
        </p:nvSpPr>
        <p:spPr>
          <a:xfrm>
            <a:off x="6008760" y="4570560"/>
            <a:ext cx="251928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учае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сопостав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й иде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друго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0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жон Лок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9 августа 1632 г. в Рингт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8 октября 1704 г. в Отс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Готфрид Лейбн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 июля 1646 г. в Лейпци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ноября 1716 г. в Ганнов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9" name="Oval 7"/>
          <p:cNvSpPr/>
          <p:nvPr/>
        </p:nvSpPr>
        <p:spPr>
          <a:xfrm>
            <a:off x="6012000" y="30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010840" y="2637000"/>
            <a:ext cx="109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нгто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7740720" y="3141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604640" y="3284640"/>
            <a:ext cx="11210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йпци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644040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6483960" y="2554200"/>
            <a:ext cx="596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7524720" y="2997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7455240" y="2554200"/>
            <a:ext cx="1261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ннове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7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390720" y="615312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87280" y="3238560"/>
            <a:ext cx="4749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о человеческом разум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9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трактата о правл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9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локк"/>
          <p:cNvPicPr/>
          <p:nvPr/>
        </p:nvPicPr>
        <p:blipFill>
          <a:blip r:embed="rId1"/>
          <a:stretch/>
        </p:blipFill>
        <p:spPr>
          <a:xfrm>
            <a:off x="5218200" y="1619280"/>
            <a:ext cx="3436920" cy="432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2" name="Text Box 8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46-17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116680" y="6153120"/>
            <a:ext cx="35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87280" y="3057480"/>
            <a:ext cx="44989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ые опыты о человеческом разум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0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 теодицеи о благости Божь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надолог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Leibniz (5)"/>
          <p:cNvPicPr/>
          <p:nvPr/>
        </p:nvPicPr>
        <p:blipFill>
          <a:blip r:embed="rId1"/>
          <a:stretch/>
        </p:blipFill>
        <p:spPr>
          <a:xfrm>
            <a:off x="5218200" y="1619280"/>
            <a:ext cx="334620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8" name="Text Box 9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сновные представ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атон (427-347 до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Декарт (1596-16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Мальбранш (1638-17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мбриджские платоники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Мор (1614-1687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Кедворт (1617-1688)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39640" y="1582560"/>
            <a:ext cx="3670560" cy="16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тив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ativus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рождённы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 о наличии в разум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ождённого зн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дей, принципов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More H (cut2)"/>
          <p:cNvPicPr/>
          <p:nvPr/>
        </p:nvPicPr>
        <p:blipFill>
          <a:blip r:embed="rId1"/>
          <a:stretch/>
        </p:blipFill>
        <p:spPr>
          <a:xfrm>
            <a:off x="5397480" y="4497480"/>
            <a:ext cx="1284480" cy="179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4" name="Picture 9" descr="cudworth_252Cr (Thoemmes-cut, red)"/>
          <p:cNvPicPr/>
          <p:nvPr/>
        </p:nvPicPr>
        <p:blipFill>
          <a:blip r:embed="rId2"/>
          <a:stretch/>
        </p:blipFill>
        <p:spPr>
          <a:xfrm>
            <a:off x="7016760" y="4857840"/>
            <a:ext cx="138888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5" name="Picture 10" descr="Платон (БСЭ)"/>
          <p:cNvPicPr/>
          <p:nvPr/>
        </p:nvPicPr>
        <p:blipFill>
          <a:blip r:embed="rId3"/>
          <a:stretch/>
        </p:blipFill>
        <p:spPr>
          <a:xfrm>
            <a:off x="539640" y="3417840"/>
            <a:ext cx="118764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6" name="Picture 11" descr="Декарт Р (БСЭ)"/>
          <p:cNvPicPr/>
          <p:nvPr/>
        </p:nvPicPr>
        <p:blipFill>
          <a:blip r:embed="rId4"/>
          <a:stretch/>
        </p:blipFill>
        <p:spPr>
          <a:xfrm>
            <a:off x="2050920" y="3778200"/>
            <a:ext cx="143208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7" name="Picture 12" descr="Мальбранш Н (БСЭ)"/>
          <p:cNvPicPr/>
          <p:nvPr/>
        </p:nvPicPr>
        <p:blipFill>
          <a:blip r:embed="rId5"/>
          <a:stretch/>
        </p:blipFill>
        <p:spPr>
          <a:xfrm>
            <a:off x="3778200" y="4138560"/>
            <a:ext cx="122400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6"/>
          <p:cNvSpPr/>
          <p:nvPr/>
        </p:nvSpPr>
        <p:spPr>
          <a:xfrm>
            <a:off x="4316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нтанного соглас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–</a:t>
            </a:r>
            <a:br>
              <a:rPr sz="16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дукц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2"/>
          <p:cNvSpPr/>
          <p:nvPr/>
        </p:nvSpPr>
        <p:spPr>
          <a:xfrm>
            <a:off x="108000" y="5073480"/>
            <a:ext cx="374760" cy="82080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800"/>
              <a:gd name="textAreaBottom" fmla="*/ 595080 h 82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4316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атентного зн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–</a:t>
            </a:r>
            <a:br>
              <a:rPr sz="16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онтанного соглас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108000" y="3886200"/>
            <a:ext cx="374760" cy="82080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800"/>
              <a:gd name="textAreaBottom" fmla="*/ 595080 h 82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4316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общего согласия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тентного зна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0"/>
          <p:cNvSpPr/>
          <p:nvPr/>
        </p:nvSpPr>
        <p:spPr>
          <a:xfrm>
            <a:off x="108000" y="2698920"/>
            <a:ext cx="374760" cy="82044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440"/>
              <a:gd name="textAreaBottom" fmla="*/ 595080 h 82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4316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го соглас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47498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 существует истин, с которым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действительно были бы согласн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се: даже так называем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«общеизвестные» истин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известны детям и идиота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47498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«латентное» знание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 знание, которым мо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ть, не сознавая э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ое знание невозмож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5"/>
          <p:cNvSpPr/>
          <p:nvPr/>
        </p:nvSpPr>
        <p:spPr>
          <a:xfrm>
            <a:off x="47498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Начало рассуждения не есть то время,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гда мы приходим к осознанию этих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стин; если же считать доказательством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рождённости самый факт согласия,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дётся объявить врождёнными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се истины, с которым мы соглашаемся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7"/>
          <p:cNvSpPr/>
          <p:nvPr/>
        </p:nvSpPr>
        <p:spPr>
          <a:xfrm>
            <a:off x="47498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нее общие исти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вестны ран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общих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893520" y="1474920"/>
            <a:ext cx="31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ргументы нативис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5107680" y="1474920"/>
            <a:ext cx="31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нтраргументы Лок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713120" y="2698920"/>
            <a:ext cx="421020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abula ras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чистая доск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енсуализ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обозначения состоя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 челове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щё не получивш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шнего чувственного опы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например, новорождённого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отому не располагающ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ими бы то ни было знаниям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713120" y="2698920"/>
            <a:ext cx="421020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енсу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sensus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о, ощущ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доктри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тверждающая, ч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енные ощущ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ются единствен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чником и основанием знани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енсуализм долгое время бы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ной формо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эмпиризм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21:56Z</dcterms:created>
  <dc:creator>Николай Бирюков / Nikolai Biryukov</dc:creator>
  <dc:description>Редакция марта 2009 г.</dc:description>
  <dc:language>en-US</dc:language>
  <cp:lastModifiedBy>LEGION</cp:lastModifiedBy>
  <dcterms:modified xsi:type="dcterms:W3CDTF">2014-11-11T12:40:00Z</dcterms:modified>
  <cp:revision>123</cp:revision>
  <dc:subject>Основы философии - Тема 12</dc:subject>
  <dc:title>Локк и Лейбниц: онтологические предпосылки и природа познания</dc:title>
</cp:coreProperties>
</file>