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C4CA-23B6-4675-B58A-06225A320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96F-BD9E-4693-9BA0-39753FBB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2B4-B3A0-4CF7-A6D6-C3D283F3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25F-23F8-4178-B79E-4B370F33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F0A-EFA7-405A-BD63-DA1EAF5C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E274-C4DC-4B57-892D-737C53AC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CC76-6000-485D-B3A2-A0A6BAC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2BBA-2DF6-4824-89C7-057F22C3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14DE-08CB-48E3-8C55-5CF6F8B7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0D4E-97FA-4C53-B286-4A6DDCAB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FBDF-BF34-49A1-BFD7-EDF48F7D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177E-A2DE-47BD-BD42-168FD9B1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2E5-AE67-49E6-A676-810FE17D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FB36-5085-4834-BA96-F083145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DD7C-ACCE-41A2-A697-2D8AEE74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917D-32F6-446D-902D-35DEC2FD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F17D-67A9-468C-ADE8-8A516B68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832A-4262-490F-82B1-E7F12849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28C-5866-48BB-88C4-FB4140E9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82A-0247-491B-836C-D7F34A42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8A0-488A-476B-A9E4-4BD99DE5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979-9859-4959-87C8-2AA1F6E2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80C-5948-4DB7-B462-70438F4A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8A6-FBFC-4754-8633-8A7A9E5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F49-20F3-4B20-AEDF-BE39C2A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489D-4A57-4E34-83BA-0FCA404115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FDF9-58B7-434A-A84E-22296DB8977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yas.yuna.ru/?1879053312@0815995392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155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Макроэкономическое 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равновес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00000" y="3357720"/>
            <a:ext cx="770436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                       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k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 Q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/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мультипликатор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национальный доход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автономные затраты.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A = C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I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G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автономное потребление,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– автономные инвестиции,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G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– государственные закупки товаров и услуг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742840"/>
            <a:ext cx="81360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 структуре совокупного спроса выделяют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потребительские товары и услуги (C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инвестиционные товары ( I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1340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овокупный спрос можно выразить формулой:</a:t>
            </a:r>
            <a:br>
              <a:rPr sz="2500"/>
            </a:b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AD = C + I + G + X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40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ttp://market-pages.ru/images/makroec/image061.jpg"/>
          <p:cNvPicPr/>
          <p:nvPr/>
        </p:nvPicPr>
        <p:blipFill>
          <a:blip r:embed="rId1"/>
          <a:srcRect l="0" t="0" r="0" b="12155"/>
          <a:stretch/>
        </p:blipFill>
        <p:spPr>
          <a:xfrm>
            <a:off x="1835280" y="1916280"/>
            <a:ext cx="5545080" cy="3724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587700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Кривая совокупного спроса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3284640"/>
            <a:ext cx="68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Уравнение Ирвинга Фиш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× </a:t>
            </a:r>
            <a:r>
              <a:rPr b="0" i="1" lang="el-GR" sz="4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=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Q × 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количество денег в обращении; </a:t>
            </a:r>
            <a:r>
              <a:rPr b="0" i="1" lang="el-GR" sz="3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скорость их обращения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цена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объем продаж товаров 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313760" cy="20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http://banking.mfpa.ru/economist/irving_fisher.jpg"/>
          <p:cNvPicPr/>
          <p:nvPr/>
        </p:nvPicPr>
        <p:blipFill>
          <a:blip r:embed="rId1"/>
          <a:stretch/>
        </p:blipFill>
        <p:spPr>
          <a:xfrm>
            <a:off x="1116000" y="126828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5219640" y="1557360"/>
            <a:ext cx="31672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рвинг Фишер (1867-1947) - американский ученый-экономист. Начав свою научную деятельность как математик, он затем переключился н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экономическую теорию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, был одним из создателей Эконометрического общества и стал в 1930 г. первым его президентом.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9"/>
          <p:cNvSpPr/>
          <p:nvPr/>
        </p:nvSpPr>
        <p:spPr>
          <a:xfrm>
            <a:off x="971640" y="2565360"/>
            <a:ext cx="73436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Вместо показателя скорости оборота денег </a:t>
            </a:r>
            <a:r>
              <a:rPr b="0" i="1" lang="en-US" sz="2500" spc="-1" strike="noStrike">
                <a:solidFill>
                  <a:srgbClr val="006666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подставим коэффициент </a:t>
            </a: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m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величину, обратную скорости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обращения денег: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Учтем также, что цены на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вары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 услуги, согласно нашему предположению, неизменны, а предложение денег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у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нас принимается как реальное. Поэтому и спрос на деньги также должен быть реальным показателем. Это значит, что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уровень цен) можно приравнять к 1. Поскольку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=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, а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мы заменяем на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т,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 уравнение принимает вид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где </a:t>
            </a:r>
            <a:r>
              <a:rPr b="1" i="1" lang="ru-RU" sz="2300" spc="-1" strike="noStrike">
                <a:solidFill>
                  <a:srgbClr val="006666"/>
                </a:solidFill>
                <a:latin typeface="Times New Roman"/>
              </a:rPr>
              <a:t>М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спрос на деньги в реальном исчислении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8" descr="Eqn075"/>
          <p:cNvPicPr/>
          <p:nvPr/>
        </p:nvPicPr>
        <p:blipFill>
          <a:blip r:embed="rId1"/>
          <a:stretch/>
        </p:blipFill>
        <p:spPr>
          <a:xfrm>
            <a:off x="3851280" y="1484280"/>
            <a:ext cx="1368360" cy="1039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202248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152360" cy="73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94328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3276720" y="5805360"/>
            <a:ext cx="2303280" cy="389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3276720" y="3284640"/>
            <a:ext cx="503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7313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еличина процентного реагирования спроса на деньги, </a:t>
            </a:r>
            <a:r>
              <a:rPr b="1" i="1" lang="en-US" sz="2300" spc="-1" strike="noStrike">
                <a:solidFill>
                  <a:srgbClr val="006666"/>
                </a:solidFill>
                <a:latin typeface="Times New Roman"/>
              </a:rPr>
              <a:t>i 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роцентная ставк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Тогда формула национального дохода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3864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18924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681440" cy="102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3456000" cy="11401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3137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Совокупное предложение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 AS – aggregate supply ) – вся конечная продукция (в стоимостном выражении) произведенная (предложенная) в обществе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42920" y="5950080"/>
            <a:ext cx="691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Кривая совокупного предложения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6" descr="image063"/>
          <p:cNvPicPr/>
          <p:nvPr/>
        </p:nvPicPr>
        <p:blipFill>
          <a:blip r:embed="rId1"/>
          <a:srcRect l="0" t="0" r="0" b="19781"/>
          <a:stretch/>
        </p:blipFill>
        <p:spPr>
          <a:xfrm>
            <a:off x="2124000" y="2421000"/>
            <a:ext cx="453708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keynes_large"/>
          <p:cNvPicPr/>
          <p:nvPr/>
        </p:nvPicPr>
        <p:blipFill>
          <a:blip r:embed="rId1"/>
          <a:stretch/>
        </p:blipFill>
        <p:spPr>
          <a:xfrm>
            <a:off x="4643280" y="981000"/>
            <a:ext cx="3965760" cy="494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66960" y="260280"/>
            <a:ext cx="817704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ересечение кривых совокупного спроса AD и совокупного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предложения AS дает точку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общего экономического равновесия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Это означает, что экономика находится в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краткосрочном равновесии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image065"/>
          <p:cNvPicPr/>
          <p:nvPr/>
        </p:nvPicPr>
        <p:blipFill>
          <a:blip r:embed="rId1"/>
          <a:srcRect l="0" t="0" r="0" b="54407"/>
          <a:stretch/>
        </p:blipFill>
        <p:spPr>
          <a:xfrm>
            <a:off x="1763640" y="2825640"/>
            <a:ext cx="5473800" cy="40323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313760" cy="25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5" descr="image065"/>
          <p:cNvPicPr/>
          <p:nvPr/>
        </p:nvPicPr>
        <p:blipFill>
          <a:blip r:embed="rId1"/>
          <a:srcRect l="0" t="51008" r="0" b="9253"/>
          <a:stretch/>
        </p:blipFill>
        <p:spPr>
          <a:xfrm>
            <a:off x="1763640" y="2781360"/>
            <a:ext cx="5616720" cy="3608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модели макроэкономического равновес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рансуа Кенэ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(1694-1774)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нцузский экономист XVIII в,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Kene_01"/>
          <p:cNvPicPr/>
          <p:nvPr/>
        </p:nvPicPr>
        <p:blipFill>
          <a:blip r:embed="rId1"/>
          <a:stretch/>
        </p:blipFill>
        <p:spPr>
          <a:xfrm>
            <a:off x="684360" y="1916280"/>
            <a:ext cx="3346200" cy="40320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537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http://www.internet-school.ru/@@167983"/>
          <p:cNvPicPr/>
          <p:nvPr/>
        </p:nvPicPr>
        <p:blipFill>
          <a:blip r:embed="rId1"/>
          <a:stretch/>
        </p:blipFill>
        <p:spPr>
          <a:xfrm>
            <a:off x="1187280" y="1916280"/>
            <a:ext cx="2945160" cy="41050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 Вальр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альрас Леон (1834-1910) - французский экономист, живший в Швейцарии.</a:t>
            </a:r>
            <a:r>
              <a:rPr b="0" lang="ru-RU" sz="2100" spc="-1" strike="noStrike">
                <a:solidFill>
                  <a:srgbClr val="006666"/>
                </a:solidFill>
                <a:latin typeface="Verdana"/>
              </a:rPr>
              <a:t> Он исходил из того, что проблема общего экономического равновесия решаема, и это можно доказать математически.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leonwalras"/>
          <p:cNvPicPr/>
          <p:nvPr/>
        </p:nvPicPr>
        <p:blipFill>
          <a:blip r:embed="rId1"/>
          <a:stretch/>
        </p:blipFill>
        <p:spPr>
          <a:xfrm>
            <a:off x="5076720" y="1557360"/>
            <a:ext cx="317052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76360" y="220500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краткосрочное                             долгосрочное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куще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3203640" y="1557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96000" y="15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258920" y="3141720"/>
            <a:ext cx="72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258920" y="371628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653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деальное                                      реальное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оретически желаемо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2916360" y="3789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084720" y="3789360"/>
            <a:ext cx="6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1280" y="206064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Частичное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установив-шееся в отдельных отраслях и сферах экономики)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2050920" y="1557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35280" y="2852640"/>
            <a:ext cx="194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щее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равновесие экономической системы в целом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57200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012000" y="2421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олное (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птимальная сбалансированность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экономической системы, ее идеальная пропорциональность – высшая цель структурной политики общества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372360" y="1557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334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в ответ 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нешний импуль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зрушающ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вновесие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эконом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амостоятель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озвращается 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остояние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32360" y="2349360"/>
            <a:ext cx="2879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Неустойчивое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771280" y="155736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219640" y="1557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 "/>
          <p:cNvPicPr/>
          <p:nvPr/>
        </p:nvPicPr>
        <p:blipFill>
          <a:blip r:embed="rId1"/>
          <a:stretch/>
        </p:blipFill>
        <p:spPr>
          <a:xfrm>
            <a:off x="1763640" y="2060640"/>
            <a:ext cx="5472360" cy="438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Равновесие на рынке благ           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2500" spc="-1" strike="noStrike">
                <a:solidFill>
                  <a:srgbClr val="006666"/>
                </a:solidFill>
                <a:latin typeface="Arial"/>
              </a:rPr>
              <a:t>(классическая концепция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треб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национальный доход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;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отребление - С; сбережения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иращение дохода, приращение потребления и приращение сбережений соответственно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 и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едельная склонность к потреблению — </a:t>
            </a:r>
            <a:r>
              <a:rPr b="0" i="1" lang="ru-RU" sz="2500" spc="-1" strike="noStrike">
                <a:solidFill>
                  <a:srgbClr val="006666"/>
                </a:solidFill>
                <a:latin typeface="Times New Roman"/>
              </a:rPr>
              <a:t>с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 предельная склонность к сбережениям — </a:t>
            </a:r>
            <a:r>
              <a:rPr b="0" i="1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+ s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02:27Z</dcterms:created>
  <dc:creator>Anna</dc:creator>
  <dc:description/>
  <dc:language>en-US</dc:language>
  <cp:lastModifiedBy>LEGION</cp:lastModifiedBy>
  <dcterms:modified xsi:type="dcterms:W3CDTF">2016-01-04T14:02:55Z</dcterms:modified>
  <cp:revision>20</cp:revision>
  <dc:subject/>
  <dc:title>Макроэкономическое равновесие</dc:title>
</cp:coreProperties>
</file>