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96B2-1563-4863-AE14-C77BC21D84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акроэкономическое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 –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 = Q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k – мультипликатор, Q – национальный доход, A – автономные зат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 = Ca + Ia +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a – автономное потребление, Ia – автономные инвести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 – государственные закупки товаров 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 –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 = Q/A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k – мультипликатор, Q – национальный доход, A – автономные затраты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 = Ca + Ia + 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a – автономное потребление, Ia – автономные инвестиции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 – государственные закупки товаров и услуг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уктуре совокупного спроса выделя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потребительские товары и услуги (C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инвестиционные товары ( I 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и услуги со стороны государства ( G 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уктуре совокупного спроса выделяют: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потребительские товары и услуги (C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инвестиционные товары ( I 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и услуги со стороны государства ( G 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овокупный спрос можно выразить формул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 = C + I + G + X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овокупный спрос можно выразить формул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 = C + I + G + X 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спрос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внение Ирвинга Фиш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 × ν =Q ×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- количество денег в обращении; ν - скорость их обращения; P - цена; Q - объем продаж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внение Ирвинга Фишер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 × ν =Q × P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- количество денег в обращении; ν - скорость их обращения; P - цена; Q - объем продаж товаров и услуг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винг Фишер (1867-1947) - американский ученый-экономист. Начав свою научную деятельность как математик, он затем переключился на экономическую теорию, был одним из создателей Эконометрического общества и стал в 1930 г. первым его президе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винг Фишер (1867-1947) - американский ученый-экономист. Начав свою научную деятельность как математик, он затем переключился на экономическую теорию, был одним из создателей Эконометрического общества и стал в 1930 г. первым его президентом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показателя скорости оборота денег v подставим коэффициент m — величину, обратную скор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денег:                Учтем также, что цены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, согласно нашему предположению, неизменны, а предложение денег у нас принимается как реальное. Поэтому и спрос на деньги также должен быть реальным показателем. Это значит, что Р (уровень цен) можно приравнять к 1. Поскольку Р= 1, а v мы заменяем на т, то уравнение принимает в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d — спрос на деньги в реальном исчис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показателя скорости оборота денег v подставим коэффициент m — величину, обратную скорости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денег:                Учтем также, что цены на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, согласно нашему предположению, неизменны, а предложение денег у нас принимается как реальное. Поэтому и спрос на деньги также должен быть реальным показателем. Это значит, что Р (уровень цен) можно приравнять к 1. Поскольку Р= 1, а v мы заменяем на т, то уравнение принимает вид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d — спрос на деньги в реальном исчислении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Mi – величина процентного реагирования спроса на деньги, i – процентная ста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формула национального дох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Mi – величина процентного реагирования спроса на деньги, i – процентная ставка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формула национального дохода: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предложение ( AS – aggregate supply ) – вся конечная продукция (в стоимостном выражении) произведенная (предложенная) в обще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предложение ( AS – aggregate supply ) – вся конечная продукция (в стоимостном выражении) произведенная (предложенная) в обществе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предложения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ечение кривых совокупного спроса AD и совокупного предложения AS дает точку общего экономического равновесия. Это означает, что экономика находится в краткосрочном равновесии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ечение кривых совокупного спроса AD и совокупного предложения AS дает точку общего экономического равновесия. Это означает, что экономика находится в краткосрочном равновесии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одели макроэкономического равновес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суа Кенэ (1694-1774) – французский экономист XVIII в, 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одели макроэкономического равновесия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суа Кенэ (1694-1774) – французский экономист XVIII в, 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 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он Вальра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ьрас Леон (1834-1910) - французский экономист, живший в Швейцарии. Он исходил из того, что проблема общего экономического равновесия решаема, и это можно доказать математически. 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он Вальрас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ьрас Леон (1834-1910) - французский экономист, живший в Швейцарии. Он исходил из того, что проблема общего экономического равновесия решаема, и это можно доказать математически. 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                             долгосроч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уще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                                     реаль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оретически желаемо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                             долгосрочно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уще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                                     реально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оретически желаемо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ое (установив-шееся в отдельных отраслях и сферах экономик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вновесие экономической системы в цело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(оптимальная сбалансированность экономической системы, ее идеальная пропорциональность – высшая цель структурной политики обществ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ое (установив-шееся в отдельных отраслях и сферах экономики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вновесие экономической системы в целом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(оптимальная сбалансированность экономической системы, ее идеальная пропорциональность – высшая цель структурной политики общества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ответ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импульс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щаетс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чиво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ответ н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импульс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ющий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щается в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чивое 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благ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классическая концепц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благ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классическая концепция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- Q ; потребление - С; сбережения - S; приращение дохода, приращение потребления и приращение сбережений соответственно ∆Q, ∆С и ∆S; предельная склонность к потреблению — с и предельная склонность к сбережениям —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С +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∆С + ∆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= ∆С/∆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 = ∆S/∆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+ 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- Q ; потребление - С; сбережения - S; приращение дохода, приращение потребления и приращение сбережений соответственно ∆Q, ∆С и ∆S; предельная склонность к потреблению — с и предельная склонность к сбережениям — s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С + S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∆С + ∆S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= ∆С/∆Q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 = ∆S/∆Q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+ s = 1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D21C-2C75-4BB8-AB86-EE61A5E1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8CA7-55C5-41FB-A786-DD2FF7B4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CFC-7AA8-4F75-8C23-A1F4B479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9B87-CEC8-4B5E-B8B0-4DEA3C02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83A4-8351-4EBE-B8EC-F2E0CF97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F8A0-B9FD-4C74-837E-57973B68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BCB4-1209-43D0-A203-6DBB53D6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F15F-8F32-4B44-A7DA-F9619C2E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28D9-CCF8-4CB0-95E6-9D0B96B8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EBE6-4DBB-4005-B105-F6E5577E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58A6-D062-47F4-89F8-2A28B853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02F-8E5F-4192-9799-71258778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F681-9F3C-44B8-AF02-3B1EC2C1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B305-6AD9-4D50-8D51-C80B33A2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803A-983F-40B8-8E2E-CFB0579F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1B0F-0995-44C9-8777-91EB8FC4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FF0C-0C09-479B-B691-BA750810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DDC2-98C3-4791-918E-4BAA8D02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59A-38E5-4391-8E85-7F76A061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492-0140-4E22-9AC7-49DF8D84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881E-F2EC-4411-87EA-F7325B5C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04F5-2159-4FD2-BA9E-E7023583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174-014A-4C1C-8138-DCE7F38A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2DA-00A0-45B0-A153-092462AC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A626-9BE3-40C2-86C9-5E2BBBCDD91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1935-9E99-4E1C-AD18-C34529FD272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yas.yuna.ru/?1879053312@0815995392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21556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Макроэкономическое </a:t>
            </a:r>
            <a:br>
              <a:rPr sz="4800"/>
            </a:b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равновесие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ультипликатор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15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Мультипликатор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–</a:t>
            </a:r>
            <a:r>
              <a:rPr b="0" lang="ru-RU" sz="2200" spc="-1" strike="noStrike">
                <a:solidFill>
                  <a:srgbClr val="006666"/>
                </a:solidFill>
                <a:latin typeface="Verdana"/>
              </a:rPr>
              <a:t>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00000" y="3357720"/>
            <a:ext cx="770436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                        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k </a:t>
            </a: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 Q</a:t>
            </a: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/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A</a:t>
            </a: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где </a:t>
            </a:r>
            <a:r>
              <a:rPr b="0" i="1" lang="en-US" sz="2500" spc="-1" strike="noStrike">
                <a:solidFill>
                  <a:srgbClr val="006666"/>
                </a:solidFill>
                <a:latin typeface="Arial"/>
              </a:rPr>
              <a:t>k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мультипликатор, </a:t>
            </a:r>
            <a:r>
              <a:rPr b="1" i="1" lang="en-US" sz="25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национальный доход, </a:t>
            </a:r>
            <a:r>
              <a:rPr b="1" i="1" lang="en-US" sz="25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автономные затраты.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A = C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 + I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 + G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–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автономное потребление,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I</a:t>
            </a: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– автономные инвестиции,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G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– государственные закупки товаров и услуг.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2742840"/>
            <a:ext cx="813600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 структуре совокупного спроса выделяют: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потребительские товары и услуги (C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инвестиционные товары ( I 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товары и услуги со стороны государства ( G 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31376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66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lang="en-US" sz="23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313400" cy="18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C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овокупный спрос можно выразить формулой:</a:t>
            </a:r>
            <a:br>
              <a:rPr sz="2500"/>
            </a:b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500"/>
            </a:b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AD = C + I + G + X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24008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5" descr="http://market-pages.ru/images/makroec/image061.jpg"/>
          <p:cNvPicPr/>
          <p:nvPr/>
        </p:nvPicPr>
        <p:blipFill>
          <a:blip r:embed="rId1"/>
          <a:srcRect l="0" t="0" r="0" b="12155"/>
          <a:stretch/>
        </p:blipFill>
        <p:spPr>
          <a:xfrm>
            <a:off x="1835280" y="1916280"/>
            <a:ext cx="5545080" cy="3724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979640" y="5877000"/>
            <a:ext cx="55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Кривая совокупного спроса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258920" y="3284640"/>
            <a:ext cx="68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6666"/>
                </a:solidFill>
                <a:latin typeface="Verdana"/>
              </a:rPr>
              <a:t>Уравнение Ирвинга Фише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           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 × </a:t>
            </a:r>
            <a:r>
              <a:rPr b="0" i="1" lang="el-GR" sz="4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ν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 =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Q × P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М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количество денег в обращении; </a:t>
            </a:r>
            <a:r>
              <a:rPr b="0" i="1" lang="el-GR" sz="3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ν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скорость их обращения;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P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цена;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Q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объем продаж товаров и услу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313760" cy="20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5" descr="http://banking.mfpa.ru/economist/irving_fisher.jpg"/>
          <p:cNvPicPr/>
          <p:nvPr/>
        </p:nvPicPr>
        <p:blipFill>
          <a:blip r:embed="rId1"/>
          <a:stretch/>
        </p:blipFill>
        <p:spPr>
          <a:xfrm>
            <a:off x="1116000" y="1268280"/>
            <a:ext cx="3456000" cy="4608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5219640" y="1557360"/>
            <a:ext cx="316728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Ирвинг Фишер (1867-1947) - американский ученый-экономист. Начав свою научную деятельность как математик, он затем переключился на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экономическую теорию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, был одним из создателей Эконометрического общества и стал в 1930 г. первым его президентом.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9"/>
          <p:cNvSpPr/>
          <p:nvPr/>
        </p:nvSpPr>
        <p:spPr>
          <a:xfrm>
            <a:off x="971640" y="2565360"/>
            <a:ext cx="73436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Вместо показателя скорости оборота денег </a:t>
            </a:r>
            <a:r>
              <a:rPr b="0" i="1" lang="en-US" sz="2500" spc="-1" strike="noStrike">
                <a:solidFill>
                  <a:srgbClr val="006666"/>
                </a:solidFill>
                <a:latin typeface="Verdana"/>
              </a:rPr>
              <a:t>v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подставим коэффициент </a:t>
            </a:r>
            <a:r>
              <a:rPr b="0" i="1" lang="en-US" sz="1800" spc="-1" strike="noStrike">
                <a:solidFill>
                  <a:srgbClr val="006666"/>
                </a:solidFill>
                <a:latin typeface="Verdana"/>
              </a:rPr>
              <a:t>m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— величину, обратную скорости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обращения денег: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             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Учтем также, что цены на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товары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и услуги, согласно нашему предположению, неизменны, а предложение денег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у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нас принимается как реальное. Поэтому и спрос на деньги также должен быть реальным показателем. Это значит, что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Р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уровень цен) можно приравнять к 1. Поскольку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Р=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1, а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v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мы заменяем на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т,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то уравнение принимает вид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где </a:t>
            </a:r>
            <a:r>
              <a:rPr b="1" i="1" lang="ru-RU" sz="2300" spc="-1" strike="noStrike">
                <a:solidFill>
                  <a:srgbClr val="006666"/>
                </a:solidFill>
                <a:latin typeface="Times New Roman"/>
              </a:rPr>
              <a:t>М</a:t>
            </a:r>
            <a:r>
              <a:rPr b="1" i="1" lang="en-US" sz="1500" spc="-1" strike="noStrike">
                <a:solidFill>
                  <a:srgbClr val="006666"/>
                </a:solidFill>
                <a:latin typeface="Times New Roman"/>
              </a:rPr>
              <a:t>d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— спрос на деньги в реальном исчислении.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31376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Picture 8" descr="Eqn075"/>
          <p:cNvPicPr/>
          <p:nvPr/>
        </p:nvPicPr>
        <p:blipFill>
          <a:blip r:embed="rId1"/>
          <a:stretch/>
        </p:blipFill>
        <p:spPr>
          <a:xfrm>
            <a:off x="3851280" y="1484280"/>
            <a:ext cx="1368360" cy="1039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2"/>
          <p:cNvSpPr/>
          <p:nvPr/>
        </p:nvSpPr>
        <p:spPr>
          <a:xfrm>
            <a:off x="202248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2"/>
          <a:stretch/>
        </p:blipFill>
        <p:spPr>
          <a:xfrm>
            <a:off x="3276720" y="3357720"/>
            <a:ext cx="1152360" cy="7365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5"/>
          <p:cNvSpPr/>
          <p:nvPr/>
        </p:nvSpPr>
        <p:spPr>
          <a:xfrm>
            <a:off x="1943280" y="207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3"/>
          <a:stretch/>
        </p:blipFill>
        <p:spPr>
          <a:xfrm>
            <a:off x="3276720" y="5805360"/>
            <a:ext cx="2303280" cy="3891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6"/>
          <p:cNvSpPr/>
          <p:nvPr/>
        </p:nvSpPr>
        <p:spPr>
          <a:xfrm>
            <a:off x="3276720" y="3284640"/>
            <a:ext cx="503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331640" y="2781000"/>
            <a:ext cx="7313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где </a:t>
            </a: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i="1" lang="en-US" sz="1500" spc="-1" strike="noStrike">
                <a:solidFill>
                  <a:srgbClr val="006666"/>
                </a:solidFill>
                <a:latin typeface="Times New Roman"/>
              </a:rPr>
              <a:t>i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еличина процентного реагирования спроса на деньги, </a:t>
            </a:r>
            <a:r>
              <a:rPr b="1" i="1" lang="en-US" sz="2300" spc="-1" strike="noStrike">
                <a:solidFill>
                  <a:srgbClr val="006666"/>
                </a:solidFill>
                <a:latin typeface="Times New Roman"/>
              </a:rPr>
              <a:t>i –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процентная ставка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Тогда формула национального дохода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386480" cy="15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2500"/>
            </a:b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189240" y="242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681440" cy="1025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2"/>
          <a:stretch/>
        </p:blipFill>
        <p:spPr>
          <a:xfrm>
            <a:off x="2843280" y="4581360"/>
            <a:ext cx="3456000" cy="114012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3137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Совокупное предложение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( AS – aggregate supply ) – вся конечная продукция (в стоимостном выражении) произведенная (предложенная) в обществе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042920" y="5950080"/>
            <a:ext cx="691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Кривая совокупного предложения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6" descr="image063"/>
          <p:cNvPicPr/>
          <p:nvPr/>
        </p:nvPicPr>
        <p:blipFill>
          <a:blip r:embed="rId1"/>
          <a:srcRect l="0" t="0" r="0" b="19781"/>
          <a:stretch/>
        </p:blipFill>
        <p:spPr>
          <a:xfrm>
            <a:off x="2124000" y="2421000"/>
            <a:ext cx="4537080" cy="34830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5" descr="keynes_large"/>
          <p:cNvPicPr/>
          <p:nvPr/>
        </p:nvPicPr>
        <p:blipFill>
          <a:blip r:embed="rId1"/>
          <a:stretch/>
        </p:blipFill>
        <p:spPr>
          <a:xfrm>
            <a:off x="4643280" y="981000"/>
            <a:ext cx="3965760" cy="4940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66960" y="260280"/>
            <a:ext cx="8177040" cy="26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Пересечение кривых совокупного спроса AD и совокупного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предложения AS дает точку </a:t>
            </a:r>
            <a:r>
              <a:rPr b="1" i="1" lang="ru-RU" sz="2200" spc="-1" strike="noStrike">
                <a:solidFill>
                  <a:srgbClr val="006666"/>
                </a:solidFill>
                <a:latin typeface="Arial"/>
              </a:rPr>
              <a:t>общего экономического равновесия</a:t>
            </a: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Это означает, что экономика находится в </a:t>
            </a:r>
            <a:r>
              <a:rPr b="1" i="1" lang="ru-RU" sz="2200" spc="-1" strike="noStrike">
                <a:solidFill>
                  <a:srgbClr val="006666"/>
                </a:solidFill>
                <a:latin typeface="Arial"/>
              </a:rPr>
              <a:t>краткосрочном равновесии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Picture 5" descr="image065"/>
          <p:cNvPicPr/>
          <p:nvPr/>
        </p:nvPicPr>
        <p:blipFill>
          <a:blip r:embed="rId1"/>
          <a:srcRect l="0" t="0" r="0" b="54407"/>
          <a:stretch/>
        </p:blipFill>
        <p:spPr>
          <a:xfrm>
            <a:off x="1763640" y="2825640"/>
            <a:ext cx="5473800" cy="403236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313760" cy="25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3" name="Picture 5" descr="image065"/>
          <p:cNvPicPr/>
          <p:nvPr/>
        </p:nvPicPr>
        <p:blipFill>
          <a:blip r:embed="rId1"/>
          <a:srcRect l="0" t="51008" r="0" b="9253"/>
          <a:stretch/>
        </p:blipFill>
        <p:spPr>
          <a:xfrm>
            <a:off x="1763640" y="2781360"/>
            <a:ext cx="5616720" cy="36082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новные модели макроэкономического равновес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24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Франсуа Кенэ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(1694-1774)</a:t>
            </a: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lang="ru-RU" sz="2200" spc="-1" strike="noStrike">
                <a:solidFill>
                  <a:srgbClr val="006666"/>
                </a:solidFill>
                <a:latin typeface="Verdana"/>
              </a:rPr>
              <a:t>французский экономист XVIII в,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4" descr="Kene_01"/>
          <p:cNvPicPr/>
          <p:nvPr/>
        </p:nvPicPr>
        <p:blipFill>
          <a:blip r:embed="rId1"/>
          <a:stretch/>
        </p:blipFill>
        <p:spPr>
          <a:xfrm>
            <a:off x="684360" y="1916280"/>
            <a:ext cx="3346200" cy="403200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Жан Батист Сэй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55640" y="1827360"/>
            <a:ext cx="45370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Жан Батист Сэй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5" descr="http://www.internet-school.ru/@@167983"/>
          <p:cNvPicPr/>
          <p:nvPr/>
        </p:nvPicPr>
        <p:blipFill>
          <a:blip r:embed="rId1"/>
          <a:stretch/>
        </p:blipFill>
        <p:spPr>
          <a:xfrm>
            <a:off x="1187280" y="1916280"/>
            <a:ext cx="2945160" cy="410508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640" y="301320"/>
            <a:ext cx="7711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еон Вальрас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4392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альрас Леон (1834-1910) - французский экономист, живший в Швейцарии.</a:t>
            </a:r>
            <a:r>
              <a:rPr b="0" lang="ru-RU" sz="2100" spc="-1" strike="noStrike">
                <a:solidFill>
                  <a:srgbClr val="006666"/>
                </a:solidFill>
                <a:latin typeface="Verdana"/>
              </a:rPr>
              <a:t> Он исходил из того, что проблема общего экономического равновесия решаема, и это можно доказать математически.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4" descr="leonwalras"/>
          <p:cNvPicPr/>
          <p:nvPr/>
        </p:nvPicPr>
        <p:blipFill>
          <a:blip r:embed="rId1"/>
          <a:stretch/>
        </p:blipFill>
        <p:spPr>
          <a:xfrm>
            <a:off x="5076720" y="1557360"/>
            <a:ext cx="3170520" cy="42480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476360" y="2205000"/>
            <a:ext cx="705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краткосрочное                             долгосрочное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текущее)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3203640" y="155736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796000" y="155736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258920" y="3141720"/>
            <a:ext cx="720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i="1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258920" y="3716280"/>
            <a:ext cx="74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042920" y="465300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идеальное                                      реальное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теоретически желаемое)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2916360" y="378936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084720" y="3789360"/>
            <a:ext cx="64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1280" y="2060640"/>
            <a:ext cx="2448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Частичное 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(установив-шееся в отдельных отраслях и сферах экономики)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0"/>
          <p:cNvSpPr/>
          <p:nvPr/>
        </p:nvSpPr>
        <p:spPr>
          <a:xfrm flipH="1">
            <a:off x="2050920" y="155736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635280" y="2852640"/>
            <a:ext cx="194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Общее 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(равновесие экономической системы в целом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4572000" y="1557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6012000" y="2421000"/>
            <a:ext cx="259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Полное (</a:t>
            </a: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оптимальная сбалансированность 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экономической системы, ее идеальная пропорциональность – высшая цель структурной политики общества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6372360" y="155736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2421000"/>
            <a:ext cx="334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Устойчиво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(в ответ н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внешний импульс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разрушающ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равновесие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экономи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самостоятельн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возвращается 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устойчиво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состояние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932360" y="2349360"/>
            <a:ext cx="287964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Неустойчивое</a:t>
            </a: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  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5"/>
          <p:cNvSpPr/>
          <p:nvPr/>
        </p:nvSpPr>
        <p:spPr>
          <a:xfrm flipH="1">
            <a:off x="2771280" y="1557360"/>
            <a:ext cx="1079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5219640" y="155736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 "/>
          <p:cNvPicPr/>
          <p:nvPr/>
        </p:nvPicPr>
        <p:blipFill>
          <a:blip r:embed="rId1"/>
          <a:stretch/>
        </p:blipFill>
        <p:spPr>
          <a:xfrm>
            <a:off x="1763640" y="2060640"/>
            <a:ext cx="5472360" cy="4384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7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Равновесие на рынке благ             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ru-RU" sz="2500" spc="-1" strike="noStrike">
                <a:solidFill>
                  <a:srgbClr val="006666"/>
                </a:solidFill>
                <a:latin typeface="Arial"/>
              </a:rPr>
              <a:t>(классическая концепция)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отребл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66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66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66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301680"/>
            <a:ext cx="7783560" cy="22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национальный доход -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;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потребление - С; сбережения -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; приращение дохода, приращение потребления и приращение сбережений соответственно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 и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; предельная склонность к потреблению — </a:t>
            </a:r>
            <a:r>
              <a:rPr b="0" i="1" lang="ru-RU" sz="2500" spc="-1" strike="noStrike">
                <a:solidFill>
                  <a:srgbClr val="006666"/>
                </a:solidFill>
                <a:latin typeface="Times New Roman"/>
              </a:rPr>
              <a:t>с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и предельная склонность к сбережениям — </a:t>
            </a:r>
            <a:r>
              <a:rPr b="0" i="1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2743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 =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=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 =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 =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 + s = 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8:02:27Z</dcterms:created>
  <dc:creator>Anna</dc:creator>
  <dc:description/>
  <dc:language>en-US</dc:language>
  <cp:lastModifiedBy>LEGION</cp:lastModifiedBy>
  <dcterms:modified xsi:type="dcterms:W3CDTF">2016-01-04T14:02:55Z</dcterms:modified>
  <cp:revision>20</cp:revision>
  <dc:subject/>
  <dc:title>Макроэкономическое равновесие</dc:title>
</cp:coreProperties>
</file>