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748B-CD0B-4525-87FB-6D07A9B324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279-10D4-4191-AB5B-20374246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2AF-5B6B-4FC1-97B7-A20DD03D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BDC-0175-481B-84F8-47E0C2FB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E23-A976-4191-A82E-87165D40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606E-C3FD-4899-A9D7-DC630A32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EE8C-E499-4073-B63A-9F1B9D37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3DDD-2C5D-4873-AEA2-EEC86BF3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FABA-7362-4FD5-8911-AE438CC2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A933-B8E5-4638-917D-ADD8B02F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6107-312D-46B5-8C94-67E0FC9F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915B-621B-401D-8510-894C4E37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F72-CE6E-4A54-A648-FE32073B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298B-9B1A-4B19-967D-EA9BD91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F672-46B3-4AB8-A8B8-33AD0DB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161D-AA0D-468A-9D92-6406AADE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CB38-B71E-4294-B08F-7DC6A2F6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3EB4-EE47-47D9-A9BC-04FEC132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7A8-9EB0-4B10-B659-572C2D7D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495-21BA-4AE3-8DBC-6A171DFE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6F7-F9D3-4317-9070-729759FA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363-3789-4E9B-BE4F-11F12DBD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808-8B88-49A3-AC7D-BE8065FA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597-7DAB-4A2C-860C-64CCC5AA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EC2-EBC6-4A9F-A761-227DA1DF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E052-FE25-4BD0-BDDC-3D42F76913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B146-2285-4D0A-A823-DFC634F115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етоды структурированной оценки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анализ, концептуальная карта, цветовое голосов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1: «Сканирование» контекс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Этап 2: Подготовка и инвентаризация возможных действий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3: Внешний анализ возможностей и угро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28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ормозить развитие региона в интересующе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5: Классификация возможных действи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Этап 6: Оценивание разработанной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policy-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тратегии (опциональн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трех уровнях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предшествующих опытов – «извлечение уроков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совокупное рассмотрение необходимого и недостаточного – ресурсов, концептуальных элементов,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ние возможностей и перспекти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ante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грегированный анализ сильных и слабых сторон, угроз и альтернативных возмож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нализ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непредвиденных результат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в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 (влияниях) реализуемой политики на элементы ее контекста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варительная корректиров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-term/on-g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id-term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алид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атрицы и адекватности ее элементов текуще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p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post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спользован при разработке плана регионального развития «Объекта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 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719360"/>
          <a:ext cx="8229600" cy="461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ольшие запасы природных ресур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равнительно богатые месторожд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уризим (туристический бизнес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чественная добываемая древес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ресные и минеральные вод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олированный регион с низкой плотностью насел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асность экономических флуктуаций и отклонений от бюдж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уктурная слабость фирм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Демографический кризи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достаточное количество рабочих м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имущества и недостатки метода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an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метода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Trochi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98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-анализ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(на примере оценивания региональной поли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астники процесса составления кар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этапы составления концептуальных кар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1: Подготов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2: Выработка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тверждений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лова, краткие формулиро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3: Структурирова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ивидуальные матрицы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омбинированные матр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труктурирование утверждений: сортировка карточе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5" descr="fig-2"/>
          <p:cNvPicPr/>
          <p:nvPr/>
        </p:nvPicPr>
        <p:blipFill>
          <a:blip r:embed="rId1"/>
          <a:stretch/>
        </p:blipFill>
        <p:spPr>
          <a:xfrm>
            <a:off x="2124000" y="1557360"/>
            <a:ext cx="4907160" cy="46767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: Представле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Шаг 4.1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ведение анализа для расположения точек на карт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2: Кластерный анали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етод, позволяющий разбить изучаемую совокупность объектов на группы «схожих» объектов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ггломеративная группиро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3: Составление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5: Интерпретация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кластер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fig-3"/>
          <p:cNvPicPr/>
          <p:nvPr/>
        </p:nvPicPr>
        <p:blipFill>
          <a:blip r:embed="rId1"/>
          <a:stretch/>
        </p:blipFill>
        <p:spPr>
          <a:xfrm>
            <a:off x="1619280" y="1989000"/>
            <a:ext cx="6057720" cy="4124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fin-1"/>
          <p:cNvPicPr/>
          <p:nvPr/>
        </p:nvPicPr>
        <p:blipFill>
          <a:blip r:embed="rId1"/>
          <a:stretch/>
        </p:blipFill>
        <p:spPr>
          <a:xfrm>
            <a:off x="2124000" y="1700280"/>
            <a:ext cx="4762440" cy="4438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fig-5"/>
          <p:cNvPicPr/>
          <p:nvPr/>
        </p:nvPicPr>
        <p:blipFill>
          <a:blip r:embed="rId1"/>
          <a:stretch/>
        </p:blipFill>
        <p:spPr>
          <a:xfrm>
            <a:off x="1476360" y="1557360"/>
            <a:ext cx="6039000" cy="49244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1" name="Picture 4" descr="fig-6"/>
          <p:cNvPicPr/>
          <p:nvPr/>
        </p:nvPicPr>
        <p:blipFill>
          <a:blip r:embed="rId1"/>
          <a:stretch/>
        </p:blipFill>
        <p:spPr>
          <a:xfrm>
            <a:off x="1809720" y="1719360"/>
            <a:ext cx="5524560" cy="44114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6: Примен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пределения основных целей и приор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формления критериев эффективности и индик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можно концептуализировать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е голос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комендации по примене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хника провед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комендации по применению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ы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6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есение окончатель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ласти применен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итуационный анализ (анализ кон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утренних 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ешних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\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стороны  Слабые стороны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зможности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-матрицы (профил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34340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матриц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276640"/>
          <a:ext cx="8229600" cy="391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ые этапы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анализа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на примере оценки региональной политик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разработа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icy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9:41:50Z</dcterms:created>
  <dc:creator>USER</dc:creator>
  <dc:description/>
  <dc:language>en-US</dc:language>
  <cp:lastModifiedBy>LEGION</cp:lastModifiedBy>
  <dcterms:modified xsi:type="dcterms:W3CDTF">2016-01-04T14:03:03Z</dcterms:modified>
  <cp:revision>18</cp:revision>
  <dc:subject/>
  <dc:title>Методы структурированной оценки: SWOT анализ, концептуальная карта, цветовое голосование</dc:title>
</cp:coreProperties>
</file>