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B850-55E8-4692-88C6-DD15F2A4619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и ее роль в жизни современного общества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у выполн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никова 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и ее роль в жизни современного общества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у выполн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никова 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 (НД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то исчисленная в денежном выражении стоимость созданного  в стране в течение года совокупного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Д = ВНП – амортизация и косвенные нал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 (НД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Это исчисленная в денежном выражении стоимость созданного  в стране в течение года совокупного проду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Д = ВНП – амортизация и косвенные нало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зависит уровень жизни в ст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чего зависит уровень жизни в стра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ажнейшая сторона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я 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важнейшая сторона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сть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ость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ая (корпор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ая (корпора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стимулирует инициативу, предприимчивость, ответственное отношение к тр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стимулирует инициативу, предприимчивость, ответственное отношение к тру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пера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пера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коллектив, будучи собственником, участвует в управлении производ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коллектив, будучи собственником, участвует в управлении производ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(греч.) Искусство управления домашним хозяй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(греч.) Искусство управления домашним хозяй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номика есть искусство удовлетворять безграничные потребности при помощи  ограниченных ресурсов»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Л. Питер (американский писател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 есть искусство удовлетворять безграничные потребности при помощи  ограниченных ресурсов»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Л. Питер (американский писател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прямая зависимость между состоянием экономики и уровнем жизн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жизни характер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 на душу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е доходы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ность жиль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прямая зависимость между состоянием экономики и уровнем жизни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жизни характеризуе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 на душу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е доходы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ность жилье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е обеспе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уровень благосостояния населения, степень удовлетворения основных жизненных потребностей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уровень благосостояния населения, степень удовлетворения основных жизненных потребностей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ями экономического роста являются валовой национальный продукт (ВНП), валовой внутренний продукт (ВВП), национальный доход (Н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ями экономического роста являются валовой национальный продукт (ВНП), валовой внутренний продукт (ВВП), национальный доход (НД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национальный продукт (ВНП)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национальный продукт (ВНП)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внутренний продукт (ВВ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внутренний продукт (ВВ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0F4B-C12E-41AA-A16E-55A79707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3597-BFF1-4867-97FC-F90F3DEF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200C-7F0C-4203-B5BD-D3C1E12C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10BA-6A13-4646-A547-3C089EC0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4C36-B0AC-4EAD-B963-20B5DE05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DBB3-C61A-402E-88B1-5D37AFCC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48FF-1880-48C2-AA46-E2243566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84EE-91E8-4988-801D-18E4D2D8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EEB7-8DB5-49CD-9D0B-A3061B87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22BB-9FA8-447F-8535-175735D4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788E-4FB5-48C2-A6E6-6291EE9F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9C93-E097-438F-A82D-9734F728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4660-B3DB-4DBC-B820-533792E0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BB43-C90A-4ACD-B25F-6FF386F8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03CB-77E8-4ADB-9C40-BB618555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BA88-5780-4ACD-870D-B0210599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F1AD-7B4F-4A92-BCC1-D1738661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B694-00C2-401E-85C4-CCD821F5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3D14-BACE-4971-8071-12E66090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AF57-4B53-4EA0-960D-7901A64B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69E6-2A65-428A-9816-2E3A7F9C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6274-AE1A-4BEF-9E10-D80E5752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17EC-89F2-47BD-94A0-B93C63AA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B1E0-E9F8-454F-8E33-DB651C75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0087"/>
            </a:gs>
            <a:gs pos="50000">
              <a:srgbClr val="6600cc"/>
            </a:gs>
            <a:gs pos="100000">
              <a:srgbClr val="4400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51B6-62D6-41FE-B91A-2F10C3C2C51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0087"/>
            </a:gs>
            <a:gs pos="50000">
              <a:srgbClr val="6600cc"/>
            </a:gs>
            <a:gs pos="100000">
              <a:srgbClr val="4400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A742-E3AB-44E5-B9AA-C8DDD5734B1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5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12..ppt" TargetMode="External"/><Relationship Id="rId3" Type="http://schemas.openxmlformats.org/officeDocument/2006/relationships/hyperlink" Target="12..ppt" TargetMode="External"/><Relationship Id="rId4" Type="http://schemas.openxmlformats.org/officeDocument/2006/relationships/hyperlink" Target="12..ppt" TargetMode="External"/><Relationship Id="rId5" Type="http://schemas.openxmlformats.org/officeDocument/2006/relationships/hyperlink" Target="12..ppt" TargetMode="External"/><Relationship Id="rId6" Type="http://schemas.openxmlformats.org/officeDocument/2006/relationships/hyperlink" Target="12..ppt" TargetMode="External"/><Relationship Id="rId7" Type="http://schemas.openxmlformats.org/officeDocument/2006/relationships/hyperlink" Target="12..ppt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233000"/>
            <a:ext cx="8532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ffff"/>
                </a:solidFill>
                <a:latin typeface="Comic Sans MS"/>
              </a:rPr>
              <a:t>Экономика и ее роль в жизни современного общества</a:t>
            </a:r>
            <a:r>
              <a:rPr b="1" lang="ru-RU" sz="5600" spc="-1" strike="noStrike">
                <a:solidFill>
                  <a:srgbClr val="ff0066"/>
                </a:solidFill>
                <a:latin typeface="Comic Sans MS"/>
              </a:rPr>
              <a:t> </a:t>
            </a:r>
            <a:br>
              <a:rPr sz="5600"/>
            </a:br>
            <a:br>
              <a:rPr sz="5600"/>
            </a:br>
            <a:br>
              <a:rPr sz="5600"/>
            </a:b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16000" y="252000"/>
            <a:ext cx="6400800" cy="5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778800" y="5576760"/>
            <a:ext cx="236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572000" y="5837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466440" y="4862160"/>
            <a:ext cx="225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ючникова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Национальный доход (НД)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Это исчисленная в денежном выражении стоимость созданного  в стране в течение года совокупного продук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НД = ВНП – амортизация и косвенные налог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BS01576_"/>
          <p:cNvPicPr/>
          <p:nvPr/>
        </p:nvPicPr>
        <p:blipFill>
          <a:blip r:embed="rId1"/>
          <a:stretch/>
        </p:blipFill>
        <p:spPr>
          <a:xfrm>
            <a:off x="7093080" y="69228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E03554_"/>
          <p:cNvPicPr/>
          <p:nvPr/>
        </p:nvPicPr>
        <p:blipFill>
          <a:blip r:embed="rId2"/>
          <a:stretch/>
        </p:blipFill>
        <p:spPr>
          <a:xfrm>
            <a:off x="7596360" y="5084640"/>
            <a:ext cx="1547640" cy="1492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229600" cy="30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Comic Sans MS"/>
              </a:rPr>
              <a:t>От чего зависит уровень жизни в стране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Picture 4" descr="PE03753_"/>
          <p:cNvPicPr/>
          <p:nvPr/>
        </p:nvPicPr>
        <p:blipFill>
          <a:blip r:embed="rId1"/>
          <a:stretch/>
        </p:blipFill>
        <p:spPr>
          <a:xfrm>
            <a:off x="395280" y="2565360"/>
            <a:ext cx="2619360" cy="34686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Отношения </a:t>
            </a:r>
            <a:r>
              <a:rPr b="0" lang="ru-RU" sz="4200" spc="-1" strike="noStrike" u="sng">
                <a:solidFill>
                  <a:srgbClr val="996600"/>
                </a:solidFill>
                <a:uFillTx/>
                <a:latin typeface="Comic Sans MS"/>
                <a:hlinkClick r:id="rId1"/>
              </a:rPr>
              <a:t>собствен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это важнейшая сторона экономических отно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PE02955_"/>
          <p:cNvPicPr/>
          <p:nvPr/>
        </p:nvPicPr>
        <p:blipFill>
          <a:blip r:embed="rId2"/>
          <a:stretch/>
        </p:blipFill>
        <p:spPr>
          <a:xfrm>
            <a:off x="171360" y="1557360"/>
            <a:ext cx="1917720" cy="2459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PE03556_"/>
          <p:cNvPicPr/>
          <p:nvPr/>
        </p:nvPicPr>
        <p:blipFill>
          <a:blip r:embed="rId3"/>
          <a:stretch/>
        </p:blipFill>
        <p:spPr>
          <a:xfrm>
            <a:off x="468360" y="4797360"/>
            <a:ext cx="1836720" cy="19162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Собственность -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6202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BS01576_"/>
          <p:cNvPicPr/>
          <p:nvPr/>
        </p:nvPicPr>
        <p:blipFill>
          <a:blip r:embed="rId1"/>
          <a:stretch/>
        </p:blipFill>
        <p:spPr>
          <a:xfrm>
            <a:off x="611280" y="191628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PE03554_"/>
          <p:cNvPicPr/>
          <p:nvPr/>
        </p:nvPicPr>
        <p:blipFill>
          <a:blip r:embed="rId2"/>
          <a:stretch/>
        </p:blipFill>
        <p:spPr>
          <a:xfrm>
            <a:off x="6732720" y="436572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BD07179_"/>
          <p:cNvPicPr/>
          <p:nvPr/>
        </p:nvPicPr>
        <p:blipFill>
          <a:blip r:embed="rId1"/>
          <a:stretch/>
        </p:blipFill>
        <p:spPr>
          <a:xfrm>
            <a:off x="6300720" y="270000"/>
            <a:ext cx="2843280" cy="20415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4200"/>
            </a:b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Акционерная (корпорация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BD05082_"/>
          <p:cNvPicPr/>
          <p:nvPr/>
        </p:nvPicPr>
        <p:blipFill>
          <a:blip r:embed="rId1"/>
          <a:stretch/>
        </p:blipFill>
        <p:spPr>
          <a:xfrm>
            <a:off x="6645240" y="333360"/>
            <a:ext cx="2498760" cy="3672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Част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Она стимулирует инициативу, предприимчивость, ответственное отношение к тру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Государственная</a:t>
            </a:r>
            <a:r>
              <a:rPr b="1" lang="ru-RU" sz="38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BD07240_"/>
          <p:cNvPicPr/>
          <p:nvPr/>
        </p:nvPicPr>
        <p:blipFill>
          <a:blip r:embed="rId1"/>
          <a:stretch/>
        </p:blipFill>
        <p:spPr>
          <a:xfrm>
            <a:off x="7020000" y="476280"/>
            <a:ext cx="1819080" cy="1554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BL01065_"/>
          <p:cNvPicPr/>
          <p:nvPr/>
        </p:nvPicPr>
        <p:blipFill>
          <a:blip r:embed="rId2"/>
          <a:stretch/>
        </p:blipFill>
        <p:spPr>
          <a:xfrm>
            <a:off x="6732720" y="414972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Кооператив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34800"/>
            <a:ext cx="822960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BD07161_"/>
          <p:cNvPicPr/>
          <p:nvPr/>
        </p:nvPicPr>
        <p:blipFill>
          <a:blip r:embed="rId1"/>
          <a:stretch/>
        </p:blipFill>
        <p:spPr>
          <a:xfrm>
            <a:off x="3203640" y="4437000"/>
            <a:ext cx="2448000" cy="21718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Коллектив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ff"/>
                </a:solidFill>
                <a:latin typeface="Arial"/>
              </a:rPr>
              <a:t>Трудовой коллектив, будучи собственником, участвует в управлении производств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PE07675_"/>
          <p:cNvPicPr/>
          <p:nvPr/>
        </p:nvPicPr>
        <p:blipFill>
          <a:blip r:embed="rId1"/>
          <a:stretch/>
        </p:blipFill>
        <p:spPr>
          <a:xfrm>
            <a:off x="5435640" y="3500280"/>
            <a:ext cx="2205000" cy="25909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540036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996600"/>
                </a:solidFill>
                <a:uFillTx/>
                <a:latin typeface="Comic Sans MS"/>
                <a:hlinkClick r:id="rId1"/>
              </a:rPr>
              <a:t>Экономика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1.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(греч.) Искусство управления домашним хозяйств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E03556_"/>
          <p:cNvPicPr/>
          <p:nvPr/>
        </p:nvPicPr>
        <p:blipFill>
          <a:blip r:embed="rId2"/>
          <a:stretch/>
        </p:blipFill>
        <p:spPr>
          <a:xfrm>
            <a:off x="7236000" y="620640"/>
            <a:ext cx="1766880" cy="18432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5"/>
          <p:cNvSpPr/>
          <p:nvPr/>
        </p:nvSpPr>
        <p:spPr>
          <a:xfrm>
            <a:off x="7885080" y="62064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  <a:path fill="darken" w="21600" h="28812">
                <a:moveTo>
                  <a:pt x="3794" y="7400"/>
                </a:moveTo>
                <a:lnTo>
                  <a:pt x="17806" y="14406"/>
                </a:lnTo>
                <a:lnTo>
                  <a:pt x="3794" y="21412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PE03554_"/>
          <p:cNvPicPr/>
          <p:nvPr/>
        </p:nvPicPr>
        <p:blipFill>
          <a:blip r:embed="rId1"/>
          <a:stretch/>
        </p:blipFill>
        <p:spPr>
          <a:xfrm>
            <a:off x="684360" y="465300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9152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Comic Sans MS"/>
              </a:rPr>
              <a:t>«Экономика есть искусство удовлетворять безграничные потребности при помощи  ограниченных ресурсов»</a:t>
            </a: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-</a:t>
            </a:r>
            <a:br>
              <a:rPr sz="4200"/>
            </a:b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  </a:t>
            </a:r>
            <a:br>
              <a:rPr sz="4200"/>
            </a:b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900" spc="-1" strike="noStrike">
                <a:solidFill>
                  <a:srgbClr val="ff99ff"/>
                </a:solidFill>
                <a:latin typeface="Comic Sans MS"/>
              </a:rPr>
              <a:t>Л. Питер (американский писатель).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AutoShape 4">
            <a:hlinkClick r:id="" action="ppaction://hlinkshowjump?jump=previousslide"/>
          </p:cNvPr>
          <p:cNvSpPr/>
          <p:nvPr/>
        </p:nvSpPr>
        <p:spPr>
          <a:xfrm>
            <a:off x="611280" y="4581360"/>
            <a:ext cx="431640" cy="719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719280"/>
              <a:gd name="textAreaBottom" fmla="*/ 691560 h 719280"/>
            </a:gdLst>
            <a:ahLst/>
            <a:rect l="textAreaLeft" t="textAreaTop" r="textAreaRight" b="textAreaBottom"/>
            <a:pathLst>
              <a:path w="21600" h="35982">
                <a:moveTo>
                  <a:pt x="0" y="0"/>
                </a:moveTo>
                <a:lnTo>
                  <a:pt x="21600" y="0"/>
                </a:lnTo>
                <a:lnTo>
                  <a:pt x="21600" y="35982"/>
                </a:lnTo>
                <a:lnTo>
                  <a:pt x="0" y="35982"/>
                </a:lnTo>
                <a:close/>
              </a:path>
              <a:path fill="lightenLess" w="21600" h="359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82">
                <a:moveTo>
                  <a:pt x="21600" y="0"/>
                </a:moveTo>
                <a:lnTo>
                  <a:pt x="21600" y="35982"/>
                </a:lnTo>
                <a:lnTo>
                  <a:pt x="20200" y="34582"/>
                </a:lnTo>
                <a:lnTo>
                  <a:pt x="20200" y="1400"/>
                </a:lnTo>
                <a:close/>
              </a:path>
              <a:path fill="darkenLess" w="21600" h="35982">
                <a:moveTo>
                  <a:pt x="21600" y="35982"/>
                </a:moveTo>
                <a:lnTo>
                  <a:pt x="0" y="35982"/>
                </a:lnTo>
                <a:lnTo>
                  <a:pt x="1400" y="34582"/>
                </a:lnTo>
                <a:lnTo>
                  <a:pt x="20200" y="34582"/>
                </a:lnTo>
                <a:close/>
              </a:path>
              <a:path fill="lighten" w="21600" h="35982">
                <a:moveTo>
                  <a:pt x="0" y="3598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82"/>
                </a:lnTo>
                <a:close/>
              </a:path>
              <a:path fill="darken" w="21600" h="35982">
                <a:moveTo>
                  <a:pt x="3794" y="17991"/>
                </a:moveTo>
                <a:lnTo>
                  <a:pt x="17806" y="10985"/>
                </a:lnTo>
                <a:lnTo>
                  <a:pt x="17806" y="24997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Существует прямая зависимость между состоянием экономики и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уровнем жизни насе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Уровень жизни характеризуетс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Потребление на душу насел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Реальные доходы насел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Обеспеченность жилье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Социальное обеспеч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PE03556_"/>
          <p:cNvPicPr/>
          <p:nvPr/>
        </p:nvPicPr>
        <p:blipFill>
          <a:blip r:embed="rId2"/>
          <a:stretch/>
        </p:blipFill>
        <p:spPr>
          <a:xfrm>
            <a:off x="6754680" y="4365720"/>
            <a:ext cx="2389320" cy="24922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Уровень жизн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это уровень благосостояния населения, степень удовлетворения основных жизненных потребностей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PE03554_"/>
          <p:cNvPicPr/>
          <p:nvPr/>
        </p:nvPicPr>
        <p:blipFill>
          <a:blip r:embed="rId1"/>
          <a:stretch/>
        </p:blipFill>
        <p:spPr>
          <a:xfrm>
            <a:off x="971640" y="3448080"/>
            <a:ext cx="2736720" cy="2638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        </a:t>
            </a: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PE03556_"/>
          <p:cNvPicPr/>
          <p:nvPr/>
        </p:nvPicPr>
        <p:blipFill>
          <a:blip r:embed="rId1"/>
          <a:stretch/>
        </p:blipFill>
        <p:spPr>
          <a:xfrm>
            <a:off x="5219640" y="3933720"/>
            <a:ext cx="2525760" cy="2635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Показателями экономического роста являются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валовой национальный продукт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 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(ВНП),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валовой внутренний продукт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 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(ВВП),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национальный доход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 (НД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аловой национальный продукт (ВНП) -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95280" y="1599840"/>
            <a:ext cx="64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BS01576_"/>
          <p:cNvPicPr/>
          <p:nvPr/>
        </p:nvPicPr>
        <p:blipFill>
          <a:blip r:embed="rId1"/>
          <a:stretch/>
        </p:blipFill>
        <p:spPr>
          <a:xfrm>
            <a:off x="324000" y="177336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PE03554_"/>
          <p:cNvPicPr/>
          <p:nvPr/>
        </p:nvPicPr>
        <p:blipFill>
          <a:blip r:embed="rId2"/>
          <a:stretch/>
        </p:blipFill>
        <p:spPr>
          <a:xfrm>
            <a:off x="468360" y="4857840"/>
            <a:ext cx="1871640" cy="18050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аловой внутренний продукт (ВВП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50920" y="1628640"/>
            <a:ext cx="6842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BS01576_"/>
          <p:cNvPicPr/>
          <p:nvPr/>
        </p:nvPicPr>
        <p:blipFill>
          <a:blip r:embed="rId1"/>
          <a:stretch/>
        </p:blipFill>
        <p:spPr>
          <a:xfrm>
            <a:off x="468360" y="177336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PE03554_"/>
          <p:cNvPicPr/>
          <p:nvPr/>
        </p:nvPicPr>
        <p:blipFill>
          <a:blip r:embed="rId2"/>
          <a:stretch/>
        </p:blipFill>
        <p:spPr>
          <a:xfrm>
            <a:off x="684360" y="465300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01:53:27Z</dcterms:created>
  <dc:creator>Тимотыш</dc:creator>
  <dc:description/>
  <dc:language>en-US</dc:language>
  <cp:lastModifiedBy>LEGION</cp:lastModifiedBy>
  <dcterms:modified xsi:type="dcterms:W3CDTF">2016-01-04T14:03:33Z</dcterms:modified>
  <cp:revision>10</cp:revision>
  <dc:subject/>
  <dc:title>Экономика и ее роль в жизни современного общества</dc:title>
</cp:coreProperties>
</file>