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CC0F-8490-4E54-9E10-91C1484CB60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ее роль в жизни современного общества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никова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и ее роль в жизни современного общества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никова 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 (НД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то исчисленная в денежном выражении стоимость созданного  в стране в течение года совокупно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Д = ВНП – амортизация и косвенные нал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(НД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то исчисленная в денежном выражении стоимость созданного  в стране в течение года совокупного проду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Д = ВНП – амортизация и косвенные нало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ит уровень жизн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чего зависит уровень жизни в стра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ажнейшая сторона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я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ажнейшая сторона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сть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ость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ая (корпор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ая (корпора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стимулирует инициативу, предприимчивость, ответственное отношение к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стимулирует инициативу, предприимчивость, ответственное отношение к тру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пера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пера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коллектив, будучи собственником, участвует в управлении производ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ллектив, будучи собственником, участвует в управлении производ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(греч.) Искусство управления домашним хозяй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(греч.) Искусство управления домашним хозяй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номика есть искусство удовлетворять безграничные потребности при помощи  ограниченных ресурсов»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Л. Питер (американский писат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 есть искусство удовлетворять безграничные потребности при помощи  ограниченных ресурсов»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Л. Питер (американский писател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ямая зависимость между состоянием экономики и уровнем жизн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жизни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 на душу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доходы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ность жиль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прямая зависимость между состоянием экономики и уровнем жизн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 характеризу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 на душу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доходы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ность жиль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обеспе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уровень благосостояния населения, степень удовлетворения основных жизненных потребностей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уровень благосостояния населения, степень удовлетворения основных жизненных потребностей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ями экономического роста являются валовой национальный продукт (ВНП), валовой внутренний продукт (ВВП), национальный доход (Н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ями экономического роста являются валовой национальный продукт (ВНП), валовой внутренний продукт (ВВП), национальный доход (НД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 (ВНП)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внутренний продукт (ВВ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CAE-BB9D-49D4-836E-B8B1E426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4604-28D5-41CE-A3C8-EEBF0BED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1B1-5339-4E3A-A278-70F25A54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84AA-A539-4718-8078-97983469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6232-73E2-45D2-B682-27743786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D221-9EA2-45C6-86D9-5912EC2C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9F95-7CB3-48D6-B8AF-8A859FF0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2348-1EE1-42B3-A058-DEA1AABB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781C-F7BE-4A4B-8416-463B77E5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F429-4358-46F0-ABD5-4912D9F7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1575-242C-4A14-A1E7-E3F41AD8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FED-8E09-4E5B-B661-45E4979C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F35B-CC27-4E17-9BD0-4B710782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ED61-0F5E-4697-BABA-7E92DDFD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3C1A-691B-41D0-A2EF-F083438B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0DFF-25FE-49A5-B68A-5B1B5777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5022-7B32-4A35-9AC0-BF63B0ED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1542-E56A-4274-9E2E-3EF9C66F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A170-9535-49C6-9195-968C4CA0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B87A-5F3A-4F0F-99DE-8B3373FC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E5C-DF29-4F19-8176-6BAD8C46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EBB-DF23-4CAD-9C74-6BB1B951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DE8-F758-477B-BE02-9B5F526C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ECF-B3AE-43A4-8025-A0BEE7C0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0087"/>
            </a:gs>
            <a:gs pos="50000">
              <a:srgbClr val="6600cc"/>
            </a:gs>
            <a:gs pos="100000">
              <a:srgbClr val="4400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007A-0C36-4FF0-9F0D-9026B0BA5EB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0087"/>
            </a:gs>
            <a:gs pos="50000">
              <a:srgbClr val="6600cc"/>
            </a:gs>
            <a:gs pos="100000">
              <a:srgbClr val="4400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1D53-88A5-4B41-A15A-F6324BEF65D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5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12..ppt" TargetMode="External"/><Relationship Id="rId3" Type="http://schemas.openxmlformats.org/officeDocument/2006/relationships/hyperlink" Target="12..ppt" TargetMode="External"/><Relationship Id="rId4" Type="http://schemas.openxmlformats.org/officeDocument/2006/relationships/hyperlink" Target="12..ppt" TargetMode="External"/><Relationship Id="rId5" Type="http://schemas.openxmlformats.org/officeDocument/2006/relationships/hyperlink" Target="12..ppt" TargetMode="External"/><Relationship Id="rId6" Type="http://schemas.openxmlformats.org/officeDocument/2006/relationships/hyperlink" Target="12..ppt" TargetMode="External"/><Relationship Id="rId7" Type="http://schemas.openxmlformats.org/officeDocument/2006/relationships/hyperlink" Target="12..pp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233000"/>
            <a:ext cx="8532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Comic Sans MS"/>
              </a:rPr>
              <a:t>Экономика и ее роль в жизни современного общества</a:t>
            </a:r>
            <a:r>
              <a:rPr b="1" lang="ru-RU" sz="56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5600"/>
            </a:br>
            <a:br>
              <a:rPr sz="5600"/>
            </a:br>
            <a:br>
              <a:rPr sz="5600"/>
            </a:b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16000" y="252000"/>
            <a:ext cx="6400800" cy="5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778800" y="5576760"/>
            <a:ext cx="236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572000" y="5837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466440" y="4862160"/>
            <a:ext cx="225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никова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Национальный доход (НД)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Это исчисленная в денежном выражении стоимость созданного  в стране в течение года совокупного продук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НД = ВНП – амортизация и косвенные налог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BS01576_"/>
          <p:cNvPicPr/>
          <p:nvPr/>
        </p:nvPicPr>
        <p:blipFill>
          <a:blip r:embed="rId1"/>
          <a:stretch/>
        </p:blipFill>
        <p:spPr>
          <a:xfrm>
            <a:off x="7093080" y="69228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E03554_"/>
          <p:cNvPicPr/>
          <p:nvPr/>
        </p:nvPicPr>
        <p:blipFill>
          <a:blip r:embed="rId2"/>
          <a:stretch/>
        </p:blipFill>
        <p:spPr>
          <a:xfrm>
            <a:off x="7596360" y="5084640"/>
            <a:ext cx="1547640" cy="1492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2960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Comic Sans MS"/>
              </a:rPr>
              <a:t>От чего зависит уровень жизни в стране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Picture 4" descr="PE03753_"/>
          <p:cNvPicPr/>
          <p:nvPr/>
        </p:nvPicPr>
        <p:blipFill>
          <a:blip r:embed="rId1"/>
          <a:stretch/>
        </p:blipFill>
        <p:spPr>
          <a:xfrm>
            <a:off x="395280" y="2565360"/>
            <a:ext cx="261936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Отношения </a:t>
            </a:r>
            <a:r>
              <a:rPr b="0" lang="ru-RU" sz="42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собствен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это важнейшая сторона экономических отно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E02955_"/>
          <p:cNvPicPr/>
          <p:nvPr/>
        </p:nvPicPr>
        <p:blipFill>
          <a:blip r:embed="rId2"/>
          <a:stretch/>
        </p:blipFill>
        <p:spPr>
          <a:xfrm>
            <a:off x="171360" y="1557360"/>
            <a:ext cx="1917720" cy="245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E03556_"/>
          <p:cNvPicPr/>
          <p:nvPr/>
        </p:nvPicPr>
        <p:blipFill>
          <a:blip r:embed="rId3"/>
          <a:stretch/>
        </p:blipFill>
        <p:spPr>
          <a:xfrm>
            <a:off x="468360" y="4797360"/>
            <a:ext cx="1836720" cy="19162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Собственность -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6202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BS01576_"/>
          <p:cNvPicPr/>
          <p:nvPr/>
        </p:nvPicPr>
        <p:blipFill>
          <a:blip r:embed="rId1"/>
          <a:stretch/>
        </p:blipFill>
        <p:spPr>
          <a:xfrm>
            <a:off x="611280" y="191628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PE03554_"/>
          <p:cNvPicPr/>
          <p:nvPr/>
        </p:nvPicPr>
        <p:blipFill>
          <a:blip r:embed="rId2"/>
          <a:stretch/>
        </p:blipFill>
        <p:spPr>
          <a:xfrm>
            <a:off x="6732720" y="436572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BD07179_"/>
          <p:cNvPicPr/>
          <p:nvPr/>
        </p:nvPicPr>
        <p:blipFill>
          <a:blip r:embed="rId1"/>
          <a:stretch/>
        </p:blipFill>
        <p:spPr>
          <a:xfrm>
            <a:off x="6300720" y="270000"/>
            <a:ext cx="2843280" cy="2041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4200"/>
            </a:b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Акционерная (корпорация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BD05082_"/>
          <p:cNvPicPr/>
          <p:nvPr/>
        </p:nvPicPr>
        <p:blipFill>
          <a:blip r:embed="rId1"/>
          <a:stretch/>
        </p:blipFill>
        <p:spPr>
          <a:xfrm>
            <a:off x="6645240" y="333360"/>
            <a:ext cx="2498760" cy="3672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Част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Она стимулирует инициативу, предприимчивость, ответственное отношение к тру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Государственная</a:t>
            </a:r>
            <a:r>
              <a:rPr b="1" lang="ru-RU" sz="3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BD07240_"/>
          <p:cNvPicPr/>
          <p:nvPr/>
        </p:nvPicPr>
        <p:blipFill>
          <a:blip r:embed="rId1"/>
          <a:stretch/>
        </p:blipFill>
        <p:spPr>
          <a:xfrm>
            <a:off x="7020000" y="476280"/>
            <a:ext cx="1819080" cy="1554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BL01065_"/>
          <p:cNvPicPr/>
          <p:nvPr/>
        </p:nvPicPr>
        <p:blipFill>
          <a:blip r:embed="rId2"/>
          <a:stretch/>
        </p:blipFill>
        <p:spPr>
          <a:xfrm>
            <a:off x="6732720" y="414972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Кооператив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34800"/>
            <a:ext cx="82296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BD07161_"/>
          <p:cNvPicPr/>
          <p:nvPr/>
        </p:nvPicPr>
        <p:blipFill>
          <a:blip r:embed="rId1"/>
          <a:stretch/>
        </p:blipFill>
        <p:spPr>
          <a:xfrm>
            <a:off x="3203640" y="4437000"/>
            <a:ext cx="2448000" cy="21718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Коллектив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Arial"/>
              </a:rPr>
              <a:t>Трудовой коллектив, будучи собственником, участвует в управлении производств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PE07675_"/>
          <p:cNvPicPr/>
          <p:nvPr/>
        </p:nvPicPr>
        <p:blipFill>
          <a:blip r:embed="rId1"/>
          <a:stretch/>
        </p:blipFill>
        <p:spPr>
          <a:xfrm>
            <a:off x="5435640" y="3500280"/>
            <a:ext cx="2205000" cy="2590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540036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Экономик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1.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(греч.) Искусство управления домашним хозяйств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E03556_"/>
          <p:cNvPicPr/>
          <p:nvPr/>
        </p:nvPicPr>
        <p:blipFill>
          <a:blip r:embed="rId2"/>
          <a:stretch/>
        </p:blipFill>
        <p:spPr>
          <a:xfrm>
            <a:off x="7236000" y="620640"/>
            <a:ext cx="1766880" cy="18432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/>
          <p:cNvSpPr/>
          <p:nvPr/>
        </p:nvSpPr>
        <p:spPr>
          <a:xfrm>
            <a:off x="7885080" y="62064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3794" y="7400"/>
                </a:moveTo>
                <a:lnTo>
                  <a:pt x="17806" y="14406"/>
                </a:lnTo>
                <a:lnTo>
                  <a:pt x="3794" y="21412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PE03554_"/>
          <p:cNvPicPr/>
          <p:nvPr/>
        </p:nvPicPr>
        <p:blipFill>
          <a:blip r:embed="rId1"/>
          <a:stretch/>
        </p:blipFill>
        <p:spPr>
          <a:xfrm>
            <a:off x="684360" y="465300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915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Comic Sans MS"/>
              </a:rPr>
              <a:t>«Экономика есть искусство удовлетворять безграничные потребности при помощи  ограниченных ресурсов»</a:t>
            </a: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-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  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900" spc="-1" strike="noStrike">
                <a:solidFill>
                  <a:srgbClr val="ff99ff"/>
                </a:solidFill>
                <a:latin typeface="Comic Sans MS"/>
              </a:rPr>
              <a:t>Л. Питер (американский писатель).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AutoShape 4">
            <a:hlinkClick r:id="" action="ppaction://hlinkshowjump?jump=previousslide"/>
          </p:cNvPr>
          <p:cNvSpPr/>
          <p:nvPr/>
        </p:nvSpPr>
        <p:spPr>
          <a:xfrm>
            <a:off x="611280" y="4581360"/>
            <a:ext cx="431640" cy="719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82">
                <a:moveTo>
                  <a:pt x="0" y="0"/>
                </a:moveTo>
                <a:lnTo>
                  <a:pt x="21600" y="0"/>
                </a:lnTo>
                <a:lnTo>
                  <a:pt x="21600" y="35982"/>
                </a:lnTo>
                <a:lnTo>
                  <a:pt x="0" y="35982"/>
                </a:lnTo>
                <a:close/>
              </a:path>
              <a:path fill="lightenLess" w="21600" h="359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2">
                <a:moveTo>
                  <a:pt x="21600" y="0"/>
                </a:moveTo>
                <a:lnTo>
                  <a:pt x="21600" y="35982"/>
                </a:lnTo>
                <a:lnTo>
                  <a:pt x="20200" y="34582"/>
                </a:lnTo>
                <a:lnTo>
                  <a:pt x="20200" y="1400"/>
                </a:lnTo>
                <a:close/>
              </a:path>
              <a:path fill="darkenLess" w="21600" h="35982">
                <a:moveTo>
                  <a:pt x="21600" y="35982"/>
                </a:moveTo>
                <a:lnTo>
                  <a:pt x="0" y="35982"/>
                </a:lnTo>
                <a:lnTo>
                  <a:pt x="1400" y="34582"/>
                </a:lnTo>
                <a:lnTo>
                  <a:pt x="20200" y="34582"/>
                </a:lnTo>
                <a:close/>
              </a:path>
              <a:path fill="lighten" w="21600" h="35982">
                <a:moveTo>
                  <a:pt x="0" y="359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2"/>
                </a:lnTo>
                <a:close/>
              </a:path>
              <a:path fill="darken" w="21600" h="35982">
                <a:moveTo>
                  <a:pt x="3794" y="17991"/>
                </a:moveTo>
                <a:lnTo>
                  <a:pt x="17806" y="10985"/>
                </a:lnTo>
                <a:lnTo>
                  <a:pt x="17806" y="24997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Существует прямая зависимость между состоянием экономики и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уровнем жизни насе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ровень жизни характеризуе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Потребление на душу нас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Реальные доходы нас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Обеспеченность жилье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Социальное обеспеч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E03556_"/>
          <p:cNvPicPr/>
          <p:nvPr/>
        </p:nvPicPr>
        <p:blipFill>
          <a:blip r:embed="rId2"/>
          <a:stretch/>
        </p:blipFill>
        <p:spPr>
          <a:xfrm>
            <a:off x="6754680" y="4365720"/>
            <a:ext cx="2389320" cy="24922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Уровень жизн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это уровень благосостояния населения, степень удовлетворения основных жизненных потребностей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E03554_"/>
          <p:cNvPicPr/>
          <p:nvPr/>
        </p:nvPicPr>
        <p:blipFill>
          <a:blip r:embed="rId1"/>
          <a:stretch/>
        </p:blipFill>
        <p:spPr>
          <a:xfrm>
            <a:off x="971640" y="3448080"/>
            <a:ext cx="2736720" cy="2638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        </a:t>
            </a: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PE03556_"/>
          <p:cNvPicPr/>
          <p:nvPr/>
        </p:nvPicPr>
        <p:blipFill>
          <a:blip r:embed="rId1"/>
          <a:stretch/>
        </p:blipFill>
        <p:spPr>
          <a:xfrm>
            <a:off x="5219640" y="3933720"/>
            <a:ext cx="2525760" cy="2635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Показателями экономического роста являются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валовой национальный продукт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(ВНП),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валовой внутренний продукт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 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(ВВП),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национальный доход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 (НД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аловой национальный продукт (ВНП) -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95280" y="1599840"/>
            <a:ext cx="64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S01576_"/>
          <p:cNvPicPr/>
          <p:nvPr/>
        </p:nvPicPr>
        <p:blipFill>
          <a:blip r:embed="rId1"/>
          <a:stretch/>
        </p:blipFill>
        <p:spPr>
          <a:xfrm>
            <a:off x="324000" y="177336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PE03554_"/>
          <p:cNvPicPr/>
          <p:nvPr/>
        </p:nvPicPr>
        <p:blipFill>
          <a:blip r:embed="rId2"/>
          <a:stretch/>
        </p:blipFill>
        <p:spPr>
          <a:xfrm>
            <a:off x="468360" y="4857840"/>
            <a:ext cx="1871640" cy="18050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аловой внутренний продукт (ВВП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50920" y="1628640"/>
            <a:ext cx="6842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BS01576_"/>
          <p:cNvPicPr/>
          <p:nvPr/>
        </p:nvPicPr>
        <p:blipFill>
          <a:blip r:embed="rId1"/>
          <a:stretch/>
        </p:blipFill>
        <p:spPr>
          <a:xfrm>
            <a:off x="468360" y="177336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E03554_"/>
          <p:cNvPicPr/>
          <p:nvPr/>
        </p:nvPicPr>
        <p:blipFill>
          <a:blip r:embed="rId2"/>
          <a:stretch/>
        </p:blipFill>
        <p:spPr>
          <a:xfrm>
            <a:off x="684360" y="465300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1:53:27Z</dcterms:created>
  <dc:creator>Тимотыш</dc:creator>
  <dc:description/>
  <dc:language>en-US</dc:language>
  <cp:lastModifiedBy>LEGION</cp:lastModifiedBy>
  <dcterms:modified xsi:type="dcterms:W3CDTF">2016-01-04T14:03:33Z</dcterms:modified>
  <cp:revision>10</cp:revision>
  <dc:subject/>
  <dc:title>Экономика и ее роль в жизни современного общества</dc:title>
</cp:coreProperties>
</file>