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27.jpeg" ContentType="image/jpeg"/>
  <Override PartName="/ppt/media/image13.jpeg" ContentType="image/jpeg"/>
  <Override PartName="/ppt/media/image8.jpeg" ContentType="image/jpeg"/>
  <Override PartName="/ppt/media/image2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26.jpeg" ContentType="image/jpeg"/>
  <Override PartName="/ppt/media/image29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85BD-235C-4D65-827E-75179FE1C0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5DE9-FBC1-45F2-BC7F-B5654D49E4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дние славянофи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E687-5EA0-4FFF-B65B-1D8F7A053A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сять культурно-исторических тип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Египет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ита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Древнесемит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нди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ран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Евре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Грече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им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Аравий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омано-герман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ксикански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уан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лавяно-рус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3550-DC5E-416D-8B70-EDA575B466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Положительные и отрицательные деят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Положительные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деятели истори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(самобытные цивилиз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Отрицательные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деятели истори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народы-разрушител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ароды, не достигшие исторической индивидуа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370B-773B-41B0-AEFF-2C7CFADA16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коны культурно-исторического дви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Языковое родств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ак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ритери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снов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амобытного культурно-исторического тип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Политическая независимость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ак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услови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развития самобытного культурно-исторического типа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Начала цивилизаци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одного культурно-исторического тип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е передаютс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ародам другого тип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Цивилизация достигает полноты развития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огда составляющие её этнографические элементы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е поглощены одним политическим целым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а составляют политическую систему государ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витие цивилизаци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одобно жизни многолетних одноплодных растений, у которых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родолжительный период рост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меняется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оротким (и никогда не повторяющимся) периодом расцв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AE98-CF5E-41C6-B7D2-DAD7D7C6D5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3200"/>
            </a:b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«Одноосновные» и «многоосновные» цивилиз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вилизации не бываю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лучше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хуже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они прост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вилизации различаются преимущественным развитием какой-т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дной стороны культур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ейская цивилизация – преимущественно религиозн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еческая – преимущественно эстетическ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имская – преимущественно политико-правов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опейцы расширили область культурного творчества, создав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двуосновную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цивилизацию – научно-промышленн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ядущая славяно-русская цивилизация будет – впервые в истории – полной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четырёхосновной»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оссия призвана решить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ально-экономический вопрос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который в Европе остался неразрешё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E222-C636-4368-A545-8136FA0F2E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остояние России и Европы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кат Европы и ненависть Запада к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Европейская цивилизац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уже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рошла период расцвета и находитс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а пути к дряхл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й н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мену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дё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лавяно-русская цивилиз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Элементы провиденциализм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(в концепции, которая в целом вполне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аучн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): история славянских народов свидетельствует об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собой заботе Прови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нстинктивным пониманием того, что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будущее за славянством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объясняетс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иррациональная ненависть Запада к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3051-10A0-4A68-873C-7653CF2339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тивостояние России и Европ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еимущества славяно-русской циви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личительная черта «психического настроя»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германо-романских народо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асильственность и чрезмерно-развитое чувство индивидуальности;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тличительная черт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лавянских народо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ирождённая гуманность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пешному решению социально-экономического вопрос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рамках славяно-русской цивилизации способствует 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оциально-экономическая специфи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осс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осси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ольшинство населения обладает землё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тогда как в Европе большинство населения представляет собой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езземеленную мас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транах второго типа экономический строй основывается н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ужде большинства гражда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в странах первого – н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экономической обеспеченност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ответственно, те общественные классы, которые, будучи (как в Европе) сосредоточены в городах, составляют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ассовую базу революций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 России оказываю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амыми консерватив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2738-32FF-4EDD-9FEB-0059812F6E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. Леонтьев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31‑189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791E-4BD6-49A0-B497-7BC2369B4B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Леонтьев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31‑189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изантиз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изантизм против панслав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обенности византийской куль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изантийские основы русской куль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культуры: концепция «цветущей слож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азы развития куль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пология деспотизма и элитарност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антидемократизм и антиэгалитариз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стет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пология реакцио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рический пессим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83BA-6B72-4E00-8E38-D14DDDDF07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изантизм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изантизм против панславиз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Национализм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(даже русский) –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редная западная иде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Единство православно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(византийской)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культуры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ажнее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лавянского брат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изантизм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есть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ечто культурно определённое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анславизм же – или абстракция, или меч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лавян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западные (а с недавних пор – и южные) уже слишком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заражены европейским духом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представляют скорее угрозу для будущего России, чем действительную помощ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917F-B2E3-4A80-B051-7ED84712D5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изант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обенности византийской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дро византийской культуры составляе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ера в Бога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а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 в Царство Божие на зем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изантизм означ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елигиозн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фере –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равослав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осударственно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фере –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амодержавие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равственн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фере –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реувеличенного понятия о земной личности человеческой;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верие в способность к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олному нравственному совершенству на земл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каз о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адежды на грядущее «всеобщее благоденствие народов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«земное всеравенство, всесвобода, всесовершенство и вседовольство»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B50B-7378-4294-A9B2-08CD023877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дние славянофил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D0BD-ECD7-4E6A-93CE-A158ADD50C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изантизм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изантийские основы русской куль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русской культуре много чуждого византизму (как собственно русского, так и заимствованного), н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еличием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оим она обязана именно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изантийским начал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Отрицательное же отношение к византийской культур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русском обществе –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ледствие «незрелости» и несамостоятельности русской исторической наук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е просто незнания реальной истории, а знакомства с нею через посредство западных писателей, византийской культуре чуждых и даже враждеб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FEC2-89F8-4CF6-A19B-8A8FBFA662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Фазы развития культ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 культуры подчинены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бщему закону циклического развит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согласно которому всё развивающееся проходит через три периода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ервичной простоты»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цветущей сложности»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вторичного смесительного упрощения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6368-C5FC-44C6-A6EC-4F5485737C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логия деспотизма и элитар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жду эгалитарно-либеральным поступательным движением и идеей развития не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ичего логически родственного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аже более: прогресс есть не что иное, ка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оцесс разлож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вый итог развития – преодоление равенства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граничение свобод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иод «цветущей сложности» есть именно период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ального неравенства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бразования эли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иод смесительного упрощения характеризуется стремлением ко всеобщему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венств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емократии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оторое имеет своим результатом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сцвет техники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мирание искусства;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пошление жизн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замену воли к положительному творчеству ценностей волей к механическому использованию работы и жаждой удовольст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6F5E-6C0C-4C83-82B3-5E58922F38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4CA9-9AAE-48FF-A3C3-782C3C72A9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стет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еонтьевская критик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буржуазног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Запада мотивирована, прежде всего, эстетичес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стетическая обеспокоенность делает Леонтьева одним из провозвестников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экологическог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дви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D803-DCC7-41E7-8F0A-1DA847C60B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стет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еонтьевская критик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буржуазног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Запада мотивирована, прежде всего, эстетичес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стетическая обеспокоенность делает Леонтьева одним из провозвестников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экологическог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дви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а же делает его одним из предшественников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технофобных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антиутопи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XX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ка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5F21-2E49-42C2-986F-CEA36AEE78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стет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еонтьевская критик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буржуазног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Запада мотивирована, прежде всего, эстетичес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стетическая обеспокоенность делает Леонтьева одним из провозвестников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экологическог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дви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а же делает его одним из предшественников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технофобных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антиутопи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XX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ка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стетически мотивирована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олитическа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еакционность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Леонтье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B9D6-D6A0-414D-BE5B-2639A6B05D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пология реакцио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AB19-73C3-41B6-AA2B-A6189B2CF8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ческий пессим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14BD-AACF-4C44-980A-D897BB79C6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6357-1C79-41EE-933E-41879497DC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Я. Данилевский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22‑188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3F2C-FEA5-4F83-AAA9-AE7D123B46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Я. Данилевский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22‑188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епени (уровни) развития и типы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сять культурно-исторических тип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ложительные и отрицательные дея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ять законов культурно-исторического дви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Одноосновные» и «многоосновные» циви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тивостояние России и Европ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ат европейской циви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ррациональная ненависть Запада к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имущества славяно-русской циви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2D85-46C6-44CC-8785-7FF6467992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39D0-A8C2-4885-9DB7-108A6347B6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епени развития и ти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основе универсалистской парадигмы лежи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логически не корректно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еление истории на периоды: древность, средневековье, новое врем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убеж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отделяющие один период от другого, не имели общечеловеческого зна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истории каждой цивилизации выделяютс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вои фазисы развит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свои «древность», «средневековье» и «новое врем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жду последними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ольше общего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чем между ними и соответствующими периодами других цивилиза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ление истории по степеням развити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е исчерпыва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его богатств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ё содерж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14E1-2C04-44BC-9C6A-03964AB55E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Культура не универсальн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(западная – в том числ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вокупное человечество не есть реальный субъект истории, н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лишь абстрактная иде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знообрази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, а не единообразие – закон и условие прогрес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0AA2-8970-4947-8B7D-95D5196EB9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CBFF-16E7-43E7-9032-BCA5C6AEB3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76BF-9D82-4A84-93AA-881A5228F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F241-8793-419A-A855-A5BE8C00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6497-1A1A-4EE9-B406-86D8A8929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C84B-7224-41DC-890B-7CF16BEE6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9C4D-E18F-411A-B8AD-74E745E4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A108-51BD-40F1-994F-574F213A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E6F3-1AA7-471D-9100-2FEBEF21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5811-6302-4ED1-88AB-638AB5B3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051A-7D23-4DB6-A98A-ACA4CBC3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68A8-54D1-431F-B01C-7A421009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CB1C-5F1B-4970-A00D-21E09D96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5EB5-D61F-45BC-B53E-822EBBDF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9265-D353-40C0-9FFD-97C45F2C13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image" Target="../media/image20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9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1071720" y="2357280"/>
            <a:ext cx="712152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10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здние славянофи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Egypt"/>
          <p:cNvPicPr/>
          <p:nvPr/>
        </p:nvPicPr>
        <p:blipFill>
          <a:blip r:embed="rId1"/>
          <a:stretch/>
        </p:blipFill>
        <p:spPr>
          <a:xfrm>
            <a:off x="3778200" y="1619280"/>
            <a:ext cx="1800360" cy="1352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9" name="Picture 5" descr="China"/>
          <p:cNvPicPr/>
          <p:nvPr/>
        </p:nvPicPr>
        <p:blipFill>
          <a:blip r:embed="rId2"/>
          <a:stretch/>
        </p:blipFill>
        <p:spPr>
          <a:xfrm>
            <a:off x="5397480" y="1798560"/>
            <a:ext cx="180036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0" name="Picture 6" descr="ishtar_gate19"/>
          <p:cNvPicPr/>
          <p:nvPr/>
        </p:nvPicPr>
        <p:blipFill>
          <a:blip r:embed="rId3"/>
          <a:stretch/>
        </p:blipFill>
        <p:spPr>
          <a:xfrm>
            <a:off x="7197840" y="1978200"/>
            <a:ext cx="1568160" cy="1800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1" name="Picture 7" descr="India (2)"/>
          <p:cNvPicPr/>
          <p:nvPr/>
        </p:nvPicPr>
        <p:blipFill>
          <a:blip r:embed="rId4"/>
          <a:stretch/>
        </p:blipFill>
        <p:spPr>
          <a:xfrm>
            <a:off x="3849840" y="2770200"/>
            <a:ext cx="180000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2" name="Picture 8" descr="Persia"/>
          <p:cNvPicPr/>
          <p:nvPr/>
        </p:nvPicPr>
        <p:blipFill>
          <a:blip r:embed="rId5"/>
          <a:stretch/>
        </p:blipFill>
        <p:spPr>
          <a:xfrm>
            <a:off x="5468760" y="3022560"/>
            <a:ext cx="1800360" cy="1206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3" name="Picture 17" descr="Dome of the Rock, Jerusalem_sm"/>
          <p:cNvPicPr/>
          <p:nvPr/>
        </p:nvPicPr>
        <p:blipFill>
          <a:blip r:embed="rId6"/>
          <a:stretch/>
        </p:blipFill>
        <p:spPr>
          <a:xfrm>
            <a:off x="7088040" y="3273480"/>
            <a:ext cx="1800360" cy="1439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сять культурно-исторических тип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Египет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ита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ревнесемит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нди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ран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Евре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Гре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им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рави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омано-герман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ксикански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уа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лавяно-рус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Greece"/>
          <p:cNvPicPr/>
          <p:nvPr/>
        </p:nvPicPr>
        <p:blipFill>
          <a:blip r:embed="rId7"/>
          <a:stretch/>
        </p:blipFill>
        <p:spPr>
          <a:xfrm>
            <a:off x="3922560" y="3922560"/>
            <a:ext cx="180036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7" name="Picture 11" descr="Rome"/>
          <p:cNvPicPr/>
          <p:nvPr/>
        </p:nvPicPr>
        <p:blipFill>
          <a:blip r:embed="rId8"/>
          <a:stretch/>
        </p:blipFill>
        <p:spPr>
          <a:xfrm>
            <a:off x="5576760" y="4102200"/>
            <a:ext cx="1800360" cy="135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8" name="Picture 12" descr="Aravia"/>
          <p:cNvPicPr/>
          <p:nvPr/>
        </p:nvPicPr>
        <p:blipFill>
          <a:blip r:embed="rId9"/>
          <a:stretch/>
        </p:blipFill>
        <p:spPr>
          <a:xfrm>
            <a:off x="7197840" y="4281480"/>
            <a:ext cx="180000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9" name="Picture 13" descr="Europe (3)"/>
          <p:cNvPicPr/>
          <p:nvPr/>
        </p:nvPicPr>
        <p:blipFill>
          <a:blip r:embed="rId10"/>
          <a:stretch/>
        </p:blipFill>
        <p:spPr>
          <a:xfrm>
            <a:off x="3994200" y="5073480"/>
            <a:ext cx="180000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0" name="Picture 14" descr="Mexico (2)"/>
          <p:cNvPicPr/>
          <p:nvPr/>
        </p:nvPicPr>
        <p:blipFill>
          <a:blip r:embed="rId11"/>
          <a:stretch/>
        </p:blipFill>
        <p:spPr>
          <a:xfrm>
            <a:off x="5649840" y="5253120"/>
            <a:ext cx="1800360" cy="135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1" name="Picture 15" descr="Peru"/>
          <p:cNvPicPr/>
          <p:nvPr/>
        </p:nvPicPr>
        <p:blipFill>
          <a:blip r:embed="rId12"/>
          <a:stretch/>
        </p:blipFill>
        <p:spPr>
          <a:xfrm>
            <a:off x="7269120" y="5433840"/>
            <a:ext cx="1800360" cy="13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2" name="Picture 16" descr="Russia"/>
          <p:cNvPicPr/>
          <p:nvPr/>
        </p:nvPicPr>
        <p:blipFill>
          <a:blip r:embed="rId13"/>
          <a:stretch/>
        </p:blipFill>
        <p:spPr>
          <a:xfrm>
            <a:off x="4786200" y="2878200"/>
            <a:ext cx="3598920" cy="2535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3" descr="Delaroche, Hemicycle_of_the_Ecole_des_Beaux-Arts_sm"/>
          <p:cNvPicPr/>
          <p:nvPr/>
        </p:nvPicPr>
        <p:blipFill>
          <a:blip r:embed="rId1"/>
          <a:stretch/>
        </p:blipFill>
        <p:spPr>
          <a:xfrm>
            <a:off x="4317840" y="1619280"/>
            <a:ext cx="3059280" cy="2084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Положительные и отрицательные дея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оложительные 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деятели истори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самобытные цивилизац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трицательные 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деятели истори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народы-разрушител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роды, не достигшие исторической индивидуа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Глазунов, Битва - Временный перевес татар"/>
          <p:cNvPicPr/>
          <p:nvPr/>
        </p:nvPicPr>
        <p:blipFill>
          <a:blip r:embed="rId2"/>
          <a:stretch/>
        </p:blipFill>
        <p:spPr>
          <a:xfrm>
            <a:off x="4929120" y="3057480"/>
            <a:ext cx="3238560" cy="1604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8" name="Picture 7" descr="Parched Village Huts, Niger, Africa_sm"/>
          <p:cNvPicPr/>
          <p:nvPr/>
        </p:nvPicPr>
        <p:blipFill>
          <a:blip r:embed="rId3"/>
          <a:stretch/>
        </p:blipFill>
        <p:spPr>
          <a:xfrm>
            <a:off x="5757840" y="4030560"/>
            <a:ext cx="3059280" cy="2446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0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ы культурно-исторического дви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Языковое родств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а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ритери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снов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амобытного культурно-исторического ти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олитическая независимость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а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слов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азвития самобытного культурно-исторического типа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ачала цивилизаци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дного культурно-исторического типа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 передаютс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ародам другого ти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Цивилизация достигает полноты развития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огда составляющие её этнографические элементы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 поглощены одним политическим целым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а составляют политическую систему государст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азвитие цивилизаци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одобно жизни многолетних одноплодных растений, у которых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одолжительный период рост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меняется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оротким (и никогда не повторяющимся) периодом расцв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3200"/>
            </a:b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«Одноосновные» и «многоосновные» цивилиз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3760" y="1600200"/>
            <a:ext cx="8373960" cy="47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вилизации не бывают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лучше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хуже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они прост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вилизации различаются преимущественным развитием какой-т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дной стороны культур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ейская цивилизация – преимущественно религиозн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еческая – преимущественно эстетическ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имская – преимущественно политико-правов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ропейцы расширили область культурного творчества, создав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двуосновную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цивилизацию – научно-промышленн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ядущая славяно-русская цивилизация будет – впервые в истории – полной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четырёхосновной»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оссия призвана решить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ально-экономический вопрос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который в Европе остался неразрешё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тивостояние России и Европ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ат Европы и ненависть Запада к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Европейская цивилизац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уже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ошла период расцвета и находитс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а пути к дряхл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й на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мен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дё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лавяно-русская цивилиза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Элементы провиденциализм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в концепции, которая в целом вполне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аучн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): история славянских народов свидетельствует об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собой заботе Прови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стинктивным пониманием того, чт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будущее за славянством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объясняетс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иррациональная ненависть Запада к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47760" y="2743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тивостояние России и Европ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еимущества славяно-русской циви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личительная черта «психического настроя»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германо-романских народо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асильственность и чрезмерно-развитое чувство индивидуальности;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тличительная черт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лавянских народо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ирождённая гуманность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пешному решению социально-экономического вопрос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рамках славяно-русской цивилизации способствует 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оциально-экономическая специфи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осс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осси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ольшинство населения обладает землё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тогда как в Европе большинство населения представляет собой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езземеленную мас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транах второго типа экономический строй основывается н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ужде большинства гражда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в странах первого – н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экономической обеспеченност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ответственно, те общественные классы, которые, будучи (как в Европе) сосредоточены в городах, составляют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ассовую базу революций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 России оказываю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амыми консерватив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 Леонтьев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31‑189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317840" y="2878200"/>
            <a:ext cx="4678560" cy="32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изантизм и славянств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3‑187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редний европеец как идеал и орудие всемирного разруше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2-1884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ладимир Соловьёв против Данилевског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циональная политика как орудие всемирной революц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Леонтьев (2)"/>
          <p:cNvPicPr/>
          <p:nvPr/>
        </p:nvPicPr>
        <p:blipFill>
          <a:blip r:embed="rId1"/>
          <a:stretch/>
        </p:blipFill>
        <p:spPr>
          <a:xfrm>
            <a:off x="358920" y="1798560"/>
            <a:ext cx="370980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5" name="Text Box 6"/>
          <p:cNvSpPr/>
          <p:nvPr/>
        </p:nvSpPr>
        <p:spPr>
          <a:xfrm>
            <a:off x="48578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 Леонтьев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31‑189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изантиз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изантизм против панслав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обенности византийской куль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изантийские основы русской куль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культуры: концепция «цветущей слож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азы развития куль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пология деспотизма и элитарност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антидемократизм и антиэгалитариз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стет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пология реакцио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рический пессим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изант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изантизм против панслав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ационализ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даже русский) –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редная западная иде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Единство православной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византийской)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культур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ажнее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лавянского брат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изантиз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есть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что культурно определённое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анславизм же – или абстракция, или меч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лавян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западные (а с недавних пор – и южные) уже слишком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заражены европейским духо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представляют скорее угрозу для будущего России, чем действительную помощ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изант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обенности византийской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8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дро византийской культуры составляе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ера в Бога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а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 в Царство Божие на зем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изантизм означ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елигиозн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фере –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равослав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осударственно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фере –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амодержавие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равственн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фере –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приятие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реувеличенного понятия о земной личности человеческой;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верие в способность к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олному нравственному совершенству на земл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каз от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адежды на грядущее «всеобщее благоденствие народов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«земное всеравенство, всесвобода, всесовершенство и вседовольство»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085040" y="5468760"/>
            <a:ext cx="7003800" cy="1135080"/>
          </a:xfrm>
          <a:prstGeom prst="rect">
            <a:avLst/>
          </a:prstGeom>
          <a:noFill/>
          <a:ln w="158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падная же иде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«земного рая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мещански-утилитарны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эвдемонистический идеал прогресса) 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кощунственн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научн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«мечтательство под флагом реализма»)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антиэстетичн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ибо предполагает однообразие и унисо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здние славянофил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Данилевский (1)"/>
          <p:cNvPicPr/>
          <p:nvPr/>
        </p:nvPicPr>
        <p:blipFill>
          <a:blip r:embed="rId1"/>
          <a:stretch/>
        </p:blipFill>
        <p:spPr>
          <a:xfrm>
            <a:off x="539640" y="1906560"/>
            <a:ext cx="2357640" cy="3060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5" name="Rectangle 8"/>
          <p:cNvSpPr/>
          <p:nvPr/>
        </p:nvSpPr>
        <p:spPr>
          <a:xfrm>
            <a:off x="3057480" y="1870200"/>
            <a:ext cx="35989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. Данилевский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22‑1885)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 Леонтьев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31‑189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Леонтьев (1-1-cut)"/>
          <p:cNvPicPr/>
          <p:nvPr/>
        </p:nvPicPr>
        <p:blipFill>
          <a:blip r:embed="rId2"/>
          <a:stretch/>
        </p:blipFill>
        <p:spPr>
          <a:xfrm>
            <a:off x="6045120" y="3346560"/>
            <a:ext cx="2505240" cy="305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изант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изантийские основы русской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русской культуре много чуждого византизму (как собственно русского, так и заимствованного), н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еличие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воим она обязана именн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изантийским начал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трицательное же отношение к византийской культур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русском обществе –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ледствие «незрелости» и несамостоятельности русской исторической наук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 просто незнания реальной истории, а знакомства с нею через посредство западных писателей, византийской культуре чуждых и даже враждеб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9" descr="Aligny_Claude_Felix_Theodore_Homer_And_The_Sheperds_sm"/>
          <p:cNvPicPr/>
          <p:nvPr/>
        </p:nvPicPr>
        <p:blipFill>
          <a:blip r:embed="rId1"/>
          <a:stretch/>
        </p:blipFill>
        <p:spPr>
          <a:xfrm>
            <a:off x="4497480" y="1619280"/>
            <a:ext cx="2501640" cy="2881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Фазы развития культ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57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 культуры подчинены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бщему закону циклического развит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согласно которому всё развивающееся проходит через три периода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ервичной простоты»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цветущей сложности»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вторичного смесительного упрощения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1" descr="Brown_Ford_Madox_Work_sm"/>
          <p:cNvPicPr/>
          <p:nvPr/>
        </p:nvPicPr>
        <p:blipFill>
          <a:blip r:embed="rId2"/>
          <a:stretch/>
        </p:blipFill>
        <p:spPr>
          <a:xfrm>
            <a:off x="5289480" y="2878200"/>
            <a:ext cx="2879640" cy="2028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44" name="Picture 10" descr="Axentowics_Theodor_The_Omnibus_sm"/>
          <p:cNvPicPr/>
          <p:nvPr/>
        </p:nvPicPr>
        <p:blipFill>
          <a:blip r:embed="rId3"/>
          <a:stretch/>
        </p:blipFill>
        <p:spPr>
          <a:xfrm>
            <a:off x="6008760" y="4317840"/>
            <a:ext cx="2879640" cy="2219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логия деспотизма и элитар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5400" y="1599840"/>
            <a:ext cx="78706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жду эгалитарно-либеральным поступательным движением и идеей развития не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ичего логически родственного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аже более: прогресс есть не что иное, как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оцесс разлож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вый итог развития – преодоление равенства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граничение свобод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иод «цветущей сложности» есть именно период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ального неравенства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бразования эли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иод смесительного упрощения характеризуется стремлением ко всеобщему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венств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емократии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оторое имеет своим результатом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сцвет техники 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мирание искусства;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пошление жизн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замену воли к положительному творчеству ценностей волей к механическому использованию работы и жаждой удовольст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стет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68120" y="1599840"/>
            <a:ext cx="367848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еонтьевская критик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уржуазног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апада мотивирована, прежде всего, эстетиче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"/>
          <p:cNvSpPr/>
          <p:nvPr/>
        </p:nvSpPr>
        <p:spPr>
          <a:xfrm rot="10800000">
            <a:off x="3817440" y="1630080"/>
            <a:ext cx="52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был в восторге от Крит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критских простолюдин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аходил в них множе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эзии. Особенно восхища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ня то, что я почти совс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идал там на мужчинах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европейской одежды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ую я с ранних л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ненавидел всем сердц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за возмутительн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живописность её, и з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шлость, и, наконец, за сам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стерпимую всеобщность её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794520" y="5433840"/>
            <a:ext cx="284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Н. Леонтье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ладимир Соловьё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 Данилевског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стет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8120" y="1599840"/>
            <a:ext cx="367848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еонтьевская критик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уржуазног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апада мотивирована, прежде всего, эстетиче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стетическая обеспокоенность делает Леонтьева одним из провозвестнико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экологическог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ви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 rot="10800000">
            <a:off x="3817440" y="1630080"/>
            <a:ext cx="52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.. дальнейшее и беспрерывно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ижение человечества п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му пути –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проникновени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юду европейского буржуа, </a:t>
            </a:r>
            <a:br>
              <a:rPr sz="1800"/>
            </a:br>
            <a:r>
              <a:rPr b="1" lang="ru-RU" sz="1800" spc="-1" strike="noStrike">
                <a:solidFill>
                  <a:srgbClr val="0099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ырубки лесов, прорытия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налов, просверливания гор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т.д. – прежде всего эт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ижение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губительн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для 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всемирной эстетик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 А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ибель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риродной и 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оциальной эстетик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есть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ный признак глубокого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тарения; есть признак 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риближающейся смерт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94520" y="5433840"/>
            <a:ext cx="284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Н. Леонтье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ладимир Соловьё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 Данилевског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0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стет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68120" y="1599840"/>
            <a:ext cx="367848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еонтьевская критик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уржуазног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апада мотивирована, прежде всего, эстетиче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стетическая обеспокоенность делает Леонтьева одним из провозвестнико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экологическог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ви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а же делает его одним из предшественнико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ехнофобных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нтиутопи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XX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ка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 rot="10800000">
            <a:off x="3817440" y="1630080"/>
            <a:ext cx="52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, воображая, что о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сподствует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над природо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редством всех этих открытий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изобретений, только ещё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льше стал рабом её; убивая и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страняя одни силы приро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вероятно, высшие) посредством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их, более стихийных и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рубых сил, он ничего ещё н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дал, а разрушил много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красное, и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освободиться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му теперь от подчинения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м этим машинам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удет, конечно, не легко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794520" y="5433840"/>
            <a:ext cx="284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Н. Леонтье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ладимир Соловьё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 Данилевског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0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стет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68120" y="1599840"/>
            <a:ext cx="367848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еонтьевская критик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уржуазног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апада мотивирована, прежде всего, эстетиче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стетическая обеспокоенность делает Леонтьева одним из провозвестнико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экологическог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ви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а же делает его одним из предшественников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ехнофобных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нтиутопи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XX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ка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стетически мотивирована 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литическа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еакционнос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Леонтье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 rot="10800000">
            <a:off x="3817440" y="1630080"/>
            <a:ext cx="52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 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ничтожение повсюду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рхии, дворянства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стических положитель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лигий, войн и неравенства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вело бы к такой ужасающей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зе, что и вообразить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рашно!.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стетика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жизн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 искусства!.. Чёрт его возьми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кусство – без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жизни!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.), поэзия 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действительност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возможн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з тог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разнообразия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– 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оложений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и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чувств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, которое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вивается благодар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равенству и борьбе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nodeType="clickEffect" fill="hold">
                      <p:stCondLst>
                        <p:cond delay="0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пология реакцио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"/>
          <p:cNvSpPr/>
          <p:nvPr/>
        </p:nvSpPr>
        <p:spPr>
          <a:xfrm rot="10800000">
            <a:off x="2517480" y="1977840"/>
            <a:ext cx="62974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До дня цветени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лучше бы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арусом или паровым котлом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 этого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невозвратного дн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стойнее быть якорем ил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рмозом для народо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ремящихся вниз под крутую гор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ремящихся нередко наив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бросовестно, при кликах торжества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распущенными знамёнами надежд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Леонтьев (2b)"/>
          <p:cNvPicPr/>
          <p:nvPr/>
        </p:nvPicPr>
        <p:blipFill>
          <a:blip r:embed="rId1"/>
          <a:stretch/>
        </p:blipFill>
        <p:spPr>
          <a:xfrm>
            <a:off x="647640" y="2158920"/>
            <a:ext cx="1629000" cy="200988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7"/>
          <p:cNvSpPr/>
          <p:nvPr/>
        </p:nvSpPr>
        <p:spPr>
          <a:xfrm>
            <a:off x="505440" y="5289480"/>
            <a:ext cx="188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Н. Леонтье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изантизм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авянств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культур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ческий пессим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3"/>
          <p:cNvSpPr/>
          <p:nvPr/>
        </p:nvSpPr>
        <p:spPr>
          <a:xfrm rot="10800000">
            <a:off x="2517480" y="1977840"/>
            <a:ext cx="62974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кончить историю, погуби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тво разлити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мирного равенства…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делать жизнь человеческ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же окончательно невыносимой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 этом ли уготова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ше предназначение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Леонтьев (2b)"/>
          <p:cNvPicPr/>
          <p:nvPr/>
        </p:nvPicPr>
        <p:blipFill>
          <a:blip r:embed="rId1"/>
          <a:stretch/>
        </p:blipFill>
        <p:spPr>
          <a:xfrm>
            <a:off x="647640" y="2158920"/>
            <a:ext cx="1629000" cy="200988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nodeType="clickEffect" fill="hold">
                      <p:stCondLst>
                        <p:cond delay="0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Я. Данилевский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22‑188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Данилевский (1-3)"/>
          <p:cNvPicPr/>
          <p:nvPr/>
        </p:nvPicPr>
        <p:blipFill>
          <a:blip r:embed="rId1"/>
          <a:stretch/>
        </p:blipFill>
        <p:spPr>
          <a:xfrm>
            <a:off x="611280" y="1798560"/>
            <a:ext cx="2763720" cy="43149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0" name="Rectangle 5"/>
          <p:cNvSpPr/>
          <p:nvPr/>
        </p:nvSpPr>
        <p:spPr>
          <a:xfrm>
            <a:off x="4246560" y="3057480"/>
            <a:ext cx="449892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ссия и Европа: Взгляд на культурные и политические отношения славянского мир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 романо-германскому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69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рвинизм: Критическое исследовани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0-1885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467820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Я. Данилевский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22‑188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епени (уровни) развития и типы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сять культурно-исторических тип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ложительные и отрицательные дея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ять законов культурно-исторического дви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Одноосновные» и «многоосновные» циви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тивостояние России и Европ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ат европейской циви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ррациональная ненависть Запада к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имущества славяно-русской циви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957480" y="4857840"/>
            <a:ext cx="5218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. «Философические письм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rossija-europa"/>
          <p:cNvPicPr/>
          <p:nvPr/>
        </p:nvPicPr>
        <p:blipFill>
          <a:blip r:embed="rId1"/>
          <a:stretch/>
        </p:blipFill>
        <p:spPr>
          <a:xfrm>
            <a:off x="358920" y="1798560"/>
            <a:ext cx="297972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9" name="Rectangle 6"/>
          <p:cNvSpPr/>
          <p:nvPr/>
        </p:nvSpPr>
        <p:spPr>
          <a:xfrm>
            <a:off x="3489480" y="5468760"/>
            <a:ext cx="55782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Данилевского – первый значительный вклад России в мировую философ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/>
          <p:cNvSpPr/>
          <p:nvPr/>
        </p:nvSpPr>
        <p:spPr>
          <a:xfrm rot="10800000">
            <a:off x="3957480" y="1618920"/>
            <a:ext cx="4857840" cy="305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инокие в мире, мы мир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чего не дали, ничего у мир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зяли, мы не внесли в масс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их ид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одной мысл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ни в чём не содействова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ижению вперё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го разума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епени развития и ти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основе универсалистской парадигмы лежи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логически не корректно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еление истории на периоды: древность, средневековье, новое врем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убеж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отделяющие один период от другого, не имели общечеловеческого зна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истории каждой цивилизации выделяютс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вои фазисы развит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свои «древность», «средневековье» и «новое врем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жду последними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ольше общего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чем между ними и соответствующими периодами других цивилиза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ление истории по степеням развити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е исчерпыва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сего богатств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ё содерж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9820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Культура не универсальн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западная – в том числ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вокупное человечество не есть реальный субъект истории, н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лишь абстрактная иде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азнообраз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а не единообразие – закон и условие прогр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/>
          <p:cNvSpPr/>
          <p:nvPr/>
        </p:nvSpPr>
        <p:spPr>
          <a:xfrm rot="10800000">
            <a:off x="250560" y="1977840"/>
            <a:ext cx="62974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бы поступательное движ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обще не прекратилось в жиз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го человечества, необходим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бы, дойдя в одном направлен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 известной степени совершен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чалось оно с новой точки исхода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ло по другому пути, т. е. надо чтоб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тупили на поприще деятельнос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ругие психические особенност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ругой склад ума, чувств и вол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ми обладают только наро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ого культурно-исторического тип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Данилевский (1-1)"/>
          <p:cNvPicPr/>
          <p:nvPr/>
        </p:nvPicPr>
        <p:blipFill>
          <a:blip r:embed="rId1"/>
          <a:stretch/>
        </p:blipFill>
        <p:spPr>
          <a:xfrm>
            <a:off x="6788160" y="2050920"/>
            <a:ext cx="1600200" cy="21812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6442920" y="4965840"/>
            <a:ext cx="24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 Я. Данилев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Россия и Европ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культурно-исторических тип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ногообразие культ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 rot="10800000">
            <a:off x="250560" y="1977840"/>
            <a:ext cx="62974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гресс </a:t>
            </a:r>
            <a:r>
              <a:rPr b="1" lang="en-US" sz="1800" spc="-1" strike="noStrike">
                <a:solidFill>
                  <a:srgbClr val="3399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остоит не в том, что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ти все в одном направлении (в так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учае он скоро бы прекратился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в том, чтоб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ходить все пол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ставляющее поприще историческ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ятельности человечества, во все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правлениях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этому ни од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ивилизация не может гордиться т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б она представляла высш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чку развития, в сравнении с её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шественницами или современница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 всех сторонах развит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Данилевский (1-1)"/>
          <p:cNvPicPr/>
          <p:nvPr/>
        </p:nvPicPr>
        <p:blipFill>
          <a:blip r:embed="rId1"/>
          <a:stretch/>
        </p:blipFill>
        <p:spPr>
          <a:xfrm>
            <a:off x="6788160" y="2050920"/>
            <a:ext cx="1600200" cy="21812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6442920" y="4965840"/>
            <a:ext cx="24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 Я. Данилев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Россия и Европ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21:06:53Z</dcterms:created>
  <dc:creator>Николай Бирюков / Nikolai Biryukov</dc:creator>
  <dc:description>Версия марта 2006 г.</dc:description>
  <dc:language>en-US</dc:language>
  <cp:lastModifiedBy>LEGION</cp:lastModifiedBy>
  <dcterms:modified xsi:type="dcterms:W3CDTF">2014-11-11T12:42:00Z</dcterms:modified>
  <cp:revision>38</cp:revision>
  <dc:subject>История русской философии - Лекция 5</dc:subject>
  <dc:title>Поздние славянофилы</dc:title>
</cp:coreProperties>
</file>