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27.jpeg" ContentType="image/jpeg"/>
  <Override PartName="/ppt/media/image13.jpeg" ContentType="image/jpeg"/>
  <Override PartName="/ppt/media/image8.jpeg" ContentType="image/jpeg"/>
  <Override PartName="/ppt/media/image2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29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49B4-FFEC-4C29-8213-14272315D6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BE0D-BC61-4EC1-AC07-835E4DB31D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дние славяноф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7214-4C6A-4355-B4AB-7E8A6ECDA3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гипет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ита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Древнесемит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нд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ра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вре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ре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им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рав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омано-герма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ксиканск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уан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лавяно-рус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E5AB-9BFB-4DBF-B8C9-B47105D512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оложительные и отрицательные дея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ложительные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самобытные цивилиз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трицательные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народы-разрушите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роды, не достигшие исторической индивиду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0719-D69E-4B11-9AE7-0A71C86D00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Языковое родств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ритер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сно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амобытного культурно-исторического ти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литическая независимость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слов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развития самобытного культурно-исторического тип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ачала цивилизац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дного культурно-исторического тип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 передаютс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родам другого ти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Цивилизация достигает полноты развития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гда составляющие её этнографические элемент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 поглощены одним политическим целы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а составляют политическую систему государ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витие цивилизац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одобно жизни многолетних одноплодных растений, у которых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должительный период рост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меня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оротким (и никогда не повторяющимся) периодом расц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AA66-1F84-46FF-A023-C843B825DF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не б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хуж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они прос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различаются преимущественным развитием какой-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ой стороны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ейская цивилизация – преимущественно религиоз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ческая – преимущественно эстетичес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мская – преимущественно политико-правов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цы расширили область культурного творчества, созда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двуосновну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цивилизацию – научно-промыш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ядущая славяно-русская цивилизация будет – впервые в истории – полн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четырёхосновной»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я призвана решить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-экономический вопро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который в Европе остался неразрешё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7009-C195-45AF-83D0-E824B16075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кат Европы и ненависть Запада к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Европейская цивилизац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ж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шла период расцвета и находитс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 пути к дряхл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й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мену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дё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лавяно-русская цивилиз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Элементы провиденциализм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в концепции, которая в целом вполн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аучн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: история славянских народов свидетельствует об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собой заботе Прови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нстинктивным пониманием того, чт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удущее за славянство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объясняетс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иррациональная ненависть Запада к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D67E-B61B-49DF-9AD9-DB5A106DEA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имущества славяно-русской цив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личительная черта «психического настроя»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ермано-романских народ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сильственность и чрезмерно-развитое чувство индивидуальности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тличительная чер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ских народ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ирождённая гуманность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пешному решению социально-экономического вопрос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рамках славяно-русской цивилизации способствует 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оциально-экономическая специф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ольшинство населения обладает землё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тогда как в Европе большинство населения представляет собой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езземеленную ма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транах второго типа экономический строй основывается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ужде большинства гражда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в странах первого –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ономической обеспеченност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ответственно, те общественные классы, которые, будучи (как в Европе) сосредоточены в городах, составляют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ассовую базу революций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России оказываю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ыми консерватив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33D5-D851-4608-97F5-964B4AD29C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 Леонтьев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31‑189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3BC4-9EA2-413D-9390-ED77BE5BDB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Леонтье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31‑189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зантиз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зм против панслав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обенности византий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йские основы рус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культуры: концепция «цветущей слож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ология деспотизма и элитарност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антидемократизм и антиэгалитар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ология реакцио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ческий пессим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9FEB-B2AE-406C-82EB-09ED5EC168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изантизм против панслав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ационализ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даже русский)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редная западная ид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Единство православно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византийской)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культуры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ажне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лавянского брат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изантиз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ест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что культурно определённое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анславизм же – или абстракция, или меч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лавян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западные (а с недавних пор – и южные) уже слишком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заражены европейским духо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представляют скорее угрозу для будущего России, чем действительную помощ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2732-E562-4603-9559-384B7C4280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обенности византийск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дро византийской культуры составля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ра в Бог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в Царство Божие на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зм озна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елигиоз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фере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авослав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осударственно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фере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амодержавие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равствен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фере –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еувеличенного понятия о земной личности человеческой;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верие в способность 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лному нравственному совершенству на земл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каз о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дежды на грядущее «всеобщее благоденствие народов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«земное всеравенство, всесвобода, всесовершенство и вседовольство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70B0-26EC-4710-B86A-8EF9F0A94D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дние славянофи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87E2-E2D4-454F-A620-DCEBBF97BB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изантийские основы русской 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русской культуре много чуждого византизму (как собственно русского, так и заимствованного), 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еличие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оим она обязана именн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изантийским начал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трицательное же отношение к византийской культур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русском обществе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ледствие «незрелости» и несамостоятельности русской исторической наук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 просто незнания реальной истории, а знакомства с нею через посредство западных писателей, византийской культуре чуждых и даже враждеб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3AA6-23EB-4FDB-9E4B-F363FC3472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Фазы развития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культуры подчинен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щему закону циклического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согласно которому всё развивающееся проходит через три период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ой простоты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цветущей сложности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торичного смесительного упрощения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EBBF-2F56-46D6-90EA-5C2110A766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логия деспотизма и элита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эгалитарно-либеральным поступательным движением и идеей развития н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ичего логически родственно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аже более: прогресс есть не что иное,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цесс разлож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ый итог развития – преодоление равенства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граничение свобод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иод «цветущей сложности» есть именно период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го неравенств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бразования эли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иод смесительного упрощения характеризуется стремлением ко всеобщему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венств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мократии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торое имеет своим результатом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цвет техники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мирание искусства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пошление жизн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замену воли к положительному творчеству ценностей волей к механическому использованию работы и жаждой удоволь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CDE2-10C8-4954-85FE-A88DC12D35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9077-550E-47C8-864F-3E869E33E5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4A44-63FD-4BE0-AFDF-9BF3FEF449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а же делает его одним из предшественник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ехнофобных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нтиутоп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XX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к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F89F-776E-4381-B633-909561A0B7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а же делает его одним из предшественник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ехнофобных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нтиутоп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XX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к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стетически мотивирована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литическа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еакционность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Леонтье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0DD1-52DD-4541-B73D-A33528A737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логия реакцио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3296-3E10-419E-BCB8-501D46E000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ческий пессим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9DF3-F087-4DF1-A92D-268AEFC152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5BAF-F099-4A0E-B886-A59007BAEB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Я. Данилевски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22‑188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C170-B114-4880-BE4B-12163F9178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Я. Данилев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22‑18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епени (уровни) развития и типы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ять законов культурно-исторического 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ат европейской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ррациональная ненависть Запада к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имущества славяно-русской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7C63-4F83-47BB-8CB6-44851093A4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B7F8-A6B8-4A7E-8B8D-E9B12EC1EC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снове универсалистской парадигмы леж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и не корректно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ение истории на периоды: древность, средневековье, ново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убеж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отделяющие один период от другого, не имели общечеловеческого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стории каждой цивилизации выделяю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и фазисы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свои «древность», «средневековье» и «новое врем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последним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 обще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м между ними и соответствующими периодами других цивил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ление истории по степеням развит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 исчерпыва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го богат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ё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56C4-6C75-4264-96C0-1C7C20612C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Культура не универсальн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западная – в том числ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вокупное человечество не есть реальный субъект истории, 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лишь абстрактная ид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ообраз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а не единообразие – закон и условие прогр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A171-78CA-4DEE-A34A-9E79851482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A0BF-F671-4CCA-A10F-B457DC82BF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47F5-6293-4FA4-9EE1-31A1E9F0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EA8E-34C2-4D5B-9EFB-E98E6692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2CD0-2340-48CF-B3BE-9B26C128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7EB4-06B7-4CEB-AA63-73EBBC19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FA91-4126-43FD-AD74-32ED677A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FC0D-5369-4979-BB1B-8A0C81C1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F092-70C2-4EFF-B5D2-7407CBD1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1E7B-A635-4C93-A25D-B917EC3C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452F-C57A-47B6-88B9-35C4DD34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559F-A518-453D-8BF7-19FC9DDC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8816-3FAA-4805-B585-71408633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1004-9A15-4267-A7A3-75BAFAC3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ED52-2A17-44E4-9FEC-A7D6CD4826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1071720" y="2357280"/>
            <a:ext cx="712152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здние славянофи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Egypt"/>
          <p:cNvPicPr/>
          <p:nvPr/>
        </p:nvPicPr>
        <p:blipFill>
          <a:blip r:embed="rId1"/>
          <a:stretch/>
        </p:blipFill>
        <p:spPr>
          <a:xfrm>
            <a:off x="3778200" y="1619280"/>
            <a:ext cx="1800360" cy="135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9" name="Picture 5" descr="China"/>
          <p:cNvPicPr/>
          <p:nvPr/>
        </p:nvPicPr>
        <p:blipFill>
          <a:blip r:embed="rId2"/>
          <a:stretch/>
        </p:blipFill>
        <p:spPr>
          <a:xfrm>
            <a:off x="5397480" y="179856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0" name="Picture 6" descr="ishtar_gate19"/>
          <p:cNvPicPr/>
          <p:nvPr/>
        </p:nvPicPr>
        <p:blipFill>
          <a:blip r:embed="rId3"/>
          <a:stretch/>
        </p:blipFill>
        <p:spPr>
          <a:xfrm>
            <a:off x="7197840" y="1978200"/>
            <a:ext cx="156816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1" name="Picture 7" descr="India (2)"/>
          <p:cNvPicPr/>
          <p:nvPr/>
        </p:nvPicPr>
        <p:blipFill>
          <a:blip r:embed="rId4"/>
          <a:stretch/>
        </p:blipFill>
        <p:spPr>
          <a:xfrm>
            <a:off x="3849840" y="277020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2" name="Picture 8" descr="Persia"/>
          <p:cNvPicPr/>
          <p:nvPr/>
        </p:nvPicPr>
        <p:blipFill>
          <a:blip r:embed="rId5"/>
          <a:stretch/>
        </p:blipFill>
        <p:spPr>
          <a:xfrm>
            <a:off x="5468760" y="3022560"/>
            <a:ext cx="1800360" cy="120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3" name="Picture 17" descr="Dome of the Rock, Jerusalem_sm"/>
          <p:cNvPicPr/>
          <p:nvPr/>
        </p:nvPicPr>
        <p:blipFill>
          <a:blip r:embed="rId6"/>
          <a:stretch/>
        </p:blipFill>
        <p:spPr>
          <a:xfrm>
            <a:off x="7088040" y="3273480"/>
            <a:ext cx="1800360" cy="143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гипе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ита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ревнесеми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нд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ра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вре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ре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им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рав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мано-герма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ксиканск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уа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о-рус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Greece"/>
          <p:cNvPicPr/>
          <p:nvPr/>
        </p:nvPicPr>
        <p:blipFill>
          <a:blip r:embed="rId7"/>
          <a:stretch/>
        </p:blipFill>
        <p:spPr>
          <a:xfrm>
            <a:off x="3922560" y="392256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7" name="Picture 11" descr="Rome"/>
          <p:cNvPicPr/>
          <p:nvPr/>
        </p:nvPicPr>
        <p:blipFill>
          <a:blip r:embed="rId8"/>
          <a:stretch/>
        </p:blipFill>
        <p:spPr>
          <a:xfrm>
            <a:off x="5576760" y="4102200"/>
            <a:ext cx="1800360" cy="135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8" name="Picture 12" descr="Aravia"/>
          <p:cNvPicPr/>
          <p:nvPr/>
        </p:nvPicPr>
        <p:blipFill>
          <a:blip r:embed="rId9"/>
          <a:stretch/>
        </p:blipFill>
        <p:spPr>
          <a:xfrm>
            <a:off x="7197840" y="428148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9" name="Picture 13" descr="Europe (3)"/>
          <p:cNvPicPr/>
          <p:nvPr/>
        </p:nvPicPr>
        <p:blipFill>
          <a:blip r:embed="rId10"/>
          <a:stretch/>
        </p:blipFill>
        <p:spPr>
          <a:xfrm>
            <a:off x="3994200" y="507348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0" name="Picture 14" descr="Mexico (2)"/>
          <p:cNvPicPr/>
          <p:nvPr/>
        </p:nvPicPr>
        <p:blipFill>
          <a:blip r:embed="rId11"/>
          <a:stretch/>
        </p:blipFill>
        <p:spPr>
          <a:xfrm>
            <a:off x="5649840" y="5253120"/>
            <a:ext cx="1800360" cy="135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1" name="Picture 15" descr="Peru"/>
          <p:cNvPicPr/>
          <p:nvPr/>
        </p:nvPicPr>
        <p:blipFill>
          <a:blip r:embed="rId12"/>
          <a:stretch/>
        </p:blipFill>
        <p:spPr>
          <a:xfrm>
            <a:off x="7269120" y="543384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2" name="Picture 16" descr="Russia"/>
          <p:cNvPicPr/>
          <p:nvPr/>
        </p:nvPicPr>
        <p:blipFill>
          <a:blip r:embed="rId13"/>
          <a:stretch/>
        </p:blipFill>
        <p:spPr>
          <a:xfrm>
            <a:off x="4786200" y="2878200"/>
            <a:ext cx="3598920" cy="2535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3" descr="Delaroche, Hemicycle_of_the_Ecole_des_Beaux-Arts_sm"/>
          <p:cNvPicPr/>
          <p:nvPr/>
        </p:nvPicPr>
        <p:blipFill>
          <a:blip r:embed="rId1"/>
          <a:stretch/>
        </p:blipFill>
        <p:spPr>
          <a:xfrm>
            <a:off x="4317840" y="1619280"/>
            <a:ext cx="3059280" cy="2084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оложительные и отрицательные дея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ложительные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самобытные цивилиза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трицательные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народы-разрушите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оды, не достигшие исторической индивидуа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Глазунов, Битва - Временный перевес татар"/>
          <p:cNvPicPr/>
          <p:nvPr/>
        </p:nvPicPr>
        <p:blipFill>
          <a:blip r:embed="rId2"/>
          <a:stretch/>
        </p:blipFill>
        <p:spPr>
          <a:xfrm>
            <a:off x="4929120" y="3057480"/>
            <a:ext cx="3238560" cy="160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8" name="Picture 7" descr="Parched Village Huts, Niger, Africa_sm"/>
          <p:cNvPicPr/>
          <p:nvPr/>
        </p:nvPicPr>
        <p:blipFill>
          <a:blip r:embed="rId3"/>
          <a:stretch/>
        </p:blipFill>
        <p:spPr>
          <a:xfrm>
            <a:off x="5757840" y="4030560"/>
            <a:ext cx="3059280" cy="2446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Языковое родст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ритер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но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амобытного культурно-историческ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литическая независим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слов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вития самобытного культурно-исторического типа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ачала цивилизац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дного культурно-исторического тип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ередаютс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родам друг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Цивилизация достигает полноты развити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гда составляющие её этнографические элементы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оглощены одним политическим целы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составляют политическую систему государ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витие цивилизац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одобно жизни многолетних одноплодных растений, у которых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должительный период рост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меня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ротким (и никогда не повторяющимся) периодом расц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3760" y="1600200"/>
            <a:ext cx="837396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не б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хуж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они прос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различаются преимущественным развитием какой-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ой стороны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ейская цивилизация – преимущественно религиоз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ческая – преимущественно эстетичес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мская – преимущественно политико-правов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цы расширили область культурного творчества, созда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двуосновну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цивилизацию – научно-промыш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ядущая славяно-русская цивилизация будет – впервые в истории – полн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четырёхосновной»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я призвана решить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-экономический вопро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который в Европе остался неразрешё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ат Европы и ненависть Запада к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Европейская цивилиза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ж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шла период расцвета и находитс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 пути к дряхл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й н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мен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дё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о-русская цивилиз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лементы провиденциализм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в концепции, которая в целом вполн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учн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: история славянских народов свидетельствует об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обой заботе Прови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стинктивным пониманием того, ч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удущее за славянство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объясняе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иррациональная ненависть Запада к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7760" y="2743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имущества славяно-русской цив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личительная черта «психического настроя»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ермано-романских народ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сильственность и чрезмерно-развитое чувство индивидуальности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тличительная чер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ских народ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ирождённая гуманность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пешному решению социально-экономического вопрос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рамках славяно-русской цивилизации способствует 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оциально-экономическая специф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ольшинство населения обладает землё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тогда как в Европе большинство населения представляет собой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езземеленную ма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транах второго типа экономический строй основывается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ужде большинства гражда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в странах первого –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ономической обеспеченност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ответственно, те общественные классы, которые, будучи (как в Европе) сосредоточены в городах, составляют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ассовую базу революций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России оказываю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ыми консерватив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Леонтье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31‑189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317840" y="2878200"/>
            <a:ext cx="467856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зм и славян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3‑18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ний европеец как идеал и орудие всемирного разруш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2-1884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адимир Соловьёв против Данилевског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циональная политика как орудие всемирной революц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Леонтьев (2)"/>
          <p:cNvPicPr/>
          <p:nvPr/>
        </p:nvPicPr>
        <p:blipFill>
          <a:blip r:embed="rId1"/>
          <a:stretch/>
        </p:blipFill>
        <p:spPr>
          <a:xfrm>
            <a:off x="358920" y="1798560"/>
            <a:ext cx="370980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5" name="Text Box 6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Леонтье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31‑189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зантиз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зм против панслав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обенности византий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йские основы рус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культуры: концепция «цветущей слож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ология деспотизма и элитарност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антидемократизм и антиэгалитар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ология реакцио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ческий пессим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зантизм против панслав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ационализ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даже русский)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редная западная ид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Единство православн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византийской)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ажне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лавянского брат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изантиз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ест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что культурно определённое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анславизм же – или абстракция, или меч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западные (а с недавних пор – и южные) уже слишком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аражены европейским духо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представляют скорее угрозу для будущего России, чем действительную помощ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обенности византийск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8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дро византийской культуры составля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ра в Бог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в Царство Божие на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зм озна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елигиоз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фере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авослав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осударственно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фере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амодержавие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равствен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фере –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еувеличенного понятия о земной личности человеческой;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верие в способность 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лному нравственному совершенству на земл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каз о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дежды на грядущее «всеобщее благоденствие народов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«земное всеравенство, всесвобода, всесовершенство и вседовольство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085040" y="5468760"/>
            <a:ext cx="7003800" cy="1135080"/>
          </a:xfrm>
          <a:prstGeom prst="rect">
            <a:avLst/>
          </a:prstGeom>
          <a:noFill/>
          <a:ln w="158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адная же иде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земного рая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мещански-утилитарн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эвдемонистический идеал прогресса)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ощунственн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научн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«мечтательство под флагом реализма»)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антиэстетичн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ибо предполагает однообразие и унисо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здние славянофил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Данилевский (1)"/>
          <p:cNvPicPr/>
          <p:nvPr/>
        </p:nvPicPr>
        <p:blipFill>
          <a:blip r:embed="rId1"/>
          <a:stretch/>
        </p:blipFill>
        <p:spPr>
          <a:xfrm>
            <a:off x="539640" y="1906560"/>
            <a:ext cx="2357640" cy="30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5" name="Rectangle 8"/>
          <p:cNvSpPr/>
          <p:nvPr/>
        </p:nvSpPr>
        <p:spPr>
          <a:xfrm>
            <a:off x="3057480" y="1870200"/>
            <a:ext cx="3598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. Данилевски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22‑1885)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Леонтьев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31‑189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Леонтьев (1-1-cut)"/>
          <p:cNvPicPr/>
          <p:nvPr/>
        </p:nvPicPr>
        <p:blipFill>
          <a:blip r:embed="rId2"/>
          <a:stretch/>
        </p:blipFill>
        <p:spPr>
          <a:xfrm>
            <a:off x="6045120" y="3346560"/>
            <a:ext cx="2505240" cy="30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зантийские основы русск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русской культуре много чуждого византизму (как собственно русского, так и заимствованного), 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личие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воим она обязана имен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изантийским начал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трицательное же отношение к византийской культур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русском обществе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ледствие «незрелости» и несамостоятельности русской исторической нау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просто незнания реальной истории, а знакомства с нею через посредство западных писателей, византийской культуре чуждых и даже враждеб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9" descr="Aligny_Claude_Felix_Theodore_Homer_And_The_Sheperds_sm"/>
          <p:cNvPicPr/>
          <p:nvPr/>
        </p:nvPicPr>
        <p:blipFill>
          <a:blip r:embed="rId1"/>
          <a:stretch/>
        </p:blipFill>
        <p:spPr>
          <a:xfrm>
            <a:off x="4497480" y="1619280"/>
            <a:ext cx="2501640" cy="28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Фазы развития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57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культуры подчинен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щему закону циклического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согласно которому всё развивающееся проходит через три период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ой простоты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цветущей сложности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торичного смесительного упрощения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Brown_Ford_Madox_Work_sm"/>
          <p:cNvPicPr/>
          <p:nvPr/>
        </p:nvPicPr>
        <p:blipFill>
          <a:blip r:embed="rId2"/>
          <a:stretch/>
        </p:blipFill>
        <p:spPr>
          <a:xfrm>
            <a:off x="5289480" y="2878200"/>
            <a:ext cx="2879640" cy="20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4" name="Picture 10" descr="Axentowics_Theodor_The_Omnibus_sm"/>
          <p:cNvPicPr/>
          <p:nvPr/>
        </p:nvPicPr>
        <p:blipFill>
          <a:blip r:embed="rId3"/>
          <a:stretch/>
        </p:blipFill>
        <p:spPr>
          <a:xfrm>
            <a:off x="6008760" y="4317840"/>
            <a:ext cx="2879640" cy="2219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логия деспотизма и элита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7870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эгалитарно-либеральным поступательным движением и идеей развития н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ичего логически родственно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аже более: прогресс есть не что иное,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цесс разлож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ый итог развития – преодоление равенства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граничение свобод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иод «цветущей сложности» есть именно период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го неравенств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бразования эли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иод смесительного упрощения характеризуется стремлением ко всеобщему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венств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мократии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торое имеет своим результатом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цвет техники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мирание искусства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пошление жизн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замену воли к положительному творчеству ценностей волей к механическому использованию работы и жаждой удоволь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8120" y="1599840"/>
            <a:ext cx="367848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 rot="10800000">
            <a:off x="3817440" y="1630080"/>
            <a:ext cx="52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был в восторге от Кри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критских простолюдин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аходил в них множе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зии. Особенно восхища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ня то, что я почти совс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идал там на мужчинах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европейской одежд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ую я с ранних л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енавидел всем сердц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за возмутительн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живописность её, и з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шлость, и, наконец, за сам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терпимую всеобщность её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794520" y="5433840"/>
            <a:ext cx="28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Н. Леонтье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ладимир Соловьё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Данилевског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8120" y="1599840"/>
            <a:ext cx="367848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 rot="10800000">
            <a:off x="3817440" y="1630080"/>
            <a:ext cx="52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дальнейшее и беспрерывно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ение человечества п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му пути –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оникнов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юду европейского буржуа, </a:t>
            </a:r>
            <a:br>
              <a:rPr sz="1800"/>
            </a:b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ырубки лесов, прорыти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налов, просверливания гор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.д. – прежде всего эт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ение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убительн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ля 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семирной эстетик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А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ибель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иродной и 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оциальной эстетик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есть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ный признак глубоког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тарения; есть признак 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иближающейся смерт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94520" y="5433840"/>
            <a:ext cx="28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Н. Леонтье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ладимир Соловьё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Данилевског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0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8120" y="1599840"/>
            <a:ext cx="367848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а же делает его одним из предшественнико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хнофобных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нтиутоп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XX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 rot="10800000">
            <a:off x="3817440" y="1630080"/>
            <a:ext cx="52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, воображая, что 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подствует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ад природ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редством всех этих открыти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изобретений, только ещё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ьше стал рабом её; убивая 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страняя одни силы при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ероятно, высшие) посредство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х, более стихийных 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рубых сил, он ничего ещё н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дал, а разрушил много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красное, 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свободитьс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му теперь от подчинени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м этим машинам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удет, конечно, не легко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794520" y="5433840"/>
            <a:ext cx="28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Н. Леонтье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ладимир Соловьё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Данилевског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0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8120" y="1599840"/>
            <a:ext cx="367848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а же делает его одним из предшественнико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хнофобных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нтиутоп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XX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чески мотивирована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литическа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еакцион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Леонть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 rot="10800000">
            <a:off x="3817440" y="1630080"/>
            <a:ext cx="52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 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чтожение повсюду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рхии, дворянства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стических положитель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лигий, войн и неравенств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вело бы к такой ужасающе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зе, что и вообрази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ашно!.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стетик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жизн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искусства!.. Чёрт его возьм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усство – без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жизни!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), поэзия 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действитель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 тог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азнообрази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– 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ложений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чувств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которое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вивается благодар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равенству и борьбе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0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логия реакци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 rot="10800000">
            <a:off x="251748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До дня цвет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лучше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арусом или паровым котло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 этого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евозвратного дн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ойнее быть якорем и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рмозом для народ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емящихся вниз под крутую гор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емящихся нередко наив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осовестно, при кликах торжеств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распущенными знамёнами надежд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Леонтьев (2b)"/>
          <p:cNvPicPr/>
          <p:nvPr/>
        </p:nvPicPr>
        <p:blipFill>
          <a:blip r:embed="rId1"/>
          <a:stretch/>
        </p:blipFill>
        <p:spPr>
          <a:xfrm>
            <a:off x="647640" y="2158920"/>
            <a:ext cx="1629000" cy="20098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7"/>
          <p:cNvSpPr/>
          <p:nvPr/>
        </p:nvSpPr>
        <p:spPr>
          <a:xfrm>
            <a:off x="505440" y="5289480"/>
            <a:ext cx="188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Н. Леонтье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изантизм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вянств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ий пессим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 rot="10800000">
            <a:off x="251748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ончить историю, погуби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тво разлити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ирного равенства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делать жизнь челове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же окончательно невыносимой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этом ли уготова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е предназначение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Леонтьев (2b)"/>
          <p:cNvPicPr/>
          <p:nvPr/>
        </p:nvPicPr>
        <p:blipFill>
          <a:blip r:embed="rId1"/>
          <a:stretch/>
        </p:blipFill>
        <p:spPr>
          <a:xfrm>
            <a:off x="647640" y="2158920"/>
            <a:ext cx="1629000" cy="200988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0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Я. Данилев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22‑18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Данилевский (1-3)"/>
          <p:cNvPicPr/>
          <p:nvPr/>
        </p:nvPicPr>
        <p:blipFill>
          <a:blip r:embed="rId1"/>
          <a:stretch/>
        </p:blipFill>
        <p:spPr>
          <a:xfrm>
            <a:off x="611280" y="1798560"/>
            <a:ext cx="2763720" cy="431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0" name="Rectangle 5"/>
          <p:cNvSpPr/>
          <p:nvPr/>
        </p:nvSpPr>
        <p:spPr>
          <a:xfrm>
            <a:off x="4246560" y="3057480"/>
            <a:ext cx="44989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и Европа: Взгляд на культурные и политические отношения славянского мир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романо-германскому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9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рвинизм: Критическое исследовани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0-1885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678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Я. Данилев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22‑18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епени (уровни) развития и типы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ять законов культурно-исторического 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ат европейской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ррациональная ненависть Запада к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имущества славяно-русской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957480" y="4857840"/>
            <a:ext cx="521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. «Философические пись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rossija-europa"/>
          <p:cNvPicPr/>
          <p:nvPr/>
        </p:nvPicPr>
        <p:blipFill>
          <a:blip r:embed="rId1"/>
          <a:stretch/>
        </p:blipFill>
        <p:spPr>
          <a:xfrm>
            <a:off x="358920" y="1798560"/>
            <a:ext cx="297972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9" name="Rectangle 6"/>
          <p:cNvSpPr/>
          <p:nvPr/>
        </p:nvSpPr>
        <p:spPr>
          <a:xfrm>
            <a:off x="3489480" y="5468760"/>
            <a:ext cx="55782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Данилевского – первый значительный вклад России в мировую философ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 rot="10800000">
            <a:off x="3957480" y="1618920"/>
            <a:ext cx="4857840" cy="305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окие в мире, мы мир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не дали, ничего у мир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зяли, мы не внесли в масс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их ид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одной мыс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и в чём не содействова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ению вперё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азума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снове универсалистской парадигмы леж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и не корректно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ение истории на периоды: древность, средневековье, ново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убеж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отделяющие один период от другого, не имели общечеловеческого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стории каждой цивилизации выделяю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и фазисы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свои «древность», «средневековье» и «новое врем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последним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 обще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м между ними и соответствующими периодами других цивил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ление истории по степеням развит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 исчерпыва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го богат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ё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ультура не универсальн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западная – в том числ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вокупное человечество не есть реальный субъект истории, 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ишь абстрактная ид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нообраз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а не единообразие – закон и условие прогр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 rot="10800000">
            <a:off x="25056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бы поступательное движ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обще не прекратилось в жиз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го человечества, необходим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, дойдя в одном направл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известной степени совершен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ось оно с новой точки исход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ло по другому пути, т. е. надо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тупили на поприще 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ие психические особенн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ой склад ума, чувств и во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ми обладают только на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ого культурно-исторического тип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Данилевский (1-1)"/>
          <p:cNvPicPr/>
          <p:nvPr/>
        </p:nvPicPr>
        <p:blipFill>
          <a:blip r:embed="rId1"/>
          <a:stretch/>
        </p:blipFill>
        <p:spPr>
          <a:xfrm>
            <a:off x="6788160" y="2050920"/>
            <a:ext cx="1600200" cy="21812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6442920" y="496584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Я. Данилев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оссия и Европ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0800000">
            <a:off x="25056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гресс </a:t>
            </a: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остоит не в том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ти все в одном направлении (в та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учае он скоро бы прекратился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в том, чтоб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ходить все пол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ставляющее поприще историческ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ятельности человечества, во все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иях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этому ни од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ивилизация не может гордиться т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 она представляла высш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ку развития, в сравнении с е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шественницами или современниц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 всех сторонах развит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Данилевский (1-1)"/>
          <p:cNvPicPr/>
          <p:nvPr/>
        </p:nvPicPr>
        <p:blipFill>
          <a:blip r:embed="rId1"/>
          <a:stretch/>
        </p:blipFill>
        <p:spPr>
          <a:xfrm>
            <a:off x="6788160" y="2050920"/>
            <a:ext cx="1600200" cy="21812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6442920" y="496584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Я. Данилев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оссия и Европ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21:06:53Z</dcterms:created>
  <dc:creator>Николай Бирюков / Nikolai Biryukov</dc:creator>
  <dc:description>Версия марта 2006 г.</dc:description>
  <dc:language>en-US</dc:language>
  <cp:lastModifiedBy>LEGION</cp:lastModifiedBy>
  <dcterms:modified xsi:type="dcterms:W3CDTF">2014-11-11T12:42:00Z</dcterms:modified>
  <cp:revision>38</cp:revision>
  <dc:subject>История русской философии - Лекция 5</dc:subject>
  <dc:title>Поздние славянофилы</dc:title>
</cp:coreProperties>
</file>