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19.png" ContentType="image/pn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A04B-43C0-4E03-834E-F9AD6AA00C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СБЕРЕЖЕНИЕ –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 К ИНВЕСТИЦИОННО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И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СБЕРЕЖЕНИ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 К ИНВЕСТИЦИО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И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отопительный период длится в среднем 6-7 месяцев в году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электроцентраль на базе ПГУ - комбинированная выработка тепла и электричеств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перераспределение нагрузок между источникам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отопительный период длится в среднем 6-7 месяцев в го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электроцентраль на базе ПГУ - комбинированная выработка тепла и электр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перераспределение нагрузок между источ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ификация угля для снабжения нашей ТЭЦ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 и энергоснаб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себестоимость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ая технологи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а «газосбережен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ификация угля для снабжения нашей ТЭ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 и энергоснаб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себестоимос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ая технолог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а «газосбережения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режима, несомненно, очень важно! Как для людей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для предприятия в целом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изация состава работающего оборудования источника»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распределение тепловой нагрузки между турбоагрегатами источни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снижение затрат на топливо  в среднем до 1% или 10 млн. руб/г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альное перераспределение нагрузок между источниками»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режима, несомненно, очень важно! Как для люд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для предприятия в цел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изация состава работающего оборудования источни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распределение тепловой нагрузки между турбоагрегатами исто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снижение затрат на топливо  в среднем до 1% или 10 млн. руб/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альное перераспределение нагрузок между источниками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нергетике размер не имеет значения…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нтрализованное тепло-, электроснабжение и кондицион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нергетике размер не имеет значения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нтрализованное тепло-, электроснабжение и кондиционир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дает нам жизнь и энерги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ГЭ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изводства, в т.ч. строительство заводов в близлежащих город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дает нам жизнь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ГЭ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изводства, в т.ч. строительство заводов в близлежащих го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энерге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ридные системы, состоящие из ветрогенератора и фотоэлектрических модул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комбинированной системы теплоснабже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-схема гибридной энергосисте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тепловых насосов и солнечных колле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энерге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ридные системы, состоящие из ветрогенератора и фотоэлектрических моду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комбинированной системы теплоснаб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-схема гибридной энергосисте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тепловых насосов и солнечных колл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ое хозяйство и связ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ция и альтернативные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исы и зд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ое хозяйство и 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ция и альтернативные источ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исы и з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я должна быть экономной. И энергетика не исключение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на количественный метод отпуска теп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потребителей по независимой схеме через теплообменни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капительных, эксплуатационных и ремонтных затра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номия энергоресурсов за счет оптимальных температурных условий в помещения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потерь тепловой энергии в трубопровода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тарифов для конечного потреби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я должна быть экономной. И энергетика не исключ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на количественный метод отпуска теп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потребителей по независимой схеме через теплообмен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капительных, эксплуатационных и ремонтных затр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номия энергоресурсов за счет оптимальных температурных условий в помещ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потерь тепловой энергии в трубопровод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тарифов для конечного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надёжности в распределительных сетях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эффектив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потерь, связанных с передачей реактивной энергии, до 95%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надёжности в распределительных сетя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эффектив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потерь, связанных с передачей реактивной энергии, до 9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внешним миром осуществляется через геостационарный спутни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домов цифровым телевидением и телевидением 3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городе сетей 4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любят поговорить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внешним миром осуществляется через геостационарный спут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домов цифровым телевидением и телевидением 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городе сетей 4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любят поговорить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«Пять Э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эффектив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обмен ресурс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будущего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новых технологий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идеальный город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может стать твоим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«Пять Э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эффектив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обмен ресурс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будущег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новых технологи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идеальный гор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может стать твои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сами выбирают на чем именно им ездить. Главное, чтобы это было экологичн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сами выбирают на чем именно им ездить. Главное, чтобы это было экологич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удоход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строительство тунн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нутренней транспортной инфраструктур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удох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строительство тунн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нутренней транспортной инфраструк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орог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ещение улиц и дорог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втономных фотоэлектрических систем наружного ос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орог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ещение улиц и доро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втономных фотоэлектрических систем наружного осв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та – залог здоровья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станции сверхглубокой очистки сточных вод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очистка сточных вод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апитальных затрат на 40-5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энергозатрат до 4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ысокотехнологичного коагулянта для очистки сточных в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та – залог здоровь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станции сверхглубокой очистки сточных в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очистка сточных 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апитальных затрат на 40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энергозатрат до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ысокотехнологичного коагулянта для очистки сточ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шь в туалет – помой руки!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торичного использования воды и экономии ресурсов в жилых помещени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всех кранов и душевых датчиками движения (снижение водопотребления до 190-200 л/сутк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шь в туалет – помой рук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торичного использования воды и экономии ресурсов в жилых помещ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всех кранов и душевых датчиками движения (снижение водопотребления до 190-200 л/су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все по фен-шую! Точнее по нано-фен-шую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 домах рекуперативной системы вентиля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входящий горячий воздух охлаждается по обратному принцип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изионный контро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 экономия тепловой энергии до 40%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все по фен-шую! Точнее по нано-фен-шу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 домах рекуперативной системы венти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входящий горячий воздух охлаждается по обратному принци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изион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 экономия тепловой энергии до 4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елосипедов, электромобилей, транспорта на биотопли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подход к утилизац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вода и в реке и в к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жное отношение к приро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 здоровой экологией живут здоровые люди и рождаются здоровые де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елосипедов, электромобилей, транспорта на биотопл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подход к утил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вода и в реке и в к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жное отношение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 здоровой экологией живут здоровые люди и рождаются здоровые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юбим Наш город и счастливы здес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, учиться и ж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ать, жениться, друж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любить, на работу спеш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ться на велике, в горы ход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ам сплавляться и рыбу лов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лочкам чистым с друзьями брод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эко-продукты, детишек рожа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ом чистым полной грудью дыша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иться величием нашей души и тем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очень и очень дружн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все команда, мы все за одно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м что мы очень любим его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юбим Наш город и счастливы зд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, учиться и ж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ать, жениться, друж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любить, на работу спеш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ться на велике, в горы ход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ам сплавляться и рыбу лов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лочкам чистым с друзьями брод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эко-продукты, детишек рож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ом чистым полной грудью дыш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иться величием нашей души и т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очень и очень дружн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все команда, мы все за од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м что мы очень любим его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.S. Приезжайте к нам отдыхать! Вам понравится! Обещаю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.S. Приезжайте к нам отдыхать! Вам понравится! Обеща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 – основа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PA-салоны (эко-продукты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минеральные источни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лощадок для торговли экологически-чистыми продукт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орно-лыжного туризм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ивное рыболов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ды, что Наш город любим всеми: и жителями, и туристами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 – основа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PA-салоны (эко-продукт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минеральные источ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лощадок для торговли экологически-чистыми продук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орно-лыжного тур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ивное рыболов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ды, что Наш город любим всеми: и жителями, и турист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нутрицевтического класте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с хорошей экологией (Наш Город) идеально подходит для развития нутрицевти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 нутрицевтики в Нашем горо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нутрицевтического клас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с хорошей экологией (Наш Город) идеально подходит для развития нутрицев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 нутрицевтики в Нашем го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две беды… Но мы собрали у себя лучшие умы Росс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ого город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продажа патентных решений для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центров по изучению и развитию альтернативной энергети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две беды… Но мы собрали у себя лучшие умы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ого город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продажа патентных решен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центров по изучению и развитию альтернативной энерге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икогда не думал, что водоросли можно выращивать вот так, как помидоры, в теплиц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закрытого типа производит около 140 тонн сырья/г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его объем 700 м. куб./ площадь 1 гекта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характеризу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производитель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эколог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контро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икогда не думал, что водоросли можно выращивать вот так, как помидоры, в теплиц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закрытого типа производит около 140 тонн сырья/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его объем 700 м. куб./ площадь 1 гект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характериз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эколог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чищенное топли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ким содержанием кисло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содержания кисло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электричества и теп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чищенное топли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ким содержанием кисл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содержания кисл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электричества и теп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зация и промышл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туалетной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бутылок для                            газированных напит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гуму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зация и 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туалетной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бутылок для                            газированных нап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гуму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о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воза, в качестве удобрений и как сырья для производства биогаз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е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щивание лекарственных растений для кластера нутрицевт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ечные хозя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о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воза, в качестве удобрений и как сырья для производства биог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е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щивание лекарственных растений для кластера нутрицев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ечные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A77-E114-4B49-8A81-2A215B6E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E23-9EA5-43B9-BEDA-53521B62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92D-7B31-41F7-8E42-D33FE4EA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8C0-73A1-429B-9B35-BC7B5AB3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591-4135-4CC9-91C1-41375E98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81D-1535-47D4-A60A-F9F8FB9B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23F-2051-4108-A9AA-299DE26F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FA6-A5D7-409A-83F6-05E55D18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646-7447-4627-AC38-BA4BF262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355-3750-4A96-BFA8-645CE79F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E68-2F70-4E4E-A39A-4BB19584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118-952D-4A12-9BD3-16F649F5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9C8B-30B0-458D-9483-2E1B89AFF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НАш город"/>
          <p:cNvPicPr/>
          <p:nvPr/>
        </p:nvPicPr>
        <p:blipFill>
          <a:blip r:embed="rId1"/>
          <a:stretch/>
        </p:blipFill>
        <p:spPr>
          <a:xfrm>
            <a:off x="23760" y="60480"/>
            <a:ext cx="5513400" cy="5770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859280" y="5616720"/>
            <a:ext cx="792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788000" y="4044960"/>
            <a:ext cx="4176720" cy="2428920"/>
          </a:xfrm>
          <a:prstGeom prst="roundRect">
            <a:avLst>
              <a:gd name="adj" fmla="val 16667"/>
            </a:avLst>
          </a:prstGeom>
          <a:solidFill>
            <a:srgbClr val="ffcc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64000" y="497376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500720" y="687240"/>
            <a:ext cx="452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НЕРГОСБЕРЕЖЕНИЕ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ЮЧ К ИНВЕСТИЦИОНН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ВЛЕКАТЕЛЬНОСТИ ГОР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95280" y="1413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тересный фак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отопительный период длится в среднем 6-7 месяцев в году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50920" y="2418840"/>
            <a:ext cx="8713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плоэлектроцентраль на базе ПГУ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- комбинированная выработка тепла и электричеств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964440" y="4337640"/>
            <a:ext cx="73069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634680" y="4877280"/>
            <a:ext cx="21834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5767920" y="4877280"/>
            <a:ext cx="278964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16"/>
          <p:cNvSpPr/>
          <p:nvPr/>
        </p:nvSpPr>
        <p:spPr>
          <a:xfrm flipV="1" rot="10800000">
            <a:off x="169920" y="5546880"/>
            <a:ext cx="166536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2195640" y="5689800"/>
            <a:ext cx="2663640" cy="733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тимальное перераспределение нагрузок между источни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5292720" y="5525280"/>
            <a:ext cx="151272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6948360" y="5525280"/>
            <a:ext cx="201456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04292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21"/>
          <p:cNvSpPr/>
          <p:nvPr/>
        </p:nvSpPr>
        <p:spPr>
          <a:xfrm>
            <a:off x="270036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22"/>
          <p:cNvSpPr/>
          <p:nvPr/>
        </p:nvSpPr>
        <p:spPr>
          <a:xfrm>
            <a:off x="622764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795672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4"/>
          <p:cNvSpPr/>
          <p:nvPr/>
        </p:nvSpPr>
        <p:spPr>
          <a:xfrm>
            <a:off x="176364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25"/>
          <p:cNvSpPr/>
          <p:nvPr/>
        </p:nvSpPr>
        <p:spPr>
          <a:xfrm>
            <a:off x="738036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611280" y="3895560"/>
            <a:ext cx="799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95280" y="148428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азификация угля для снабжения нашей ТЭЦ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40328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мышленность и энергоснаб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1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50920" y="2274840"/>
            <a:ext cx="889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3" descr="Схема добычи метана"/>
          <p:cNvPicPr/>
          <p:nvPr/>
        </p:nvPicPr>
        <p:blipFill>
          <a:blip r:embed="rId4"/>
          <a:srcRect l="0" t="0" r="0" b="11232"/>
          <a:stretch/>
        </p:blipFill>
        <p:spPr>
          <a:xfrm>
            <a:off x="4067280" y="3046320"/>
            <a:ext cx="4752720" cy="34466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29" name="Rectangle 14"/>
          <p:cNvSpPr/>
          <p:nvPr/>
        </p:nvSpPr>
        <p:spPr>
          <a:xfrm>
            <a:off x="250920" y="3426840"/>
            <a:ext cx="3600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322200" y="4656960"/>
            <a:ext cx="3673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изкая себестоимость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кологичная технология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еспечение эффекта «газосбережения»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95280" y="1413000"/>
            <a:ext cx="69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блюдение режима, несомненно, очень важно! Как для людей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ак и для предприятия в целом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375480" y="2059920"/>
            <a:ext cx="25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ежимные мероприя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81080" y="2416320"/>
            <a:ext cx="5111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Оптимизация состава работающего оборудования источника»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тимальное распределение тепловой нагрузки между турбоагрегатами источни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ффект: снижение затрат на топливо  в среднем до 1% или 10 млн. руб/г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Оптимальное перераспределение нагрузок между источниками»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14" descr="teplovayaen2"/>
          <p:cNvPicPr/>
          <p:nvPr/>
        </p:nvPicPr>
        <p:blipFill>
          <a:blip r:embed="rId4"/>
          <a:stretch/>
        </p:blipFill>
        <p:spPr>
          <a:xfrm>
            <a:off x="5580000" y="2349360"/>
            <a:ext cx="3225960" cy="4294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0"/>
          <p:cNvSpPr/>
          <p:nvPr/>
        </p:nvSpPr>
        <p:spPr>
          <a:xfrm>
            <a:off x="179280" y="1268280"/>
            <a:ext cx="7848720" cy="576360"/>
          </a:xfrm>
          <a:prstGeom prst="wedgeRoundRectCallout">
            <a:avLst>
              <a:gd name="adj1" fmla="val 53560"/>
              <a:gd name="adj2" fmla="val 39532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755640" y="141300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энергетике размер не имеет значения…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518760" y="18990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Мини-ТЭ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79280" y="2172960"/>
            <a:ext cx="8713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14" descr="kgu"/>
          <p:cNvPicPr/>
          <p:nvPr/>
        </p:nvPicPr>
        <p:blipFill>
          <a:blip r:embed="rId4"/>
          <a:stretch/>
        </p:blipFill>
        <p:spPr>
          <a:xfrm>
            <a:off x="4572000" y="3357720"/>
            <a:ext cx="4356000" cy="29606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5"/>
          <p:cNvSpPr/>
          <p:nvPr/>
        </p:nvSpPr>
        <p:spPr>
          <a:xfrm>
            <a:off x="179280" y="5124960"/>
            <a:ext cx="44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216000" y="3429000"/>
            <a:ext cx="4356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Централизованное тепло-, электроснабжение и кондиционировани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755640" y="148428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да дает нам жизнь и энерги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33480" y="2256120"/>
            <a:ext cx="40338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Малые ГЭ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производства, в т.ч. строительство заводов в близлежащих город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13" descr="малая ГЭС"/>
          <p:cNvPicPr/>
          <p:nvPr/>
        </p:nvPicPr>
        <p:blipFill>
          <a:blip r:embed="rId4"/>
          <a:stretch/>
        </p:blipFill>
        <p:spPr>
          <a:xfrm>
            <a:off x="3995640" y="2757600"/>
            <a:ext cx="4932360" cy="36957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3527280" cy="20894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1692360" y="260280"/>
            <a:ext cx="52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льтернативная энерге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1"/>
          <p:cNvSpPr/>
          <p:nvPr/>
        </p:nvSpPr>
        <p:spPr>
          <a:xfrm>
            <a:off x="179280" y="1268280"/>
            <a:ext cx="7777440" cy="865440"/>
          </a:xfrm>
          <a:prstGeom prst="wedgeRoundRectCallout">
            <a:avLst>
              <a:gd name="adj1" fmla="val 54509"/>
              <a:gd name="adj2" fmla="val 963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395280" y="148428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4067280" y="5734080"/>
            <a:ext cx="865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5076720" y="2347920"/>
            <a:ext cx="338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ибридные системы, состоящие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з ветрогенератора и фотоэлектрических моду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411840" y="616500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хема комбинированной системы теплоснаб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16" descr=""/>
          <p:cNvPicPr/>
          <p:nvPr/>
        </p:nvPicPr>
        <p:blipFill>
          <a:blip r:embed="rId5"/>
          <a:stretch/>
        </p:blipFill>
        <p:spPr>
          <a:xfrm>
            <a:off x="4414680" y="3068640"/>
            <a:ext cx="4729320" cy="29512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7"/>
          <p:cNvSpPr/>
          <p:nvPr/>
        </p:nvSpPr>
        <p:spPr>
          <a:xfrm>
            <a:off x="5359680" y="6237360"/>
            <a:ext cx="281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Блок-схема гибридной энергосистем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395280" y="2349360"/>
            <a:ext cx="396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пловых насосов и солнечных коллекто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692360" y="311040"/>
            <a:ext cx="720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етевое хозяйство и связ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0"/>
          <p:cNvSpPr/>
          <p:nvPr/>
        </p:nvSpPr>
        <p:spPr>
          <a:xfrm>
            <a:off x="179280" y="1268280"/>
            <a:ext cx="7777440" cy="865440"/>
          </a:xfrm>
          <a:prstGeom prst="wedgeRoundRectCallout">
            <a:avLst>
              <a:gd name="adj1" fmla="val 54509"/>
              <a:gd name="adj2" fmla="val 963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395280" y="147168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7" descr="SmartGridGraphicwithlogo111.JPG"/>
          <p:cNvPicPr/>
          <p:nvPr/>
        </p:nvPicPr>
        <p:blipFill>
          <a:blip r:embed="rId4"/>
          <a:stretch/>
        </p:blipFill>
        <p:spPr>
          <a:xfrm>
            <a:off x="2556000" y="3571920"/>
            <a:ext cx="3827160" cy="280980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ая прямоугольная выноска 11"/>
          <p:cNvSpPr/>
          <p:nvPr/>
        </p:nvSpPr>
        <p:spPr>
          <a:xfrm>
            <a:off x="324000" y="3716280"/>
            <a:ext cx="2004840" cy="1297080"/>
          </a:xfrm>
          <a:prstGeom prst="wedgeRoundRectCallout">
            <a:avLst>
              <a:gd name="adj1" fmla="val 109305"/>
              <a:gd name="adj2" fmla="val -8384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енерация и альтернативные источн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Скругленная прямоугольная выноска 12"/>
          <p:cNvSpPr/>
          <p:nvPr/>
        </p:nvSpPr>
        <p:spPr>
          <a:xfrm>
            <a:off x="395280" y="5300640"/>
            <a:ext cx="1433520" cy="717480"/>
          </a:xfrm>
          <a:prstGeom prst="wedgeRoundRectCallout">
            <a:avLst>
              <a:gd name="adj1" fmla="val 107143"/>
              <a:gd name="adj2" fmla="val -70134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Жилые дом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Скругленная прямоугольная выноска 13"/>
          <p:cNvSpPr/>
          <p:nvPr/>
        </p:nvSpPr>
        <p:spPr>
          <a:xfrm>
            <a:off x="6659640" y="6093000"/>
            <a:ext cx="1251000" cy="601560"/>
          </a:xfrm>
          <a:prstGeom prst="wedgeRoundRectCallout">
            <a:avLst>
              <a:gd name="adj1" fmla="val -89976"/>
              <a:gd name="adj2" fmla="val -163986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фисы и з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Скругленная прямоугольная выноска 14"/>
          <p:cNvSpPr/>
          <p:nvPr/>
        </p:nvSpPr>
        <p:spPr>
          <a:xfrm>
            <a:off x="1908000" y="6021360"/>
            <a:ext cx="1224000" cy="576360"/>
          </a:xfrm>
          <a:prstGeom prst="wedgeRoundRectCallout">
            <a:avLst>
              <a:gd name="adj1" fmla="val 123541"/>
              <a:gd name="adj2" fmla="val -78097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Заводы и фабр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Скругленная прямоугольная выноска 15"/>
          <p:cNvSpPr/>
          <p:nvPr/>
        </p:nvSpPr>
        <p:spPr>
          <a:xfrm>
            <a:off x="7093080" y="3573360"/>
            <a:ext cx="1655640" cy="2376720"/>
          </a:xfrm>
          <a:prstGeom prst="wedgeRoundRectCallout">
            <a:avLst>
              <a:gd name="adj1" fmla="val -141944"/>
              <a:gd name="adj2" fmla="val -26421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Скругленный прямоугольник 16"/>
          <p:cNvSpPr/>
          <p:nvPr/>
        </p:nvSpPr>
        <p:spPr>
          <a:xfrm>
            <a:off x="3708360" y="4541760"/>
            <a:ext cx="1405080" cy="471600"/>
          </a:xfrm>
          <a:prstGeom prst="roundRect">
            <a:avLst>
              <a:gd name="adj" fmla="val 16667"/>
            </a:avLst>
          </a:prstGeom>
          <a:solidFill>
            <a:srgbClr val="ffc000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Центр управ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395280" y="2133720"/>
            <a:ext cx="874872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539640" y="1484280"/>
            <a:ext cx="81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я должна быть экономной. И энергетика не исключение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324000" y="2276640"/>
            <a:ext cx="864072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ход на количественный метод отпуска теп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соединение потребителей по независимой схеме через теплообменн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окращение капительных, эксплуатационных и ремонтных затрат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Экономия энергоресурсов за счет оптимальных температурных условий в помещения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окращение потерь тепловой энергии в трубопровода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нижение тарифов для конечного потребител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12"/>
          <p:cNvSpPr/>
          <p:nvPr/>
        </p:nvSpPr>
        <p:spPr>
          <a:xfrm>
            <a:off x="179280" y="134136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395280" y="1403280"/>
            <a:ext cx="69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395280" y="2430720"/>
            <a:ext cx="5977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величение надёжности в распределительных сетях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величение эффективност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еимуществ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нижение потерь, связанных с передачей реактивной энергии, до 95%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4"/>
          <a:stretch/>
        </p:blipFill>
        <p:spPr>
          <a:xfrm>
            <a:off x="6443640" y="2565360"/>
            <a:ext cx="2487600" cy="1895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2"/>
          <p:cNvPicPr/>
          <p:nvPr/>
        </p:nvPicPr>
        <p:blipFill>
          <a:blip r:embed="rId5"/>
          <a:stretch/>
        </p:blipFill>
        <p:spPr>
          <a:xfrm>
            <a:off x="6804000" y="4508640"/>
            <a:ext cx="1819440" cy="21636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619280" y="18900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8" descr="БС"/>
          <p:cNvPicPr/>
          <p:nvPr/>
        </p:nvPicPr>
        <p:blipFill>
          <a:blip r:embed="rId3"/>
          <a:stretch/>
        </p:blipFill>
        <p:spPr>
          <a:xfrm>
            <a:off x="324000" y="2276640"/>
            <a:ext cx="3220920" cy="42922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48" name="Rectangle 9"/>
          <p:cNvSpPr/>
          <p:nvPr/>
        </p:nvSpPr>
        <p:spPr>
          <a:xfrm>
            <a:off x="4067280" y="2432160"/>
            <a:ext cx="453708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вязь с внешним миром осуществляется через геостационарный спутни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рудование домов цифровым телевидением и телевидением 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в городе сетей 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11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4067280" y="42926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611280" y="1484280"/>
            <a:ext cx="77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егородцы любят поговорить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50920" y="1197000"/>
            <a:ext cx="7437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нципы «Пять Э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нергоэффектив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ффективный обмен ресурса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ч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ческая выгод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логич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8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763640" y="189000"/>
            <a:ext cx="3095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цеп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538960" y="4508640"/>
            <a:ext cx="3605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город будущего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город новых технологий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идеальный гор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может стать твоим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179280" y="1413000"/>
            <a:ext cx="5472360" cy="1655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23" descr="мэр молодой"/>
          <p:cNvPicPr/>
          <p:nvPr/>
        </p:nvPicPr>
        <p:blipFill>
          <a:blip r:embed="rId3"/>
          <a:stretch/>
        </p:blipFill>
        <p:spPr>
          <a:xfrm>
            <a:off x="7740720" y="1341360"/>
            <a:ext cx="1189080" cy="16858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5"/>
          <p:cNvSpPr/>
          <p:nvPr/>
        </p:nvSpPr>
        <p:spPr>
          <a:xfrm flipV="1">
            <a:off x="5796000" y="1341360"/>
            <a:ext cx="1152360" cy="720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7" descr="жители нашего города"/>
          <p:cNvPicPr/>
          <p:nvPr/>
        </p:nvPicPr>
        <p:blipFill>
          <a:blip r:embed="rId4"/>
          <a:stretch/>
        </p:blipFill>
        <p:spPr>
          <a:xfrm>
            <a:off x="324000" y="3716280"/>
            <a:ext cx="4524120" cy="2820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9"/>
          <p:cNvSpPr/>
          <p:nvPr/>
        </p:nvSpPr>
        <p:spPr>
          <a:xfrm>
            <a:off x="1121760" y="61657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5724360" y="3429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34"/>
          <p:cNvSpPr/>
          <p:nvPr/>
        </p:nvSpPr>
        <p:spPr>
          <a:xfrm>
            <a:off x="1979640" y="5661000"/>
            <a:ext cx="792000" cy="50472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40"/>
          <p:cNvSpPr/>
          <p:nvPr/>
        </p:nvSpPr>
        <p:spPr>
          <a:xfrm flipV="1">
            <a:off x="5435640" y="4508640"/>
            <a:ext cx="3600360" cy="1512720"/>
          </a:xfrm>
          <a:prstGeom prst="wedgeRoundRectCallout">
            <a:avLst>
              <a:gd name="adj1" fmla="val -67240"/>
              <a:gd name="adj2" fmla="val 5419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44"/>
          <p:cNvSpPr/>
          <p:nvPr/>
        </p:nvSpPr>
        <p:spPr>
          <a:xfrm flipV="1">
            <a:off x="7020000" y="1773360"/>
            <a:ext cx="504720" cy="792000"/>
          </a:xfrm>
          <a:prstGeom prst="wedgeRoundRectCallout">
            <a:avLst>
              <a:gd name="adj1" fmla="val 103458"/>
              <a:gd name="adj2" fmla="val -3056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45"/>
          <p:cNvSpPr/>
          <p:nvPr/>
        </p:nvSpPr>
        <p:spPr>
          <a:xfrm rot="2538000">
            <a:off x="7308360" y="2924280"/>
            <a:ext cx="792360" cy="50472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1619280" y="18900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24000" y="1398600"/>
            <a:ext cx="770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250920" y="2131920"/>
            <a:ext cx="8893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шегородцы сами выбирают на чем именно им ездить. Главное, чтобы это было экологичн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0" descr="маленькая машинка"/>
          <p:cNvPicPr/>
          <p:nvPr/>
        </p:nvPicPr>
        <p:blipFill>
          <a:blip r:embed="rId3"/>
          <a:stretch/>
        </p:blipFill>
        <p:spPr>
          <a:xfrm>
            <a:off x="5364000" y="4437000"/>
            <a:ext cx="3311640" cy="2079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64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12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24000" y="4508640"/>
            <a:ext cx="4752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468360" y="15397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2 беды… Разберемся и с дорог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250920" y="2205000"/>
            <a:ext cx="496872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судох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ланируется строительство тунн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звитие внутренней транспортной инфра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11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13" descr="дорога"/>
          <p:cNvPicPr/>
          <p:nvPr/>
        </p:nvPicPr>
        <p:blipFill>
          <a:blip r:embed="rId4"/>
          <a:stretch/>
        </p:blipFill>
        <p:spPr>
          <a:xfrm>
            <a:off x="5580000" y="2349360"/>
            <a:ext cx="2865600" cy="4348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468360" y="15397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2 беды… Разберемся и с дорог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324000" y="4221000"/>
            <a:ext cx="82803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Качество дорог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15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324000" y="2460600"/>
            <a:ext cx="8820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свещение улиц и доро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автономных фотоэлектрических систем наружного освещ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547640" y="260280"/>
            <a:ext cx="460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а и канализ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0"/>
          <p:cNvSpPr/>
          <p:nvPr/>
        </p:nvSpPr>
        <p:spPr>
          <a:xfrm>
            <a:off x="539640" y="1539720"/>
            <a:ext cx="81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истота – залог здоровья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11" descr="вода из крана"/>
          <p:cNvPicPr/>
          <p:nvPr/>
        </p:nvPicPr>
        <p:blipFill>
          <a:blip r:embed="rId4"/>
          <a:stretch/>
        </p:blipFill>
        <p:spPr>
          <a:xfrm>
            <a:off x="6769080" y="2111400"/>
            <a:ext cx="2374920" cy="23256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12"/>
          <p:cNvSpPr/>
          <p:nvPr/>
        </p:nvSpPr>
        <p:spPr>
          <a:xfrm>
            <a:off x="324000" y="2460600"/>
            <a:ext cx="8713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троительство станции сверхглубокой очистки сточных вод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ологическая очистка сточных вод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капитальных затрат на 40-5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кращение энергозатрат до 4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высокотехнологичного коагулянта для очистки сточных в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Line 2"/>
          <p:cNvSpPr/>
          <p:nvPr/>
        </p:nvSpPr>
        <p:spPr>
          <a:xfrm flipV="1">
            <a:off x="6300720" y="2781360"/>
            <a:ext cx="0" cy="24480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Picture 4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1547640" y="260280"/>
            <a:ext cx="460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а и канализ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1"/>
          <p:cNvSpPr/>
          <p:nvPr/>
        </p:nvSpPr>
        <p:spPr>
          <a:xfrm>
            <a:off x="682560" y="153972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очешь в туалет – помой руки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250920" y="2522520"/>
            <a:ext cx="424980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звитие вторичного использования воды и экономии ресурсов в жилых помещения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нащение всех кранов и душевых датчиками движения (снижение водопотребления до 190-200 л/сутк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Picture 14" descr="унитаз"/>
          <p:cNvPicPr/>
          <p:nvPr/>
        </p:nvPicPr>
        <p:blipFill>
          <a:blip r:embed="rId4"/>
          <a:stretch/>
        </p:blipFill>
        <p:spPr>
          <a:xfrm>
            <a:off x="7308720" y="4437000"/>
            <a:ext cx="1535400" cy="2205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бачок"/>
          <p:cNvPicPr/>
          <p:nvPr/>
        </p:nvPicPr>
        <p:blipFill>
          <a:blip r:embed="rId5"/>
          <a:stretch/>
        </p:blipFill>
        <p:spPr>
          <a:xfrm>
            <a:off x="6948360" y="2276640"/>
            <a:ext cx="1255680" cy="1477800"/>
          </a:xfrm>
          <a:prstGeom prst="rect">
            <a:avLst/>
          </a:prstGeom>
          <a:ln w="0">
            <a:noFill/>
          </a:ln>
        </p:spPr>
      </p:pic>
      <p:sp>
        <p:nvSpPr>
          <p:cNvPr id="422" name="Line 16"/>
          <p:cNvSpPr/>
          <p:nvPr/>
        </p:nvSpPr>
        <p:spPr>
          <a:xfrm>
            <a:off x="5651640" y="5229360"/>
            <a:ext cx="6490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6300720" y="2781360"/>
            <a:ext cx="863640" cy="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18"/>
          <p:cNvSpPr/>
          <p:nvPr/>
        </p:nvSpPr>
        <p:spPr>
          <a:xfrm>
            <a:off x="7667640" y="3573360"/>
            <a:ext cx="0" cy="9352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6300720" y="5229360"/>
            <a:ext cx="0" cy="136836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20"/>
          <p:cNvSpPr/>
          <p:nvPr/>
        </p:nvSpPr>
        <p:spPr>
          <a:xfrm>
            <a:off x="5651640" y="658332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Verdana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4653360" y="5088600"/>
            <a:ext cx="955080" cy="2764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Verdana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5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9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1619280" y="26028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250920" y="2395800"/>
            <a:ext cx="8281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7" name="Picture 15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17"/>
          <p:cNvSpPr/>
          <p:nvPr/>
        </p:nvSpPr>
        <p:spPr>
          <a:xfrm>
            <a:off x="179280" y="119700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18"/>
          <p:cNvSpPr/>
          <p:nvPr/>
        </p:nvSpPr>
        <p:spPr>
          <a:xfrm>
            <a:off x="395280" y="139860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Picture 22" descr="яркий дом"/>
          <p:cNvPicPr/>
          <p:nvPr/>
        </p:nvPicPr>
        <p:blipFill>
          <a:blip r:embed="rId4"/>
          <a:stretch/>
        </p:blipFill>
        <p:spPr>
          <a:xfrm>
            <a:off x="5292720" y="4365720"/>
            <a:ext cx="3156120" cy="2368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441" name="Text Box 25"/>
          <p:cNvSpPr/>
          <p:nvPr/>
        </p:nvSpPr>
        <p:spPr>
          <a:xfrm>
            <a:off x="324000" y="4508640"/>
            <a:ext cx="511164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1619280" y="26028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826920" y="1539720"/>
            <a:ext cx="756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 нас все по фен-шую! Точнее по нано-фен-шую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142920" y="2511720"/>
            <a:ext cx="867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именение в домах рекуперативной системы вентиля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том входящий горячий воздух охлаждается по обратному принцип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324000" y="4118760"/>
            <a:ext cx="860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108000" y="4117320"/>
            <a:ext cx="57960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пловизионный контро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имущество: экономия тепловой энергии до 40%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6" name="Picture 22" descr="image002"/>
          <p:cNvPicPr/>
          <p:nvPr/>
        </p:nvPicPr>
        <p:blipFill>
          <a:blip r:embed="rId4"/>
          <a:stretch/>
        </p:blipFill>
        <p:spPr>
          <a:xfrm>
            <a:off x="5796000" y="4221000"/>
            <a:ext cx="3147840" cy="2329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395280" y="2597040"/>
            <a:ext cx="525636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альтернативных источников энерг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велосипедов, электромобилей, транспорта на биотоплив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ый подход к утилизаци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истая вода и в реке и в кран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ережное отношение к приро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395280" y="141300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городе со здоровой экологией живут здоровые люди и рождаются здоровые де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Picture 10" descr="экология"/>
          <p:cNvPicPr/>
          <p:nvPr/>
        </p:nvPicPr>
        <p:blipFill>
          <a:blip r:embed="rId3"/>
          <a:stretch/>
        </p:blipFill>
        <p:spPr>
          <a:xfrm>
            <a:off x="5653080" y="3386160"/>
            <a:ext cx="3240000" cy="22035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Picture 13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15"/>
          <p:cNvSpPr/>
          <p:nvPr/>
        </p:nvSpPr>
        <p:spPr>
          <a:xfrm>
            <a:off x="179280" y="12700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20"/>
          <p:cNvSpPr/>
          <p:nvPr/>
        </p:nvSpPr>
        <p:spPr>
          <a:xfrm>
            <a:off x="250920" y="2349360"/>
            <a:ext cx="4465440" cy="3745080"/>
          </a:xfrm>
          <a:prstGeom prst="wedgeRoundRectCallout">
            <a:avLst>
              <a:gd name="adj1" fmla="val 78509"/>
              <a:gd name="adj2" fmla="val -5106"/>
              <a:gd name="adj3" fmla="val 16667"/>
            </a:avLst>
          </a:prstGeom>
          <a:solidFill>
            <a:srgbClr val="ffcc00">
              <a:alpha val="39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4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и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539640" y="1471680"/>
            <a:ext cx="741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0" name="Picture 12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14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250920" y="2813040"/>
            <a:ext cx="518472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любим Наш город и счастливы здес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ботать, учиться и ж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зобретать, жениться, друж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роду любить, на работу спеш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таться на велике, в горы ход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 рекам сплавляться и рыбу лов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 улочкам чистым с друзьями брод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ть эко-продукты, детишек рож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здухом чистым полной грудью дыш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рдиться величием нашей души и тем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то мы очень и очень дружны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то мы все команда, мы все за одно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тем что мы очень любим его –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19" descr="жители нашего города"/>
          <p:cNvPicPr/>
          <p:nvPr/>
        </p:nvPicPr>
        <p:blipFill>
          <a:blip r:embed="rId4"/>
          <a:stretch/>
        </p:blipFill>
        <p:spPr>
          <a:xfrm>
            <a:off x="4716360" y="4268880"/>
            <a:ext cx="4427640" cy="276048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1908000" y="404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Picture 11" descr="мэр молодой"/>
          <p:cNvPicPr/>
          <p:nvPr/>
        </p:nvPicPr>
        <p:blipFill>
          <a:blip r:embed="rId3"/>
          <a:stretch/>
        </p:blipFill>
        <p:spPr>
          <a:xfrm>
            <a:off x="6978600" y="3789360"/>
            <a:ext cx="2165400" cy="306864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13"/>
          <p:cNvSpPr/>
          <p:nvPr/>
        </p:nvSpPr>
        <p:spPr>
          <a:xfrm>
            <a:off x="250920" y="1773360"/>
            <a:ext cx="6913440" cy="2663640"/>
          </a:xfrm>
          <a:prstGeom prst="wedgeRoundRectCallout">
            <a:avLst>
              <a:gd name="adj1" fmla="val 48115"/>
              <a:gd name="adj2" fmla="val 86532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971640" y="191628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900000" y="3500280"/>
            <a:ext cx="518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.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езжайте к нам отдыхать! Вам понравится! Обещаю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95280" y="2133720"/>
            <a:ext cx="5256360" cy="49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уризм – основа Нашего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A-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алоны (эко-продукты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бственные минеральные источник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площадок для торговли экологически-чистыми продукта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горно-лыжного туризм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ортивное рыболов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" descr="аква"/>
          <p:cNvPicPr/>
          <p:nvPr/>
        </p:nvPicPr>
        <p:blipFill>
          <a:blip r:embed="rId1"/>
          <a:stretch/>
        </p:blipFill>
        <p:spPr>
          <a:xfrm>
            <a:off x="6156360" y="2349360"/>
            <a:ext cx="2835360" cy="18003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75" name="Text Box 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5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95280" y="155736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рады, что Наш город любим всеми: и жителями, и туристами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12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15" descr="Озеро"/>
          <p:cNvPicPr/>
          <p:nvPr/>
        </p:nvPicPr>
        <p:blipFill>
          <a:blip r:embed="rId5"/>
          <a:stretch/>
        </p:blipFill>
        <p:spPr>
          <a:xfrm>
            <a:off x="5651640" y="3716280"/>
            <a:ext cx="2700360" cy="2025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86" name="Picture 16" descr="рыбак"/>
          <p:cNvPicPr/>
          <p:nvPr/>
        </p:nvPicPr>
        <p:blipFill>
          <a:blip r:embed="rId6"/>
          <a:stretch/>
        </p:blipFill>
        <p:spPr>
          <a:xfrm>
            <a:off x="6300720" y="4894200"/>
            <a:ext cx="2698920" cy="18018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фармацевтика"/>
          <p:cNvPicPr/>
          <p:nvPr/>
        </p:nvPicPr>
        <p:blipFill>
          <a:blip r:embed="rId1"/>
          <a:stretch/>
        </p:blipFill>
        <p:spPr>
          <a:xfrm>
            <a:off x="0" y="3716280"/>
            <a:ext cx="3703680" cy="29638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3"/>
          <p:cNvSpPr/>
          <p:nvPr/>
        </p:nvSpPr>
        <p:spPr>
          <a:xfrm rot="16200000">
            <a:off x="3204360" y="4213800"/>
            <a:ext cx="1405080" cy="1981080"/>
          </a:xfrm>
          <a:custGeom>
            <a:avLst/>
            <a:gdLst>
              <a:gd name="textAreaLeft" fmla="*/ 68400 w 1405080"/>
              <a:gd name="textAreaRight" fmla="*/ 1336680 w 1405080"/>
              <a:gd name="textAreaTop" fmla="*/ 68400 h 1981080"/>
              <a:gd name="textAreaBottom" fmla="*/ 1912680 h 1981080"/>
            </a:gdLst>
            <a:ahLst/>
            <a:rect l="textAreaLeft" t="textAreaTop" r="textAreaRight" b="textAreaBottom"/>
            <a:pathLst>
              <a:path w="21600" h="30452">
                <a:moveTo>
                  <a:pt x="3600" y="0"/>
                </a:moveTo>
                <a:arcTo wR="3600" hR="3600" stAng="16200000" swAng="-5400000"/>
                <a:lnTo>
                  <a:pt x="0" y="26852"/>
                </a:lnTo>
                <a:arcTo wR="3600" hR="3600" stAng="10800000" swAng="-5400000"/>
                <a:lnTo>
                  <a:pt x="18000" y="30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95280" y="141300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24000" y="242100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здание в городе нутрицевтического класте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ород с хорошей экологией (Наш Город) идеально подходит для развития нутрицевт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403280" y="189000"/>
            <a:ext cx="590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12"/>
          <p:cNvSpPr/>
          <p:nvPr/>
        </p:nvSpPr>
        <p:spPr>
          <a:xfrm rot="17361600">
            <a:off x="5039280" y="5474160"/>
            <a:ext cx="503280" cy="574920"/>
          </a:xfrm>
          <a:prstGeom prst="downArrow">
            <a:avLst>
              <a:gd name="adj1" fmla="val 50000"/>
              <a:gd name="adj2" fmla="val 285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13"/>
          <p:cNvSpPr/>
          <p:nvPr/>
        </p:nvSpPr>
        <p:spPr>
          <a:xfrm rot="15357600">
            <a:off x="5040360" y="4465800"/>
            <a:ext cx="504720" cy="574560"/>
          </a:xfrm>
          <a:prstGeom prst="downArrow">
            <a:avLst>
              <a:gd name="adj1" fmla="val 50000"/>
              <a:gd name="adj2" fmla="val 284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651640" y="4070520"/>
            <a:ext cx="273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651640" y="551016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7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8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3132000" y="4718160"/>
            <a:ext cx="18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правления развития нутрицевтики в Нашем горо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5280" y="146844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две беды… Но мы собрали у себя лучшие умы Росс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24000" y="2133720"/>
            <a:ext cx="85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научного городка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0" descr="медведев и силиконовая долинаъ"/>
          <p:cNvPicPr/>
          <p:nvPr/>
        </p:nvPicPr>
        <p:blipFill>
          <a:blip r:embed="rId3"/>
          <a:stretch/>
        </p:blipFill>
        <p:spPr>
          <a:xfrm>
            <a:off x="539640" y="4365720"/>
            <a:ext cx="3570480" cy="23191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16" name="Text Box 11"/>
          <p:cNvSpPr/>
          <p:nvPr/>
        </p:nvSpPr>
        <p:spPr>
          <a:xfrm>
            <a:off x="395280" y="3645000"/>
            <a:ext cx="4537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859280" y="3730680"/>
            <a:ext cx="40338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азработка и продажа патентных решений для бизнеса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ние научных центров по изучению и развитию альтернативной энергетики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1619280" y="3213000"/>
            <a:ext cx="100800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372360" y="3213000"/>
            <a:ext cx="1079280" cy="35892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16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572000" y="6021360"/>
            <a:ext cx="4537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95280" y="139860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Я никогда не думал, что водоросли можно выращивать вот так, как помидоры, в теплиц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50920" y="2060640"/>
            <a:ext cx="8353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2" descr="27-й слайд"/>
          <p:cNvPicPr/>
          <p:nvPr/>
        </p:nvPicPr>
        <p:blipFill>
          <a:blip r:embed="rId3"/>
          <a:stretch/>
        </p:blipFill>
        <p:spPr>
          <a:xfrm>
            <a:off x="395280" y="3429000"/>
            <a:ext cx="4062600" cy="2797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34" name="Text Box 13"/>
          <p:cNvSpPr/>
          <p:nvPr/>
        </p:nvSpPr>
        <p:spPr>
          <a:xfrm>
            <a:off x="4788000" y="3573360"/>
            <a:ext cx="4176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биореактор закрытого типа производит около 140 тонн сырья/г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этом его объем 700 м. куб./ площадь 1 гекта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биореактор характеризую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ая производитель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ая экологич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ий контро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15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95280" y="1471680"/>
            <a:ext cx="73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4000" y="2205000"/>
            <a:ext cx="51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Производств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7" descr="мэр молодой"/>
          <p:cNvPicPr/>
          <p:nvPr/>
        </p:nvPicPr>
        <p:blipFill>
          <a:blip r:embed="rId3"/>
          <a:stretch/>
        </p:blipFill>
        <p:spPr>
          <a:xfrm>
            <a:off x="8381880" y="126828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9"/>
          <p:cNvSpPr/>
          <p:nvPr/>
        </p:nvSpPr>
        <p:spPr>
          <a:xfrm>
            <a:off x="179280" y="1268280"/>
            <a:ext cx="7705800" cy="863640"/>
          </a:xfrm>
          <a:prstGeom prst="wedgeRoundRectCallout">
            <a:avLst>
              <a:gd name="adj1" fmla="val 55481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0" descr="12-й слайд пальма"/>
          <p:cNvPicPr/>
          <p:nvPr/>
        </p:nvPicPr>
        <p:blipFill>
          <a:blip r:embed="rId4"/>
          <a:stretch/>
        </p:blipFill>
        <p:spPr>
          <a:xfrm>
            <a:off x="755640" y="3068640"/>
            <a:ext cx="1859040" cy="2111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151" name="Picture 21" descr="12-й слайд 2-я картинка"/>
          <p:cNvPicPr/>
          <p:nvPr/>
        </p:nvPicPr>
        <p:blipFill>
          <a:blip r:embed="rId5"/>
          <a:stretch/>
        </p:blipFill>
        <p:spPr>
          <a:xfrm>
            <a:off x="3635280" y="3068640"/>
            <a:ext cx="1524240" cy="2111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152" name="Picture 22" descr="12-й слайд 3-я картинка"/>
          <p:cNvPicPr/>
          <p:nvPr/>
        </p:nvPicPr>
        <p:blipFill>
          <a:blip r:embed="rId6"/>
          <a:stretch/>
        </p:blipFill>
        <p:spPr>
          <a:xfrm>
            <a:off x="6156360" y="3284640"/>
            <a:ext cx="2293920" cy="16984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53" name="AutoShape 23"/>
          <p:cNvSpPr/>
          <p:nvPr/>
        </p:nvSpPr>
        <p:spPr>
          <a:xfrm>
            <a:off x="2843280" y="393228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24"/>
          <p:cNvSpPr/>
          <p:nvPr/>
        </p:nvSpPr>
        <p:spPr>
          <a:xfrm>
            <a:off x="5435640" y="386064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324000" y="544500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очищенное топли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 высоким содержанием кисл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276720" y="5445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содержания кисл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156360" y="543564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работка электричества и теп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79280" y="2133720"/>
            <a:ext cx="8713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4643280" y="3645000"/>
            <a:ext cx="4176720" cy="2736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08000" y="3860640"/>
            <a:ext cx="3384360" cy="2305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6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692360" y="260280"/>
            <a:ext cx="583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тилизация и промышл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79280" y="134136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3276720" y="2708280"/>
            <a:ext cx="1657080" cy="503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5076720" y="3716280"/>
            <a:ext cx="396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туалетной бумаг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бутылок для                            газированных напитк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гумус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181080" y="4076640"/>
            <a:ext cx="32590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3600360" y="4653000"/>
            <a:ext cx="863640" cy="934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17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8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179280" y="6367320"/>
            <a:ext cx="871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95280" y="147168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50920" y="4168800"/>
            <a:ext cx="4716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Животновод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навоза, в качестве удобрений и как сырья для производства биогаз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14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5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6" descr="ферма2"/>
          <p:cNvPicPr/>
          <p:nvPr/>
        </p:nvPicPr>
        <p:blipFill>
          <a:blip r:embed="rId4"/>
          <a:stretch/>
        </p:blipFill>
        <p:spPr>
          <a:xfrm>
            <a:off x="5003640" y="2976480"/>
            <a:ext cx="3781440" cy="23972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89" name="Text Box 17"/>
          <p:cNvSpPr/>
          <p:nvPr/>
        </p:nvSpPr>
        <p:spPr>
          <a:xfrm>
            <a:off x="216000" y="2205000"/>
            <a:ext cx="4140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стениевод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продуктов для нужд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ращивание лекарственных растений для кластера нутрицевт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сечные хозяй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5:01:30Z</dcterms:created>
  <dc:creator>User1</dc:creator>
  <dc:description/>
  <dc:language>en-US</dc:language>
  <cp:lastModifiedBy>LEGION</cp:lastModifiedBy>
  <dcterms:modified xsi:type="dcterms:W3CDTF">2016-01-04T14:03:41Z</dcterms:modified>
  <cp:revision>307</cp:revision>
  <dc:subject/>
  <dc:title>Наш город</dc:title>
</cp:coreProperties>
</file>